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10.png" ContentType="image/png"/>
  <Override PartName="/ppt/media/image1.png" ContentType="image/png"/>
  <Override PartName="/ppt/media/image31.gif" ContentType="image/gif"/>
  <Override PartName="/ppt/media/image2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8E6-E393-4785-96EE-E671388A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5AB-DD56-4729-A347-EE36295F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4F8-9ADB-4F2D-8F7E-058038DA6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BFA-C030-4205-8433-9A4B1BCD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E9B-4BA3-4A42-B30C-36377E5B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E9E-ACF8-41DA-BAAC-0CCE6A3C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4FF5-8669-4531-BB1E-3083E960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710-67E8-411E-858A-86DD6C50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B58B-C100-4F60-8767-12FA457C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EC3-8CCE-4C89-937B-61B484C0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2847-7F99-4521-B03A-452B8049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2C1-7AAD-4516-98C0-77D2598C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09DC-F329-46D4-AC77-66AA1E8C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image" Target="../media/image19.jpe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image" Target="../media/image6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image" Target="../media/image19.jpeg"/><Relationship Id="rId7" Type="http://schemas.openxmlformats.org/officeDocument/2006/relationships/image" Target="../media/image24.png"/><Relationship Id="rId8" Type="http://schemas.openxmlformats.org/officeDocument/2006/relationships/image" Target="../media/image21.png"/><Relationship Id="rId9" Type="http://schemas.openxmlformats.org/officeDocument/2006/relationships/image" Target="../media/image17.png"/><Relationship Id="rId10" Type="http://schemas.openxmlformats.org/officeDocument/2006/relationships/image" Target="../media/image24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image" Target="../media/image19.jpeg"/><Relationship Id="rId7" Type="http://schemas.openxmlformats.org/officeDocument/2006/relationships/image" Target="../media/image21.png"/><Relationship Id="rId8" Type="http://schemas.openxmlformats.org/officeDocument/2006/relationships/image" Target="../media/image17.png"/><Relationship Id="rId9" Type="http://schemas.openxmlformats.org/officeDocument/2006/relationships/image" Target="../media/image24.png"/><Relationship Id="rId10" Type="http://schemas.openxmlformats.org/officeDocument/2006/relationships/image" Target="../media/image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gif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9.jpeg"/><Relationship Id="rId5" Type="http://schemas.openxmlformats.org/officeDocument/2006/relationships/image" Target="../media/image21.png"/><Relationship Id="rId6" Type="http://schemas.openxmlformats.org/officeDocument/2006/relationships/image" Target="../media/image17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wmf"/><Relationship Id="rId8" Type="http://schemas.openxmlformats.org/officeDocument/2006/relationships/image" Target="../media/image19.jpeg"/><Relationship Id="rId9" Type="http://schemas.openxmlformats.org/officeDocument/2006/relationships/image" Target="../media/image21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ук и буква 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нежинск Челябин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-логопед МАДОУ №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робьёва Ольг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6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6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537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8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2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543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4" name=""/>
          <p:cNvGraphicFramePr/>
          <p:nvPr/>
        </p:nvGraphicFramePr>
        <p:xfrm>
          <a:off x="7308720" y="4349880"/>
          <a:ext cx="1224000" cy="94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4349880"/>
                    <a:ext cx="122400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46" name="" descr=""/>
          <p:cNvPicPr/>
          <p:nvPr/>
        </p:nvPicPr>
        <p:blipFill>
          <a:blip r:embed="rId6"/>
          <a:stretch/>
        </p:blipFill>
        <p:spPr>
          <a:xfrm>
            <a:off x="5979960" y="4292640"/>
            <a:ext cx="814680" cy="1008000"/>
          </a:xfrm>
          <a:prstGeom prst="rect">
            <a:avLst/>
          </a:prstGeom>
          <a:ln w="0">
            <a:noFill/>
          </a:ln>
        </p:spPr>
      </p:pic>
      <p:pic>
        <p:nvPicPr>
          <p:cNvPr id="1547" name="" descr=""/>
          <p:cNvPicPr/>
          <p:nvPr/>
        </p:nvPicPr>
        <p:blipFill>
          <a:blip r:embed="rId7"/>
          <a:stretch/>
        </p:blipFill>
        <p:spPr>
          <a:xfrm>
            <a:off x="2124000" y="5445000"/>
            <a:ext cx="1079640" cy="976320"/>
          </a:xfrm>
          <a:prstGeom prst="rect">
            <a:avLst/>
          </a:prstGeom>
          <a:ln w="0">
            <a:noFill/>
          </a:ln>
        </p:spPr>
      </p:pic>
      <p:pic>
        <p:nvPicPr>
          <p:cNvPr id="1548" name="" descr=""/>
          <p:cNvPicPr/>
          <p:nvPr/>
        </p:nvPicPr>
        <p:blipFill>
          <a:blip r:embed="rId8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549" name="" descr=""/>
          <p:cNvPicPr/>
          <p:nvPr/>
        </p:nvPicPr>
        <p:blipFill>
          <a:blip r:embed="rId9"/>
          <a:stretch/>
        </p:blipFill>
        <p:spPr>
          <a:xfrm>
            <a:off x="755640" y="5373720"/>
            <a:ext cx="961920" cy="1224000"/>
          </a:xfrm>
          <a:prstGeom prst="rect">
            <a:avLst/>
          </a:prstGeom>
          <a:ln w="0">
            <a:noFill/>
          </a:ln>
        </p:spPr>
      </p:pic>
      <p:pic>
        <p:nvPicPr>
          <p:cNvPr id="1550" name="" descr=""/>
          <p:cNvPicPr/>
          <p:nvPr/>
        </p:nvPicPr>
        <p:blipFill>
          <a:blip r:embed="rId10"/>
          <a:stretch/>
        </p:blipFill>
        <p:spPr>
          <a:xfrm>
            <a:off x="4716360" y="404640"/>
            <a:ext cx="581040" cy="648000"/>
          </a:xfrm>
          <a:prstGeom prst="rect">
            <a:avLst/>
          </a:prstGeom>
          <a:ln w="0">
            <a:noFill/>
          </a:ln>
        </p:spPr>
      </p:pic>
      <p:grpSp>
        <p:nvGrpSpPr>
          <p:cNvPr id="1551" name=""/>
          <p:cNvGrpSpPr/>
          <p:nvPr/>
        </p:nvGrpSpPr>
        <p:grpSpPr>
          <a:xfrm>
            <a:off x="1476360" y="3500280"/>
            <a:ext cx="1007640" cy="433080"/>
            <a:chOff x="1476360" y="3500280"/>
            <a:chExt cx="1007640" cy="433080"/>
          </a:xfrm>
        </p:grpSpPr>
        <p:sp>
          <p:nvSpPr>
            <p:cNvPr id="1552" name=""/>
            <p:cNvSpPr/>
            <p:nvPr/>
          </p:nvSpPr>
          <p:spPr>
            <a:xfrm>
              <a:off x="1476360" y="3500280"/>
              <a:ext cx="926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559880" y="3933360"/>
              <a:ext cx="92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559880" y="3759840"/>
              <a:ext cx="166680" cy="173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5" name=""/>
          <p:cNvGrpSpPr/>
          <p:nvPr/>
        </p:nvGrpSpPr>
        <p:grpSpPr>
          <a:xfrm>
            <a:off x="6732720" y="3500280"/>
            <a:ext cx="863640" cy="411120"/>
            <a:chOff x="6732720" y="3500280"/>
            <a:chExt cx="863640" cy="411120"/>
          </a:xfrm>
        </p:grpSpPr>
        <p:sp>
          <p:nvSpPr>
            <p:cNvPr id="1556" name=""/>
            <p:cNvSpPr/>
            <p:nvPr/>
          </p:nvSpPr>
          <p:spPr>
            <a:xfrm flipH="1">
              <a:off x="6732720" y="3500280"/>
              <a:ext cx="86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6734520" y="3911400"/>
              <a:ext cx="86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441200" y="3746880"/>
              <a:ext cx="155160" cy="164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42" dur="500" fill="hold"/>
                                        <p:tgtEl>
                                          <p:spTgt spid="15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44" dur="500" fill="hold"/>
                                        <p:tgtEl>
                                          <p:spTgt spid="15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3.5369E-006 L -0.32674 0.51931 E">
                                      <p:cBhvr>
                                        <p:cTn id="348" dur="20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5.55556E-007 3.73352E-006 L -0.32326 0.60328 E">
                                      <p:cBhvr>
                                        <p:cTn id="350" dur="2000" fill="hold"/>
                                        <p:tgtEl>
                                          <p:spTgt spid="1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15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9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560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1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5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566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7" name=""/>
          <p:cNvGraphicFramePr/>
          <p:nvPr/>
        </p:nvGraphicFramePr>
        <p:xfrm>
          <a:off x="7308720" y="4349880"/>
          <a:ext cx="1224000" cy="94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4349880"/>
                    <a:ext cx="122400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9" name="" descr=""/>
          <p:cNvPicPr/>
          <p:nvPr/>
        </p:nvPicPr>
        <p:blipFill>
          <a:blip r:embed="rId6"/>
          <a:stretch/>
        </p:blipFill>
        <p:spPr>
          <a:xfrm>
            <a:off x="5979960" y="4292640"/>
            <a:ext cx="814680" cy="1008000"/>
          </a:xfrm>
          <a:prstGeom prst="rect">
            <a:avLst/>
          </a:prstGeom>
          <a:ln w="0">
            <a:noFill/>
          </a:ln>
        </p:spPr>
      </p:pic>
      <p:pic>
        <p:nvPicPr>
          <p:cNvPr id="1570" name="" descr=""/>
          <p:cNvPicPr/>
          <p:nvPr/>
        </p:nvPicPr>
        <p:blipFill>
          <a:blip r:embed="rId7"/>
          <a:stretch/>
        </p:blipFill>
        <p:spPr>
          <a:xfrm>
            <a:off x="4500720" y="476280"/>
            <a:ext cx="865080" cy="334800"/>
          </a:xfrm>
          <a:prstGeom prst="rect">
            <a:avLst/>
          </a:prstGeom>
          <a:ln w="0">
            <a:noFill/>
          </a:ln>
        </p:spPr>
      </p:pic>
      <p:pic>
        <p:nvPicPr>
          <p:cNvPr id="1571" name="" descr=""/>
          <p:cNvPicPr/>
          <p:nvPr/>
        </p:nvPicPr>
        <p:blipFill>
          <a:blip r:embed="rId8"/>
          <a:stretch/>
        </p:blipFill>
        <p:spPr>
          <a:xfrm>
            <a:off x="2124000" y="5445000"/>
            <a:ext cx="1079640" cy="976320"/>
          </a:xfrm>
          <a:prstGeom prst="rect">
            <a:avLst/>
          </a:prstGeom>
          <a:ln w="0">
            <a:noFill/>
          </a:ln>
        </p:spPr>
      </p:pic>
      <p:pic>
        <p:nvPicPr>
          <p:cNvPr id="1572" name="" descr=""/>
          <p:cNvPicPr/>
          <p:nvPr/>
        </p:nvPicPr>
        <p:blipFill>
          <a:blip r:embed="rId9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573" name="" descr=""/>
          <p:cNvPicPr/>
          <p:nvPr/>
        </p:nvPicPr>
        <p:blipFill>
          <a:blip r:embed="rId10"/>
          <a:stretch/>
        </p:blipFill>
        <p:spPr>
          <a:xfrm>
            <a:off x="7308720" y="5734080"/>
            <a:ext cx="12970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74" name=""/>
          <p:cNvGrpSpPr/>
          <p:nvPr/>
        </p:nvGrpSpPr>
        <p:grpSpPr>
          <a:xfrm>
            <a:off x="1476360" y="3500280"/>
            <a:ext cx="934560" cy="398160"/>
            <a:chOff x="1476360" y="3500280"/>
            <a:chExt cx="934560" cy="398160"/>
          </a:xfrm>
        </p:grpSpPr>
        <p:sp>
          <p:nvSpPr>
            <p:cNvPr id="1575" name=""/>
            <p:cNvSpPr/>
            <p:nvPr/>
          </p:nvSpPr>
          <p:spPr>
            <a:xfrm>
              <a:off x="1476360" y="3500280"/>
              <a:ext cx="858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553760" y="389844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553760" y="3738960"/>
              <a:ext cx="154440" cy="15948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6732720" y="3500280"/>
            <a:ext cx="863640" cy="411120"/>
            <a:chOff x="6732720" y="3500280"/>
            <a:chExt cx="863640" cy="411120"/>
          </a:xfrm>
        </p:grpSpPr>
        <p:sp>
          <p:nvSpPr>
            <p:cNvPr id="1579" name=""/>
            <p:cNvSpPr/>
            <p:nvPr/>
          </p:nvSpPr>
          <p:spPr>
            <a:xfrm flipH="1">
              <a:off x="6732720" y="3500280"/>
              <a:ext cx="86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6734520" y="3911400"/>
              <a:ext cx="86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441200" y="3746880"/>
              <a:ext cx="155160" cy="164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2" name="" descr=""/>
          <p:cNvPicPr/>
          <p:nvPr/>
        </p:nvPicPr>
        <p:blipFill>
          <a:blip r:embed="rId11"/>
          <a:stretch/>
        </p:blipFill>
        <p:spPr>
          <a:xfrm>
            <a:off x="755640" y="5373720"/>
            <a:ext cx="961920" cy="1224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78" dur="500" fill="hold"/>
                                        <p:tgtEl>
                                          <p:spTgt spid="15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7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80" dur="500" fill="hold"/>
                                        <p:tgtEl>
                                          <p:spTgt spid="15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3.5369E-006 L 0.32673 0.45639 E">
                                      <p:cBhvr>
                                        <p:cTn id="384" dur="20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7 -4.94101E-006 L 0.29132 0.40597 E">
                                      <p:cBhvr>
                                        <p:cTn id="386" dur="2000" fill="hold"/>
                                        <p:tgtEl>
                                          <p:spTgt spid="1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88" dur="2000" fill="hold"/>
                                        <p:tgtEl>
                                          <p:spTgt spid="15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0" dur="20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10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584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9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590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1" name=""/>
          <p:cNvGraphicFramePr/>
          <p:nvPr/>
        </p:nvGraphicFramePr>
        <p:xfrm>
          <a:off x="7308720" y="4349880"/>
          <a:ext cx="1224000" cy="94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4349880"/>
                    <a:ext cx="122400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93" name="" descr=""/>
          <p:cNvPicPr/>
          <p:nvPr/>
        </p:nvPicPr>
        <p:blipFill>
          <a:blip r:embed="rId6"/>
          <a:stretch/>
        </p:blipFill>
        <p:spPr>
          <a:xfrm>
            <a:off x="5979960" y="4292640"/>
            <a:ext cx="814680" cy="1008000"/>
          </a:xfrm>
          <a:prstGeom prst="rect">
            <a:avLst/>
          </a:prstGeom>
          <a:ln w="0">
            <a:noFill/>
          </a:ln>
        </p:spPr>
      </p:pic>
      <p:pic>
        <p:nvPicPr>
          <p:cNvPr id="1594" name="" descr=""/>
          <p:cNvPicPr/>
          <p:nvPr/>
        </p:nvPicPr>
        <p:blipFill>
          <a:blip r:embed="rId7"/>
          <a:stretch/>
        </p:blipFill>
        <p:spPr>
          <a:xfrm>
            <a:off x="2124000" y="5445000"/>
            <a:ext cx="1079640" cy="976320"/>
          </a:xfrm>
          <a:prstGeom prst="rect">
            <a:avLst/>
          </a:prstGeom>
          <a:ln w="0">
            <a:noFill/>
          </a:ln>
        </p:spPr>
      </p:pic>
      <p:pic>
        <p:nvPicPr>
          <p:cNvPr id="1595" name="" descr=""/>
          <p:cNvPicPr/>
          <p:nvPr/>
        </p:nvPicPr>
        <p:blipFill>
          <a:blip r:embed="rId8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596" name="" descr=""/>
          <p:cNvPicPr/>
          <p:nvPr/>
        </p:nvPicPr>
        <p:blipFill>
          <a:blip r:embed="rId9"/>
          <a:stretch/>
        </p:blipFill>
        <p:spPr>
          <a:xfrm>
            <a:off x="7308720" y="5734080"/>
            <a:ext cx="12970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597" name=""/>
          <p:cNvGrpSpPr/>
          <p:nvPr/>
        </p:nvGrpSpPr>
        <p:grpSpPr>
          <a:xfrm>
            <a:off x="6732720" y="3500280"/>
            <a:ext cx="863640" cy="411120"/>
            <a:chOff x="6732720" y="3500280"/>
            <a:chExt cx="863640" cy="411120"/>
          </a:xfrm>
        </p:grpSpPr>
        <p:sp>
          <p:nvSpPr>
            <p:cNvPr id="1598" name=""/>
            <p:cNvSpPr/>
            <p:nvPr/>
          </p:nvSpPr>
          <p:spPr>
            <a:xfrm flipH="1">
              <a:off x="6732720" y="3500280"/>
              <a:ext cx="86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6734520" y="3911400"/>
              <a:ext cx="86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441200" y="3746880"/>
              <a:ext cx="155160" cy="164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1476360" y="3500280"/>
            <a:ext cx="934560" cy="398160"/>
            <a:chOff x="1476360" y="3500280"/>
            <a:chExt cx="934560" cy="398160"/>
          </a:xfrm>
        </p:grpSpPr>
        <p:sp>
          <p:nvSpPr>
            <p:cNvPr id="1602" name=""/>
            <p:cNvSpPr/>
            <p:nvPr/>
          </p:nvSpPr>
          <p:spPr>
            <a:xfrm>
              <a:off x="1476360" y="3500280"/>
              <a:ext cx="858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553760" y="389844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553760" y="3738960"/>
              <a:ext cx="154440" cy="15948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5" name="" descr=""/>
          <p:cNvPicPr/>
          <p:nvPr/>
        </p:nvPicPr>
        <p:blipFill>
          <a:blip r:embed="rId10"/>
          <a:stretch/>
        </p:blipFill>
        <p:spPr>
          <a:xfrm>
            <a:off x="755640" y="5373720"/>
            <a:ext cx="961920" cy="1224000"/>
          </a:xfrm>
          <a:prstGeom prst="rect">
            <a:avLst/>
          </a:prstGeom>
          <a:ln w="0">
            <a:noFill/>
          </a:ln>
        </p:spPr>
      </p:pic>
      <p:sp>
        <p:nvSpPr>
          <p:cNvPr id="1606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7" name="" descr=""/>
          <p:cNvPicPr/>
          <p:nvPr/>
        </p:nvPicPr>
        <p:blipFill>
          <a:blip r:embed="rId11"/>
          <a:stretch/>
        </p:blipFill>
        <p:spPr>
          <a:xfrm>
            <a:off x="6084720" y="5516640"/>
            <a:ext cx="924120" cy="936720"/>
          </a:xfrm>
          <a:prstGeom prst="rect">
            <a:avLst/>
          </a:prstGeom>
          <a:ln w="0">
            <a:noFill/>
          </a:ln>
        </p:spPr>
      </p:pic>
      <p:pic>
        <p:nvPicPr>
          <p:cNvPr id="1608" name="" descr=""/>
          <p:cNvPicPr/>
          <p:nvPr/>
        </p:nvPicPr>
        <p:blipFill>
          <a:blip r:embed="rId12"/>
          <a:stretch/>
        </p:blipFill>
        <p:spPr>
          <a:xfrm>
            <a:off x="4643280" y="549360"/>
            <a:ext cx="641520" cy="649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13" dur="2000" fill="hold"/>
                                        <p:tgtEl>
                                          <p:spTgt spid="1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15" dur="200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5E-006 2.89017E-007 L 0.33073 0.50335 E">
                                      <p:cBhvr>
                                        <p:cTn id="419" dur="2000" fill="hold"/>
                                        <p:tgtEl>
                                          <p:spTgt spid="1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21" dur="500" fill="hold"/>
                                        <p:tgtEl>
                                          <p:spTgt spid="1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94444E-006 2.36994E-006 L 0.29566 0.4037 E">
                                      <p:cBhvr>
                                        <p:cTn id="426" dur="2000" fill="hold"/>
                                        <p:tgtEl>
                                          <p:spTgt spid="1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9" name="" descr=""/>
          <p:cNvPicPr/>
          <p:nvPr/>
        </p:nvPicPr>
        <p:blipFill>
          <a:blip r:embed="rId1"/>
          <a:stretch/>
        </p:blipFill>
        <p:spPr>
          <a:xfrm>
            <a:off x="6227640" y="2276640"/>
            <a:ext cx="936720" cy="122364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2"/>
          <a:stretch/>
        </p:blipFill>
        <p:spPr>
          <a:xfrm rot="537600">
            <a:off x="1042560" y="333000"/>
            <a:ext cx="3913200" cy="61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8" dur="2000" fill="hold"/>
                                        <p:tgtEl>
                                          <p:spTgt spid="160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/>
          <p:nvPr/>
        </p:nvSpPr>
        <p:spPr>
          <a:xfrm>
            <a:off x="2050920" y="386064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0"/>
            <a:ext cx="86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4427640" y="1197000"/>
            <a:ext cx="503280" cy="64764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H="1" flipV="1">
            <a:off x="4500720" y="1773360"/>
            <a:ext cx="504720" cy="720720"/>
          </a:xfrm>
          <a:prstGeom prst="line">
            <a:avLst/>
          </a:prstGeom>
          <a:ln w="190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4284720" y="1197000"/>
            <a:ext cx="216000" cy="1326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6" name="" descr=""/>
          <p:cNvPicPr/>
          <p:nvPr/>
        </p:nvPicPr>
        <p:blipFill>
          <a:blip r:embed="rId1"/>
          <a:stretch/>
        </p:blipFill>
        <p:spPr>
          <a:xfrm>
            <a:off x="1979640" y="2349360"/>
            <a:ext cx="431640" cy="935280"/>
          </a:xfrm>
          <a:prstGeom prst="rect">
            <a:avLst/>
          </a:prstGeom>
          <a:ln w="0">
            <a:noFill/>
          </a:ln>
        </p:spPr>
      </p:pic>
      <p:pic>
        <p:nvPicPr>
          <p:cNvPr id="1617" name="" descr=""/>
          <p:cNvPicPr/>
          <p:nvPr/>
        </p:nvPicPr>
        <p:blipFill>
          <a:blip r:embed="rId2"/>
          <a:stretch/>
        </p:blipFill>
        <p:spPr>
          <a:xfrm>
            <a:off x="3635280" y="5445000"/>
            <a:ext cx="720720" cy="1224000"/>
          </a:xfrm>
          <a:prstGeom prst="rect">
            <a:avLst/>
          </a:prstGeom>
          <a:ln w="0">
            <a:noFill/>
          </a:ln>
        </p:spPr>
      </p:pic>
      <p:pic>
        <p:nvPicPr>
          <p:cNvPr id="1618" name="" descr=""/>
          <p:cNvPicPr/>
          <p:nvPr/>
        </p:nvPicPr>
        <p:blipFill>
          <a:blip r:embed="rId3"/>
          <a:stretch/>
        </p:blipFill>
        <p:spPr>
          <a:xfrm>
            <a:off x="6732720" y="249228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1619" name="" descr=""/>
          <p:cNvPicPr/>
          <p:nvPr/>
        </p:nvPicPr>
        <p:blipFill>
          <a:blip r:embed="rId4"/>
          <a:stretch/>
        </p:blipFill>
        <p:spPr>
          <a:xfrm>
            <a:off x="8317080" y="260280"/>
            <a:ext cx="609480" cy="1152720"/>
          </a:xfrm>
          <a:prstGeom prst="rect">
            <a:avLst/>
          </a:prstGeom>
          <a:ln w="0">
            <a:noFill/>
          </a:ln>
        </p:spPr>
      </p:pic>
      <p:pic>
        <p:nvPicPr>
          <p:cNvPr id="1620" name="" descr=""/>
          <p:cNvPicPr/>
          <p:nvPr/>
        </p:nvPicPr>
        <p:blipFill>
          <a:blip r:embed="rId5"/>
          <a:stretch/>
        </p:blipFill>
        <p:spPr>
          <a:xfrm>
            <a:off x="7380360" y="4508640"/>
            <a:ext cx="549360" cy="934920"/>
          </a:xfrm>
          <a:prstGeom prst="rect">
            <a:avLst/>
          </a:prstGeom>
          <a:ln w="0">
            <a:noFill/>
          </a:ln>
        </p:spPr>
      </p:pic>
      <p:pic>
        <p:nvPicPr>
          <p:cNvPr id="1621" name="" descr=""/>
          <p:cNvPicPr/>
          <p:nvPr/>
        </p:nvPicPr>
        <p:blipFill>
          <a:blip r:embed="rId6"/>
          <a:stretch/>
        </p:blipFill>
        <p:spPr>
          <a:xfrm rot="382800">
            <a:off x="0" y="3955680"/>
            <a:ext cx="1825560" cy="2901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0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20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1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1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3" name="" descr=""/>
          <p:cNvPicPr/>
          <p:nvPr/>
        </p:nvPicPr>
        <p:blipFill>
          <a:blip r:embed="rId1"/>
          <a:stretch/>
        </p:blipFill>
        <p:spPr>
          <a:xfrm>
            <a:off x="4140360" y="2565360"/>
            <a:ext cx="9363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2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9" dur="2000" fill="hold"/>
                                        <p:tgtEl>
                                          <p:spTgt spid="162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067280" y="18864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Times New Roman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5" name="" descr=""/>
          <p:cNvPicPr/>
          <p:nvPr/>
        </p:nvPicPr>
        <p:blipFill>
          <a:blip r:embed="rId1"/>
          <a:stretch/>
        </p:blipFill>
        <p:spPr>
          <a:xfrm>
            <a:off x="7524720" y="5157720"/>
            <a:ext cx="1284480" cy="1440000"/>
          </a:xfrm>
          <a:prstGeom prst="rect">
            <a:avLst/>
          </a:prstGeom>
          <a:ln w="0">
            <a:noFill/>
          </a:ln>
        </p:spPr>
      </p:pic>
      <p:pic>
        <p:nvPicPr>
          <p:cNvPr id="1626" name="" descr=""/>
          <p:cNvPicPr/>
          <p:nvPr/>
        </p:nvPicPr>
        <p:blipFill>
          <a:blip r:embed="rId2"/>
          <a:stretch/>
        </p:blipFill>
        <p:spPr>
          <a:xfrm>
            <a:off x="7596360" y="3213000"/>
            <a:ext cx="1353960" cy="1366920"/>
          </a:xfrm>
          <a:prstGeom prst="rect">
            <a:avLst/>
          </a:prstGeom>
          <a:ln w="0">
            <a:noFill/>
          </a:ln>
        </p:spPr>
      </p:pic>
      <p:pic>
        <p:nvPicPr>
          <p:cNvPr id="1627" name="" descr=""/>
          <p:cNvPicPr/>
          <p:nvPr/>
        </p:nvPicPr>
        <p:blipFill>
          <a:blip r:embed="rId3"/>
          <a:stretch/>
        </p:blipFill>
        <p:spPr>
          <a:xfrm>
            <a:off x="4572000" y="580536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628" name="" descr=""/>
          <p:cNvPicPr/>
          <p:nvPr/>
        </p:nvPicPr>
        <p:blipFill>
          <a:blip r:embed="rId4"/>
          <a:stretch/>
        </p:blipFill>
        <p:spPr>
          <a:xfrm flipH="1">
            <a:off x="5219280" y="1700280"/>
            <a:ext cx="1862280" cy="1439640"/>
          </a:xfrm>
          <a:prstGeom prst="rect">
            <a:avLst/>
          </a:prstGeom>
          <a:ln w="0">
            <a:noFill/>
          </a:ln>
        </p:spPr>
      </p:pic>
      <p:pic>
        <p:nvPicPr>
          <p:cNvPr id="1629" name="" descr=""/>
          <p:cNvPicPr/>
          <p:nvPr/>
        </p:nvPicPr>
        <p:blipFill>
          <a:blip r:embed="rId5"/>
          <a:stretch/>
        </p:blipFill>
        <p:spPr>
          <a:xfrm rot="537600">
            <a:off x="330120" y="1507680"/>
            <a:ext cx="3363840" cy="5300640"/>
          </a:xfrm>
          <a:prstGeom prst="rect">
            <a:avLst/>
          </a:prstGeom>
          <a:ln w="0">
            <a:noFill/>
          </a:ln>
        </p:spPr>
      </p:pic>
      <p:pic>
        <p:nvPicPr>
          <p:cNvPr id="1630" name="" descr=""/>
          <p:cNvPicPr/>
          <p:nvPr/>
        </p:nvPicPr>
        <p:blipFill>
          <a:blip r:embed="rId6"/>
          <a:stretch/>
        </p:blipFill>
        <p:spPr>
          <a:xfrm>
            <a:off x="385128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5" dur="596306" fill="hold"/>
                                        <p:tgtEl>
                                          <p:spTgt spid="1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 rot="20077200">
            <a:off x="7308720" y="549000"/>
            <a:ext cx="1557360" cy="857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4653000"/>
            <a:ext cx="1800000" cy="177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48000" y="2276640"/>
            <a:ext cx="2735280" cy="176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067280" y="2276640"/>
            <a:ext cx="132372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 flipH="1" rot="19642200">
            <a:off x="3563640" y="2565360"/>
            <a:ext cx="2562120" cy="1014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3995640" y="2276640"/>
            <a:ext cx="1822680" cy="1563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8028000" y="573408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324000" y="1341360"/>
            <a:ext cx="502920" cy="193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95640" y="4437000"/>
            <a:ext cx="1728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5640" y="4005360"/>
            <a:ext cx="360360" cy="3603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98960" y="571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2987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41964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3924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4643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413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94171E-006 L -0.29653 -0.30256 E">
                                      <p:cBhvr>
                                        <p:cTn id="43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61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583 -0.02082 L 0.2585 0.34652 E">
                                      <p:cBhvr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71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73282E-006 L 0.25365 -0.30465 E">
                                      <p:cBhvr>
                                        <p:cTn id="6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152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2.84525E-006 L -0.25191 0.42771 E">
                                      <p:cBhvr>
                                        <p:cTn id="8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653 -0.30256 L -0.39097 -0.30256 E">
                                      <p:cBhvr>
                                        <p:cTn id="9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30465 L 0.35608 -0.30465 E">
                                      <p:cBhvr>
                                        <p:cTn id="10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85 0.34652 L 0.38437 0.36757 E">
                                      <p:cBhvr>
                                        <p:cTn id="102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0.42771 L -0.39358 0.42771 E">
                                      <p:cBhvr>
                                        <p:cTn id="104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2360" y="5013360"/>
            <a:ext cx="273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4437000"/>
            <a:ext cx="576360" cy="576360"/>
          </a:xfrm>
          <a:prstGeom prst="flowChartConnec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18840" y="1060560"/>
            <a:ext cx="1485720" cy="819000"/>
            <a:chOff x="618840" y="1060560"/>
            <a:chExt cx="1485720" cy="819000"/>
          </a:xfrm>
        </p:grpSpPr>
        <p:grpSp>
          <p:nvGrpSpPr>
            <p:cNvPr id="64" name=""/>
            <p:cNvGrpSpPr/>
            <p:nvPr/>
          </p:nvGrpSpPr>
          <p:grpSpPr>
            <a:xfrm>
              <a:off x="698400" y="1241640"/>
              <a:ext cx="1334520" cy="637920"/>
              <a:chOff x="698400" y="1241640"/>
              <a:chExt cx="1334520" cy="637920"/>
            </a:xfrm>
          </p:grpSpPr>
          <p:sp>
            <p:nvSpPr>
              <p:cNvPr id="65" name=""/>
              <p:cNvSpPr/>
              <p:nvPr/>
            </p:nvSpPr>
            <p:spPr>
              <a:xfrm>
                <a:off x="1390320" y="1876320"/>
                <a:ext cx="112320" cy="3240"/>
              </a:xfrm>
              <a:custGeom>
                <a:avLst/>
                <a:gdLst/>
                <a:ahLst/>
                <a:rect l="l" t="t" r="r" b="b"/>
                <a:pathLst>
                  <a:path w="659" h="17">
                    <a:moveTo>
                      <a:pt x="0" y="0"/>
                    </a:moveTo>
                    <a:lnTo>
                      <a:pt x="659" y="0"/>
                    </a:lnTo>
                    <a:lnTo>
                      <a:pt x="448" y="17"/>
                    </a:lnTo>
                    <a:lnTo>
                      <a:pt x="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369440" y="1873440"/>
                <a:ext cx="161640" cy="6120"/>
              </a:xfrm>
              <a:custGeom>
                <a:avLst/>
                <a:gdLst/>
                <a:ahLst/>
                <a:rect l="l" t="t" r="r" b="b"/>
                <a:pathLst>
                  <a:path w="954" h="33">
                    <a:moveTo>
                      <a:pt x="0" y="0"/>
                    </a:moveTo>
                    <a:lnTo>
                      <a:pt x="954" y="0"/>
                    </a:lnTo>
                    <a:lnTo>
                      <a:pt x="921" y="0"/>
                    </a:lnTo>
                    <a:lnTo>
                      <a:pt x="575" y="33"/>
                    </a:lnTo>
                    <a:lnTo>
                      <a:pt x="144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347120" y="1870200"/>
                <a:ext cx="198360" cy="6120"/>
              </a:xfrm>
              <a:custGeom>
                <a:avLst/>
                <a:gdLst/>
                <a:ahLst/>
                <a:rect l="l" t="t" r="r" b="b"/>
                <a:pathLst>
                  <a:path w="1165" h="33">
                    <a:moveTo>
                      <a:pt x="912" y="33"/>
                    </a:moveTo>
                    <a:lnTo>
                      <a:pt x="253" y="33"/>
                    </a:lnTo>
                    <a:lnTo>
                      <a:pt x="0" y="0"/>
                    </a:lnTo>
                    <a:lnTo>
                      <a:pt x="1165" y="0"/>
                    </a:lnTo>
                    <a:lnTo>
                      <a:pt x="1047" y="17"/>
                    </a:lnTo>
                    <a:lnTo>
                      <a:pt x="912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28400" y="1866960"/>
                <a:ext cx="231120" cy="6480"/>
              </a:xfrm>
              <a:custGeom>
                <a:avLst/>
                <a:gdLst/>
                <a:ahLst/>
                <a:rect l="l" t="t" r="r" b="b"/>
                <a:pathLst>
                  <a:path w="1367" h="34">
                    <a:moveTo>
                      <a:pt x="1198" y="34"/>
                    </a:moveTo>
                    <a:lnTo>
                      <a:pt x="244" y="34"/>
                    </a:lnTo>
                    <a:lnTo>
                      <a:pt x="25" y="0"/>
                    </a:lnTo>
                    <a:lnTo>
                      <a:pt x="0" y="0"/>
                    </a:lnTo>
                    <a:lnTo>
                      <a:pt x="1367" y="0"/>
                    </a:lnTo>
                    <a:lnTo>
                      <a:pt x="119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315440" y="1862280"/>
                <a:ext cx="255240" cy="7920"/>
              </a:xfrm>
              <a:custGeom>
                <a:avLst/>
                <a:gdLst/>
                <a:ahLst/>
                <a:rect l="l" t="t" r="r" b="b"/>
                <a:pathLst>
                  <a:path w="1511" h="43">
                    <a:moveTo>
                      <a:pt x="1359" y="43"/>
                    </a:moveTo>
                    <a:lnTo>
                      <a:pt x="194" y="43"/>
                    </a:lnTo>
                    <a:lnTo>
                      <a:pt x="101" y="26"/>
                    </a:lnTo>
                    <a:lnTo>
                      <a:pt x="0" y="0"/>
                    </a:lnTo>
                    <a:lnTo>
                      <a:pt x="1511" y="0"/>
                    </a:lnTo>
                    <a:lnTo>
                      <a:pt x="1452" y="26"/>
                    </a:lnTo>
                    <a:lnTo>
                      <a:pt x="1359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301400" y="1860480"/>
                <a:ext cx="279000" cy="6480"/>
              </a:xfrm>
              <a:custGeom>
                <a:avLst/>
                <a:gdLst/>
                <a:ahLst/>
                <a:rect l="l" t="t" r="r" b="b"/>
                <a:pathLst>
                  <a:path w="1646" h="34">
                    <a:moveTo>
                      <a:pt x="1519" y="34"/>
                    </a:moveTo>
                    <a:lnTo>
                      <a:pt x="152" y="34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528" y="34"/>
                    </a:lnTo>
                    <a:lnTo>
                      <a:pt x="151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88440" y="1855800"/>
                <a:ext cx="303120" cy="6480"/>
              </a:xfrm>
              <a:custGeom>
                <a:avLst/>
                <a:gdLst/>
                <a:ahLst/>
                <a:rect l="l" t="t" r="r" b="b"/>
                <a:pathLst>
                  <a:path w="1781" h="33">
                    <a:moveTo>
                      <a:pt x="1663" y="33"/>
                    </a:moveTo>
                    <a:lnTo>
                      <a:pt x="152" y="33"/>
                    </a:lnTo>
                    <a:lnTo>
                      <a:pt x="0" y="0"/>
                    </a:lnTo>
                    <a:lnTo>
                      <a:pt x="1781" y="0"/>
                    </a:lnTo>
                    <a:lnTo>
                      <a:pt x="1663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275840" y="1854360"/>
                <a:ext cx="323640" cy="6120"/>
              </a:xfrm>
              <a:custGeom>
                <a:avLst/>
                <a:gdLst/>
                <a:ahLst/>
                <a:rect l="l" t="t" r="r" b="b"/>
                <a:pathLst>
                  <a:path w="1908" h="34">
                    <a:moveTo>
                      <a:pt x="1798" y="34"/>
                    </a:moveTo>
                    <a:lnTo>
                      <a:pt x="152" y="34"/>
                    </a:lnTo>
                    <a:lnTo>
                      <a:pt x="0" y="0"/>
                    </a:lnTo>
                    <a:lnTo>
                      <a:pt x="1908" y="0"/>
                    </a:lnTo>
                    <a:lnTo>
                      <a:pt x="1857" y="9"/>
                    </a:lnTo>
                    <a:lnTo>
                      <a:pt x="179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63240" y="1849320"/>
                <a:ext cx="344160" cy="6480"/>
              </a:xfrm>
              <a:custGeom>
                <a:avLst/>
                <a:gdLst/>
                <a:ahLst/>
                <a:rect l="l" t="t" r="r" b="b"/>
                <a:pathLst>
                  <a:path w="2026" h="34">
                    <a:moveTo>
                      <a:pt x="1933" y="34"/>
                    </a:moveTo>
                    <a:lnTo>
                      <a:pt x="152" y="34"/>
                    </a:lnTo>
                    <a:lnTo>
                      <a:pt x="0" y="0"/>
                    </a:lnTo>
                    <a:lnTo>
                      <a:pt x="2026" y="0"/>
                    </a:lnTo>
                    <a:lnTo>
                      <a:pt x="193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255320" y="1846440"/>
                <a:ext cx="358200" cy="7920"/>
              </a:xfrm>
              <a:custGeom>
                <a:avLst/>
                <a:gdLst/>
                <a:ahLst/>
                <a:rect l="l" t="t" r="r" b="b"/>
                <a:pathLst>
                  <a:path w="2119" h="42">
                    <a:moveTo>
                      <a:pt x="2035" y="42"/>
                    </a:moveTo>
                    <a:lnTo>
                      <a:pt x="127" y="42"/>
                    </a:lnTo>
                    <a:lnTo>
                      <a:pt x="42" y="17"/>
                    </a:lnTo>
                    <a:lnTo>
                      <a:pt x="0" y="0"/>
                    </a:lnTo>
                    <a:lnTo>
                      <a:pt x="2119" y="0"/>
                    </a:lnTo>
                    <a:lnTo>
                      <a:pt x="2035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247400" y="1843200"/>
                <a:ext cx="374040" cy="6120"/>
              </a:xfrm>
              <a:custGeom>
                <a:avLst/>
                <a:gdLst/>
                <a:ahLst/>
                <a:rect l="l" t="t" r="r" b="b"/>
                <a:pathLst>
                  <a:path w="2212" h="34">
                    <a:moveTo>
                      <a:pt x="2119" y="34"/>
                    </a:moveTo>
                    <a:lnTo>
                      <a:pt x="93" y="34"/>
                    </a:lnTo>
                    <a:lnTo>
                      <a:pt x="84" y="34"/>
                    </a:lnTo>
                    <a:lnTo>
                      <a:pt x="0" y="0"/>
                    </a:lnTo>
                    <a:lnTo>
                      <a:pt x="2212" y="0"/>
                    </a:lnTo>
                    <a:lnTo>
                      <a:pt x="211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240920" y="1839960"/>
                <a:ext cx="388440" cy="6480"/>
              </a:xfrm>
              <a:custGeom>
                <a:avLst/>
                <a:gdLst/>
                <a:ahLst/>
                <a:rect l="l" t="t" r="r" b="b"/>
                <a:pathLst>
                  <a:path w="2296" h="34">
                    <a:moveTo>
                      <a:pt x="2203" y="34"/>
                    </a:moveTo>
                    <a:lnTo>
                      <a:pt x="84" y="34"/>
                    </a:lnTo>
                    <a:lnTo>
                      <a:pt x="0" y="0"/>
                    </a:lnTo>
                    <a:lnTo>
                      <a:pt x="2296" y="0"/>
                    </a:lnTo>
                    <a:lnTo>
                      <a:pt x="2288" y="9"/>
                    </a:lnTo>
                    <a:lnTo>
                      <a:pt x="220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33000" y="1838520"/>
                <a:ext cx="402840" cy="4680"/>
              </a:xfrm>
              <a:custGeom>
                <a:avLst/>
                <a:gdLst/>
                <a:ahLst/>
                <a:rect l="l" t="t" r="r" b="b"/>
                <a:pathLst>
                  <a:path w="2373" h="34">
                    <a:moveTo>
                      <a:pt x="2297" y="34"/>
                    </a:moveTo>
                    <a:lnTo>
                      <a:pt x="85" y="34"/>
                    </a:lnTo>
                    <a:lnTo>
                      <a:pt x="0" y="0"/>
                    </a:lnTo>
                    <a:lnTo>
                      <a:pt x="2373" y="0"/>
                    </a:lnTo>
                    <a:lnTo>
                      <a:pt x="2331" y="26"/>
                    </a:lnTo>
                    <a:lnTo>
                      <a:pt x="229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25080" y="1835280"/>
                <a:ext cx="415440" cy="4680"/>
              </a:xfrm>
              <a:custGeom>
                <a:avLst/>
                <a:gdLst/>
                <a:ahLst/>
                <a:rect l="l" t="t" r="r" b="b"/>
                <a:pathLst>
                  <a:path w="2457" h="34">
                    <a:moveTo>
                      <a:pt x="2389" y="34"/>
                    </a:moveTo>
                    <a:lnTo>
                      <a:pt x="93" y="34"/>
                    </a:lnTo>
                    <a:lnTo>
                      <a:pt x="0" y="0"/>
                    </a:lnTo>
                    <a:lnTo>
                      <a:pt x="2457" y="0"/>
                    </a:lnTo>
                    <a:lnTo>
                      <a:pt x="238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217160" y="1832040"/>
                <a:ext cx="429840" cy="6480"/>
              </a:xfrm>
              <a:custGeom>
                <a:avLst/>
                <a:gdLst/>
                <a:ahLst/>
                <a:rect l="l" t="t" r="r" b="b"/>
                <a:pathLst>
                  <a:path w="2532" h="33">
                    <a:moveTo>
                      <a:pt x="2465" y="33"/>
                    </a:moveTo>
                    <a:lnTo>
                      <a:pt x="92" y="33"/>
                    </a:lnTo>
                    <a:lnTo>
                      <a:pt x="0" y="0"/>
                    </a:lnTo>
                    <a:lnTo>
                      <a:pt x="2532" y="0"/>
                    </a:lnTo>
                    <a:lnTo>
                      <a:pt x="246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209240" y="1828800"/>
                <a:ext cx="442440" cy="6480"/>
              </a:xfrm>
              <a:custGeom>
                <a:avLst/>
                <a:gdLst/>
                <a:ahLst/>
                <a:rect l="l" t="t" r="r" b="b"/>
                <a:pathLst>
                  <a:path w="2617" h="33">
                    <a:moveTo>
                      <a:pt x="2550" y="33"/>
                    </a:moveTo>
                    <a:lnTo>
                      <a:pt x="93" y="33"/>
                    </a:lnTo>
                    <a:lnTo>
                      <a:pt x="0" y="0"/>
                    </a:lnTo>
                    <a:lnTo>
                      <a:pt x="2617" y="0"/>
                    </a:lnTo>
                    <a:lnTo>
                      <a:pt x="2550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201320" y="1825560"/>
                <a:ext cx="456840" cy="6480"/>
              </a:xfrm>
              <a:custGeom>
                <a:avLst/>
                <a:gdLst/>
                <a:ahLst/>
                <a:rect l="l" t="t" r="r" b="b"/>
                <a:pathLst>
                  <a:path w="2693" h="34">
                    <a:moveTo>
                      <a:pt x="2625" y="34"/>
                    </a:moveTo>
                    <a:lnTo>
                      <a:pt x="93" y="34"/>
                    </a:lnTo>
                    <a:lnTo>
                      <a:pt x="0" y="0"/>
                    </a:lnTo>
                    <a:lnTo>
                      <a:pt x="2693" y="0"/>
                    </a:lnTo>
                    <a:lnTo>
                      <a:pt x="262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196640" y="1822320"/>
                <a:ext cx="467640" cy="6480"/>
              </a:xfrm>
              <a:custGeom>
                <a:avLst/>
                <a:gdLst/>
                <a:ahLst/>
                <a:rect l="l" t="t" r="r" b="b"/>
                <a:pathLst>
                  <a:path w="2761" h="34">
                    <a:moveTo>
                      <a:pt x="2693" y="34"/>
                    </a:moveTo>
                    <a:lnTo>
                      <a:pt x="76" y="34"/>
                    </a:lnTo>
                    <a:lnTo>
                      <a:pt x="25" y="8"/>
                    </a:lnTo>
                    <a:lnTo>
                      <a:pt x="0" y="0"/>
                    </a:lnTo>
                    <a:lnTo>
                      <a:pt x="2761" y="0"/>
                    </a:lnTo>
                    <a:lnTo>
                      <a:pt x="2752" y="0"/>
                    </a:lnTo>
                    <a:lnTo>
                      <a:pt x="269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90160" y="1819440"/>
                <a:ext cx="477360" cy="6120"/>
              </a:xfrm>
              <a:custGeom>
                <a:avLst/>
                <a:gdLst/>
                <a:ahLst/>
                <a:rect l="l" t="t" r="r" b="b"/>
                <a:pathLst>
                  <a:path w="2820" h="34">
                    <a:moveTo>
                      <a:pt x="2761" y="34"/>
                    </a:moveTo>
                    <a:lnTo>
                      <a:pt x="68" y="34"/>
                    </a:lnTo>
                    <a:lnTo>
                      <a:pt x="59" y="25"/>
                    </a:lnTo>
                    <a:lnTo>
                      <a:pt x="0" y="0"/>
                    </a:lnTo>
                    <a:lnTo>
                      <a:pt x="2820" y="0"/>
                    </a:lnTo>
                    <a:lnTo>
                      <a:pt x="2786" y="17"/>
                    </a:lnTo>
                    <a:lnTo>
                      <a:pt x="276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85480" y="1816200"/>
                <a:ext cx="486720" cy="6120"/>
              </a:xfrm>
              <a:custGeom>
                <a:avLst/>
                <a:gdLst/>
                <a:ahLst/>
                <a:rect l="l" t="t" r="r" b="b"/>
                <a:pathLst>
                  <a:path w="2870" h="34">
                    <a:moveTo>
                      <a:pt x="2820" y="34"/>
                    </a:moveTo>
                    <a:lnTo>
                      <a:pt x="59" y="34"/>
                    </a:lnTo>
                    <a:lnTo>
                      <a:pt x="0" y="0"/>
                    </a:lnTo>
                    <a:lnTo>
                      <a:pt x="2870" y="0"/>
                    </a:lnTo>
                    <a:lnTo>
                      <a:pt x="282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180440" y="1811520"/>
                <a:ext cx="496800" cy="7920"/>
              </a:xfrm>
              <a:custGeom>
                <a:avLst/>
                <a:gdLst/>
                <a:ahLst/>
                <a:rect l="l" t="t" r="r" b="b"/>
                <a:pathLst>
                  <a:path w="2930" h="42">
                    <a:moveTo>
                      <a:pt x="2879" y="42"/>
                    </a:moveTo>
                    <a:lnTo>
                      <a:pt x="59" y="42"/>
                    </a:lnTo>
                    <a:lnTo>
                      <a:pt x="0" y="0"/>
                    </a:lnTo>
                    <a:lnTo>
                      <a:pt x="2930" y="0"/>
                    </a:lnTo>
                    <a:lnTo>
                      <a:pt x="2879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174320" y="1809720"/>
                <a:ext cx="506160" cy="6480"/>
              </a:xfrm>
              <a:custGeom>
                <a:avLst/>
                <a:gdLst/>
                <a:ahLst/>
                <a:rect l="l" t="t" r="r" b="b"/>
                <a:pathLst>
                  <a:path w="2989" h="34">
                    <a:moveTo>
                      <a:pt x="2938" y="34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2989" y="0"/>
                    </a:lnTo>
                    <a:lnTo>
                      <a:pt x="293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69640" y="1805040"/>
                <a:ext cx="515520" cy="6480"/>
              </a:xfrm>
              <a:custGeom>
                <a:avLst/>
                <a:gdLst/>
                <a:ahLst/>
                <a:rect l="l" t="t" r="r" b="b"/>
                <a:pathLst>
                  <a:path w="3039" h="34">
                    <a:moveTo>
                      <a:pt x="2989" y="34"/>
                    </a:moveTo>
                    <a:lnTo>
                      <a:pt x="59" y="34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298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64600" y="1801800"/>
                <a:ext cx="525240" cy="7920"/>
              </a:xfrm>
              <a:custGeom>
                <a:avLst/>
                <a:gdLst/>
                <a:ahLst/>
                <a:rect l="l" t="t" r="r" b="b"/>
                <a:pathLst>
                  <a:path w="3099" h="42">
                    <a:moveTo>
                      <a:pt x="3048" y="42"/>
                    </a:moveTo>
                    <a:lnTo>
                      <a:pt x="59" y="42"/>
                    </a:lnTo>
                    <a:lnTo>
                      <a:pt x="0" y="0"/>
                    </a:lnTo>
                    <a:lnTo>
                      <a:pt x="3099" y="0"/>
                    </a:lnTo>
                    <a:lnTo>
                      <a:pt x="3048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158480" y="1798560"/>
                <a:ext cx="536040" cy="6480"/>
              </a:xfrm>
              <a:custGeom>
                <a:avLst/>
                <a:gdLst/>
                <a:ahLst/>
                <a:rect l="l" t="t" r="r" b="b"/>
                <a:pathLst>
                  <a:path w="3158" h="34">
                    <a:moveTo>
                      <a:pt x="3107" y="34"/>
                    </a:moveTo>
                    <a:lnTo>
                      <a:pt x="68" y="34"/>
                    </a:lnTo>
                    <a:lnTo>
                      <a:pt x="0" y="0"/>
                    </a:lnTo>
                    <a:lnTo>
                      <a:pt x="3158" y="0"/>
                    </a:lnTo>
                    <a:lnTo>
                      <a:pt x="310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53440" y="1795680"/>
                <a:ext cx="544320" cy="6120"/>
              </a:xfrm>
              <a:custGeom>
                <a:avLst/>
                <a:gdLst/>
                <a:ahLst/>
                <a:rect l="l" t="t" r="r" b="b"/>
                <a:pathLst>
                  <a:path w="3208" h="34">
                    <a:moveTo>
                      <a:pt x="3158" y="34"/>
                    </a:moveTo>
                    <a:lnTo>
                      <a:pt x="59" y="34"/>
                    </a:lnTo>
                    <a:lnTo>
                      <a:pt x="0" y="0"/>
                    </a:lnTo>
                    <a:lnTo>
                      <a:pt x="3208" y="0"/>
                    </a:lnTo>
                    <a:lnTo>
                      <a:pt x="315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148760" y="1792440"/>
                <a:ext cx="553680" cy="6120"/>
              </a:xfrm>
              <a:custGeom>
                <a:avLst/>
                <a:gdLst/>
                <a:ahLst/>
                <a:rect l="l" t="t" r="r" b="b"/>
                <a:pathLst>
                  <a:path w="3268" h="33">
                    <a:moveTo>
                      <a:pt x="3217" y="33"/>
                    </a:moveTo>
                    <a:lnTo>
                      <a:pt x="59" y="33"/>
                    </a:lnTo>
                    <a:lnTo>
                      <a:pt x="0" y="0"/>
                    </a:lnTo>
                    <a:lnTo>
                      <a:pt x="3268" y="0"/>
                    </a:lnTo>
                    <a:lnTo>
                      <a:pt x="321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42640" y="1789200"/>
                <a:ext cx="563040" cy="6480"/>
              </a:xfrm>
              <a:custGeom>
                <a:avLst/>
                <a:gdLst/>
                <a:ahLst/>
                <a:rect l="l" t="t" r="r" b="b"/>
                <a:pathLst>
                  <a:path w="3317" h="33">
                    <a:moveTo>
                      <a:pt x="3275" y="33"/>
                    </a:moveTo>
                    <a:lnTo>
                      <a:pt x="67" y="3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3317" y="0"/>
                    </a:lnTo>
                    <a:lnTo>
                      <a:pt x="3317" y="0"/>
                    </a:lnTo>
                    <a:lnTo>
                      <a:pt x="327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39400" y="1787400"/>
                <a:ext cx="570960" cy="5040"/>
              </a:xfrm>
              <a:custGeom>
                <a:avLst/>
                <a:gdLst/>
                <a:ahLst/>
                <a:rect l="l" t="t" r="r" b="b"/>
                <a:pathLst>
                  <a:path w="3360" h="34">
                    <a:moveTo>
                      <a:pt x="3318" y="34"/>
                    </a:moveTo>
                    <a:lnTo>
                      <a:pt x="50" y="34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3360" y="0"/>
                    </a:lnTo>
                    <a:lnTo>
                      <a:pt x="3334" y="17"/>
                    </a:lnTo>
                    <a:lnTo>
                      <a:pt x="331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37600" y="1784520"/>
                <a:ext cx="574560" cy="4680"/>
              </a:xfrm>
              <a:custGeom>
                <a:avLst/>
                <a:gdLst/>
                <a:ahLst/>
                <a:rect l="l" t="t" r="r" b="b"/>
                <a:pathLst>
                  <a:path w="3394" h="34">
                    <a:moveTo>
                      <a:pt x="3351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3394" y="0"/>
                    </a:lnTo>
                    <a:lnTo>
                      <a:pt x="335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2920" y="1781280"/>
                <a:ext cx="582480" cy="6120"/>
              </a:xfrm>
              <a:custGeom>
                <a:avLst/>
                <a:gdLst/>
                <a:ahLst/>
                <a:rect l="l" t="t" r="r" b="b"/>
                <a:pathLst>
                  <a:path w="3437" h="34">
                    <a:moveTo>
                      <a:pt x="3403" y="34"/>
                    </a:moveTo>
                    <a:lnTo>
                      <a:pt x="43" y="34"/>
                    </a:lnTo>
                    <a:lnTo>
                      <a:pt x="0" y="0"/>
                    </a:lnTo>
                    <a:lnTo>
                      <a:pt x="3437" y="0"/>
                    </a:lnTo>
                    <a:lnTo>
                      <a:pt x="340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129680" y="1778040"/>
                <a:ext cx="590400" cy="6480"/>
              </a:xfrm>
              <a:custGeom>
                <a:avLst/>
                <a:gdLst/>
                <a:ahLst/>
                <a:rect l="l" t="t" r="r" b="b"/>
                <a:pathLst>
                  <a:path w="3478" h="34">
                    <a:moveTo>
                      <a:pt x="3436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478" y="0"/>
                    </a:lnTo>
                    <a:lnTo>
                      <a:pt x="343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25000" y="1774800"/>
                <a:ext cx="598320" cy="6480"/>
              </a:xfrm>
              <a:custGeom>
                <a:avLst/>
                <a:gdLst/>
                <a:ahLst/>
                <a:rect l="l" t="t" r="r" b="b"/>
                <a:pathLst>
                  <a:path w="3521" h="34">
                    <a:moveTo>
                      <a:pt x="3479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521" y="0"/>
                    </a:lnTo>
                    <a:lnTo>
                      <a:pt x="347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21760" y="1771560"/>
                <a:ext cx="603000" cy="6480"/>
              </a:xfrm>
              <a:custGeom>
                <a:avLst/>
                <a:gdLst/>
                <a:ahLst/>
                <a:rect l="l" t="t" r="r" b="b"/>
                <a:pathLst>
                  <a:path w="3563" h="34">
                    <a:moveTo>
                      <a:pt x="3529" y="34"/>
                    </a:moveTo>
                    <a:lnTo>
                      <a:pt x="51" y="34"/>
                    </a:lnTo>
                    <a:lnTo>
                      <a:pt x="0" y="0"/>
                    </a:lnTo>
                    <a:lnTo>
                      <a:pt x="3563" y="0"/>
                    </a:lnTo>
                    <a:lnTo>
                      <a:pt x="352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118520" y="1766880"/>
                <a:ext cx="610920" cy="7920"/>
              </a:xfrm>
              <a:custGeom>
                <a:avLst/>
                <a:gdLst/>
                <a:ahLst/>
                <a:rect l="l" t="t" r="r" b="b"/>
                <a:pathLst>
                  <a:path w="3605" h="42">
                    <a:moveTo>
                      <a:pt x="3563" y="42"/>
                    </a:moveTo>
                    <a:lnTo>
                      <a:pt x="42" y="42"/>
                    </a:lnTo>
                    <a:lnTo>
                      <a:pt x="0" y="0"/>
                    </a:lnTo>
                    <a:lnTo>
                      <a:pt x="3605" y="0"/>
                    </a:lnTo>
                    <a:lnTo>
                      <a:pt x="3563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115640" y="1765440"/>
                <a:ext cx="617040" cy="6120"/>
              </a:xfrm>
              <a:custGeom>
                <a:avLst/>
                <a:gdLst/>
                <a:ahLst/>
                <a:rect l="l" t="t" r="r" b="b"/>
                <a:pathLst>
                  <a:path w="3639" h="33">
                    <a:moveTo>
                      <a:pt x="3597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3639" y="0"/>
                    </a:lnTo>
                    <a:lnTo>
                      <a:pt x="359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110600" y="1760760"/>
                <a:ext cx="625320" cy="6120"/>
              </a:xfrm>
              <a:custGeom>
                <a:avLst/>
                <a:gdLst/>
                <a:ahLst/>
                <a:rect l="l" t="t" r="r" b="b"/>
                <a:pathLst>
                  <a:path w="3681" h="34">
                    <a:moveTo>
                      <a:pt x="3647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681" y="0"/>
                    </a:lnTo>
                    <a:lnTo>
                      <a:pt x="364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107720" y="1757520"/>
                <a:ext cx="631440" cy="7920"/>
              </a:xfrm>
              <a:custGeom>
                <a:avLst/>
                <a:gdLst/>
                <a:ahLst/>
                <a:rect l="l" t="t" r="r" b="b"/>
                <a:pathLst>
                  <a:path w="3724" h="43">
                    <a:moveTo>
                      <a:pt x="3690" y="43"/>
                    </a:moveTo>
                    <a:lnTo>
                      <a:pt x="51" y="43"/>
                    </a:lnTo>
                    <a:lnTo>
                      <a:pt x="0" y="0"/>
                    </a:lnTo>
                    <a:lnTo>
                      <a:pt x="3724" y="0"/>
                    </a:lnTo>
                    <a:lnTo>
                      <a:pt x="3690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04480" y="1754280"/>
                <a:ext cx="637560" cy="6480"/>
              </a:xfrm>
              <a:custGeom>
                <a:avLst/>
                <a:gdLst/>
                <a:ahLst/>
                <a:rect l="l" t="t" r="r" b="b"/>
                <a:pathLst>
                  <a:path w="3765" h="34">
                    <a:moveTo>
                      <a:pt x="3723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765" y="0"/>
                    </a:lnTo>
                    <a:lnTo>
                      <a:pt x="372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99800" y="1751040"/>
                <a:ext cx="645480" cy="6480"/>
              </a:xfrm>
              <a:custGeom>
                <a:avLst/>
                <a:gdLst/>
                <a:ahLst/>
                <a:rect l="l" t="t" r="r" b="b"/>
                <a:pathLst>
                  <a:path w="3808" h="33">
                    <a:moveTo>
                      <a:pt x="3766" y="33"/>
                    </a:moveTo>
                    <a:lnTo>
                      <a:pt x="42" y="33"/>
                    </a:lnTo>
                    <a:lnTo>
                      <a:pt x="0" y="0"/>
                    </a:lnTo>
                    <a:lnTo>
                      <a:pt x="3808" y="0"/>
                    </a:lnTo>
                    <a:lnTo>
                      <a:pt x="3799" y="8"/>
                    </a:lnTo>
                    <a:lnTo>
                      <a:pt x="3766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96560" y="1747800"/>
                <a:ext cx="650520" cy="6480"/>
              </a:xfrm>
              <a:custGeom>
                <a:avLst/>
                <a:gdLst/>
                <a:ahLst/>
                <a:rect l="l" t="t" r="r" b="b"/>
                <a:pathLst>
                  <a:path w="3833" h="33">
                    <a:moveTo>
                      <a:pt x="3808" y="33"/>
                    </a:moveTo>
                    <a:lnTo>
                      <a:pt x="43" y="33"/>
                    </a:lnTo>
                    <a:lnTo>
                      <a:pt x="0" y="0"/>
                    </a:lnTo>
                    <a:lnTo>
                      <a:pt x="3833" y="0"/>
                    </a:lnTo>
                    <a:lnTo>
                      <a:pt x="3816" y="25"/>
                    </a:lnTo>
                    <a:lnTo>
                      <a:pt x="3808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93320" y="1744560"/>
                <a:ext cx="657000" cy="6480"/>
              </a:xfrm>
              <a:custGeom>
                <a:avLst/>
                <a:gdLst/>
                <a:ahLst/>
                <a:rect l="l" t="t" r="r" b="b"/>
                <a:pathLst>
                  <a:path w="3875" h="34">
                    <a:moveTo>
                      <a:pt x="3850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875" y="0"/>
                    </a:lnTo>
                    <a:lnTo>
                      <a:pt x="385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90080" y="1741680"/>
                <a:ext cx="663120" cy="6120"/>
              </a:xfrm>
              <a:custGeom>
                <a:avLst/>
                <a:gdLst/>
                <a:ahLst/>
                <a:rect l="l" t="t" r="r" b="b"/>
                <a:pathLst>
                  <a:path w="3909" h="34">
                    <a:moveTo>
                      <a:pt x="3875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909" y="0"/>
                    </a:lnTo>
                    <a:lnTo>
                      <a:pt x="387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85400" y="1738440"/>
                <a:ext cx="669600" cy="6120"/>
              </a:xfrm>
              <a:custGeom>
                <a:avLst/>
                <a:gdLst/>
                <a:ahLst/>
                <a:rect l="l" t="t" r="r" b="b"/>
                <a:pathLst>
                  <a:path w="3951" h="34">
                    <a:moveTo>
                      <a:pt x="3917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3951" y="0"/>
                    </a:lnTo>
                    <a:lnTo>
                      <a:pt x="391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82160" y="1735200"/>
                <a:ext cx="676080" cy="6480"/>
              </a:xfrm>
              <a:custGeom>
                <a:avLst/>
                <a:gdLst/>
                <a:ahLst/>
                <a:rect l="l" t="t" r="r" b="b"/>
                <a:pathLst>
                  <a:path w="3985" h="34">
                    <a:moveTo>
                      <a:pt x="3951" y="34"/>
                    </a:moveTo>
                    <a:lnTo>
                      <a:pt x="42" y="34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985" y="0"/>
                    </a:lnTo>
                    <a:lnTo>
                      <a:pt x="395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80720" y="1731960"/>
                <a:ext cx="680400" cy="6480"/>
              </a:xfrm>
              <a:custGeom>
                <a:avLst/>
                <a:gdLst/>
                <a:ahLst/>
                <a:rect l="l" t="t" r="r" b="b"/>
                <a:pathLst>
                  <a:path w="4019" h="34">
                    <a:moveTo>
                      <a:pt x="3985" y="34"/>
                    </a:moveTo>
                    <a:lnTo>
                      <a:pt x="34" y="34"/>
                    </a:lnTo>
                    <a:lnTo>
                      <a:pt x="25" y="26"/>
                    </a:lnTo>
                    <a:lnTo>
                      <a:pt x="0" y="0"/>
                    </a:lnTo>
                    <a:lnTo>
                      <a:pt x="4019" y="0"/>
                    </a:lnTo>
                    <a:lnTo>
                      <a:pt x="398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77480" y="1728720"/>
                <a:ext cx="686880" cy="6480"/>
              </a:xfrm>
              <a:custGeom>
                <a:avLst/>
                <a:gdLst/>
                <a:ahLst/>
                <a:rect l="l" t="t" r="r" b="b"/>
                <a:pathLst>
                  <a:path w="4053" h="34">
                    <a:moveTo>
                      <a:pt x="4019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053" y="0"/>
                    </a:lnTo>
                    <a:lnTo>
                      <a:pt x="4044" y="0"/>
                    </a:lnTo>
                    <a:lnTo>
                      <a:pt x="401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4240" y="1727280"/>
                <a:ext cx="691920" cy="4680"/>
              </a:xfrm>
              <a:custGeom>
                <a:avLst/>
                <a:gdLst/>
                <a:ahLst/>
                <a:rect l="l" t="t" r="r" b="b"/>
                <a:pathLst>
                  <a:path w="4078" h="33">
                    <a:moveTo>
                      <a:pt x="4053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4078" y="0"/>
                    </a:lnTo>
                    <a:lnTo>
                      <a:pt x="4061" y="16"/>
                    </a:lnTo>
                    <a:lnTo>
                      <a:pt x="4053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71000" y="1724040"/>
                <a:ext cx="696600" cy="4680"/>
              </a:xfrm>
              <a:custGeom>
                <a:avLst/>
                <a:gdLst/>
                <a:ahLst/>
                <a:rect l="l" t="t" r="r" b="b"/>
                <a:pathLst>
                  <a:path w="4104" h="33">
                    <a:moveTo>
                      <a:pt x="4087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4104" y="0"/>
                    </a:lnTo>
                    <a:lnTo>
                      <a:pt x="408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067760" y="1719360"/>
                <a:ext cx="701280" cy="7920"/>
              </a:xfrm>
              <a:custGeom>
                <a:avLst/>
                <a:gdLst/>
                <a:ahLst/>
                <a:rect l="l" t="t" r="r" b="b"/>
                <a:pathLst>
                  <a:path w="4136" h="43">
                    <a:moveTo>
                      <a:pt x="4111" y="43"/>
                    </a:moveTo>
                    <a:lnTo>
                      <a:pt x="33" y="43"/>
                    </a:lnTo>
                    <a:lnTo>
                      <a:pt x="0" y="0"/>
                    </a:lnTo>
                    <a:lnTo>
                      <a:pt x="4136" y="0"/>
                    </a:lnTo>
                    <a:lnTo>
                      <a:pt x="4111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64880" y="1716120"/>
                <a:ext cx="707400" cy="7920"/>
              </a:xfrm>
              <a:custGeom>
                <a:avLst/>
                <a:gdLst/>
                <a:ahLst/>
                <a:rect l="l" t="t" r="r" b="b"/>
                <a:pathLst>
                  <a:path w="4179" h="43">
                    <a:moveTo>
                      <a:pt x="4146" y="43"/>
                    </a:moveTo>
                    <a:lnTo>
                      <a:pt x="42" y="43"/>
                    </a:lnTo>
                    <a:lnTo>
                      <a:pt x="0" y="0"/>
                    </a:lnTo>
                    <a:lnTo>
                      <a:pt x="4179" y="0"/>
                    </a:lnTo>
                    <a:lnTo>
                      <a:pt x="4146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061640" y="1712880"/>
                <a:ext cx="712440" cy="6480"/>
              </a:xfrm>
              <a:custGeom>
                <a:avLst/>
                <a:gdLst/>
                <a:ahLst/>
                <a:rect l="l" t="t" r="r" b="b"/>
                <a:pathLst>
                  <a:path w="4205" h="33">
                    <a:moveTo>
                      <a:pt x="4179" y="33"/>
                    </a:moveTo>
                    <a:lnTo>
                      <a:pt x="43" y="33"/>
                    </a:lnTo>
                    <a:lnTo>
                      <a:pt x="0" y="0"/>
                    </a:lnTo>
                    <a:lnTo>
                      <a:pt x="4205" y="0"/>
                    </a:lnTo>
                    <a:lnTo>
                      <a:pt x="4179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058400" y="1709640"/>
                <a:ext cx="718920" cy="6480"/>
              </a:xfrm>
              <a:custGeom>
                <a:avLst/>
                <a:gdLst/>
                <a:ahLst/>
                <a:rect l="l" t="t" r="r" b="b"/>
                <a:pathLst>
                  <a:path w="4239" h="33">
                    <a:moveTo>
                      <a:pt x="4213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4239" y="0"/>
                    </a:lnTo>
                    <a:lnTo>
                      <a:pt x="4213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055160" y="1706760"/>
                <a:ext cx="723600" cy="6120"/>
              </a:xfrm>
              <a:custGeom>
                <a:avLst/>
                <a:gdLst/>
                <a:ahLst/>
                <a:rect l="l" t="t" r="r" b="b"/>
                <a:pathLst>
                  <a:path w="4263" h="34">
                    <a:moveTo>
                      <a:pt x="4238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263" y="0"/>
                    </a:lnTo>
                    <a:lnTo>
                      <a:pt x="423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51920" y="1703520"/>
                <a:ext cx="730080" cy="6120"/>
              </a:xfrm>
              <a:custGeom>
                <a:avLst/>
                <a:gdLst/>
                <a:ahLst/>
                <a:rect l="l" t="t" r="r" b="b"/>
                <a:pathLst>
                  <a:path w="4297" h="34">
                    <a:moveTo>
                      <a:pt x="4272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297" y="0"/>
                    </a:lnTo>
                    <a:lnTo>
                      <a:pt x="427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50480" y="1700280"/>
                <a:ext cx="731520" cy="6480"/>
              </a:xfrm>
              <a:custGeom>
                <a:avLst/>
                <a:gdLst/>
                <a:ahLst/>
                <a:rect l="l" t="t" r="r" b="b"/>
                <a:pathLst>
                  <a:path w="4322" h="34">
                    <a:moveTo>
                      <a:pt x="4297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322" y="0"/>
                    </a:lnTo>
                    <a:lnTo>
                      <a:pt x="429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47240" y="1697040"/>
                <a:ext cx="738000" cy="6480"/>
              </a:xfrm>
              <a:custGeom>
                <a:avLst/>
                <a:gdLst/>
                <a:ahLst/>
                <a:rect l="l" t="t" r="r" b="b"/>
                <a:pathLst>
                  <a:path w="4356" h="34">
                    <a:moveTo>
                      <a:pt x="4331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356" y="0"/>
                    </a:lnTo>
                    <a:lnTo>
                      <a:pt x="433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044000" y="1693800"/>
                <a:ext cx="742680" cy="6480"/>
              </a:xfrm>
              <a:custGeom>
                <a:avLst/>
                <a:gdLst/>
                <a:ahLst/>
                <a:rect l="l" t="t" r="r" b="b"/>
                <a:pathLst>
                  <a:path w="4382" h="34">
                    <a:moveTo>
                      <a:pt x="4356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382" y="0"/>
                    </a:lnTo>
                    <a:lnTo>
                      <a:pt x="435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040760" y="1690560"/>
                <a:ext cx="749160" cy="6480"/>
              </a:xfrm>
              <a:custGeom>
                <a:avLst/>
                <a:gdLst/>
                <a:ahLst/>
                <a:rect l="l" t="t" r="r" b="b"/>
                <a:pathLst>
                  <a:path w="4416" h="34">
                    <a:moveTo>
                      <a:pt x="4390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416" y="0"/>
                    </a:lnTo>
                    <a:lnTo>
                      <a:pt x="439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037880" y="1687680"/>
                <a:ext cx="755280" cy="6120"/>
              </a:xfrm>
              <a:custGeom>
                <a:avLst/>
                <a:gdLst/>
                <a:ahLst/>
                <a:rect l="l" t="t" r="r" b="b"/>
                <a:pathLst>
                  <a:path w="4449" h="34">
                    <a:moveTo>
                      <a:pt x="4416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449" y="0"/>
                    </a:lnTo>
                    <a:lnTo>
                      <a:pt x="441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036080" y="1684440"/>
                <a:ext cx="758520" cy="6120"/>
              </a:xfrm>
              <a:custGeom>
                <a:avLst/>
                <a:gdLst/>
                <a:ahLst/>
                <a:rect l="l" t="t" r="r" b="b"/>
                <a:pathLst>
                  <a:path w="4475" h="33">
                    <a:moveTo>
                      <a:pt x="4450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4475" y="0"/>
                    </a:lnTo>
                    <a:lnTo>
                      <a:pt x="4466" y="8"/>
                    </a:lnTo>
                    <a:lnTo>
                      <a:pt x="4450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32840" y="1679760"/>
                <a:ext cx="763200" cy="7920"/>
              </a:xfrm>
              <a:custGeom>
                <a:avLst/>
                <a:gdLst/>
                <a:ahLst/>
                <a:rect l="l" t="t" r="r" b="b"/>
                <a:pathLst>
                  <a:path w="4500" h="42">
                    <a:moveTo>
                      <a:pt x="4483" y="42"/>
                    </a:moveTo>
                    <a:lnTo>
                      <a:pt x="34" y="42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4500" y="0"/>
                    </a:lnTo>
                    <a:lnTo>
                      <a:pt x="4483" y="34"/>
                    </a:lnTo>
                    <a:lnTo>
                      <a:pt x="4483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29960" y="1679760"/>
                <a:ext cx="767880" cy="4680"/>
              </a:xfrm>
              <a:custGeom>
                <a:avLst/>
                <a:gdLst/>
                <a:ahLst/>
                <a:rect l="l" t="t" r="r" b="b"/>
                <a:pathLst>
                  <a:path w="4533" h="34">
                    <a:moveTo>
                      <a:pt x="4508" y="34"/>
                    </a:moveTo>
                    <a:lnTo>
                      <a:pt x="33" y="34"/>
                    </a:lnTo>
                    <a:lnTo>
                      <a:pt x="16" y="17"/>
                    </a:lnTo>
                    <a:lnTo>
                      <a:pt x="0" y="0"/>
                    </a:lnTo>
                    <a:lnTo>
                      <a:pt x="4533" y="0"/>
                    </a:lnTo>
                    <a:lnTo>
                      <a:pt x="450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026720" y="1674720"/>
                <a:ext cx="772560" cy="5040"/>
              </a:xfrm>
              <a:custGeom>
                <a:avLst/>
                <a:gdLst/>
                <a:ahLst/>
                <a:rect l="l" t="t" r="r" b="b"/>
                <a:pathLst>
                  <a:path w="4559" h="34">
                    <a:moveTo>
                      <a:pt x="4533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559" y="0"/>
                    </a:lnTo>
                    <a:lnTo>
                      <a:pt x="453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023480" y="1671840"/>
                <a:ext cx="777600" cy="7920"/>
              </a:xfrm>
              <a:custGeom>
                <a:avLst/>
                <a:gdLst/>
                <a:ahLst/>
                <a:rect l="l" t="t" r="r" b="b"/>
                <a:pathLst>
                  <a:path w="4584" h="42">
                    <a:moveTo>
                      <a:pt x="4567" y="42"/>
                    </a:moveTo>
                    <a:lnTo>
                      <a:pt x="34" y="42"/>
                    </a:lnTo>
                    <a:lnTo>
                      <a:pt x="0" y="0"/>
                    </a:lnTo>
                    <a:lnTo>
                      <a:pt x="4584" y="0"/>
                    </a:lnTo>
                    <a:lnTo>
                      <a:pt x="4567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021680" y="1668600"/>
                <a:ext cx="782280" cy="6120"/>
              </a:xfrm>
              <a:custGeom>
                <a:avLst/>
                <a:gdLst/>
                <a:ahLst/>
                <a:rect l="l" t="t" r="r" b="b"/>
                <a:pathLst>
                  <a:path w="4610" h="33">
                    <a:moveTo>
                      <a:pt x="4585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4610" y="0"/>
                    </a:lnTo>
                    <a:lnTo>
                      <a:pt x="458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020240" y="1665360"/>
                <a:ext cx="785520" cy="6480"/>
              </a:xfrm>
              <a:custGeom>
                <a:avLst/>
                <a:gdLst/>
                <a:ahLst/>
                <a:rect l="l" t="t" r="r" b="b"/>
                <a:pathLst>
                  <a:path w="4635" h="34">
                    <a:moveTo>
                      <a:pt x="4610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4635" y="0"/>
                    </a:lnTo>
                    <a:lnTo>
                      <a:pt x="461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017000" y="1662120"/>
                <a:ext cx="790200" cy="6480"/>
              </a:xfrm>
              <a:custGeom>
                <a:avLst/>
                <a:gdLst/>
                <a:ahLst/>
                <a:rect l="l" t="t" r="r" b="b"/>
                <a:pathLst>
                  <a:path w="4660" h="34">
                    <a:moveTo>
                      <a:pt x="4643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660" y="0"/>
                    </a:lnTo>
                    <a:lnTo>
                      <a:pt x="464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013760" y="1658880"/>
                <a:ext cx="796680" cy="6480"/>
              </a:xfrm>
              <a:custGeom>
                <a:avLst/>
                <a:gdLst/>
                <a:ahLst/>
                <a:rect l="l" t="t" r="r" b="b"/>
                <a:pathLst>
                  <a:path w="4694" h="34">
                    <a:moveTo>
                      <a:pt x="4668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694" y="0"/>
                    </a:lnTo>
                    <a:lnTo>
                      <a:pt x="466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12320" y="1655640"/>
                <a:ext cx="799920" cy="6480"/>
              </a:xfrm>
              <a:custGeom>
                <a:avLst/>
                <a:gdLst/>
                <a:ahLst/>
                <a:rect l="l" t="t" r="r" b="b"/>
                <a:pathLst>
                  <a:path w="4711" h="34">
                    <a:moveTo>
                      <a:pt x="4686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4711" y="0"/>
                    </a:lnTo>
                    <a:lnTo>
                      <a:pt x="468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009080" y="1652760"/>
                <a:ext cx="804600" cy="6120"/>
              </a:xfrm>
              <a:custGeom>
                <a:avLst/>
                <a:gdLst/>
                <a:ahLst/>
                <a:rect l="l" t="t" r="r" b="b"/>
                <a:pathLst>
                  <a:path w="4737" h="34">
                    <a:moveTo>
                      <a:pt x="4720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4737" y="0"/>
                    </a:lnTo>
                    <a:lnTo>
                      <a:pt x="472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005840" y="1649520"/>
                <a:ext cx="809280" cy="6120"/>
              </a:xfrm>
              <a:custGeom>
                <a:avLst/>
                <a:gdLst/>
                <a:ahLst/>
                <a:rect l="l" t="t" r="r" b="b"/>
                <a:pathLst>
                  <a:path w="4771" h="34">
                    <a:moveTo>
                      <a:pt x="4745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4771" y="0"/>
                    </a:lnTo>
                    <a:lnTo>
                      <a:pt x="474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004400" y="1646280"/>
                <a:ext cx="812520" cy="6480"/>
              </a:xfrm>
              <a:custGeom>
                <a:avLst/>
                <a:gdLst/>
                <a:ahLst/>
                <a:rect l="l" t="t" r="r" b="b"/>
                <a:pathLst>
                  <a:path w="4795" h="34">
                    <a:moveTo>
                      <a:pt x="4770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795" y="0"/>
                    </a:lnTo>
                    <a:lnTo>
                      <a:pt x="477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002960" y="1643040"/>
                <a:ext cx="815400" cy="6480"/>
              </a:xfrm>
              <a:custGeom>
                <a:avLst/>
                <a:gdLst/>
                <a:ahLst/>
                <a:rect l="l" t="t" r="r" b="b"/>
                <a:pathLst>
                  <a:path w="4812" h="33">
                    <a:moveTo>
                      <a:pt x="4796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4812" y="0"/>
                    </a:lnTo>
                    <a:lnTo>
                      <a:pt x="4796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99720" y="1639800"/>
                <a:ext cx="821880" cy="6480"/>
              </a:xfrm>
              <a:custGeom>
                <a:avLst/>
                <a:gdLst/>
                <a:ahLst/>
                <a:rect l="l" t="t" r="r" b="b"/>
                <a:pathLst>
                  <a:path w="4846" h="33">
                    <a:moveTo>
                      <a:pt x="4821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4846" y="0"/>
                    </a:lnTo>
                    <a:lnTo>
                      <a:pt x="4838" y="8"/>
                    </a:lnTo>
                    <a:lnTo>
                      <a:pt x="4821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996480" y="1635120"/>
                <a:ext cx="826560" cy="7920"/>
              </a:xfrm>
              <a:custGeom>
                <a:avLst/>
                <a:gdLst/>
                <a:ahLst/>
                <a:rect l="l" t="t" r="r" b="b"/>
                <a:pathLst>
                  <a:path w="4872" h="43">
                    <a:moveTo>
                      <a:pt x="4846" y="43"/>
                    </a:moveTo>
                    <a:lnTo>
                      <a:pt x="34" y="43"/>
                    </a:lnTo>
                    <a:lnTo>
                      <a:pt x="0" y="0"/>
                    </a:lnTo>
                    <a:lnTo>
                      <a:pt x="4872" y="0"/>
                    </a:lnTo>
                    <a:lnTo>
                      <a:pt x="4855" y="34"/>
                    </a:lnTo>
                    <a:lnTo>
                      <a:pt x="4846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993240" y="1633680"/>
                <a:ext cx="831600" cy="6120"/>
              </a:xfrm>
              <a:custGeom>
                <a:avLst/>
                <a:gdLst/>
                <a:ahLst/>
                <a:rect l="l" t="t" r="r" b="b"/>
                <a:pathLst>
                  <a:path w="4896" h="34">
                    <a:moveTo>
                      <a:pt x="4879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4896" y="0"/>
                    </a:lnTo>
                    <a:lnTo>
                      <a:pt x="487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91800" y="1628640"/>
                <a:ext cx="834480" cy="6480"/>
              </a:xfrm>
              <a:custGeom>
                <a:avLst/>
                <a:gdLst/>
                <a:ahLst/>
                <a:rect l="l" t="t" r="r" b="b"/>
                <a:pathLst>
                  <a:path w="4922" h="33">
                    <a:moveTo>
                      <a:pt x="4905" y="33"/>
                    </a:moveTo>
                    <a:lnTo>
                      <a:pt x="33" y="33"/>
                    </a:lnTo>
                    <a:lnTo>
                      <a:pt x="0" y="0"/>
                    </a:lnTo>
                    <a:lnTo>
                      <a:pt x="4922" y="0"/>
                    </a:lnTo>
                    <a:lnTo>
                      <a:pt x="490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990000" y="1625760"/>
                <a:ext cx="838080" cy="7920"/>
              </a:xfrm>
              <a:custGeom>
                <a:avLst/>
                <a:gdLst/>
                <a:ahLst/>
                <a:rect l="l" t="t" r="r" b="b"/>
                <a:pathLst>
                  <a:path w="4948" h="42">
                    <a:moveTo>
                      <a:pt x="4922" y="42"/>
                    </a:moveTo>
                    <a:lnTo>
                      <a:pt x="26" y="42"/>
                    </a:lnTo>
                    <a:lnTo>
                      <a:pt x="0" y="0"/>
                    </a:lnTo>
                    <a:lnTo>
                      <a:pt x="4948" y="0"/>
                    </a:lnTo>
                    <a:lnTo>
                      <a:pt x="4922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86760" y="1623960"/>
                <a:ext cx="842760" cy="4680"/>
              </a:xfrm>
              <a:custGeom>
                <a:avLst/>
                <a:gdLst/>
                <a:ahLst/>
                <a:rect l="l" t="t" r="r" b="b"/>
                <a:pathLst>
                  <a:path w="4973" h="34">
                    <a:moveTo>
                      <a:pt x="4948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4973" y="0"/>
                    </a:lnTo>
                    <a:lnTo>
                      <a:pt x="494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83880" y="1620720"/>
                <a:ext cx="847080" cy="5040"/>
              </a:xfrm>
              <a:custGeom>
                <a:avLst/>
                <a:gdLst/>
                <a:ahLst/>
                <a:rect l="l" t="t" r="r" b="b"/>
                <a:pathLst>
                  <a:path w="4998" h="34">
                    <a:moveTo>
                      <a:pt x="4982" y="34"/>
                    </a:moveTo>
                    <a:lnTo>
                      <a:pt x="34" y="34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4998" y="0"/>
                    </a:lnTo>
                    <a:lnTo>
                      <a:pt x="498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82080" y="1617840"/>
                <a:ext cx="850680" cy="6120"/>
              </a:xfrm>
              <a:custGeom>
                <a:avLst/>
                <a:gdLst/>
                <a:ahLst/>
                <a:rect l="l" t="t" r="r" b="b"/>
                <a:pathLst>
                  <a:path w="5015" h="34">
                    <a:moveTo>
                      <a:pt x="4998" y="34"/>
                    </a:moveTo>
                    <a:lnTo>
                      <a:pt x="25" y="34"/>
                    </a:lnTo>
                    <a:lnTo>
                      <a:pt x="25" y="34"/>
                    </a:lnTo>
                    <a:lnTo>
                      <a:pt x="0" y="0"/>
                    </a:lnTo>
                    <a:lnTo>
                      <a:pt x="5015" y="0"/>
                    </a:lnTo>
                    <a:lnTo>
                      <a:pt x="499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978840" y="1614600"/>
                <a:ext cx="855360" cy="6120"/>
              </a:xfrm>
              <a:custGeom>
                <a:avLst/>
                <a:gdLst/>
                <a:ahLst/>
                <a:rect l="l" t="t" r="r" b="b"/>
                <a:pathLst>
                  <a:path w="5040" h="34">
                    <a:moveTo>
                      <a:pt x="5023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040" y="0"/>
                    </a:lnTo>
                    <a:lnTo>
                      <a:pt x="502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977400" y="1611360"/>
                <a:ext cx="860040" cy="6480"/>
              </a:xfrm>
              <a:custGeom>
                <a:avLst/>
                <a:gdLst/>
                <a:ahLst/>
                <a:rect l="l" t="t" r="r" b="b"/>
                <a:pathLst>
                  <a:path w="5065" h="34">
                    <a:moveTo>
                      <a:pt x="5040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065" y="0"/>
                    </a:lnTo>
                    <a:lnTo>
                      <a:pt x="504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5960" y="1608120"/>
                <a:ext cx="862920" cy="6480"/>
              </a:xfrm>
              <a:custGeom>
                <a:avLst/>
                <a:gdLst/>
                <a:ahLst/>
                <a:rect l="l" t="t" r="r" b="b"/>
                <a:pathLst>
                  <a:path w="5091" h="34">
                    <a:moveTo>
                      <a:pt x="5065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091" y="0"/>
                    </a:lnTo>
                    <a:lnTo>
                      <a:pt x="506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74160" y="1604880"/>
                <a:ext cx="866520" cy="6480"/>
              </a:xfrm>
              <a:custGeom>
                <a:avLst/>
                <a:gdLst/>
                <a:ahLst/>
                <a:rect l="l" t="t" r="r" b="b"/>
                <a:pathLst>
                  <a:path w="5108" h="33">
                    <a:moveTo>
                      <a:pt x="5091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5108" y="0"/>
                    </a:lnTo>
                    <a:lnTo>
                      <a:pt x="5091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970920" y="1602000"/>
                <a:ext cx="871200" cy="6120"/>
              </a:xfrm>
              <a:custGeom>
                <a:avLst/>
                <a:gdLst/>
                <a:ahLst/>
                <a:rect l="l" t="t" r="r" b="b"/>
                <a:pathLst>
                  <a:path w="5134" h="33">
                    <a:moveTo>
                      <a:pt x="5117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5134" y="0"/>
                    </a:lnTo>
                    <a:lnTo>
                      <a:pt x="511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69480" y="1598760"/>
                <a:ext cx="872640" cy="6120"/>
              </a:xfrm>
              <a:custGeom>
                <a:avLst/>
                <a:gdLst/>
                <a:ahLst/>
                <a:rect l="l" t="t" r="r" b="b"/>
                <a:pathLst>
                  <a:path w="5150" h="34">
                    <a:moveTo>
                      <a:pt x="5133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150" y="0"/>
                    </a:lnTo>
                    <a:lnTo>
                      <a:pt x="513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966240" y="1595520"/>
                <a:ext cx="877680" cy="6480"/>
              </a:xfrm>
              <a:custGeom>
                <a:avLst/>
                <a:gdLst/>
                <a:ahLst/>
                <a:rect l="l" t="t" r="r" b="b"/>
                <a:pathLst>
                  <a:path w="5175" h="34">
                    <a:moveTo>
                      <a:pt x="5159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175" y="0"/>
                    </a:lnTo>
                    <a:lnTo>
                      <a:pt x="515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64800" y="1592280"/>
                <a:ext cx="882360" cy="6480"/>
              </a:xfrm>
              <a:custGeom>
                <a:avLst/>
                <a:gdLst/>
                <a:ahLst/>
                <a:rect l="l" t="t" r="r" b="b"/>
                <a:pathLst>
                  <a:path w="5200" h="34">
                    <a:moveTo>
                      <a:pt x="5175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200" y="0"/>
                    </a:lnTo>
                    <a:lnTo>
                      <a:pt x="517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963000" y="1589040"/>
                <a:ext cx="885600" cy="6480"/>
              </a:xfrm>
              <a:custGeom>
                <a:avLst/>
                <a:gdLst/>
                <a:ahLst/>
                <a:rect l="l" t="t" r="r" b="b"/>
                <a:pathLst>
                  <a:path w="5226" h="34">
                    <a:moveTo>
                      <a:pt x="5200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226" y="0"/>
                    </a:lnTo>
                    <a:lnTo>
                      <a:pt x="520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61560" y="1584360"/>
                <a:ext cx="888480" cy="7920"/>
              </a:xfrm>
              <a:custGeom>
                <a:avLst/>
                <a:gdLst/>
                <a:ahLst/>
                <a:rect l="l" t="t" r="r" b="b"/>
                <a:pathLst>
                  <a:path w="5243" h="42">
                    <a:moveTo>
                      <a:pt x="5226" y="42"/>
                    </a:moveTo>
                    <a:lnTo>
                      <a:pt x="26" y="42"/>
                    </a:lnTo>
                    <a:lnTo>
                      <a:pt x="0" y="0"/>
                    </a:lnTo>
                    <a:lnTo>
                      <a:pt x="5243" y="0"/>
                    </a:lnTo>
                    <a:lnTo>
                      <a:pt x="5243" y="8"/>
                    </a:lnTo>
                    <a:lnTo>
                      <a:pt x="5226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58320" y="1581120"/>
                <a:ext cx="893520" cy="7920"/>
              </a:xfrm>
              <a:custGeom>
                <a:avLst/>
                <a:gdLst/>
                <a:ahLst/>
                <a:rect l="l" t="t" r="r" b="b"/>
                <a:pathLst>
                  <a:path w="5269" h="42">
                    <a:moveTo>
                      <a:pt x="5252" y="42"/>
                    </a:moveTo>
                    <a:lnTo>
                      <a:pt x="26" y="42"/>
                    </a:lnTo>
                    <a:lnTo>
                      <a:pt x="0" y="0"/>
                    </a:lnTo>
                    <a:lnTo>
                      <a:pt x="5269" y="0"/>
                    </a:lnTo>
                    <a:lnTo>
                      <a:pt x="5260" y="25"/>
                    </a:lnTo>
                    <a:lnTo>
                      <a:pt x="5252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56880" y="1577880"/>
                <a:ext cx="896400" cy="6480"/>
              </a:xfrm>
              <a:custGeom>
                <a:avLst/>
                <a:gdLst/>
                <a:ahLst/>
                <a:rect l="l" t="t" r="r" b="b"/>
                <a:pathLst>
                  <a:path w="5285" h="34">
                    <a:moveTo>
                      <a:pt x="5268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285" y="0"/>
                    </a:lnTo>
                    <a:lnTo>
                      <a:pt x="526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53640" y="1575000"/>
                <a:ext cx="901440" cy="6120"/>
              </a:xfrm>
              <a:custGeom>
                <a:avLst/>
                <a:gdLst/>
                <a:ahLst/>
                <a:rect l="l" t="t" r="r" b="b"/>
                <a:pathLst>
                  <a:path w="5311" h="34">
                    <a:moveTo>
                      <a:pt x="529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311" y="0"/>
                    </a:lnTo>
                    <a:lnTo>
                      <a:pt x="529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51840" y="1571760"/>
                <a:ext cx="904680" cy="6120"/>
              </a:xfrm>
              <a:custGeom>
                <a:avLst/>
                <a:gdLst/>
                <a:ahLst/>
                <a:rect l="l" t="t" r="r" b="b"/>
                <a:pathLst>
                  <a:path w="5335" h="34">
                    <a:moveTo>
                      <a:pt x="5310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335" y="0"/>
                    </a:lnTo>
                    <a:lnTo>
                      <a:pt x="531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948960" y="1568520"/>
                <a:ext cx="909000" cy="6480"/>
              </a:xfrm>
              <a:custGeom>
                <a:avLst/>
                <a:gdLst/>
                <a:ahLst/>
                <a:rect l="l" t="t" r="r" b="b"/>
                <a:pathLst>
                  <a:path w="5361" h="34">
                    <a:moveTo>
                      <a:pt x="5336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361" y="0"/>
                    </a:lnTo>
                    <a:lnTo>
                      <a:pt x="533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47160" y="1565280"/>
                <a:ext cx="912600" cy="6480"/>
              </a:xfrm>
              <a:custGeom>
                <a:avLst/>
                <a:gdLst/>
                <a:ahLst/>
                <a:rect l="l" t="t" r="r" b="b"/>
                <a:pathLst>
                  <a:path w="5378" h="34">
                    <a:moveTo>
                      <a:pt x="5361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5378" y="0"/>
                    </a:lnTo>
                    <a:lnTo>
                      <a:pt x="536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45720" y="1563840"/>
                <a:ext cx="915480" cy="4680"/>
              </a:xfrm>
              <a:custGeom>
                <a:avLst/>
                <a:gdLst/>
                <a:ahLst/>
                <a:rect l="l" t="t" r="r" b="b"/>
                <a:pathLst>
                  <a:path w="5404" h="33">
                    <a:moveTo>
                      <a:pt x="5387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5404" y="0"/>
                    </a:lnTo>
                    <a:lnTo>
                      <a:pt x="538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42480" y="1560600"/>
                <a:ext cx="920520" cy="4680"/>
              </a:xfrm>
              <a:custGeom>
                <a:avLst/>
                <a:gdLst/>
                <a:ahLst/>
                <a:rect l="l" t="t" r="r" b="b"/>
                <a:pathLst>
                  <a:path w="5428" h="33">
                    <a:moveTo>
                      <a:pt x="5411" y="33"/>
                    </a:moveTo>
                    <a:lnTo>
                      <a:pt x="33" y="33"/>
                    </a:lnTo>
                    <a:lnTo>
                      <a:pt x="0" y="0"/>
                    </a:lnTo>
                    <a:lnTo>
                      <a:pt x="5428" y="0"/>
                    </a:lnTo>
                    <a:lnTo>
                      <a:pt x="5411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941040" y="1557360"/>
                <a:ext cx="923400" cy="6480"/>
              </a:xfrm>
              <a:custGeom>
                <a:avLst/>
                <a:gdLst/>
                <a:ahLst/>
                <a:rect l="l" t="t" r="r" b="b"/>
                <a:pathLst>
                  <a:path w="5446" h="34">
                    <a:moveTo>
                      <a:pt x="5429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446" y="0"/>
                    </a:lnTo>
                    <a:lnTo>
                      <a:pt x="542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39240" y="1554120"/>
                <a:ext cx="926640" cy="6480"/>
              </a:xfrm>
              <a:custGeom>
                <a:avLst/>
                <a:gdLst/>
                <a:ahLst/>
                <a:rect l="l" t="t" r="r" b="b"/>
                <a:pathLst>
                  <a:path w="5462" h="34">
                    <a:moveTo>
                      <a:pt x="5445" y="34"/>
                    </a:moveTo>
                    <a:lnTo>
                      <a:pt x="17" y="34"/>
                    </a:lnTo>
                    <a:lnTo>
                      <a:pt x="0" y="0"/>
                    </a:lnTo>
                    <a:lnTo>
                      <a:pt x="5462" y="0"/>
                    </a:lnTo>
                    <a:lnTo>
                      <a:pt x="5462" y="0"/>
                    </a:lnTo>
                    <a:lnTo>
                      <a:pt x="544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36000" y="1550880"/>
                <a:ext cx="931680" cy="6480"/>
              </a:xfrm>
              <a:custGeom>
                <a:avLst/>
                <a:gdLst/>
                <a:ahLst/>
                <a:rect l="l" t="t" r="r" b="b"/>
                <a:pathLst>
                  <a:path w="5487" h="34">
                    <a:moveTo>
                      <a:pt x="5471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487" y="0"/>
                    </a:lnTo>
                    <a:lnTo>
                      <a:pt x="5479" y="17"/>
                    </a:lnTo>
                    <a:lnTo>
                      <a:pt x="547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934560" y="1548000"/>
                <a:ext cx="934560" cy="6120"/>
              </a:xfrm>
              <a:custGeom>
                <a:avLst/>
                <a:gdLst/>
                <a:ahLst/>
                <a:rect l="l" t="t" r="r" b="b"/>
                <a:pathLst>
                  <a:path w="5505" h="34">
                    <a:moveTo>
                      <a:pt x="5488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5505" y="0"/>
                    </a:lnTo>
                    <a:lnTo>
                      <a:pt x="548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933120" y="1542960"/>
                <a:ext cx="937800" cy="7920"/>
              </a:xfrm>
              <a:custGeom>
                <a:avLst/>
                <a:gdLst/>
                <a:ahLst/>
                <a:rect l="l" t="t" r="r" b="b"/>
                <a:pathLst>
                  <a:path w="5530" h="42">
                    <a:moveTo>
                      <a:pt x="5513" y="42"/>
                    </a:moveTo>
                    <a:lnTo>
                      <a:pt x="26" y="42"/>
                    </a:lnTo>
                    <a:lnTo>
                      <a:pt x="0" y="0"/>
                    </a:lnTo>
                    <a:lnTo>
                      <a:pt x="5530" y="0"/>
                    </a:lnTo>
                    <a:lnTo>
                      <a:pt x="5513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31320" y="1540080"/>
                <a:ext cx="939600" cy="7920"/>
              </a:xfrm>
              <a:custGeom>
                <a:avLst/>
                <a:gdLst/>
                <a:ahLst/>
                <a:rect l="l" t="t" r="r" b="b"/>
                <a:pathLst>
                  <a:path w="5547" h="42">
                    <a:moveTo>
                      <a:pt x="5530" y="42"/>
                    </a:moveTo>
                    <a:lnTo>
                      <a:pt x="25" y="42"/>
                    </a:lnTo>
                    <a:lnTo>
                      <a:pt x="0" y="0"/>
                    </a:lnTo>
                    <a:lnTo>
                      <a:pt x="5547" y="0"/>
                    </a:lnTo>
                    <a:lnTo>
                      <a:pt x="5530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28080" y="1536840"/>
                <a:ext cx="944280" cy="6120"/>
              </a:xfrm>
              <a:custGeom>
                <a:avLst/>
                <a:gdLst/>
                <a:ahLst/>
                <a:rect l="l" t="t" r="r" b="b"/>
                <a:pathLst>
                  <a:path w="5572" h="34">
                    <a:moveTo>
                      <a:pt x="5555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572" y="0"/>
                    </a:lnTo>
                    <a:lnTo>
                      <a:pt x="555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926640" y="1533600"/>
                <a:ext cx="947520" cy="6480"/>
              </a:xfrm>
              <a:custGeom>
                <a:avLst/>
                <a:gdLst/>
                <a:ahLst/>
                <a:rect l="l" t="t" r="r" b="b"/>
                <a:pathLst>
                  <a:path w="5589" h="34">
                    <a:moveTo>
                      <a:pt x="5572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589" y="0"/>
                    </a:lnTo>
                    <a:lnTo>
                      <a:pt x="557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23400" y="1530360"/>
                <a:ext cx="952200" cy="6480"/>
              </a:xfrm>
              <a:custGeom>
                <a:avLst/>
                <a:gdLst/>
                <a:ahLst/>
                <a:rect l="l" t="t" r="r" b="b"/>
                <a:pathLst>
                  <a:path w="5614" h="34">
                    <a:moveTo>
                      <a:pt x="5597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614" y="0"/>
                    </a:lnTo>
                    <a:lnTo>
                      <a:pt x="559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20160" y="1527120"/>
                <a:ext cx="956880" cy="6480"/>
              </a:xfrm>
              <a:custGeom>
                <a:avLst/>
                <a:gdLst/>
                <a:ahLst/>
                <a:rect l="l" t="t" r="r" b="b"/>
                <a:pathLst>
                  <a:path w="5640" h="34">
                    <a:moveTo>
                      <a:pt x="5623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5640" y="0"/>
                    </a:lnTo>
                    <a:lnTo>
                      <a:pt x="562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20160" y="1523880"/>
                <a:ext cx="958680" cy="6480"/>
              </a:xfrm>
              <a:custGeom>
                <a:avLst/>
                <a:gdLst/>
                <a:ahLst/>
                <a:rect l="l" t="t" r="r" b="b"/>
                <a:pathLst>
                  <a:path w="5656" h="33">
                    <a:moveTo>
                      <a:pt x="5639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5656" y="0"/>
                    </a:lnTo>
                    <a:lnTo>
                      <a:pt x="5639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16920" y="1521000"/>
                <a:ext cx="963360" cy="6120"/>
              </a:xfrm>
              <a:custGeom>
                <a:avLst/>
                <a:gdLst/>
                <a:ahLst/>
                <a:rect l="l" t="t" r="r" b="b"/>
                <a:pathLst>
                  <a:path w="5681" h="33">
                    <a:moveTo>
                      <a:pt x="5665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5681" y="0"/>
                    </a:lnTo>
                    <a:lnTo>
                      <a:pt x="566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15480" y="1517760"/>
                <a:ext cx="966600" cy="6120"/>
              </a:xfrm>
              <a:custGeom>
                <a:avLst/>
                <a:gdLst/>
                <a:ahLst/>
                <a:rect l="l" t="t" r="r" b="b"/>
                <a:pathLst>
                  <a:path w="5699" h="34">
                    <a:moveTo>
                      <a:pt x="5682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5699" y="0"/>
                    </a:lnTo>
                    <a:lnTo>
                      <a:pt x="568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14040" y="1515960"/>
                <a:ext cx="969480" cy="5040"/>
              </a:xfrm>
              <a:custGeom>
                <a:avLst/>
                <a:gdLst/>
                <a:ahLst/>
                <a:rect l="l" t="t" r="r" b="b"/>
                <a:pathLst>
                  <a:path w="5715" h="34">
                    <a:moveTo>
                      <a:pt x="5698" y="34"/>
                    </a:moveTo>
                    <a:lnTo>
                      <a:pt x="17" y="34"/>
                    </a:lnTo>
                    <a:lnTo>
                      <a:pt x="0" y="0"/>
                    </a:lnTo>
                    <a:lnTo>
                      <a:pt x="5715" y="0"/>
                    </a:lnTo>
                    <a:lnTo>
                      <a:pt x="569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910800" y="1513080"/>
                <a:ext cx="974160" cy="4680"/>
              </a:xfrm>
              <a:custGeom>
                <a:avLst/>
                <a:gdLst/>
                <a:ahLst/>
                <a:rect l="l" t="t" r="r" b="b"/>
                <a:pathLst>
                  <a:path w="5741" h="34">
                    <a:moveTo>
                      <a:pt x="572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741" y="0"/>
                    </a:lnTo>
                    <a:lnTo>
                      <a:pt x="572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9000" y="1509840"/>
                <a:ext cx="975960" cy="6120"/>
              </a:xfrm>
              <a:custGeom>
                <a:avLst/>
                <a:gdLst/>
                <a:ahLst/>
                <a:rect l="l" t="t" r="r" b="b"/>
                <a:pathLst>
                  <a:path w="5758" h="34">
                    <a:moveTo>
                      <a:pt x="5741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5758" y="0"/>
                    </a:lnTo>
                    <a:lnTo>
                      <a:pt x="574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906120" y="1505160"/>
                <a:ext cx="978840" cy="7920"/>
              </a:xfrm>
              <a:custGeom>
                <a:avLst/>
                <a:gdLst/>
                <a:ahLst/>
                <a:rect l="l" t="t" r="r" b="b"/>
                <a:pathLst>
                  <a:path w="5774" h="42">
                    <a:moveTo>
                      <a:pt x="5766" y="42"/>
                    </a:moveTo>
                    <a:lnTo>
                      <a:pt x="25" y="42"/>
                    </a:lnTo>
                    <a:lnTo>
                      <a:pt x="0" y="0"/>
                    </a:lnTo>
                    <a:lnTo>
                      <a:pt x="5774" y="0"/>
                    </a:lnTo>
                    <a:lnTo>
                      <a:pt x="5766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904320" y="1503360"/>
                <a:ext cx="983880" cy="6480"/>
              </a:xfrm>
              <a:custGeom>
                <a:avLst/>
                <a:gdLst/>
                <a:ahLst/>
                <a:rect l="l" t="t" r="r" b="b"/>
                <a:pathLst>
                  <a:path w="5808" h="34">
                    <a:moveTo>
                      <a:pt x="5791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5808" y="0"/>
                    </a:lnTo>
                    <a:lnTo>
                      <a:pt x="579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2880" y="1498680"/>
                <a:ext cx="985320" cy="6480"/>
              </a:xfrm>
              <a:custGeom>
                <a:avLst/>
                <a:gdLst/>
                <a:ahLst/>
                <a:rect l="l" t="t" r="r" b="b"/>
                <a:pathLst>
                  <a:path w="5817" h="34">
                    <a:moveTo>
                      <a:pt x="5800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5817" y="0"/>
                    </a:lnTo>
                    <a:lnTo>
                      <a:pt x="580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640" y="1495440"/>
                <a:ext cx="990360" cy="7920"/>
              </a:xfrm>
              <a:custGeom>
                <a:avLst/>
                <a:gdLst/>
                <a:ahLst/>
                <a:rect l="l" t="t" r="r" b="b"/>
                <a:pathLst>
                  <a:path w="5843" h="42">
                    <a:moveTo>
                      <a:pt x="5834" y="42"/>
                    </a:moveTo>
                    <a:lnTo>
                      <a:pt x="26" y="42"/>
                    </a:lnTo>
                    <a:lnTo>
                      <a:pt x="0" y="0"/>
                    </a:lnTo>
                    <a:lnTo>
                      <a:pt x="5843" y="0"/>
                    </a:lnTo>
                    <a:lnTo>
                      <a:pt x="5834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98200" y="1492200"/>
                <a:ext cx="993240" cy="6480"/>
              </a:xfrm>
              <a:custGeom>
                <a:avLst/>
                <a:gdLst/>
                <a:ahLst/>
                <a:rect l="l" t="t" r="r" b="b"/>
                <a:pathLst>
                  <a:path w="5859" h="34">
                    <a:moveTo>
                      <a:pt x="5842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859" y="0"/>
                    </a:lnTo>
                    <a:lnTo>
                      <a:pt x="584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94960" y="1488960"/>
                <a:ext cx="997920" cy="6480"/>
              </a:xfrm>
              <a:custGeom>
                <a:avLst/>
                <a:gdLst/>
                <a:ahLst/>
                <a:rect l="l" t="t" r="r" b="b"/>
                <a:pathLst>
                  <a:path w="5884" h="34">
                    <a:moveTo>
                      <a:pt x="5868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884" y="0"/>
                    </a:lnTo>
                    <a:lnTo>
                      <a:pt x="586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93160" y="1486080"/>
                <a:ext cx="1001520" cy="6120"/>
              </a:xfrm>
              <a:custGeom>
                <a:avLst/>
                <a:gdLst/>
                <a:ahLst/>
                <a:rect l="l" t="t" r="r" b="b"/>
                <a:pathLst>
                  <a:path w="5901" h="34">
                    <a:moveTo>
                      <a:pt x="588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5901" y="0"/>
                    </a:lnTo>
                    <a:lnTo>
                      <a:pt x="588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89920" y="1482840"/>
                <a:ext cx="1006200" cy="6120"/>
              </a:xfrm>
              <a:custGeom>
                <a:avLst/>
                <a:gdLst/>
                <a:ahLst/>
                <a:rect l="l" t="t" r="r" b="b"/>
                <a:pathLst>
                  <a:path w="5926" h="33">
                    <a:moveTo>
                      <a:pt x="5909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5926" y="0"/>
                    </a:lnTo>
                    <a:lnTo>
                      <a:pt x="5909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88480" y="1479600"/>
                <a:ext cx="1009440" cy="6480"/>
              </a:xfrm>
              <a:custGeom>
                <a:avLst/>
                <a:gdLst/>
                <a:ahLst/>
                <a:rect l="l" t="t" r="r" b="b"/>
                <a:pathLst>
                  <a:path w="5944" h="33">
                    <a:moveTo>
                      <a:pt x="5927" y="33"/>
                    </a:moveTo>
                    <a:lnTo>
                      <a:pt x="26" y="33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5944" y="0"/>
                    </a:lnTo>
                    <a:lnTo>
                      <a:pt x="592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87040" y="1476360"/>
                <a:ext cx="1012320" cy="6480"/>
              </a:xfrm>
              <a:custGeom>
                <a:avLst/>
                <a:gdLst/>
                <a:ahLst/>
                <a:rect l="l" t="t" r="r" b="b"/>
                <a:pathLst>
                  <a:path w="5969" h="34">
                    <a:moveTo>
                      <a:pt x="5952" y="34"/>
                    </a:moveTo>
                    <a:lnTo>
                      <a:pt x="26" y="34"/>
                    </a:lnTo>
                    <a:lnTo>
                      <a:pt x="26" y="25"/>
                    </a:lnTo>
                    <a:lnTo>
                      <a:pt x="0" y="0"/>
                    </a:lnTo>
                    <a:lnTo>
                      <a:pt x="5969" y="0"/>
                    </a:lnTo>
                    <a:lnTo>
                      <a:pt x="595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3800" y="1473120"/>
                <a:ext cx="1017000" cy="6480"/>
              </a:xfrm>
              <a:custGeom>
                <a:avLst/>
                <a:gdLst/>
                <a:ahLst/>
                <a:rect l="l" t="t" r="r" b="b"/>
                <a:pathLst>
                  <a:path w="5995" h="34">
                    <a:moveTo>
                      <a:pt x="5978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5995" y="0"/>
                    </a:lnTo>
                    <a:lnTo>
                      <a:pt x="597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2000" y="1470240"/>
                <a:ext cx="1018800" cy="6120"/>
              </a:xfrm>
              <a:custGeom>
                <a:avLst/>
                <a:gdLst/>
                <a:ahLst/>
                <a:rect l="l" t="t" r="r" b="b"/>
                <a:pathLst>
                  <a:path w="6011" h="34">
                    <a:moveTo>
                      <a:pt x="599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011" y="0"/>
                    </a:lnTo>
                    <a:lnTo>
                      <a:pt x="6003" y="8"/>
                    </a:lnTo>
                    <a:lnTo>
                      <a:pt x="599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79120" y="1467000"/>
                <a:ext cx="1023480" cy="6120"/>
              </a:xfrm>
              <a:custGeom>
                <a:avLst/>
                <a:gdLst/>
                <a:ahLst/>
                <a:rect l="l" t="t" r="r" b="b"/>
                <a:pathLst>
                  <a:path w="6037" h="34">
                    <a:moveTo>
                      <a:pt x="6020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037" y="0"/>
                    </a:lnTo>
                    <a:lnTo>
                      <a:pt x="6020" y="25"/>
                    </a:lnTo>
                    <a:lnTo>
                      <a:pt x="602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7320" y="1463760"/>
                <a:ext cx="1026720" cy="6480"/>
              </a:xfrm>
              <a:custGeom>
                <a:avLst/>
                <a:gdLst/>
                <a:ahLst/>
                <a:rect l="l" t="t" r="r" b="b"/>
                <a:pathLst>
                  <a:path w="6053" h="34">
                    <a:moveTo>
                      <a:pt x="6036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053" y="0"/>
                    </a:lnTo>
                    <a:lnTo>
                      <a:pt x="603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75880" y="1460520"/>
                <a:ext cx="1029960" cy="6480"/>
              </a:xfrm>
              <a:custGeom>
                <a:avLst/>
                <a:gdLst/>
                <a:ahLst/>
                <a:rect l="l" t="t" r="r" b="b"/>
                <a:pathLst>
                  <a:path w="6078" h="42">
                    <a:moveTo>
                      <a:pt x="6062" y="42"/>
                    </a:moveTo>
                    <a:lnTo>
                      <a:pt x="25" y="42"/>
                    </a:lnTo>
                    <a:lnTo>
                      <a:pt x="0" y="0"/>
                    </a:lnTo>
                    <a:lnTo>
                      <a:pt x="6078" y="0"/>
                    </a:lnTo>
                    <a:lnTo>
                      <a:pt x="6062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2640" y="1457280"/>
                <a:ext cx="1034640" cy="6480"/>
              </a:xfrm>
              <a:custGeom>
                <a:avLst/>
                <a:gdLst/>
                <a:ahLst/>
                <a:rect l="l" t="t" r="r" b="b"/>
                <a:pathLst>
                  <a:path w="6104" h="34">
                    <a:moveTo>
                      <a:pt x="6087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104" y="0"/>
                    </a:lnTo>
                    <a:lnTo>
                      <a:pt x="608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69400" y="1454040"/>
                <a:ext cx="1039680" cy="6480"/>
              </a:xfrm>
              <a:custGeom>
                <a:avLst/>
                <a:gdLst/>
                <a:ahLst/>
                <a:rect l="l" t="t" r="r" b="b"/>
                <a:pathLst>
                  <a:path w="6129" h="34">
                    <a:moveTo>
                      <a:pt x="6112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129" y="0"/>
                    </a:lnTo>
                    <a:lnTo>
                      <a:pt x="611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67960" y="1452600"/>
                <a:ext cx="1042560" cy="4680"/>
              </a:xfrm>
              <a:custGeom>
                <a:avLst/>
                <a:gdLst/>
                <a:ahLst/>
                <a:rect l="l" t="t" r="r" b="b"/>
                <a:pathLst>
                  <a:path w="6146" h="33">
                    <a:moveTo>
                      <a:pt x="6129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6146" y="0"/>
                    </a:lnTo>
                    <a:lnTo>
                      <a:pt x="6129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64720" y="1447920"/>
                <a:ext cx="1047240" cy="6120"/>
              </a:xfrm>
              <a:custGeom>
                <a:avLst/>
                <a:gdLst/>
                <a:ahLst/>
                <a:rect l="l" t="t" r="r" b="b"/>
                <a:pathLst>
                  <a:path w="6171" h="34">
                    <a:moveTo>
                      <a:pt x="615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171" y="0"/>
                    </a:lnTo>
                    <a:lnTo>
                      <a:pt x="615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63280" y="1444680"/>
                <a:ext cx="1050480" cy="7920"/>
              </a:xfrm>
              <a:custGeom>
                <a:avLst/>
                <a:gdLst/>
                <a:ahLst/>
                <a:rect l="l" t="t" r="r" b="b"/>
                <a:pathLst>
                  <a:path w="6189" h="42">
                    <a:moveTo>
                      <a:pt x="6172" y="42"/>
                    </a:moveTo>
                    <a:lnTo>
                      <a:pt x="26" y="42"/>
                    </a:lnTo>
                    <a:lnTo>
                      <a:pt x="0" y="0"/>
                    </a:lnTo>
                    <a:lnTo>
                      <a:pt x="6189" y="0"/>
                    </a:lnTo>
                    <a:lnTo>
                      <a:pt x="6172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60040" y="1441440"/>
                <a:ext cx="1055160" cy="6480"/>
              </a:xfrm>
              <a:custGeom>
                <a:avLst/>
                <a:gdLst/>
                <a:ahLst/>
                <a:rect l="l" t="t" r="r" b="b"/>
                <a:pathLst>
                  <a:path w="6214" h="33">
                    <a:moveTo>
                      <a:pt x="6197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6214" y="0"/>
                    </a:lnTo>
                    <a:lnTo>
                      <a:pt x="619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8240" y="1438200"/>
                <a:ext cx="1056960" cy="6480"/>
              </a:xfrm>
              <a:custGeom>
                <a:avLst/>
                <a:gdLst/>
                <a:ahLst/>
                <a:rect l="l" t="t" r="r" b="b"/>
                <a:pathLst>
                  <a:path w="6240" h="34">
                    <a:moveTo>
                      <a:pt x="6223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240" y="0"/>
                    </a:lnTo>
                    <a:lnTo>
                      <a:pt x="622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56800" y="1435320"/>
                <a:ext cx="1058400" cy="6120"/>
              </a:xfrm>
              <a:custGeom>
                <a:avLst/>
                <a:gdLst/>
                <a:ahLst/>
                <a:rect l="l" t="t" r="r" b="b"/>
                <a:pathLst>
                  <a:path w="6248" h="34">
                    <a:moveTo>
                      <a:pt x="6239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248" y="0"/>
                    </a:lnTo>
                    <a:lnTo>
                      <a:pt x="623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53560" y="1432080"/>
                <a:ext cx="1063440" cy="6120"/>
              </a:xfrm>
              <a:custGeom>
                <a:avLst/>
                <a:gdLst/>
                <a:ahLst/>
                <a:rect l="l" t="t" r="r" b="b"/>
                <a:pathLst>
                  <a:path w="6273" h="34">
                    <a:moveTo>
                      <a:pt x="6265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273" y="0"/>
                    </a:lnTo>
                    <a:lnTo>
                      <a:pt x="626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50320" y="1428840"/>
                <a:ext cx="1068120" cy="6480"/>
              </a:xfrm>
              <a:custGeom>
                <a:avLst/>
                <a:gdLst/>
                <a:ahLst/>
                <a:rect l="l" t="t" r="r" b="b"/>
                <a:pathLst>
                  <a:path w="6298" h="34">
                    <a:moveTo>
                      <a:pt x="6282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298" y="0"/>
                    </a:lnTo>
                    <a:lnTo>
                      <a:pt x="628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48880" y="1425600"/>
                <a:ext cx="1071000" cy="6480"/>
              </a:xfrm>
              <a:custGeom>
                <a:avLst/>
                <a:gdLst/>
                <a:ahLst/>
                <a:rect l="l" t="t" r="r" b="b"/>
                <a:pathLst>
                  <a:path w="6315" h="34">
                    <a:moveTo>
                      <a:pt x="6298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315" y="0"/>
                    </a:lnTo>
                    <a:lnTo>
                      <a:pt x="629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45640" y="1422360"/>
                <a:ext cx="1076040" cy="6480"/>
              </a:xfrm>
              <a:custGeom>
                <a:avLst/>
                <a:gdLst/>
                <a:ahLst/>
                <a:rect l="l" t="t" r="r" b="b"/>
                <a:pathLst>
                  <a:path w="6340" h="34">
                    <a:moveTo>
                      <a:pt x="6323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340" y="0"/>
                    </a:lnTo>
                    <a:lnTo>
                      <a:pt x="632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44200" y="1419120"/>
                <a:ext cx="1078920" cy="6480"/>
              </a:xfrm>
              <a:custGeom>
                <a:avLst/>
                <a:gdLst/>
                <a:ahLst/>
                <a:rect l="l" t="t" r="r" b="b"/>
                <a:pathLst>
                  <a:path w="6366" h="34">
                    <a:moveTo>
                      <a:pt x="6349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366" y="0"/>
                    </a:lnTo>
                    <a:lnTo>
                      <a:pt x="634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2400" y="1416240"/>
                <a:ext cx="1082520" cy="6120"/>
              </a:xfrm>
              <a:custGeom>
                <a:avLst/>
                <a:gdLst/>
                <a:ahLst/>
                <a:rect l="l" t="t" r="r" b="b"/>
                <a:pathLst>
                  <a:path w="6382" h="33">
                    <a:moveTo>
                      <a:pt x="6365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6382" y="0"/>
                    </a:lnTo>
                    <a:lnTo>
                      <a:pt x="6382" y="0"/>
                    </a:lnTo>
                    <a:lnTo>
                      <a:pt x="636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39160" y="1413000"/>
                <a:ext cx="1087200" cy="6120"/>
              </a:xfrm>
              <a:custGeom>
                <a:avLst/>
                <a:gdLst/>
                <a:ahLst/>
                <a:rect l="l" t="t" r="r" b="b"/>
                <a:pathLst>
                  <a:path w="6408" h="33">
                    <a:moveTo>
                      <a:pt x="6391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6408" y="0"/>
                    </a:lnTo>
                    <a:lnTo>
                      <a:pt x="6399" y="17"/>
                    </a:lnTo>
                    <a:lnTo>
                      <a:pt x="6391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37720" y="1408320"/>
                <a:ext cx="1090080" cy="7920"/>
              </a:xfrm>
              <a:custGeom>
                <a:avLst/>
                <a:gdLst/>
                <a:ahLst/>
                <a:rect l="l" t="t" r="r" b="b"/>
                <a:pathLst>
                  <a:path w="6425" h="43">
                    <a:moveTo>
                      <a:pt x="6408" y="43"/>
                    </a:moveTo>
                    <a:lnTo>
                      <a:pt x="26" y="43"/>
                    </a:lnTo>
                    <a:lnTo>
                      <a:pt x="0" y="0"/>
                    </a:lnTo>
                    <a:lnTo>
                      <a:pt x="6425" y="0"/>
                    </a:lnTo>
                    <a:lnTo>
                      <a:pt x="6408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34480" y="1406520"/>
                <a:ext cx="1095120" cy="6480"/>
              </a:xfrm>
              <a:custGeom>
                <a:avLst/>
                <a:gdLst/>
                <a:ahLst/>
                <a:rect l="l" t="t" r="r" b="b"/>
                <a:pathLst>
                  <a:path w="6459" h="34">
                    <a:moveTo>
                      <a:pt x="6434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6459" y="0"/>
                    </a:lnTo>
                    <a:lnTo>
                      <a:pt x="643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1240" y="1403280"/>
                <a:ext cx="1099800" cy="5040"/>
              </a:xfrm>
              <a:custGeom>
                <a:avLst/>
                <a:gdLst/>
                <a:ahLst/>
                <a:rect l="l" t="t" r="r" b="b"/>
                <a:pathLst>
                  <a:path w="6483" h="33">
                    <a:moveTo>
                      <a:pt x="6458" y="33"/>
                    </a:moveTo>
                    <a:lnTo>
                      <a:pt x="33" y="33"/>
                    </a:lnTo>
                    <a:lnTo>
                      <a:pt x="0" y="0"/>
                    </a:lnTo>
                    <a:lnTo>
                      <a:pt x="6483" y="0"/>
                    </a:lnTo>
                    <a:lnTo>
                      <a:pt x="6458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31240" y="1400040"/>
                <a:ext cx="1101600" cy="6480"/>
              </a:xfrm>
              <a:custGeom>
                <a:avLst/>
                <a:gdLst/>
                <a:ahLst/>
                <a:rect l="l" t="t" r="r" b="b"/>
                <a:pathLst>
                  <a:path w="6501" h="42">
                    <a:moveTo>
                      <a:pt x="6484" y="42"/>
                    </a:moveTo>
                    <a:lnTo>
                      <a:pt x="25" y="42"/>
                    </a:lnTo>
                    <a:lnTo>
                      <a:pt x="0" y="0"/>
                    </a:lnTo>
                    <a:lnTo>
                      <a:pt x="6501" y="0"/>
                    </a:lnTo>
                    <a:lnTo>
                      <a:pt x="6484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28000" y="1397160"/>
                <a:ext cx="1106280" cy="6120"/>
              </a:xfrm>
              <a:custGeom>
                <a:avLst/>
                <a:gdLst/>
                <a:ahLst/>
                <a:rect l="l" t="t" r="r" b="b"/>
                <a:pathLst>
                  <a:path w="6526" h="34">
                    <a:moveTo>
                      <a:pt x="6509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6526" y="0"/>
                    </a:lnTo>
                    <a:lnTo>
                      <a:pt x="650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25120" y="1393920"/>
                <a:ext cx="1110600" cy="6120"/>
              </a:xfrm>
              <a:custGeom>
                <a:avLst/>
                <a:gdLst/>
                <a:ahLst/>
                <a:rect l="l" t="t" r="r" b="b"/>
                <a:pathLst>
                  <a:path w="6552" h="34">
                    <a:moveTo>
                      <a:pt x="6535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552" y="0"/>
                    </a:lnTo>
                    <a:lnTo>
                      <a:pt x="653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23320" y="1390680"/>
                <a:ext cx="1114200" cy="6480"/>
              </a:xfrm>
              <a:custGeom>
                <a:avLst/>
                <a:gdLst/>
                <a:ahLst/>
                <a:rect l="l" t="t" r="r" b="b"/>
                <a:pathLst>
                  <a:path w="6568" h="34">
                    <a:moveTo>
                      <a:pt x="6551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568" y="0"/>
                    </a:lnTo>
                    <a:lnTo>
                      <a:pt x="655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20080" y="1387440"/>
                <a:ext cx="1120680" cy="6480"/>
              </a:xfrm>
              <a:custGeom>
                <a:avLst/>
                <a:gdLst/>
                <a:ahLst/>
                <a:rect l="l" t="t" r="r" b="b"/>
                <a:pathLst>
                  <a:path w="6602" h="34">
                    <a:moveTo>
                      <a:pt x="6577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602" y="0"/>
                    </a:lnTo>
                    <a:lnTo>
                      <a:pt x="657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17200" y="1384200"/>
                <a:ext cx="1125000" cy="6480"/>
              </a:xfrm>
              <a:custGeom>
                <a:avLst/>
                <a:gdLst/>
                <a:ahLst/>
                <a:rect l="l" t="t" r="r" b="b"/>
                <a:pathLst>
                  <a:path w="6628" h="34">
                    <a:moveTo>
                      <a:pt x="6602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628" y="0"/>
                    </a:lnTo>
                    <a:lnTo>
                      <a:pt x="660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17200" y="1381320"/>
                <a:ext cx="1126800" cy="6120"/>
              </a:xfrm>
              <a:custGeom>
                <a:avLst/>
                <a:gdLst/>
                <a:ahLst/>
                <a:rect l="l" t="t" r="r" b="b"/>
                <a:pathLst>
                  <a:path w="6644" h="34">
                    <a:moveTo>
                      <a:pt x="6627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644" y="0"/>
                    </a:lnTo>
                    <a:lnTo>
                      <a:pt x="662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813960" y="1378080"/>
                <a:ext cx="1130040" cy="6120"/>
              </a:xfrm>
              <a:custGeom>
                <a:avLst/>
                <a:gdLst/>
                <a:ahLst/>
                <a:rect l="l" t="t" r="r" b="b"/>
                <a:pathLst>
                  <a:path w="6669" h="34">
                    <a:moveTo>
                      <a:pt x="6653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669" y="0"/>
                    </a:lnTo>
                    <a:lnTo>
                      <a:pt x="665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10720" y="1374840"/>
                <a:ext cx="1134720" cy="6480"/>
              </a:xfrm>
              <a:custGeom>
                <a:avLst/>
                <a:gdLst/>
                <a:ahLst/>
                <a:rect l="l" t="t" r="r" b="b"/>
                <a:pathLst>
                  <a:path w="6695" h="33">
                    <a:moveTo>
                      <a:pt x="6678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6695" y="0"/>
                    </a:lnTo>
                    <a:lnTo>
                      <a:pt x="6678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09280" y="1371600"/>
                <a:ext cx="1137600" cy="6480"/>
              </a:xfrm>
              <a:custGeom>
                <a:avLst/>
                <a:gdLst/>
                <a:ahLst/>
                <a:rect l="l" t="t" r="r" b="b"/>
                <a:pathLst>
                  <a:path w="6712" h="33">
                    <a:moveTo>
                      <a:pt x="6695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6712" y="0"/>
                    </a:lnTo>
                    <a:lnTo>
                      <a:pt x="669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6040" y="1366920"/>
                <a:ext cx="1142640" cy="7920"/>
              </a:xfrm>
              <a:custGeom>
                <a:avLst/>
                <a:gdLst/>
                <a:ahLst/>
                <a:rect l="l" t="t" r="r" b="b"/>
                <a:pathLst>
                  <a:path w="6737" h="43">
                    <a:moveTo>
                      <a:pt x="6720" y="43"/>
                    </a:moveTo>
                    <a:lnTo>
                      <a:pt x="25" y="43"/>
                    </a:lnTo>
                    <a:lnTo>
                      <a:pt x="0" y="0"/>
                    </a:lnTo>
                    <a:lnTo>
                      <a:pt x="6737" y="0"/>
                    </a:lnTo>
                    <a:lnTo>
                      <a:pt x="6737" y="9"/>
                    </a:lnTo>
                    <a:lnTo>
                      <a:pt x="6720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04240" y="1363680"/>
                <a:ext cx="1147680" cy="7920"/>
              </a:xfrm>
              <a:custGeom>
                <a:avLst/>
                <a:gdLst/>
                <a:ahLst/>
                <a:rect l="l" t="t" r="r" b="b"/>
                <a:pathLst>
                  <a:path w="6763" h="42">
                    <a:moveTo>
                      <a:pt x="6737" y="42"/>
                    </a:moveTo>
                    <a:lnTo>
                      <a:pt x="25" y="42"/>
                    </a:lnTo>
                    <a:lnTo>
                      <a:pt x="0" y="0"/>
                    </a:lnTo>
                    <a:lnTo>
                      <a:pt x="6763" y="0"/>
                    </a:lnTo>
                    <a:lnTo>
                      <a:pt x="6746" y="25"/>
                    </a:lnTo>
                    <a:lnTo>
                      <a:pt x="6737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01360" y="1360440"/>
                <a:ext cx="1152000" cy="6480"/>
              </a:xfrm>
              <a:custGeom>
                <a:avLst/>
                <a:gdLst/>
                <a:ahLst/>
                <a:rect l="l" t="t" r="r" b="b"/>
                <a:pathLst>
                  <a:path w="6788" h="33">
                    <a:moveTo>
                      <a:pt x="6763" y="33"/>
                    </a:moveTo>
                    <a:lnTo>
                      <a:pt x="26" y="33"/>
                    </a:lnTo>
                    <a:lnTo>
                      <a:pt x="0" y="0"/>
                    </a:lnTo>
                    <a:lnTo>
                      <a:pt x="6788" y="0"/>
                    </a:lnTo>
                    <a:lnTo>
                      <a:pt x="6763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9560" y="1357200"/>
                <a:ext cx="1155240" cy="6480"/>
              </a:xfrm>
              <a:custGeom>
                <a:avLst/>
                <a:gdLst/>
                <a:ahLst/>
                <a:rect l="l" t="t" r="r" b="b"/>
                <a:pathLst>
                  <a:path w="6813" h="34">
                    <a:moveTo>
                      <a:pt x="6797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813" y="0"/>
                    </a:lnTo>
                    <a:lnTo>
                      <a:pt x="679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96320" y="1354320"/>
                <a:ext cx="1160280" cy="6120"/>
              </a:xfrm>
              <a:custGeom>
                <a:avLst/>
                <a:gdLst/>
                <a:ahLst/>
                <a:rect l="l" t="t" r="r" b="b"/>
                <a:pathLst>
                  <a:path w="6839" h="34">
                    <a:moveTo>
                      <a:pt x="6822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839" y="0"/>
                    </a:lnTo>
                    <a:lnTo>
                      <a:pt x="682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4880" y="1352520"/>
                <a:ext cx="1163160" cy="4680"/>
              </a:xfrm>
              <a:custGeom>
                <a:avLst/>
                <a:gdLst/>
                <a:ahLst/>
                <a:rect l="l" t="t" r="r" b="b"/>
                <a:pathLst>
                  <a:path w="6855" h="34">
                    <a:moveTo>
                      <a:pt x="6838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855" y="0"/>
                    </a:lnTo>
                    <a:lnTo>
                      <a:pt x="683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1640" y="1349280"/>
                <a:ext cx="1168200" cy="5040"/>
              </a:xfrm>
              <a:custGeom>
                <a:avLst/>
                <a:gdLst/>
                <a:ahLst/>
                <a:rect l="l" t="t" r="r" b="b"/>
                <a:pathLst>
                  <a:path w="6889" h="34">
                    <a:moveTo>
                      <a:pt x="686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889" y="0"/>
                    </a:lnTo>
                    <a:lnTo>
                      <a:pt x="686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0200" y="1346400"/>
                <a:ext cx="1171080" cy="6120"/>
              </a:xfrm>
              <a:custGeom>
                <a:avLst/>
                <a:gdLst/>
                <a:ahLst/>
                <a:rect l="l" t="t" r="r" b="b"/>
                <a:pathLst>
                  <a:path w="6906" h="34">
                    <a:moveTo>
                      <a:pt x="6880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906" y="0"/>
                    </a:lnTo>
                    <a:lnTo>
                      <a:pt x="688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86960" y="1343160"/>
                <a:ext cx="1175760" cy="6120"/>
              </a:xfrm>
              <a:custGeom>
                <a:avLst/>
                <a:gdLst/>
                <a:ahLst/>
                <a:rect l="l" t="t" r="r" b="b"/>
                <a:pathLst>
                  <a:path w="6931" h="34">
                    <a:moveTo>
                      <a:pt x="6914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6931" y="0"/>
                    </a:lnTo>
                    <a:lnTo>
                      <a:pt x="691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85160" y="1339920"/>
                <a:ext cx="1179360" cy="6480"/>
              </a:xfrm>
              <a:custGeom>
                <a:avLst/>
                <a:gdLst/>
                <a:ahLst/>
                <a:rect l="l" t="t" r="r" b="b"/>
                <a:pathLst>
                  <a:path w="6957" h="34">
                    <a:moveTo>
                      <a:pt x="6940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6957" y="0"/>
                    </a:lnTo>
                    <a:lnTo>
                      <a:pt x="694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2280" y="1336680"/>
                <a:ext cx="1183680" cy="6480"/>
              </a:xfrm>
              <a:custGeom>
                <a:avLst/>
                <a:gdLst/>
                <a:ahLst/>
                <a:rect l="l" t="t" r="r" b="b"/>
                <a:pathLst>
                  <a:path w="6982" h="33">
                    <a:moveTo>
                      <a:pt x="6965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6982" y="0"/>
                    </a:lnTo>
                    <a:lnTo>
                      <a:pt x="696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80480" y="1333440"/>
                <a:ext cx="1188720" cy="6480"/>
              </a:xfrm>
              <a:custGeom>
                <a:avLst/>
                <a:gdLst/>
                <a:ahLst/>
                <a:rect l="l" t="t" r="r" b="b"/>
                <a:pathLst>
                  <a:path w="7007" h="33">
                    <a:moveTo>
                      <a:pt x="6982" y="33"/>
                    </a:moveTo>
                    <a:lnTo>
                      <a:pt x="25" y="33"/>
                    </a:lnTo>
                    <a:lnTo>
                      <a:pt x="0" y="0"/>
                    </a:lnTo>
                    <a:lnTo>
                      <a:pt x="7007" y="0"/>
                    </a:lnTo>
                    <a:lnTo>
                      <a:pt x="6998" y="8"/>
                    </a:lnTo>
                    <a:lnTo>
                      <a:pt x="6982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77240" y="1328760"/>
                <a:ext cx="1193400" cy="7920"/>
              </a:xfrm>
              <a:custGeom>
                <a:avLst/>
                <a:gdLst/>
                <a:ahLst/>
                <a:rect l="l" t="t" r="r" b="b"/>
                <a:pathLst>
                  <a:path w="7032" h="43">
                    <a:moveTo>
                      <a:pt x="7007" y="43"/>
                    </a:moveTo>
                    <a:lnTo>
                      <a:pt x="25" y="43"/>
                    </a:lnTo>
                    <a:lnTo>
                      <a:pt x="0" y="0"/>
                    </a:lnTo>
                    <a:lnTo>
                      <a:pt x="7032" y="0"/>
                    </a:lnTo>
                    <a:lnTo>
                      <a:pt x="7015" y="34"/>
                    </a:lnTo>
                    <a:lnTo>
                      <a:pt x="7007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75800" y="1327320"/>
                <a:ext cx="1196640" cy="6120"/>
              </a:xfrm>
              <a:custGeom>
                <a:avLst/>
                <a:gdLst/>
                <a:ahLst/>
                <a:rect l="l" t="t" r="r" b="b"/>
                <a:pathLst>
                  <a:path w="7050" h="34">
                    <a:moveTo>
                      <a:pt x="7033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050" y="0"/>
                    </a:lnTo>
                    <a:lnTo>
                      <a:pt x="703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2560" y="1322280"/>
                <a:ext cx="1201320" cy="6480"/>
              </a:xfrm>
              <a:custGeom>
                <a:avLst/>
                <a:gdLst/>
                <a:ahLst/>
                <a:rect l="l" t="t" r="r" b="b"/>
                <a:pathLst>
                  <a:path w="7084" h="33">
                    <a:moveTo>
                      <a:pt x="7058" y="33"/>
                    </a:moveTo>
                    <a:lnTo>
                      <a:pt x="26" y="33"/>
                    </a:lnTo>
                    <a:lnTo>
                      <a:pt x="17" y="25"/>
                    </a:lnTo>
                    <a:lnTo>
                      <a:pt x="0" y="0"/>
                    </a:lnTo>
                    <a:lnTo>
                      <a:pt x="7084" y="0"/>
                    </a:lnTo>
                    <a:lnTo>
                      <a:pt x="7058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71120" y="1320840"/>
                <a:ext cx="1204560" cy="6480"/>
              </a:xfrm>
              <a:custGeom>
                <a:avLst/>
                <a:gdLst/>
                <a:ahLst/>
                <a:rect l="l" t="t" r="r" b="b"/>
                <a:pathLst>
                  <a:path w="7109" h="34">
                    <a:moveTo>
                      <a:pt x="7084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109" y="0"/>
                    </a:lnTo>
                    <a:lnTo>
                      <a:pt x="708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7880" y="1316160"/>
                <a:ext cx="1209240" cy="6120"/>
              </a:xfrm>
              <a:custGeom>
                <a:avLst/>
                <a:gdLst/>
                <a:ahLst/>
                <a:rect l="l" t="t" r="r" b="b"/>
                <a:pathLst>
                  <a:path w="7134" h="34">
                    <a:moveTo>
                      <a:pt x="7117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7134" y="0"/>
                    </a:lnTo>
                    <a:lnTo>
                      <a:pt x="711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4640" y="1312920"/>
                <a:ext cx="1215720" cy="7920"/>
              </a:xfrm>
              <a:custGeom>
                <a:avLst/>
                <a:gdLst/>
                <a:ahLst/>
                <a:rect l="l" t="t" r="r" b="b"/>
                <a:pathLst>
                  <a:path w="7167" h="42">
                    <a:moveTo>
                      <a:pt x="7142" y="42"/>
                    </a:moveTo>
                    <a:lnTo>
                      <a:pt x="33" y="42"/>
                    </a:lnTo>
                    <a:lnTo>
                      <a:pt x="0" y="0"/>
                    </a:lnTo>
                    <a:lnTo>
                      <a:pt x="7167" y="0"/>
                    </a:lnTo>
                    <a:lnTo>
                      <a:pt x="7142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1400" y="1309680"/>
                <a:ext cx="1220400" cy="6480"/>
              </a:xfrm>
              <a:custGeom>
                <a:avLst/>
                <a:gdLst/>
                <a:ahLst/>
                <a:rect l="l" t="t" r="r" b="b"/>
                <a:pathLst>
                  <a:path w="7193" h="34">
                    <a:moveTo>
                      <a:pt x="7168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193" y="0"/>
                    </a:lnTo>
                    <a:lnTo>
                      <a:pt x="716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9960" y="1306440"/>
                <a:ext cx="1223640" cy="6480"/>
              </a:xfrm>
              <a:custGeom>
                <a:avLst/>
                <a:gdLst/>
                <a:ahLst/>
                <a:rect l="l" t="t" r="r" b="b"/>
                <a:pathLst>
                  <a:path w="7210" h="34">
                    <a:moveTo>
                      <a:pt x="7193" y="34"/>
                    </a:moveTo>
                    <a:lnTo>
                      <a:pt x="26" y="34"/>
                    </a:lnTo>
                    <a:lnTo>
                      <a:pt x="0" y="0"/>
                    </a:lnTo>
                    <a:lnTo>
                      <a:pt x="7210" y="0"/>
                    </a:lnTo>
                    <a:lnTo>
                      <a:pt x="719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6720" y="1303560"/>
                <a:ext cx="1230120" cy="6120"/>
              </a:xfrm>
              <a:custGeom>
                <a:avLst/>
                <a:gdLst/>
                <a:ahLst/>
                <a:rect l="l" t="t" r="r" b="b"/>
                <a:pathLst>
                  <a:path w="7252" h="34">
                    <a:moveTo>
                      <a:pt x="7227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252" y="0"/>
                    </a:lnTo>
                    <a:lnTo>
                      <a:pt x="722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5280" y="1300320"/>
                <a:ext cx="1233000" cy="6120"/>
              </a:xfrm>
              <a:custGeom>
                <a:avLst/>
                <a:gdLst/>
                <a:ahLst/>
                <a:rect l="l" t="t" r="r" b="b"/>
                <a:pathLst>
                  <a:path w="7269" h="34">
                    <a:moveTo>
                      <a:pt x="7243" y="34"/>
                    </a:moveTo>
                    <a:lnTo>
                      <a:pt x="33" y="34"/>
                    </a:lnTo>
                    <a:lnTo>
                      <a:pt x="0" y="0"/>
                    </a:lnTo>
                    <a:lnTo>
                      <a:pt x="7269" y="0"/>
                    </a:lnTo>
                    <a:lnTo>
                      <a:pt x="7269" y="9"/>
                    </a:lnTo>
                    <a:lnTo>
                      <a:pt x="724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040" y="1297080"/>
                <a:ext cx="1237680" cy="6480"/>
              </a:xfrm>
              <a:custGeom>
                <a:avLst/>
                <a:gdLst/>
                <a:ahLst/>
                <a:rect l="l" t="t" r="r" b="b"/>
                <a:pathLst>
                  <a:path w="7303" h="34">
                    <a:moveTo>
                      <a:pt x="7277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7303" y="0"/>
                    </a:lnTo>
                    <a:lnTo>
                      <a:pt x="7286" y="26"/>
                    </a:lnTo>
                    <a:lnTo>
                      <a:pt x="727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8800" y="1295280"/>
                <a:ext cx="1242720" cy="5040"/>
              </a:xfrm>
              <a:custGeom>
                <a:avLst/>
                <a:gdLst/>
                <a:ahLst/>
                <a:rect l="l" t="t" r="r" b="b"/>
                <a:pathLst>
                  <a:path w="7328" h="33">
                    <a:moveTo>
                      <a:pt x="7303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7328" y="0"/>
                    </a:lnTo>
                    <a:lnTo>
                      <a:pt x="7303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45560" y="1292400"/>
                <a:ext cx="1249200" cy="4680"/>
              </a:xfrm>
              <a:custGeom>
                <a:avLst/>
                <a:gdLst/>
                <a:ahLst/>
                <a:rect l="l" t="t" r="r" b="b"/>
                <a:pathLst>
                  <a:path w="7362" h="33">
                    <a:moveTo>
                      <a:pt x="7337" y="33"/>
                    </a:moveTo>
                    <a:lnTo>
                      <a:pt x="34" y="33"/>
                    </a:lnTo>
                    <a:lnTo>
                      <a:pt x="0" y="0"/>
                    </a:lnTo>
                    <a:lnTo>
                      <a:pt x="7362" y="0"/>
                    </a:lnTo>
                    <a:lnTo>
                      <a:pt x="733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42320" y="1289160"/>
                <a:ext cx="1253880" cy="6120"/>
              </a:xfrm>
              <a:custGeom>
                <a:avLst/>
                <a:gdLst/>
                <a:ahLst/>
                <a:rect l="l" t="t" r="r" b="b"/>
                <a:pathLst>
                  <a:path w="7387" h="34">
                    <a:moveTo>
                      <a:pt x="7362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387" y="0"/>
                    </a:lnTo>
                    <a:lnTo>
                      <a:pt x="736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0880" y="1285920"/>
                <a:ext cx="1258560" cy="6480"/>
              </a:xfrm>
              <a:custGeom>
                <a:avLst/>
                <a:gdLst/>
                <a:ahLst/>
                <a:rect l="l" t="t" r="r" b="b"/>
                <a:pathLst>
                  <a:path w="7421" h="34">
                    <a:moveTo>
                      <a:pt x="7396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421" y="0"/>
                    </a:lnTo>
                    <a:lnTo>
                      <a:pt x="739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9440" y="1282680"/>
                <a:ext cx="1261440" cy="6480"/>
              </a:xfrm>
              <a:custGeom>
                <a:avLst/>
                <a:gdLst/>
                <a:ahLst/>
                <a:rect l="l" t="t" r="r" b="b"/>
                <a:pathLst>
                  <a:path w="7438" h="34">
                    <a:moveTo>
                      <a:pt x="7412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7438" y="0"/>
                    </a:lnTo>
                    <a:lnTo>
                      <a:pt x="741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36200" y="1278000"/>
                <a:ext cx="1267920" cy="7920"/>
              </a:xfrm>
              <a:custGeom>
                <a:avLst/>
                <a:gdLst/>
                <a:ahLst/>
                <a:rect l="l" t="t" r="r" b="b"/>
                <a:pathLst>
                  <a:path w="7472" h="42">
                    <a:moveTo>
                      <a:pt x="7446" y="42"/>
                    </a:moveTo>
                    <a:lnTo>
                      <a:pt x="25" y="42"/>
                    </a:lnTo>
                    <a:lnTo>
                      <a:pt x="0" y="0"/>
                    </a:lnTo>
                    <a:lnTo>
                      <a:pt x="7472" y="0"/>
                    </a:lnTo>
                    <a:lnTo>
                      <a:pt x="7446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2960" y="1276560"/>
                <a:ext cx="1271160" cy="6120"/>
              </a:xfrm>
              <a:custGeom>
                <a:avLst/>
                <a:gdLst/>
                <a:ahLst/>
                <a:rect l="l" t="t" r="r" b="b"/>
                <a:pathLst>
                  <a:path w="7497" h="34">
                    <a:moveTo>
                      <a:pt x="7472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497" y="0"/>
                    </a:lnTo>
                    <a:lnTo>
                      <a:pt x="747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29720" y="1271520"/>
                <a:ext cx="1277640" cy="6480"/>
              </a:xfrm>
              <a:custGeom>
                <a:avLst/>
                <a:gdLst/>
                <a:ahLst/>
                <a:rect l="l" t="t" r="r" b="b"/>
                <a:pathLst>
                  <a:path w="7531" h="34">
                    <a:moveTo>
                      <a:pt x="7506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531" y="0"/>
                    </a:lnTo>
                    <a:lnTo>
                      <a:pt x="750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8280" y="1268280"/>
                <a:ext cx="1280520" cy="8280"/>
              </a:xfrm>
              <a:custGeom>
                <a:avLst/>
                <a:gdLst/>
                <a:ahLst/>
                <a:rect l="l" t="t" r="r" b="b"/>
                <a:pathLst>
                  <a:path w="7556" h="42">
                    <a:moveTo>
                      <a:pt x="7531" y="42"/>
                    </a:moveTo>
                    <a:lnTo>
                      <a:pt x="34" y="42"/>
                    </a:lnTo>
                    <a:lnTo>
                      <a:pt x="0" y="0"/>
                    </a:lnTo>
                    <a:lnTo>
                      <a:pt x="7556" y="0"/>
                    </a:lnTo>
                    <a:lnTo>
                      <a:pt x="7531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5040" y="1265400"/>
                <a:ext cx="1287000" cy="6120"/>
              </a:xfrm>
              <a:custGeom>
                <a:avLst/>
                <a:gdLst/>
                <a:ahLst/>
                <a:rect l="l" t="t" r="r" b="b"/>
                <a:pathLst>
                  <a:path w="7590" h="34">
                    <a:moveTo>
                      <a:pt x="7565" y="34"/>
                    </a:moveTo>
                    <a:lnTo>
                      <a:pt x="34" y="34"/>
                    </a:lnTo>
                    <a:lnTo>
                      <a:pt x="0" y="0"/>
                    </a:lnTo>
                    <a:lnTo>
                      <a:pt x="7590" y="0"/>
                    </a:lnTo>
                    <a:lnTo>
                      <a:pt x="7582" y="9"/>
                    </a:lnTo>
                    <a:lnTo>
                      <a:pt x="756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3240" y="1262160"/>
                <a:ext cx="1292040" cy="6120"/>
              </a:xfrm>
              <a:custGeom>
                <a:avLst/>
                <a:gdLst/>
                <a:ahLst/>
                <a:rect l="l" t="t" r="r" b="b"/>
                <a:pathLst>
                  <a:path w="7615" h="34">
                    <a:moveTo>
                      <a:pt x="7581" y="34"/>
                    </a:moveTo>
                    <a:lnTo>
                      <a:pt x="25" y="34"/>
                    </a:lnTo>
                    <a:lnTo>
                      <a:pt x="0" y="0"/>
                    </a:lnTo>
                    <a:lnTo>
                      <a:pt x="7615" y="0"/>
                    </a:lnTo>
                    <a:lnTo>
                      <a:pt x="7590" y="26"/>
                    </a:lnTo>
                    <a:lnTo>
                      <a:pt x="758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8560" y="1258920"/>
                <a:ext cx="1299960" cy="6480"/>
              </a:xfrm>
              <a:custGeom>
                <a:avLst/>
                <a:gdLst/>
                <a:ahLst/>
                <a:rect l="l" t="t" r="r" b="b"/>
                <a:pathLst>
                  <a:path w="7657" h="34">
                    <a:moveTo>
                      <a:pt x="7623" y="34"/>
                    </a:moveTo>
                    <a:lnTo>
                      <a:pt x="33" y="34"/>
                    </a:lnTo>
                    <a:lnTo>
                      <a:pt x="25" y="17"/>
                    </a:lnTo>
                    <a:lnTo>
                      <a:pt x="0" y="0"/>
                    </a:lnTo>
                    <a:lnTo>
                      <a:pt x="7657" y="0"/>
                    </a:lnTo>
                    <a:lnTo>
                      <a:pt x="762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5320" y="1255680"/>
                <a:ext cx="1304640" cy="6480"/>
              </a:xfrm>
              <a:custGeom>
                <a:avLst/>
                <a:gdLst/>
                <a:ahLst/>
                <a:rect l="l" t="t" r="r" b="b"/>
                <a:pathLst>
                  <a:path w="7691" h="33">
                    <a:moveTo>
                      <a:pt x="7657" y="33"/>
                    </a:moveTo>
                    <a:lnTo>
                      <a:pt x="42" y="33"/>
                    </a:lnTo>
                    <a:lnTo>
                      <a:pt x="42" y="33"/>
                    </a:lnTo>
                    <a:lnTo>
                      <a:pt x="0" y="0"/>
                    </a:lnTo>
                    <a:lnTo>
                      <a:pt x="7691" y="0"/>
                    </a:lnTo>
                    <a:lnTo>
                      <a:pt x="765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12440" y="1252440"/>
                <a:ext cx="1310760" cy="6480"/>
              </a:xfrm>
              <a:custGeom>
                <a:avLst/>
                <a:gdLst/>
                <a:ahLst/>
                <a:rect l="l" t="t" r="r" b="b"/>
                <a:pathLst>
                  <a:path w="7734" h="33">
                    <a:moveTo>
                      <a:pt x="7700" y="33"/>
                    </a:moveTo>
                    <a:lnTo>
                      <a:pt x="43" y="33"/>
                    </a:lnTo>
                    <a:lnTo>
                      <a:pt x="0" y="0"/>
                    </a:lnTo>
                    <a:lnTo>
                      <a:pt x="7734" y="0"/>
                    </a:lnTo>
                    <a:lnTo>
                      <a:pt x="7700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9200" y="1249560"/>
                <a:ext cx="1315440" cy="6120"/>
              </a:xfrm>
              <a:custGeom>
                <a:avLst/>
                <a:gdLst/>
                <a:ahLst/>
                <a:rect l="l" t="t" r="r" b="b"/>
                <a:pathLst>
                  <a:path w="7759" h="34">
                    <a:moveTo>
                      <a:pt x="7734" y="34"/>
                    </a:moveTo>
                    <a:lnTo>
                      <a:pt x="43" y="34"/>
                    </a:lnTo>
                    <a:lnTo>
                      <a:pt x="0" y="0"/>
                    </a:lnTo>
                    <a:lnTo>
                      <a:pt x="7759" y="0"/>
                    </a:lnTo>
                    <a:lnTo>
                      <a:pt x="773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4520" y="1246320"/>
                <a:ext cx="1323360" cy="6120"/>
              </a:xfrm>
              <a:custGeom>
                <a:avLst/>
                <a:gdLst/>
                <a:ahLst/>
                <a:rect l="l" t="t" r="r" b="b"/>
                <a:pathLst>
                  <a:path w="7801" h="34">
                    <a:moveTo>
                      <a:pt x="7776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7801" y="0"/>
                    </a:lnTo>
                    <a:lnTo>
                      <a:pt x="777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1280" y="1243080"/>
                <a:ext cx="1329840" cy="6480"/>
              </a:xfrm>
              <a:custGeom>
                <a:avLst/>
                <a:gdLst/>
                <a:ahLst/>
                <a:rect l="l" t="t" r="r" b="b"/>
                <a:pathLst>
                  <a:path w="7835" h="34">
                    <a:moveTo>
                      <a:pt x="7801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7835" y="0"/>
                    </a:lnTo>
                    <a:lnTo>
                      <a:pt x="780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98400" y="1241640"/>
                <a:ext cx="1334520" cy="4680"/>
              </a:xfrm>
              <a:custGeom>
                <a:avLst/>
                <a:gdLst/>
                <a:ahLst/>
                <a:rect l="l" t="t" r="r" b="b"/>
                <a:pathLst>
                  <a:path w="7877" h="34">
                    <a:moveTo>
                      <a:pt x="7843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7877" y="0"/>
                    </a:lnTo>
                    <a:lnTo>
                      <a:pt x="784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618840" y="1062000"/>
              <a:ext cx="1485720" cy="817560"/>
              <a:chOff x="618840" y="1062000"/>
              <a:chExt cx="1485720" cy="817560"/>
            </a:xfrm>
          </p:grpSpPr>
          <p:sp>
            <p:nvSpPr>
              <p:cNvPr id="266" name=""/>
              <p:cNvSpPr/>
              <p:nvPr/>
            </p:nvSpPr>
            <p:spPr>
              <a:xfrm>
                <a:off x="694800" y="1238400"/>
                <a:ext cx="1341000" cy="4680"/>
              </a:xfrm>
              <a:custGeom>
                <a:avLst/>
                <a:gdLst/>
                <a:ahLst/>
                <a:rect l="l" t="t" r="r" b="b"/>
                <a:pathLst>
                  <a:path w="7911" h="34">
                    <a:moveTo>
                      <a:pt x="7877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7911" y="0"/>
                    </a:lnTo>
                    <a:lnTo>
                      <a:pt x="787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8320" y="1233360"/>
                <a:ext cx="1350720" cy="8280"/>
              </a:xfrm>
              <a:custGeom>
                <a:avLst/>
                <a:gdLst/>
                <a:ahLst/>
                <a:rect l="l" t="t" r="r" b="b"/>
                <a:pathLst>
                  <a:path w="7962" h="42">
                    <a:moveTo>
                      <a:pt x="7928" y="42"/>
                    </a:moveTo>
                    <a:lnTo>
                      <a:pt x="51" y="42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7962" y="0"/>
                    </a:lnTo>
                    <a:lnTo>
                      <a:pt x="7928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200" y="1231920"/>
                <a:ext cx="1360080" cy="6480"/>
              </a:xfrm>
              <a:custGeom>
                <a:avLst/>
                <a:gdLst/>
                <a:ahLst/>
                <a:rect l="l" t="t" r="r" b="b"/>
                <a:pathLst>
                  <a:path w="8020" h="34">
                    <a:moveTo>
                      <a:pt x="7987" y="34"/>
                    </a:moveTo>
                    <a:lnTo>
                      <a:pt x="76" y="34"/>
                    </a:lnTo>
                    <a:lnTo>
                      <a:pt x="59" y="17"/>
                    </a:lnTo>
                    <a:lnTo>
                      <a:pt x="0" y="0"/>
                    </a:lnTo>
                    <a:lnTo>
                      <a:pt x="8020" y="0"/>
                    </a:lnTo>
                    <a:lnTo>
                      <a:pt x="798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5720" y="1227240"/>
                <a:ext cx="1369800" cy="6120"/>
              </a:xfrm>
              <a:custGeom>
                <a:avLst/>
                <a:gdLst/>
                <a:ahLst/>
                <a:rect l="l" t="t" r="r" b="b"/>
                <a:pathLst>
                  <a:path w="8071" h="34">
                    <a:moveTo>
                      <a:pt x="8038" y="34"/>
                    </a:moveTo>
                    <a:lnTo>
                      <a:pt x="76" y="34"/>
                    </a:lnTo>
                    <a:lnTo>
                      <a:pt x="0" y="0"/>
                    </a:lnTo>
                    <a:lnTo>
                      <a:pt x="8071" y="0"/>
                    </a:lnTo>
                    <a:lnTo>
                      <a:pt x="803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9600" y="1224000"/>
                <a:ext cx="1377360" cy="7920"/>
              </a:xfrm>
              <a:custGeom>
                <a:avLst/>
                <a:gdLst/>
                <a:ahLst/>
                <a:rect l="l" t="t" r="r" b="b"/>
                <a:pathLst>
                  <a:path w="8130" h="42">
                    <a:moveTo>
                      <a:pt x="8096" y="42"/>
                    </a:moveTo>
                    <a:lnTo>
                      <a:pt x="76" y="42"/>
                    </a:lnTo>
                    <a:lnTo>
                      <a:pt x="0" y="0"/>
                    </a:lnTo>
                    <a:lnTo>
                      <a:pt x="8130" y="0"/>
                    </a:lnTo>
                    <a:lnTo>
                      <a:pt x="8122" y="9"/>
                    </a:lnTo>
                    <a:lnTo>
                      <a:pt x="8096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61320" y="1220760"/>
                <a:ext cx="1388880" cy="6480"/>
              </a:xfrm>
              <a:custGeom>
                <a:avLst/>
                <a:gdLst/>
                <a:ahLst/>
                <a:rect l="l" t="t" r="r" b="b"/>
                <a:pathLst>
                  <a:path w="8189" h="34">
                    <a:moveTo>
                      <a:pt x="8155" y="34"/>
                    </a:moveTo>
                    <a:lnTo>
                      <a:pt x="84" y="34"/>
                    </a:lnTo>
                    <a:lnTo>
                      <a:pt x="42" y="17"/>
                    </a:lnTo>
                    <a:lnTo>
                      <a:pt x="0" y="0"/>
                    </a:lnTo>
                    <a:lnTo>
                      <a:pt x="8189" y="0"/>
                    </a:lnTo>
                    <a:lnTo>
                      <a:pt x="8164" y="26"/>
                    </a:lnTo>
                    <a:lnTo>
                      <a:pt x="815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5200" y="1217520"/>
                <a:ext cx="1398240" cy="6480"/>
              </a:xfrm>
              <a:custGeom>
                <a:avLst/>
                <a:gdLst/>
                <a:ahLst/>
                <a:rect l="l" t="t" r="r" b="b"/>
                <a:pathLst>
                  <a:path w="8240" h="34">
                    <a:moveTo>
                      <a:pt x="8206" y="34"/>
                    </a:moveTo>
                    <a:lnTo>
                      <a:pt x="76" y="34"/>
                    </a:lnTo>
                    <a:lnTo>
                      <a:pt x="76" y="34"/>
                    </a:lnTo>
                    <a:lnTo>
                      <a:pt x="0" y="0"/>
                    </a:lnTo>
                    <a:lnTo>
                      <a:pt x="8240" y="0"/>
                    </a:lnTo>
                    <a:lnTo>
                      <a:pt x="820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47280" y="1214640"/>
                <a:ext cx="1409400" cy="6120"/>
              </a:xfrm>
              <a:custGeom>
                <a:avLst/>
                <a:gdLst/>
                <a:ahLst/>
                <a:rect l="l" t="t" r="r" b="b"/>
                <a:pathLst>
                  <a:path w="8308" h="33">
                    <a:moveTo>
                      <a:pt x="8274" y="33"/>
                    </a:moveTo>
                    <a:lnTo>
                      <a:pt x="85" y="33"/>
                    </a:lnTo>
                    <a:lnTo>
                      <a:pt x="0" y="0"/>
                    </a:lnTo>
                    <a:lnTo>
                      <a:pt x="8308" y="0"/>
                    </a:lnTo>
                    <a:lnTo>
                      <a:pt x="8274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40800" y="1211400"/>
                <a:ext cx="1420560" cy="6120"/>
              </a:xfrm>
              <a:custGeom>
                <a:avLst/>
                <a:gdLst/>
                <a:ahLst/>
                <a:rect l="l" t="t" r="r" b="b"/>
                <a:pathLst>
                  <a:path w="8366" h="33">
                    <a:moveTo>
                      <a:pt x="8324" y="33"/>
                    </a:moveTo>
                    <a:lnTo>
                      <a:pt x="84" y="33"/>
                    </a:lnTo>
                    <a:lnTo>
                      <a:pt x="0" y="0"/>
                    </a:lnTo>
                    <a:lnTo>
                      <a:pt x="8366" y="0"/>
                    </a:lnTo>
                    <a:lnTo>
                      <a:pt x="8324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34680" y="1208160"/>
                <a:ext cx="1428120" cy="6480"/>
              </a:xfrm>
              <a:custGeom>
                <a:avLst/>
                <a:gdLst/>
                <a:ahLst/>
                <a:rect l="l" t="t" r="r" b="b"/>
                <a:pathLst>
                  <a:path w="8426" h="34">
                    <a:moveTo>
                      <a:pt x="8384" y="34"/>
                    </a:moveTo>
                    <a:lnTo>
                      <a:pt x="76" y="3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426" y="0"/>
                    </a:lnTo>
                    <a:lnTo>
                      <a:pt x="838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31440" y="1204920"/>
                <a:ext cx="1434600" cy="6480"/>
              </a:xfrm>
              <a:custGeom>
                <a:avLst/>
                <a:gdLst/>
                <a:ahLst/>
                <a:rect l="l" t="t" r="r" b="b"/>
                <a:pathLst>
                  <a:path w="8459" h="34">
                    <a:moveTo>
                      <a:pt x="8425" y="34"/>
                    </a:moveTo>
                    <a:lnTo>
                      <a:pt x="59" y="34"/>
                    </a:lnTo>
                    <a:lnTo>
                      <a:pt x="16" y="17"/>
                    </a:lnTo>
                    <a:lnTo>
                      <a:pt x="0" y="0"/>
                    </a:lnTo>
                    <a:lnTo>
                      <a:pt x="8459" y="0"/>
                    </a:lnTo>
                    <a:lnTo>
                      <a:pt x="8451" y="8"/>
                    </a:lnTo>
                    <a:lnTo>
                      <a:pt x="842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26400" y="1201680"/>
                <a:ext cx="1444320" cy="6480"/>
              </a:xfrm>
              <a:custGeom>
                <a:avLst/>
                <a:gdLst/>
                <a:ahLst/>
                <a:rect l="l" t="t" r="r" b="b"/>
                <a:pathLst>
                  <a:path w="8510" h="34">
                    <a:moveTo>
                      <a:pt x="8468" y="34"/>
                    </a:moveTo>
                    <a:lnTo>
                      <a:pt x="42" y="34"/>
                    </a:lnTo>
                    <a:lnTo>
                      <a:pt x="0" y="0"/>
                    </a:lnTo>
                    <a:lnTo>
                      <a:pt x="8510" y="0"/>
                    </a:lnTo>
                    <a:lnTo>
                      <a:pt x="8477" y="25"/>
                    </a:lnTo>
                    <a:lnTo>
                      <a:pt x="846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24960" y="1198440"/>
                <a:ext cx="1449000" cy="6480"/>
              </a:xfrm>
              <a:custGeom>
                <a:avLst/>
                <a:gdLst/>
                <a:ahLst/>
                <a:rect l="l" t="t" r="r" b="b"/>
                <a:pathLst>
                  <a:path w="8544" h="34">
                    <a:moveTo>
                      <a:pt x="8502" y="34"/>
                    </a:moveTo>
                    <a:lnTo>
                      <a:pt x="43" y="34"/>
                    </a:lnTo>
                    <a:lnTo>
                      <a:pt x="0" y="0"/>
                    </a:lnTo>
                    <a:lnTo>
                      <a:pt x="8544" y="0"/>
                    </a:lnTo>
                    <a:lnTo>
                      <a:pt x="850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21720" y="1195560"/>
                <a:ext cx="1455480" cy="6120"/>
              </a:xfrm>
              <a:custGeom>
                <a:avLst/>
                <a:gdLst/>
                <a:ahLst/>
                <a:rect l="l" t="t" r="r" b="b"/>
                <a:pathLst>
                  <a:path w="8587" h="34">
                    <a:moveTo>
                      <a:pt x="8544" y="34"/>
                    </a:moveTo>
                    <a:lnTo>
                      <a:pt x="34" y="34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8587" y="0"/>
                    </a:lnTo>
                    <a:lnTo>
                      <a:pt x="854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0280" y="1192320"/>
                <a:ext cx="1460160" cy="6120"/>
              </a:xfrm>
              <a:custGeom>
                <a:avLst/>
                <a:gdLst/>
                <a:ahLst/>
                <a:rect l="l" t="t" r="r" b="b"/>
                <a:pathLst>
                  <a:path w="8611" h="34">
                    <a:moveTo>
                      <a:pt x="8569" y="34"/>
                    </a:moveTo>
                    <a:lnTo>
                      <a:pt x="25" y="34"/>
                    </a:lnTo>
                    <a:lnTo>
                      <a:pt x="25" y="34"/>
                    </a:lnTo>
                    <a:lnTo>
                      <a:pt x="0" y="0"/>
                    </a:lnTo>
                    <a:lnTo>
                      <a:pt x="8611" y="0"/>
                    </a:lnTo>
                    <a:lnTo>
                      <a:pt x="856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18840" y="1189080"/>
                <a:ext cx="1466640" cy="6480"/>
              </a:xfrm>
              <a:custGeom>
                <a:avLst/>
                <a:gdLst/>
                <a:ahLst/>
                <a:rect l="l" t="t" r="r" b="b"/>
                <a:pathLst>
                  <a:path w="8645" h="34">
                    <a:moveTo>
                      <a:pt x="8603" y="34"/>
                    </a:moveTo>
                    <a:lnTo>
                      <a:pt x="16" y="34"/>
                    </a:lnTo>
                    <a:lnTo>
                      <a:pt x="0" y="0"/>
                    </a:lnTo>
                    <a:lnTo>
                      <a:pt x="8645" y="0"/>
                    </a:lnTo>
                    <a:lnTo>
                      <a:pt x="8636" y="0"/>
                    </a:lnTo>
                    <a:lnTo>
                      <a:pt x="860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18840" y="1185840"/>
                <a:ext cx="1471320" cy="6480"/>
              </a:xfrm>
              <a:custGeom>
                <a:avLst/>
                <a:gdLst/>
                <a:ahLst/>
                <a:rect l="l" t="t" r="r" b="b"/>
                <a:pathLst>
                  <a:path w="8670" h="42">
                    <a:moveTo>
                      <a:pt x="8619" y="42"/>
                    </a:moveTo>
                    <a:lnTo>
                      <a:pt x="8" y="4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8670" y="0"/>
                    </a:lnTo>
                    <a:lnTo>
                      <a:pt x="8636" y="25"/>
                    </a:lnTo>
                    <a:lnTo>
                      <a:pt x="8619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8840" y="1182600"/>
                <a:ext cx="1473120" cy="6480"/>
              </a:xfrm>
              <a:custGeom>
                <a:avLst/>
                <a:gdLst/>
                <a:ahLst/>
                <a:rect l="l" t="t" r="r" b="b"/>
                <a:pathLst>
                  <a:path w="8687" h="42">
                    <a:moveTo>
                      <a:pt x="8645" y="42"/>
                    </a:moveTo>
                    <a:lnTo>
                      <a:pt x="0" y="42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8687" y="0"/>
                    </a:lnTo>
                    <a:lnTo>
                      <a:pt x="8645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8840" y="1179720"/>
                <a:ext cx="1476000" cy="6120"/>
              </a:xfrm>
              <a:custGeom>
                <a:avLst/>
                <a:gdLst/>
                <a:ahLst/>
                <a:rect l="l" t="t" r="r" b="b"/>
                <a:pathLst>
                  <a:path w="8704" h="34">
                    <a:moveTo>
                      <a:pt x="8670" y="34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8704" y="0"/>
                    </a:lnTo>
                    <a:lnTo>
                      <a:pt x="8704" y="17"/>
                    </a:lnTo>
                    <a:lnTo>
                      <a:pt x="867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8840" y="1176480"/>
                <a:ext cx="1479240" cy="6120"/>
              </a:xfrm>
              <a:custGeom>
                <a:avLst/>
                <a:gdLst/>
                <a:ahLst/>
                <a:rect l="l" t="t" r="r" b="b"/>
                <a:pathLst>
                  <a:path w="8721" h="33">
                    <a:moveTo>
                      <a:pt x="8687" y="33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8721" y="0"/>
                    </a:lnTo>
                    <a:lnTo>
                      <a:pt x="8704" y="33"/>
                    </a:lnTo>
                    <a:lnTo>
                      <a:pt x="8687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840" y="1173240"/>
                <a:ext cx="1482480" cy="6480"/>
              </a:xfrm>
              <a:custGeom>
                <a:avLst/>
                <a:gdLst/>
                <a:ahLst/>
                <a:rect l="l" t="t" r="r" b="b"/>
                <a:pathLst>
                  <a:path w="8738" h="33">
                    <a:moveTo>
                      <a:pt x="8704" y="33"/>
                    </a:moveTo>
                    <a:lnTo>
                      <a:pt x="0" y="33"/>
                    </a:lnTo>
                    <a:lnTo>
                      <a:pt x="0" y="17"/>
                    </a:lnTo>
                    <a:lnTo>
                      <a:pt x="8" y="0"/>
                    </a:lnTo>
                    <a:lnTo>
                      <a:pt x="8738" y="0"/>
                    </a:lnTo>
                    <a:lnTo>
                      <a:pt x="8738" y="0"/>
                    </a:lnTo>
                    <a:lnTo>
                      <a:pt x="8704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840" y="1170000"/>
                <a:ext cx="1482480" cy="6480"/>
              </a:xfrm>
              <a:custGeom>
                <a:avLst/>
                <a:gdLst/>
                <a:ahLst/>
                <a:rect l="l" t="t" r="r" b="b"/>
                <a:pathLst>
                  <a:path w="8738" h="34">
                    <a:moveTo>
                      <a:pt x="8721" y="34"/>
                    </a:moveTo>
                    <a:lnTo>
                      <a:pt x="0" y="34"/>
                    </a:lnTo>
                    <a:lnTo>
                      <a:pt x="0" y="34"/>
                    </a:lnTo>
                    <a:lnTo>
                      <a:pt x="8" y="0"/>
                    </a:lnTo>
                    <a:lnTo>
                      <a:pt x="8738" y="0"/>
                    </a:lnTo>
                    <a:lnTo>
                      <a:pt x="8738" y="17"/>
                    </a:lnTo>
                    <a:lnTo>
                      <a:pt x="872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0280" y="1166760"/>
                <a:ext cx="1482480" cy="6480"/>
              </a:xfrm>
              <a:custGeom>
                <a:avLst/>
                <a:gdLst/>
                <a:ahLst/>
                <a:rect l="l" t="t" r="r" b="b"/>
                <a:pathLst>
                  <a:path w="8738" h="34">
                    <a:moveTo>
                      <a:pt x="8730" y="34"/>
                    </a:moveTo>
                    <a:lnTo>
                      <a:pt x="0" y="34"/>
                    </a:lnTo>
                    <a:lnTo>
                      <a:pt x="8" y="0"/>
                    </a:lnTo>
                    <a:lnTo>
                      <a:pt x="8738" y="0"/>
                    </a:lnTo>
                    <a:lnTo>
                      <a:pt x="873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0280" y="1163520"/>
                <a:ext cx="1483920" cy="6480"/>
              </a:xfrm>
              <a:custGeom>
                <a:avLst/>
                <a:gdLst/>
                <a:ahLst/>
                <a:rect l="l" t="t" r="r" b="b"/>
                <a:pathLst>
                  <a:path w="8747" h="34">
                    <a:moveTo>
                      <a:pt x="8730" y="34"/>
                    </a:moveTo>
                    <a:lnTo>
                      <a:pt x="0" y="34"/>
                    </a:lnTo>
                    <a:lnTo>
                      <a:pt x="8" y="0"/>
                    </a:lnTo>
                    <a:lnTo>
                      <a:pt x="8747" y="0"/>
                    </a:lnTo>
                    <a:lnTo>
                      <a:pt x="873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1720" y="1160640"/>
                <a:ext cx="1482480" cy="6120"/>
              </a:xfrm>
              <a:custGeom>
                <a:avLst/>
                <a:gdLst/>
                <a:ahLst/>
                <a:rect l="l" t="t" r="r" b="b"/>
                <a:pathLst>
                  <a:path w="8739" h="34">
                    <a:moveTo>
                      <a:pt x="8730" y="34"/>
                    </a:moveTo>
                    <a:lnTo>
                      <a:pt x="0" y="34"/>
                    </a:lnTo>
                    <a:lnTo>
                      <a:pt x="9" y="0"/>
                    </a:lnTo>
                    <a:lnTo>
                      <a:pt x="8739" y="0"/>
                    </a:lnTo>
                    <a:lnTo>
                      <a:pt x="8739" y="17"/>
                    </a:lnTo>
                    <a:lnTo>
                      <a:pt x="873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1720" y="1157400"/>
                <a:ext cx="1482480" cy="6120"/>
              </a:xfrm>
              <a:custGeom>
                <a:avLst/>
                <a:gdLst/>
                <a:ahLst/>
                <a:rect l="l" t="t" r="r" b="b"/>
                <a:pathLst>
                  <a:path w="8739" h="34">
                    <a:moveTo>
                      <a:pt x="8739" y="34"/>
                    </a:moveTo>
                    <a:lnTo>
                      <a:pt x="0" y="34"/>
                    </a:lnTo>
                    <a:lnTo>
                      <a:pt x="17" y="0"/>
                    </a:lnTo>
                    <a:lnTo>
                      <a:pt x="997" y="0"/>
                    </a:lnTo>
                    <a:lnTo>
                      <a:pt x="1081" y="9"/>
                    </a:lnTo>
                    <a:lnTo>
                      <a:pt x="1436" y="0"/>
                    </a:lnTo>
                    <a:lnTo>
                      <a:pt x="1461" y="0"/>
                    </a:lnTo>
                    <a:lnTo>
                      <a:pt x="8739" y="0"/>
                    </a:lnTo>
                    <a:lnTo>
                      <a:pt x="8739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3520" y="1154160"/>
                <a:ext cx="1480680" cy="6480"/>
              </a:xfrm>
              <a:custGeom>
                <a:avLst/>
                <a:gdLst/>
                <a:ahLst/>
                <a:rect l="l" t="t" r="r" b="b"/>
                <a:pathLst>
                  <a:path w="8730" h="34">
                    <a:moveTo>
                      <a:pt x="8730" y="34"/>
                    </a:moveTo>
                    <a:lnTo>
                      <a:pt x="0" y="34"/>
                    </a:lnTo>
                    <a:lnTo>
                      <a:pt x="8" y="0"/>
                    </a:lnTo>
                    <a:lnTo>
                      <a:pt x="827" y="0"/>
                    </a:lnTo>
                    <a:lnTo>
                      <a:pt x="1072" y="26"/>
                    </a:lnTo>
                    <a:lnTo>
                      <a:pt x="1427" y="17"/>
                    </a:lnTo>
                    <a:lnTo>
                      <a:pt x="1672" y="0"/>
                    </a:lnTo>
                    <a:lnTo>
                      <a:pt x="8730" y="0"/>
                    </a:lnTo>
                    <a:lnTo>
                      <a:pt x="873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24960" y="1150920"/>
                <a:ext cx="1479240" cy="6480"/>
              </a:xfrm>
              <a:custGeom>
                <a:avLst/>
                <a:gdLst/>
                <a:ahLst/>
                <a:rect l="l" t="t" r="r" b="b"/>
                <a:pathLst>
                  <a:path w="8722" h="34">
                    <a:moveTo>
                      <a:pt x="8722" y="34"/>
                    </a:moveTo>
                    <a:lnTo>
                      <a:pt x="1444" y="34"/>
                    </a:lnTo>
                    <a:lnTo>
                      <a:pt x="1740" y="9"/>
                    </a:lnTo>
                    <a:lnTo>
                      <a:pt x="1824" y="0"/>
                    </a:lnTo>
                    <a:lnTo>
                      <a:pt x="8722" y="0"/>
                    </a:lnTo>
                    <a:lnTo>
                      <a:pt x="8722" y="34"/>
                    </a:lnTo>
                    <a:close/>
                    <a:moveTo>
                      <a:pt x="980" y="34"/>
                    </a:moveTo>
                    <a:lnTo>
                      <a:pt x="0" y="3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684" y="0"/>
                    </a:lnTo>
                    <a:lnTo>
                      <a:pt x="701" y="0"/>
                    </a:lnTo>
                    <a:lnTo>
                      <a:pt x="98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24960" y="1146240"/>
                <a:ext cx="1479240" cy="7920"/>
              </a:xfrm>
              <a:custGeom>
                <a:avLst/>
                <a:gdLst/>
                <a:ahLst/>
                <a:rect l="l" t="t" r="r" b="b"/>
                <a:pathLst>
                  <a:path w="8722" h="42">
                    <a:moveTo>
                      <a:pt x="8722" y="42"/>
                    </a:moveTo>
                    <a:lnTo>
                      <a:pt x="1664" y="42"/>
                    </a:lnTo>
                    <a:lnTo>
                      <a:pt x="1740" y="34"/>
                    </a:lnTo>
                    <a:lnTo>
                      <a:pt x="1951" y="0"/>
                    </a:lnTo>
                    <a:lnTo>
                      <a:pt x="8713" y="0"/>
                    </a:lnTo>
                    <a:lnTo>
                      <a:pt x="8722" y="42"/>
                    </a:lnTo>
                    <a:close/>
                    <a:moveTo>
                      <a:pt x="819" y="42"/>
                    </a:moveTo>
                    <a:lnTo>
                      <a:pt x="0" y="42"/>
                    </a:lnTo>
                    <a:lnTo>
                      <a:pt x="9" y="25"/>
                    </a:lnTo>
                    <a:lnTo>
                      <a:pt x="26" y="0"/>
                    </a:lnTo>
                    <a:lnTo>
                      <a:pt x="608" y="0"/>
                    </a:lnTo>
                    <a:lnTo>
                      <a:pt x="701" y="25"/>
                    </a:lnTo>
                    <a:lnTo>
                      <a:pt x="819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26400" y="1144800"/>
                <a:ext cx="1477800" cy="6120"/>
              </a:xfrm>
              <a:custGeom>
                <a:avLst/>
                <a:gdLst/>
                <a:ahLst/>
                <a:rect l="l" t="t" r="r" b="b"/>
                <a:pathLst>
                  <a:path w="8713" h="33">
                    <a:moveTo>
                      <a:pt x="8713" y="33"/>
                    </a:moveTo>
                    <a:lnTo>
                      <a:pt x="1815" y="33"/>
                    </a:lnTo>
                    <a:lnTo>
                      <a:pt x="2068" y="0"/>
                    </a:lnTo>
                    <a:lnTo>
                      <a:pt x="8704" y="0"/>
                    </a:lnTo>
                    <a:lnTo>
                      <a:pt x="8704" y="0"/>
                    </a:lnTo>
                    <a:lnTo>
                      <a:pt x="8713" y="33"/>
                    </a:lnTo>
                    <a:close/>
                    <a:moveTo>
                      <a:pt x="675" y="33"/>
                    </a:moveTo>
                    <a:lnTo>
                      <a:pt x="0" y="33"/>
                    </a:lnTo>
                    <a:lnTo>
                      <a:pt x="34" y="0"/>
                    </a:lnTo>
                    <a:lnTo>
                      <a:pt x="557" y="0"/>
                    </a:lnTo>
                    <a:lnTo>
                      <a:pt x="591" y="8"/>
                    </a:lnTo>
                    <a:lnTo>
                      <a:pt x="67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28200" y="1139760"/>
                <a:ext cx="1474560" cy="6480"/>
              </a:xfrm>
              <a:custGeom>
                <a:avLst/>
                <a:gdLst/>
                <a:ahLst/>
                <a:rect l="l" t="t" r="r" b="b"/>
                <a:pathLst>
                  <a:path w="8687" h="34">
                    <a:moveTo>
                      <a:pt x="8687" y="34"/>
                    </a:moveTo>
                    <a:lnTo>
                      <a:pt x="1925" y="34"/>
                    </a:lnTo>
                    <a:lnTo>
                      <a:pt x="2060" y="17"/>
                    </a:lnTo>
                    <a:lnTo>
                      <a:pt x="2144" y="0"/>
                    </a:lnTo>
                    <a:lnTo>
                      <a:pt x="8679" y="0"/>
                    </a:lnTo>
                    <a:lnTo>
                      <a:pt x="8687" y="26"/>
                    </a:lnTo>
                    <a:lnTo>
                      <a:pt x="8687" y="34"/>
                    </a:lnTo>
                    <a:close/>
                    <a:moveTo>
                      <a:pt x="582" y="34"/>
                    </a:moveTo>
                    <a:lnTo>
                      <a:pt x="0" y="34"/>
                    </a:lnTo>
                    <a:lnTo>
                      <a:pt x="33" y="0"/>
                    </a:lnTo>
                    <a:lnTo>
                      <a:pt x="498" y="0"/>
                    </a:lnTo>
                    <a:lnTo>
                      <a:pt x="574" y="34"/>
                    </a:lnTo>
                    <a:lnTo>
                      <a:pt x="58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1440" y="1136520"/>
                <a:ext cx="1471320" cy="8280"/>
              </a:xfrm>
              <a:custGeom>
                <a:avLst/>
                <a:gdLst/>
                <a:ahLst/>
                <a:rect l="l" t="t" r="r" b="b"/>
                <a:pathLst>
                  <a:path w="8670" h="43">
                    <a:moveTo>
                      <a:pt x="8670" y="43"/>
                    </a:moveTo>
                    <a:lnTo>
                      <a:pt x="2034" y="43"/>
                    </a:lnTo>
                    <a:lnTo>
                      <a:pt x="2043" y="34"/>
                    </a:lnTo>
                    <a:lnTo>
                      <a:pt x="2220" y="0"/>
                    </a:lnTo>
                    <a:lnTo>
                      <a:pt x="8653" y="0"/>
                    </a:lnTo>
                    <a:lnTo>
                      <a:pt x="8662" y="9"/>
                    </a:lnTo>
                    <a:lnTo>
                      <a:pt x="8670" y="43"/>
                    </a:lnTo>
                    <a:close/>
                    <a:moveTo>
                      <a:pt x="523" y="43"/>
                    </a:moveTo>
                    <a:lnTo>
                      <a:pt x="0" y="43"/>
                    </a:lnTo>
                    <a:lnTo>
                      <a:pt x="33" y="0"/>
                    </a:lnTo>
                    <a:lnTo>
                      <a:pt x="455" y="0"/>
                    </a:lnTo>
                    <a:lnTo>
                      <a:pt x="455" y="9"/>
                    </a:lnTo>
                    <a:lnTo>
                      <a:pt x="523" y="4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4680" y="1135080"/>
                <a:ext cx="1466280" cy="4680"/>
              </a:xfrm>
              <a:custGeom>
                <a:avLst/>
                <a:gdLst/>
                <a:ahLst/>
                <a:rect l="l" t="t" r="r" b="b"/>
                <a:pathLst>
                  <a:path w="8646" h="33">
                    <a:moveTo>
                      <a:pt x="8646" y="33"/>
                    </a:moveTo>
                    <a:lnTo>
                      <a:pt x="2111" y="33"/>
                    </a:lnTo>
                    <a:lnTo>
                      <a:pt x="2288" y="0"/>
                    </a:lnTo>
                    <a:lnTo>
                      <a:pt x="8620" y="0"/>
                    </a:lnTo>
                    <a:lnTo>
                      <a:pt x="8646" y="25"/>
                    </a:lnTo>
                    <a:lnTo>
                      <a:pt x="8646" y="33"/>
                    </a:lnTo>
                    <a:close/>
                    <a:moveTo>
                      <a:pt x="465" y="33"/>
                    </a:moveTo>
                    <a:lnTo>
                      <a:pt x="0" y="33"/>
                    </a:lnTo>
                    <a:lnTo>
                      <a:pt x="34" y="0"/>
                    </a:lnTo>
                    <a:lnTo>
                      <a:pt x="431" y="0"/>
                    </a:lnTo>
                    <a:lnTo>
                      <a:pt x="439" y="25"/>
                    </a:lnTo>
                    <a:lnTo>
                      <a:pt x="46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7560" y="1131840"/>
                <a:ext cx="1461960" cy="4680"/>
              </a:xfrm>
              <a:custGeom>
                <a:avLst/>
                <a:gdLst/>
                <a:ahLst/>
                <a:rect l="l" t="t" r="r" b="b"/>
                <a:pathLst>
                  <a:path w="8620" h="33">
                    <a:moveTo>
                      <a:pt x="8620" y="33"/>
                    </a:moveTo>
                    <a:lnTo>
                      <a:pt x="2187" y="33"/>
                    </a:lnTo>
                    <a:lnTo>
                      <a:pt x="2364" y="0"/>
                    </a:lnTo>
                    <a:lnTo>
                      <a:pt x="8578" y="0"/>
                    </a:lnTo>
                    <a:lnTo>
                      <a:pt x="8586" y="8"/>
                    </a:lnTo>
                    <a:lnTo>
                      <a:pt x="8620" y="33"/>
                    </a:lnTo>
                    <a:close/>
                    <a:moveTo>
                      <a:pt x="422" y="33"/>
                    </a:moveTo>
                    <a:lnTo>
                      <a:pt x="0" y="33"/>
                    </a:lnTo>
                    <a:lnTo>
                      <a:pt x="34" y="0"/>
                    </a:lnTo>
                    <a:lnTo>
                      <a:pt x="397" y="0"/>
                    </a:lnTo>
                    <a:lnTo>
                      <a:pt x="422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39360" y="1128600"/>
                <a:ext cx="1456920" cy="6480"/>
              </a:xfrm>
              <a:custGeom>
                <a:avLst/>
                <a:gdLst/>
                <a:ahLst/>
                <a:rect l="l" t="t" r="r" b="b"/>
                <a:pathLst>
                  <a:path w="8586" h="34">
                    <a:moveTo>
                      <a:pt x="8586" y="34"/>
                    </a:moveTo>
                    <a:lnTo>
                      <a:pt x="2254" y="34"/>
                    </a:lnTo>
                    <a:lnTo>
                      <a:pt x="2440" y="0"/>
                    </a:lnTo>
                    <a:lnTo>
                      <a:pt x="8502" y="0"/>
                    </a:lnTo>
                    <a:lnTo>
                      <a:pt x="8519" y="0"/>
                    </a:lnTo>
                    <a:lnTo>
                      <a:pt x="8569" y="25"/>
                    </a:lnTo>
                    <a:lnTo>
                      <a:pt x="8586" y="34"/>
                    </a:lnTo>
                    <a:close/>
                    <a:moveTo>
                      <a:pt x="397" y="34"/>
                    </a:moveTo>
                    <a:lnTo>
                      <a:pt x="0" y="34"/>
                    </a:lnTo>
                    <a:lnTo>
                      <a:pt x="34" y="0"/>
                    </a:lnTo>
                    <a:lnTo>
                      <a:pt x="372" y="0"/>
                    </a:lnTo>
                    <a:lnTo>
                      <a:pt x="380" y="8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2600" y="1125720"/>
                <a:ext cx="1449000" cy="6120"/>
              </a:xfrm>
              <a:custGeom>
                <a:avLst/>
                <a:gdLst/>
                <a:ahLst/>
                <a:rect l="l" t="t" r="r" b="b"/>
                <a:pathLst>
                  <a:path w="8544" h="34">
                    <a:moveTo>
                      <a:pt x="8544" y="34"/>
                    </a:moveTo>
                    <a:lnTo>
                      <a:pt x="2330" y="34"/>
                    </a:lnTo>
                    <a:lnTo>
                      <a:pt x="2482" y="8"/>
                    </a:lnTo>
                    <a:lnTo>
                      <a:pt x="3250" y="0"/>
                    </a:lnTo>
                    <a:lnTo>
                      <a:pt x="8409" y="0"/>
                    </a:lnTo>
                    <a:lnTo>
                      <a:pt x="8502" y="17"/>
                    </a:lnTo>
                    <a:lnTo>
                      <a:pt x="8544" y="34"/>
                    </a:lnTo>
                    <a:close/>
                    <a:moveTo>
                      <a:pt x="363" y="34"/>
                    </a:moveTo>
                    <a:lnTo>
                      <a:pt x="0" y="34"/>
                    </a:lnTo>
                    <a:lnTo>
                      <a:pt x="34" y="0"/>
                    </a:lnTo>
                    <a:lnTo>
                      <a:pt x="355" y="0"/>
                    </a:lnTo>
                    <a:lnTo>
                      <a:pt x="363" y="25"/>
                    </a:lnTo>
                    <a:lnTo>
                      <a:pt x="363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5480" y="1122480"/>
                <a:ext cx="1436400" cy="6120"/>
              </a:xfrm>
              <a:custGeom>
                <a:avLst/>
                <a:gdLst/>
                <a:ahLst/>
                <a:rect l="l" t="t" r="r" b="b"/>
                <a:pathLst>
                  <a:path w="8468" h="34">
                    <a:moveTo>
                      <a:pt x="8468" y="34"/>
                    </a:moveTo>
                    <a:lnTo>
                      <a:pt x="2406" y="34"/>
                    </a:lnTo>
                    <a:lnTo>
                      <a:pt x="2465" y="25"/>
                    </a:lnTo>
                    <a:lnTo>
                      <a:pt x="5530" y="0"/>
                    </a:lnTo>
                    <a:lnTo>
                      <a:pt x="5581" y="0"/>
                    </a:lnTo>
                    <a:lnTo>
                      <a:pt x="8307" y="0"/>
                    </a:lnTo>
                    <a:lnTo>
                      <a:pt x="8468" y="34"/>
                    </a:lnTo>
                    <a:close/>
                    <a:moveTo>
                      <a:pt x="338" y="34"/>
                    </a:moveTo>
                    <a:lnTo>
                      <a:pt x="0" y="34"/>
                    </a:lnTo>
                    <a:lnTo>
                      <a:pt x="34" y="0"/>
                    </a:lnTo>
                    <a:lnTo>
                      <a:pt x="338" y="0"/>
                    </a:lnTo>
                    <a:lnTo>
                      <a:pt x="338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8720" y="1119240"/>
                <a:ext cx="1420560" cy="6480"/>
              </a:xfrm>
              <a:custGeom>
                <a:avLst/>
                <a:gdLst/>
                <a:ahLst/>
                <a:rect l="l" t="t" r="r" b="b"/>
                <a:pathLst>
                  <a:path w="8375" h="34">
                    <a:moveTo>
                      <a:pt x="8375" y="34"/>
                    </a:moveTo>
                    <a:lnTo>
                      <a:pt x="3216" y="34"/>
                    </a:lnTo>
                    <a:lnTo>
                      <a:pt x="5513" y="17"/>
                    </a:lnTo>
                    <a:lnTo>
                      <a:pt x="5606" y="17"/>
                    </a:lnTo>
                    <a:lnTo>
                      <a:pt x="5673" y="0"/>
                    </a:lnTo>
                    <a:lnTo>
                      <a:pt x="8198" y="0"/>
                    </a:lnTo>
                    <a:lnTo>
                      <a:pt x="8375" y="34"/>
                    </a:lnTo>
                    <a:close/>
                    <a:moveTo>
                      <a:pt x="321" y="34"/>
                    </a:moveTo>
                    <a:lnTo>
                      <a:pt x="0" y="34"/>
                    </a:lnTo>
                    <a:lnTo>
                      <a:pt x="34" y="0"/>
                    </a:lnTo>
                    <a:lnTo>
                      <a:pt x="321" y="0"/>
                    </a:lnTo>
                    <a:lnTo>
                      <a:pt x="321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51960" y="1116000"/>
                <a:ext cx="1402920" cy="6480"/>
              </a:xfrm>
              <a:custGeom>
                <a:avLst/>
                <a:gdLst/>
                <a:ahLst/>
                <a:rect l="l" t="t" r="r" b="b"/>
                <a:pathLst>
                  <a:path w="8273" h="34">
                    <a:moveTo>
                      <a:pt x="8273" y="34"/>
                    </a:moveTo>
                    <a:lnTo>
                      <a:pt x="5547" y="34"/>
                    </a:lnTo>
                    <a:lnTo>
                      <a:pt x="5589" y="34"/>
                    </a:lnTo>
                    <a:lnTo>
                      <a:pt x="5715" y="9"/>
                    </a:lnTo>
                    <a:lnTo>
                      <a:pt x="5732" y="0"/>
                    </a:lnTo>
                    <a:lnTo>
                      <a:pt x="8096" y="0"/>
                    </a:lnTo>
                    <a:lnTo>
                      <a:pt x="8273" y="34"/>
                    </a:lnTo>
                    <a:close/>
                    <a:moveTo>
                      <a:pt x="304" y="34"/>
                    </a:moveTo>
                    <a:lnTo>
                      <a:pt x="0" y="34"/>
                    </a:lnTo>
                    <a:lnTo>
                      <a:pt x="34" y="0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04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55200" y="1112760"/>
                <a:ext cx="1383840" cy="6480"/>
              </a:xfrm>
              <a:custGeom>
                <a:avLst/>
                <a:gdLst/>
                <a:ahLst/>
                <a:rect l="l" t="t" r="r" b="b"/>
                <a:pathLst>
                  <a:path w="8164" h="34">
                    <a:moveTo>
                      <a:pt x="8164" y="34"/>
                    </a:moveTo>
                    <a:lnTo>
                      <a:pt x="5639" y="34"/>
                    </a:lnTo>
                    <a:lnTo>
                      <a:pt x="5698" y="26"/>
                    </a:lnTo>
                    <a:lnTo>
                      <a:pt x="5757" y="0"/>
                    </a:lnTo>
                    <a:lnTo>
                      <a:pt x="8003" y="0"/>
                    </a:lnTo>
                    <a:lnTo>
                      <a:pt x="8164" y="34"/>
                    </a:lnTo>
                    <a:close/>
                    <a:moveTo>
                      <a:pt x="287" y="34"/>
                    </a:moveTo>
                    <a:lnTo>
                      <a:pt x="0" y="34"/>
                    </a:lnTo>
                    <a:lnTo>
                      <a:pt x="33" y="0"/>
                    </a:lnTo>
                    <a:lnTo>
                      <a:pt x="278" y="0"/>
                    </a:lnTo>
                    <a:lnTo>
                      <a:pt x="287" y="17"/>
                    </a:lnTo>
                    <a:lnTo>
                      <a:pt x="28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6640" y="1109880"/>
                <a:ext cx="1368000" cy="6120"/>
              </a:xfrm>
              <a:custGeom>
                <a:avLst/>
                <a:gdLst/>
                <a:ahLst/>
                <a:rect l="l" t="t" r="r" b="b"/>
                <a:pathLst>
                  <a:path w="8062" h="34">
                    <a:moveTo>
                      <a:pt x="8062" y="34"/>
                    </a:moveTo>
                    <a:lnTo>
                      <a:pt x="5698" y="34"/>
                    </a:lnTo>
                    <a:lnTo>
                      <a:pt x="5791" y="0"/>
                    </a:lnTo>
                    <a:lnTo>
                      <a:pt x="7902" y="0"/>
                    </a:lnTo>
                    <a:lnTo>
                      <a:pt x="8062" y="34"/>
                    </a:lnTo>
                    <a:close/>
                    <a:moveTo>
                      <a:pt x="270" y="34"/>
                    </a:moveTo>
                    <a:lnTo>
                      <a:pt x="0" y="34"/>
                    </a:lnTo>
                    <a:lnTo>
                      <a:pt x="33" y="0"/>
                    </a:lnTo>
                    <a:lnTo>
                      <a:pt x="253" y="0"/>
                    </a:lnTo>
                    <a:lnTo>
                      <a:pt x="27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9880" y="1106640"/>
                <a:ext cx="1352160" cy="6120"/>
              </a:xfrm>
              <a:custGeom>
                <a:avLst/>
                <a:gdLst/>
                <a:ahLst/>
                <a:rect l="l" t="t" r="r" b="b"/>
                <a:pathLst>
                  <a:path w="7970" h="33">
                    <a:moveTo>
                      <a:pt x="7970" y="33"/>
                    </a:moveTo>
                    <a:lnTo>
                      <a:pt x="5724" y="33"/>
                    </a:lnTo>
                    <a:lnTo>
                      <a:pt x="5817" y="0"/>
                    </a:lnTo>
                    <a:lnTo>
                      <a:pt x="7793" y="0"/>
                    </a:lnTo>
                    <a:lnTo>
                      <a:pt x="7970" y="33"/>
                    </a:lnTo>
                    <a:close/>
                    <a:moveTo>
                      <a:pt x="245" y="33"/>
                    </a:moveTo>
                    <a:lnTo>
                      <a:pt x="0" y="33"/>
                    </a:lnTo>
                    <a:lnTo>
                      <a:pt x="34" y="0"/>
                    </a:lnTo>
                    <a:lnTo>
                      <a:pt x="43" y="0"/>
                    </a:lnTo>
                    <a:lnTo>
                      <a:pt x="228" y="0"/>
                    </a:lnTo>
                    <a:lnTo>
                      <a:pt x="237" y="8"/>
                    </a:lnTo>
                    <a:lnTo>
                      <a:pt x="24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3120" y="1101600"/>
                <a:ext cx="1334520" cy="8280"/>
              </a:xfrm>
              <a:custGeom>
                <a:avLst/>
                <a:gdLst/>
                <a:ahLst/>
                <a:rect l="l" t="t" r="r" b="b"/>
                <a:pathLst>
                  <a:path w="7869" h="42">
                    <a:moveTo>
                      <a:pt x="7869" y="42"/>
                    </a:moveTo>
                    <a:lnTo>
                      <a:pt x="5758" y="42"/>
                    </a:lnTo>
                    <a:lnTo>
                      <a:pt x="5851" y="0"/>
                    </a:lnTo>
                    <a:lnTo>
                      <a:pt x="7691" y="0"/>
                    </a:lnTo>
                    <a:lnTo>
                      <a:pt x="7869" y="42"/>
                    </a:lnTo>
                    <a:close/>
                    <a:moveTo>
                      <a:pt x="220" y="42"/>
                    </a:moveTo>
                    <a:lnTo>
                      <a:pt x="0" y="42"/>
                    </a:lnTo>
                    <a:lnTo>
                      <a:pt x="17" y="26"/>
                    </a:lnTo>
                    <a:lnTo>
                      <a:pt x="59" y="0"/>
                    </a:lnTo>
                    <a:lnTo>
                      <a:pt x="194" y="0"/>
                    </a:lnTo>
                    <a:lnTo>
                      <a:pt x="220" y="34"/>
                    </a:lnTo>
                    <a:lnTo>
                      <a:pt x="220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7800" y="1100160"/>
                <a:ext cx="1314000" cy="6480"/>
              </a:xfrm>
              <a:custGeom>
                <a:avLst/>
                <a:gdLst/>
                <a:ahLst/>
                <a:rect l="l" t="t" r="r" b="b"/>
                <a:pathLst>
                  <a:path w="7750" h="34">
                    <a:moveTo>
                      <a:pt x="7750" y="34"/>
                    </a:moveTo>
                    <a:lnTo>
                      <a:pt x="5774" y="34"/>
                    </a:lnTo>
                    <a:lnTo>
                      <a:pt x="5867" y="0"/>
                    </a:lnTo>
                    <a:lnTo>
                      <a:pt x="7581" y="0"/>
                    </a:lnTo>
                    <a:lnTo>
                      <a:pt x="7750" y="34"/>
                    </a:lnTo>
                    <a:close/>
                    <a:moveTo>
                      <a:pt x="185" y="34"/>
                    </a:moveTo>
                    <a:lnTo>
                      <a:pt x="0" y="34"/>
                    </a:lnTo>
                    <a:lnTo>
                      <a:pt x="50" y="0"/>
                    </a:lnTo>
                    <a:lnTo>
                      <a:pt x="101" y="0"/>
                    </a:lnTo>
                    <a:lnTo>
                      <a:pt x="126" y="0"/>
                    </a:lnTo>
                    <a:lnTo>
                      <a:pt x="160" y="0"/>
                    </a:lnTo>
                    <a:lnTo>
                      <a:pt x="18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2480" y="1095480"/>
                <a:ext cx="1295280" cy="6120"/>
              </a:xfrm>
              <a:custGeom>
                <a:avLst/>
                <a:gdLst/>
                <a:ahLst/>
                <a:rect l="l" t="t" r="r" b="b"/>
                <a:pathLst>
                  <a:path w="7632" h="34">
                    <a:moveTo>
                      <a:pt x="7632" y="34"/>
                    </a:moveTo>
                    <a:lnTo>
                      <a:pt x="5792" y="34"/>
                    </a:lnTo>
                    <a:lnTo>
                      <a:pt x="5843" y="17"/>
                    </a:lnTo>
                    <a:lnTo>
                      <a:pt x="5876" y="0"/>
                    </a:lnTo>
                    <a:lnTo>
                      <a:pt x="7472" y="0"/>
                    </a:lnTo>
                    <a:lnTo>
                      <a:pt x="7632" y="34"/>
                    </a:lnTo>
                    <a:close/>
                    <a:moveTo>
                      <a:pt x="135" y="34"/>
                    </a:moveTo>
                    <a:lnTo>
                      <a:pt x="0" y="34"/>
                    </a:lnTo>
                    <a:lnTo>
                      <a:pt x="17" y="26"/>
                    </a:lnTo>
                    <a:lnTo>
                      <a:pt x="85" y="17"/>
                    </a:lnTo>
                    <a:lnTo>
                      <a:pt x="127" y="26"/>
                    </a:lnTo>
                    <a:lnTo>
                      <a:pt x="13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3640" y="1093680"/>
                <a:ext cx="1269720" cy="6480"/>
              </a:xfrm>
              <a:custGeom>
                <a:avLst/>
                <a:gdLst/>
                <a:ahLst/>
                <a:rect l="l" t="t" r="r" b="b"/>
                <a:pathLst>
                  <a:path w="7480" h="34">
                    <a:moveTo>
                      <a:pt x="7480" y="34"/>
                    </a:moveTo>
                    <a:lnTo>
                      <a:pt x="5766" y="34"/>
                    </a:lnTo>
                    <a:lnTo>
                      <a:pt x="5775" y="25"/>
                    </a:lnTo>
                    <a:lnTo>
                      <a:pt x="5859" y="0"/>
                    </a:lnTo>
                    <a:lnTo>
                      <a:pt x="7311" y="0"/>
                    </a:lnTo>
                    <a:lnTo>
                      <a:pt x="7480" y="34"/>
                    </a:lnTo>
                    <a:close/>
                    <a:moveTo>
                      <a:pt x="25" y="34"/>
                    </a:moveTo>
                    <a:lnTo>
                      <a:pt x="0" y="34"/>
                    </a:lnTo>
                    <a:lnTo>
                      <a:pt x="17" y="25"/>
                    </a:lnTo>
                    <a:lnTo>
                      <a:pt x="25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669680" y="1089000"/>
                <a:ext cx="271080" cy="6480"/>
              </a:xfrm>
              <a:custGeom>
                <a:avLst/>
                <a:gdLst/>
                <a:ahLst/>
                <a:rect l="l" t="t" r="r" b="b"/>
                <a:pathLst>
                  <a:path w="1596" h="33">
                    <a:moveTo>
                      <a:pt x="1596" y="33"/>
                    </a:moveTo>
                    <a:lnTo>
                      <a:pt x="0" y="33"/>
                    </a:lnTo>
                    <a:lnTo>
                      <a:pt x="93" y="0"/>
                    </a:lnTo>
                    <a:lnTo>
                      <a:pt x="1419" y="0"/>
                    </a:lnTo>
                    <a:lnTo>
                      <a:pt x="1596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679040" y="1085760"/>
                <a:ext cx="245880" cy="7920"/>
              </a:xfrm>
              <a:custGeom>
                <a:avLst/>
                <a:gdLst/>
                <a:ahLst/>
                <a:rect l="l" t="t" r="r" b="b"/>
                <a:pathLst>
                  <a:path w="1452" h="42">
                    <a:moveTo>
                      <a:pt x="1452" y="42"/>
                    </a:moveTo>
                    <a:lnTo>
                      <a:pt x="0" y="42"/>
                    </a:lnTo>
                    <a:lnTo>
                      <a:pt x="93" y="0"/>
                    </a:lnTo>
                    <a:lnTo>
                      <a:pt x="1283" y="0"/>
                    </a:lnTo>
                    <a:lnTo>
                      <a:pt x="1452" y="42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685520" y="1082880"/>
                <a:ext cx="225000" cy="6120"/>
              </a:xfrm>
              <a:custGeom>
                <a:avLst/>
                <a:gdLst/>
                <a:ahLst/>
                <a:rect l="l" t="t" r="r" b="b"/>
                <a:pathLst>
                  <a:path w="1326" h="34">
                    <a:moveTo>
                      <a:pt x="1326" y="34"/>
                    </a:moveTo>
                    <a:lnTo>
                      <a:pt x="0" y="34"/>
                    </a:lnTo>
                    <a:lnTo>
                      <a:pt x="93" y="0"/>
                    </a:lnTo>
                    <a:lnTo>
                      <a:pt x="1165" y="0"/>
                    </a:lnTo>
                    <a:lnTo>
                      <a:pt x="1326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94880" y="1079640"/>
                <a:ext cx="201240" cy="6120"/>
              </a:xfrm>
              <a:custGeom>
                <a:avLst/>
                <a:gdLst/>
                <a:ahLst/>
                <a:rect l="l" t="t" r="r" b="b"/>
                <a:pathLst>
                  <a:path w="1190" h="34">
                    <a:moveTo>
                      <a:pt x="1190" y="34"/>
                    </a:moveTo>
                    <a:lnTo>
                      <a:pt x="0" y="34"/>
                    </a:lnTo>
                    <a:lnTo>
                      <a:pt x="84" y="0"/>
                    </a:lnTo>
                    <a:lnTo>
                      <a:pt x="1021" y="0"/>
                    </a:lnTo>
                    <a:lnTo>
                      <a:pt x="1190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01360" y="1077840"/>
                <a:ext cx="182160" cy="5040"/>
              </a:xfrm>
              <a:custGeom>
                <a:avLst/>
                <a:gdLst/>
                <a:ahLst/>
                <a:rect l="l" t="t" r="r" b="b"/>
                <a:pathLst>
                  <a:path w="1072" h="34">
                    <a:moveTo>
                      <a:pt x="1072" y="34"/>
                    </a:moveTo>
                    <a:lnTo>
                      <a:pt x="0" y="34"/>
                    </a:lnTo>
                    <a:lnTo>
                      <a:pt x="68" y="9"/>
                    </a:lnTo>
                    <a:lnTo>
                      <a:pt x="93" y="0"/>
                    </a:lnTo>
                    <a:lnTo>
                      <a:pt x="895" y="0"/>
                    </a:lnTo>
                    <a:lnTo>
                      <a:pt x="107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709280" y="1074960"/>
                <a:ext cx="158400" cy="4680"/>
              </a:xfrm>
              <a:custGeom>
                <a:avLst/>
                <a:gdLst/>
                <a:ahLst/>
                <a:rect l="l" t="t" r="r" b="b"/>
                <a:pathLst>
                  <a:path w="937" h="34">
                    <a:moveTo>
                      <a:pt x="937" y="34"/>
                    </a:moveTo>
                    <a:lnTo>
                      <a:pt x="0" y="34"/>
                    </a:lnTo>
                    <a:lnTo>
                      <a:pt x="26" y="26"/>
                    </a:lnTo>
                    <a:lnTo>
                      <a:pt x="110" y="0"/>
                    </a:lnTo>
                    <a:lnTo>
                      <a:pt x="769" y="0"/>
                    </a:lnTo>
                    <a:lnTo>
                      <a:pt x="937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717200" y="1071720"/>
                <a:ext cx="136080" cy="6120"/>
              </a:xfrm>
              <a:custGeom>
                <a:avLst/>
                <a:gdLst/>
                <a:ahLst/>
                <a:rect l="l" t="t" r="r" b="b"/>
                <a:pathLst>
                  <a:path w="802" h="34">
                    <a:moveTo>
                      <a:pt x="802" y="34"/>
                    </a:moveTo>
                    <a:lnTo>
                      <a:pt x="0" y="34"/>
                    </a:lnTo>
                    <a:lnTo>
                      <a:pt x="118" y="0"/>
                    </a:lnTo>
                    <a:lnTo>
                      <a:pt x="633" y="0"/>
                    </a:lnTo>
                    <a:lnTo>
                      <a:pt x="80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726560" y="1068480"/>
                <a:ext cx="112320" cy="6480"/>
              </a:xfrm>
              <a:custGeom>
                <a:avLst/>
                <a:gdLst/>
                <a:ahLst/>
                <a:rect l="l" t="t" r="r" b="b"/>
                <a:pathLst>
                  <a:path w="659" h="33">
                    <a:moveTo>
                      <a:pt x="659" y="33"/>
                    </a:moveTo>
                    <a:lnTo>
                      <a:pt x="0" y="33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490" y="0"/>
                    </a:lnTo>
                    <a:lnTo>
                      <a:pt x="659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37720" y="106524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515" h="33">
                    <a:moveTo>
                      <a:pt x="515" y="33"/>
                    </a:moveTo>
                    <a:lnTo>
                      <a:pt x="0" y="33"/>
                    </a:lnTo>
                    <a:lnTo>
                      <a:pt x="51" y="17"/>
                    </a:lnTo>
                    <a:lnTo>
                      <a:pt x="161" y="0"/>
                    </a:lnTo>
                    <a:lnTo>
                      <a:pt x="346" y="0"/>
                    </a:lnTo>
                    <a:lnTo>
                      <a:pt x="515" y="33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747440" y="1062000"/>
                <a:ext cx="63000" cy="6480"/>
              </a:xfrm>
              <a:custGeom>
                <a:avLst/>
                <a:gdLst/>
                <a:ahLst/>
                <a:rect l="l" t="t" r="r" b="b"/>
                <a:pathLst>
                  <a:path w="372" h="34">
                    <a:moveTo>
                      <a:pt x="372" y="34"/>
                    </a:moveTo>
                    <a:lnTo>
                      <a:pt x="0" y="34"/>
                    </a:lnTo>
                    <a:lnTo>
                      <a:pt x="203" y="0"/>
                    </a:lnTo>
                    <a:lnTo>
                      <a:pt x="372" y="34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64720" y="1062000"/>
                <a:ext cx="31320" cy="3240"/>
              </a:xfrm>
              <a:custGeom>
                <a:avLst/>
                <a:gdLst/>
                <a:ahLst/>
                <a:rect l="l" t="t" r="r" b="b"/>
                <a:pathLst>
                  <a:path w="185" h="17">
                    <a:moveTo>
                      <a:pt x="185" y="17"/>
                    </a:moveTo>
                    <a:lnTo>
                      <a:pt x="0" y="17"/>
                    </a:lnTo>
                    <a:lnTo>
                      <a:pt x="101" y="0"/>
                    </a:lnTo>
                    <a:lnTo>
                      <a:pt x="185" y="17"/>
                    </a:lnTo>
                    <a:close/>
                  </a:path>
                </a:pathLst>
              </a:custGeom>
              <a:solidFill>
                <a:srgbClr val="343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18840" y="1062000"/>
                <a:ext cx="1485720" cy="817560"/>
              </a:xfrm>
              <a:custGeom>
                <a:avLst/>
                <a:gdLst/>
                <a:ahLst/>
                <a:rect l="l" t="t" r="r" b="b"/>
                <a:pathLst>
                  <a:path w="8755" h="4474">
                    <a:moveTo>
                      <a:pt x="734" y="489"/>
                    </a:moveTo>
                    <a:lnTo>
                      <a:pt x="633" y="464"/>
                    </a:lnTo>
                    <a:lnTo>
                      <a:pt x="531" y="422"/>
                    </a:lnTo>
                    <a:lnTo>
                      <a:pt x="506" y="371"/>
                    </a:lnTo>
                    <a:lnTo>
                      <a:pt x="498" y="295"/>
                    </a:lnTo>
                    <a:lnTo>
                      <a:pt x="481" y="253"/>
                    </a:lnTo>
                    <a:lnTo>
                      <a:pt x="447" y="211"/>
                    </a:lnTo>
                    <a:lnTo>
                      <a:pt x="405" y="202"/>
                    </a:lnTo>
                    <a:lnTo>
                      <a:pt x="337" y="211"/>
                    </a:lnTo>
                    <a:lnTo>
                      <a:pt x="278" y="245"/>
                    </a:lnTo>
                    <a:lnTo>
                      <a:pt x="42" y="489"/>
                    </a:lnTo>
                    <a:lnTo>
                      <a:pt x="0" y="625"/>
                    </a:lnTo>
                    <a:lnTo>
                      <a:pt x="0" y="692"/>
                    </a:lnTo>
                    <a:lnTo>
                      <a:pt x="33" y="751"/>
                    </a:lnTo>
                    <a:lnTo>
                      <a:pt x="92" y="802"/>
                    </a:lnTo>
                    <a:lnTo>
                      <a:pt x="295" y="886"/>
                    </a:lnTo>
                    <a:lnTo>
                      <a:pt x="430" y="945"/>
                    </a:lnTo>
                    <a:lnTo>
                      <a:pt x="616" y="1097"/>
                    </a:lnTo>
                    <a:lnTo>
                      <a:pt x="928" y="1452"/>
                    </a:lnTo>
                    <a:lnTo>
                      <a:pt x="1604" y="2296"/>
                    </a:lnTo>
                    <a:lnTo>
                      <a:pt x="2169" y="3073"/>
                    </a:lnTo>
                    <a:lnTo>
                      <a:pt x="2439" y="3394"/>
                    </a:lnTo>
                    <a:lnTo>
                      <a:pt x="2743" y="3698"/>
                    </a:lnTo>
                    <a:lnTo>
                      <a:pt x="3098" y="3985"/>
                    </a:lnTo>
                    <a:lnTo>
                      <a:pt x="3427" y="4170"/>
                    </a:lnTo>
                    <a:lnTo>
                      <a:pt x="3790" y="4314"/>
                    </a:lnTo>
                    <a:lnTo>
                      <a:pt x="4204" y="4407"/>
                    </a:lnTo>
                    <a:lnTo>
                      <a:pt x="4567" y="4457"/>
                    </a:lnTo>
                    <a:lnTo>
                      <a:pt x="4998" y="4474"/>
                    </a:lnTo>
                    <a:lnTo>
                      <a:pt x="5344" y="4441"/>
                    </a:lnTo>
                    <a:lnTo>
                      <a:pt x="5555" y="4407"/>
                    </a:lnTo>
                    <a:lnTo>
                      <a:pt x="5732" y="4348"/>
                    </a:lnTo>
                    <a:lnTo>
                      <a:pt x="5952" y="4272"/>
                    </a:lnTo>
                    <a:lnTo>
                      <a:pt x="6154" y="4162"/>
                    </a:lnTo>
                    <a:lnTo>
                      <a:pt x="6407" y="3985"/>
                    </a:lnTo>
                    <a:lnTo>
                      <a:pt x="6635" y="3782"/>
                    </a:lnTo>
                    <a:lnTo>
                      <a:pt x="6745" y="3655"/>
                    </a:lnTo>
                    <a:lnTo>
                      <a:pt x="6922" y="3419"/>
                    </a:lnTo>
                    <a:lnTo>
                      <a:pt x="7083" y="3174"/>
                    </a:lnTo>
                    <a:lnTo>
                      <a:pt x="7260" y="2870"/>
                    </a:lnTo>
                    <a:lnTo>
                      <a:pt x="7353" y="2693"/>
                    </a:lnTo>
                    <a:lnTo>
                      <a:pt x="7556" y="2245"/>
                    </a:lnTo>
                    <a:lnTo>
                      <a:pt x="7699" y="1942"/>
                    </a:lnTo>
                    <a:lnTo>
                      <a:pt x="7843" y="1680"/>
                    </a:lnTo>
                    <a:lnTo>
                      <a:pt x="7952" y="1494"/>
                    </a:lnTo>
                    <a:lnTo>
                      <a:pt x="8071" y="1317"/>
                    </a:lnTo>
                    <a:lnTo>
                      <a:pt x="8206" y="1123"/>
                    </a:lnTo>
                    <a:lnTo>
                      <a:pt x="8417" y="895"/>
                    </a:lnTo>
                    <a:lnTo>
                      <a:pt x="8527" y="793"/>
                    </a:lnTo>
                    <a:lnTo>
                      <a:pt x="8636" y="700"/>
                    </a:lnTo>
                    <a:lnTo>
                      <a:pt x="8704" y="658"/>
                    </a:lnTo>
                    <a:lnTo>
                      <a:pt x="8738" y="608"/>
                    </a:lnTo>
                    <a:lnTo>
                      <a:pt x="8755" y="557"/>
                    </a:lnTo>
                    <a:lnTo>
                      <a:pt x="8746" y="456"/>
                    </a:lnTo>
                    <a:lnTo>
                      <a:pt x="8738" y="422"/>
                    </a:lnTo>
                    <a:lnTo>
                      <a:pt x="8695" y="388"/>
                    </a:lnTo>
                    <a:lnTo>
                      <a:pt x="8645" y="363"/>
                    </a:lnTo>
                    <a:lnTo>
                      <a:pt x="6855" y="0"/>
                    </a:lnTo>
                    <a:lnTo>
                      <a:pt x="6644" y="34"/>
                    </a:lnTo>
                    <a:lnTo>
                      <a:pt x="6450" y="93"/>
                    </a:lnTo>
                    <a:lnTo>
                      <a:pt x="6163" y="202"/>
                    </a:lnTo>
                    <a:lnTo>
                      <a:pt x="5909" y="304"/>
                    </a:lnTo>
                    <a:lnTo>
                      <a:pt x="5783" y="329"/>
                    </a:lnTo>
                    <a:lnTo>
                      <a:pt x="5690" y="329"/>
                    </a:lnTo>
                    <a:lnTo>
                      <a:pt x="2625" y="354"/>
                    </a:lnTo>
                    <a:lnTo>
                      <a:pt x="2119" y="447"/>
                    </a:lnTo>
                    <a:lnTo>
                      <a:pt x="1773" y="498"/>
                    </a:lnTo>
                    <a:lnTo>
                      <a:pt x="1452" y="523"/>
                    </a:lnTo>
                    <a:lnTo>
                      <a:pt x="1097" y="532"/>
                    </a:lnTo>
                    <a:lnTo>
                      <a:pt x="734" y="489"/>
                    </a:lnTo>
                    <a:close/>
                  </a:path>
                </a:pathLst>
              </a:custGeom>
              <a:noFill/>
              <a:ln w="1440">
                <a:solidFill>
                  <a:srgbClr val="3437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460160" y="1490760"/>
                <a:ext cx="97920" cy="1440"/>
              </a:xfrm>
              <a:custGeom>
                <a:avLst/>
                <a:gdLst/>
                <a:ahLst/>
                <a:rect l="l" t="t" r="r" b="b"/>
                <a:pathLst>
                  <a:path w="583" h="8">
                    <a:moveTo>
                      <a:pt x="498" y="8"/>
                    </a:moveTo>
                    <a:lnTo>
                      <a:pt x="76" y="8"/>
                    </a:lnTo>
                    <a:lnTo>
                      <a:pt x="0" y="0"/>
                    </a:lnTo>
                    <a:lnTo>
                      <a:pt x="583" y="0"/>
                    </a:lnTo>
                    <a:lnTo>
                      <a:pt x="4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5760" y="1490760"/>
                <a:ext cx="126720" cy="1440"/>
              </a:xfrm>
              <a:custGeom>
                <a:avLst/>
                <a:gdLst/>
                <a:ahLst/>
                <a:rect l="l" t="t" r="r" b="b"/>
                <a:pathLst>
                  <a:path w="743" h="8">
                    <a:moveTo>
                      <a:pt x="574" y="8"/>
                    </a:moveTo>
                    <a:lnTo>
                      <a:pt x="152" y="8"/>
                    </a:lnTo>
                    <a:lnTo>
                      <a:pt x="0" y="0"/>
                    </a:lnTo>
                    <a:lnTo>
                      <a:pt x="743" y="0"/>
                    </a:lnTo>
                    <a:lnTo>
                      <a:pt x="57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433160" y="1488960"/>
                <a:ext cx="151920" cy="1800"/>
              </a:xfrm>
              <a:custGeom>
                <a:avLst/>
                <a:gdLst/>
                <a:ahLst/>
                <a:rect l="l" t="t" r="r" b="b"/>
                <a:pathLst>
                  <a:path w="895" h="9">
                    <a:moveTo>
                      <a:pt x="735" y="9"/>
                    </a:moveTo>
                    <a:lnTo>
                      <a:pt x="152" y="9"/>
                    </a:lnTo>
                    <a:lnTo>
                      <a:pt x="0" y="0"/>
                    </a:lnTo>
                    <a:lnTo>
                      <a:pt x="895" y="0"/>
                    </a:lnTo>
                    <a:lnTo>
                      <a:pt x="73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420200" y="1487520"/>
                <a:ext cx="179280" cy="3240"/>
              </a:xfrm>
              <a:custGeom>
                <a:avLst/>
                <a:gdLst/>
                <a:ahLst/>
                <a:rect l="l" t="t" r="r" b="b"/>
                <a:pathLst>
                  <a:path w="1056" h="17">
                    <a:moveTo>
                      <a:pt x="895" y="17"/>
                    </a:moveTo>
                    <a:lnTo>
                      <a:pt x="152" y="17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0"/>
                    </a:lnTo>
                    <a:lnTo>
                      <a:pt x="89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407600" y="1486080"/>
                <a:ext cx="199800" cy="2880"/>
              </a:xfrm>
              <a:custGeom>
                <a:avLst/>
                <a:gdLst/>
                <a:ahLst/>
                <a:rect l="l" t="t" r="r" b="b"/>
                <a:pathLst>
                  <a:path w="1174" h="17">
                    <a:moveTo>
                      <a:pt x="1047" y="17"/>
                    </a:moveTo>
                    <a:lnTo>
                      <a:pt x="152" y="17"/>
                    </a:lnTo>
                    <a:lnTo>
                      <a:pt x="0" y="0"/>
                    </a:lnTo>
                    <a:lnTo>
                      <a:pt x="1174" y="0"/>
                    </a:lnTo>
                    <a:lnTo>
                      <a:pt x="1132" y="9"/>
                    </a:lnTo>
                    <a:lnTo>
                      <a:pt x="10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399680" y="1486080"/>
                <a:ext cx="212400" cy="1440"/>
              </a:xfrm>
              <a:custGeom>
                <a:avLst/>
                <a:gdLst/>
                <a:ahLst/>
                <a:rect l="l" t="t" r="r" b="b"/>
                <a:pathLst>
                  <a:path w="1258" h="9">
                    <a:moveTo>
                      <a:pt x="1182" y="9"/>
                    </a:moveTo>
                    <a:lnTo>
                      <a:pt x="126" y="9"/>
                    </a:lnTo>
                    <a:lnTo>
                      <a:pt x="34" y="0"/>
                    </a:lnTo>
                    <a:lnTo>
                      <a:pt x="0" y="0"/>
                    </a:lnTo>
                    <a:lnTo>
                      <a:pt x="1258" y="0"/>
                    </a:lnTo>
                    <a:lnTo>
                      <a:pt x="118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93200" y="1484280"/>
                <a:ext cx="226800" cy="1800"/>
              </a:xfrm>
              <a:custGeom>
                <a:avLst/>
                <a:gdLst/>
                <a:ahLst/>
                <a:rect l="l" t="t" r="r" b="b"/>
                <a:pathLst>
                  <a:path w="1334" h="8">
                    <a:moveTo>
                      <a:pt x="1258" y="8"/>
                    </a:moveTo>
                    <a:lnTo>
                      <a:pt x="84" y="8"/>
                    </a:lnTo>
                    <a:lnTo>
                      <a:pt x="68" y="8"/>
                    </a:lnTo>
                    <a:lnTo>
                      <a:pt x="0" y="0"/>
                    </a:lnTo>
                    <a:lnTo>
                      <a:pt x="1334" y="0"/>
                    </a:lnTo>
                    <a:lnTo>
                      <a:pt x="125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87080" y="1482840"/>
                <a:ext cx="237600" cy="3240"/>
              </a:xfrm>
              <a:custGeom>
                <a:avLst/>
                <a:gdLst/>
                <a:ahLst/>
                <a:rect l="l" t="t" r="r" b="b"/>
                <a:pathLst>
                  <a:path w="1410" h="16">
                    <a:moveTo>
                      <a:pt x="1334" y="16"/>
                    </a:moveTo>
                    <a:lnTo>
                      <a:pt x="76" y="16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34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79160" y="1481040"/>
                <a:ext cx="253440" cy="3240"/>
              </a:xfrm>
              <a:custGeom>
                <a:avLst/>
                <a:gdLst/>
                <a:ahLst/>
                <a:rect l="l" t="t" r="r" b="b"/>
                <a:pathLst>
                  <a:path w="1494" h="17">
                    <a:moveTo>
                      <a:pt x="1418" y="17"/>
                    </a:moveTo>
                    <a:lnTo>
                      <a:pt x="84" y="17"/>
                    </a:lnTo>
                    <a:lnTo>
                      <a:pt x="0" y="0"/>
                    </a:lnTo>
                    <a:lnTo>
                      <a:pt x="1494" y="0"/>
                    </a:lnTo>
                    <a:lnTo>
                      <a:pt x="141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72680" y="1481040"/>
                <a:ext cx="264600" cy="1800"/>
              </a:xfrm>
              <a:custGeom>
                <a:avLst/>
                <a:gdLst/>
                <a:ahLst/>
                <a:rect l="l" t="t" r="r" b="b"/>
                <a:pathLst>
                  <a:path w="1562" h="9">
                    <a:moveTo>
                      <a:pt x="1486" y="9"/>
                    </a:moveTo>
                    <a:lnTo>
                      <a:pt x="76" y="9"/>
                    </a:lnTo>
                    <a:lnTo>
                      <a:pt x="0" y="0"/>
                    </a:lnTo>
                    <a:lnTo>
                      <a:pt x="1562" y="0"/>
                    </a:lnTo>
                    <a:lnTo>
                      <a:pt x="14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66200" y="1479600"/>
                <a:ext cx="279360" cy="1440"/>
              </a:xfrm>
              <a:custGeom>
                <a:avLst/>
                <a:gdLst/>
                <a:ahLst/>
                <a:rect l="l" t="t" r="r" b="b"/>
                <a:pathLst>
                  <a:path w="1646" h="8">
                    <a:moveTo>
                      <a:pt x="1570" y="8"/>
                    </a:moveTo>
                    <a:lnTo>
                      <a:pt x="76" y="8"/>
                    </a:lnTo>
                    <a:lnTo>
                      <a:pt x="0" y="0"/>
                    </a:lnTo>
                    <a:lnTo>
                      <a:pt x="1646" y="0"/>
                    </a:lnTo>
                    <a:lnTo>
                      <a:pt x="157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58280" y="1479600"/>
                <a:ext cx="293400" cy="1440"/>
              </a:xfrm>
              <a:custGeom>
                <a:avLst/>
                <a:gdLst/>
                <a:ahLst/>
                <a:rect l="l" t="t" r="r" b="b"/>
                <a:pathLst>
                  <a:path w="1731" h="8">
                    <a:moveTo>
                      <a:pt x="1647" y="8"/>
                    </a:moveTo>
                    <a:lnTo>
                      <a:pt x="85" y="8"/>
                    </a:lnTo>
                    <a:lnTo>
                      <a:pt x="0" y="0"/>
                    </a:lnTo>
                    <a:lnTo>
                      <a:pt x="1731" y="0"/>
                    </a:lnTo>
                    <a:lnTo>
                      <a:pt x="164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1478160"/>
                <a:ext cx="304560" cy="1440"/>
              </a:xfrm>
              <a:custGeom>
                <a:avLst/>
                <a:gdLst/>
                <a:ahLst/>
                <a:rect l="l" t="t" r="r" b="b"/>
                <a:pathLst>
                  <a:path w="1798" h="9">
                    <a:moveTo>
                      <a:pt x="1722" y="9"/>
                    </a:moveTo>
                    <a:lnTo>
                      <a:pt x="76" y="9"/>
                    </a:lnTo>
                    <a:lnTo>
                      <a:pt x="0" y="0"/>
                    </a:lnTo>
                    <a:lnTo>
                      <a:pt x="1798" y="0"/>
                    </a:lnTo>
                    <a:lnTo>
                      <a:pt x="172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45680" y="1476360"/>
                <a:ext cx="320400" cy="3240"/>
              </a:xfrm>
              <a:custGeom>
                <a:avLst/>
                <a:gdLst/>
                <a:ahLst/>
                <a:rect l="l" t="t" r="r" b="b"/>
                <a:pathLst>
                  <a:path w="1883" h="17">
                    <a:moveTo>
                      <a:pt x="1807" y="17"/>
                    </a:moveTo>
                    <a:lnTo>
                      <a:pt x="76" y="17"/>
                    </a:lnTo>
                    <a:lnTo>
                      <a:pt x="0" y="0"/>
                    </a:lnTo>
                    <a:lnTo>
                      <a:pt x="1883" y="0"/>
                    </a:lnTo>
                    <a:lnTo>
                      <a:pt x="180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9200" y="1474920"/>
                <a:ext cx="333000" cy="3240"/>
              </a:xfrm>
              <a:custGeom>
                <a:avLst/>
                <a:gdLst/>
                <a:ahLst/>
                <a:rect l="l" t="t" r="r" b="b"/>
                <a:pathLst>
                  <a:path w="1967" h="17">
                    <a:moveTo>
                      <a:pt x="1883" y="17"/>
                    </a:moveTo>
                    <a:lnTo>
                      <a:pt x="85" y="17"/>
                    </a:lnTo>
                    <a:lnTo>
                      <a:pt x="0" y="0"/>
                    </a:lnTo>
                    <a:lnTo>
                      <a:pt x="1967" y="0"/>
                    </a:lnTo>
                    <a:lnTo>
                      <a:pt x="188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3080" y="1474920"/>
                <a:ext cx="345600" cy="1440"/>
              </a:xfrm>
              <a:custGeom>
                <a:avLst/>
                <a:gdLst/>
                <a:ahLst/>
                <a:rect l="l" t="t" r="r" b="b"/>
                <a:pathLst>
                  <a:path w="2035" h="9">
                    <a:moveTo>
                      <a:pt x="1959" y="9"/>
                    </a:moveTo>
                    <a:lnTo>
                      <a:pt x="76" y="9"/>
                    </a:lnTo>
                    <a:lnTo>
                      <a:pt x="0" y="0"/>
                    </a:lnTo>
                    <a:lnTo>
                      <a:pt x="2035" y="0"/>
                    </a:lnTo>
                    <a:lnTo>
                      <a:pt x="195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26600" y="1473120"/>
                <a:ext cx="358560" cy="1800"/>
              </a:xfrm>
              <a:custGeom>
                <a:avLst/>
                <a:gdLst/>
                <a:ahLst/>
                <a:rect l="l" t="t" r="r" b="b"/>
                <a:pathLst>
                  <a:path w="2119" h="8">
                    <a:moveTo>
                      <a:pt x="2043" y="8"/>
                    </a:moveTo>
                    <a:lnTo>
                      <a:pt x="76" y="8"/>
                    </a:lnTo>
                    <a:lnTo>
                      <a:pt x="0" y="0"/>
                    </a:lnTo>
                    <a:lnTo>
                      <a:pt x="2119" y="0"/>
                    </a:lnTo>
                    <a:lnTo>
                      <a:pt x="204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8680" y="1471680"/>
                <a:ext cx="371160" cy="3240"/>
              </a:xfrm>
              <a:custGeom>
                <a:avLst/>
                <a:gdLst/>
                <a:ahLst/>
                <a:rect l="l" t="t" r="r" b="b"/>
                <a:pathLst>
                  <a:path w="2187" h="17">
                    <a:moveTo>
                      <a:pt x="2119" y="17"/>
                    </a:moveTo>
                    <a:lnTo>
                      <a:pt x="84" y="17"/>
                    </a:lnTo>
                    <a:lnTo>
                      <a:pt x="0" y="0"/>
                    </a:lnTo>
                    <a:lnTo>
                      <a:pt x="2187" y="0"/>
                    </a:lnTo>
                    <a:lnTo>
                      <a:pt x="2170" y="9"/>
                    </a:lnTo>
                    <a:lnTo>
                      <a:pt x="211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14000" y="1471680"/>
                <a:ext cx="380520" cy="1440"/>
              </a:xfrm>
              <a:custGeom>
                <a:avLst/>
                <a:gdLst/>
                <a:ahLst/>
                <a:rect l="l" t="t" r="r" b="b"/>
                <a:pathLst>
                  <a:path w="2246" h="9">
                    <a:moveTo>
                      <a:pt x="2195" y="9"/>
                    </a:moveTo>
                    <a:lnTo>
                      <a:pt x="76" y="9"/>
                    </a:lnTo>
                    <a:lnTo>
                      <a:pt x="0" y="0"/>
                    </a:lnTo>
                    <a:lnTo>
                      <a:pt x="2246" y="0"/>
                    </a:lnTo>
                    <a:lnTo>
                      <a:pt x="2204" y="9"/>
                    </a:lnTo>
                    <a:lnTo>
                      <a:pt x="219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06080" y="1470240"/>
                <a:ext cx="390240" cy="1440"/>
              </a:xfrm>
              <a:custGeom>
                <a:avLst/>
                <a:gdLst/>
                <a:ahLst/>
                <a:rect l="l" t="t" r="r" b="b"/>
                <a:pathLst>
                  <a:path w="2305" h="8">
                    <a:moveTo>
                      <a:pt x="2263" y="8"/>
                    </a:moveTo>
                    <a:lnTo>
                      <a:pt x="76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305" y="0"/>
                    </a:lnTo>
                    <a:lnTo>
                      <a:pt x="226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01400" y="1468440"/>
                <a:ext cx="399600" cy="3240"/>
              </a:xfrm>
              <a:custGeom>
                <a:avLst/>
                <a:gdLst/>
                <a:ahLst/>
                <a:rect l="l" t="t" r="r" b="b"/>
                <a:pathLst>
                  <a:path w="2355" h="16">
                    <a:moveTo>
                      <a:pt x="2313" y="16"/>
                    </a:moveTo>
                    <a:lnTo>
                      <a:pt x="67" y="16"/>
                    </a:lnTo>
                    <a:lnTo>
                      <a:pt x="33" y="8"/>
                    </a:lnTo>
                    <a:lnTo>
                      <a:pt x="0" y="0"/>
                    </a:lnTo>
                    <a:lnTo>
                      <a:pt x="2355" y="0"/>
                    </a:lnTo>
                    <a:lnTo>
                      <a:pt x="231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298160" y="1468440"/>
                <a:ext cx="406080" cy="1800"/>
              </a:xfrm>
              <a:custGeom>
                <a:avLst/>
                <a:gdLst/>
                <a:ahLst/>
                <a:rect l="l" t="t" r="r" b="b"/>
                <a:pathLst>
                  <a:path w="2398" h="8">
                    <a:moveTo>
                      <a:pt x="2356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2398" y="0"/>
                    </a:lnTo>
                    <a:lnTo>
                      <a:pt x="235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293480" y="1467000"/>
                <a:ext cx="415440" cy="1440"/>
              </a:xfrm>
              <a:custGeom>
                <a:avLst/>
                <a:gdLst/>
                <a:ahLst/>
                <a:rect l="l" t="t" r="r" b="b"/>
                <a:pathLst>
                  <a:path w="2448" h="9">
                    <a:moveTo>
                      <a:pt x="2406" y="9"/>
                    </a:moveTo>
                    <a:lnTo>
                      <a:pt x="51" y="9"/>
                    </a:lnTo>
                    <a:lnTo>
                      <a:pt x="0" y="0"/>
                    </a:lnTo>
                    <a:lnTo>
                      <a:pt x="2448" y="0"/>
                    </a:lnTo>
                    <a:lnTo>
                      <a:pt x="240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287000" y="1465200"/>
                <a:ext cx="425160" cy="3240"/>
              </a:xfrm>
              <a:custGeom>
                <a:avLst/>
                <a:gdLst/>
                <a:ahLst/>
                <a:rect l="l" t="t" r="r" b="b"/>
                <a:pathLst>
                  <a:path w="2508" h="17">
                    <a:moveTo>
                      <a:pt x="2457" y="17"/>
                    </a:moveTo>
                    <a:lnTo>
                      <a:pt x="59" y="17"/>
                    </a:lnTo>
                    <a:lnTo>
                      <a:pt x="0" y="0"/>
                    </a:lnTo>
                    <a:lnTo>
                      <a:pt x="2508" y="0"/>
                    </a:lnTo>
                    <a:lnTo>
                      <a:pt x="245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83760" y="1463760"/>
                <a:ext cx="431640" cy="3240"/>
              </a:xfrm>
              <a:custGeom>
                <a:avLst/>
                <a:gdLst/>
                <a:ahLst/>
                <a:rect l="l" t="t" r="r" b="b"/>
                <a:pathLst>
                  <a:path w="2550" h="17">
                    <a:moveTo>
                      <a:pt x="2507" y="17"/>
                    </a:moveTo>
                    <a:lnTo>
                      <a:pt x="59" y="17"/>
                    </a:lnTo>
                    <a:lnTo>
                      <a:pt x="0" y="0"/>
                    </a:lnTo>
                    <a:lnTo>
                      <a:pt x="2550" y="0"/>
                    </a:lnTo>
                    <a:lnTo>
                      <a:pt x="250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279080" y="1463760"/>
                <a:ext cx="441000" cy="1440"/>
              </a:xfrm>
              <a:custGeom>
                <a:avLst/>
                <a:gdLst/>
                <a:ahLst/>
                <a:rect l="l" t="t" r="r" b="b"/>
                <a:pathLst>
                  <a:path w="2600" h="9">
                    <a:moveTo>
                      <a:pt x="2558" y="9"/>
                    </a:moveTo>
                    <a:lnTo>
                      <a:pt x="50" y="9"/>
                    </a:lnTo>
                    <a:lnTo>
                      <a:pt x="0" y="0"/>
                    </a:lnTo>
                    <a:lnTo>
                      <a:pt x="2600" y="0"/>
                    </a:lnTo>
                    <a:lnTo>
                      <a:pt x="255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74400" y="1461960"/>
                <a:ext cx="450360" cy="1800"/>
              </a:xfrm>
              <a:custGeom>
                <a:avLst/>
                <a:gdLst/>
                <a:ahLst/>
                <a:rect l="l" t="t" r="r" b="b"/>
                <a:pathLst>
                  <a:path w="2651" h="8">
                    <a:moveTo>
                      <a:pt x="2601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2651" y="0"/>
                    </a:lnTo>
                    <a:lnTo>
                      <a:pt x="260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71160" y="1461960"/>
                <a:ext cx="456840" cy="1800"/>
              </a:xfrm>
              <a:custGeom>
                <a:avLst/>
                <a:gdLst/>
                <a:ahLst/>
                <a:rect l="l" t="t" r="r" b="b"/>
                <a:pathLst>
                  <a:path w="2702" h="8">
                    <a:moveTo>
                      <a:pt x="2651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2702" y="0"/>
                    </a:lnTo>
                    <a:lnTo>
                      <a:pt x="265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64680" y="1460520"/>
                <a:ext cx="466560" cy="1440"/>
              </a:xfrm>
              <a:custGeom>
                <a:avLst/>
                <a:gdLst/>
                <a:ahLst/>
                <a:rect l="l" t="t" r="r" b="b"/>
                <a:pathLst>
                  <a:path w="2752" h="9">
                    <a:moveTo>
                      <a:pt x="2710" y="9"/>
                    </a:moveTo>
                    <a:lnTo>
                      <a:pt x="59" y="9"/>
                    </a:lnTo>
                    <a:lnTo>
                      <a:pt x="0" y="0"/>
                    </a:lnTo>
                    <a:lnTo>
                      <a:pt x="2752" y="0"/>
                    </a:lnTo>
                    <a:lnTo>
                      <a:pt x="271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60000" y="1460520"/>
                <a:ext cx="475920" cy="1440"/>
              </a:xfrm>
              <a:custGeom>
                <a:avLst/>
                <a:gdLst/>
                <a:ahLst/>
                <a:rect l="l" t="t" r="r" b="b"/>
                <a:pathLst>
                  <a:path w="2803" h="17">
                    <a:moveTo>
                      <a:pt x="2761" y="17"/>
                    </a:moveTo>
                    <a:lnTo>
                      <a:pt x="59" y="17"/>
                    </a:lnTo>
                    <a:lnTo>
                      <a:pt x="0" y="0"/>
                    </a:lnTo>
                    <a:lnTo>
                      <a:pt x="2803" y="0"/>
                    </a:lnTo>
                    <a:lnTo>
                      <a:pt x="276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256760" y="1457280"/>
                <a:ext cx="482400" cy="3240"/>
              </a:xfrm>
              <a:custGeom>
                <a:avLst/>
                <a:gdLst/>
                <a:ahLst/>
                <a:rect l="l" t="t" r="r" b="b"/>
                <a:pathLst>
                  <a:path w="2845" h="17">
                    <a:moveTo>
                      <a:pt x="2802" y="17"/>
                    </a:moveTo>
                    <a:lnTo>
                      <a:pt x="50" y="17"/>
                    </a:lnTo>
                    <a:lnTo>
                      <a:pt x="0" y="0"/>
                    </a:lnTo>
                    <a:lnTo>
                      <a:pt x="2845" y="0"/>
                    </a:lnTo>
                    <a:lnTo>
                      <a:pt x="280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252080" y="1457280"/>
                <a:ext cx="489960" cy="3240"/>
              </a:xfrm>
              <a:custGeom>
                <a:avLst/>
                <a:gdLst/>
                <a:ahLst/>
                <a:rect l="l" t="t" r="r" b="b"/>
                <a:pathLst>
                  <a:path w="2896" h="9">
                    <a:moveTo>
                      <a:pt x="2854" y="9"/>
                    </a:moveTo>
                    <a:lnTo>
                      <a:pt x="51" y="9"/>
                    </a:lnTo>
                    <a:lnTo>
                      <a:pt x="0" y="0"/>
                    </a:lnTo>
                    <a:lnTo>
                      <a:pt x="2896" y="0"/>
                    </a:lnTo>
                    <a:lnTo>
                      <a:pt x="285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245600" y="1457280"/>
                <a:ext cx="501480" cy="1800"/>
              </a:xfrm>
              <a:custGeom>
                <a:avLst/>
                <a:gdLst/>
                <a:ahLst/>
                <a:rect l="l" t="t" r="r" b="b"/>
                <a:pathLst>
                  <a:path w="2955" h="8">
                    <a:moveTo>
                      <a:pt x="2905" y="8"/>
                    </a:moveTo>
                    <a:lnTo>
                      <a:pt x="60" y="8"/>
                    </a:lnTo>
                    <a:lnTo>
                      <a:pt x="0" y="0"/>
                    </a:lnTo>
                    <a:lnTo>
                      <a:pt x="2955" y="0"/>
                    </a:lnTo>
                    <a:lnTo>
                      <a:pt x="290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240920" y="1455840"/>
                <a:ext cx="509400" cy="1440"/>
              </a:xfrm>
              <a:custGeom>
                <a:avLst/>
                <a:gdLst/>
                <a:ahLst/>
                <a:rect l="l" t="t" r="r" b="b"/>
                <a:pathLst>
                  <a:path w="2997" h="16">
                    <a:moveTo>
                      <a:pt x="2955" y="16"/>
                    </a:moveTo>
                    <a:lnTo>
                      <a:pt x="59" y="16"/>
                    </a:lnTo>
                    <a:lnTo>
                      <a:pt x="0" y="0"/>
                    </a:lnTo>
                    <a:lnTo>
                      <a:pt x="2997" y="0"/>
                    </a:lnTo>
                    <a:lnTo>
                      <a:pt x="295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7680" y="1454040"/>
                <a:ext cx="517320" cy="3240"/>
              </a:xfrm>
              <a:custGeom>
                <a:avLst/>
                <a:gdLst/>
                <a:ahLst/>
                <a:rect l="l" t="t" r="r" b="b"/>
                <a:pathLst>
                  <a:path w="3048" h="17">
                    <a:moveTo>
                      <a:pt x="3005" y="17"/>
                    </a:moveTo>
                    <a:lnTo>
                      <a:pt x="50" y="17"/>
                    </a:lnTo>
                    <a:lnTo>
                      <a:pt x="0" y="0"/>
                    </a:lnTo>
                    <a:lnTo>
                      <a:pt x="3048" y="0"/>
                    </a:lnTo>
                    <a:lnTo>
                      <a:pt x="300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33000" y="1454040"/>
                <a:ext cx="525240" cy="1800"/>
              </a:xfrm>
              <a:custGeom>
                <a:avLst/>
                <a:gdLst/>
                <a:ahLst/>
                <a:rect l="l" t="t" r="r" b="b"/>
                <a:pathLst>
                  <a:path w="3099" h="9">
                    <a:moveTo>
                      <a:pt x="3048" y="9"/>
                    </a:moveTo>
                    <a:lnTo>
                      <a:pt x="51" y="9"/>
                    </a:lnTo>
                    <a:lnTo>
                      <a:pt x="0" y="0"/>
                    </a:lnTo>
                    <a:lnTo>
                      <a:pt x="3099" y="0"/>
                    </a:lnTo>
                    <a:lnTo>
                      <a:pt x="304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228320" y="1452600"/>
                <a:ext cx="532800" cy="1440"/>
              </a:xfrm>
              <a:custGeom>
                <a:avLst/>
                <a:gdLst/>
                <a:ahLst/>
                <a:rect l="l" t="t" r="r" b="b"/>
                <a:pathLst>
                  <a:path w="3141" h="8">
                    <a:moveTo>
                      <a:pt x="3099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3141" y="0"/>
                    </a:lnTo>
                    <a:lnTo>
                      <a:pt x="309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223640" y="1452600"/>
                <a:ext cx="542520" cy="1440"/>
              </a:xfrm>
              <a:custGeom>
                <a:avLst/>
                <a:gdLst/>
                <a:ahLst/>
                <a:rect l="l" t="t" r="r" b="b"/>
                <a:pathLst>
                  <a:path w="3200" h="8">
                    <a:moveTo>
                      <a:pt x="3158" y="8"/>
                    </a:moveTo>
                    <a:lnTo>
                      <a:pt x="59" y="8"/>
                    </a:lnTo>
                    <a:lnTo>
                      <a:pt x="0" y="0"/>
                    </a:lnTo>
                    <a:lnTo>
                      <a:pt x="3200" y="0"/>
                    </a:lnTo>
                    <a:lnTo>
                      <a:pt x="315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218600" y="1451160"/>
                <a:ext cx="550440" cy="1440"/>
              </a:xfrm>
              <a:custGeom>
                <a:avLst/>
                <a:gdLst/>
                <a:ahLst/>
                <a:rect l="l" t="t" r="r" b="b"/>
                <a:pathLst>
                  <a:path w="3250" h="9">
                    <a:moveTo>
                      <a:pt x="3200" y="9"/>
                    </a:moveTo>
                    <a:lnTo>
                      <a:pt x="59" y="9"/>
                    </a:lnTo>
                    <a:lnTo>
                      <a:pt x="0" y="0"/>
                    </a:lnTo>
                    <a:lnTo>
                      <a:pt x="3250" y="0"/>
                    </a:lnTo>
                    <a:lnTo>
                      <a:pt x="320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13920" y="1449360"/>
                <a:ext cx="558360" cy="3240"/>
              </a:xfrm>
              <a:custGeom>
                <a:avLst/>
                <a:gdLst/>
                <a:ahLst/>
                <a:rect l="l" t="t" r="r" b="b"/>
                <a:pathLst>
                  <a:path w="3292" h="17">
                    <a:moveTo>
                      <a:pt x="3250" y="17"/>
                    </a:moveTo>
                    <a:lnTo>
                      <a:pt x="50" y="17"/>
                    </a:lnTo>
                    <a:lnTo>
                      <a:pt x="0" y="0"/>
                    </a:lnTo>
                    <a:lnTo>
                      <a:pt x="3292" y="0"/>
                    </a:lnTo>
                    <a:lnTo>
                      <a:pt x="325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10680" y="1447920"/>
                <a:ext cx="566640" cy="3240"/>
              </a:xfrm>
              <a:custGeom>
                <a:avLst/>
                <a:gdLst/>
                <a:ahLst/>
                <a:rect l="l" t="t" r="r" b="b"/>
                <a:pathLst>
                  <a:path w="3344" h="17">
                    <a:moveTo>
                      <a:pt x="3301" y="17"/>
                    </a:moveTo>
                    <a:lnTo>
                      <a:pt x="51" y="17"/>
                    </a:lnTo>
                    <a:lnTo>
                      <a:pt x="0" y="0"/>
                    </a:lnTo>
                    <a:lnTo>
                      <a:pt x="3344" y="0"/>
                    </a:lnTo>
                    <a:lnTo>
                      <a:pt x="3344" y="0"/>
                    </a:lnTo>
                    <a:lnTo>
                      <a:pt x="330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204560" y="1447920"/>
                <a:ext cx="575640" cy="1440"/>
              </a:xfrm>
              <a:custGeom>
                <a:avLst/>
                <a:gdLst/>
                <a:ahLst/>
                <a:rect l="l" t="t" r="r" b="b"/>
                <a:pathLst>
                  <a:path w="3394" h="9">
                    <a:moveTo>
                      <a:pt x="3351" y="9"/>
                    </a:moveTo>
                    <a:lnTo>
                      <a:pt x="59" y="9"/>
                    </a:lnTo>
                    <a:lnTo>
                      <a:pt x="0" y="0"/>
                    </a:lnTo>
                    <a:lnTo>
                      <a:pt x="3394" y="0"/>
                    </a:lnTo>
                    <a:lnTo>
                      <a:pt x="3377" y="0"/>
                    </a:lnTo>
                    <a:lnTo>
                      <a:pt x="335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99520" y="1446120"/>
                <a:ext cx="582480" cy="1800"/>
              </a:xfrm>
              <a:custGeom>
                <a:avLst/>
                <a:gdLst/>
                <a:ahLst/>
                <a:rect l="l" t="t" r="r" b="b"/>
                <a:pathLst>
                  <a:path w="3436" h="8">
                    <a:moveTo>
                      <a:pt x="3403" y="8"/>
                    </a:moveTo>
                    <a:lnTo>
                      <a:pt x="59" y="8"/>
                    </a:lnTo>
                    <a:lnTo>
                      <a:pt x="0" y="0"/>
                    </a:lnTo>
                    <a:lnTo>
                      <a:pt x="3436" y="0"/>
                    </a:lnTo>
                    <a:lnTo>
                      <a:pt x="340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96640" y="1444680"/>
                <a:ext cx="588600" cy="3240"/>
              </a:xfrm>
              <a:custGeom>
                <a:avLst/>
                <a:gdLst/>
                <a:ahLst/>
                <a:rect l="l" t="t" r="r" b="b"/>
                <a:pathLst>
                  <a:path w="3478" h="16">
                    <a:moveTo>
                      <a:pt x="3445" y="16"/>
                    </a:moveTo>
                    <a:lnTo>
                      <a:pt x="51" y="16"/>
                    </a:lnTo>
                    <a:lnTo>
                      <a:pt x="0" y="0"/>
                    </a:lnTo>
                    <a:lnTo>
                      <a:pt x="3478" y="0"/>
                    </a:lnTo>
                    <a:lnTo>
                      <a:pt x="344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91600" y="1443240"/>
                <a:ext cx="596520" cy="2880"/>
              </a:xfrm>
              <a:custGeom>
                <a:avLst/>
                <a:gdLst/>
                <a:ahLst/>
                <a:rect l="l" t="t" r="r" b="b"/>
                <a:pathLst>
                  <a:path w="3520" h="17">
                    <a:moveTo>
                      <a:pt x="3486" y="17"/>
                    </a:moveTo>
                    <a:lnTo>
                      <a:pt x="50" y="17"/>
                    </a:lnTo>
                    <a:lnTo>
                      <a:pt x="0" y="0"/>
                    </a:lnTo>
                    <a:lnTo>
                      <a:pt x="3520" y="0"/>
                    </a:lnTo>
                    <a:lnTo>
                      <a:pt x="348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186920" y="1443240"/>
                <a:ext cx="604440" cy="1440"/>
              </a:xfrm>
              <a:custGeom>
                <a:avLst/>
                <a:gdLst/>
                <a:ahLst/>
                <a:rect l="l" t="t" r="r" b="b"/>
                <a:pathLst>
                  <a:path w="3563" h="9">
                    <a:moveTo>
                      <a:pt x="3529" y="9"/>
                    </a:moveTo>
                    <a:lnTo>
                      <a:pt x="51" y="9"/>
                    </a:lnTo>
                    <a:lnTo>
                      <a:pt x="0" y="0"/>
                    </a:lnTo>
                    <a:lnTo>
                      <a:pt x="3563" y="0"/>
                    </a:lnTo>
                    <a:lnTo>
                      <a:pt x="352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182240" y="1441440"/>
                <a:ext cx="612360" cy="1800"/>
              </a:xfrm>
              <a:custGeom>
                <a:avLst/>
                <a:gdLst/>
                <a:ahLst/>
                <a:rect l="l" t="t" r="r" b="b"/>
                <a:pathLst>
                  <a:path w="3605" h="8">
                    <a:moveTo>
                      <a:pt x="3571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3605" y="0"/>
                    </a:lnTo>
                    <a:lnTo>
                      <a:pt x="357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177560" y="1441440"/>
                <a:ext cx="620280" cy="1800"/>
              </a:xfrm>
              <a:custGeom>
                <a:avLst/>
                <a:gdLst/>
                <a:ahLst/>
                <a:rect l="l" t="t" r="r" b="b"/>
                <a:pathLst>
                  <a:path w="3656" h="8">
                    <a:moveTo>
                      <a:pt x="3622" y="8"/>
                    </a:moveTo>
                    <a:lnTo>
                      <a:pt x="59" y="8"/>
                    </a:lnTo>
                    <a:lnTo>
                      <a:pt x="0" y="0"/>
                    </a:lnTo>
                    <a:lnTo>
                      <a:pt x="3656" y="0"/>
                    </a:lnTo>
                    <a:lnTo>
                      <a:pt x="362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172520" y="1440000"/>
                <a:ext cx="626760" cy="1440"/>
              </a:xfrm>
              <a:custGeom>
                <a:avLst/>
                <a:gdLst/>
                <a:ahLst/>
                <a:rect l="l" t="t" r="r" b="b"/>
                <a:pathLst>
                  <a:path w="3698" h="9">
                    <a:moveTo>
                      <a:pt x="3664" y="9"/>
                    </a:moveTo>
                    <a:lnTo>
                      <a:pt x="59" y="9"/>
                    </a:lnTo>
                    <a:lnTo>
                      <a:pt x="0" y="0"/>
                    </a:lnTo>
                    <a:lnTo>
                      <a:pt x="3698" y="0"/>
                    </a:lnTo>
                    <a:lnTo>
                      <a:pt x="366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169640" y="1438200"/>
                <a:ext cx="632880" cy="3240"/>
              </a:xfrm>
              <a:custGeom>
                <a:avLst/>
                <a:gdLst/>
                <a:ahLst/>
                <a:rect l="l" t="t" r="r" b="b"/>
                <a:pathLst>
                  <a:path w="3740" h="17">
                    <a:moveTo>
                      <a:pt x="3706" y="17"/>
                    </a:moveTo>
                    <a:lnTo>
                      <a:pt x="50" y="17"/>
                    </a:lnTo>
                    <a:lnTo>
                      <a:pt x="0" y="0"/>
                    </a:lnTo>
                    <a:lnTo>
                      <a:pt x="3740" y="0"/>
                    </a:lnTo>
                    <a:lnTo>
                      <a:pt x="370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164600" y="1436760"/>
                <a:ext cx="641160" cy="3240"/>
              </a:xfrm>
              <a:custGeom>
                <a:avLst/>
                <a:gdLst/>
                <a:ahLst/>
                <a:rect l="l" t="t" r="r" b="b"/>
                <a:pathLst>
                  <a:path w="3782" h="17">
                    <a:moveTo>
                      <a:pt x="3749" y="17"/>
                    </a:moveTo>
                    <a:lnTo>
                      <a:pt x="51" y="17"/>
                    </a:lnTo>
                    <a:lnTo>
                      <a:pt x="0" y="0"/>
                    </a:lnTo>
                    <a:lnTo>
                      <a:pt x="3782" y="0"/>
                    </a:lnTo>
                    <a:lnTo>
                      <a:pt x="374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158480" y="1436760"/>
                <a:ext cx="650520" cy="1440"/>
              </a:xfrm>
              <a:custGeom>
                <a:avLst/>
                <a:gdLst/>
                <a:ahLst/>
                <a:rect l="l" t="t" r="r" b="b"/>
                <a:pathLst>
                  <a:path w="3833" h="9">
                    <a:moveTo>
                      <a:pt x="3800" y="9"/>
                    </a:moveTo>
                    <a:lnTo>
                      <a:pt x="60" y="9"/>
                    </a:lnTo>
                    <a:lnTo>
                      <a:pt x="0" y="0"/>
                    </a:lnTo>
                    <a:lnTo>
                      <a:pt x="3833" y="0"/>
                    </a:lnTo>
                    <a:lnTo>
                      <a:pt x="380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53440" y="1435320"/>
                <a:ext cx="658800" cy="1440"/>
              </a:xfrm>
              <a:custGeom>
                <a:avLst/>
                <a:gdLst/>
                <a:ahLst/>
                <a:rect l="l" t="t" r="r" b="b"/>
                <a:pathLst>
                  <a:path w="3875" h="8">
                    <a:moveTo>
                      <a:pt x="3841" y="8"/>
                    </a:moveTo>
                    <a:lnTo>
                      <a:pt x="59" y="8"/>
                    </a:lnTo>
                    <a:lnTo>
                      <a:pt x="0" y="0"/>
                    </a:lnTo>
                    <a:lnTo>
                      <a:pt x="3875" y="0"/>
                    </a:lnTo>
                    <a:lnTo>
                      <a:pt x="384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150560" y="1433520"/>
                <a:ext cx="663120" cy="3240"/>
              </a:xfrm>
              <a:custGeom>
                <a:avLst/>
                <a:gdLst/>
                <a:ahLst/>
                <a:rect l="l" t="t" r="r" b="b"/>
                <a:pathLst>
                  <a:path w="3917" h="17">
                    <a:moveTo>
                      <a:pt x="3883" y="17"/>
                    </a:moveTo>
                    <a:lnTo>
                      <a:pt x="50" y="17"/>
                    </a:lnTo>
                    <a:lnTo>
                      <a:pt x="0" y="0"/>
                    </a:lnTo>
                    <a:lnTo>
                      <a:pt x="3917" y="0"/>
                    </a:lnTo>
                    <a:lnTo>
                      <a:pt x="388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145520" y="1432080"/>
                <a:ext cx="671400" cy="3240"/>
              </a:xfrm>
              <a:custGeom>
                <a:avLst/>
                <a:gdLst/>
                <a:ahLst/>
                <a:rect l="l" t="t" r="r" b="b"/>
                <a:pathLst>
                  <a:path w="3960" h="17">
                    <a:moveTo>
                      <a:pt x="3926" y="17"/>
                    </a:moveTo>
                    <a:lnTo>
                      <a:pt x="51" y="17"/>
                    </a:lnTo>
                    <a:lnTo>
                      <a:pt x="0" y="0"/>
                    </a:lnTo>
                    <a:lnTo>
                      <a:pt x="3960" y="0"/>
                    </a:lnTo>
                    <a:lnTo>
                      <a:pt x="392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140840" y="1432080"/>
                <a:ext cx="679320" cy="1440"/>
              </a:xfrm>
              <a:custGeom>
                <a:avLst/>
                <a:gdLst/>
                <a:ahLst/>
                <a:rect l="l" t="t" r="r" b="b"/>
                <a:pathLst>
                  <a:path w="4002" h="8">
                    <a:moveTo>
                      <a:pt x="3968" y="8"/>
                    </a:moveTo>
                    <a:lnTo>
                      <a:pt x="51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4002" y="0"/>
                    </a:lnTo>
                    <a:lnTo>
                      <a:pt x="39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37600" y="1430280"/>
                <a:ext cx="685440" cy="1800"/>
              </a:xfrm>
              <a:custGeom>
                <a:avLst/>
                <a:gdLst/>
                <a:ahLst/>
                <a:rect l="l" t="t" r="r" b="b"/>
                <a:pathLst>
                  <a:path w="4036" h="8">
                    <a:moveTo>
                      <a:pt x="4002" y="8"/>
                    </a:moveTo>
                    <a:lnTo>
                      <a:pt x="42" y="8"/>
                    </a:lnTo>
                    <a:lnTo>
                      <a:pt x="26" y="8"/>
                    </a:lnTo>
                    <a:lnTo>
                      <a:pt x="0" y="0"/>
                    </a:lnTo>
                    <a:lnTo>
                      <a:pt x="4036" y="0"/>
                    </a:lnTo>
                    <a:lnTo>
                      <a:pt x="40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136160" y="1430280"/>
                <a:ext cx="690120" cy="1800"/>
              </a:xfrm>
              <a:custGeom>
                <a:avLst/>
                <a:gdLst/>
                <a:ahLst/>
                <a:rect l="l" t="t" r="r" b="b"/>
                <a:pathLst>
                  <a:path w="4070" h="8">
                    <a:moveTo>
                      <a:pt x="4036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4070" y="0"/>
                    </a:lnTo>
                    <a:lnTo>
                      <a:pt x="403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131480" y="1428840"/>
                <a:ext cx="696600" cy="1440"/>
              </a:xfrm>
              <a:custGeom>
                <a:avLst/>
                <a:gdLst/>
                <a:ahLst/>
                <a:rect l="l" t="t" r="r" b="b"/>
                <a:pathLst>
                  <a:path w="4112" h="9">
                    <a:moveTo>
                      <a:pt x="4078" y="9"/>
                    </a:moveTo>
                    <a:lnTo>
                      <a:pt x="42" y="9"/>
                    </a:lnTo>
                    <a:lnTo>
                      <a:pt x="0" y="0"/>
                    </a:lnTo>
                    <a:lnTo>
                      <a:pt x="4112" y="0"/>
                    </a:lnTo>
                    <a:lnTo>
                      <a:pt x="407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128240" y="1427040"/>
                <a:ext cx="702720" cy="3240"/>
              </a:xfrm>
              <a:custGeom>
                <a:avLst/>
                <a:gdLst/>
                <a:ahLst/>
                <a:rect l="l" t="t" r="r" b="b"/>
                <a:pathLst>
                  <a:path w="4145" h="17">
                    <a:moveTo>
                      <a:pt x="4112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4145" y="0"/>
                    </a:lnTo>
                    <a:lnTo>
                      <a:pt x="411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125000" y="1425600"/>
                <a:ext cx="709200" cy="3240"/>
              </a:xfrm>
              <a:custGeom>
                <a:avLst/>
                <a:gdLst/>
                <a:ahLst/>
                <a:rect l="l" t="t" r="r" b="b"/>
                <a:pathLst>
                  <a:path w="4179" h="17">
                    <a:moveTo>
                      <a:pt x="4146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4179" y="0"/>
                    </a:lnTo>
                    <a:lnTo>
                      <a:pt x="414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23560" y="1425600"/>
                <a:ext cx="713880" cy="1440"/>
              </a:xfrm>
              <a:custGeom>
                <a:avLst/>
                <a:gdLst/>
                <a:ahLst/>
                <a:rect l="l" t="t" r="r" b="b"/>
                <a:pathLst>
                  <a:path w="4213" h="9">
                    <a:moveTo>
                      <a:pt x="4179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4213" y="0"/>
                    </a:lnTo>
                    <a:lnTo>
                      <a:pt x="417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120320" y="1424160"/>
                <a:ext cx="720360" cy="1440"/>
              </a:xfrm>
              <a:custGeom>
                <a:avLst/>
                <a:gdLst/>
                <a:ahLst/>
                <a:rect l="l" t="t" r="r" b="b"/>
                <a:pathLst>
                  <a:path w="4247" h="8">
                    <a:moveTo>
                      <a:pt x="4213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4247" y="0"/>
                    </a:lnTo>
                    <a:lnTo>
                      <a:pt x="421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117080" y="1422360"/>
                <a:ext cx="725040" cy="3240"/>
              </a:xfrm>
              <a:custGeom>
                <a:avLst/>
                <a:gdLst/>
                <a:ahLst/>
                <a:rect l="l" t="t" r="r" b="b"/>
                <a:pathLst>
                  <a:path w="4280" h="17">
                    <a:moveTo>
                      <a:pt x="4246" y="17"/>
                    </a:moveTo>
                    <a:lnTo>
                      <a:pt x="33" y="17"/>
                    </a:lnTo>
                    <a:lnTo>
                      <a:pt x="0" y="0"/>
                    </a:lnTo>
                    <a:lnTo>
                      <a:pt x="4280" y="0"/>
                    </a:lnTo>
                    <a:lnTo>
                      <a:pt x="424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112400" y="1420920"/>
                <a:ext cx="732960" cy="3240"/>
              </a:xfrm>
              <a:custGeom>
                <a:avLst/>
                <a:gdLst/>
                <a:ahLst/>
                <a:rect l="l" t="t" r="r" b="b"/>
                <a:pathLst>
                  <a:path w="4323" h="17">
                    <a:moveTo>
                      <a:pt x="4289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4323" y="0"/>
                    </a:lnTo>
                    <a:lnTo>
                      <a:pt x="428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9160" y="1420920"/>
                <a:ext cx="739440" cy="1440"/>
              </a:xfrm>
              <a:custGeom>
                <a:avLst/>
                <a:gdLst/>
                <a:ahLst/>
                <a:rect l="l" t="t" r="r" b="b"/>
                <a:pathLst>
                  <a:path w="4357" h="8">
                    <a:moveTo>
                      <a:pt x="4323" y="8"/>
                    </a:moveTo>
                    <a:lnTo>
                      <a:pt x="43" y="8"/>
                    </a:lnTo>
                    <a:lnTo>
                      <a:pt x="0" y="0"/>
                    </a:lnTo>
                    <a:lnTo>
                      <a:pt x="4357" y="0"/>
                    </a:lnTo>
                    <a:lnTo>
                      <a:pt x="432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07720" y="1419120"/>
                <a:ext cx="744120" cy="1800"/>
              </a:xfrm>
              <a:custGeom>
                <a:avLst/>
                <a:gdLst/>
                <a:ahLst/>
                <a:rect l="l" t="t" r="r" b="b"/>
                <a:pathLst>
                  <a:path w="4391" h="9">
                    <a:moveTo>
                      <a:pt x="4357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4391" y="0"/>
                    </a:lnTo>
                    <a:lnTo>
                      <a:pt x="435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104480" y="1419120"/>
                <a:ext cx="750600" cy="1800"/>
              </a:xfrm>
              <a:custGeom>
                <a:avLst/>
                <a:gdLst/>
                <a:ahLst/>
                <a:rect l="l" t="t" r="r" b="b"/>
                <a:pathLst>
                  <a:path w="4424" h="9">
                    <a:moveTo>
                      <a:pt x="4390" y="9"/>
                    </a:moveTo>
                    <a:lnTo>
                      <a:pt x="33" y="9"/>
                    </a:lnTo>
                    <a:lnTo>
                      <a:pt x="0" y="0"/>
                    </a:lnTo>
                    <a:lnTo>
                      <a:pt x="4424" y="0"/>
                    </a:lnTo>
                    <a:lnTo>
                      <a:pt x="4415" y="0"/>
                    </a:lnTo>
                    <a:lnTo>
                      <a:pt x="439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101240" y="1417680"/>
                <a:ext cx="755280" cy="1440"/>
              </a:xfrm>
              <a:custGeom>
                <a:avLst/>
                <a:gdLst/>
                <a:ahLst/>
                <a:rect l="l" t="t" r="r" b="b"/>
                <a:pathLst>
                  <a:path w="4449" h="8">
                    <a:moveTo>
                      <a:pt x="4424" y="8"/>
                    </a:moveTo>
                    <a:lnTo>
                      <a:pt x="33" y="8"/>
                    </a:lnTo>
                    <a:lnTo>
                      <a:pt x="0" y="0"/>
                    </a:lnTo>
                    <a:lnTo>
                      <a:pt x="4449" y="0"/>
                    </a:lnTo>
                    <a:lnTo>
                      <a:pt x="4432" y="8"/>
                    </a:lnTo>
                    <a:lnTo>
                      <a:pt x="442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096560" y="1416240"/>
                <a:ext cx="761400" cy="2880"/>
              </a:xfrm>
              <a:custGeom>
                <a:avLst/>
                <a:gdLst/>
                <a:ahLst/>
                <a:rect l="l" t="t" r="r" b="b"/>
                <a:pathLst>
                  <a:path w="4492" h="16">
                    <a:moveTo>
                      <a:pt x="4467" y="16"/>
                    </a:moveTo>
                    <a:lnTo>
                      <a:pt x="43" y="16"/>
                    </a:lnTo>
                    <a:lnTo>
                      <a:pt x="0" y="0"/>
                    </a:lnTo>
                    <a:lnTo>
                      <a:pt x="4492" y="0"/>
                    </a:lnTo>
                    <a:lnTo>
                      <a:pt x="446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094760" y="1414440"/>
                <a:ext cx="765000" cy="3240"/>
              </a:xfrm>
              <a:custGeom>
                <a:avLst/>
                <a:gdLst/>
                <a:ahLst/>
                <a:rect l="l" t="t" r="r" b="b"/>
                <a:pathLst>
                  <a:path w="4516" h="17">
                    <a:moveTo>
                      <a:pt x="4491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4516" y="0"/>
                    </a:lnTo>
                    <a:lnTo>
                      <a:pt x="449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91880" y="1414440"/>
                <a:ext cx="771120" cy="1800"/>
              </a:xfrm>
              <a:custGeom>
                <a:avLst/>
                <a:gdLst/>
                <a:ahLst/>
                <a:rect l="l" t="t" r="r" b="b"/>
                <a:pathLst>
                  <a:path w="4550" h="9">
                    <a:moveTo>
                      <a:pt x="4525" y="9"/>
                    </a:moveTo>
                    <a:lnTo>
                      <a:pt x="33" y="9"/>
                    </a:lnTo>
                    <a:lnTo>
                      <a:pt x="0" y="0"/>
                    </a:lnTo>
                    <a:lnTo>
                      <a:pt x="4550" y="0"/>
                    </a:lnTo>
                    <a:lnTo>
                      <a:pt x="452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088640" y="1413000"/>
                <a:ext cx="775800" cy="1440"/>
              </a:xfrm>
              <a:custGeom>
                <a:avLst/>
                <a:gdLst/>
                <a:ahLst/>
                <a:rect l="l" t="t" r="r" b="b"/>
                <a:pathLst>
                  <a:path w="4576" h="8">
                    <a:moveTo>
                      <a:pt x="4550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4576" y="0"/>
                    </a:lnTo>
                    <a:lnTo>
                      <a:pt x="455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085400" y="1411200"/>
                <a:ext cx="780480" cy="3240"/>
              </a:xfrm>
              <a:custGeom>
                <a:avLst/>
                <a:gdLst/>
                <a:ahLst/>
                <a:rect l="l" t="t" r="r" b="b"/>
                <a:pathLst>
                  <a:path w="4601" h="17">
                    <a:moveTo>
                      <a:pt x="4584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4601" y="0"/>
                    </a:lnTo>
                    <a:lnTo>
                      <a:pt x="458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080720" y="1411200"/>
                <a:ext cx="788400" cy="1800"/>
              </a:xfrm>
              <a:custGeom>
                <a:avLst/>
                <a:gdLst/>
                <a:ahLst/>
                <a:rect l="l" t="t" r="r" b="b"/>
                <a:pathLst>
                  <a:path w="4643" h="9">
                    <a:moveTo>
                      <a:pt x="4618" y="9"/>
                    </a:moveTo>
                    <a:lnTo>
                      <a:pt x="42" y="9"/>
                    </a:lnTo>
                    <a:lnTo>
                      <a:pt x="0" y="0"/>
                    </a:lnTo>
                    <a:lnTo>
                      <a:pt x="4643" y="0"/>
                    </a:lnTo>
                    <a:lnTo>
                      <a:pt x="46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78920" y="1409760"/>
                <a:ext cx="792000" cy="1440"/>
              </a:xfrm>
              <a:custGeom>
                <a:avLst/>
                <a:gdLst/>
                <a:ahLst/>
                <a:rect l="l" t="t" r="r" b="b"/>
                <a:pathLst>
                  <a:path w="4668" h="8">
                    <a:moveTo>
                      <a:pt x="4643" y="8"/>
                    </a:moveTo>
                    <a:lnTo>
                      <a:pt x="42" y="8"/>
                    </a:lnTo>
                    <a:lnTo>
                      <a:pt x="0" y="0"/>
                    </a:lnTo>
                    <a:lnTo>
                      <a:pt x="4668" y="0"/>
                    </a:lnTo>
                    <a:lnTo>
                      <a:pt x="464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075680" y="1408320"/>
                <a:ext cx="796680" cy="2880"/>
              </a:xfrm>
              <a:custGeom>
                <a:avLst/>
                <a:gdLst/>
                <a:ahLst/>
                <a:rect l="l" t="t" r="r" b="b"/>
                <a:pathLst>
                  <a:path w="4702" h="17">
                    <a:moveTo>
                      <a:pt x="4677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4702" y="0"/>
                    </a:lnTo>
                    <a:lnTo>
                      <a:pt x="467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072800" y="1408320"/>
                <a:ext cx="801360" cy="1440"/>
              </a:xfrm>
              <a:custGeom>
                <a:avLst/>
                <a:gdLst/>
                <a:ahLst/>
                <a:rect l="l" t="t" r="r" b="b"/>
                <a:pathLst>
                  <a:path w="4728" h="9">
                    <a:moveTo>
                      <a:pt x="4702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4728" y="0"/>
                    </a:lnTo>
                    <a:lnTo>
                      <a:pt x="470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069560" y="1406520"/>
                <a:ext cx="806040" cy="1800"/>
              </a:xfrm>
              <a:custGeom>
                <a:avLst/>
                <a:gdLst/>
                <a:ahLst/>
                <a:rect l="l" t="t" r="r" b="b"/>
                <a:pathLst>
                  <a:path w="4753" h="8">
                    <a:moveTo>
                      <a:pt x="4736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4753" y="0"/>
                    </a:lnTo>
                    <a:lnTo>
                      <a:pt x="473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066320" y="1405080"/>
                <a:ext cx="812520" cy="3240"/>
              </a:xfrm>
              <a:custGeom>
                <a:avLst/>
                <a:gdLst/>
                <a:ahLst/>
                <a:rect l="l" t="t" r="r" b="b"/>
                <a:pathLst>
                  <a:path w="4795" h="17">
                    <a:moveTo>
                      <a:pt x="4770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4795" y="0"/>
                    </a:lnTo>
                    <a:lnTo>
                      <a:pt x="477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063080" y="1405080"/>
                <a:ext cx="817200" cy="1440"/>
              </a:xfrm>
              <a:custGeom>
                <a:avLst/>
                <a:gdLst/>
                <a:ahLst/>
                <a:rect l="l" t="t" r="r" b="b"/>
                <a:pathLst>
                  <a:path w="4820" h="17">
                    <a:moveTo>
                      <a:pt x="4795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4820" y="0"/>
                    </a:lnTo>
                    <a:lnTo>
                      <a:pt x="479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059840" y="1405080"/>
                <a:ext cx="823680" cy="1440"/>
              </a:xfrm>
              <a:custGeom>
                <a:avLst/>
                <a:gdLst/>
                <a:ahLst/>
                <a:rect l="l" t="t" r="r" b="b"/>
                <a:pathLst>
                  <a:path w="4854" h="8">
                    <a:moveTo>
                      <a:pt x="4829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4854" y="0"/>
                    </a:lnTo>
                    <a:lnTo>
                      <a:pt x="482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056600" y="1403280"/>
                <a:ext cx="828360" cy="1800"/>
              </a:xfrm>
              <a:custGeom>
                <a:avLst/>
                <a:gdLst/>
                <a:ahLst/>
                <a:rect l="l" t="t" r="r" b="b"/>
                <a:pathLst>
                  <a:path w="4880" h="8">
                    <a:moveTo>
                      <a:pt x="4854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4880" y="0"/>
                    </a:lnTo>
                    <a:lnTo>
                      <a:pt x="485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053720" y="1401840"/>
                <a:ext cx="831240" cy="3240"/>
              </a:xfrm>
              <a:custGeom>
                <a:avLst/>
                <a:gdLst/>
                <a:ahLst/>
                <a:rect l="l" t="t" r="r" b="b"/>
                <a:pathLst>
                  <a:path w="4905" h="17">
                    <a:moveTo>
                      <a:pt x="4888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4905" y="0"/>
                    </a:lnTo>
                    <a:lnTo>
                      <a:pt x="488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050480" y="1401840"/>
                <a:ext cx="837720" cy="1440"/>
              </a:xfrm>
              <a:custGeom>
                <a:avLst/>
                <a:gdLst/>
                <a:ahLst/>
                <a:rect l="l" t="t" r="r" b="b"/>
                <a:pathLst>
                  <a:path w="4947" h="9">
                    <a:moveTo>
                      <a:pt x="4922" y="9"/>
                    </a:moveTo>
                    <a:lnTo>
                      <a:pt x="42" y="9"/>
                    </a:lnTo>
                    <a:lnTo>
                      <a:pt x="0" y="0"/>
                    </a:lnTo>
                    <a:lnTo>
                      <a:pt x="4947" y="0"/>
                    </a:lnTo>
                    <a:lnTo>
                      <a:pt x="492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047240" y="1400040"/>
                <a:ext cx="842760" cy="1800"/>
              </a:xfrm>
              <a:custGeom>
                <a:avLst/>
                <a:gdLst/>
                <a:ahLst/>
                <a:rect l="l" t="t" r="r" b="b"/>
                <a:pathLst>
                  <a:path w="4973" h="8">
                    <a:moveTo>
                      <a:pt x="4947" y="8"/>
                    </a:moveTo>
                    <a:lnTo>
                      <a:pt x="42" y="8"/>
                    </a:lnTo>
                    <a:lnTo>
                      <a:pt x="0" y="0"/>
                    </a:lnTo>
                    <a:lnTo>
                      <a:pt x="4973" y="0"/>
                    </a:lnTo>
                    <a:lnTo>
                      <a:pt x="4973" y="0"/>
                    </a:lnTo>
                    <a:lnTo>
                      <a:pt x="494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044000" y="1398600"/>
                <a:ext cx="846000" cy="3240"/>
              </a:xfrm>
              <a:custGeom>
                <a:avLst/>
                <a:gdLst/>
                <a:ahLst/>
                <a:rect l="l" t="t" r="r" b="b"/>
                <a:pathLst>
                  <a:path w="4990" h="17">
                    <a:moveTo>
                      <a:pt x="4981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4990" y="0"/>
                    </a:lnTo>
                    <a:lnTo>
                      <a:pt x="4990" y="9"/>
                    </a:lnTo>
                    <a:lnTo>
                      <a:pt x="498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040760" y="1398600"/>
                <a:ext cx="849240" cy="1440"/>
              </a:xfrm>
              <a:custGeom>
                <a:avLst/>
                <a:gdLst/>
                <a:ahLst/>
                <a:rect l="l" t="t" r="r" b="b"/>
                <a:pathLst>
                  <a:path w="5007" h="9">
                    <a:moveTo>
                      <a:pt x="5007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5007" y="0"/>
                    </a:lnTo>
                    <a:lnTo>
                      <a:pt x="500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37880" y="1397160"/>
                <a:ext cx="853560" cy="1440"/>
              </a:xfrm>
              <a:custGeom>
                <a:avLst/>
                <a:gdLst/>
                <a:ahLst/>
                <a:rect l="l" t="t" r="r" b="b"/>
                <a:pathLst>
                  <a:path w="5032" h="8">
                    <a:moveTo>
                      <a:pt x="5024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5032" y="0"/>
                    </a:lnTo>
                    <a:lnTo>
                      <a:pt x="502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036080" y="1395360"/>
                <a:ext cx="855360" cy="3240"/>
              </a:xfrm>
              <a:custGeom>
                <a:avLst/>
                <a:gdLst/>
                <a:ahLst/>
                <a:rect l="l" t="t" r="r" b="b"/>
                <a:pathLst>
                  <a:path w="5049" h="17">
                    <a:moveTo>
                      <a:pt x="5041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5049" y="0"/>
                    </a:lnTo>
                    <a:lnTo>
                      <a:pt x="504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032840" y="1393920"/>
                <a:ext cx="860040" cy="3240"/>
              </a:xfrm>
              <a:custGeom>
                <a:avLst/>
                <a:gdLst/>
                <a:ahLst/>
                <a:rect l="l" t="t" r="r" b="b"/>
                <a:pathLst>
                  <a:path w="5074" h="17">
                    <a:moveTo>
                      <a:pt x="5066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5074" y="0"/>
                    </a:lnTo>
                    <a:lnTo>
                      <a:pt x="506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028160" y="1393920"/>
                <a:ext cx="864720" cy="1440"/>
              </a:xfrm>
              <a:custGeom>
                <a:avLst/>
                <a:gdLst/>
                <a:ahLst/>
                <a:rect l="l" t="t" r="r" b="b"/>
                <a:pathLst>
                  <a:path w="5099" h="8">
                    <a:moveTo>
                      <a:pt x="5091" y="8"/>
                    </a:moveTo>
                    <a:lnTo>
                      <a:pt x="42" y="8"/>
                    </a:lnTo>
                    <a:lnTo>
                      <a:pt x="0" y="0"/>
                    </a:lnTo>
                    <a:lnTo>
                      <a:pt x="5099" y="0"/>
                    </a:lnTo>
                    <a:lnTo>
                      <a:pt x="509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026720" y="1392120"/>
                <a:ext cx="867960" cy="1800"/>
              </a:xfrm>
              <a:custGeom>
                <a:avLst/>
                <a:gdLst/>
                <a:ahLst/>
                <a:rect l="l" t="t" r="r" b="b"/>
                <a:pathLst>
                  <a:path w="5116" h="9">
                    <a:moveTo>
                      <a:pt x="5107" y="9"/>
                    </a:moveTo>
                    <a:lnTo>
                      <a:pt x="33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116" y="0"/>
                    </a:lnTo>
                    <a:lnTo>
                      <a:pt x="510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023480" y="1392120"/>
                <a:ext cx="871200" cy="1800"/>
              </a:xfrm>
              <a:custGeom>
                <a:avLst/>
                <a:gdLst/>
                <a:ahLst/>
                <a:rect l="l" t="t" r="r" b="b"/>
                <a:pathLst>
                  <a:path w="5133" h="9">
                    <a:moveTo>
                      <a:pt x="5124" y="9"/>
                    </a:moveTo>
                    <a:lnTo>
                      <a:pt x="25" y="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5133" y="0"/>
                    </a:lnTo>
                    <a:lnTo>
                      <a:pt x="512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021680" y="1390680"/>
                <a:ext cx="874440" cy="1440"/>
              </a:xfrm>
              <a:custGeom>
                <a:avLst/>
                <a:gdLst/>
                <a:ahLst/>
                <a:rect l="l" t="t" r="r" b="b"/>
                <a:pathLst>
                  <a:path w="5158" h="8">
                    <a:moveTo>
                      <a:pt x="5150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5158" y="0"/>
                    </a:lnTo>
                    <a:lnTo>
                      <a:pt x="515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18800" y="1389240"/>
                <a:ext cx="877320" cy="2880"/>
              </a:xfrm>
              <a:custGeom>
                <a:avLst/>
                <a:gdLst/>
                <a:ahLst/>
                <a:rect l="l" t="t" r="r" b="b"/>
                <a:pathLst>
                  <a:path w="5175" h="16">
                    <a:moveTo>
                      <a:pt x="5167" y="16"/>
                    </a:moveTo>
                    <a:lnTo>
                      <a:pt x="34" y="16"/>
                    </a:lnTo>
                    <a:lnTo>
                      <a:pt x="0" y="0"/>
                    </a:lnTo>
                    <a:lnTo>
                      <a:pt x="5175" y="0"/>
                    </a:lnTo>
                    <a:lnTo>
                      <a:pt x="5167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017000" y="1387440"/>
                <a:ext cx="879120" cy="3240"/>
              </a:xfrm>
              <a:custGeom>
                <a:avLst/>
                <a:gdLst/>
                <a:ahLst/>
                <a:rect l="l" t="t" r="r" b="b"/>
                <a:pathLst>
                  <a:path w="5183" h="17">
                    <a:moveTo>
                      <a:pt x="5183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5183" y="0"/>
                    </a:lnTo>
                    <a:lnTo>
                      <a:pt x="518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013760" y="1387440"/>
                <a:ext cx="884160" cy="1800"/>
              </a:xfrm>
              <a:custGeom>
                <a:avLst/>
                <a:gdLst/>
                <a:ahLst/>
                <a:rect l="l" t="t" r="r" b="b"/>
                <a:pathLst>
                  <a:path w="5209" h="9">
                    <a:moveTo>
                      <a:pt x="5200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5209" y="0"/>
                    </a:lnTo>
                    <a:lnTo>
                      <a:pt x="520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12320" y="1386000"/>
                <a:ext cx="885600" cy="1440"/>
              </a:xfrm>
              <a:custGeom>
                <a:avLst/>
                <a:gdLst/>
                <a:ahLst/>
                <a:rect l="l" t="t" r="r" b="b"/>
                <a:pathLst>
                  <a:path w="5218" h="8">
                    <a:moveTo>
                      <a:pt x="5209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5218" y="0"/>
                    </a:lnTo>
                    <a:lnTo>
                      <a:pt x="520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009080" y="1384200"/>
                <a:ext cx="890280" cy="3240"/>
              </a:xfrm>
              <a:custGeom>
                <a:avLst/>
                <a:gdLst/>
                <a:ahLst/>
                <a:rect l="l" t="t" r="r" b="b"/>
                <a:pathLst>
                  <a:path w="5243" h="17">
                    <a:moveTo>
                      <a:pt x="5235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5243" y="0"/>
                    </a:lnTo>
                    <a:lnTo>
                      <a:pt x="523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005840" y="1382760"/>
                <a:ext cx="893520" cy="3240"/>
              </a:xfrm>
              <a:custGeom>
                <a:avLst/>
                <a:gdLst/>
                <a:ahLst/>
                <a:rect l="l" t="t" r="r" b="b"/>
                <a:pathLst>
                  <a:path w="5260" h="17">
                    <a:moveTo>
                      <a:pt x="5252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5260" y="0"/>
                    </a:lnTo>
                    <a:lnTo>
                      <a:pt x="525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004400" y="1382760"/>
                <a:ext cx="896400" cy="1440"/>
              </a:xfrm>
              <a:custGeom>
                <a:avLst/>
                <a:gdLst/>
                <a:ahLst/>
                <a:rect l="l" t="t" r="r" b="b"/>
                <a:pathLst>
                  <a:path w="5285" h="8">
                    <a:moveTo>
                      <a:pt x="5276" y="8"/>
                    </a:moveTo>
                    <a:lnTo>
                      <a:pt x="33" y="8"/>
                    </a:lnTo>
                    <a:lnTo>
                      <a:pt x="0" y="0"/>
                    </a:lnTo>
                    <a:lnTo>
                      <a:pt x="5285" y="0"/>
                    </a:lnTo>
                    <a:lnTo>
                      <a:pt x="527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02960" y="1381320"/>
                <a:ext cx="897840" cy="1440"/>
              </a:xfrm>
              <a:custGeom>
                <a:avLst/>
                <a:gdLst/>
                <a:ahLst/>
                <a:rect l="l" t="t" r="r" b="b"/>
                <a:pathLst>
                  <a:path w="5294" h="9">
                    <a:moveTo>
                      <a:pt x="5285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5294" y="0"/>
                    </a:lnTo>
                    <a:lnTo>
                      <a:pt x="528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001160" y="1381320"/>
                <a:ext cx="899640" cy="1440"/>
              </a:xfrm>
              <a:custGeom>
                <a:avLst/>
                <a:gdLst/>
                <a:ahLst/>
                <a:rect l="l" t="t" r="r" b="b"/>
                <a:pathLst>
                  <a:path w="5302" h="9">
                    <a:moveTo>
                      <a:pt x="5302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5302" y="0"/>
                    </a:lnTo>
                    <a:lnTo>
                      <a:pt x="530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997920" y="1379520"/>
                <a:ext cx="902880" cy="1800"/>
              </a:xfrm>
              <a:custGeom>
                <a:avLst/>
                <a:gdLst/>
                <a:ahLst/>
                <a:rect l="l" t="t" r="r" b="b"/>
                <a:pathLst>
                  <a:path w="5327" h="8">
                    <a:moveTo>
                      <a:pt x="5319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5327" y="0"/>
                    </a:lnTo>
                    <a:lnTo>
                      <a:pt x="531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95040" y="1378080"/>
                <a:ext cx="905760" cy="3240"/>
              </a:xfrm>
              <a:custGeom>
                <a:avLst/>
                <a:gdLst/>
                <a:ahLst/>
                <a:rect l="l" t="t" r="r" b="b"/>
                <a:pathLst>
                  <a:path w="5344" h="17">
                    <a:moveTo>
                      <a:pt x="5336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5344" y="0"/>
                    </a:lnTo>
                    <a:lnTo>
                      <a:pt x="533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91800" y="1376280"/>
                <a:ext cx="910800" cy="3240"/>
              </a:xfrm>
              <a:custGeom>
                <a:avLst/>
                <a:gdLst/>
                <a:ahLst/>
                <a:rect l="l" t="t" r="r" b="b"/>
                <a:pathLst>
                  <a:path w="5370" h="17">
                    <a:moveTo>
                      <a:pt x="5361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5370" y="0"/>
                    </a:lnTo>
                    <a:lnTo>
                      <a:pt x="536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991800" y="1376280"/>
                <a:ext cx="910800" cy="1800"/>
              </a:xfrm>
              <a:custGeom>
                <a:avLst/>
                <a:gdLst/>
                <a:ahLst/>
                <a:rect l="l" t="t" r="r" b="b"/>
                <a:pathLst>
                  <a:path w="5378" h="8">
                    <a:moveTo>
                      <a:pt x="5369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5378" y="0"/>
                    </a:lnTo>
                    <a:lnTo>
                      <a:pt x="536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988560" y="1374840"/>
                <a:ext cx="915480" cy="1440"/>
              </a:xfrm>
              <a:custGeom>
                <a:avLst/>
                <a:gdLst/>
                <a:ahLst/>
                <a:rect l="l" t="t" r="r" b="b"/>
                <a:pathLst>
                  <a:path w="5403" h="8">
                    <a:moveTo>
                      <a:pt x="5395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5403" y="0"/>
                    </a:lnTo>
                    <a:lnTo>
                      <a:pt x="539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86760" y="1373400"/>
                <a:ext cx="917280" cy="2880"/>
              </a:xfrm>
              <a:custGeom>
                <a:avLst/>
                <a:gdLst/>
                <a:ahLst/>
                <a:rect l="l" t="t" r="r" b="b"/>
                <a:pathLst>
                  <a:path w="5412" h="17">
                    <a:moveTo>
                      <a:pt x="5404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5412" y="0"/>
                    </a:lnTo>
                    <a:lnTo>
                      <a:pt x="540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983880" y="1371600"/>
                <a:ext cx="921960" cy="3240"/>
              </a:xfrm>
              <a:custGeom>
                <a:avLst/>
                <a:gdLst/>
                <a:ahLst/>
                <a:rect l="l" t="t" r="r" b="b"/>
                <a:pathLst>
                  <a:path w="5437" h="17">
                    <a:moveTo>
                      <a:pt x="5429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5437" y="0"/>
                    </a:lnTo>
                    <a:lnTo>
                      <a:pt x="542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80640" y="1371600"/>
                <a:ext cx="925200" cy="1800"/>
              </a:xfrm>
              <a:custGeom>
                <a:avLst/>
                <a:gdLst/>
                <a:ahLst/>
                <a:rect l="l" t="t" r="r" b="b"/>
                <a:pathLst>
                  <a:path w="5453" h="8">
                    <a:moveTo>
                      <a:pt x="5445" y="8"/>
                    </a:moveTo>
                    <a:lnTo>
                      <a:pt x="33" y="8"/>
                    </a:lnTo>
                    <a:lnTo>
                      <a:pt x="0" y="0"/>
                    </a:lnTo>
                    <a:lnTo>
                      <a:pt x="5453" y="0"/>
                    </a:lnTo>
                    <a:lnTo>
                      <a:pt x="544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977400" y="1370160"/>
                <a:ext cx="928440" cy="1440"/>
              </a:xfrm>
              <a:custGeom>
                <a:avLst/>
                <a:gdLst/>
                <a:ahLst/>
                <a:rect l="l" t="t" r="r" b="b"/>
                <a:pathLst>
                  <a:path w="5470" h="9">
                    <a:moveTo>
                      <a:pt x="5470" y="9"/>
                    </a:moveTo>
                    <a:lnTo>
                      <a:pt x="33" y="9"/>
                    </a:lnTo>
                    <a:lnTo>
                      <a:pt x="0" y="0"/>
                    </a:lnTo>
                    <a:lnTo>
                      <a:pt x="5470" y="0"/>
                    </a:lnTo>
                    <a:lnTo>
                      <a:pt x="547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977400" y="1370160"/>
                <a:ext cx="929880" cy="1440"/>
              </a:xfrm>
              <a:custGeom>
                <a:avLst/>
                <a:gdLst/>
                <a:ahLst/>
                <a:rect l="l" t="t" r="r" b="b"/>
                <a:pathLst>
                  <a:path w="5488" h="9">
                    <a:moveTo>
                      <a:pt x="5479" y="9"/>
                    </a:moveTo>
                    <a:lnTo>
                      <a:pt x="26" y="9"/>
                    </a:lnTo>
                    <a:lnTo>
                      <a:pt x="0" y="0"/>
                    </a:lnTo>
                    <a:lnTo>
                      <a:pt x="5488" y="0"/>
                    </a:lnTo>
                    <a:lnTo>
                      <a:pt x="547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974160" y="1368360"/>
                <a:ext cx="933120" cy="1800"/>
              </a:xfrm>
              <a:custGeom>
                <a:avLst/>
                <a:gdLst/>
                <a:ahLst/>
                <a:rect l="l" t="t" r="r" b="b"/>
                <a:pathLst>
                  <a:path w="5505" h="8">
                    <a:moveTo>
                      <a:pt x="5496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5505" y="0"/>
                    </a:lnTo>
                    <a:lnTo>
                      <a:pt x="54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972720" y="1366920"/>
                <a:ext cx="936360" cy="3240"/>
              </a:xfrm>
              <a:custGeom>
                <a:avLst/>
                <a:gdLst/>
                <a:ahLst/>
                <a:rect l="l" t="t" r="r" b="b"/>
                <a:pathLst>
                  <a:path w="5521" h="17">
                    <a:moveTo>
                      <a:pt x="5513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5521" y="0"/>
                    </a:lnTo>
                    <a:lnTo>
                      <a:pt x="551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969480" y="1365120"/>
                <a:ext cx="939600" cy="3240"/>
              </a:xfrm>
              <a:custGeom>
                <a:avLst/>
                <a:gdLst/>
                <a:ahLst/>
                <a:rect l="l" t="t" r="r" b="b"/>
                <a:pathLst>
                  <a:path w="5538" h="17">
                    <a:moveTo>
                      <a:pt x="5530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5538" y="0"/>
                    </a:lnTo>
                    <a:lnTo>
                      <a:pt x="553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66240" y="1365120"/>
                <a:ext cx="944280" cy="1800"/>
              </a:xfrm>
              <a:custGeom>
                <a:avLst/>
                <a:gdLst/>
                <a:ahLst/>
                <a:rect l="l" t="t" r="r" b="b"/>
                <a:pathLst>
                  <a:path w="5564" h="8">
                    <a:moveTo>
                      <a:pt x="5555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5564" y="0"/>
                    </a:lnTo>
                    <a:lnTo>
                      <a:pt x="5555" y="0"/>
                    </a:lnTo>
                    <a:lnTo>
                      <a:pt x="555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964800" y="1363680"/>
                <a:ext cx="945720" cy="1440"/>
              </a:xfrm>
              <a:custGeom>
                <a:avLst/>
                <a:gdLst/>
                <a:ahLst/>
                <a:rect l="l" t="t" r="r" b="b"/>
                <a:pathLst>
                  <a:path w="5572" h="8">
                    <a:moveTo>
                      <a:pt x="5563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5572" y="0"/>
                    </a:lnTo>
                    <a:lnTo>
                      <a:pt x="556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963000" y="1362240"/>
                <a:ext cx="947520" cy="2880"/>
              </a:xfrm>
              <a:custGeom>
                <a:avLst/>
                <a:gdLst/>
                <a:ahLst/>
                <a:rect l="l" t="t" r="r" b="b"/>
                <a:pathLst>
                  <a:path w="5589" h="17">
                    <a:moveTo>
                      <a:pt x="5589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5589" y="0"/>
                    </a:lnTo>
                    <a:lnTo>
                      <a:pt x="558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961560" y="1360440"/>
                <a:ext cx="950400" cy="3240"/>
              </a:xfrm>
              <a:custGeom>
                <a:avLst/>
                <a:gdLst/>
                <a:ahLst/>
                <a:rect l="l" t="t" r="r" b="b"/>
                <a:pathLst>
                  <a:path w="5606" h="17">
                    <a:moveTo>
                      <a:pt x="5598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5606" y="0"/>
                    </a:lnTo>
                    <a:lnTo>
                      <a:pt x="559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958320" y="1360440"/>
                <a:ext cx="953640" cy="1800"/>
              </a:xfrm>
              <a:custGeom>
                <a:avLst/>
                <a:gdLst/>
                <a:ahLst/>
                <a:rect l="l" t="t" r="r" b="b"/>
                <a:pathLst>
                  <a:path w="5623" h="8">
                    <a:moveTo>
                      <a:pt x="5615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5623" y="0"/>
                    </a:lnTo>
                    <a:lnTo>
                      <a:pt x="561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955080" y="1359000"/>
                <a:ext cx="956880" cy="1440"/>
              </a:xfrm>
              <a:custGeom>
                <a:avLst/>
                <a:gdLst/>
                <a:ahLst/>
                <a:rect l="l" t="t" r="r" b="b"/>
                <a:pathLst>
                  <a:path w="5639" h="9">
                    <a:moveTo>
                      <a:pt x="5639" y="9"/>
                    </a:moveTo>
                    <a:lnTo>
                      <a:pt x="33" y="9"/>
                    </a:lnTo>
                    <a:lnTo>
                      <a:pt x="0" y="0"/>
                    </a:lnTo>
                    <a:lnTo>
                      <a:pt x="5639" y="0"/>
                    </a:lnTo>
                    <a:lnTo>
                      <a:pt x="563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951840" y="1359000"/>
                <a:ext cx="961920" cy="1440"/>
              </a:xfrm>
              <a:custGeom>
                <a:avLst/>
                <a:gdLst/>
                <a:ahLst/>
                <a:rect l="l" t="t" r="r" b="b"/>
                <a:pathLst>
                  <a:path w="5665" h="9">
                    <a:moveTo>
                      <a:pt x="5656" y="9"/>
                    </a:moveTo>
                    <a:lnTo>
                      <a:pt x="33" y="9"/>
                    </a:lnTo>
                    <a:lnTo>
                      <a:pt x="0" y="0"/>
                    </a:lnTo>
                    <a:lnTo>
                      <a:pt x="5665" y="0"/>
                    </a:lnTo>
                    <a:lnTo>
                      <a:pt x="565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950400" y="1357200"/>
                <a:ext cx="963360" cy="1800"/>
              </a:xfrm>
              <a:custGeom>
                <a:avLst/>
                <a:gdLst/>
                <a:ahLst/>
                <a:rect l="l" t="t" r="r" b="b"/>
                <a:pathLst>
                  <a:path w="5674" h="8">
                    <a:moveTo>
                      <a:pt x="5665" y="8"/>
                    </a:moveTo>
                    <a:lnTo>
                      <a:pt x="26" y="8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674" y="0"/>
                    </a:lnTo>
                    <a:lnTo>
                      <a:pt x="566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948960" y="1355760"/>
                <a:ext cx="966240" cy="3240"/>
              </a:xfrm>
              <a:custGeom>
                <a:avLst/>
                <a:gdLst/>
                <a:ahLst/>
                <a:rect l="l" t="t" r="r" b="b"/>
                <a:pathLst>
                  <a:path w="5690" h="17">
                    <a:moveTo>
                      <a:pt x="5682" y="17"/>
                    </a:moveTo>
                    <a:lnTo>
                      <a:pt x="17" y="17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5690" y="0"/>
                    </a:lnTo>
                    <a:lnTo>
                      <a:pt x="568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947160" y="1354320"/>
                <a:ext cx="968040" cy="2880"/>
              </a:xfrm>
              <a:custGeom>
                <a:avLst/>
                <a:gdLst/>
                <a:ahLst/>
                <a:rect l="l" t="t" r="r" b="b"/>
                <a:pathLst>
                  <a:path w="5699" h="17">
                    <a:moveTo>
                      <a:pt x="5691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699" y="0"/>
                    </a:lnTo>
                    <a:lnTo>
                      <a:pt x="569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947160" y="1354320"/>
                <a:ext cx="968040" cy="1440"/>
              </a:xfrm>
              <a:custGeom>
                <a:avLst/>
                <a:gdLst/>
                <a:ahLst/>
                <a:rect l="l" t="t" r="r" b="b"/>
                <a:pathLst>
                  <a:path w="5707" h="8">
                    <a:moveTo>
                      <a:pt x="5707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707" y="0"/>
                    </a:lnTo>
                    <a:lnTo>
                      <a:pt x="570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945720" y="1352520"/>
                <a:ext cx="969480" cy="1800"/>
              </a:xfrm>
              <a:custGeom>
                <a:avLst/>
                <a:gdLst/>
                <a:ahLst/>
                <a:rect l="l" t="t" r="r" b="b"/>
                <a:pathLst>
                  <a:path w="5725" h="9">
                    <a:moveTo>
                      <a:pt x="5716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5725" y="0"/>
                    </a:lnTo>
                    <a:lnTo>
                      <a:pt x="57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942480" y="1352520"/>
                <a:ext cx="972720" cy="1800"/>
              </a:xfrm>
              <a:custGeom>
                <a:avLst/>
                <a:gdLst/>
                <a:ahLst/>
                <a:rect l="l" t="t" r="r" b="b"/>
                <a:pathLst>
                  <a:path w="5741" h="17">
                    <a:moveTo>
                      <a:pt x="5732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5741" y="0"/>
                    </a:lnTo>
                    <a:lnTo>
                      <a:pt x="573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41040" y="1351080"/>
                <a:ext cx="974160" cy="1440"/>
              </a:xfrm>
              <a:custGeom>
                <a:avLst/>
                <a:gdLst/>
                <a:ahLst/>
                <a:rect l="l" t="t" r="r" b="b"/>
                <a:pathLst>
                  <a:path w="5750" h="16">
                    <a:moveTo>
                      <a:pt x="5750" y="16"/>
                    </a:moveTo>
                    <a:lnTo>
                      <a:pt x="25" y="16"/>
                    </a:lnTo>
                    <a:lnTo>
                      <a:pt x="0" y="0"/>
                    </a:lnTo>
                    <a:lnTo>
                      <a:pt x="5750" y="0"/>
                    </a:lnTo>
                    <a:lnTo>
                      <a:pt x="575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939240" y="1351080"/>
                <a:ext cx="977760" cy="1440"/>
              </a:xfrm>
              <a:custGeom>
                <a:avLst/>
                <a:gdLst/>
                <a:ahLst/>
                <a:rect l="l" t="t" r="r" b="b"/>
                <a:pathLst>
                  <a:path w="5766" h="8">
                    <a:moveTo>
                      <a:pt x="5758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766" y="0"/>
                    </a:lnTo>
                    <a:lnTo>
                      <a:pt x="575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937800" y="1349280"/>
                <a:ext cx="979200" cy="1800"/>
              </a:xfrm>
              <a:custGeom>
                <a:avLst/>
                <a:gdLst/>
                <a:ahLst/>
                <a:rect l="l" t="t" r="r" b="b"/>
                <a:pathLst>
                  <a:path w="5775" h="9">
                    <a:moveTo>
                      <a:pt x="5767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5775" y="0"/>
                    </a:lnTo>
                    <a:lnTo>
                      <a:pt x="57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936000" y="1349280"/>
                <a:ext cx="981000" cy="1800"/>
              </a:xfrm>
              <a:custGeom>
                <a:avLst/>
                <a:gdLst/>
                <a:ahLst/>
                <a:rect l="l" t="t" r="r" b="b"/>
                <a:pathLst>
                  <a:path w="5783" h="9">
                    <a:moveTo>
                      <a:pt x="5783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5783" y="0"/>
                    </a:lnTo>
                    <a:lnTo>
                      <a:pt x="578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934560" y="1347840"/>
                <a:ext cx="983880" cy="1440"/>
              </a:xfrm>
              <a:custGeom>
                <a:avLst/>
                <a:gdLst/>
                <a:ahLst/>
                <a:rect l="l" t="t" r="r" b="b"/>
                <a:pathLst>
                  <a:path w="5800" h="8">
                    <a:moveTo>
                      <a:pt x="5792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800" y="0"/>
                    </a:lnTo>
                    <a:lnTo>
                      <a:pt x="579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933120" y="1346400"/>
                <a:ext cx="985320" cy="2880"/>
              </a:xfrm>
              <a:custGeom>
                <a:avLst/>
                <a:gdLst/>
                <a:ahLst/>
                <a:rect l="l" t="t" r="r" b="b"/>
                <a:pathLst>
                  <a:path w="5808" h="17">
                    <a:moveTo>
                      <a:pt x="5800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808" y="0"/>
                    </a:lnTo>
                    <a:lnTo>
                      <a:pt x="580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933120" y="1344600"/>
                <a:ext cx="986760" cy="3240"/>
              </a:xfrm>
              <a:custGeom>
                <a:avLst/>
                <a:gdLst/>
                <a:ahLst/>
                <a:rect l="l" t="t" r="r" b="b"/>
                <a:pathLst>
                  <a:path w="5826" h="17">
                    <a:moveTo>
                      <a:pt x="5817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826" y="0"/>
                    </a:lnTo>
                    <a:lnTo>
                      <a:pt x="581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931320" y="1344600"/>
                <a:ext cx="988560" cy="1800"/>
              </a:xfrm>
              <a:custGeom>
                <a:avLst/>
                <a:gdLst/>
                <a:ahLst/>
                <a:rect l="l" t="t" r="r" b="b"/>
                <a:pathLst>
                  <a:path w="5834" h="8">
                    <a:moveTo>
                      <a:pt x="5825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834" y="0"/>
                    </a:lnTo>
                    <a:lnTo>
                      <a:pt x="582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28080" y="1343160"/>
                <a:ext cx="991800" cy="1440"/>
              </a:xfrm>
              <a:custGeom>
                <a:avLst/>
                <a:gdLst/>
                <a:ahLst/>
                <a:rect l="l" t="t" r="r" b="b"/>
                <a:pathLst>
                  <a:path w="5851" h="9">
                    <a:moveTo>
                      <a:pt x="5851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5851" y="0"/>
                    </a:lnTo>
                    <a:lnTo>
                      <a:pt x="585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26640" y="1341360"/>
                <a:ext cx="995040" cy="3240"/>
              </a:xfrm>
              <a:custGeom>
                <a:avLst/>
                <a:gdLst/>
                <a:ahLst/>
                <a:rect l="l" t="t" r="r" b="b"/>
                <a:pathLst>
                  <a:path w="5867" h="17">
                    <a:moveTo>
                      <a:pt x="5859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5867" y="0"/>
                    </a:lnTo>
                    <a:lnTo>
                      <a:pt x="585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24840" y="1341360"/>
                <a:ext cx="996840" cy="1800"/>
              </a:xfrm>
              <a:custGeom>
                <a:avLst/>
                <a:gdLst/>
                <a:ahLst/>
                <a:rect l="l" t="t" r="r" b="b"/>
                <a:pathLst>
                  <a:path w="5876" h="8">
                    <a:moveTo>
                      <a:pt x="5868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876" y="0"/>
                    </a:lnTo>
                    <a:lnTo>
                      <a:pt x="58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923400" y="1339920"/>
                <a:ext cx="998280" cy="1440"/>
              </a:xfrm>
              <a:custGeom>
                <a:avLst/>
                <a:gdLst/>
                <a:ahLst/>
                <a:rect l="l" t="t" r="r" b="b"/>
                <a:pathLst>
                  <a:path w="5884" h="9">
                    <a:moveTo>
                      <a:pt x="5884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5884" y="0"/>
                    </a:lnTo>
                    <a:lnTo>
                      <a:pt x="588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896760" y="1217520"/>
              <a:ext cx="1047600" cy="644760"/>
              <a:chOff x="896760" y="1217520"/>
              <a:chExt cx="1047600" cy="644760"/>
            </a:xfrm>
          </p:grpSpPr>
          <p:sp>
            <p:nvSpPr>
              <p:cNvPr id="467" name=""/>
              <p:cNvSpPr/>
              <p:nvPr/>
            </p:nvSpPr>
            <p:spPr>
              <a:xfrm>
                <a:off x="921960" y="1338480"/>
                <a:ext cx="999720" cy="2880"/>
              </a:xfrm>
              <a:custGeom>
                <a:avLst/>
                <a:gdLst/>
                <a:ahLst/>
                <a:rect l="l" t="t" r="r" b="b"/>
                <a:pathLst>
                  <a:path w="5893" h="17">
                    <a:moveTo>
                      <a:pt x="589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893" y="0"/>
                    </a:lnTo>
                    <a:lnTo>
                      <a:pt x="589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20160" y="1338480"/>
                <a:ext cx="1002960" cy="1440"/>
              </a:xfrm>
              <a:custGeom>
                <a:avLst/>
                <a:gdLst/>
                <a:ahLst/>
                <a:rect l="l" t="t" r="r" b="b"/>
                <a:pathLst>
                  <a:path w="5910" h="8">
                    <a:moveTo>
                      <a:pt x="5901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910" y="0"/>
                    </a:lnTo>
                    <a:lnTo>
                      <a:pt x="590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920160" y="1336680"/>
                <a:ext cx="1002960" cy="1800"/>
              </a:xfrm>
              <a:custGeom>
                <a:avLst/>
                <a:gdLst/>
                <a:ahLst/>
                <a:rect l="l" t="t" r="r" b="b"/>
                <a:pathLst>
                  <a:path w="5918" h="8">
                    <a:moveTo>
                      <a:pt x="5909" y="8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5918" y="0"/>
                    </a:lnTo>
                    <a:lnTo>
                      <a:pt x="590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918720" y="1335240"/>
                <a:ext cx="1006200" cy="3240"/>
              </a:xfrm>
              <a:custGeom>
                <a:avLst/>
                <a:gdLst/>
                <a:ahLst/>
                <a:rect l="l" t="t" r="r" b="b"/>
                <a:pathLst>
                  <a:path w="5935" h="17">
                    <a:moveTo>
                      <a:pt x="5927" y="17"/>
                    </a:moveTo>
                    <a:lnTo>
                      <a:pt x="17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5935" y="0"/>
                    </a:lnTo>
                    <a:lnTo>
                      <a:pt x="592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918720" y="1333440"/>
                <a:ext cx="1006200" cy="3240"/>
              </a:xfrm>
              <a:custGeom>
                <a:avLst/>
                <a:gdLst/>
                <a:ahLst/>
                <a:rect l="l" t="t" r="r" b="b"/>
                <a:pathLst>
                  <a:path w="5935" h="17">
                    <a:moveTo>
                      <a:pt x="5927" y="17"/>
                    </a:moveTo>
                    <a:lnTo>
                      <a:pt x="9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935" y="0"/>
                    </a:lnTo>
                    <a:lnTo>
                      <a:pt x="592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918720" y="1333440"/>
                <a:ext cx="100620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916920" y="1332000"/>
                <a:ext cx="1009440" cy="1440"/>
              </a:xfrm>
              <a:custGeom>
                <a:avLst/>
                <a:gdLst/>
                <a:ahLst/>
                <a:rect l="l" t="t" r="r" b="b"/>
                <a:pathLst>
                  <a:path w="5952" h="9">
                    <a:moveTo>
                      <a:pt x="5943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5952" y="0"/>
                    </a:lnTo>
                    <a:lnTo>
                      <a:pt x="594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916920" y="1332000"/>
                <a:ext cx="1009440" cy="1440"/>
              </a:xfrm>
              <a:custGeom>
                <a:avLst/>
                <a:gdLst/>
                <a:ahLst/>
                <a:rect l="l" t="t" r="r" b="b"/>
                <a:pathLst>
                  <a:path w="5952" h="9">
                    <a:moveTo>
                      <a:pt x="5943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5952" y="0"/>
                    </a:lnTo>
                    <a:lnTo>
                      <a:pt x="594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916920" y="1330200"/>
                <a:ext cx="100944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916920" y="1328760"/>
                <a:ext cx="1010880" cy="3240"/>
              </a:xfrm>
              <a:custGeom>
                <a:avLst/>
                <a:gdLst/>
                <a:ahLst/>
                <a:rect l="l" t="t" r="r" b="b"/>
                <a:pathLst>
                  <a:path w="5960" h="17">
                    <a:moveTo>
                      <a:pt x="5952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5960" y="0"/>
                    </a:lnTo>
                    <a:lnTo>
                      <a:pt x="595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916920" y="1327320"/>
                <a:ext cx="1010880" cy="2880"/>
              </a:xfrm>
              <a:custGeom>
                <a:avLst/>
                <a:gdLst/>
                <a:ahLst/>
                <a:rect l="l" t="t" r="r" b="b"/>
                <a:pathLst>
                  <a:path w="5960" h="17">
                    <a:moveTo>
                      <a:pt x="5952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5960" y="0"/>
                    </a:lnTo>
                    <a:lnTo>
                      <a:pt x="595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916920" y="1327320"/>
                <a:ext cx="1010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15480" y="1325520"/>
                <a:ext cx="1014120" cy="1800"/>
              </a:xfrm>
              <a:custGeom>
                <a:avLst/>
                <a:gdLst/>
                <a:ahLst/>
                <a:rect l="l" t="t" r="r" b="b"/>
                <a:pathLst>
                  <a:path w="5978" h="9">
                    <a:moveTo>
                      <a:pt x="596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5978" y="0"/>
                    </a:lnTo>
                    <a:lnTo>
                      <a:pt x="596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915480" y="1324080"/>
                <a:ext cx="1014120" cy="3240"/>
              </a:xfrm>
              <a:custGeom>
                <a:avLst/>
                <a:gdLst/>
                <a:ahLst/>
                <a:rect l="l" t="t" r="r" b="b"/>
                <a:pathLst>
                  <a:path w="5978" h="17">
                    <a:moveTo>
                      <a:pt x="5969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5978" y="0"/>
                    </a:lnTo>
                    <a:lnTo>
                      <a:pt x="596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915480" y="1322280"/>
                <a:ext cx="1014120" cy="3240"/>
              </a:xfrm>
              <a:custGeom>
                <a:avLst/>
                <a:gdLst/>
                <a:ahLst/>
                <a:rect l="l" t="t" r="r" b="b"/>
                <a:pathLst>
                  <a:path w="5986" h="16">
                    <a:moveTo>
                      <a:pt x="5978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5986" y="0"/>
                    </a:lnTo>
                    <a:lnTo>
                      <a:pt x="597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15480" y="1322280"/>
                <a:ext cx="1014120" cy="1800"/>
              </a:xfrm>
              <a:custGeom>
                <a:avLst/>
                <a:gdLst/>
                <a:ahLst/>
                <a:rect l="l" t="t" r="r" b="b"/>
                <a:pathLst>
                  <a:path w="5986" h="8">
                    <a:moveTo>
                      <a:pt x="5978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986" y="0"/>
                    </a:lnTo>
                    <a:lnTo>
                      <a:pt x="597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915480" y="1320840"/>
                <a:ext cx="101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15480" y="1320840"/>
                <a:ext cx="1015560" cy="1440"/>
              </a:xfrm>
              <a:custGeom>
                <a:avLst/>
                <a:gdLst/>
                <a:ahLst/>
                <a:rect l="l" t="t" r="r" b="b"/>
                <a:pathLst>
                  <a:path w="5994" h="9">
                    <a:moveTo>
                      <a:pt x="5986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5994" y="0"/>
                    </a:lnTo>
                    <a:lnTo>
                      <a:pt x="598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914040" y="1319400"/>
                <a:ext cx="1017000" cy="1440"/>
              </a:xfrm>
              <a:custGeom>
                <a:avLst/>
                <a:gdLst/>
                <a:ahLst/>
                <a:rect l="l" t="t" r="r" b="b"/>
                <a:pathLst>
                  <a:path w="6002" h="8">
                    <a:moveTo>
                      <a:pt x="5994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6002" y="0"/>
                    </a:lnTo>
                    <a:lnTo>
                      <a:pt x="599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914040" y="1317600"/>
                <a:ext cx="1017000" cy="3240"/>
              </a:xfrm>
              <a:custGeom>
                <a:avLst/>
                <a:gdLst/>
                <a:ahLst/>
                <a:rect l="l" t="t" r="r" b="b"/>
                <a:pathLst>
                  <a:path w="6002" h="17">
                    <a:moveTo>
                      <a:pt x="6002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002" y="0"/>
                    </a:lnTo>
                    <a:lnTo>
                      <a:pt x="600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14040" y="1316160"/>
                <a:ext cx="1018800" cy="3240"/>
              </a:xfrm>
              <a:custGeom>
                <a:avLst/>
                <a:gdLst/>
                <a:ahLst/>
                <a:rect l="l" t="t" r="r" b="b"/>
                <a:pathLst>
                  <a:path w="6011" h="17">
                    <a:moveTo>
                      <a:pt x="6002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6011" y="0"/>
                    </a:lnTo>
                    <a:lnTo>
                      <a:pt x="600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914040" y="1316160"/>
                <a:ext cx="1018800" cy="1440"/>
              </a:xfrm>
              <a:custGeom>
                <a:avLst/>
                <a:gdLst/>
                <a:ahLst/>
                <a:rect l="l" t="t" r="r" b="b"/>
                <a:pathLst>
                  <a:path w="6011" h="8">
                    <a:moveTo>
                      <a:pt x="6002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011" y="0"/>
                    </a:lnTo>
                    <a:lnTo>
                      <a:pt x="6011" y="0"/>
                    </a:lnTo>
                    <a:lnTo>
                      <a:pt x="60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14040" y="1314360"/>
                <a:ext cx="1020240" cy="1800"/>
              </a:xfrm>
              <a:custGeom>
                <a:avLst/>
                <a:gdLst/>
                <a:ahLst/>
                <a:rect l="l" t="t" r="r" b="b"/>
                <a:pathLst>
                  <a:path w="6019" h="9">
                    <a:moveTo>
                      <a:pt x="6011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6019" y="0"/>
                    </a:lnTo>
                    <a:lnTo>
                      <a:pt x="601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914040" y="1312920"/>
                <a:ext cx="1020240" cy="3240"/>
              </a:xfrm>
              <a:custGeom>
                <a:avLst/>
                <a:gdLst/>
                <a:ahLst/>
                <a:rect l="l" t="t" r="r" b="b"/>
                <a:pathLst>
                  <a:path w="6019" h="17">
                    <a:moveTo>
                      <a:pt x="6011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6019" y="0"/>
                    </a:lnTo>
                    <a:lnTo>
                      <a:pt x="601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12240" y="1311480"/>
                <a:ext cx="1022040" cy="2880"/>
              </a:xfrm>
              <a:custGeom>
                <a:avLst/>
                <a:gdLst/>
                <a:ahLst/>
                <a:rect l="l" t="t" r="r" b="b"/>
                <a:pathLst>
                  <a:path w="6028" h="17">
                    <a:moveTo>
                      <a:pt x="6028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6028" y="0"/>
                    </a:lnTo>
                    <a:lnTo>
                      <a:pt x="602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912240" y="1311480"/>
                <a:ext cx="1022040" cy="1440"/>
              </a:xfrm>
              <a:custGeom>
                <a:avLst/>
                <a:gdLst/>
                <a:ahLst/>
                <a:rect l="l" t="t" r="r" b="b"/>
                <a:pathLst>
                  <a:path w="6028" h="9">
                    <a:moveTo>
                      <a:pt x="6028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6028" y="0"/>
                    </a:lnTo>
                    <a:lnTo>
                      <a:pt x="60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912240" y="1309680"/>
                <a:ext cx="1023480" cy="1800"/>
              </a:xfrm>
              <a:custGeom>
                <a:avLst/>
                <a:gdLst/>
                <a:ahLst/>
                <a:rect l="l" t="t" r="r" b="b"/>
                <a:pathLst>
                  <a:path w="6037" h="8">
                    <a:moveTo>
                      <a:pt x="6028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037" y="0"/>
                    </a:lnTo>
                    <a:lnTo>
                      <a:pt x="60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912240" y="1309680"/>
                <a:ext cx="1023480" cy="1800"/>
              </a:xfrm>
              <a:custGeom>
                <a:avLst/>
                <a:gdLst/>
                <a:ahLst/>
                <a:rect l="l" t="t" r="r" b="b"/>
                <a:pathLst>
                  <a:path w="6037" h="8">
                    <a:moveTo>
                      <a:pt x="6028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037" y="0"/>
                    </a:lnTo>
                    <a:lnTo>
                      <a:pt x="602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12240" y="1308240"/>
                <a:ext cx="1023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910800" y="1306440"/>
                <a:ext cx="1024920" cy="3240"/>
              </a:xfrm>
              <a:custGeom>
                <a:avLst/>
                <a:gdLst/>
                <a:ahLst/>
                <a:rect l="l" t="t" r="r" b="b"/>
                <a:pathLst>
                  <a:path w="6045" h="17">
                    <a:moveTo>
                      <a:pt x="604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045" y="0"/>
                    </a:lnTo>
                    <a:lnTo>
                      <a:pt x="604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910800" y="1305000"/>
                <a:ext cx="1026720" cy="3240"/>
              </a:xfrm>
              <a:custGeom>
                <a:avLst/>
                <a:gdLst/>
                <a:ahLst/>
                <a:rect l="l" t="t" r="r" b="b"/>
                <a:pathLst>
                  <a:path w="6053" h="17">
                    <a:moveTo>
                      <a:pt x="604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053" y="0"/>
                    </a:lnTo>
                    <a:lnTo>
                      <a:pt x="604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910800" y="1305000"/>
                <a:ext cx="1026720" cy="1440"/>
              </a:xfrm>
              <a:custGeom>
                <a:avLst/>
                <a:gdLst/>
                <a:ahLst/>
                <a:rect l="l" t="t" r="r" b="b"/>
                <a:pathLst>
                  <a:path w="6053" h="8">
                    <a:moveTo>
                      <a:pt x="604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647" y="0"/>
                    </a:lnTo>
                    <a:lnTo>
                      <a:pt x="3757" y="0"/>
                    </a:lnTo>
                    <a:lnTo>
                      <a:pt x="3807" y="0"/>
                    </a:lnTo>
                    <a:lnTo>
                      <a:pt x="6053" y="0"/>
                    </a:lnTo>
                    <a:lnTo>
                      <a:pt x="604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10800" y="1303560"/>
                <a:ext cx="1026720" cy="1440"/>
              </a:xfrm>
              <a:custGeom>
                <a:avLst/>
                <a:gdLst/>
                <a:ahLst/>
                <a:rect l="l" t="t" r="r" b="b"/>
                <a:pathLst>
                  <a:path w="6053" h="9">
                    <a:moveTo>
                      <a:pt x="6053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571" y="0"/>
                    </a:lnTo>
                    <a:lnTo>
                      <a:pt x="3605" y="0"/>
                    </a:lnTo>
                    <a:lnTo>
                      <a:pt x="3757" y="9"/>
                    </a:lnTo>
                    <a:lnTo>
                      <a:pt x="3867" y="0"/>
                    </a:lnTo>
                    <a:lnTo>
                      <a:pt x="6053" y="0"/>
                    </a:lnTo>
                    <a:lnTo>
                      <a:pt x="605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10800" y="1301760"/>
                <a:ext cx="1026720" cy="3240"/>
              </a:xfrm>
              <a:custGeom>
                <a:avLst/>
                <a:gdLst/>
                <a:ahLst/>
                <a:rect l="l" t="t" r="r" b="b"/>
                <a:pathLst>
                  <a:path w="6053" h="17">
                    <a:moveTo>
                      <a:pt x="6053" y="17"/>
                    </a:moveTo>
                    <a:lnTo>
                      <a:pt x="3807" y="17"/>
                    </a:lnTo>
                    <a:lnTo>
                      <a:pt x="3909" y="8"/>
                    </a:lnTo>
                    <a:lnTo>
                      <a:pt x="3917" y="0"/>
                    </a:lnTo>
                    <a:lnTo>
                      <a:pt x="6053" y="0"/>
                    </a:lnTo>
                    <a:lnTo>
                      <a:pt x="6053" y="17"/>
                    </a:lnTo>
                    <a:close/>
                    <a:moveTo>
                      <a:pt x="3647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520" y="0"/>
                    </a:lnTo>
                    <a:lnTo>
                      <a:pt x="3605" y="8"/>
                    </a:lnTo>
                    <a:lnTo>
                      <a:pt x="36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910800" y="1300320"/>
                <a:ext cx="1028160" cy="3240"/>
              </a:xfrm>
              <a:custGeom>
                <a:avLst/>
                <a:gdLst/>
                <a:ahLst/>
                <a:rect l="l" t="t" r="r" b="b"/>
                <a:pathLst>
                  <a:path w="6062" h="17">
                    <a:moveTo>
                      <a:pt x="6053" y="17"/>
                    </a:moveTo>
                    <a:lnTo>
                      <a:pt x="3867" y="17"/>
                    </a:lnTo>
                    <a:lnTo>
                      <a:pt x="3909" y="17"/>
                    </a:lnTo>
                    <a:lnTo>
                      <a:pt x="3943" y="0"/>
                    </a:lnTo>
                    <a:lnTo>
                      <a:pt x="6062" y="0"/>
                    </a:lnTo>
                    <a:lnTo>
                      <a:pt x="6053" y="17"/>
                    </a:lnTo>
                    <a:close/>
                    <a:moveTo>
                      <a:pt x="3571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470" y="0"/>
                    </a:lnTo>
                    <a:lnTo>
                      <a:pt x="357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909000" y="1300320"/>
                <a:ext cx="1029960" cy="1440"/>
              </a:xfrm>
              <a:custGeom>
                <a:avLst/>
                <a:gdLst/>
                <a:ahLst/>
                <a:rect l="l" t="t" r="r" b="b"/>
                <a:pathLst>
                  <a:path w="6071" h="9">
                    <a:moveTo>
                      <a:pt x="6062" y="9"/>
                    </a:moveTo>
                    <a:lnTo>
                      <a:pt x="3926" y="9"/>
                    </a:lnTo>
                    <a:lnTo>
                      <a:pt x="3977" y="0"/>
                    </a:lnTo>
                    <a:lnTo>
                      <a:pt x="6071" y="0"/>
                    </a:lnTo>
                    <a:lnTo>
                      <a:pt x="6062" y="9"/>
                    </a:lnTo>
                    <a:close/>
                    <a:moveTo>
                      <a:pt x="352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3462" y="0"/>
                    </a:lnTo>
                    <a:lnTo>
                      <a:pt x="3479" y="0"/>
                    </a:lnTo>
                    <a:lnTo>
                      <a:pt x="352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09000" y="1298520"/>
                <a:ext cx="1029960" cy="1800"/>
              </a:xfrm>
              <a:custGeom>
                <a:avLst/>
                <a:gdLst/>
                <a:ahLst/>
                <a:rect l="l" t="t" r="r" b="b"/>
                <a:pathLst>
                  <a:path w="6071" h="8">
                    <a:moveTo>
                      <a:pt x="6071" y="8"/>
                    </a:moveTo>
                    <a:lnTo>
                      <a:pt x="3952" y="8"/>
                    </a:lnTo>
                    <a:lnTo>
                      <a:pt x="4002" y="0"/>
                    </a:lnTo>
                    <a:lnTo>
                      <a:pt x="6071" y="0"/>
                    </a:lnTo>
                    <a:lnTo>
                      <a:pt x="6071" y="8"/>
                    </a:lnTo>
                    <a:close/>
                    <a:moveTo>
                      <a:pt x="3479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3437" y="0"/>
                    </a:lnTo>
                    <a:lnTo>
                      <a:pt x="347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09000" y="1298520"/>
                <a:ext cx="1031760" cy="1800"/>
              </a:xfrm>
              <a:custGeom>
                <a:avLst/>
                <a:gdLst/>
                <a:ahLst/>
                <a:rect l="l" t="t" r="r" b="b"/>
                <a:pathLst>
                  <a:path w="6079" h="8">
                    <a:moveTo>
                      <a:pt x="6071" y="8"/>
                    </a:moveTo>
                    <a:lnTo>
                      <a:pt x="3977" y="8"/>
                    </a:lnTo>
                    <a:lnTo>
                      <a:pt x="4028" y="0"/>
                    </a:lnTo>
                    <a:lnTo>
                      <a:pt x="6079" y="0"/>
                    </a:lnTo>
                    <a:lnTo>
                      <a:pt x="6071" y="8"/>
                    </a:lnTo>
                    <a:close/>
                    <a:moveTo>
                      <a:pt x="3462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411" y="0"/>
                    </a:lnTo>
                    <a:lnTo>
                      <a:pt x="346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09000" y="1297080"/>
                <a:ext cx="1031760" cy="1440"/>
              </a:xfrm>
              <a:custGeom>
                <a:avLst/>
                <a:gdLst/>
                <a:ahLst/>
                <a:rect l="l" t="t" r="r" b="b"/>
                <a:pathLst>
                  <a:path w="6079" h="9">
                    <a:moveTo>
                      <a:pt x="6071" y="9"/>
                    </a:moveTo>
                    <a:lnTo>
                      <a:pt x="4002" y="9"/>
                    </a:lnTo>
                    <a:lnTo>
                      <a:pt x="4061" y="0"/>
                    </a:lnTo>
                    <a:lnTo>
                      <a:pt x="6079" y="0"/>
                    </a:lnTo>
                    <a:lnTo>
                      <a:pt x="6071" y="9"/>
                    </a:lnTo>
                    <a:close/>
                    <a:moveTo>
                      <a:pt x="3437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386" y="0"/>
                    </a:lnTo>
                    <a:lnTo>
                      <a:pt x="343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09000" y="1297080"/>
                <a:ext cx="1031760" cy="1440"/>
              </a:xfrm>
              <a:custGeom>
                <a:avLst/>
                <a:gdLst/>
                <a:ahLst/>
                <a:rect l="l" t="t" r="r" b="b"/>
                <a:pathLst>
                  <a:path w="6079" h="17">
                    <a:moveTo>
                      <a:pt x="6079" y="17"/>
                    </a:moveTo>
                    <a:lnTo>
                      <a:pt x="4028" y="17"/>
                    </a:lnTo>
                    <a:lnTo>
                      <a:pt x="4061" y="8"/>
                    </a:lnTo>
                    <a:lnTo>
                      <a:pt x="4078" y="0"/>
                    </a:lnTo>
                    <a:lnTo>
                      <a:pt x="6079" y="0"/>
                    </a:lnTo>
                    <a:lnTo>
                      <a:pt x="6079" y="17"/>
                    </a:lnTo>
                    <a:close/>
                    <a:moveTo>
                      <a:pt x="3411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369" y="0"/>
                    </a:lnTo>
                    <a:lnTo>
                      <a:pt x="341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09000" y="1295280"/>
                <a:ext cx="1031760" cy="1800"/>
              </a:xfrm>
              <a:custGeom>
                <a:avLst/>
                <a:gdLst/>
                <a:ahLst/>
                <a:rect l="l" t="t" r="r" b="b"/>
                <a:pathLst>
                  <a:path w="6079" h="16">
                    <a:moveTo>
                      <a:pt x="6079" y="16"/>
                    </a:moveTo>
                    <a:lnTo>
                      <a:pt x="4061" y="16"/>
                    </a:lnTo>
                    <a:lnTo>
                      <a:pt x="4061" y="16"/>
                    </a:lnTo>
                    <a:lnTo>
                      <a:pt x="4104" y="0"/>
                    </a:lnTo>
                    <a:lnTo>
                      <a:pt x="6079" y="0"/>
                    </a:lnTo>
                    <a:lnTo>
                      <a:pt x="6079" y="16"/>
                    </a:lnTo>
                    <a:close/>
                    <a:moveTo>
                      <a:pt x="3386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3344" y="0"/>
                    </a:lnTo>
                    <a:lnTo>
                      <a:pt x="338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07560" y="1295280"/>
                <a:ext cx="1034640" cy="1800"/>
              </a:xfrm>
              <a:custGeom>
                <a:avLst/>
                <a:gdLst/>
                <a:ahLst/>
                <a:rect l="l" t="t" r="r" b="b"/>
                <a:pathLst>
                  <a:path w="6096" h="8">
                    <a:moveTo>
                      <a:pt x="6087" y="8"/>
                    </a:moveTo>
                    <a:lnTo>
                      <a:pt x="4086" y="8"/>
                    </a:lnTo>
                    <a:lnTo>
                      <a:pt x="4137" y="0"/>
                    </a:lnTo>
                    <a:lnTo>
                      <a:pt x="6096" y="0"/>
                    </a:lnTo>
                    <a:lnTo>
                      <a:pt x="6087" y="8"/>
                    </a:lnTo>
                    <a:close/>
                    <a:moveTo>
                      <a:pt x="3377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3326" y="0"/>
                    </a:lnTo>
                    <a:lnTo>
                      <a:pt x="337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907560" y="1293840"/>
                <a:ext cx="1034640" cy="1440"/>
              </a:xfrm>
              <a:custGeom>
                <a:avLst/>
                <a:gdLst/>
                <a:ahLst/>
                <a:rect l="l" t="t" r="r" b="b"/>
                <a:pathLst>
                  <a:path w="6096" h="9">
                    <a:moveTo>
                      <a:pt x="6087" y="9"/>
                    </a:moveTo>
                    <a:lnTo>
                      <a:pt x="4112" y="9"/>
                    </a:lnTo>
                    <a:lnTo>
                      <a:pt x="4154" y="0"/>
                    </a:lnTo>
                    <a:lnTo>
                      <a:pt x="6096" y="0"/>
                    </a:lnTo>
                    <a:lnTo>
                      <a:pt x="6087" y="9"/>
                    </a:lnTo>
                    <a:close/>
                    <a:moveTo>
                      <a:pt x="3352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3309" y="0"/>
                    </a:lnTo>
                    <a:lnTo>
                      <a:pt x="335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907560" y="1292400"/>
                <a:ext cx="1034640" cy="2880"/>
              </a:xfrm>
              <a:custGeom>
                <a:avLst/>
                <a:gdLst/>
                <a:ahLst/>
                <a:rect l="l" t="t" r="r" b="b"/>
                <a:pathLst>
                  <a:path w="6096" h="17">
                    <a:moveTo>
                      <a:pt x="6096" y="17"/>
                    </a:moveTo>
                    <a:lnTo>
                      <a:pt x="4137" y="17"/>
                    </a:lnTo>
                    <a:lnTo>
                      <a:pt x="4179" y="0"/>
                    </a:lnTo>
                    <a:lnTo>
                      <a:pt x="6096" y="0"/>
                    </a:lnTo>
                    <a:lnTo>
                      <a:pt x="6096" y="17"/>
                    </a:lnTo>
                    <a:close/>
                    <a:moveTo>
                      <a:pt x="3326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284" y="0"/>
                    </a:lnTo>
                    <a:lnTo>
                      <a:pt x="332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907560" y="1290600"/>
                <a:ext cx="1034640" cy="3240"/>
              </a:xfrm>
              <a:custGeom>
                <a:avLst/>
                <a:gdLst/>
                <a:ahLst/>
                <a:rect l="l" t="t" r="r" b="b"/>
                <a:pathLst>
                  <a:path w="6096" h="17">
                    <a:moveTo>
                      <a:pt x="6096" y="17"/>
                    </a:moveTo>
                    <a:lnTo>
                      <a:pt x="4154" y="17"/>
                    </a:lnTo>
                    <a:lnTo>
                      <a:pt x="4204" y="0"/>
                    </a:lnTo>
                    <a:lnTo>
                      <a:pt x="6096" y="0"/>
                    </a:lnTo>
                    <a:lnTo>
                      <a:pt x="6096" y="17"/>
                    </a:lnTo>
                    <a:close/>
                    <a:moveTo>
                      <a:pt x="3309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259" y="0"/>
                    </a:lnTo>
                    <a:lnTo>
                      <a:pt x="330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120" y="1290600"/>
                <a:ext cx="1037880" cy="1800"/>
              </a:xfrm>
              <a:custGeom>
                <a:avLst/>
                <a:gdLst/>
                <a:ahLst/>
                <a:rect l="l" t="t" r="r" b="b"/>
                <a:pathLst>
                  <a:path w="6112" h="9">
                    <a:moveTo>
                      <a:pt x="6104" y="9"/>
                    </a:moveTo>
                    <a:lnTo>
                      <a:pt x="4187" y="9"/>
                    </a:lnTo>
                    <a:lnTo>
                      <a:pt x="4238" y="0"/>
                    </a:lnTo>
                    <a:lnTo>
                      <a:pt x="6112" y="0"/>
                    </a:lnTo>
                    <a:lnTo>
                      <a:pt x="6104" y="9"/>
                    </a:lnTo>
                    <a:close/>
                    <a:moveTo>
                      <a:pt x="3292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3250" y="0"/>
                    </a:lnTo>
                    <a:lnTo>
                      <a:pt x="3267" y="0"/>
                    </a:lnTo>
                    <a:lnTo>
                      <a:pt x="329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906120" y="1289160"/>
                <a:ext cx="1037880" cy="1440"/>
              </a:xfrm>
              <a:custGeom>
                <a:avLst/>
                <a:gdLst/>
                <a:ahLst/>
                <a:rect l="l" t="t" r="r" b="b"/>
                <a:pathLst>
                  <a:path w="6112" h="8">
                    <a:moveTo>
                      <a:pt x="6104" y="8"/>
                    </a:moveTo>
                    <a:lnTo>
                      <a:pt x="4212" y="8"/>
                    </a:lnTo>
                    <a:lnTo>
                      <a:pt x="4255" y="0"/>
                    </a:lnTo>
                    <a:lnTo>
                      <a:pt x="6112" y="0"/>
                    </a:lnTo>
                    <a:lnTo>
                      <a:pt x="6104" y="8"/>
                    </a:lnTo>
                    <a:close/>
                    <a:moveTo>
                      <a:pt x="3267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3233" y="0"/>
                    </a:lnTo>
                    <a:lnTo>
                      <a:pt x="326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06120" y="1289160"/>
                <a:ext cx="1037880" cy="1440"/>
              </a:xfrm>
              <a:custGeom>
                <a:avLst/>
                <a:gdLst/>
                <a:ahLst/>
                <a:rect l="l" t="t" r="r" b="b"/>
                <a:pathLst>
                  <a:path w="6112" h="8">
                    <a:moveTo>
                      <a:pt x="6112" y="8"/>
                    </a:moveTo>
                    <a:lnTo>
                      <a:pt x="4238" y="8"/>
                    </a:lnTo>
                    <a:lnTo>
                      <a:pt x="4280" y="0"/>
                    </a:lnTo>
                    <a:lnTo>
                      <a:pt x="6112" y="0"/>
                    </a:lnTo>
                    <a:lnTo>
                      <a:pt x="6112" y="8"/>
                    </a:lnTo>
                    <a:close/>
                    <a:moveTo>
                      <a:pt x="325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216" y="0"/>
                    </a:lnTo>
                    <a:lnTo>
                      <a:pt x="325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906120" y="1287360"/>
                <a:ext cx="1037880" cy="1800"/>
              </a:xfrm>
              <a:custGeom>
                <a:avLst/>
                <a:gdLst/>
                <a:ahLst/>
                <a:rect l="l" t="t" r="r" b="b"/>
                <a:pathLst>
                  <a:path w="6112" h="9">
                    <a:moveTo>
                      <a:pt x="6112" y="9"/>
                    </a:moveTo>
                    <a:lnTo>
                      <a:pt x="4255" y="9"/>
                    </a:lnTo>
                    <a:lnTo>
                      <a:pt x="4305" y="0"/>
                    </a:lnTo>
                    <a:lnTo>
                      <a:pt x="6112" y="0"/>
                    </a:lnTo>
                    <a:lnTo>
                      <a:pt x="6112" y="9"/>
                    </a:lnTo>
                    <a:close/>
                    <a:moveTo>
                      <a:pt x="3233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191" y="0"/>
                    </a:lnTo>
                    <a:lnTo>
                      <a:pt x="323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906120" y="1285920"/>
                <a:ext cx="1037880" cy="3240"/>
              </a:xfrm>
              <a:custGeom>
                <a:avLst/>
                <a:gdLst/>
                <a:ahLst/>
                <a:rect l="l" t="t" r="r" b="b"/>
                <a:pathLst>
                  <a:path w="6112" h="17">
                    <a:moveTo>
                      <a:pt x="6112" y="17"/>
                    </a:moveTo>
                    <a:lnTo>
                      <a:pt x="4280" y="17"/>
                    </a:lnTo>
                    <a:lnTo>
                      <a:pt x="4331" y="0"/>
                    </a:lnTo>
                    <a:lnTo>
                      <a:pt x="6112" y="0"/>
                    </a:lnTo>
                    <a:lnTo>
                      <a:pt x="6112" y="17"/>
                    </a:lnTo>
                    <a:close/>
                    <a:moveTo>
                      <a:pt x="3216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174" y="0"/>
                    </a:lnTo>
                    <a:lnTo>
                      <a:pt x="321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120" y="1284480"/>
                <a:ext cx="1037880" cy="2880"/>
              </a:xfrm>
              <a:custGeom>
                <a:avLst/>
                <a:gdLst/>
                <a:ahLst/>
                <a:rect l="l" t="t" r="r" b="b"/>
                <a:pathLst>
                  <a:path w="6112" h="17">
                    <a:moveTo>
                      <a:pt x="6112" y="17"/>
                    </a:moveTo>
                    <a:lnTo>
                      <a:pt x="4305" y="17"/>
                    </a:lnTo>
                    <a:lnTo>
                      <a:pt x="4347" y="0"/>
                    </a:lnTo>
                    <a:lnTo>
                      <a:pt x="6112" y="0"/>
                    </a:lnTo>
                    <a:lnTo>
                      <a:pt x="6112" y="17"/>
                    </a:lnTo>
                    <a:close/>
                    <a:moveTo>
                      <a:pt x="3191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157" y="0"/>
                    </a:lnTo>
                    <a:lnTo>
                      <a:pt x="319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06120" y="1284480"/>
                <a:ext cx="1037880" cy="1440"/>
              </a:xfrm>
              <a:custGeom>
                <a:avLst/>
                <a:gdLst/>
                <a:ahLst/>
                <a:rect l="l" t="t" r="r" b="b"/>
                <a:pathLst>
                  <a:path w="6112" h="9">
                    <a:moveTo>
                      <a:pt x="6112" y="9"/>
                    </a:moveTo>
                    <a:lnTo>
                      <a:pt x="4331" y="9"/>
                    </a:lnTo>
                    <a:lnTo>
                      <a:pt x="4373" y="0"/>
                    </a:lnTo>
                    <a:lnTo>
                      <a:pt x="6112" y="0"/>
                    </a:lnTo>
                    <a:lnTo>
                      <a:pt x="6112" y="9"/>
                    </a:lnTo>
                    <a:close/>
                    <a:moveTo>
                      <a:pt x="3174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132" y="0"/>
                    </a:lnTo>
                    <a:lnTo>
                      <a:pt x="317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904320" y="1282680"/>
                <a:ext cx="1039680" cy="1800"/>
              </a:xfrm>
              <a:custGeom>
                <a:avLst/>
                <a:gdLst/>
                <a:ahLst/>
                <a:rect l="l" t="t" r="r" b="b"/>
                <a:pathLst>
                  <a:path w="6121" h="8">
                    <a:moveTo>
                      <a:pt x="6121" y="8"/>
                    </a:moveTo>
                    <a:lnTo>
                      <a:pt x="4356" y="8"/>
                    </a:lnTo>
                    <a:lnTo>
                      <a:pt x="4407" y="0"/>
                    </a:lnTo>
                    <a:lnTo>
                      <a:pt x="6121" y="0"/>
                    </a:lnTo>
                    <a:lnTo>
                      <a:pt x="6121" y="8"/>
                    </a:lnTo>
                    <a:close/>
                    <a:moveTo>
                      <a:pt x="3166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3124" y="0"/>
                    </a:lnTo>
                    <a:lnTo>
                      <a:pt x="316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904320" y="1281240"/>
                <a:ext cx="1039680" cy="3240"/>
              </a:xfrm>
              <a:custGeom>
                <a:avLst/>
                <a:gdLst/>
                <a:ahLst/>
                <a:rect l="l" t="t" r="r" b="b"/>
                <a:pathLst>
                  <a:path w="6129" h="16">
                    <a:moveTo>
                      <a:pt x="6121" y="16"/>
                    </a:moveTo>
                    <a:lnTo>
                      <a:pt x="4382" y="16"/>
                    </a:lnTo>
                    <a:lnTo>
                      <a:pt x="4432" y="0"/>
                    </a:lnTo>
                    <a:lnTo>
                      <a:pt x="6129" y="0"/>
                    </a:lnTo>
                    <a:lnTo>
                      <a:pt x="6121" y="16"/>
                    </a:lnTo>
                    <a:close/>
                    <a:moveTo>
                      <a:pt x="3141" y="16"/>
                    </a:moveTo>
                    <a:lnTo>
                      <a:pt x="9" y="16"/>
                    </a:lnTo>
                    <a:lnTo>
                      <a:pt x="0" y="0"/>
                    </a:lnTo>
                    <a:lnTo>
                      <a:pt x="3107" y="0"/>
                    </a:lnTo>
                    <a:lnTo>
                      <a:pt x="3141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904320" y="1281240"/>
                <a:ext cx="1039680" cy="1440"/>
              </a:xfrm>
              <a:custGeom>
                <a:avLst/>
                <a:gdLst/>
                <a:ahLst/>
                <a:rect l="l" t="t" r="r" b="b"/>
                <a:pathLst>
                  <a:path w="6129" h="8">
                    <a:moveTo>
                      <a:pt x="6121" y="8"/>
                    </a:moveTo>
                    <a:lnTo>
                      <a:pt x="4407" y="8"/>
                    </a:lnTo>
                    <a:lnTo>
                      <a:pt x="4458" y="0"/>
                    </a:lnTo>
                    <a:lnTo>
                      <a:pt x="6129" y="0"/>
                    </a:lnTo>
                    <a:lnTo>
                      <a:pt x="6121" y="8"/>
                    </a:lnTo>
                    <a:close/>
                    <a:moveTo>
                      <a:pt x="312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090" y="0"/>
                    </a:lnTo>
                    <a:lnTo>
                      <a:pt x="312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4320" y="1279440"/>
                <a:ext cx="1039680" cy="1800"/>
              </a:xfrm>
              <a:custGeom>
                <a:avLst/>
                <a:gdLst/>
                <a:ahLst/>
                <a:rect l="l" t="t" r="r" b="b"/>
                <a:pathLst>
                  <a:path w="6129" h="9">
                    <a:moveTo>
                      <a:pt x="6129" y="9"/>
                    </a:moveTo>
                    <a:lnTo>
                      <a:pt x="4432" y="9"/>
                    </a:lnTo>
                    <a:lnTo>
                      <a:pt x="4475" y="0"/>
                    </a:lnTo>
                    <a:lnTo>
                      <a:pt x="6129" y="0"/>
                    </a:lnTo>
                    <a:lnTo>
                      <a:pt x="6129" y="9"/>
                    </a:lnTo>
                    <a:close/>
                    <a:moveTo>
                      <a:pt x="3107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3065" y="0"/>
                    </a:lnTo>
                    <a:lnTo>
                      <a:pt x="310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904320" y="1278000"/>
                <a:ext cx="1039680" cy="3240"/>
              </a:xfrm>
              <a:custGeom>
                <a:avLst/>
                <a:gdLst/>
                <a:ahLst/>
                <a:rect l="l" t="t" r="r" b="b"/>
                <a:pathLst>
                  <a:path w="6129" h="17">
                    <a:moveTo>
                      <a:pt x="6129" y="17"/>
                    </a:moveTo>
                    <a:lnTo>
                      <a:pt x="4458" y="17"/>
                    </a:lnTo>
                    <a:lnTo>
                      <a:pt x="4500" y="0"/>
                    </a:lnTo>
                    <a:lnTo>
                      <a:pt x="6129" y="0"/>
                    </a:lnTo>
                    <a:lnTo>
                      <a:pt x="6129" y="17"/>
                    </a:lnTo>
                    <a:close/>
                    <a:moveTo>
                      <a:pt x="3090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3048" y="0"/>
                    </a:lnTo>
                    <a:lnTo>
                      <a:pt x="309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904320" y="1278000"/>
                <a:ext cx="1039680" cy="1440"/>
              </a:xfrm>
              <a:custGeom>
                <a:avLst/>
                <a:gdLst/>
                <a:ahLst/>
                <a:rect l="l" t="t" r="r" b="b"/>
                <a:pathLst>
                  <a:path w="6129" h="8">
                    <a:moveTo>
                      <a:pt x="6129" y="8"/>
                    </a:moveTo>
                    <a:lnTo>
                      <a:pt x="4475" y="8"/>
                    </a:lnTo>
                    <a:lnTo>
                      <a:pt x="4525" y="0"/>
                    </a:lnTo>
                    <a:lnTo>
                      <a:pt x="6129" y="0"/>
                    </a:lnTo>
                    <a:lnTo>
                      <a:pt x="6129" y="8"/>
                    </a:lnTo>
                    <a:close/>
                    <a:moveTo>
                      <a:pt x="306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031" y="0"/>
                    </a:lnTo>
                    <a:lnTo>
                      <a:pt x="306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904320" y="1276560"/>
                <a:ext cx="1039680" cy="1440"/>
              </a:xfrm>
              <a:custGeom>
                <a:avLst/>
                <a:gdLst/>
                <a:ahLst/>
                <a:rect l="l" t="t" r="r" b="b"/>
                <a:pathLst>
                  <a:path w="6137" h="9">
                    <a:moveTo>
                      <a:pt x="6137" y="9"/>
                    </a:moveTo>
                    <a:lnTo>
                      <a:pt x="4508" y="9"/>
                    </a:lnTo>
                    <a:lnTo>
                      <a:pt x="4550" y="0"/>
                    </a:lnTo>
                    <a:lnTo>
                      <a:pt x="6137" y="0"/>
                    </a:lnTo>
                    <a:lnTo>
                      <a:pt x="6137" y="0"/>
                    </a:lnTo>
                    <a:lnTo>
                      <a:pt x="6137" y="9"/>
                    </a:lnTo>
                    <a:close/>
                    <a:moveTo>
                      <a:pt x="3056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3022" y="0"/>
                    </a:lnTo>
                    <a:lnTo>
                      <a:pt x="305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904320" y="1274760"/>
                <a:ext cx="1039680" cy="3240"/>
              </a:xfrm>
              <a:custGeom>
                <a:avLst/>
                <a:gdLst/>
                <a:ahLst/>
                <a:rect l="l" t="t" r="r" b="b"/>
                <a:pathLst>
                  <a:path w="6137" h="17">
                    <a:moveTo>
                      <a:pt x="6137" y="17"/>
                    </a:moveTo>
                    <a:lnTo>
                      <a:pt x="4533" y="17"/>
                    </a:lnTo>
                    <a:lnTo>
                      <a:pt x="4576" y="0"/>
                    </a:lnTo>
                    <a:lnTo>
                      <a:pt x="6137" y="0"/>
                    </a:lnTo>
                    <a:lnTo>
                      <a:pt x="6137" y="8"/>
                    </a:lnTo>
                    <a:lnTo>
                      <a:pt x="6137" y="17"/>
                    </a:lnTo>
                    <a:close/>
                    <a:moveTo>
                      <a:pt x="3039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2997" y="0"/>
                    </a:lnTo>
                    <a:lnTo>
                      <a:pt x="3039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4320" y="1273320"/>
                <a:ext cx="1039680" cy="3240"/>
              </a:xfrm>
              <a:custGeom>
                <a:avLst/>
                <a:gdLst/>
                <a:ahLst/>
                <a:rect l="l" t="t" r="r" b="b"/>
                <a:pathLst>
                  <a:path w="6137" h="17">
                    <a:moveTo>
                      <a:pt x="6137" y="17"/>
                    </a:moveTo>
                    <a:lnTo>
                      <a:pt x="4550" y="17"/>
                    </a:lnTo>
                    <a:lnTo>
                      <a:pt x="4601" y="0"/>
                    </a:lnTo>
                    <a:lnTo>
                      <a:pt x="6137" y="0"/>
                    </a:lnTo>
                    <a:lnTo>
                      <a:pt x="6137" y="17"/>
                    </a:lnTo>
                    <a:close/>
                    <a:moveTo>
                      <a:pt x="3022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980" y="0"/>
                    </a:lnTo>
                    <a:lnTo>
                      <a:pt x="302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904320" y="1273320"/>
                <a:ext cx="1039680" cy="1440"/>
              </a:xfrm>
              <a:custGeom>
                <a:avLst/>
                <a:gdLst/>
                <a:ahLst/>
                <a:rect l="l" t="t" r="r" b="b"/>
                <a:pathLst>
                  <a:path w="6137" h="9">
                    <a:moveTo>
                      <a:pt x="6137" y="9"/>
                    </a:moveTo>
                    <a:lnTo>
                      <a:pt x="4576" y="9"/>
                    </a:lnTo>
                    <a:lnTo>
                      <a:pt x="4626" y="0"/>
                    </a:lnTo>
                    <a:lnTo>
                      <a:pt x="6137" y="0"/>
                    </a:lnTo>
                    <a:lnTo>
                      <a:pt x="6137" y="9"/>
                    </a:lnTo>
                    <a:close/>
                    <a:moveTo>
                      <a:pt x="2997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963" y="0"/>
                    </a:lnTo>
                    <a:lnTo>
                      <a:pt x="299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04320" y="1271520"/>
                <a:ext cx="1039680" cy="1800"/>
              </a:xfrm>
              <a:custGeom>
                <a:avLst/>
                <a:gdLst/>
                <a:ahLst/>
                <a:rect l="l" t="t" r="r" b="b"/>
                <a:pathLst>
                  <a:path w="6137" h="8">
                    <a:moveTo>
                      <a:pt x="6137" y="8"/>
                    </a:moveTo>
                    <a:lnTo>
                      <a:pt x="4601" y="8"/>
                    </a:lnTo>
                    <a:lnTo>
                      <a:pt x="4643" y="0"/>
                    </a:lnTo>
                    <a:lnTo>
                      <a:pt x="6137" y="0"/>
                    </a:lnTo>
                    <a:lnTo>
                      <a:pt x="6137" y="8"/>
                    </a:lnTo>
                    <a:close/>
                    <a:moveTo>
                      <a:pt x="298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946" y="0"/>
                    </a:lnTo>
                    <a:lnTo>
                      <a:pt x="298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04320" y="1270080"/>
                <a:ext cx="1039680" cy="3240"/>
              </a:xfrm>
              <a:custGeom>
                <a:avLst/>
                <a:gdLst/>
                <a:ahLst/>
                <a:rect l="l" t="t" r="r" b="b"/>
                <a:pathLst>
                  <a:path w="6137" h="17">
                    <a:moveTo>
                      <a:pt x="6137" y="17"/>
                    </a:moveTo>
                    <a:lnTo>
                      <a:pt x="4626" y="17"/>
                    </a:lnTo>
                    <a:lnTo>
                      <a:pt x="4668" y="0"/>
                    </a:lnTo>
                    <a:lnTo>
                      <a:pt x="6137" y="0"/>
                    </a:lnTo>
                    <a:lnTo>
                      <a:pt x="6137" y="17"/>
                    </a:lnTo>
                    <a:close/>
                    <a:moveTo>
                      <a:pt x="2963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921" y="0"/>
                    </a:lnTo>
                    <a:lnTo>
                      <a:pt x="296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02880" y="1270080"/>
                <a:ext cx="1041120" cy="1440"/>
              </a:xfrm>
              <a:custGeom>
                <a:avLst/>
                <a:gdLst/>
                <a:ahLst/>
                <a:rect l="l" t="t" r="r" b="b"/>
                <a:pathLst>
                  <a:path w="6146" h="9">
                    <a:moveTo>
                      <a:pt x="6146" y="9"/>
                    </a:moveTo>
                    <a:lnTo>
                      <a:pt x="4652" y="9"/>
                    </a:lnTo>
                    <a:lnTo>
                      <a:pt x="4703" y="0"/>
                    </a:lnTo>
                    <a:lnTo>
                      <a:pt x="6138" y="0"/>
                    </a:lnTo>
                    <a:lnTo>
                      <a:pt x="6146" y="9"/>
                    </a:lnTo>
                    <a:close/>
                    <a:moveTo>
                      <a:pt x="2955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2913" y="0"/>
                    </a:lnTo>
                    <a:lnTo>
                      <a:pt x="295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2880" y="1268280"/>
                <a:ext cx="1041120" cy="1800"/>
              </a:xfrm>
              <a:custGeom>
                <a:avLst/>
                <a:gdLst/>
                <a:ahLst/>
                <a:rect l="l" t="t" r="r" b="b"/>
                <a:pathLst>
                  <a:path w="6146" h="8">
                    <a:moveTo>
                      <a:pt x="6146" y="8"/>
                    </a:moveTo>
                    <a:lnTo>
                      <a:pt x="4677" y="8"/>
                    </a:lnTo>
                    <a:lnTo>
                      <a:pt x="4720" y="0"/>
                    </a:lnTo>
                    <a:lnTo>
                      <a:pt x="6138" y="0"/>
                    </a:lnTo>
                    <a:lnTo>
                      <a:pt x="6146" y="8"/>
                    </a:lnTo>
                    <a:close/>
                    <a:moveTo>
                      <a:pt x="2930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2896" y="0"/>
                    </a:lnTo>
                    <a:lnTo>
                      <a:pt x="293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902880" y="1266840"/>
                <a:ext cx="1041120" cy="3240"/>
              </a:xfrm>
              <a:custGeom>
                <a:avLst/>
                <a:gdLst/>
                <a:ahLst/>
                <a:rect l="l" t="t" r="r" b="b"/>
                <a:pathLst>
                  <a:path w="6138" h="16">
                    <a:moveTo>
                      <a:pt x="6138" y="16"/>
                    </a:moveTo>
                    <a:lnTo>
                      <a:pt x="4703" y="16"/>
                    </a:lnTo>
                    <a:lnTo>
                      <a:pt x="4745" y="0"/>
                    </a:lnTo>
                    <a:lnTo>
                      <a:pt x="6138" y="0"/>
                    </a:lnTo>
                    <a:lnTo>
                      <a:pt x="6138" y="16"/>
                    </a:lnTo>
                    <a:close/>
                    <a:moveTo>
                      <a:pt x="2913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2871" y="0"/>
                    </a:lnTo>
                    <a:lnTo>
                      <a:pt x="291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02880" y="1266840"/>
                <a:ext cx="1041120" cy="1440"/>
              </a:xfrm>
              <a:custGeom>
                <a:avLst/>
                <a:gdLst/>
                <a:ahLst/>
                <a:rect l="l" t="t" r="r" b="b"/>
                <a:pathLst>
                  <a:path w="6138" h="8">
                    <a:moveTo>
                      <a:pt x="6138" y="8"/>
                    </a:moveTo>
                    <a:lnTo>
                      <a:pt x="4720" y="8"/>
                    </a:lnTo>
                    <a:lnTo>
                      <a:pt x="4770" y="0"/>
                    </a:lnTo>
                    <a:lnTo>
                      <a:pt x="6138" y="0"/>
                    </a:lnTo>
                    <a:lnTo>
                      <a:pt x="6138" y="8"/>
                    </a:lnTo>
                    <a:close/>
                    <a:moveTo>
                      <a:pt x="289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854" y="0"/>
                    </a:lnTo>
                    <a:lnTo>
                      <a:pt x="289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901080" y="1265400"/>
                <a:ext cx="1042920" cy="1440"/>
              </a:xfrm>
              <a:custGeom>
                <a:avLst/>
                <a:gdLst/>
                <a:ahLst/>
                <a:rect l="l" t="t" r="r" b="b"/>
                <a:pathLst>
                  <a:path w="6146" h="9">
                    <a:moveTo>
                      <a:pt x="6146" y="9"/>
                    </a:moveTo>
                    <a:lnTo>
                      <a:pt x="4753" y="9"/>
                    </a:lnTo>
                    <a:lnTo>
                      <a:pt x="4804" y="0"/>
                    </a:lnTo>
                    <a:lnTo>
                      <a:pt x="6146" y="0"/>
                    </a:lnTo>
                    <a:lnTo>
                      <a:pt x="6146" y="9"/>
                    </a:lnTo>
                    <a:close/>
                    <a:moveTo>
                      <a:pt x="2879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2845" y="0"/>
                    </a:lnTo>
                    <a:lnTo>
                      <a:pt x="287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901080" y="1263600"/>
                <a:ext cx="1042920" cy="3240"/>
              </a:xfrm>
              <a:custGeom>
                <a:avLst/>
                <a:gdLst/>
                <a:ahLst/>
                <a:rect l="l" t="t" r="r" b="b"/>
                <a:pathLst>
                  <a:path w="6146" h="17">
                    <a:moveTo>
                      <a:pt x="6146" y="17"/>
                    </a:moveTo>
                    <a:lnTo>
                      <a:pt x="4778" y="17"/>
                    </a:lnTo>
                    <a:lnTo>
                      <a:pt x="4820" y="0"/>
                    </a:lnTo>
                    <a:lnTo>
                      <a:pt x="6146" y="0"/>
                    </a:lnTo>
                    <a:lnTo>
                      <a:pt x="6146" y="17"/>
                    </a:lnTo>
                    <a:close/>
                    <a:moveTo>
                      <a:pt x="2862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2828" y="0"/>
                    </a:lnTo>
                    <a:lnTo>
                      <a:pt x="286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1080" y="1262160"/>
                <a:ext cx="1042920" cy="3240"/>
              </a:xfrm>
              <a:custGeom>
                <a:avLst/>
                <a:gdLst/>
                <a:ahLst/>
                <a:rect l="l" t="t" r="r" b="b"/>
                <a:pathLst>
                  <a:path w="6146" h="17">
                    <a:moveTo>
                      <a:pt x="6146" y="17"/>
                    </a:moveTo>
                    <a:lnTo>
                      <a:pt x="4804" y="17"/>
                    </a:lnTo>
                    <a:lnTo>
                      <a:pt x="4846" y="0"/>
                    </a:lnTo>
                    <a:lnTo>
                      <a:pt x="6146" y="0"/>
                    </a:lnTo>
                    <a:lnTo>
                      <a:pt x="6146" y="9"/>
                    </a:lnTo>
                    <a:lnTo>
                      <a:pt x="6146" y="17"/>
                    </a:lnTo>
                    <a:close/>
                    <a:moveTo>
                      <a:pt x="2845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811" y="0"/>
                    </a:lnTo>
                    <a:lnTo>
                      <a:pt x="284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901080" y="1262160"/>
                <a:ext cx="1042920" cy="1440"/>
              </a:xfrm>
              <a:custGeom>
                <a:avLst/>
                <a:gdLst/>
                <a:ahLst/>
                <a:rect l="l" t="t" r="r" b="b"/>
                <a:pathLst>
                  <a:path w="6146" h="9">
                    <a:moveTo>
                      <a:pt x="6146" y="9"/>
                    </a:moveTo>
                    <a:lnTo>
                      <a:pt x="4820" y="9"/>
                    </a:lnTo>
                    <a:lnTo>
                      <a:pt x="4871" y="0"/>
                    </a:lnTo>
                    <a:lnTo>
                      <a:pt x="6146" y="0"/>
                    </a:lnTo>
                    <a:lnTo>
                      <a:pt x="6146" y="9"/>
                    </a:lnTo>
                    <a:close/>
                    <a:moveTo>
                      <a:pt x="2828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786" y="0"/>
                    </a:lnTo>
                    <a:lnTo>
                      <a:pt x="282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901080" y="1260360"/>
                <a:ext cx="1042920" cy="1800"/>
              </a:xfrm>
              <a:custGeom>
                <a:avLst/>
                <a:gdLst/>
                <a:ahLst/>
                <a:rect l="l" t="t" r="r" b="b"/>
                <a:pathLst>
                  <a:path w="6146" h="8">
                    <a:moveTo>
                      <a:pt x="6146" y="8"/>
                    </a:moveTo>
                    <a:lnTo>
                      <a:pt x="4846" y="8"/>
                    </a:lnTo>
                    <a:lnTo>
                      <a:pt x="4888" y="0"/>
                    </a:lnTo>
                    <a:lnTo>
                      <a:pt x="6138" y="0"/>
                    </a:lnTo>
                    <a:lnTo>
                      <a:pt x="6146" y="8"/>
                    </a:lnTo>
                    <a:close/>
                    <a:moveTo>
                      <a:pt x="2811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769" y="0"/>
                    </a:lnTo>
                    <a:lnTo>
                      <a:pt x="281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901080" y="1260360"/>
                <a:ext cx="1042920" cy="1800"/>
              </a:xfrm>
              <a:custGeom>
                <a:avLst/>
                <a:gdLst/>
                <a:ahLst/>
                <a:rect l="l" t="t" r="r" b="b"/>
                <a:pathLst>
                  <a:path w="6146" h="8">
                    <a:moveTo>
                      <a:pt x="6146" y="8"/>
                    </a:moveTo>
                    <a:lnTo>
                      <a:pt x="4871" y="8"/>
                    </a:lnTo>
                    <a:lnTo>
                      <a:pt x="4913" y="0"/>
                    </a:lnTo>
                    <a:lnTo>
                      <a:pt x="6138" y="0"/>
                    </a:lnTo>
                    <a:lnTo>
                      <a:pt x="6146" y="8"/>
                    </a:lnTo>
                    <a:close/>
                    <a:moveTo>
                      <a:pt x="278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752" y="0"/>
                    </a:lnTo>
                    <a:lnTo>
                      <a:pt x="278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901080" y="1258920"/>
                <a:ext cx="1041120" cy="1440"/>
              </a:xfrm>
              <a:custGeom>
                <a:avLst/>
                <a:gdLst/>
                <a:ahLst/>
                <a:rect l="l" t="t" r="r" b="b"/>
                <a:pathLst>
                  <a:path w="6138" h="9">
                    <a:moveTo>
                      <a:pt x="6138" y="9"/>
                    </a:moveTo>
                    <a:lnTo>
                      <a:pt x="4888" y="9"/>
                    </a:lnTo>
                    <a:lnTo>
                      <a:pt x="4922" y="0"/>
                    </a:lnTo>
                    <a:lnTo>
                      <a:pt x="4939" y="0"/>
                    </a:lnTo>
                    <a:lnTo>
                      <a:pt x="6129" y="0"/>
                    </a:lnTo>
                    <a:lnTo>
                      <a:pt x="6138" y="9"/>
                    </a:lnTo>
                    <a:close/>
                    <a:moveTo>
                      <a:pt x="2769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727" y="0"/>
                    </a:lnTo>
                    <a:lnTo>
                      <a:pt x="276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99640" y="1257480"/>
                <a:ext cx="1042560" cy="2880"/>
              </a:xfrm>
              <a:custGeom>
                <a:avLst/>
                <a:gdLst/>
                <a:ahLst/>
                <a:rect l="l" t="t" r="r" b="b"/>
                <a:pathLst>
                  <a:path w="6147" h="17">
                    <a:moveTo>
                      <a:pt x="6147" y="17"/>
                    </a:moveTo>
                    <a:lnTo>
                      <a:pt x="4922" y="17"/>
                    </a:lnTo>
                    <a:lnTo>
                      <a:pt x="4931" y="8"/>
                    </a:lnTo>
                    <a:lnTo>
                      <a:pt x="4981" y="0"/>
                    </a:lnTo>
                    <a:lnTo>
                      <a:pt x="6138" y="0"/>
                    </a:lnTo>
                    <a:lnTo>
                      <a:pt x="6147" y="17"/>
                    </a:lnTo>
                    <a:close/>
                    <a:moveTo>
                      <a:pt x="2761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2719" y="0"/>
                    </a:lnTo>
                    <a:lnTo>
                      <a:pt x="2727" y="0"/>
                    </a:lnTo>
                    <a:lnTo>
                      <a:pt x="276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99640" y="1255680"/>
                <a:ext cx="1041120" cy="3240"/>
              </a:xfrm>
              <a:custGeom>
                <a:avLst/>
                <a:gdLst/>
                <a:ahLst/>
                <a:rect l="l" t="t" r="r" b="b"/>
                <a:pathLst>
                  <a:path w="6138" h="16">
                    <a:moveTo>
                      <a:pt x="6138" y="16"/>
                    </a:moveTo>
                    <a:lnTo>
                      <a:pt x="4948" y="16"/>
                    </a:lnTo>
                    <a:lnTo>
                      <a:pt x="5007" y="0"/>
                    </a:lnTo>
                    <a:lnTo>
                      <a:pt x="6138" y="0"/>
                    </a:lnTo>
                    <a:lnTo>
                      <a:pt x="6138" y="16"/>
                    </a:lnTo>
                    <a:close/>
                    <a:moveTo>
                      <a:pt x="2736" y="16"/>
                    </a:moveTo>
                    <a:lnTo>
                      <a:pt x="9" y="16"/>
                    </a:lnTo>
                    <a:lnTo>
                      <a:pt x="0" y="0"/>
                    </a:lnTo>
                    <a:lnTo>
                      <a:pt x="2702" y="0"/>
                    </a:lnTo>
                    <a:lnTo>
                      <a:pt x="2727" y="8"/>
                    </a:lnTo>
                    <a:lnTo>
                      <a:pt x="2736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99640" y="1255680"/>
                <a:ext cx="1041120" cy="1800"/>
              </a:xfrm>
              <a:custGeom>
                <a:avLst/>
                <a:gdLst/>
                <a:ahLst/>
                <a:rect l="l" t="t" r="r" b="b"/>
                <a:pathLst>
                  <a:path w="6138" h="8">
                    <a:moveTo>
                      <a:pt x="6138" y="8"/>
                    </a:moveTo>
                    <a:lnTo>
                      <a:pt x="4981" y="8"/>
                    </a:lnTo>
                    <a:lnTo>
                      <a:pt x="5041" y="0"/>
                    </a:lnTo>
                    <a:lnTo>
                      <a:pt x="6130" y="0"/>
                    </a:lnTo>
                    <a:lnTo>
                      <a:pt x="6138" y="8"/>
                    </a:lnTo>
                    <a:close/>
                    <a:moveTo>
                      <a:pt x="2719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685" y="0"/>
                    </a:lnTo>
                    <a:lnTo>
                      <a:pt x="271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9640" y="1254240"/>
                <a:ext cx="1041120" cy="1440"/>
              </a:xfrm>
              <a:custGeom>
                <a:avLst/>
                <a:gdLst/>
                <a:ahLst/>
                <a:rect l="l" t="t" r="r" b="b"/>
                <a:pathLst>
                  <a:path w="6138" h="9">
                    <a:moveTo>
                      <a:pt x="6138" y="9"/>
                    </a:moveTo>
                    <a:lnTo>
                      <a:pt x="5007" y="9"/>
                    </a:lnTo>
                    <a:lnTo>
                      <a:pt x="5066" y="0"/>
                    </a:lnTo>
                    <a:lnTo>
                      <a:pt x="6121" y="0"/>
                    </a:lnTo>
                    <a:lnTo>
                      <a:pt x="6130" y="0"/>
                    </a:lnTo>
                    <a:lnTo>
                      <a:pt x="6138" y="9"/>
                    </a:lnTo>
                    <a:close/>
                    <a:moveTo>
                      <a:pt x="2702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668" y="0"/>
                    </a:lnTo>
                    <a:lnTo>
                      <a:pt x="270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640" y="1252440"/>
                <a:ext cx="1039320" cy="3240"/>
              </a:xfrm>
              <a:custGeom>
                <a:avLst/>
                <a:gdLst/>
                <a:ahLst/>
                <a:rect l="l" t="t" r="r" b="b"/>
                <a:pathLst>
                  <a:path w="6130" h="17">
                    <a:moveTo>
                      <a:pt x="6130" y="17"/>
                    </a:moveTo>
                    <a:lnTo>
                      <a:pt x="5041" y="17"/>
                    </a:lnTo>
                    <a:lnTo>
                      <a:pt x="5091" y="0"/>
                    </a:lnTo>
                    <a:lnTo>
                      <a:pt x="6121" y="0"/>
                    </a:lnTo>
                    <a:lnTo>
                      <a:pt x="6130" y="8"/>
                    </a:lnTo>
                    <a:lnTo>
                      <a:pt x="6130" y="17"/>
                    </a:lnTo>
                    <a:close/>
                    <a:moveTo>
                      <a:pt x="2685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651" y="0"/>
                    </a:lnTo>
                    <a:lnTo>
                      <a:pt x="268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899640" y="1251000"/>
                <a:ext cx="1037880" cy="3240"/>
              </a:xfrm>
              <a:custGeom>
                <a:avLst/>
                <a:gdLst/>
                <a:ahLst/>
                <a:rect l="l" t="t" r="r" b="b"/>
                <a:pathLst>
                  <a:path w="6121" h="17">
                    <a:moveTo>
                      <a:pt x="6121" y="17"/>
                    </a:moveTo>
                    <a:lnTo>
                      <a:pt x="5066" y="17"/>
                    </a:lnTo>
                    <a:lnTo>
                      <a:pt x="5117" y="0"/>
                    </a:lnTo>
                    <a:lnTo>
                      <a:pt x="6113" y="0"/>
                    </a:lnTo>
                    <a:lnTo>
                      <a:pt x="6121" y="17"/>
                    </a:lnTo>
                    <a:close/>
                    <a:moveTo>
                      <a:pt x="2668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634" y="0"/>
                    </a:lnTo>
                    <a:lnTo>
                      <a:pt x="2668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98200" y="1251000"/>
                <a:ext cx="1039320" cy="1440"/>
              </a:xfrm>
              <a:custGeom>
                <a:avLst/>
                <a:gdLst/>
                <a:ahLst/>
                <a:rect l="l" t="t" r="r" b="b"/>
                <a:pathLst>
                  <a:path w="6129" h="9">
                    <a:moveTo>
                      <a:pt x="6129" y="9"/>
                    </a:moveTo>
                    <a:lnTo>
                      <a:pt x="5099" y="9"/>
                    </a:lnTo>
                    <a:lnTo>
                      <a:pt x="5158" y="0"/>
                    </a:lnTo>
                    <a:lnTo>
                      <a:pt x="6112" y="0"/>
                    </a:lnTo>
                    <a:lnTo>
                      <a:pt x="6129" y="9"/>
                    </a:lnTo>
                    <a:close/>
                    <a:moveTo>
                      <a:pt x="2659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2625" y="0"/>
                    </a:lnTo>
                    <a:lnTo>
                      <a:pt x="265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98200" y="1249560"/>
                <a:ext cx="1037520" cy="1440"/>
              </a:xfrm>
              <a:custGeom>
                <a:avLst/>
                <a:gdLst/>
                <a:ahLst/>
                <a:rect l="l" t="t" r="r" b="b"/>
                <a:pathLst>
                  <a:path w="6121" h="8">
                    <a:moveTo>
                      <a:pt x="6121" y="8"/>
                    </a:moveTo>
                    <a:lnTo>
                      <a:pt x="5125" y="8"/>
                    </a:lnTo>
                    <a:lnTo>
                      <a:pt x="5184" y="0"/>
                    </a:lnTo>
                    <a:lnTo>
                      <a:pt x="6112" y="0"/>
                    </a:lnTo>
                    <a:lnTo>
                      <a:pt x="6121" y="8"/>
                    </a:lnTo>
                    <a:close/>
                    <a:moveTo>
                      <a:pt x="2642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2609" y="0"/>
                    </a:lnTo>
                    <a:lnTo>
                      <a:pt x="264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98200" y="1249560"/>
                <a:ext cx="1036080" cy="1440"/>
              </a:xfrm>
              <a:custGeom>
                <a:avLst/>
                <a:gdLst/>
                <a:ahLst/>
                <a:rect l="l" t="t" r="r" b="b"/>
                <a:pathLst>
                  <a:path w="6112" h="8">
                    <a:moveTo>
                      <a:pt x="6112" y="8"/>
                    </a:moveTo>
                    <a:lnTo>
                      <a:pt x="5158" y="8"/>
                    </a:lnTo>
                    <a:lnTo>
                      <a:pt x="5209" y="0"/>
                    </a:lnTo>
                    <a:lnTo>
                      <a:pt x="6104" y="0"/>
                    </a:lnTo>
                    <a:lnTo>
                      <a:pt x="6112" y="8"/>
                    </a:lnTo>
                    <a:close/>
                    <a:moveTo>
                      <a:pt x="262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592" y="0"/>
                    </a:lnTo>
                    <a:lnTo>
                      <a:pt x="262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8200" y="1247760"/>
                <a:ext cx="1036080" cy="1800"/>
              </a:xfrm>
              <a:custGeom>
                <a:avLst/>
                <a:gdLst/>
                <a:ahLst/>
                <a:rect l="l" t="t" r="r" b="b"/>
                <a:pathLst>
                  <a:path w="6112" h="9">
                    <a:moveTo>
                      <a:pt x="6112" y="9"/>
                    </a:moveTo>
                    <a:lnTo>
                      <a:pt x="5184" y="9"/>
                    </a:lnTo>
                    <a:lnTo>
                      <a:pt x="5243" y="0"/>
                    </a:lnTo>
                    <a:lnTo>
                      <a:pt x="6095" y="0"/>
                    </a:lnTo>
                    <a:lnTo>
                      <a:pt x="6095" y="0"/>
                    </a:lnTo>
                    <a:lnTo>
                      <a:pt x="6112" y="9"/>
                    </a:lnTo>
                    <a:close/>
                    <a:moveTo>
                      <a:pt x="2609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575" y="0"/>
                    </a:lnTo>
                    <a:lnTo>
                      <a:pt x="260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8200" y="1246320"/>
                <a:ext cx="1034640" cy="3240"/>
              </a:xfrm>
              <a:custGeom>
                <a:avLst/>
                <a:gdLst/>
                <a:ahLst/>
                <a:rect l="l" t="t" r="r" b="b"/>
                <a:pathLst>
                  <a:path w="6104" h="17">
                    <a:moveTo>
                      <a:pt x="6104" y="17"/>
                    </a:moveTo>
                    <a:lnTo>
                      <a:pt x="5209" y="17"/>
                    </a:lnTo>
                    <a:lnTo>
                      <a:pt x="5268" y="0"/>
                    </a:lnTo>
                    <a:lnTo>
                      <a:pt x="6079" y="0"/>
                    </a:lnTo>
                    <a:lnTo>
                      <a:pt x="6095" y="8"/>
                    </a:lnTo>
                    <a:lnTo>
                      <a:pt x="6104" y="17"/>
                    </a:lnTo>
                    <a:close/>
                    <a:moveTo>
                      <a:pt x="2592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558" y="0"/>
                    </a:lnTo>
                    <a:lnTo>
                      <a:pt x="259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898200" y="1244520"/>
                <a:ext cx="1032840" cy="3240"/>
              </a:xfrm>
              <a:custGeom>
                <a:avLst/>
                <a:gdLst/>
                <a:ahLst/>
                <a:rect l="l" t="t" r="r" b="b"/>
                <a:pathLst>
                  <a:path w="6095" h="17">
                    <a:moveTo>
                      <a:pt x="6095" y="17"/>
                    </a:moveTo>
                    <a:lnTo>
                      <a:pt x="5243" y="17"/>
                    </a:lnTo>
                    <a:lnTo>
                      <a:pt x="5302" y="0"/>
                    </a:lnTo>
                    <a:lnTo>
                      <a:pt x="6062" y="0"/>
                    </a:lnTo>
                    <a:lnTo>
                      <a:pt x="6095" y="17"/>
                    </a:lnTo>
                    <a:close/>
                    <a:moveTo>
                      <a:pt x="2575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541" y="0"/>
                    </a:lnTo>
                    <a:lnTo>
                      <a:pt x="2575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96760" y="1244520"/>
                <a:ext cx="1033200" cy="1800"/>
              </a:xfrm>
              <a:custGeom>
                <a:avLst/>
                <a:gdLst/>
                <a:ahLst/>
                <a:rect l="l" t="t" r="r" b="b"/>
                <a:pathLst>
                  <a:path w="6088" h="9">
                    <a:moveTo>
                      <a:pt x="6088" y="9"/>
                    </a:moveTo>
                    <a:lnTo>
                      <a:pt x="5277" y="9"/>
                    </a:lnTo>
                    <a:lnTo>
                      <a:pt x="5311" y="0"/>
                    </a:lnTo>
                    <a:lnTo>
                      <a:pt x="5345" y="0"/>
                    </a:lnTo>
                    <a:lnTo>
                      <a:pt x="6054" y="0"/>
                    </a:lnTo>
                    <a:lnTo>
                      <a:pt x="6088" y="9"/>
                    </a:lnTo>
                    <a:close/>
                    <a:moveTo>
                      <a:pt x="2567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2533" y="0"/>
                    </a:lnTo>
                    <a:lnTo>
                      <a:pt x="25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96760" y="1243080"/>
                <a:ext cx="1029960" cy="1440"/>
              </a:xfrm>
              <a:custGeom>
                <a:avLst/>
                <a:gdLst/>
                <a:ahLst/>
                <a:rect l="l" t="t" r="r" b="b"/>
                <a:pathLst>
                  <a:path w="6071" h="8">
                    <a:moveTo>
                      <a:pt x="6071" y="8"/>
                    </a:moveTo>
                    <a:lnTo>
                      <a:pt x="5311" y="8"/>
                    </a:lnTo>
                    <a:lnTo>
                      <a:pt x="5311" y="8"/>
                    </a:lnTo>
                    <a:lnTo>
                      <a:pt x="5378" y="0"/>
                    </a:lnTo>
                    <a:lnTo>
                      <a:pt x="6037" y="0"/>
                    </a:lnTo>
                    <a:lnTo>
                      <a:pt x="6071" y="8"/>
                    </a:lnTo>
                    <a:close/>
                    <a:moveTo>
                      <a:pt x="2550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2516" y="0"/>
                    </a:lnTo>
                    <a:lnTo>
                      <a:pt x="255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6760" y="1243080"/>
                <a:ext cx="1026720" cy="1440"/>
              </a:xfrm>
              <a:custGeom>
                <a:avLst/>
                <a:gdLst/>
                <a:ahLst/>
                <a:rect l="l" t="t" r="r" b="b"/>
                <a:pathLst>
                  <a:path w="6054" h="16">
                    <a:moveTo>
                      <a:pt x="6054" y="16"/>
                    </a:moveTo>
                    <a:lnTo>
                      <a:pt x="5345" y="16"/>
                    </a:lnTo>
                    <a:lnTo>
                      <a:pt x="5412" y="0"/>
                    </a:lnTo>
                    <a:lnTo>
                      <a:pt x="6012" y="0"/>
                    </a:lnTo>
                    <a:lnTo>
                      <a:pt x="6054" y="16"/>
                    </a:lnTo>
                    <a:close/>
                    <a:moveTo>
                      <a:pt x="2533" y="16"/>
                    </a:moveTo>
                    <a:lnTo>
                      <a:pt x="0" y="16"/>
                    </a:lnTo>
                    <a:lnTo>
                      <a:pt x="0" y="0"/>
                    </a:lnTo>
                    <a:lnTo>
                      <a:pt x="2491" y="0"/>
                    </a:lnTo>
                    <a:lnTo>
                      <a:pt x="2533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6760" y="1243080"/>
                <a:ext cx="1023480" cy="1440"/>
              </a:xfrm>
              <a:custGeom>
                <a:avLst/>
                <a:gdLst/>
                <a:ahLst/>
                <a:rect l="l" t="t" r="r" b="b"/>
                <a:pathLst>
                  <a:path w="6037" h="8">
                    <a:moveTo>
                      <a:pt x="6037" y="8"/>
                    </a:moveTo>
                    <a:lnTo>
                      <a:pt x="5378" y="8"/>
                    </a:lnTo>
                    <a:lnTo>
                      <a:pt x="5446" y="0"/>
                    </a:lnTo>
                    <a:lnTo>
                      <a:pt x="6003" y="0"/>
                    </a:lnTo>
                    <a:lnTo>
                      <a:pt x="6037" y="8"/>
                    </a:lnTo>
                    <a:close/>
                    <a:moveTo>
                      <a:pt x="25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483" y="0"/>
                    </a:lnTo>
                    <a:lnTo>
                      <a:pt x="25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6760" y="1241640"/>
                <a:ext cx="1018800" cy="1440"/>
              </a:xfrm>
              <a:custGeom>
                <a:avLst/>
                <a:gdLst/>
                <a:ahLst/>
                <a:rect l="l" t="t" r="r" b="b"/>
                <a:pathLst>
                  <a:path w="6012" h="9">
                    <a:moveTo>
                      <a:pt x="6012" y="9"/>
                    </a:moveTo>
                    <a:lnTo>
                      <a:pt x="5412" y="9"/>
                    </a:lnTo>
                    <a:lnTo>
                      <a:pt x="5488" y="0"/>
                    </a:lnTo>
                    <a:lnTo>
                      <a:pt x="5978" y="0"/>
                    </a:lnTo>
                    <a:lnTo>
                      <a:pt x="5986" y="0"/>
                    </a:lnTo>
                    <a:lnTo>
                      <a:pt x="6012" y="9"/>
                    </a:lnTo>
                    <a:close/>
                    <a:moveTo>
                      <a:pt x="2491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457" y="0"/>
                    </a:lnTo>
                    <a:lnTo>
                      <a:pt x="249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96760" y="1239840"/>
                <a:ext cx="1018800" cy="3240"/>
              </a:xfrm>
              <a:custGeom>
                <a:avLst/>
                <a:gdLst/>
                <a:ahLst/>
                <a:rect l="l" t="t" r="r" b="b"/>
                <a:pathLst>
                  <a:path w="6003" h="17">
                    <a:moveTo>
                      <a:pt x="6003" y="17"/>
                    </a:moveTo>
                    <a:lnTo>
                      <a:pt x="5446" y="17"/>
                    </a:lnTo>
                    <a:lnTo>
                      <a:pt x="5522" y="0"/>
                    </a:lnTo>
                    <a:lnTo>
                      <a:pt x="5927" y="0"/>
                    </a:lnTo>
                    <a:lnTo>
                      <a:pt x="5986" y="8"/>
                    </a:lnTo>
                    <a:lnTo>
                      <a:pt x="6003" y="17"/>
                    </a:lnTo>
                    <a:close/>
                    <a:moveTo>
                      <a:pt x="2483" y="17"/>
                    </a:move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440" y="0"/>
                    </a:lnTo>
                    <a:lnTo>
                      <a:pt x="2449" y="0"/>
                    </a:lnTo>
                    <a:lnTo>
                      <a:pt x="248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96760" y="1239840"/>
                <a:ext cx="1014120" cy="1800"/>
              </a:xfrm>
              <a:custGeom>
                <a:avLst/>
                <a:gdLst/>
                <a:ahLst/>
                <a:rect l="l" t="t" r="r" b="b"/>
                <a:pathLst>
                  <a:path w="5978" h="8">
                    <a:moveTo>
                      <a:pt x="5978" y="8"/>
                    </a:moveTo>
                    <a:lnTo>
                      <a:pt x="5488" y="8"/>
                    </a:lnTo>
                    <a:lnTo>
                      <a:pt x="5547" y="0"/>
                    </a:lnTo>
                    <a:lnTo>
                      <a:pt x="5581" y="0"/>
                    </a:lnTo>
                    <a:lnTo>
                      <a:pt x="5876" y="0"/>
                    </a:lnTo>
                    <a:lnTo>
                      <a:pt x="5978" y="8"/>
                    </a:lnTo>
                    <a:close/>
                    <a:moveTo>
                      <a:pt x="2457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423" y="0"/>
                    </a:lnTo>
                    <a:lnTo>
                      <a:pt x="2449" y="0"/>
                    </a:lnTo>
                    <a:lnTo>
                      <a:pt x="245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6760" y="1238400"/>
                <a:ext cx="1004400" cy="1440"/>
              </a:xfrm>
              <a:custGeom>
                <a:avLst/>
                <a:gdLst/>
                <a:ahLst/>
                <a:rect l="l" t="t" r="r" b="b"/>
                <a:pathLst>
                  <a:path w="5927" h="9">
                    <a:moveTo>
                      <a:pt x="5927" y="9"/>
                    </a:moveTo>
                    <a:lnTo>
                      <a:pt x="5522" y="9"/>
                    </a:lnTo>
                    <a:lnTo>
                      <a:pt x="5547" y="9"/>
                    </a:lnTo>
                    <a:lnTo>
                      <a:pt x="5716" y="0"/>
                    </a:lnTo>
                    <a:lnTo>
                      <a:pt x="5834" y="0"/>
                    </a:lnTo>
                    <a:lnTo>
                      <a:pt x="5927" y="9"/>
                    </a:lnTo>
                    <a:close/>
                    <a:moveTo>
                      <a:pt x="2440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407" y="0"/>
                    </a:lnTo>
                    <a:lnTo>
                      <a:pt x="244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6760" y="1236600"/>
                <a:ext cx="996480" cy="3240"/>
              </a:xfrm>
              <a:custGeom>
                <a:avLst/>
                <a:gdLst/>
                <a:ahLst/>
                <a:rect l="l" t="t" r="r" b="b"/>
                <a:pathLst>
                  <a:path w="5876" h="17">
                    <a:moveTo>
                      <a:pt x="5876" y="17"/>
                    </a:moveTo>
                    <a:lnTo>
                      <a:pt x="5581" y="17"/>
                    </a:lnTo>
                    <a:lnTo>
                      <a:pt x="5800" y="8"/>
                    </a:lnTo>
                    <a:lnTo>
                      <a:pt x="5876" y="17"/>
                    </a:lnTo>
                    <a:close/>
                    <a:moveTo>
                      <a:pt x="2423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390" y="0"/>
                    </a:lnTo>
                    <a:lnTo>
                      <a:pt x="2423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96760" y="1235160"/>
                <a:ext cx="988560" cy="3240"/>
              </a:xfrm>
              <a:custGeom>
                <a:avLst/>
                <a:gdLst/>
                <a:ahLst/>
                <a:rect l="l" t="t" r="r" b="b"/>
                <a:pathLst>
                  <a:path w="5834" h="17">
                    <a:moveTo>
                      <a:pt x="5834" y="17"/>
                    </a:moveTo>
                    <a:lnTo>
                      <a:pt x="5716" y="17"/>
                    </a:lnTo>
                    <a:lnTo>
                      <a:pt x="5800" y="17"/>
                    </a:lnTo>
                    <a:lnTo>
                      <a:pt x="5834" y="17"/>
                    </a:lnTo>
                    <a:close/>
                    <a:moveTo>
                      <a:pt x="2407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364" y="0"/>
                    </a:lnTo>
                    <a:lnTo>
                      <a:pt x="240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96760" y="1235160"/>
                <a:ext cx="404640" cy="1440"/>
              </a:xfrm>
              <a:custGeom>
                <a:avLst/>
                <a:gdLst/>
                <a:ahLst/>
                <a:rect l="l" t="t" r="r" b="b"/>
                <a:pathLst>
                  <a:path w="2390" h="9">
                    <a:moveTo>
                      <a:pt x="2390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2347" y="0"/>
                    </a:lnTo>
                    <a:lnTo>
                      <a:pt x="239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96760" y="1233360"/>
                <a:ext cx="401400" cy="1800"/>
              </a:xfrm>
              <a:custGeom>
                <a:avLst/>
                <a:gdLst/>
                <a:ahLst/>
                <a:rect l="l" t="t" r="r" b="b"/>
                <a:pathLst>
                  <a:path w="2364" h="8">
                    <a:moveTo>
                      <a:pt x="236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2331" y="0"/>
                    </a:lnTo>
                    <a:lnTo>
                      <a:pt x="236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6760" y="1231920"/>
                <a:ext cx="398160" cy="3240"/>
              </a:xfrm>
              <a:custGeom>
                <a:avLst/>
                <a:gdLst/>
                <a:ahLst/>
                <a:rect l="l" t="t" r="r" b="b"/>
                <a:pathLst>
                  <a:path w="2347" h="17">
                    <a:moveTo>
                      <a:pt x="2347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314" y="0"/>
                    </a:lnTo>
                    <a:lnTo>
                      <a:pt x="2347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6760" y="1231920"/>
                <a:ext cx="394920" cy="1440"/>
              </a:xfrm>
              <a:custGeom>
                <a:avLst/>
                <a:gdLst/>
                <a:ahLst/>
                <a:rect l="l" t="t" r="r" b="b"/>
                <a:pathLst>
                  <a:path w="2331" h="9">
                    <a:moveTo>
                      <a:pt x="2331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297" y="0"/>
                    </a:lnTo>
                    <a:lnTo>
                      <a:pt x="233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896760" y="1230480"/>
                <a:ext cx="391680" cy="1440"/>
              </a:xfrm>
              <a:custGeom>
                <a:avLst/>
                <a:gdLst/>
                <a:ahLst/>
                <a:rect l="l" t="t" r="r" b="b"/>
                <a:pathLst>
                  <a:path w="2314" h="8">
                    <a:moveTo>
                      <a:pt x="2314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2271" y="0"/>
                    </a:lnTo>
                    <a:lnTo>
                      <a:pt x="231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98200" y="1228680"/>
                <a:ext cx="386640" cy="3240"/>
              </a:xfrm>
              <a:custGeom>
                <a:avLst/>
                <a:gdLst/>
                <a:ahLst/>
                <a:rect l="l" t="t" r="r" b="b"/>
                <a:pathLst>
                  <a:path w="2288" h="16">
                    <a:moveTo>
                      <a:pt x="2288" y="16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246" y="0"/>
                    </a:lnTo>
                    <a:lnTo>
                      <a:pt x="2288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98200" y="1228680"/>
                <a:ext cx="383760" cy="1800"/>
              </a:xfrm>
              <a:custGeom>
                <a:avLst/>
                <a:gdLst/>
                <a:ahLst/>
                <a:rect l="l" t="t" r="r" b="b"/>
                <a:pathLst>
                  <a:path w="2262" h="8">
                    <a:moveTo>
                      <a:pt x="2262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2229" y="0"/>
                    </a:lnTo>
                    <a:lnTo>
                      <a:pt x="226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8200" y="1227240"/>
                <a:ext cx="380520" cy="1440"/>
              </a:xfrm>
              <a:custGeom>
                <a:avLst/>
                <a:gdLst/>
                <a:ahLst/>
                <a:rect l="l" t="t" r="r" b="b"/>
                <a:pathLst>
                  <a:path w="2246" h="9">
                    <a:moveTo>
                      <a:pt x="2246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2203" y="0"/>
                    </a:lnTo>
                    <a:lnTo>
                      <a:pt x="2212" y="0"/>
                    </a:lnTo>
                    <a:lnTo>
                      <a:pt x="224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640" y="1225440"/>
                <a:ext cx="375840" cy="3240"/>
              </a:xfrm>
              <a:custGeom>
                <a:avLst/>
                <a:gdLst/>
                <a:ahLst/>
                <a:rect l="l" t="t" r="r" b="b"/>
                <a:pathLst>
                  <a:path w="2221" h="17">
                    <a:moveTo>
                      <a:pt x="2221" y="17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2162" y="0"/>
                    </a:lnTo>
                    <a:lnTo>
                      <a:pt x="2204" y="8"/>
                    </a:lnTo>
                    <a:lnTo>
                      <a:pt x="222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1080" y="1224000"/>
                <a:ext cx="369720" cy="3240"/>
              </a:xfrm>
              <a:custGeom>
                <a:avLst/>
                <a:gdLst/>
                <a:ahLst/>
                <a:rect l="l" t="t" r="r" b="b"/>
                <a:pathLst>
                  <a:path w="2186" h="17">
                    <a:moveTo>
                      <a:pt x="2186" y="17"/>
                    </a:moveTo>
                    <a:lnTo>
                      <a:pt x="0" y="17"/>
                    </a:lnTo>
                    <a:lnTo>
                      <a:pt x="8" y="9"/>
                    </a:lnTo>
                    <a:lnTo>
                      <a:pt x="25" y="0"/>
                    </a:lnTo>
                    <a:lnTo>
                      <a:pt x="2119" y="0"/>
                    </a:lnTo>
                    <a:lnTo>
                      <a:pt x="2186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902880" y="1224000"/>
                <a:ext cx="363240" cy="1440"/>
              </a:xfrm>
              <a:custGeom>
                <a:avLst/>
                <a:gdLst/>
                <a:ahLst/>
                <a:rect l="l" t="t" r="r" b="b"/>
                <a:pathLst>
                  <a:path w="2145" h="9">
                    <a:moveTo>
                      <a:pt x="2145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42" y="0"/>
                    </a:lnTo>
                    <a:lnTo>
                      <a:pt x="2086" y="0"/>
                    </a:lnTo>
                    <a:lnTo>
                      <a:pt x="214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904320" y="1222560"/>
                <a:ext cx="355320" cy="1440"/>
              </a:xfrm>
              <a:custGeom>
                <a:avLst/>
                <a:gdLst/>
                <a:ahLst/>
                <a:rect l="l" t="t" r="r" b="b"/>
                <a:pathLst>
                  <a:path w="2094" h="8">
                    <a:moveTo>
                      <a:pt x="2094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110" y="0"/>
                    </a:lnTo>
                    <a:lnTo>
                      <a:pt x="2026" y="0"/>
                    </a:lnTo>
                    <a:lnTo>
                      <a:pt x="2035" y="0"/>
                    </a:lnTo>
                    <a:lnTo>
                      <a:pt x="209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909000" y="1220760"/>
                <a:ext cx="347400" cy="3240"/>
              </a:xfrm>
              <a:custGeom>
                <a:avLst/>
                <a:gdLst/>
                <a:ahLst/>
                <a:rect l="l" t="t" r="r" b="b"/>
                <a:pathLst>
                  <a:path w="2044" h="17">
                    <a:moveTo>
                      <a:pt x="2044" y="17"/>
                    </a:moveTo>
                    <a:lnTo>
                      <a:pt x="0" y="17"/>
                    </a:lnTo>
                    <a:lnTo>
                      <a:pt x="17" y="9"/>
                    </a:lnTo>
                    <a:lnTo>
                      <a:pt x="363" y="0"/>
                    </a:lnTo>
                    <a:lnTo>
                      <a:pt x="1934" y="0"/>
                    </a:lnTo>
                    <a:lnTo>
                      <a:pt x="2010" y="9"/>
                    </a:lnTo>
                    <a:lnTo>
                      <a:pt x="2044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23400" y="1220760"/>
                <a:ext cx="325080" cy="1800"/>
              </a:xfrm>
              <a:custGeom>
                <a:avLst/>
                <a:gdLst/>
                <a:ahLst/>
                <a:rect l="l" t="t" r="r" b="b"/>
                <a:pathLst>
                  <a:path w="1916" h="9">
                    <a:moveTo>
                      <a:pt x="1916" y="9"/>
                    </a:moveTo>
                    <a:lnTo>
                      <a:pt x="0" y="9"/>
                    </a:lnTo>
                    <a:lnTo>
                      <a:pt x="295" y="0"/>
                    </a:lnTo>
                    <a:lnTo>
                      <a:pt x="608" y="0"/>
                    </a:lnTo>
                    <a:lnTo>
                      <a:pt x="1790" y="0"/>
                    </a:lnTo>
                    <a:lnTo>
                      <a:pt x="19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70920" y="1219320"/>
                <a:ext cx="266400" cy="1440"/>
              </a:xfrm>
              <a:custGeom>
                <a:avLst/>
                <a:gdLst/>
                <a:ahLst/>
                <a:rect l="l" t="t" r="r" b="b"/>
                <a:pathLst>
                  <a:path w="1571" h="8">
                    <a:moveTo>
                      <a:pt x="1571" y="8"/>
                    </a:moveTo>
                    <a:lnTo>
                      <a:pt x="0" y="8"/>
                    </a:lnTo>
                    <a:lnTo>
                      <a:pt x="17" y="8"/>
                    </a:lnTo>
                    <a:lnTo>
                      <a:pt x="667" y="0"/>
                    </a:lnTo>
                    <a:lnTo>
                      <a:pt x="1410" y="0"/>
                    </a:lnTo>
                    <a:lnTo>
                      <a:pt x="1478" y="8"/>
                    </a:lnTo>
                    <a:lnTo>
                      <a:pt x="157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026720" y="1217520"/>
                <a:ext cx="199440" cy="3240"/>
              </a:xfrm>
              <a:custGeom>
                <a:avLst/>
                <a:gdLst/>
                <a:ahLst/>
                <a:rect l="l" t="t" r="r" b="b"/>
                <a:pathLst>
                  <a:path w="1182" h="17">
                    <a:moveTo>
                      <a:pt x="1182" y="17"/>
                    </a:moveTo>
                    <a:lnTo>
                      <a:pt x="0" y="17"/>
                    </a:lnTo>
                    <a:lnTo>
                      <a:pt x="574" y="0"/>
                    </a:lnTo>
                    <a:lnTo>
                      <a:pt x="624" y="0"/>
                    </a:lnTo>
                    <a:lnTo>
                      <a:pt x="945" y="0"/>
                    </a:lnTo>
                    <a:lnTo>
                      <a:pt x="1148" y="17"/>
                    </a:lnTo>
                    <a:lnTo>
                      <a:pt x="1182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083600" y="1217520"/>
                <a:ext cx="126720" cy="1800"/>
              </a:xfrm>
              <a:custGeom>
                <a:avLst/>
                <a:gdLst/>
                <a:ahLst/>
                <a:rect l="l" t="t" r="r" b="b"/>
                <a:pathLst>
                  <a:path w="743" h="9">
                    <a:moveTo>
                      <a:pt x="743" y="9"/>
                    </a:moveTo>
                    <a:lnTo>
                      <a:pt x="0" y="9"/>
                    </a:lnTo>
                    <a:lnTo>
                      <a:pt x="237" y="0"/>
                    </a:lnTo>
                    <a:lnTo>
                      <a:pt x="473" y="0"/>
                    </a:lnTo>
                    <a:lnTo>
                      <a:pt x="74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132920" y="121752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21" h="0">
                    <a:moveTo>
                      <a:pt x="321" y="0"/>
                    </a:moveTo>
                    <a:lnTo>
                      <a:pt x="0" y="0"/>
                    </a:lnTo>
                    <a:lnTo>
                      <a:pt x="186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6760" y="1217520"/>
                <a:ext cx="1047600" cy="274680"/>
              </a:xfrm>
              <a:custGeom>
                <a:avLst/>
                <a:gdLst/>
                <a:ahLst/>
                <a:rect l="l" t="t" r="r" b="b"/>
                <a:pathLst>
                  <a:path w="6180" h="1503">
                    <a:moveTo>
                      <a:pt x="0" y="127"/>
                    </a:moveTo>
                    <a:lnTo>
                      <a:pt x="127" y="651"/>
                    </a:lnTo>
                    <a:lnTo>
                      <a:pt x="330" y="769"/>
                    </a:lnTo>
                    <a:lnTo>
                      <a:pt x="769" y="963"/>
                    </a:lnTo>
                    <a:lnTo>
                      <a:pt x="1453" y="1174"/>
                    </a:lnTo>
                    <a:lnTo>
                      <a:pt x="2423" y="1385"/>
                    </a:lnTo>
                    <a:lnTo>
                      <a:pt x="2998" y="1469"/>
                    </a:lnTo>
                    <a:lnTo>
                      <a:pt x="3394" y="1503"/>
                    </a:lnTo>
                    <a:lnTo>
                      <a:pt x="3816" y="1503"/>
                    </a:lnTo>
                    <a:lnTo>
                      <a:pt x="4146" y="1478"/>
                    </a:lnTo>
                    <a:lnTo>
                      <a:pt x="4661" y="1402"/>
                    </a:lnTo>
                    <a:lnTo>
                      <a:pt x="5193" y="1258"/>
                    </a:lnTo>
                    <a:lnTo>
                      <a:pt x="5640" y="1106"/>
                    </a:lnTo>
                    <a:lnTo>
                      <a:pt x="5860" y="997"/>
                    </a:lnTo>
                    <a:lnTo>
                      <a:pt x="5969" y="811"/>
                    </a:lnTo>
                    <a:lnTo>
                      <a:pt x="6113" y="541"/>
                    </a:lnTo>
                    <a:lnTo>
                      <a:pt x="6172" y="389"/>
                    </a:lnTo>
                    <a:lnTo>
                      <a:pt x="6180" y="321"/>
                    </a:lnTo>
                    <a:lnTo>
                      <a:pt x="6172" y="254"/>
                    </a:lnTo>
                    <a:lnTo>
                      <a:pt x="6147" y="203"/>
                    </a:lnTo>
                    <a:lnTo>
                      <a:pt x="6104" y="169"/>
                    </a:lnTo>
                    <a:lnTo>
                      <a:pt x="5986" y="127"/>
                    </a:lnTo>
                    <a:lnTo>
                      <a:pt x="5800" y="110"/>
                    </a:lnTo>
                    <a:lnTo>
                      <a:pt x="5547" y="119"/>
                    </a:lnTo>
                    <a:lnTo>
                      <a:pt x="5311" y="152"/>
                    </a:lnTo>
                    <a:lnTo>
                      <a:pt x="4948" y="228"/>
                    </a:lnTo>
                    <a:lnTo>
                      <a:pt x="4137" y="439"/>
                    </a:lnTo>
                    <a:lnTo>
                      <a:pt x="3994" y="473"/>
                    </a:lnTo>
                    <a:lnTo>
                      <a:pt x="3842" y="482"/>
                    </a:lnTo>
                    <a:lnTo>
                      <a:pt x="3690" y="473"/>
                    </a:lnTo>
                    <a:lnTo>
                      <a:pt x="3555" y="456"/>
                    </a:lnTo>
                    <a:lnTo>
                      <a:pt x="3327" y="397"/>
                    </a:lnTo>
                    <a:lnTo>
                      <a:pt x="2744" y="220"/>
                    </a:lnTo>
                    <a:lnTo>
                      <a:pt x="2449" y="119"/>
                    </a:lnTo>
                    <a:lnTo>
                      <a:pt x="2221" y="51"/>
                    </a:lnTo>
                    <a:lnTo>
                      <a:pt x="2086" y="26"/>
                    </a:lnTo>
                    <a:lnTo>
                      <a:pt x="1917" y="17"/>
                    </a:lnTo>
                    <a:lnTo>
                      <a:pt x="1579" y="0"/>
                    </a:lnTo>
                    <a:lnTo>
                      <a:pt x="1343" y="0"/>
                    </a:lnTo>
                    <a:lnTo>
                      <a:pt x="456" y="17"/>
                    </a:lnTo>
                    <a:lnTo>
                      <a:pt x="93" y="26"/>
                    </a:lnTo>
                    <a:lnTo>
                      <a:pt x="34" y="43"/>
                    </a:lnTo>
                    <a:lnTo>
                      <a:pt x="9" y="68"/>
                    </a:lnTo>
                    <a:lnTo>
                      <a:pt x="0" y="127"/>
                    </a:lnTo>
                    <a:close/>
                  </a:path>
                </a:pathLst>
              </a:custGeom>
              <a:noFill/>
              <a:ln w="1440">
                <a:solidFill>
                  <a:srgbClr val="3437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88520" y="1860480"/>
                <a:ext cx="88560" cy="1800"/>
              </a:xfrm>
              <a:custGeom>
                <a:avLst/>
                <a:gdLst/>
                <a:ahLst/>
                <a:rect l="l" t="t" r="r" b="b"/>
                <a:pathLst>
                  <a:path w="523" h="8">
                    <a:moveTo>
                      <a:pt x="0" y="0"/>
                    </a:moveTo>
                    <a:lnTo>
                      <a:pt x="523" y="0"/>
                    </a:lnTo>
                    <a:lnTo>
                      <a:pt x="498" y="0"/>
                    </a:lnTo>
                    <a:lnTo>
                      <a:pt x="17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69440" y="1859040"/>
                <a:ext cx="126720" cy="3240"/>
              </a:xfrm>
              <a:custGeom>
                <a:avLst/>
                <a:gdLst/>
                <a:ahLst/>
                <a:rect l="l" t="t" r="r" b="b"/>
                <a:pathLst>
                  <a:path w="752" h="16">
                    <a:moveTo>
                      <a:pt x="0" y="0"/>
                    </a:moveTo>
                    <a:lnTo>
                      <a:pt x="752" y="0"/>
                    </a:lnTo>
                    <a:lnTo>
                      <a:pt x="617" y="8"/>
                    </a:lnTo>
                    <a:lnTo>
                      <a:pt x="296" y="16"/>
                    </a:lnTo>
                    <a:lnTo>
                      <a:pt x="6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353600" y="1857240"/>
                <a:ext cx="161640" cy="3240"/>
              </a:xfrm>
              <a:custGeom>
                <a:avLst/>
                <a:gdLst/>
                <a:ahLst/>
                <a:rect l="l" t="t" r="r" b="b"/>
                <a:pathLst>
                  <a:path w="954" h="17">
                    <a:moveTo>
                      <a:pt x="734" y="17"/>
                    </a:moveTo>
                    <a:lnTo>
                      <a:pt x="211" y="17"/>
                    </a:lnTo>
                    <a:lnTo>
                      <a:pt x="152" y="17"/>
                    </a:lnTo>
                    <a:lnTo>
                      <a:pt x="0" y="0"/>
                    </a:lnTo>
                    <a:lnTo>
                      <a:pt x="954" y="0"/>
                    </a:lnTo>
                    <a:lnTo>
                      <a:pt x="954" y="0"/>
                    </a:lnTo>
                    <a:lnTo>
                      <a:pt x="734" y="17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339200" y="1854360"/>
                <a:ext cx="185400" cy="4680"/>
              </a:xfrm>
              <a:custGeom>
                <a:avLst/>
                <a:gdLst/>
                <a:ahLst/>
                <a:rect l="l" t="t" r="r" b="b"/>
                <a:pathLst>
                  <a:path w="1098" h="26">
                    <a:moveTo>
                      <a:pt x="929" y="26"/>
                    </a:moveTo>
                    <a:lnTo>
                      <a:pt x="177" y="26"/>
                    </a:lnTo>
                    <a:lnTo>
                      <a:pt x="0" y="0"/>
                    </a:lnTo>
                    <a:lnTo>
                      <a:pt x="1098" y="0"/>
                    </a:lnTo>
                    <a:lnTo>
                      <a:pt x="1039" y="17"/>
                    </a:lnTo>
                    <a:lnTo>
                      <a:pt x="929" y="26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328400" y="1852560"/>
                <a:ext cx="205920" cy="4680"/>
              </a:xfrm>
              <a:custGeom>
                <a:avLst/>
                <a:gdLst/>
                <a:ahLst/>
                <a:rect l="l" t="t" r="r" b="b"/>
                <a:pathLst>
                  <a:path w="1224" h="25">
                    <a:moveTo>
                      <a:pt x="1106" y="25"/>
                    </a:moveTo>
                    <a:lnTo>
                      <a:pt x="152" y="25"/>
                    </a:lnTo>
                    <a:lnTo>
                      <a:pt x="42" y="8"/>
                    </a:lnTo>
                    <a:lnTo>
                      <a:pt x="0" y="0"/>
                    </a:lnTo>
                    <a:lnTo>
                      <a:pt x="1224" y="0"/>
                    </a:lnTo>
                    <a:lnTo>
                      <a:pt x="1106" y="25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318680" y="1851120"/>
                <a:ext cx="226800" cy="3240"/>
              </a:xfrm>
              <a:custGeom>
                <a:avLst/>
                <a:gdLst/>
                <a:ahLst/>
                <a:rect l="l" t="t" r="r" b="b"/>
                <a:pathLst>
                  <a:path w="1334" h="17">
                    <a:moveTo>
                      <a:pt x="1216" y="17"/>
                    </a:moveTo>
                    <a:lnTo>
                      <a:pt x="118" y="17"/>
                    </a:lnTo>
                    <a:lnTo>
                      <a:pt x="93" y="17"/>
                    </a:lnTo>
                    <a:lnTo>
                      <a:pt x="0" y="0"/>
                    </a:lnTo>
                    <a:lnTo>
                      <a:pt x="1334" y="0"/>
                    </a:lnTo>
                    <a:lnTo>
                      <a:pt x="1216" y="17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310760" y="1849320"/>
                <a:ext cx="244080" cy="3240"/>
              </a:xfrm>
              <a:custGeom>
                <a:avLst/>
                <a:gdLst/>
                <a:ahLst/>
                <a:rect l="l" t="t" r="r" b="b"/>
                <a:pathLst>
                  <a:path w="1444" h="17">
                    <a:moveTo>
                      <a:pt x="1326" y="17"/>
                    </a:moveTo>
                    <a:lnTo>
                      <a:pt x="102" y="17"/>
                    </a:lnTo>
                    <a:lnTo>
                      <a:pt x="0" y="0"/>
                    </a:lnTo>
                    <a:lnTo>
                      <a:pt x="1444" y="0"/>
                    </a:lnTo>
                    <a:lnTo>
                      <a:pt x="1326" y="17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99600" y="1847880"/>
                <a:ext cx="264960" cy="3240"/>
              </a:xfrm>
              <a:custGeom>
                <a:avLst/>
                <a:gdLst/>
                <a:ahLst/>
                <a:rect l="l" t="t" r="r" b="b"/>
                <a:pathLst>
                  <a:path w="1562" h="17">
                    <a:moveTo>
                      <a:pt x="1444" y="17"/>
                    </a:moveTo>
                    <a:lnTo>
                      <a:pt x="110" y="17"/>
                    </a:lnTo>
                    <a:lnTo>
                      <a:pt x="0" y="0"/>
                    </a:lnTo>
                    <a:lnTo>
                      <a:pt x="1562" y="0"/>
                    </a:lnTo>
                    <a:lnTo>
                      <a:pt x="1444" y="17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291680" y="1844640"/>
                <a:ext cx="283680" cy="4680"/>
              </a:xfrm>
              <a:custGeom>
                <a:avLst/>
                <a:gdLst/>
                <a:ahLst/>
                <a:rect l="l" t="t" r="r" b="b"/>
                <a:pathLst>
                  <a:path w="1671" h="25">
                    <a:moveTo>
                      <a:pt x="1553" y="25"/>
                    </a:moveTo>
                    <a:lnTo>
                      <a:pt x="109" y="25"/>
                    </a:lnTo>
                    <a:lnTo>
                      <a:pt x="0" y="0"/>
                    </a:lnTo>
                    <a:lnTo>
                      <a:pt x="1671" y="0"/>
                    </a:lnTo>
                    <a:lnTo>
                      <a:pt x="1553" y="25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83760" y="1843200"/>
                <a:ext cx="299880" cy="4680"/>
              </a:xfrm>
              <a:custGeom>
                <a:avLst/>
                <a:gdLst/>
                <a:ahLst/>
                <a:rect l="l" t="t" r="r" b="b"/>
                <a:pathLst>
                  <a:path w="1773" h="25">
                    <a:moveTo>
                      <a:pt x="1663" y="25"/>
                    </a:moveTo>
                    <a:lnTo>
                      <a:pt x="101" y="25"/>
                    </a:lnTo>
                    <a:lnTo>
                      <a:pt x="0" y="0"/>
                    </a:lnTo>
                    <a:lnTo>
                      <a:pt x="1773" y="0"/>
                    </a:lnTo>
                    <a:lnTo>
                      <a:pt x="1764" y="0"/>
                    </a:lnTo>
                    <a:lnTo>
                      <a:pt x="1663" y="25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274400" y="1843200"/>
                <a:ext cx="315360" cy="1440"/>
              </a:xfrm>
              <a:custGeom>
                <a:avLst/>
                <a:gdLst/>
                <a:ahLst/>
                <a:rect l="l" t="t" r="r" b="b"/>
                <a:pathLst>
                  <a:path w="1858" h="17">
                    <a:moveTo>
                      <a:pt x="1773" y="17"/>
                    </a:moveTo>
                    <a:lnTo>
                      <a:pt x="102" y="17"/>
                    </a:lnTo>
                    <a:lnTo>
                      <a:pt x="0" y="0"/>
                    </a:lnTo>
                    <a:lnTo>
                      <a:pt x="1858" y="0"/>
                    </a:lnTo>
                    <a:lnTo>
                      <a:pt x="1815" y="8"/>
                    </a:lnTo>
                    <a:lnTo>
                      <a:pt x="1773" y="17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266480" y="1839960"/>
                <a:ext cx="327960" cy="3240"/>
              </a:xfrm>
              <a:custGeom>
                <a:avLst/>
                <a:gdLst/>
                <a:ahLst/>
                <a:rect l="l" t="t" r="r" b="b"/>
                <a:pathLst>
                  <a:path w="1941" h="17">
                    <a:moveTo>
                      <a:pt x="1874" y="17"/>
                    </a:moveTo>
                    <a:lnTo>
                      <a:pt x="101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941" y="0"/>
                    </a:lnTo>
                    <a:lnTo>
                      <a:pt x="1874" y="17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260000" y="1838520"/>
                <a:ext cx="342360" cy="4680"/>
              </a:xfrm>
              <a:custGeom>
                <a:avLst/>
                <a:gdLst/>
                <a:ahLst/>
                <a:rect l="l" t="t" r="r" b="b"/>
                <a:pathLst>
                  <a:path w="2018" h="26">
                    <a:moveTo>
                      <a:pt x="1942" y="26"/>
                    </a:moveTo>
                    <a:lnTo>
                      <a:pt x="84" y="26"/>
                    </a:lnTo>
                    <a:lnTo>
                      <a:pt x="34" y="17"/>
                    </a:lnTo>
                    <a:lnTo>
                      <a:pt x="0" y="0"/>
                    </a:lnTo>
                    <a:lnTo>
                      <a:pt x="2018" y="0"/>
                    </a:lnTo>
                    <a:lnTo>
                      <a:pt x="1942" y="26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255320" y="1836720"/>
                <a:ext cx="352080" cy="3240"/>
              </a:xfrm>
              <a:custGeom>
                <a:avLst/>
                <a:gdLst/>
                <a:ahLst/>
                <a:rect l="l" t="t" r="r" b="b"/>
                <a:pathLst>
                  <a:path w="2085" h="25">
                    <a:moveTo>
                      <a:pt x="2009" y="25"/>
                    </a:moveTo>
                    <a:lnTo>
                      <a:pt x="68" y="25"/>
                    </a:lnTo>
                    <a:lnTo>
                      <a:pt x="0" y="0"/>
                    </a:lnTo>
                    <a:lnTo>
                      <a:pt x="2085" y="0"/>
                    </a:lnTo>
                    <a:lnTo>
                      <a:pt x="2009" y="25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48840" y="1835280"/>
                <a:ext cx="364680" cy="3240"/>
              </a:xfrm>
              <a:custGeom>
                <a:avLst/>
                <a:gdLst/>
                <a:ahLst/>
                <a:rect l="l" t="t" r="r" b="b"/>
                <a:pathLst>
                  <a:path w="2153" h="17">
                    <a:moveTo>
                      <a:pt x="2086" y="17"/>
                    </a:moveTo>
                    <a:lnTo>
                      <a:pt x="68" y="17"/>
                    </a:lnTo>
                    <a:lnTo>
                      <a:pt x="0" y="0"/>
                    </a:lnTo>
                    <a:lnTo>
                      <a:pt x="2153" y="0"/>
                    </a:lnTo>
                    <a:lnTo>
                      <a:pt x="2086" y="17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242360" y="1833480"/>
                <a:ext cx="376200" cy="3240"/>
              </a:xfrm>
              <a:custGeom>
                <a:avLst/>
                <a:gdLst/>
                <a:ahLst/>
                <a:rect l="l" t="t" r="r" b="b"/>
                <a:pathLst>
                  <a:path w="2211" h="17">
                    <a:moveTo>
                      <a:pt x="2152" y="17"/>
                    </a:moveTo>
                    <a:lnTo>
                      <a:pt x="67" y="17"/>
                    </a:lnTo>
                    <a:lnTo>
                      <a:pt x="0" y="0"/>
                    </a:lnTo>
                    <a:lnTo>
                      <a:pt x="2211" y="0"/>
                    </a:lnTo>
                    <a:lnTo>
                      <a:pt x="2203" y="0"/>
                    </a:lnTo>
                    <a:lnTo>
                      <a:pt x="2152" y="17"/>
                    </a:lnTo>
                    <a:close/>
                  </a:path>
                </a:pathLst>
              </a:custGeom>
              <a:solidFill>
                <a:srgbClr val="a26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239480" y="1832040"/>
                <a:ext cx="381960" cy="3240"/>
              </a:xfrm>
              <a:custGeom>
                <a:avLst/>
                <a:gdLst/>
                <a:ahLst/>
                <a:rect l="l" t="t" r="r" b="b"/>
                <a:pathLst>
                  <a:path w="2263" h="16">
                    <a:moveTo>
                      <a:pt x="2212" y="16"/>
                    </a:moveTo>
                    <a:lnTo>
                      <a:pt x="59" y="16"/>
                    </a:lnTo>
                    <a:lnTo>
                      <a:pt x="0" y="0"/>
                    </a:lnTo>
                    <a:lnTo>
                      <a:pt x="2263" y="0"/>
                    </a:lnTo>
                    <a:lnTo>
                      <a:pt x="2229" y="8"/>
                    </a:lnTo>
                    <a:lnTo>
                      <a:pt x="2212" y="16"/>
                    </a:lnTo>
                    <a:close/>
                  </a:path>
                </a:pathLst>
              </a:custGeom>
              <a:solidFill>
                <a:srgbClr val="a26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233000" y="1828800"/>
                <a:ext cx="393480" cy="4680"/>
              </a:xfrm>
              <a:custGeom>
                <a:avLst/>
                <a:gdLst/>
                <a:ahLst/>
                <a:rect l="l" t="t" r="r" b="b"/>
                <a:pathLst>
                  <a:path w="2322" h="25">
                    <a:moveTo>
                      <a:pt x="2271" y="25"/>
                    </a:moveTo>
                    <a:lnTo>
                      <a:pt x="60" y="25"/>
                    </a:lnTo>
                    <a:lnTo>
                      <a:pt x="0" y="0"/>
                    </a:lnTo>
                    <a:lnTo>
                      <a:pt x="2322" y="0"/>
                    </a:lnTo>
                    <a:lnTo>
                      <a:pt x="2271" y="25"/>
                    </a:lnTo>
                    <a:close/>
                  </a:path>
                </a:pathLst>
              </a:custGeom>
              <a:solidFill>
                <a:srgbClr val="a26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226520" y="1827360"/>
                <a:ext cx="404640" cy="4680"/>
              </a:xfrm>
              <a:custGeom>
                <a:avLst/>
                <a:gdLst/>
                <a:ahLst/>
                <a:rect l="l" t="t" r="r" b="b"/>
                <a:pathLst>
                  <a:path w="2380" h="26">
                    <a:moveTo>
                      <a:pt x="2330" y="26"/>
                    </a:moveTo>
                    <a:lnTo>
                      <a:pt x="67" y="26"/>
                    </a:lnTo>
                    <a:lnTo>
                      <a:pt x="0" y="0"/>
                    </a:lnTo>
                    <a:lnTo>
                      <a:pt x="2380" y="0"/>
                    </a:lnTo>
                    <a:lnTo>
                      <a:pt x="2330" y="26"/>
                    </a:lnTo>
                    <a:close/>
                  </a:path>
                </a:pathLst>
              </a:custGeom>
              <a:solidFill>
                <a:srgbClr val="a26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221840" y="1825560"/>
                <a:ext cx="412560" cy="3240"/>
              </a:xfrm>
              <a:custGeom>
                <a:avLst/>
                <a:gdLst/>
                <a:ahLst/>
                <a:rect l="l" t="t" r="r" b="b"/>
                <a:pathLst>
                  <a:path w="2431" h="17">
                    <a:moveTo>
                      <a:pt x="2389" y="17"/>
                    </a:moveTo>
                    <a:lnTo>
                      <a:pt x="67" y="17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2431" y="0"/>
                    </a:lnTo>
                    <a:lnTo>
                      <a:pt x="2389" y="17"/>
                    </a:lnTo>
                    <a:close/>
                  </a:path>
                </a:pathLst>
              </a:custGeom>
              <a:solidFill>
                <a:srgbClr val="a3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17160" y="1824120"/>
                <a:ext cx="420120" cy="3240"/>
              </a:xfrm>
              <a:custGeom>
                <a:avLst/>
                <a:gdLst/>
                <a:ahLst/>
                <a:rect l="l" t="t" r="r" b="b"/>
                <a:pathLst>
                  <a:path w="2482" h="17">
                    <a:moveTo>
                      <a:pt x="2439" y="17"/>
                    </a:moveTo>
                    <a:lnTo>
                      <a:pt x="59" y="17"/>
                    </a:lnTo>
                    <a:lnTo>
                      <a:pt x="42" y="17"/>
                    </a:lnTo>
                    <a:lnTo>
                      <a:pt x="0" y="0"/>
                    </a:lnTo>
                    <a:lnTo>
                      <a:pt x="2482" y="0"/>
                    </a:lnTo>
                    <a:lnTo>
                      <a:pt x="2439" y="17"/>
                    </a:lnTo>
                    <a:close/>
                  </a:path>
                </a:pathLst>
              </a:custGeom>
              <a:solidFill>
                <a:srgbClr val="a3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212480" y="1820880"/>
                <a:ext cx="429840" cy="4680"/>
              </a:xfrm>
              <a:custGeom>
                <a:avLst/>
                <a:gdLst/>
                <a:ahLst/>
                <a:rect l="l" t="t" r="r" b="b"/>
                <a:pathLst>
                  <a:path w="2533" h="26">
                    <a:moveTo>
                      <a:pt x="2482" y="26"/>
                    </a:moveTo>
                    <a:lnTo>
                      <a:pt x="51" y="26"/>
                    </a:lnTo>
                    <a:lnTo>
                      <a:pt x="0" y="0"/>
                    </a:lnTo>
                    <a:lnTo>
                      <a:pt x="2533" y="0"/>
                    </a:lnTo>
                    <a:lnTo>
                      <a:pt x="2482" y="26"/>
                    </a:lnTo>
                    <a:close/>
                  </a:path>
                </a:pathLst>
              </a:custGeom>
              <a:solidFill>
                <a:srgbClr val="a3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09240" y="1819440"/>
                <a:ext cx="436320" cy="4680"/>
              </a:xfrm>
              <a:custGeom>
                <a:avLst/>
                <a:gdLst/>
                <a:ahLst/>
                <a:rect l="l" t="t" r="r" b="b"/>
                <a:pathLst>
                  <a:path w="2575" h="25">
                    <a:moveTo>
                      <a:pt x="2533" y="25"/>
                    </a:moveTo>
                    <a:lnTo>
                      <a:pt x="51" y="25"/>
                    </a:lnTo>
                    <a:lnTo>
                      <a:pt x="0" y="0"/>
                    </a:lnTo>
                    <a:lnTo>
                      <a:pt x="2575" y="0"/>
                    </a:lnTo>
                    <a:lnTo>
                      <a:pt x="2533" y="25"/>
                    </a:lnTo>
                    <a:close/>
                  </a:path>
                </a:pathLst>
              </a:custGeom>
              <a:solidFill>
                <a:srgbClr val="a4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04560" y="1817640"/>
                <a:ext cx="445680" cy="3240"/>
              </a:xfrm>
              <a:custGeom>
                <a:avLst/>
                <a:gdLst/>
                <a:ahLst/>
                <a:rect l="l" t="t" r="r" b="b"/>
                <a:pathLst>
                  <a:path w="2625" h="16">
                    <a:moveTo>
                      <a:pt x="2583" y="16"/>
                    </a:moveTo>
                    <a:lnTo>
                      <a:pt x="50" y="16"/>
                    </a:lnTo>
                    <a:lnTo>
                      <a:pt x="0" y="0"/>
                    </a:lnTo>
                    <a:lnTo>
                      <a:pt x="2625" y="0"/>
                    </a:lnTo>
                    <a:lnTo>
                      <a:pt x="2583" y="16"/>
                    </a:lnTo>
                    <a:close/>
                  </a:path>
                </a:pathLst>
              </a:custGeom>
              <a:solidFill>
                <a:srgbClr val="a4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199520" y="1816200"/>
                <a:ext cx="453960" cy="3240"/>
              </a:xfrm>
              <a:custGeom>
                <a:avLst/>
                <a:gdLst/>
                <a:ahLst/>
                <a:rect l="l" t="t" r="r" b="b"/>
                <a:pathLst>
                  <a:path w="2677" h="17">
                    <a:moveTo>
                      <a:pt x="2626" y="17"/>
                    </a:moveTo>
                    <a:lnTo>
                      <a:pt x="51" y="17"/>
                    </a:lnTo>
                    <a:lnTo>
                      <a:pt x="0" y="0"/>
                    </a:lnTo>
                    <a:lnTo>
                      <a:pt x="2677" y="0"/>
                    </a:lnTo>
                    <a:lnTo>
                      <a:pt x="2626" y="17"/>
                    </a:lnTo>
                    <a:close/>
                  </a:path>
                </a:pathLst>
              </a:custGeom>
              <a:solidFill>
                <a:srgbClr val="a4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94840" y="1814400"/>
                <a:ext cx="461520" cy="3240"/>
              </a:xfrm>
              <a:custGeom>
                <a:avLst/>
                <a:gdLst/>
                <a:ahLst/>
                <a:rect l="l" t="t" r="r" b="b"/>
                <a:pathLst>
                  <a:path w="2727" h="17">
                    <a:moveTo>
                      <a:pt x="2685" y="17"/>
                    </a:moveTo>
                    <a:lnTo>
                      <a:pt x="60" y="17"/>
                    </a:lnTo>
                    <a:lnTo>
                      <a:pt x="0" y="0"/>
                    </a:lnTo>
                    <a:lnTo>
                      <a:pt x="2727" y="0"/>
                    </a:lnTo>
                    <a:lnTo>
                      <a:pt x="2685" y="17"/>
                    </a:lnTo>
                    <a:close/>
                  </a:path>
                </a:pathLst>
              </a:custGeom>
              <a:solidFill>
                <a:srgbClr val="a4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91600" y="1811520"/>
                <a:ext cx="469800" cy="4680"/>
              </a:xfrm>
              <a:custGeom>
                <a:avLst/>
                <a:gdLst/>
                <a:ahLst/>
                <a:rect l="l" t="t" r="r" b="b"/>
                <a:pathLst>
                  <a:path w="2769" h="25">
                    <a:moveTo>
                      <a:pt x="2727" y="25"/>
                    </a:moveTo>
                    <a:lnTo>
                      <a:pt x="50" y="25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2769" y="0"/>
                    </a:lnTo>
                    <a:lnTo>
                      <a:pt x="2727" y="25"/>
                    </a:lnTo>
                    <a:close/>
                  </a:path>
                </a:pathLst>
              </a:custGeom>
              <a:solidFill>
                <a:srgbClr val="a4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188720" y="1809720"/>
                <a:ext cx="477360" cy="4680"/>
              </a:xfrm>
              <a:custGeom>
                <a:avLst/>
                <a:gdLst/>
                <a:ahLst/>
                <a:rect l="l" t="t" r="r" b="b"/>
                <a:pathLst>
                  <a:path w="2811" h="26">
                    <a:moveTo>
                      <a:pt x="2760" y="26"/>
                    </a:moveTo>
                    <a:lnTo>
                      <a:pt x="33" y="26"/>
                    </a:lnTo>
                    <a:lnTo>
                      <a:pt x="33" y="17"/>
                    </a:lnTo>
                    <a:lnTo>
                      <a:pt x="0" y="0"/>
                    </a:lnTo>
                    <a:lnTo>
                      <a:pt x="2811" y="0"/>
                    </a:lnTo>
                    <a:lnTo>
                      <a:pt x="2760" y="26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183680" y="1808280"/>
                <a:ext cx="483840" cy="3240"/>
              </a:xfrm>
              <a:custGeom>
                <a:avLst/>
                <a:gdLst/>
                <a:ahLst/>
                <a:rect l="l" t="t" r="r" b="b"/>
                <a:pathLst>
                  <a:path w="2854" h="17">
                    <a:moveTo>
                      <a:pt x="2812" y="17"/>
                    </a:moveTo>
                    <a:lnTo>
                      <a:pt x="43" y="17"/>
                    </a:lnTo>
                    <a:lnTo>
                      <a:pt x="0" y="0"/>
                    </a:lnTo>
                    <a:lnTo>
                      <a:pt x="2854" y="0"/>
                    </a:lnTo>
                    <a:lnTo>
                      <a:pt x="2812" y="17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82240" y="1806480"/>
                <a:ext cx="489960" cy="3240"/>
              </a:xfrm>
              <a:custGeom>
                <a:avLst/>
                <a:gdLst/>
                <a:ahLst/>
                <a:rect l="l" t="t" r="r" b="b"/>
                <a:pathLst>
                  <a:path w="2896" h="16">
                    <a:moveTo>
                      <a:pt x="2854" y="16"/>
                    </a:moveTo>
                    <a:lnTo>
                      <a:pt x="43" y="16"/>
                    </a:lnTo>
                    <a:lnTo>
                      <a:pt x="0" y="0"/>
                    </a:lnTo>
                    <a:lnTo>
                      <a:pt x="2896" y="0"/>
                    </a:lnTo>
                    <a:lnTo>
                      <a:pt x="2896" y="0"/>
                    </a:lnTo>
                    <a:lnTo>
                      <a:pt x="2854" y="16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77560" y="1803600"/>
                <a:ext cx="497880" cy="4680"/>
              </a:xfrm>
              <a:custGeom>
                <a:avLst/>
                <a:gdLst/>
                <a:ahLst/>
                <a:rect l="l" t="t" r="r" b="b"/>
                <a:pathLst>
                  <a:path w="2938" h="25">
                    <a:moveTo>
                      <a:pt x="2896" y="25"/>
                    </a:moveTo>
                    <a:lnTo>
                      <a:pt x="42" y="25"/>
                    </a:lnTo>
                    <a:lnTo>
                      <a:pt x="0" y="0"/>
                    </a:lnTo>
                    <a:lnTo>
                      <a:pt x="2938" y="0"/>
                    </a:lnTo>
                    <a:lnTo>
                      <a:pt x="2921" y="17"/>
                    </a:lnTo>
                    <a:lnTo>
                      <a:pt x="2896" y="25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74320" y="1801800"/>
                <a:ext cx="504360" cy="4680"/>
              </a:xfrm>
              <a:custGeom>
                <a:avLst/>
                <a:gdLst/>
                <a:ahLst/>
                <a:rect l="l" t="t" r="r" b="b"/>
                <a:pathLst>
                  <a:path w="2972" h="26">
                    <a:moveTo>
                      <a:pt x="2938" y="26"/>
                    </a:moveTo>
                    <a:lnTo>
                      <a:pt x="42" y="26"/>
                    </a:lnTo>
                    <a:lnTo>
                      <a:pt x="0" y="0"/>
                    </a:lnTo>
                    <a:lnTo>
                      <a:pt x="2972" y="0"/>
                    </a:lnTo>
                    <a:lnTo>
                      <a:pt x="2938" y="26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69640" y="1800360"/>
                <a:ext cx="510840" cy="3240"/>
              </a:xfrm>
              <a:custGeom>
                <a:avLst/>
                <a:gdLst/>
                <a:ahLst/>
                <a:rect l="l" t="t" r="r" b="b"/>
                <a:pathLst>
                  <a:path w="3006" h="17">
                    <a:moveTo>
                      <a:pt x="2980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3006" y="0"/>
                    </a:lnTo>
                    <a:lnTo>
                      <a:pt x="2980" y="17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67840" y="1798560"/>
                <a:ext cx="514080" cy="3240"/>
              </a:xfrm>
              <a:custGeom>
                <a:avLst/>
                <a:gdLst/>
                <a:ahLst/>
                <a:rect l="l" t="t" r="r" b="b"/>
                <a:pathLst>
                  <a:path w="3039" h="17">
                    <a:moveTo>
                      <a:pt x="3014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3039" y="0"/>
                    </a:lnTo>
                    <a:lnTo>
                      <a:pt x="3014" y="17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63160" y="1795680"/>
                <a:ext cx="522000" cy="4680"/>
              </a:xfrm>
              <a:custGeom>
                <a:avLst/>
                <a:gdLst/>
                <a:ahLst/>
                <a:rect l="l" t="t" r="r" b="b"/>
                <a:pathLst>
                  <a:path w="3081" h="26">
                    <a:moveTo>
                      <a:pt x="3048" y="26"/>
                    </a:moveTo>
                    <a:lnTo>
                      <a:pt x="42" y="26"/>
                    </a:lnTo>
                    <a:lnTo>
                      <a:pt x="0" y="0"/>
                    </a:lnTo>
                    <a:lnTo>
                      <a:pt x="3081" y="0"/>
                    </a:lnTo>
                    <a:lnTo>
                      <a:pt x="3048" y="26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59920" y="1793880"/>
                <a:ext cx="528480" cy="4680"/>
              </a:xfrm>
              <a:custGeom>
                <a:avLst/>
                <a:gdLst/>
                <a:ahLst/>
                <a:rect l="l" t="t" r="r" b="b"/>
                <a:pathLst>
                  <a:path w="3115" h="25">
                    <a:moveTo>
                      <a:pt x="3081" y="25"/>
                    </a:moveTo>
                    <a:lnTo>
                      <a:pt x="42" y="25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3115" y="0"/>
                    </a:lnTo>
                    <a:lnTo>
                      <a:pt x="3081" y="25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56680" y="1792440"/>
                <a:ext cx="534600" cy="3240"/>
              </a:xfrm>
              <a:custGeom>
                <a:avLst/>
                <a:gdLst/>
                <a:ahLst/>
                <a:rect l="l" t="t" r="r" b="b"/>
                <a:pathLst>
                  <a:path w="3149" h="16">
                    <a:moveTo>
                      <a:pt x="3115" y="16"/>
                    </a:moveTo>
                    <a:lnTo>
                      <a:pt x="34" y="16"/>
                    </a:lnTo>
                    <a:lnTo>
                      <a:pt x="34" y="16"/>
                    </a:lnTo>
                    <a:lnTo>
                      <a:pt x="0" y="0"/>
                    </a:lnTo>
                    <a:lnTo>
                      <a:pt x="3149" y="0"/>
                    </a:lnTo>
                    <a:lnTo>
                      <a:pt x="3115" y="16"/>
                    </a:lnTo>
                    <a:close/>
                  </a:path>
                </a:pathLst>
              </a:custGeom>
              <a:solidFill>
                <a:srgbClr val="a76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153440" y="1790640"/>
                <a:ext cx="541080" cy="3240"/>
              </a:xfrm>
              <a:custGeom>
                <a:avLst/>
                <a:gdLst/>
                <a:ahLst/>
                <a:rect l="l" t="t" r="r" b="b"/>
                <a:pathLst>
                  <a:path w="3183" h="17">
                    <a:moveTo>
                      <a:pt x="3149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3183" y="0"/>
                    </a:lnTo>
                    <a:lnTo>
                      <a:pt x="3149" y="17"/>
                    </a:lnTo>
                    <a:close/>
                  </a:path>
                </a:pathLst>
              </a:custGeom>
              <a:solidFill>
                <a:srgbClr val="a76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52000" y="1789200"/>
                <a:ext cx="542520" cy="3240"/>
              </a:xfrm>
              <a:custGeom>
                <a:avLst/>
                <a:gdLst/>
                <a:ahLst/>
                <a:rect l="l" t="t" r="r" b="b"/>
                <a:pathLst>
                  <a:path w="3208" h="17">
                    <a:moveTo>
                      <a:pt x="3183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3208" y="0"/>
                    </a:lnTo>
                    <a:lnTo>
                      <a:pt x="3183" y="17"/>
                    </a:lnTo>
                    <a:close/>
                  </a:path>
                </a:pathLst>
              </a:custGeom>
              <a:solidFill>
                <a:srgbClr val="a76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148760" y="178740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3242" h="25">
                    <a:moveTo>
                      <a:pt x="3217" y="25"/>
                    </a:moveTo>
                    <a:lnTo>
                      <a:pt x="34" y="25"/>
                    </a:lnTo>
                    <a:lnTo>
                      <a:pt x="0" y="0"/>
                    </a:lnTo>
                    <a:lnTo>
                      <a:pt x="3242" y="0"/>
                    </a:lnTo>
                    <a:lnTo>
                      <a:pt x="3234" y="8"/>
                    </a:lnTo>
                    <a:lnTo>
                      <a:pt x="3217" y="25"/>
                    </a:lnTo>
                    <a:close/>
                  </a:path>
                </a:pathLst>
              </a:custGeom>
              <a:solidFill>
                <a:srgbClr val="a8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145520" y="1784520"/>
                <a:ext cx="553680" cy="4680"/>
              </a:xfrm>
              <a:custGeom>
                <a:avLst/>
                <a:gdLst/>
                <a:ahLst/>
                <a:rect l="l" t="t" r="r" b="b"/>
                <a:pathLst>
                  <a:path w="3268" h="26">
                    <a:moveTo>
                      <a:pt x="3242" y="26"/>
                    </a:moveTo>
                    <a:lnTo>
                      <a:pt x="34" y="26"/>
                    </a:lnTo>
                    <a:lnTo>
                      <a:pt x="0" y="0"/>
                    </a:lnTo>
                    <a:lnTo>
                      <a:pt x="3268" y="0"/>
                    </a:lnTo>
                    <a:lnTo>
                      <a:pt x="3251" y="17"/>
                    </a:lnTo>
                    <a:lnTo>
                      <a:pt x="3242" y="26"/>
                    </a:lnTo>
                    <a:close/>
                  </a:path>
                </a:pathLst>
              </a:custGeom>
              <a:solidFill>
                <a:srgbClr val="a8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140840" y="1784520"/>
                <a:ext cx="561600" cy="2880"/>
              </a:xfrm>
              <a:custGeom>
                <a:avLst/>
                <a:gdLst/>
                <a:ahLst/>
                <a:rect l="l" t="t" r="r" b="b"/>
                <a:pathLst>
                  <a:path w="3310" h="17">
                    <a:moveTo>
                      <a:pt x="3284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3310" y="0"/>
                    </a:lnTo>
                    <a:lnTo>
                      <a:pt x="3284" y="17"/>
                    </a:lnTo>
                    <a:close/>
                  </a:path>
                </a:pathLst>
              </a:custGeom>
              <a:solidFill>
                <a:srgbClr val="a8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37600" y="1782720"/>
                <a:ext cx="566640" cy="1800"/>
              </a:xfrm>
              <a:custGeom>
                <a:avLst/>
                <a:gdLst/>
                <a:ahLst/>
                <a:rect l="l" t="t" r="r" b="b"/>
                <a:pathLst>
                  <a:path w="3335" h="17">
                    <a:moveTo>
                      <a:pt x="3310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3335" y="0"/>
                    </a:lnTo>
                    <a:lnTo>
                      <a:pt x="3310" y="17"/>
                    </a:lnTo>
                    <a:close/>
                  </a:path>
                </a:pathLst>
              </a:custGeom>
              <a:solidFill>
                <a:srgbClr val="a86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36160" y="1779480"/>
                <a:ext cx="569520" cy="5040"/>
              </a:xfrm>
              <a:custGeom>
                <a:avLst/>
                <a:gdLst/>
                <a:ahLst/>
                <a:rect l="l" t="t" r="r" b="b"/>
                <a:pathLst>
                  <a:path w="3360" h="25">
                    <a:moveTo>
                      <a:pt x="3344" y="25"/>
                    </a:moveTo>
                    <a:lnTo>
                      <a:pt x="34" y="25"/>
                    </a:lnTo>
                    <a:lnTo>
                      <a:pt x="0" y="0"/>
                    </a:lnTo>
                    <a:lnTo>
                      <a:pt x="3360" y="0"/>
                    </a:lnTo>
                    <a:lnTo>
                      <a:pt x="3344" y="25"/>
                    </a:lnTo>
                    <a:close/>
                  </a:path>
                </a:pathLst>
              </a:custGeom>
              <a:solidFill>
                <a:srgbClr val="a8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32920" y="1778040"/>
                <a:ext cx="576000" cy="4680"/>
              </a:xfrm>
              <a:custGeom>
                <a:avLst/>
                <a:gdLst/>
                <a:ahLst/>
                <a:rect l="l" t="t" r="r" b="b"/>
                <a:pathLst>
                  <a:path w="3394" h="25">
                    <a:moveTo>
                      <a:pt x="3369" y="25"/>
                    </a:moveTo>
                    <a:lnTo>
                      <a:pt x="34" y="25"/>
                    </a:lnTo>
                    <a:lnTo>
                      <a:pt x="0" y="0"/>
                    </a:lnTo>
                    <a:lnTo>
                      <a:pt x="3394" y="0"/>
                    </a:lnTo>
                    <a:lnTo>
                      <a:pt x="3369" y="25"/>
                    </a:lnTo>
                    <a:close/>
                  </a:path>
                </a:pathLst>
              </a:custGeom>
              <a:solidFill>
                <a:srgbClr val="a8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9680" y="1776600"/>
                <a:ext cx="580680" cy="2880"/>
              </a:xfrm>
              <a:custGeom>
                <a:avLst/>
                <a:gdLst/>
                <a:ahLst/>
                <a:rect l="l" t="t" r="r" b="b"/>
                <a:pathLst>
                  <a:path w="3419" h="17">
                    <a:moveTo>
                      <a:pt x="3393" y="17"/>
                    </a:moveTo>
                    <a:lnTo>
                      <a:pt x="33" y="17"/>
                    </a:lnTo>
                    <a:lnTo>
                      <a:pt x="0" y="0"/>
                    </a:lnTo>
                    <a:lnTo>
                      <a:pt x="3419" y="0"/>
                    </a:lnTo>
                    <a:lnTo>
                      <a:pt x="3393" y="17"/>
                    </a:lnTo>
                    <a:close/>
                  </a:path>
                </a:pathLst>
              </a:custGeom>
              <a:solidFill>
                <a:srgbClr val="a8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6800" y="1774800"/>
                <a:ext cx="585360" cy="3240"/>
              </a:xfrm>
              <a:custGeom>
                <a:avLst/>
                <a:gdLst/>
                <a:ahLst/>
                <a:rect l="l" t="t" r="r" b="b"/>
                <a:pathLst>
                  <a:path w="3453" h="17">
                    <a:moveTo>
                      <a:pt x="3427" y="17"/>
                    </a:moveTo>
                    <a:lnTo>
                      <a:pt x="33" y="17"/>
                    </a:lnTo>
                    <a:lnTo>
                      <a:pt x="0" y="0"/>
                    </a:lnTo>
                    <a:lnTo>
                      <a:pt x="3453" y="0"/>
                    </a:lnTo>
                    <a:lnTo>
                      <a:pt x="3427" y="17"/>
                    </a:lnTo>
                    <a:close/>
                  </a:path>
                </a:pathLst>
              </a:custGeom>
              <a:solidFill>
                <a:srgbClr val="a9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3560" y="1773360"/>
                <a:ext cx="590040" cy="3240"/>
              </a:xfrm>
              <a:custGeom>
                <a:avLst/>
                <a:gdLst/>
                <a:ahLst/>
                <a:rect l="l" t="t" r="r" b="b"/>
                <a:pathLst>
                  <a:path w="3487" h="17">
                    <a:moveTo>
                      <a:pt x="3462" y="17"/>
                    </a:moveTo>
                    <a:lnTo>
                      <a:pt x="43" y="17"/>
                    </a:lnTo>
                    <a:lnTo>
                      <a:pt x="0" y="0"/>
                    </a:lnTo>
                    <a:lnTo>
                      <a:pt x="3487" y="0"/>
                    </a:lnTo>
                    <a:lnTo>
                      <a:pt x="3462" y="17"/>
                    </a:lnTo>
                    <a:close/>
                  </a:path>
                </a:pathLst>
              </a:custGeom>
              <a:solidFill>
                <a:srgbClr val="a9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0320" y="1770120"/>
                <a:ext cx="595080" cy="4680"/>
              </a:xfrm>
              <a:custGeom>
                <a:avLst/>
                <a:gdLst/>
                <a:ahLst/>
                <a:rect l="l" t="t" r="r" b="b"/>
                <a:pathLst>
                  <a:path w="3513" h="25">
                    <a:moveTo>
                      <a:pt x="3496" y="25"/>
                    </a:moveTo>
                    <a:lnTo>
                      <a:pt x="43" y="25"/>
                    </a:lnTo>
                    <a:lnTo>
                      <a:pt x="0" y="0"/>
                    </a:lnTo>
                    <a:lnTo>
                      <a:pt x="3513" y="0"/>
                    </a:lnTo>
                    <a:lnTo>
                      <a:pt x="3496" y="25"/>
                    </a:lnTo>
                    <a:close/>
                  </a:path>
                </a:pathLst>
              </a:custGeom>
              <a:solidFill>
                <a:srgbClr val="a96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17080" y="1768680"/>
                <a:ext cx="601200" cy="4680"/>
              </a:xfrm>
              <a:custGeom>
                <a:avLst/>
                <a:gdLst/>
                <a:ahLst/>
                <a:rect l="l" t="t" r="r" b="b"/>
                <a:pathLst>
                  <a:path w="3545" h="26">
                    <a:moveTo>
                      <a:pt x="3520" y="26"/>
                    </a:moveTo>
                    <a:lnTo>
                      <a:pt x="33" y="26"/>
                    </a:lnTo>
                    <a:lnTo>
                      <a:pt x="0" y="0"/>
                    </a:lnTo>
                    <a:lnTo>
                      <a:pt x="3545" y="0"/>
                    </a:lnTo>
                    <a:lnTo>
                      <a:pt x="3520" y="26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13840" y="1766880"/>
                <a:ext cx="606240" cy="3240"/>
              </a:xfrm>
              <a:custGeom>
                <a:avLst/>
                <a:gdLst/>
                <a:ahLst/>
                <a:rect l="l" t="t" r="r" b="b"/>
                <a:pathLst>
                  <a:path w="3571" h="17">
                    <a:moveTo>
                      <a:pt x="3546" y="17"/>
                    </a:moveTo>
                    <a:lnTo>
                      <a:pt x="33" y="17"/>
                    </a:lnTo>
                    <a:lnTo>
                      <a:pt x="0" y="0"/>
                    </a:lnTo>
                    <a:lnTo>
                      <a:pt x="3571" y="0"/>
                    </a:lnTo>
                    <a:lnTo>
                      <a:pt x="3546" y="17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10600" y="1765440"/>
                <a:ext cx="610920" cy="3240"/>
              </a:xfrm>
              <a:custGeom>
                <a:avLst/>
                <a:gdLst/>
                <a:ahLst/>
                <a:rect l="l" t="t" r="r" b="b"/>
                <a:pathLst>
                  <a:path w="3596" h="16">
                    <a:moveTo>
                      <a:pt x="3579" y="16"/>
                    </a:moveTo>
                    <a:lnTo>
                      <a:pt x="34" y="16"/>
                    </a:lnTo>
                    <a:lnTo>
                      <a:pt x="0" y="0"/>
                    </a:lnTo>
                    <a:lnTo>
                      <a:pt x="3596" y="0"/>
                    </a:lnTo>
                    <a:lnTo>
                      <a:pt x="3579" y="16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09160" y="1762200"/>
                <a:ext cx="615600" cy="4680"/>
              </a:xfrm>
              <a:custGeom>
                <a:avLst/>
                <a:gdLst/>
                <a:ahLst/>
                <a:rect l="l" t="t" r="r" b="b"/>
                <a:pathLst>
                  <a:path w="3630" h="25">
                    <a:moveTo>
                      <a:pt x="3605" y="25"/>
                    </a:moveTo>
                    <a:lnTo>
                      <a:pt x="34" y="25"/>
                    </a:lnTo>
                    <a:lnTo>
                      <a:pt x="0" y="0"/>
                    </a:lnTo>
                    <a:lnTo>
                      <a:pt x="3630" y="0"/>
                    </a:lnTo>
                    <a:lnTo>
                      <a:pt x="3605" y="25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05920" y="1760760"/>
                <a:ext cx="618840" cy="4680"/>
              </a:xfrm>
              <a:custGeom>
                <a:avLst/>
                <a:gdLst/>
                <a:ahLst/>
                <a:rect l="l" t="t" r="r" b="b"/>
                <a:pathLst>
                  <a:path w="3656" h="26">
                    <a:moveTo>
                      <a:pt x="3630" y="26"/>
                    </a:moveTo>
                    <a:lnTo>
                      <a:pt x="34" y="26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3656" y="0"/>
                    </a:lnTo>
                    <a:lnTo>
                      <a:pt x="3630" y="26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04480" y="1758960"/>
                <a:ext cx="623520" cy="3240"/>
              </a:xfrm>
              <a:custGeom>
                <a:avLst/>
                <a:gdLst/>
                <a:ahLst/>
                <a:rect l="l" t="t" r="r" b="b"/>
                <a:pathLst>
                  <a:path w="3681" h="17">
                    <a:moveTo>
                      <a:pt x="3655" y="17"/>
                    </a:moveTo>
                    <a:lnTo>
                      <a:pt x="25" y="17"/>
                    </a:lnTo>
                    <a:lnTo>
                      <a:pt x="16" y="17"/>
                    </a:lnTo>
                    <a:lnTo>
                      <a:pt x="0" y="0"/>
                    </a:lnTo>
                    <a:lnTo>
                      <a:pt x="3681" y="0"/>
                    </a:lnTo>
                    <a:lnTo>
                      <a:pt x="3655" y="17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01240" y="1757520"/>
                <a:ext cx="628200" cy="3240"/>
              </a:xfrm>
              <a:custGeom>
                <a:avLst/>
                <a:gdLst/>
                <a:ahLst/>
                <a:rect l="l" t="t" r="r" b="b"/>
                <a:pathLst>
                  <a:path w="3706" h="17">
                    <a:moveTo>
                      <a:pt x="3681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3706" y="0"/>
                    </a:lnTo>
                    <a:lnTo>
                      <a:pt x="3681" y="17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099800" y="1755720"/>
                <a:ext cx="631440" cy="3240"/>
              </a:xfrm>
              <a:custGeom>
                <a:avLst/>
                <a:gdLst/>
                <a:ahLst/>
                <a:rect l="l" t="t" r="r" b="b"/>
                <a:pathLst>
                  <a:path w="3723" h="17">
                    <a:moveTo>
                      <a:pt x="3707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3723" y="0"/>
                    </a:lnTo>
                    <a:lnTo>
                      <a:pt x="3707" y="17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096560" y="1752480"/>
                <a:ext cx="637560" cy="5040"/>
              </a:xfrm>
              <a:custGeom>
                <a:avLst/>
                <a:gdLst/>
                <a:ahLst/>
                <a:rect l="l" t="t" r="r" b="b"/>
                <a:pathLst>
                  <a:path w="3757" h="25">
                    <a:moveTo>
                      <a:pt x="3732" y="25"/>
                    </a:moveTo>
                    <a:lnTo>
                      <a:pt x="26" y="25"/>
                    </a:lnTo>
                    <a:lnTo>
                      <a:pt x="0" y="0"/>
                    </a:lnTo>
                    <a:lnTo>
                      <a:pt x="3757" y="0"/>
                    </a:lnTo>
                    <a:lnTo>
                      <a:pt x="3732" y="25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094760" y="1751040"/>
                <a:ext cx="641160" cy="4680"/>
              </a:xfrm>
              <a:custGeom>
                <a:avLst/>
                <a:gdLst/>
                <a:ahLst/>
                <a:rect l="l" t="t" r="r" b="b"/>
                <a:pathLst>
                  <a:path w="3774" h="25">
                    <a:moveTo>
                      <a:pt x="3748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3774" y="0"/>
                    </a:lnTo>
                    <a:lnTo>
                      <a:pt x="3748" y="25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094760" y="1749600"/>
                <a:ext cx="642600" cy="2880"/>
              </a:xfrm>
              <a:custGeom>
                <a:avLst/>
                <a:gdLst/>
                <a:ahLst/>
                <a:rect l="l" t="t" r="r" b="b"/>
                <a:pathLst>
                  <a:path w="3790" h="17">
                    <a:moveTo>
                      <a:pt x="3773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3790" y="0"/>
                    </a:lnTo>
                    <a:lnTo>
                      <a:pt x="3773" y="17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091880" y="1746360"/>
                <a:ext cx="647280" cy="4680"/>
              </a:xfrm>
              <a:custGeom>
                <a:avLst/>
                <a:gdLst/>
                <a:ahLst/>
                <a:rect l="l" t="t" r="r" b="b"/>
                <a:pathLst>
                  <a:path w="3824" h="26">
                    <a:moveTo>
                      <a:pt x="3799" y="26"/>
                    </a:moveTo>
                    <a:lnTo>
                      <a:pt x="25" y="26"/>
                    </a:lnTo>
                    <a:lnTo>
                      <a:pt x="0" y="0"/>
                    </a:lnTo>
                    <a:lnTo>
                      <a:pt x="3824" y="0"/>
                    </a:lnTo>
                    <a:lnTo>
                      <a:pt x="3816" y="9"/>
                    </a:lnTo>
                    <a:lnTo>
                      <a:pt x="3799" y="26"/>
                    </a:lnTo>
                    <a:close/>
                  </a:path>
                </a:pathLst>
              </a:custGeom>
              <a:solidFill>
                <a:srgbClr val="ac6f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090080" y="1744560"/>
                <a:ext cx="649080" cy="5040"/>
              </a:xfrm>
              <a:custGeom>
                <a:avLst/>
                <a:gdLst/>
                <a:ahLst/>
                <a:rect l="l" t="t" r="r" b="b"/>
                <a:pathLst>
                  <a:path w="3833" h="25">
                    <a:moveTo>
                      <a:pt x="3816" y="25"/>
                    </a:moveTo>
                    <a:lnTo>
                      <a:pt x="26" y="25"/>
                    </a:lnTo>
                    <a:lnTo>
                      <a:pt x="0" y="0"/>
                    </a:lnTo>
                    <a:lnTo>
                      <a:pt x="3833" y="0"/>
                    </a:lnTo>
                    <a:lnTo>
                      <a:pt x="3825" y="17"/>
                    </a:lnTo>
                    <a:lnTo>
                      <a:pt x="3816" y="25"/>
                    </a:lnTo>
                    <a:close/>
                  </a:path>
                </a:pathLst>
              </a:custGeom>
              <a:solidFill>
                <a:srgbClr val="ac6f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086840" y="1743120"/>
                <a:ext cx="653760" cy="3240"/>
              </a:xfrm>
              <a:custGeom>
                <a:avLst/>
                <a:gdLst/>
                <a:ahLst/>
                <a:rect l="l" t="t" r="r" b="b"/>
                <a:pathLst>
                  <a:path w="3859" h="17">
                    <a:moveTo>
                      <a:pt x="3850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3859" y="0"/>
                    </a:lnTo>
                    <a:lnTo>
                      <a:pt x="3850" y="17"/>
                    </a:lnTo>
                    <a:close/>
                  </a:path>
                </a:pathLst>
              </a:custGeom>
              <a:solidFill>
                <a:srgbClr val="ac6f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085400" y="1741680"/>
                <a:ext cx="658440" cy="2880"/>
              </a:xfrm>
              <a:custGeom>
                <a:avLst/>
                <a:gdLst/>
                <a:ahLst/>
                <a:rect l="l" t="t" r="r" b="b"/>
                <a:pathLst>
                  <a:path w="3883" h="17">
                    <a:moveTo>
                      <a:pt x="3858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3883" y="0"/>
                    </a:lnTo>
                    <a:lnTo>
                      <a:pt x="3858" y="17"/>
                    </a:lnTo>
                    <a:close/>
                  </a:path>
                </a:pathLst>
              </a:custGeom>
              <a:solidFill>
                <a:srgbClr val="ab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083600" y="1739880"/>
                <a:ext cx="661680" cy="3240"/>
              </a:xfrm>
              <a:custGeom>
                <a:avLst/>
                <a:gdLst/>
                <a:ahLst/>
                <a:rect l="l" t="t" r="r" b="b"/>
                <a:pathLst>
                  <a:path w="3901" h="17">
                    <a:moveTo>
                      <a:pt x="3876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3901" y="0"/>
                    </a:lnTo>
                    <a:lnTo>
                      <a:pt x="3876" y="17"/>
                    </a:lnTo>
                    <a:close/>
                  </a:path>
                </a:pathLst>
              </a:custGeom>
              <a:solidFill>
                <a:srgbClr val="ab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080720" y="1736640"/>
                <a:ext cx="666360" cy="5040"/>
              </a:xfrm>
              <a:custGeom>
                <a:avLst/>
                <a:gdLst/>
                <a:ahLst/>
                <a:rect l="l" t="t" r="r" b="b"/>
                <a:pathLst>
                  <a:path w="3925" h="25">
                    <a:moveTo>
                      <a:pt x="3908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3925" y="0"/>
                    </a:lnTo>
                    <a:lnTo>
                      <a:pt x="3908" y="25"/>
                    </a:lnTo>
                    <a:close/>
                  </a:path>
                </a:pathLst>
              </a:custGeom>
              <a:solidFill>
                <a:srgbClr val="ad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080720" y="1735200"/>
                <a:ext cx="667800" cy="4680"/>
              </a:xfrm>
              <a:custGeom>
                <a:avLst/>
                <a:gdLst/>
                <a:ahLst/>
                <a:rect l="l" t="t" r="r" b="b"/>
                <a:pathLst>
                  <a:path w="3943" h="25">
                    <a:moveTo>
                      <a:pt x="3926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3943" y="0"/>
                    </a:lnTo>
                    <a:lnTo>
                      <a:pt x="3926" y="25"/>
                    </a:lnTo>
                    <a:close/>
                  </a:path>
                </a:pathLst>
              </a:custGeom>
              <a:solidFill>
                <a:srgbClr val="ad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077480" y="1733760"/>
                <a:ext cx="672840" cy="2880"/>
              </a:xfrm>
              <a:custGeom>
                <a:avLst/>
                <a:gdLst/>
                <a:ahLst/>
                <a:rect l="l" t="t" r="r" b="b"/>
                <a:pathLst>
                  <a:path w="3968" h="17">
                    <a:moveTo>
                      <a:pt x="3951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3968" y="0"/>
                    </a:lnTo>
                    <a:lnTo>
                      <a:pt x="3951" y="17"/>
                    </a:lnTo>
                    <a:close/>
                  </a:path>
                </a:pathLst>
              </a:custGeom>
              <a:solidFill>
                <a:srgbClr val="ad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75680" y="1731960"/>
                <a:ext cx="676080" cy="3240"/>
              </a:xfrm>
              <a:custGeom>
                <a:avLst/>
                <a:gdLst/>
                <a:ahLst/>
                <a:rect l="l" t="t" r="r" b="b"/>
                <a:pathLst>
                  <a:path w="3985" h="17">
                    <a:moveTo>
                      <a:pt x="3968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3985" y="0"/>
                    </a:lnTo>
                    <a:lnTo>
                      <a:pt x="3968" y="17"/>
                    </a:lnTo>
                    <a:close/>
                  </a:path>
                </a:pathLst>
              </a:custGeom>
              <a:solidFill>
                <a:srgbClr val="ad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72800" y="1728720"/>
                <a:ext cx="680400" cy="5040"/>
              </a:xfrm>
              <a:custGeom>
                <a:avLst/>
                <a:gdLst/>
                <a:ahLst/>
                <a:rect l="l" t="t" r="r" b="b"/>
                <a:pathLst>
                  <a:path w="4010" h="26">
                    <a:moveTo>
                      <a:pt x="3993" y="26"/>
                    </a:moveTo>
                    <a:lnTo>
                      <a:pt x="25" y="26"/>
                    </a:lnTo>
                    <a:lnTo>
                      <a:pt x="0" y="0"/>
                    </a:lnTo>
                    <a:lnTo>
                      <a:pt x="4010" y="0"/>
                    </a:lnTo>
                    <a:lnTo>
                      <a:pt x="3993" y="26"/>
                    </a:lnTo>
                    <a:close/>
                  </a:path>
                </a:pathLst>
              </a:custGeom>
              <a:solidFill>
                <a:srgbClr val="ae7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071000" y="1728720"/>
                <a:ext cx="684000" cy="3240"/>
              </a:xfrm>
              <a:custGeom>
                <a:avLst/>
                <a:gdLst/>
                <a:ahLst/>
                <a:rect l="l" t="t" r="r" b="b"/>
                <a:pathLst>
                  <a:path w="4028" h="25">
                    <a:moveTo>
                      <a:pt x="4011" y="25"/>
                    </a:moveTo>
                    <a:lnTo>
                      <a:pt x="26" y="25"/>
                    </a:lnTo>
                    <a:lnTo>
                      <a:pt x="0" y="0"/>
                    </a:lnTo>
                    <a:lnTo>
                      <a:pt x="4028" y="0"/>
                    </a:lnTo>
                    <a:lnTo>
                      <a:pt x="4011" y="25"/>
                    </a:lnTo>
                    <a:close/>
                  </a:path>
                </a:pathLst>
              </a:custGeom>
              <a:solidFill>
                <a:srgbClr val="ae7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069560" y="1727280"/>
                <a:ext cx="685440" cy="1440"/>
              </a:xfrm>
              <a:custGeom>
                <a:avLst/>
                <a:gdLst/>
                <a:ahLst/>
                <a:rect l="l" t="t" r="r" b="b"/>
                <a:pathLst>
                  <a:path w="4044" h="16">
                    <a:moveTo>
                      <a:pt x="4027" y="16"/>
                    </a:moveTo>
                    <a:lnTo>
                      <a:pt x="17" y="16"/>
                    </a:lnTo>
                    <a:lnTo>
                      <a:pt x="0" y="0"/>
                    </a:lnTo>
                    <a:lnTo>
                      <a:pt x="4044" y="0"/>
                    </a:lnTo>
                    <a:lnTo>
                      <a:pt x="4027" y="16"/>
                    </a:lnTo>
                    <a:close/>
                  </a:path>
                </a:pathLst>
              </a:custGeom>
              <a:solidFill>
                <a:srgbClr val="ae7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066320" y="1725480"/>
                <a:ext cx="690120" cy="3240"/>
              </a:xfrm>
              <a:custGeom>
                <a:avLst/>
                <a:gdLst/>
                <a:ahLst/>
                <a:rect l="l" t="t" r="r" b="b"/>
                <a:pathLst>
                  <a:path w="4069" h="17">
                    <a:moveTo>
                      <a:pt x="4053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4069" y="0"/>
                    </a:lnTo>
                    <a:lnTo>
                      <a:pt x="4053" y="17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066320" y="1724040"/>
                <a:ext cx="691920" cy="3240"/>
              </a:xfrm>
              <a:custGeom>
                <a:avLst/>
                <a:gdLst/>
                <a:ahLst/>
                <a:rect l="l" t="t" r="r" b="b"/>
                <a:pathLst>
                  <a:path w="4086" h="17">
                    <a:moveTo>
                      <a:pt x="4069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4086" y="0"/>
                    </a:lnTo>
                    <a:lnTo>
                      <a:pt x="4069" y="17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063080" y="1720800"/>
                <a:ext cx="696600" cy="4680"/>
              </a:xfrm>
              <a:custGeom>
                <a:avLst/>
                <a:gdLst/>
                <a:ahLst/>
                <a:rect l="l" t="t" r="r" b="b"/>
                <a:pathLst>
                  <a:path w="4111" h="25">
                    <a:moveTo>
                      <a:pt x="4094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4111" y="0"/>
                    </a:lnTo>
                    <a:lnTo>
                      <a:pt x="4094" y="25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061640" y="1719360"/>
                <a:ext cx="699480" cy="4680"/>
              </a:xfrm>
              <a:custGeom>
                <a:avLst/>
                <a:gdLst/>
                <a:ahLst/>
                <a:rect l="l" t="t" r="r" b="b"/>
                <a:pathLst>
                  <a:path w="4129" h="26">
                    <a:moveTo>
                      <a:pt x="4112" y="26"/>
                    </a:moveTo>
                    <a:lnTo>
                      <a:pt x="26" y="26"/>
                    </a:lnTo>
                    <a:lnTo>
                      <a:pt x="0" y="0"/>
                    </a:lnTo>
                    <a:lnTo>
                      <a:pt x="4129" y="0"/>
                    </a:lnTo>
                    <a:lnTo>
                      <a:pt x="4129" y="0"/>
                    </a:lnTo>
                    <a:lnTo>
                      <a:pt x="4112" y="26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059840" y="1717560"/>
                <a:ext cx="703080" cy="3240"/>
              </a:xfrm>
              <a:custGeom>
                <a:avLst/>
                <a:gdLst/>
                <a:ahLst/>
                <a:rect l="l" t="t" r="r" b="b"/>
                <a:pathLst>
                  <a:path w="4145" h="17">
                    <a:moveTo>
                      <a:pt x="4128" y="17"/>
                    </a:moveTo>
                    <a:lnTo>
                      <a:pt x="17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145" y="0"/>
                    </a:lnTo>
                    <a:lnTo>
                      <a:pt x="4137" y="8"/>
                    </a:lnTo>
                    <a:lnTo>
                      <a:pt x="4128" y="17"/>
                    </a:lnTo>
                    <a:close/>
                  </a:path>
                </a:pathLst>
              </a:custGeom>
              <a:solidFill>
                <a:srgbClr val="af7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056600" y="1716120"/>
                <a:ext cx="707760" cy="3240"/>
              </a:xfrm>
              <a:custGeom>
                <a:avLst/>
                <a:gdLst/>
                <a:ahLst/>
                <a:rect l="l" t="t" r="r" b="b"/>
                <a:pathLst>
                  <a:path w="4171" h="17">
                    <a:moveTo>
                      <a:pt x="4154" y="17"/>
                    </a:moveTo>
                    <a:lnTo>
                      <a:pt x="25" y="17"/>
                    </a:lnTo>
                    <a:lnTo>
                      <a:pt x="17" y="17"/>
                    </a:lnTo>
                    <a:lnTo>
                      <a:pt x="0" y="0"/>
                    </a:lnTo>
                    <a:lnTo>
                      <a:pt x="4171" y="0"/>
                    </a:lnTo>
                    <a:lnTo>
                      <a:pt x="4154" y="17"/>
                    </a:lnTo>
                    <a:close/>
                  </a:path>
                </a:pathLst>
              </a:custGeom>
              <a:solidFill>
                <a:srgbClr val="af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1055160" y="1712880"/>
                <a:ext cx="711000" cy="4680"/>
              </a:xfrm>
              <a:custGeom>
                <a:avLst/>
                <a:gdLst/>
                <a:ahLst/>
                <a:rect l="l" t="t" r="r" b="b"/>
                <a:pathLst>
                  <a:path w="4187" h="25">
                    <a:moveTo>
                      <a:pt x="4170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4187" y="0"/>
                    </a:lnTo>
                    <a:lnTo>
                      <a:pt x="4170" y="25"/>
                    </a:lnTo>
                    <a:close/>
                  </a:path>
                </a:pathLst>
              </a:custGeom>
              <a:solidFill>
                <a:srgbClr val="af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053720" y="1711440"/>
                <a:ext cx="713880" cy="4680"/>
              </a:xfrm>
              <a:custGeom>
                <a:avLst/>
                <a:gdLst/>
                <a:ahLst/>
                <a:rect l="l" t="t" r="r" b="b"/>
                <a:pathLst>
                  <a:path w="4205" h="25">
                    <a:moveTo>
                      <a:pt x="4188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205" y="0"/>
                    </a:lnTo>
                    <a:lnTo>
                      <a:pt x="4188" y="25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051920" y="1709640"/>
                <a:ext cx="717120" cy="3240"/>
              </a:xfrm>
              <a:custGeom>
                <a:avLst/>
                <a:gdLst/>
                <a:ahLst/>
                <a:rect l="l" t="t" r="r" b="b"/>
                <a:pathLst>
                  <a:path w="4221" h="17">
                    <a:moveTo>
                      <a:pt x="420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221" y="0"/>
                    </a:lnTo>
                    <a:lnTo>
                      <a:pt x="4204" y="17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050480" y="1708200"/>
                <a:ext cx="718560" cy="3240"/>
              </a:xfrm>
              <a:custGeom>
                <a:avLst/>
                <a:gdLst/>
                <a:ahLst/>
                <a:rect l="l" t="t" r="r" b="b"/>
                <a:pathLst>
                  <a:path w="4246" h="17">
                    <a:moveTo>
                      <a:pt x="4230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4246" y="0"/>
                    </a:lnTo>
                    <a:lnTo>
                      <a:pt x="4230" y="17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048680" y="1706760"/>
                <a:ext cx="722160" cy="2880"/>
              </a:xfrm>
              <a:custGeom>
                <a:avLst/>
                <a:gdLst/>
                <a:ahLst/>
                <a:rect l="l" t="t" r="r" b="b"/>
                <a:pathLst>
                  <a:path w="4264" h="17">
                    <a:moveTo>
                      <a:pt x="4247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4264" y="0"/>
                    </a:lnTo>
                    <a:lnTo>
                      <a:pt x="4247" y="17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047240" y="1703520"/>
                <a:ext cx="723600" cy="4680"/>
              </a:xfrm>
              <a:custGeom>
                <a:avLst/>
                <a:gdLst/>
                <a:ahLst/>
                <a:rect l="l" t="t" r="r" b="b"/>
                <a:pathLst>
                  <a:path w="4272" h="25">
                    <a:moveTo>
                      <a:pt x="4263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272" y="0"/>
                    </a:lnTo>
                    <a:lnTo>
                      <a:pt x="4263" y="25"/>
                    </a:lnTo>
                    <a:close/>
                  </a:path>
                </a:pathLst>
              </a:custGeom>
              <a:solidFill>
                <a:srgbClr val="b1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834840" y="1260360"/>
              <a:ext cx="1060200" cy="601920"/>
              <a:chOff x="834840" y="1260360"/>
              <a:chExt cx="1060200" cy="601920"/>
            </a:xfrm>
          </p:grpSpPr>
          <p:sp>
            <p:nvSpPr>
              <p:cNvPr id="668" name=""/>
              <p:cNvSpPr/>
              <p:nvPr/>
            </p:nvSpPr>
            <p:spPr>
              <a:xfrm>
                <a:off x="1045800" y="1701720"/>
                <a:ext cx="726480" cy="5040"/>
              </a:xfrm>
              <a:custGeom>
                <a:avLst/>
                <a:gdLst/>
                <a:ahLst/>
                <a:rect l="l" t="t" r="r" b="b"/>
                <a:pathLst>
                  <a:path w="4289" h="26">
                    <a:moveTo>
                      <a:pt x="4281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4289" y="0"/>
                    </a:lnTo>
                    <a:lnTo>
                      <a:pt x="4281" y="26"/>
                    </a:lnTo>
                    <a:close/>
                  </a:path>
                </a:pathLst>
              </a:custGeom>
              <a:solidFill>
                <a:srgbClr val="b173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44000" y="1700280"/>
                <a:ext cx="730080" cy="3240"/>
              </a:xfrm>
              <a:custGeom>
                <a:avLst/>
                <a:gdLst/>
                <a:ahLst/>
                <a:rect l="l" t="t" r="r" b="b"/>
                <a:pathLst>
                  <a:path w="4306" h="17">
                    <a:moveTo>
                      <a:pt x="4289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306" y="0"/>
                    </a:lnTo>
                    <a:lnTo>
                      <a:pt x="4289" y="17"/>
                    </a:lnTo>
                    <a:close/>
                  </a:path>
                </a:pathLst>
              </a:custGeom>
              <a:solidFill>
                <a:srgbClr val="b173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42560" y="1697040"/>
                <a:ext cx="732960" cy="4680"/>
              </a:xfrm>
              <a:custGeom>
                <a:avLst/>
                <a:gdLst/>
                <a:ahLst/>
                <a:rect l="l" t="t" r="r" b="b"/>
                <a:pathLst>
                  <a:path w="4322" h="25">
                    <a:moveTo>
                      <a:pt x="4305" y="25"/>
                    </a:moveTo>
                    <a:lnTo>
                      <a:pt x="16" y="25"/>
                    </a:lnTo>
                    <a:lnTo>
                      <a:pt x="0" y="0"/>
                    </a:lnTo>
                    <a:lnTo>
                      <a:pt x="4322" y="0"/>
                    </a:lnTo>
                    <a:lnTo>
                      <a:pt x="4305" y="25"/>
                    </a:lnTo>
                    <a:close/>
                  </a:path>
                </a:pathLst>
              </a:custGeom>
              <a:solidFill>
                <a:srgbClr val="b2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039320" y="1695600"/>
                <a:ext cx="738000" cy="4680"/>
              </a:xfrm>
              <a:custGeom>
                <a:avLst/>
                <a:gdLst/>
                <a:ahLst/>
                <a:rect l="l" t="t" r="r" b="b"/>
                <a:pathLst>
                  <a:path w="4348" h="25">
                    <a:moveTo>
                      <a:pt x="4331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4348" y="0"/>
                    </a:lnTo>
                    <a:lnTo>
                      <a:pt x="4331" y="25"/>
                    </a:lnTo>
                    <a:close/>
                  </a:path>
                </a:pathLst>
              </a:custGeom>
              <a:solidFill>
                <a:srgbClr val="b2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037880" y="1693800"/>
                <a:ext cx="740880" cy="3240"/>
              </a:xfrm>
              <a:custGeom>
                <a:avLst/>
                <a:gdLst/>
                <a:ahLst/>
                <a:rect l="l" t="t" r="r" b="b"/>
                <a:pathLst>
                  <a:path w="4365" h="17">
                    <a:moveTo>
                      <a:pt x="4348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4365" y="0"/>
                    </a:lnTo>
                    <a:lnTo>
                      <a:pt x="4348" y="17"/>
                    </a:lnTo>
                    <a:close/>
                  </a:path>
                </a:pathLst>
              </a:custGeom>
              <a:solidFill>
                <a:srgbClr val="b2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036080" y="1692360"/>
                <a:ext cx="744120" cy="3240"/>
              </a:xfrm>
              <a:custGeom>
                <a:avLst/>
                <a:gdLst/>
                <a:ahLst/>
                <a:rect l="l" t="t" r="r" b="b"/>
                <a:pathLst>
                  <a:path w="4382" h="17">
                    <a:moveTo>
                      <a:pt x="436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382" y="0"/>
                    </a:lnTo>
                    <a:lnTo>
                      <a:pt x="4365" y="17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036080" y="1690560"/>
                <a:ext cx="745920" cy="3240"/>
              </a:xfrm>
              <a:custGeom>
                <a:avLst/>
                <a:gdLst/>
                <a:ahLst/>
                <a:rect l="l" t="t" r="r" b="b"/>
                <a:pathLst>
                  <a:path w="4399" h="17">
                    <a:moveTo>
                      <a:pt x="4382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399" y="0"/>
                    </a:lnTo>
                    <a:lnTo>
                      <a:pt x="4382" y="17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034640" y="1689120"/>
                <a:ext cx="747360" cy="3240"/>
              </a:xfrm>
              <a:custGeom>
                <a:avLst/>
                <a:gdLst/>
                <a:ahLst/>
                <a:rect l="l" t="t" r="r" b="b"/>
                <a:pathLst>
                  <a:path w="4407" h="17">
                    <a:moveTo>
                      <a:pt x="4399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407" y="0"/>
                    </a:lnTo>
                    <a:lnTo>
                      <a:pt x="4399" y="17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032840" y="1685880"/>
                <a:ext cx="749160" cy="4680"/>
              </a:xfrm>
              <a:custGeom>
                <a:avLst/>
                <a:gdLst/>
                <a:ahLst/>
                <a:rect l="l" t="t" r="r" b="b"/>
                <a:pathLst>
                  <a:path w="4424" h="25">
                    <a:moveTo>
                      <a:pt x="4416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424" y="0"/>
                    </a:lnTo>
                    <a:lnTo>
                      <a:pt x="4416" y="25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029960" y="1684440"/>
                <a:ext cx="753480" cy="4680"/>
              </a:xfrm>
              <a:custGeom>
                <a:avLst/>
                <a:gdLst/>
                <a:ahLst/>
                <a:rect l="l" t="t" r="r" b="b"/>
                <a:pathLst>
                  <a:path w="4449" h="25">
                    <a:moveTo>
                      <a:pt x="4432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4449" y="0"/>
                    </a:lnTo>
                    <a:lnTo>
                      <a:pt x="4432" y="25"/>
                    </a:lnTo>
                    <a:close/>
                  </a:path>
                </a:pathLst>
              </a:custGeom>
              <a:solidFill>
                <a:srgbClr val="b37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028160" y="1682640"/>
                <a:ext cx="757080" cy="3240"/>
              </a:xfrm>
              <a:custGeom>
                <a:avLst/>
                <a:gdLst/>
                <a:ahLst/>
                <a:rect l="l" t="t" r="r" b="b"/>
                <a:pathLst>
                  <a:path w="4466" h="17">
                    <a:moveTo>
                      <a:pt x="4449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4466" y="0"/>
                    </a:lnTo>
                    <a:lnTo>
                      <a:pt x="4449" y="17"/>
                    </a:lnTo>
                    <a:close/>
                  </a:path>
                </a:pathLst>
              </a:custGeom>
              <a:solidFill>
                <a:srgbClr val="b37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026720" y="1679760"/>
                <a:ext cx="759960" cy="4680"/>
              </a:xfrm>
              <a:custGeom>
                <a:avLst/>
                <a:gdLst/>
                <a:ahLst/>
                <a:rect l="l" t="t" r="r" b="b"/>
                <a:pathLst>
                  <a:path w="4483" h="26">
                    <a:moveTo>
                      <a:pt x="4466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4483" y="0"/>
                    </a:lnTo>
                    <a:lnTo>
                      <a:pt x="4466" y="26"/>
                    </a:lnTo>
                    <a:close/>
                  </a:path>
                </a:pathLst>
              </a:custGeom>
              <a:solidFill>
                <a:srgbClr val="b37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024920" y="1679760"/>
                <a:ext cx="763200" cy="2880"/>
              </a:xfrm>
              <a:custGeom>
                <a:avLst/>
                <a:gdLst/>
                <a:ahLst/>
                <a:rect l="l" t="t" r="r" b="b"/>
                <a:pathLst>
                  <a:path w="4500" h="25">
                    <a:moveTo>
                      <a:pt x="4483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500" y="0"/>
                    </a:lnTo>
                    <a:lnTo>
                      <a:pt x="4483" y="25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21680" y="1676520"/>
                <a:ext cx="768240" cy="3240"/>
              </a:xfrm>
              <a:custGeom>
                <a:avLst/>
                <a:gdLst/>
                <a:ahLst/>
                <a:rect l="l" t="t" r="r" b="b"/>
                <a:pathLst>
                  <a:path w="4526" h="17">
                    <a:moveTo>
                      <a:pt x="4509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4526" y="0"/>
                    </a:lnTo>
                    <a:lnTo>
                      <a:pt x="4509" y="17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021680" y="1676520"/>
                <a:ext cx="769680" cy="3240"/>
              </a:xfrm>
              <a:custGeom>
                <a:avLst/>
                <a:gdLst/>
                <a:ahLst/>
                <a:rect l="l" t="t" r="r" b="b"/>
                <a:pathLst>
                  <a:path w="4542" h="17">
                    <a:moveTo>
                      <a:pt x="4525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4542" y="0"/>
                    </a:lnTo>
                    <a:lnTo>
                      <a:pt x="4525" y="17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020240" y="1674720"/>
                <a:ext cx="772920" cy="1800"/>
              </a:xfrm>
              <a:custGeom>
                <a:avLst/>
                <a:gdLst/>
                <a:ahLst/>
                <a:rect l="l" t="t" r="r" b="b"/>
                <a:pathLst>
                  <a:path w="4559" h="17">
                    <a:moveTo>
                      <a:pt x="454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559" y="0"/>
                    </a:lnTo>
                    <a:lnTo>
                      <a:pt x="4543" y="17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018800" y="1673280"/>
                <a:ext cx="774360" cy="3240"/>
              </a:xfrm>
              <a:custGeom>
                <a:avLst/>
                <a:gdLst/>
                <a:ahLst/>
                <a:rect l="l" t="t" r="r" b="b"/>
                <a:pathLst>
                  <a:path w="4567" h="17">
                    <a:moveTo>
                      <a:pt x="4559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567" y="0"/>
                    </a:lnTo>
                    <a:lnTo>
                      <a:pt x="4559" y="17"/>
                    </a:lnTo>
                    <a:close/>
                  </a:path>
                </a:pathLst>
              </a:custGeom>
              <a:solidFill>
                <a:srgbClr val="b5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017000" y="1670040"/>
                <a:ext cx="779040" cy="4680"/>
              </a:xfrm>
              <a:custGeom>
                <a:avLst/>
                <a:gdLst/>
                <a:ahLst/>
                <a:rect l="l" t="t" r="r" b="b"/>
                <a:pathLst>
                  <a:path w="4592" h="25">
                    <a:moveTo>
                      <a:pt x="4575" y="25"/>
                    </a:moveTo>
                    <a:lnTo>
                      <a:pt x="16" y="25"/>
                    </a:lnTo>
                    <a:lnTo>
                      <a:pt x="0" y="0"/>
                    </a:lnTo>
                    <a:lnTo>
                      <a:pt x="4592" y="0"/>
                    </a:lnTo>
                    <a:lnTo>
                      <a:pt x="4575" y="25"/>
                    </a:lnTo>
                    <a:close/>
                  </a:path>
                </a:pathLst>
              </a:custGeom>
              <a:solidFill>
                <a:srgbClr val="b5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013760" y="1668600"/>
                <a:ext cx="782280" cy="4680"/>
              </a:xfrm>
              <a:custGeom>
                <a:avLst/>
                <a:gdLst/>
                <a:ahLst/>
                <a:rect l="l" t="t" r="r" b="b"/>
                <a:pathLst>
                  <a:path w="4609" h="25">
                    <a:moveTo>
                      <a:pt x="4592" y="25"/>
                    </a:moveTo>
                    <a:lnTo>
                      <a:pt x="25" y="25"/>
                    </a:lnTo>
                    <a:lnTo>
                      <a:pt x="0" y="0"/>
                    </a:lnTo>
                    <a:lnTo>
                      <a:pt x="4609" y="0"/>
                    </a:lnTo>
                    <a:lnTo>
                      <a:pt x="4592" y="25"/>
                    </a:lnTo>
                    <a:close/>
                  </a:path>
                </a:pathLst>
              </a:custGeom>
              <a:solidFill>
                <a:srgbClr val="b5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012320" y="1666800"/>
                <a:ext cx="785520" cy="3240"/>
              </a:xfrm>
              <a:custGeom>
                <a:avLst/>
                <a:gdLst/>
                <a:ahLst/>
                <a:rect l="l" t="t" r="r" b="b"/>
                <a:pathLst>
                  <a:path w="4627" h="17">
                    <a:moveTo>
                      <a:pt x="4618" y="17"/>
                    </a:moveTo>
                    <a:lnTo>
                      <a:pt x="26" y="17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4627" y="0"/>
                    </a:lnTo>
                    <a:lnTo>
                      <a:pt x="4618" y="17"/>
                    </a:lnTo>
                    <a:close/>
                  </a:path>
                </a:pathLst>
              </a:custGeom>
              <a:solidFill>
                <a:srgbClr val="b67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012320" y="1663920"/>
                <a:ext cx="785520" cy="4680"/>
              </a:xfrm>
              <a:custGeom>
                <a:avLst/>
                <a:gdLst/>
                <a:ahLst/>
                <a:rect l="l" t="t" r="r" b="b"/>
                <a:pathLst>
                  <a:path w="4635" h="26">
                    <a:moveTo>
                      <a:pt x="4618" y="26"/>
                    </a:moveTo>
                    <a:lnTo>
                      <a:pt x="9" y="26"/>
                    </a:lnTo>
                    <a:lnTo>
                      <a:pt x="9" y="26"/>
                    </a:lnTo>
                    <a:lnTo>
                      <a:pt x="0" y="0"/>
                    </a:lnTo>
                    <a:lnTo>
                      <a:pt x="4635" y="0"/>
                    </a:lnTo>
                    <a:lnTo>
                      <a:pt x="4618" y="26"/>
                    </a:lnTo>
                    <a:close/>
                  </a:path>
                </a:pathLst>
              </a:custGeom>
              <a:solidFill>
                <a:srgbClr val="b67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09080" y="1662120"/>
                <a:ext cx="790200" cy="4680"/>
              </a:xfrm>
              <a:custGeom>
                <a:avLst/>
                <a:gdLst/>
                <a:ahLst/>
                <a:rect l="l" t="t" r="r" b="b"/>
                <a:pathLst>
                  <a:path w="4661" h="25">
                    <a:moveTo>
                      <a:pt x="4644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661" y="0"/>
                    </a:lnTo>
                    <a:lnTo>
                      <a:pt x="4644" y="25"/>
                    </a:lnTo>
                    <a:close/>
                  </a:path>
                </a:pathLst>
              </a:custGeom>
              <a:solidFill>
                <a:srgbClr val="b67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007640" y="1660680"/>
                <a:ext cx="793440" cy="3240"/>
              </a:xfrm>
              <a:custGeom>
                <a:avLst/>
                <a:gdLst/>
                <a:ahLst/>
                <a:rect l="l" t="t" r="r" b="b"/>
                <a:pathLst>
                  <a:path w="4677" h="17">
                    <a:moveTo>
                      <a:pt x="4660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4677" y="0"/>
                    </a:lnTo>
                    <a:lnTo>
                      <a:pt x="4660" y="17"/>
                    </a:lnTo>
                    <a:close/>
                  </a:path>
                </a:pathLst>
              </a:custGeom>
              <a:solidFill>
                <a:srgbClr val="b7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05840" y="1658880"/>
                <a:ext cx="796680" cy="3240"/>
              </a:xfrm>
              <a:custGeom>
                <a:avLst/>
                <a:gdLst/>
                <a:ahLst/>
                <a:rect l="l" t="t" r="r" b="b"/>
                <a:pathLst>
                  <a:path w="4695" h="17">
                    <a:moveTo>
                      <a:pt x="4678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695" y="0"/>
                    </a:lnTo>
                    <a:lnTo>
                      <a:pt x="4678" y="17"/>
                    </a:lnTo>
                    <a:close/>
                  </a:path>
                </a:pathLst>
              </a:custGeom>
              <a:solidFill>
                <a:srgbClr val="b7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05840" y="1657440"/>
                <a:ext cx="798120" cy="3240"/>
              </a:xfrm>
              <a:custGeom>
                <a:avLst/>
                <a:gdLst/>
                <a:ahLst/>
                <a:rect l="l" t="t" r="r" b="b"/>
                <a:pathLst>
                  <a:path w="4703" h="16">
                    <a:moveTo>
                      <a:pt x="4686" y="16"/>
                    </a:moveTo>
                    <a:lnTo>
                      <a:pt x="9" y="16"/>
                    </a:lnTo>
                    <a:lnTo>
                      <a:pt x="0" y="0"/>
                    </a:lnTo>
                    <a:lnTo>
                      <a:pt x="4703" y="0"/>
                    </a:lnTo>
                    <a:lnTo>
                      <a:pt x="4686" y="16"/>
                    </a:lnTo>
                    <a:close/>
                  </a:path>
                </a:pathLst>
              </a:custGeom>
              <a:solidFill>
                <a:srgbClr val="b7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004400" y="1655640"/>
                <a:ext cx="801360" cy="3240"/>
              </a:xfrm>
              <a:custGeom>
                <a:avLst/>
                <a:gdLst/>
                <a:ahLst/>
                <a:rect l="l" t="t" r="r" b="b"/>
                <a:pathLst>
                  <a:path w="4727" h="17">
                    <a:moveTo>
                      <a:pt x="4711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4727" y="0"/>
                    </a:lnTo>
                    <a:lnTo>
                      <a:pt x="4711" y="17"/>
                    </a:lnTo>
                    <a:close/>
                  </a:path>
                </a:pathLst>
              </a:custGeom>
              <a:solidFill>
                <a:srgbClr val="b7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002960" y="1652760"/>
                <a:ext cx="802800" cy="4680"/>
              </a:xfrm>
              <a:custGeom>
                <a:avLst/>
                <a:gdLst/>
                <a:ahLst/>
                <a:rect l="l" t="t" r="r" b="b"/>
                <a:pathLst>
                  <a:path w="4736" h="26">
                    <a:moveTo>
                      <a:pt x="4728" y="26"/>
                    </a:moveTo>
                    <a:lnTo>
                      <a:pt x="25" y="26"/>
                    </a:lnTo>
                    <a:lnTo>
                      <a:pt x="0" y="0"/>
                    </a:lnTo>
                    <a:lnTo>
                      <a:pt x="4736" y="0"/>
                    </a:lnTo>
                    <a:lnTo>
                      <a:pt x="4728" y="26"/>
                    </a:lnTo>
                    <a:close/>
                  </a:path>
                </a:pathLst>
              </a:custGeom>
              <a:solidFill>
                <a:srgbClr val="b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001160" y="1650960"/>
                <a:ext cx="806040" cy="4680"/>
              </a:xfrm>
              <a:custGeom>
                <a:avLst/>
                <a:gdLst/>
                <a:ahLst/>
                <a:rect l="l" t="t" r="r" b="b"/>
                <a:pathLst>
                  <a:path w="4753" h="25">
                    <a:moveTo>
                      <a:pt x="4744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753" y="0"/>
                    </a:lnTo>
                    <a:lnTo>
                      <a:pt x="4753" y="8"/>
                    </a:lnTo>
                    <a:lnTo>
                      <a:pt x="4744" y="25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001160" y="1649520"/>
                <a:ext cx="807840" cy="3240"/>
              </a:xfrm>
              <a:custGeom>
                <a:avLst/>
                <a:gdLst/>
                <a:ahLst/>
                <a:rect l="l" t="t" r="r" b="b"/>
                <a:pathLst>
                  <a:path w="4761" h="17">
                    <a:moveTo>
                      <a:pt x="4744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2499" y="0"/>
                    </a:lnTo>
                    <a:lnTo>
                      <a:pt x="2651" y="9"/>
                    </a:lnTo>
                    <a:lnTo>
                      <a:pt x="2972" y="0"/>
                    </a:lnTo>
                    <a:lnTo>
                      <a:pt x="2980" y="0"/>
                    </a:lnTo>
                    <a:lnTo>
                      <a:pt x="4761" y="0"/>
                    </a:lnTo>
                    <a:lnTo>
                      <a:pt x="4753" y="17"/>
                    </a:lnTo>
                    <a:lnTo>
                      <a:pt x="4744" y="17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997920" y="1646280"/>
                <a:ext cx="812520" cy="4680"/>
              </a:xfrm>
              <a:custGeom>
                <a:avLst/>
                <a:gdLst/>
                <a:ahLst/>
                <a:rect l="l" t="t" r="r" b="b"/>
                <a:pathLst>
                  <a:path w="4787" h="26">
                    <a:moveTo>
                      <a:pt x="4770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2322" y="0"/>
                    </a:lnTo>
                    <a:lnTo>
                      <a:pt x="2668" y="26"/>
                    </a:lnTo>
                    <a:lnTo>
                      <a:pt x="2989" y="17"/>
                    </a:lnTo>
                    <a:lnTo>
                      <a:pt x="3090" y="0"/>
                    </a:lnTo>
                    <a:lnTo>
                      <a:pt x="4787" y="0"/>
                    </a:lnTo>
                    <a:lnTo>
                      <a:pt x="4770" y="26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996480" y="1644840"/>
                <a:ext cx="815760" cy="4680"/>
              </a:xfrm>
              <a:custGeom>
                <a:avLst/>
                <a:gdLst/>
                <a:ahLst/>
                <a:rect l="l" t="t" r="r" b="b"/>
                <a:pathLst>
                  <a:path w="4804" h="25">
                    <a:moveTo>
                      <a:pt x="4787" y="25"/>
                    </a:moveTo>
                    <a:lnTo>
                      <a:pt x="3006" y="25"/>
                    </a:lnTo>
                    <a:lnTo>
                      <a:pt x="3200" y="0"/>
                    </a:lnTo>
                    <a:lnTo>
                      <a:pt x="4804" y="0"/>
                    </a:lnTo>
                    <a:lnTo>
                      <a:pt x="4787" y="25"/>
                    </a:lnTo>
                    <a:close/>
                    <a:moveTo>
                      <a:pt x="2525" y="25"/>
                    </a:moveTo>
                    <a:lnTo>
                      <a:pt x="26" y="25"/>
                    </a:lnTo>
                    <a:lnTo>
                      <a:pt x="0" y="0"/>
                    </a:lnTo>
                    <a:lnTo>
                      <a:pt x="2204" y="0"/>
                    </a:lnTo>
                    <a:lnTo>
                      <a:pt x="2246" y="8"/>
                    </a:lnTo>
                    <a:lnTo>
                      <a:pt x="2525" y="25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995040" y="1643040"/>
                <a:ext cx="817200" cy="3240"/>
              </a:xfrm>
              <a:custGeom>
                <a:avLst/>
                <a:gdLst/>
                <a:ahLst/>
                <a:rect l="l" t="t" r="r" b="b"/>
                <a:pathLst>
                  <a:path w="4812" h="16">
                    <a:moveTo>
                      <a:pt x="4804" y="16"/>
                    </a:moveTo>
                    <a:lnTo>
                      <a:pt x="3107" y="16"/>
                    </a:lnTo>
                    <a:lnTo>
                      <a:pt x="3318" y="0"/>
                    </a:lnTo>
                    <a:lnTo>
                      <a:pt x="3318" y="0"/>
                    </a:lnTo>
                    <a:lnTo>
                      <a:pt x="4812" y="0"/>
                    </a:lnTo>
                    <a:lnTo>
                      <a:pt x="4804" y="16"/>
                    </a:lnTo>
                    <a:close/>
                    <a:moveTo>
                      <a:pt x="2339" y="16"/>
                    </a:moveTo>
                    <a:lnTo>
                      <a:pt x="17" y="16"/>
                    </a:lnTo>
                    <a:lnTo>
                      <a:pt x="0" y="0"/>
                    </a:lnTo>
                    <a:lnTo>
                      <a:pt x="2136" y="0"/>
                    </a:lnTo>
                    <a:lnTo>
                      <a:pt x="2254" y="16"/>
                    </a:lnTo>
                    <a:lnTo>
                      <a:pt x="2339" y="16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993240" y="1641600"/>
                <a:ext cx="820440" cy="3240"/>
              </a:xfrm>
              <a:custGeom>
                <a:avLst/>
                <a:gdLst/>
                <a:ahLst/>
                <a:rect l="l" t="t" r="r" b="b"/>
                <a:pathLst>
                  <a:path w="4829" h="17">
                    <a:moveTo>
                      <a:pt x="4820" y="17"/>
                    </a:moveTo>
                    <a:lnTo>
                      <a:pt x="3216" y="17"/>
                    </a:lnTo>
                    <a:lnTo>
                      <a:pt x="3326" y="9"/>
                    </a:lnTo>
                    <a:lnTo>
                      <a:pt x="3385" y="0"/>
                    </a:lnTo>
                    <a:lnTo>
                      <a:pt x="4829" y="0"/>
                    </a:lnTo>
                    <a:lnTo>
                      <a:pt x="4820" y="17"/>
                    </a:lnTo>
                    <a:close/>
                    <a:moveTo>
                      <a:pt x="2220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2068" y="0"/>
                    </a:lnTo>
                    <a:lnTo>
                      <a:pt x="2220" y="17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91800" y="1639800"/>
                <a:ext cx="821880" cy="3240"/>
              </a:xfrm>
              <a:custGeom>
                <a:avLst/>
                <a:gdLst/>
                <a:ahLst/>
                <a:rect l="l" t="t" r="r" b="b"/>
                <a:pathLst>
                  <a:path w="4846" h="17">
                    <a:moveTo>
                      <a:pt x="4829" y="17"/>
                    </a:moveTo>
                    <a:lnTo>
                      <a:pt x="3335" y="17"/>
                    </a:lnTo>
                    <a:lnTo>
                      <a:pt x="3462" y="0"/>
                    </a:lnTo>
                    <a:lnTo>
                      <a:pt x="4846" y="0"/>
                    </a:lnTo>
                    <a:lnTo>
                      <a:pt x="4829" y="17"/>
                    </a:lnTo>
                    <a:close/>
                    <a:moveTo>
                      <a:pt x="215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2001" y="0"/>
                    </a:lnTo>
                    <a:lnTo>
                      <a:pt x="2153" y="17"/>
                    </a:lnTo>
                    <a:close/>
                  </a:path>
                </a:pathLst>
              </a:custGeom>
              <a:solidFill>
                <a:srgbClr val="b97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991800" y="1638360"/>
                <a:ext cx="823320" cy="3240"/>
              </a:xfrm>
              <a:custGeom>
                <a:avLst/>
                <a:gdLst/>
                <a:ahLst/>
                <a:rect l="l" t="t" r="r" b="b"/>
                <a:pathLst>
                  <a:path w="4863" h="17">
                    <a:moveTo>
                      <a:pt x="4846" y="17"/>
                    </a:moveTo>
                    <a:lnTo>
                      <a:pt x="3402" y="17"/>
                    </a:lnTo>
                    <a:lnTo>
                      <a:pt x="3537" y="0"/>
                    </a:lnTo>
                    <a:lnTo>
                      <a:pt x="4863" y="0"/>
                    </a:lnTo>
                    <a:lnTo>
                      <a:pt x="4846" y="17"/>
                    </a:lnTo>
                    <a:close/>
                    <a:moveTo>
                      <a:pt x="208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950" y="0"/>
                    </a:lnTo>
                    <a:lnTo>
                      <a:pt x="1992" y="0"/>
                    </a:lnTo>
                    <a:lnTo>
                      <a:pt x="2085" y="17"/>
                    </a:lnTo>
                    <a:close/>
                  </a:path>
                </a:pathLst>
              </a:custGeom>
              <a:solidFill>
                <a:srgbClr val="b9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991800" y="1635120"/>
                <a:ext cx="823320" cy="4680"/>
              </a:xfrm>
              <a:custGeom>
                <a:avLst/>
                <a:gdLst/>
                <a:ahLst/>
                <a:rect l="l" t="t" r="r" b="b"/>
                <a:pathLst>
                  <a:path w="4863" h="26">
                    <a:moveTo>
                      <a:pt x="4854" y="26"/>
                    </a:moveTo>
                    <a:lnTo>
                      <a:pt x="3470" y="26"/>
                    </a:lnTo>
                    <a:lnTo>
                      <a:pt x="3562" y="9"/>
                    </a:lnTo>
                    <a:lnTo>
                      <a:pt x="3588" y="0"/>
                    </a:lnTo>
                    <a:lnTo>
                      <a:pt x="4863" y="0"/>
                    </a:lnTo>
                    <a:lnTo>
                      <a:pt x="4854" y="26"/>
                    </a:lnTo>
                    <a:close/>
                    <a:moveTo>
                      <a:pt x="2009" y="26"/>
                    </a:moveTo>
                    <a:lnTo>
                      <a:pt x="8" y="26"/>
                    </a:lnTo>
                    <a:lnTo>
                      <a:pt x="0" y="0"/>
                    </a:lnTo>
                    <a:lnTo>
                      <a:pt x="1899" y="0"/>
                    </a:lnTo>
                    <a:lnTo>
                      <a:pt x="1992" y="17"/>
                    </a:lnTo>
                    <a:lnTo>
                      <a:pt x="2009" y="26"/>
                    </a:lnTo>
                    <a:close/>
                  </a:path>
                </a:pathLst>
              </a:custGeom>
              <a:solidFill>
                <a:srgbClr val="b9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88560" y="1633680"/>
                <a:ext cx="828360" cy="4680"/>
              </a:xfrm>
              <a:custGeom>
                <a:avLst/>
                <a:gdLst/>
                <a:ahLst/>
                <a:rect l="l" t="t" r="r" b="b"/>
                <a:pathLst>
                  <a:path w="4888" h="25">
                    <a:moveTo>
                      <a:pt x="4880" y="25"/>
                    </a:moveTo>
                    <a:lnTo>
                      <a:pt x="3554" y="25"/>
                    </a:lnTo>
                    <a:lnTo>
                      <a:pt x="3579" y="17"/>
                    </a:lnTo>
                    <a:lnTo>
                      <a:pt x="3647" y="0"/>
                    </a:lnTo>
                    <a:lnTo>
                      <a:pt x="4888" y="0"/>
                    </a:lnTo>
                    <a:lnTo>
                      <a:pt x="4880" y="25"/>
                    </a:lnTo>
                    <a:close/>
                    <a:moveTo>
                      <a:pt x="1967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866" y="0"/>
                    </a:lnTo>
                    <a:lnTo>
                      <a:pt x="1967" y="25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86760" y="1631880"/>
                <a:ext cx="831600" cy="3240"/>
              </a:xfrm>
              <a:custGeom>
                <a:avLst/>
                <a:gdLst/>
                <a:ahLst/>
                <a:rect l="l" t="t" r="r" b="b"/>
                <a:pathLst>
                  <a:path w="4905" h="17">
                    <a:moveTo>
                      <a:pt x="4889" y="17"/>
                    </a:moveTo>
                    <a:lnTo>
                      <a:pt x="3614" y="17"/>
                    </a:lnTo>
                    <a:lnTo>
                      <a:pt x="3707" y="0"/>
                    </a:lnTo>
                    <a:lnTo>
                      <a:pt x="4905" y="0"/>
                    </a:lnTo>
                    <a:lnTo>
                      <a:pt x="4889" y="17"/>
                    </a:lnTo>
                    <a:close/>
                    <a:moveTo>
                      <a:pt x="1925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925" y="17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85320" y="1628640"/>
                <a:ext cx="833040" cy="5040"/>
              </a:xfrm>
              <a:custGeom>
                <a:avLst/>
                <a:gdLst/>
                <a:ahLst/>
                <a:rect l="l" t="t" r="r" b="b"/>
                <a:pathLst>
                  <a:path w="4913" h="25">
                    <a:moveTo>
                      <a:pt x="4905" y="25"/>
                    </a:moveTo>
                    <a:lnTo>
                      <a:pt x="3664" y="25"/>
                    </a:lnTo>
                    <a:lnTo>
                      <a:pt x="3757" y="0"/>
                    </a:lnTo>
                    <a:lnTo>
                      <a:pt x="4913" y="0"/>
                    </a:lnTo>
                    <a:lnTo>
                      <a:pt x="4905" y="25"/>
                    </a:lnTo>
                    <a:close/>
                    <a:moveTo>
                      <a:pt x="1883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781" y="0"/>
                    </a:lnTo>
                    <a:lnTo>
                      <a:pt x="1883" y="25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983880" y="1627200"/>
                <a:ext cx="836280" cy="4680"/>
              </a:xfrm>
              <a:custGeom>
                <a:avLst/>
                <a:gdLst/>
                <a:ahLst/>
                <a:rect l="l" t="t" r="r" b="b"/>
                <a:pathLst>
                  <a:path w="4931" h="25">
                    <a:moveTo>
                      <a:pt x="4922" y="25"/>
                    </a:moveTo>
                    <a:lnTo>
                      <a:pt x="3724" y="25"/>
                    </a:lnTo>
                    <a:lnTo>
                      <a:pt x="3774" y="9"/>
                    </a:lnTo>
                    <a:lnTo>
                      <a:pt x="3800" y="0"/>
                    </a:lnTo>
                    <a:lnTo>
                      <a:pt x="4931" y="0"/>
                    </a:lnTo>
                    <a:lnTo>
                      <a:pt x="4922" y="25"/>
                    </a:lnTo>
                    <a:close/>
                    <a:moveTo>
                      <a:pt x="1841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748" y="0"/>
                    </a:lnTo>
                    <a:lnTo>
                      <a:pt x="1841" y="25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982080" y="1625760"/>
                <a:ext cx="839520" cy="2880"/>
              </a:xfrm>
              <a:custGeom>
                <a:avLst/>
                <a:gdLst/>
                <a:ahLst/>
                <a:rect l="l" t="t" r="r" b="b"/>
                <a:pathLst>
                  <a:path w="4947" h="17">
                    <a:moveTo>
                      <a:pt x="4930" y="17"/>
                    </a:moveTo>
                    <a:lnTo>
                      <a:pt x="3774" y="17"/>
                    </a:lnTo>
                    <a:lnTo>
                      <a:pt x="3782" y="17"/>
                    </a:lnTo>
                    <a:lnTo>
                      <a:pt x="3841" y="0"/>
                    </a:lnTo>
                    <a:lnTo>
                      <a:pt x="4947" y="0"/>
                    </a:lnTo>
                    <a:lnTo>
                      <a:pt x="4930" y="17"/>
                    </a:lnTo>
                    <a:close/>
                    <a:moveTo>
                      <a:pt x="1798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697" y="0"/>
                    </a:lnTo>
                    <a:lnTo>
                      <a:pt x="1798" y="17"/>
                    </a:lnTo>
                    <a:close/>
                  </a:path>
                </a:pathLst>
              </a:custGeom>
              <a:solidFill>
                <a:srgbClr val="bc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980640" y="1623960"/>
                <a:ext cx="842400" cy="3240"/>
              </a:xfrm>
              <a:custGeom>
                <a:avLst/>
                <a:gdLst/>
                <a:ahLst/>
                <a:rect l="l" t="t" r="r" b="b"/>
                <a:pathLst>
                  <a:path w="4964" h="17">
                    <a:moveTo>
                      <a:pt x="4947" y="17"/>
                    </a:moveTo>
                    <a:lnTo>
                      <a:pt x="3816" y="17"/>
                    </a:lnTo>
                    <a:lnTo>
                      <a:pt x="3875" y="0"/>
                    </a:lnTo>
                    <a:lnTo>
                      <a:pt x="4964" y="0"/>
                    </a:lnTo>
                    <a:lnTo>
                      <a:pt x="4947" y="17"/>
                    </a:lnTo>
                    <a:close/>
                    <a:moveTo>
                      <a:pt x="1764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1654" y="0"/>
                    </a:lnTo>
                    <a:lnTo>
                      <a:pt x="1764" y="17"/>
                    </a:lnTo>
                    <a:close/>
                  </a:path>
                </a:pathLst>
              </a:custGeom>
              <a:solidFill>
                <a:srgbClr val="bc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78840" y="1623960"/>
                <a:ext cx="844200" cy="1800"/>
              </a:xfrm>
              <a:custGeom>
                <a:avLst/>
                <a:gdLst/>
                <a:ahLst/>
                <a:rect l="l" t="t" r="r" b="b"/>
                <a:pathLst>
                  <a:path w="4973" h="17">
                    <a:moveTo>
                      <a:pt x="4964" y="17"/>
                    </a:moveTo>
                    <a:lnTo>
                      <a:pt x="3858" y="17"/>
                    </a:lnTo>
                    <a:lnTo>
                      <a:pt x="3917" y="0"/>
                    </a:lnTo>
                    <a:lnTo>
                      <a:pt x="4973" y="0"/>
                    </a:lnTo>
                    <a:lnTo>
                      <a:pt x="4964" y="17"/>
                    </a:lnTo>
                    <a:close/>
                    <a:moveTo>
                      <a:pt x="171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630" y="0"/>
                    </a:lnTo>
                    <a:lnTo>
                      <a:pt x="1646" y="0"/>
                    </a:lnTo>
                    <a:lnTo>
                      <a:pt x="1714" y="17"/>
                    </a:lnTo>
                    <a:close/>
                  </a:path>
                </a:pathLst>
              </a:custGeom>
              <a:solidFill>
                <a:srgbClr val="bb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77400" y="1620720"/>
                <a:ext cx="847440" cy="3240"/>
              </a:xfrm>
              <a:custGeom>
                <a:avLst/>
                <a:gdLst/>
                <a:ahLst/>
                <a:rect l="l" t="t" r="r" b="b"/>
                <a:pathLst>
                  <a:path w="4989" h="25">
                    <a:moveTo>
                      <a:pt x="4981" y="25"/>
                    </a:moveTo>
                    <a:lnTo>
                      <a:pt x="3892" y="25"/>
                    </a:lnTo>
                    <a:lnTo>
                      <a:pt x="3959" y="0"/>
                    </a:lnTo>
                    <a:lnTo>
                      <a:pt x="4989" y="0"/>
                    </a:lnTo>
                    <a:lnTo>
                      <a:pt x="4981" y="25"/>
                    </a:lnTo>
                    <a:close/>
                    <a:moveTo>
                      <a:pt x="1671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604" y="0"/>
                    </a:lnTo>
                    <a:lnTo>
                      <a:pt x="1654" y="17"/>
                    </a:lnTo>
                    <a:lnTo>
                      <a:pt x="1671" y="25"/>
                    </a:lnTo>
                    <a:close/>
                  </a:path>
                </a:pathLst>
              </a:custGeom>
              <a:solidFill>
                <a:srgbClr val="bd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977400" y="1619280"/>
                <a:ext cx="848880" cy="4680"/>
              </a:xfrm>
              <a:custGeom>
                <a:avLst/>
                <a:gdLst/>
                <a:ahLst/>
                <a:rect l="l" t="t" r="r" b="b"/>
                <a:pathLst>
                  <a:path w="5007" h="25">
                    <a:moveTo>
                      <a:pt x="4990" y="25"/>
                    </a:moveTo>
                    <a:lnTo>
                      <a:pt x="3934" y="25"/>
                    </a:lnTo>
                    <a:lnTo>
                      <a:pt x="3985" y="8"/>
                    </a:lnTo>
                    <a:lnTo>
                      <a:pt x="3994" y="0"/>
                    </a:lnTo>
                    <a:lnTo>
                      <a:pt x="5007" y="0"/>
                    </a:lnTo>
                    <a:lnTo>
                      <a:pt x="4990" y="25"/>
                    </a:lnTo>
                    <a:close/>
                    <a:moveTo>
                      <a:pt x="1647" y="25"/>
                    </a:moveTo>
                    <a:lnTo>
                      <a:pt x="17" y="25"/>
                    </a:lnTo>
                    <a:lnTo>
                      <a:pt x="9" y="8"/>
                    </a:lnTo>
                    <a:lnTo>
                      <a:pt x="0" y="0"/>
                    </a:lnTo>
                    <a:lnTo>
                      <a:pt x="1587" y="0"/>
                    </a:lnTo>
                    <a:lnTo>
                      <a:pt x="1647" y="25"/>
                    </a:lnTo>
                    <a:close/>
                  </a:path>
                </a:pathLst>
              </a:custGeom>
              <a:solidFill>
                <a:srgbClr val="bd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77400" y="1617840"/>
                <a:ext cx="848880" cy="2880"/>
              </a:xfrm>
              <a:custGeom>
                <a:avLst/>
                <a:gdLst/>
                <a:ahLst/>
                <a:rect l="l" t="t" r="r" b="b"/>
                <a:pathLst>
                  <a:path w="5015" h="17">
                    <a:moveTo>
                      <a:pt x="4998" y="17"/>
                    </a:moveTo>
                    <a:lnTo>
                      <a:pt x="3968" y="17"/>
                    </a:lnTo>
                    <a:lnTo>
                      <a:pt x="3985" y="17"/>
                    </a:lnTo>
                    <a:lnTo>
                      <a:pt x="4010" y="0"/>
                    </a:lnTo>
                    <a:lnTo>
                      <a:pt x="5015" y="0"/>
                    </a:lnTo>
                    <a:lnTo>
                      <a:pt x="4998" y="17"/>
                    </a:lnTo>
                    <a:close/>
                    <a:moveTo>
                      <a:pt x="1613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1554" y="0"/>
                    </a:lnTo>
                    <a:lnTo>
                      <a:pt x="1613" y="17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975960" y="1616040"/>
                <a:ext cx="850320" cy="3240"/>
              </a:xfrm>
              <a:custGeom>
                <a:avLst/>
                <a:gdLst/>
                <a:ahLst/>
                <a:rect l="l" t="t" r="r" b="b"/>
                <a:pathLst>
                  <a:path w="5023" h="17">
                    <a:moveTo>
                      <a:pt x="5015" y="17"/>
                    </a:moveTo>
                    <a:lnTo>
                      <a:pt x="4002" y="17"/>
                    </a:lnTo>
                    <a:lnTo>
                      <a:pt x="4044" y="0"/>
                    </a:lnTo>
                    <a:lnTo>
                      <a:pt x="5023" y="0"/>
                    </a:lnTo>
                    <a:lnTo>
                      <a:pt x="5015" y="17"/>
                    </a:lnTo>
                    <a:close/>
                    <a:moveTo>
                      <a:pt x="1595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1528" y="0"/>
                    </a:lnTo>
                    <a:lnTo>
                      <a:pt x="1595" y="17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974160" y="1612800"/>
                <a:ext cx="853920" cy="5040"/>
              </a:xfrm>
              <a:custGeom>
                <a:avLst/>
                <a:gdLst/>
                <a:ahLst/>
                <a:rect l="l" t="t" r="r" b="b"/>
                <a:pathLst>
                  <a:path w="5041" h="25">
                    <a:moveTo>
                      <a:pt x="5032" y="25"/>
                    </a:moveTo>
                    <a:lnTo>
                      <a:pt x="4027" y="25"/>
                    </a:lnTo>
                    <a:lnTo>
                      <a:pt x="4070" y="0"/>
                    </a:lnTo>
                    <a:lnTo>
                      <a:pt x="5041" y="0"/>
                    </a:lnTo>
                    <a:lnTo>
                      <a:pt x="5032" y="25"/>
                    </a:lnTo>
                    <a:close/>
                    <a:moveTo>
                      <a:pt x="1571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512" y="0"/>
                    </a:lnTo>
                    <a:lnTo>
                      <a:pt x="1571" y="25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972720" y="1611360"/>
                <a:ext cx="856800" cy="4680"/>
              </a:xfrm>
              <a:custGeom>
                <a:avLst/>
                <a:gdLst/>
                <a:ahLst/>
                <a:rect l="l" t="t" r="r" b="b"/>
                <a:pathLst>
                  <a:path w="5057" h="26">
                    <a:moveTo>
                      <a:pt x="5040" y="26"/>
                    </a:moveTo>
                    <a:lnTo>
                      <a:pt x="4061" y="26"/>
                    </a:lnTo>
                    <a:lnTo>
                      <a:pt x="4103" y="0"/>
                    </a:lnTo>
                    <a:lnTo>
                      <a:pt x="5057" y="0"/>
                    </a:lnTo>
                    <a:lnTo>
                      <a:pt x="5040" y="26"/>
                    </a:lnTo>
                    <a:close/>
                    <a:moveTo>
                      <a:pt x="1545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1486" y="0"/>
                    </a:lnTo>
                    <a:lnTo>
                      <a:pt x="1545" y="26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70920" y="1609920"/>
                <a:ext cx="860040" cy="2880"/>
              </a:xfrm>
              <a:custGeom>
                <a:avLst/>
                <a:gdLst/>
                <a:ahLst/>
                <a:rect l="l" t="t" r="r" b="b"/>
                <a:pathLst>
                  <a:path w="5074" h="17">
                    <a:moveTo>
                      <a:pt x="5058" y="17"/>
                    </a:moveTo>
                    <a:lnTo>
                      <a:pt x="4087" y="17"/>
                    </a:lnTo>
                    <a:lnTo>
                      <a:pt x="4129" y="0"/>
                    </a:lnTo>
                    <a:lnTo>
                      <a:pt x="5074" y="0"/>
                    </a:lnTo>
                    <a:lnTo>
                      <a:pt x="5058" y="17"/>
                    </a:lnTo>
                    <a:close/>
                    <a:moveTo>
                      <a:pt x="1529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461" y="0"/>
                    </a:lnTo>
                    <a:lnTo>
                      <a:pt x="1529" y="17"/>
                    </a:lnTo>
                    <a:close/>
                  </a:path>
                </a:pathLst>
              </a:custGeom>
              <a:solidFill>
                <a:srgbClr val="be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969480" y="1608120"/>
                <a:ext cx="861480" cy="3240"/>
              </a:xfrm>
              <a:custGeom>
                <a:avLst/>
                <a:gdLst/>
                <a:ahLst/>
                <a:rect l="l" t="t" r="r" b="b"/>
                <a:pathLst>
                  <a:path w="5082" h="17">
                    <a:moveTo>
                      <a:pt x="5074" y="17"/>
                    </a:moveTo>
                    <a:lnTo>
                      <a:pt x="4120" y="17"/>
                    </a:lnTo>
                    <a:lnTo>
                      <a:pt x="4162" y="0"/>
                    </a:lnTo>
                    <a:lnTo>
                      <a:pt x="5082" y="0"/>
                    </a:lnTo>
                    <a:lnTo>
                      <a:pt x="5074" y="17"/>
                    </a:lnTo>
                    <a:close/>
                    <a:moveTo>
                      <a:pt x="150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435" y="0"/>
                    </a:lnTo>
                    <a:lnTo>
                      <a:pt x="1503" y="17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968040" y="1606680"/>
                <a:ext cx="864720" cy="3240"/>
              </a:xfrm>
              <a:custGeom>
                <a:avLst/>
                <a:gdLst/>
                <a:ahLst/>
                <a:rect l="l" t="t" r="r" b="b"/>
                <a:pathLst>
                  <a:path w="5099" h="17">
                    <a:moveTo>
                      <a:pt x="5090" y="17"/>
                    </a:moveTo>
                    <a:lnTo>
                      <a:pt x="4145" y="17"/>
                    </a:lnTo>
                    <a:lnTo>
                      <a:pt x="4187" y="0"/>
                    </a:lnTo>
                    <a:lnTo>
                      <a:pt x="5099" y="0"/>
                    </a:lnTo>
                    <a:lnTo>
                      <a:pt x="5090" y="17"/>
                    </a:lnTo>
                    <a:close/>
                    <a:moveTo>
                      <a:pt x="1477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1418" y="0"/>
                    </a:lnTo>
                    <a:lnTo>
                      <a:pt x="1435" y="0"/>
                    </a:lnTo>
                    <a:lnTo>
                      <a:pt x="1477" y="17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966240" y="1603440"/>
                <a:ext cx="867960" cy="4680"/>
              </a:xfrm>
              <a:custGeom>
                <a:avLst/>
                <a:gdLst/>
                <a:ahLst/>
                <a:rect l="l" t="t" r="r" b="b"/>
                <a:pathLst>
                  <a:path w="5116" h="25">
                    <a:moveTo>
                      <a:pt x="5099" y="25"/>
                    </a:moveTo>
                    <a:lnTo>
                      <a:pt x="4179" y="25"/>
                    </a:lnTo>
                    <a:lnTo>
                      <a:pt x="4221" y="0"/>
                    </a:lnTo>
                    <a:lnTo>
                      <a:pt x="5116" y="0"/>
                    </a:lnTo>
                    <a:lnTo>
                      <a:pt x="5099" y="25"/>
                    </a:lnTo>
                    <a:close/>
                    <a:moveTo>
                      <a:pt x="1452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402" y="0"/>
                    </a:lnTo>
                    <a:lnTo>
                      <a:pt x="1444" y="17"/>
                    </a:lnTo>
                    <a:lnTo>
                      <a:pt x="1452" y="25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964800" y="1602000"/>
                <a:ext cx="869400" cy="4680"/>
              </a:xfrm>
              <a:custGeom>
                <a:avLst/>
                <a:gdLst/>
                <a:ahLst/>
                <a:rect l="l" t="t" r="r" b="b"/>
                <a:pathLst>
                  <a:path w="5124" h="25">
                    <a:moveTo>
                      <a:pt x="5116" y="25"/>
                    </a:moveTo>
                    <a:lnTo>
                      <a:pt x="4204" y="25"/>
                    </a:lnTo>
                    <a:lnTo>
                      <a:pt x="4246" y="0"/>
                    </a:lnTo>
                    <a:lnTo>
                      <a:pt x="5124" y="0"/>
                    </a:lnTo>
                    <a:lnTo>
                      <a:pt x="5116" y="25"/>
                    </a:lnTo>
                    <a:close/>
                    <a:moveTo>
                      <a:pt x="1435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384" y="0"/>
                    </a:lnTo>
                    <a:lnTo>
                      <a:pt x="1435" y="25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64800" y="1600200"/>
                <a:ext cx="871200" cy="3240"/>
              </a:xfrm>
              <a:custGeom>
                <a:avLst/>
                <a:gdLst/>
                <a:ahLst/>
                <a:rect l="l" t="t" r="r" b="b"/>
                <a:pathLst>
                  <a:path w="5133" h="17">
                    <a:moveTo>
                      <a:pt x="5124" y="17"/>
                    </a:moveTo>
                    <a:lnTo>
                      <a:pt x="4229" y="17"/>
                    </a:lnTo>
                    <a:lnTo>
                      <a:pt x="4272" y="0"/>
                    </a:lnTo>
                    <a:lnTo>
                      <a:pt x="5133" y="0"/>
                    </a:lnTo>
                    <a:lnTo>
                      <a:pt x="5124" y="17"/>
                    </a:lnTo>
                    <a:close/>
                    <a:moveTo>
                      <a:pt x="1410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1359" y="0"/>
                    </a:lnTo>
                    <a:lnTo>
                      <a:pt x="1410" y="17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963000" y="1598760"/>
                <a:ext cx="874440" cy="3240"/>
              </a:xfrm>
              <a:custGeom>
                <a:avLst/>
                <a:gdLst/>
                <a:ahLst/>
                <a:rect l="l" t="t" r="r" b="b"/>
                <a:pathLst>
                  <a:path w="5158" h="17">
                    <a:moveTo>
                      <a:pt x="5141" y="17"/>
                    </a:moveTo>
                    <a:lnTo>
                      <a:pt x="4263" y="17"/>
                    </a:lnTo>
                    <a:lnTo>
                      <a:pt x="4305" y="0"/>
                    </a:lnTo>
                    <a:lnTo>
                      <a:pt x="5158" y="0"/>
                    </a:lnTo>
                    <a:lnTo>
                      <a:pt x="5141" y="17"/>
                    </a:lnTo>
                    <a:close/>
                    <a:moveTo>
                      <a:pt x="1401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351" y="0"/>
                    </a:lnTo>
                    <a:lnTo>
                      <a:pt x="1401" y="17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963000" y="1595520"/>
                <a:ext cx="875880" cy="4680"/>
              </a:xfrm>
              <a:custGeom>
                <a:avLst/>
                <a:gdLst/>
                <a:ahLst/>
                <a:rect l="l" t="t" r="r" b="b"/>
                <a:pathLst>
                  <a:path w="5167" h="25">
                    <a:moveTo>
                      <a:pt x="5150" y="25"/>
                    </a:moveTo>
                    <a:lnTo>
                      <a:pt x="4289" y="25"/>
                    </a:lnTo>
                    <a:lnTo>
                      <a:pt x="4322" y="0"/>
                    </a:lnTo>
                    <a:lnTo>
                      <a:pt x="5167" y="0"/>
                    </a:lnTo>
                    <a:lnTo>
                      <a:pt x="5150" y="25"/>
                    </a:lnTo>
                    <a:close/>
                    <a:moveTo>
                      <a:pt x="1376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325" y="0"/>
                    </a:lnTo>
                    <a:lnTo>
                      <a:pt x="1376" y="25"/>
                    </a:lnTo>
                    <a:close/>
                  </a:path>
                </a:pathLst>
              </a:custGeom>
              <a:solidFill>
                <a:srgbClr val="bf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961560" y="1593720"/>
                <a:ext cx="877320" cy="5040"/>
              </a:xfrm>
              <a:custGeom>
                <a:avLst/>
                <a:gdLst/>
                <a:ahLst/>
                <a:rect l="l" t="t" r="r" b="b"/>
                <a:pathLst>
                  <a:path w="5176" h="26">
                    <a:moveTo>
                      <a:pt x="5167" y="26"/>
                    </a:moveTo>
                    <a:lnTo>
                      <a:pt x="4314" y="26"/>
                    </a:lnTo>
                    <a:lnTo>
                      <a:pt x="4357" y="0"/>
                    </a:lnTo>
                    <a:lnTo>
                      <a:pt x="5176" y="0"/>
                    </a:lnTo>
                    <a:lnTo>
                      <a:pt x="5167" y="26"/>
                    </a:lnTo>
                    <a:close/>
                    <a:moveTo>
                      <a:pt x="1360" y="26"/>
                    </a:moveTo>
                    <a:lnTo>
                      <a:pt x="9" y="26"/>
                    </a:lnTo>
                    <a:lnTo>
                      <a:pt x="0" y="0"/>
                    </a:lnTo>
                    <a:lnTo>
                      <a:pt x="1309" y="0"/>
                    </a:lnTo>
                    <a:lnTo>
                      <a:pt x="1360" y="26"/>
                    </a:lnTo>
                    <a:close/>
                  </a:path>
                </a:pathLst>
              </a:custGeom>
              <a:solidFill>
                <a:srgbClr val="bf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960120" y="1592280"/>
                <a:ext cx="880560" cy="3240"/>
              </a:xfrm>
              <a:custGeom>
                <a:avLst/>
                <a:gdLst/>
                <a:ahLst/>
                <a:rect l="l" t="t" r="r" b="b"/>
                <a:pathLst>
                  <a:path w="5192" h="17">
                    <a:moveTo>
                      <a:pt x="5184" y="17"/>
                    </a:moveTo>
                    <a:lnTo>
                      <a:pt x="4339" y="17"/>
                    </a:lnTo>
                    <a:lnTo>
                      <a:pt x="4382" y="0"/>
                    </a:lnTo>
                    <a:lnTo>
                      <a:pt x="5192" y="0"/>
                    </a:lnTo>
                    <a:lnTo>
                      <a:pt x="5184" y="17"/>
                    </a:lnTo>
                    <a:close/>
                    <a:moveTo>
                      <a:pt x="1342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292" y="0"/>
                    </a:lnTo>
                    <a:lnTo>
                      <a:pt x="1342" y="17"/>
                    </a:lnTo>
                    <a:close/>
                  </a:path>
                </a:pathLst>
              </a:custGeom>
              <a:solidFill>
                <a:srgbClr val="bd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58320" y="1590840"/>
                <a:ext cx="883800" cy="2880"/>
              </a:xfrm>
              <a:custGeom>
                <a:avLst/>
                <a:gdLst/>
                <a:ahLst/>
                <a:rect l="l" t="t" r="r" b="b"/>
                <a:pathLst>
                  <a:path w="5210" h="16">
                    <a:moveTo>
                      <a:pt x="5193" y="16"/>
                    </a:moveTo>
                    <a:lnTo>
                      <a:pt x="4374" y="16"/>
                    </a:lnTo>
                    <a:lnTo>
                      <a:pt x="4416" y="0"/>
                    </a:lnTo>
                    <a:lnTo>
                      <a:pt x="5210" y="0"/>
                    </a:lnTo>
                    <a:lnTo>
                      <a:pt x="5201" y="8"/>
                    </a:lnTo>
                    <a:lnTo>
                      <a:pt x="5193" y="16"/>
                    </a:lnTo>
                    <a:close/>
                    <a:moveTo>
                      <a:pt x="1326" y="16"/>
                    </a:moveTo>
                    <a:lnTo>
                      <a:pt x="17" y="16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326" y="16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956880" y="1589040"/>
                <a:ext cx="885240" cy="3240"/>
              </a:xfrm>
              <a:custGeom>
                <a:avLst/>
                <a:gdLst/>
                <a:ahLst/>
                <a:rect l="l" t="t" r="r" b="b"/>
                <a:pathLst>
                  <a:path w="5218" h="17">
                    <a:moveTo>
                      <a:pt x="5209" y="17"/>
                    </a:moveTo>
                    <a:lnTo>
                      <a:pt x="4399" y="17"/>
                    </a:lnTo>
                    <a:lnTo>
                      <a:pt x="4441" y="0"/>
                    </a:lnTo>
                    <a:lnTo>
                      <a:pt x="5218" y="0"/>
                    </a:lnTo>
                    <a:lnTo>
                      <a:pt x="5209" y="17"/>
                    </a:lnTo>
                    <a:close/>
                    <a:moveTo>
                      <a:pt x="1309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258" y="0"/>
                    </a:lnTo>
                    <a:lnTo>
                      <a:pt x="1309" y="17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955080" y="1585800"/>
                <a:ext cx="887040" cy="5040"/>
              </a:xfrm>
              <a:custGeom>
                <a:avLst/>
                <a:gdLst/>
                <a:ahLst/>
                <a:rect l="l" t="t" r="r" b="b"/>
                <a:pathLst>
                  <a:path w="5234" h="26">
                    <a:moveTo>
                      <a:pt x="5226" y="26"/>
                    </a:moveTo>
                    <a:lnTo>
                      <a:pt x="4432" y="26"/>
                    </a:lnTo>
                    <a:lnTo>
                      <a:pt x="4449" y="17"/>
                    </a:lnTo>
                    <a:lnTo>
                      <a:pt x="4466" y="0"/>
                    </a:lnTo>
                    <a:lnTo>
                      <a:pt x="5234" y="0"/>
                    </a:lnTo>
                    <a:lnTo>
                      <a:pt x="5226" y="26"/>
                    </a:lnTo>
                    <a:close/>
                    <a:moveTo>
                      <a:pt x="1291" y="26"/>
                    </a:moveTo>
                    <a:lnTo>
                      <a:pt x="16" y="26"/>
                    </a:lnTo>
                    <a:lnTo>
                      <a:pt x="0" y="0"/>
                    </a:lnTo>
                    <a:lnTo>
                      <a:pt x="1241" y="0"/>
                    </a:lnTo>
                    <a:lnTo>
                      <a:pt x="1291" y="26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953640" y="1584360"/>
                <a:ext cx="890280" cy="4680"/>
              </a:xfrm>
              <a:custGeom>
                <a:avLst/>
                <a:gdLst/>
                <a:ahLst/>
                <a:rect l="l" t="t" r="r" b="b"/>
                <a:pathLst>
                  <a:path w="5251" h="25">
                    <a:moveTo>
                      <a:pt x="5235" y="25"/>
                    </a:moveTo>
                    <a:lnTo>
                      <a:pt x="4458" y="25"/>
                    </a:lnTo>
                    <a:lnTo>
                      <a:pt x="4458" y="25"/>
                    </a:lnTo>
                    <a:lnTo>
                      <a:pt x="4483" y="0"/>
                    </a:lnTo>
                    <a:lnTo>
                      <a:pt x="5251" y="0"/>
                    </a:lnTo>
                    <a:lnTo>
                      <a:pt x="5235" y="25"/>
                    </a:lnTo>
                    <a:close/>
                    <a:moveTo>
                      <a:pt x="1275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224" y="0"/>
                    </a:lnTo>
                    <a:lnTo>
                      <a:pt x="1233" y="0"/>
                    </a:lnTo>
                    <a:lnTo>
                      <a:pt x="1275" y="25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951840" y="1582920"/>
                <a:ext cx="892080" cy="2880"/>
              </a:xfrm>
              <a:custGeom>
                <a:avLst/>
                <a:gdLst/>
                <a:ahLst/>
                <a:rect l="l" t="t" r="r" b="b"/>
                <a:pathLst>
                  <a:path w="5259" h="17">
                    <a:moveTo>
                      <a:pt x="5251" y="17"/>
                    </a:moveTo>
                    <a:lnTo>
                      <a:pt x="4483" y="17"/>
                    </a:lnTo>
                    <a:lnTo>
                      <a:pt x="4508" y="0"/>
                    </a:lnTo>
                    <a:lnTo>
                      <a:pt x="5259" y="0"/>
                    </a:lnTo>
                    <a:lnTo>
                      <a:pt x="5251" y="17"/>
                    </a:lnTo>
                    <a:close/>
                    <a:moveTo>
                      <a:pt x="1258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207" y="0"/>
                    </a:lnTo>
                    <a:lnTo>
                      <a:pt x="1241" y="9"/>
                    </a:lnTo>
                    <a:lnTo>
                      <a:pt x="1258" y="17"/>
                    </a:lnTo>
                    <a:close/>
                  </a:path>
                </a:pathLst>
              </a:custGeom>
              <a:solidFill>
                <a:srgbClr val="b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50400" y="1579680"/>
                <a:ext cx="894960" cy="4680"/>
              </a:xfrm>
              <a:custGeom>
                <a:avLst/>
                <a:gdLst/>
                <a:ahLst/>
                <a:rect l="l" t="t" r="r" b="b"/>
                <a:pathLst>
                  <a:path w="5277" h="26">
                    <a:moveTo>
                      <a:pt x="5268" y="26"/>
                    </a:moveTo>
                    <a:lnTo>
                      <a:pt x="4500" y="26"/>
                    </a:lnTo>
                    <a:lnTo>
                      <a:pt x="4534" y="0"/>
                    </a:lnTo>
                    <a:lnTo>
                      <a:pt x="5277" y="0"/>
                    </a:lnTo>
                    <a:lnTo>
                      <a:pt x="5268" y="26"/>
                    </a:lnTo>
                    <a:close/>
                    <a:moveTo>
                      <a:pt x="1241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1199" y="0"/>
                    </a:lnTo>
                    <a:lnTo>
                      <a:pt x="1241" y="26"/>
                    </a:lnTo>
                    <a:close/>
                  </a:path>
                </a:pathLst>
              </a:custGeom>
              <a:solidFill>
                <a:srgbClr val="b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950400" y="1577880"/>
                <a:ext cx="896760" cy="5040"/>
              </a:xfrm>
              <a:custGeom>
                <a:avLst/>
                <a:gdLst/>
                <a:ahLst/>
                <a:rect l="l" t="t" r="r" b="b"/>
                <a:pathLst>
                  <a:path w="5285" h="25">
                    <a:moveTo>
                      <a:pt x="5268" y="25"/>
                    </a:moveTo>
                    <a:lnTo>
                      <a:pt x="4517" y="25"/>
                    </a:lnTo>
                    <a:lnTo>
                      <a:pt x="4542" y="0"/>
                    </a:lnTo>
                    <a:lnTo>
                      <a:pt x="5285" y="0"/>
                    </a:lnTo>
                    <a:lnTo>
                      <a:pt x="5268" y="25"/>
                    </a:lnTo>
                    <a:close/>
                    <a:moveTo>
                      <a:pt x="1216" y="25"/>
                    </a:moveTo>
                    <a:lnTo>
                      <a:pt x="9" y="25"/>
                    </a:lnTo>
                    <a:lnTo>
                      <a:pt x="0" y="0"/>
                    </a:lnTo>
                    <a:lnTo>
                      <a:pt x="1174" y="0"/>
                    </a:lnTo>
                    <a:lnTo>
                      <a:pt x="1216" y="25"/>
                    </a:lnTo>
                    <a:close/>
                  </a:path>
                </a:pathLst>
              </a:custGeom>
              <a:solidFill>
                <a:srgbClr val="bf7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948960" y="1576440"/>
                <a:ext cx="898200" cy="3240"/>
              </a:xfrm>
              <a:custGeom>
                <a:avLst/>
                <a:gdLst/>
                <a:ahLst/>
                <a:rect l="l" t="t" r="r" b="b"/>
                <a:pathLst>
                  <a:path w="5293" h="16">
                    <a:moveTo>
                      <a:pt x="5285" y="16"/>
                    </a:moveTo>
                    <a:lnTo>
                      <a:pt x="4542" y="16"/>
                    </a:lnTo>
                    <a:lnTo>
                      <a:pt x="4567" y="0"/>
                    </a:lnTo>
                    <a:lnTo>
                      <a:pt x="5293" y="0"/>
                    </a:lnTo>
                    <a:lnTo>
                      <a:pt x="5285" y="16"/>
                    </a:lnTo>
                    <a:close/>
                    <a:moveTo>
                      <a:pt x="1207" y="16"/>
                    </a:moveTo>
                    <a:lnTo>
                      <a:pt x="8" y="16"/>
                    </a:lnTo>
                    <a:lnTo>
                      <a:pt x="0" y="0"/>
                    </a:lnTo>
                    <a:lnTo>
                      <a:pt x="1165" y="0"/>
                    </a:lnTo>
                    <a:lnTo>
                      <a:pt x="1207" y="16"/>
                    </a:lnTo>
                    <a:close/>
                  </a:path>
                </a:pathLst>
              </a:custGeom>
              <a:solidFill>
                <a:srgbClr val="c07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947160" y="1575000"/>
                <a:ext cx="901440" cy="2880"/>
              </a:xfrm>
              <a:custGeom>
                <a:avLst/>
                <a:gdLst/>
                <a:ahLst/>
                <a:rect l="l" t="t" r="r" b="b"/>
                <a:pathLst>
                  <a:path w="5311" h="17">
                    <a:moveTo>
                      <a:pt x="5302" y="17"/>
                    </a:moveTo>
                    <a:lnTo>
                      <a:pt x="4559" y="17"/>
                    </a:lnTo>
                    <a:lnTo>
                      <a:pt x="4585" y="0"/>
                    </a:lnTo>
                    <a:lnTo>
                      <a:pt x="5311" y="0"/>
                    </a:lnTo>
                    <a:lnTo>
                      <a:pt x="5302" y="17"/>
                    </a:lnTo>
                    <a:close/>
                    <a:moveTo>
                      <a:pt x="1191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149" y="0"/>
                    </a:lnTo>
                    <a:lnTo>
                      <a:pt x="1191" y="17"/>
                    </a:lnTo>
                    <a:close/>
                  </a:path>
                </a:pathLst>
              </a:custGeom>
              <a:solidFill>
                <a:srgbClr val="c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947160" y="1573200"/>
                <a:ext cx="901440" cy="3240"/>
              </a:xfrm>
              <a:custGeom>
                <a:avLst/>
                <a:gdLst/>
                <a:ahLst/>
                <a:rect l="l" t="t" r="r" b="b"/>
                <a:pathLst>
                  <a:path w="5319" h="17">
                    <a:moveTo>
                      <a:pt x="5310" y="17"/>
                    </a:moveTo>
                    <a:lnTo>
                      <a:pt x="4584" y="17"/>
                    </a:lnTo>
                    <a:lnTo>
                      <a:pt x="4610" y="0"/>
                    </a:lnTo>
                    <a:lnTo>
                      <a:pt x="5319" y="0"/>
                    </a:lnTo>
                    <a:lnTo>
                      <a:pt x="5310" y="17"/>
                    </a:lnTo>
                    <a:close/>
                    <a:moveTo>
                      <a:pt x="1182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131" y="0"/>
                    </a:lnTo>
                    <a:lnTo>
                      <a:pt x="1182" y="17"/>
                    </a:lnTo>
                    <a:close/>
                  </a:path>
                </a:pathLst>
              </a:custGeom>
              <a:solidFill>
                <a:srgbClr val="c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45720" y="1571760"/>
                <a:ext cx="904320" cy="3240"/>
              </a:xfrm>
              <a:custGeom>
                <a:avLst/>
                <a:gdLst/>
                <a:ahLst/>
                <a:rect l="l" t="t" r="r" b="b"/>
                <a:pathLst>
                  <a:path w="5336" h="17">
                    <a:moveTo>
                      <a:pt x="5328" y="17"/>
                    </a:moveTo>
                    <a:lnTo>
                      <a:pt x="4602" y="17"/>
                    </a:lnTo>
                    <a:lnTo>
                      <a:pt x="4627" y="0"/>
                    </a:lnTo>
                    <a:lnTo>
                      <a:pt x="5336" y="0"/>
                    </a:lnTo>
                    <a:lnTo>
                      <a:pt x="5328" y="17"/>
                    </a:lnTo>
                    <a:close/>
                    <a:moveTo>
                      <a:pt x="1166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123" y="0"/>
                    </a:lnTo>
                    <a:lnTo>
                      <a:pt x="1166" y="17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943920" y="1568520"/>
                <a:ext cx="907920" cy="4680"/>
              </a:xfrm>
              <a:custGeom>
                <a:avLst/>
                <a:gdLst/>
                <a:ahLst/>
                <a:rect l="l" t="t" r="r" b="b"/>
                <a:pathLst>
                  <a:path w="5353" h="26">
                    <a:moveTo>
                      <a:pt x="5336" y="26"/>
                    </a:moveTo>
                    <a:lnTo>
                      <a:pt x="4627" y="26"/>
                    </a:lnTo>
                    <a:lnTo>
                      <a:pt x="4652" y="0"/>
                    </a:lnTo>
                    <a:lnTo>
                      <a:pt x="5353" y="0"/>
                    </a:lnTo>
                    <a:lnTo>
                      <a:pt x="5336" y="26"/>
                    </a:lnTo>
                    <a:close/>
                    <a:moveTo>
                      <a:pt x="1148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1106" y="0"/>
                    </a:lnTo>
                    <a:lnTo>
                      <a:pt x="1148" y="26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942480" y="1568520"/>
                <a:ext cx="909360" cy="3240"/>
              </a:xfrm>
              <a:custGeom>
                <a:avLst/>
                <a:gdLst/>
                <a:ahLst/>
                <a:rect l="l" t="t" r="r" b="b"/>
                <a:pathLst>
                  <a:path w="5361" h="25">
                    <a:moveTo>
                      <a:pt x="5352" y="25"/>
                    </a:moveTo>
                    <a:lnTo>
                      <a:pt x="4643" y="25"/>
                    </a:lnTo>
                    <a:lnTo>
                      <a:pt x="4668" y="0"/>
                    </a:lnTo>
                    <a:lnTo>
                      <a:pt x="5361" y="0"/>
                    </a:lnTo>
                    <a:lnTo>
                      <a:pt x="5352" y="25"/>
                    </a:lnTo>
                    <a:close/>
                    <a:moveTo>
                      <a:pt x="1139" y="25"/>
                    </a:moveTo>
                    <a:lnTo>
                      <a:pt x="16" y="25"/>
                    </a:lnTo>
                    <a:lnTo>
                      <a:pt x="0" y="0"/>
                    </a:lnTo>
                    <a:lnTo>
                      <a:pt x="1097" y="0"/>
                    </a:lnTo>
                    <a:lnTo>
                      <a:pt x="1139" y="25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941040" y="1565280"/>
                <a:ext cx="912240" cy="3240"/>
              </a:xfrm>
              <a:custGeom>
                <a:avLst/>
                <a:gdLst/>
                <a:ahLst/>
                <a:rect l="l" t="t" r="r" b="b"/>
                <a:pathLst>
                  <a:path w="5378" h="17">
                    <a:moveTo>
                      <a:pt x="5370" y="17"/>
                    </a:moveTo>
                    <a:lnTo>
                      <a:pt x="4669" y="17"/>
                    </a:lnTo>
                    <a:lnTo>
                      <a:pt x="4694" y="0"/>
                    </a:lnTo>
                    <a:lnTo>
                      <a:pt x="5378" y="0"/>
                    </a:lnTo>
                    <a:lnTo>
                      <a:pt x="5370" y="17"/>
                    </a:lnTo>
                    <a:close/>
                    <a:moveTo>
                      <a:pt x="112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081" y="0"/>
                    </a:lnTo>
                    <a:lnTo>
                      <a:pt x="1123" y="17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939240" y="1563840"/>
                <a:ext cx="915840" cy="4680"/>
              </a:xfrm>
              <a:custGeom>
                <a:avLst/>
                <a:gdLst/>
                <a:ahLst/>
                <a:rect l="l" t="t" r="r" b="b"/>
                <a:pathLst>
                  <a:path w="5395" h="25">
                    <a:moveTo>
                      <a:pt x="5378" y="25"/>
                    </a:moveTo>
                    <a:lnTo>
                      <a:pt x="4685" y="25"/>
                    </a:lnTo>
                    <a:lnTo>
                      <a:pt x="4719" y="0"/>
                    </a:lnTo>
                    <a:lnTo>
                      <a:pt x="5395" y="0"/>
                    </a:lnTo>
                    <a:lnTo>
                      <a:pt x="5378" y="25"/>
                    </a:lnTo>
                    <a:close/>
                    <a:moveTo>
                      <a:pt x="1114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1063" y="0"/>
                    </a:lnTo>
                    <a:lnTo>
                      <a:pt x="1114" y="25"/>
                    </a:lnTo>
                    <a:close/>
                  </a:path>
                </a:pathLst>
              </a:custGeom>
              <a:solidFill>
                <a:srgbClr val="c2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939240" y="1562040"/>
                <a:ext cx="915840" cy="3240"/>
              </a:xfrm>
              <a:custGeom>
                <a:avLst/>
                <a:gdLst/>
                <a:ahLst/>
                <a:rect l="l" t="t" r="r" b="b"/>
                <a:pathLst>
                  <a:path w="5395" h="25">
                    <a:moveTo>
                      <a:pt x="5386" y="25"/>
                    </a:moveTo>
                    <a:lnTo>
                      <a:pt x="4702" y="25"/>
                    </a:lnTo>
                    <a:lnTo>
                      <a:pt x="4728" y="0"/>
                    </a:lnTo>
                    <a:lnTo>
                      <a:pt x="5395" y="0"/>
                    </a:lnTo>
                    <a:lnTo>
                      <a:pt x="5386" y="25"/>
                    </a:lnTo>
                    <a:close/>
                    <a:moveTo>
                      <a:pt x="1089" y="25"/>
                    </a:moveTo>
                    <a:lnTo>
                      <a:pt x="8" y="25"/>
                    </a:lnTo>
                    <a:lnTo>
                      <a:pt x="0" y="0"/>
                    </a:lnTo>
                    <a:lnTo>
                      <a:pt x="1047" y="0"/>
                    </a:lnTo>
                    <a:lnTo>
                      <a:pt x="1089" y="25"/>
                    </a:lnTo>
                    <a:close/>
                  </a:path>
                </a:pathLst>
              </a:custGeom>
              <a:solidFill>
                <a:srgbClr val="c2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936000" y="1560600"/>
                <a:ext cx="920520" cy="3240"/>
              </a:xfrm>
              <a:custGeom>
                <a:avLst/>
                <a:gdLst/>
                <a:ahLst/>
                <a:rect l="l" t="t" r="r" b="b"/>
                <a:pathLst>
                  <a:path w="5420" h="17">
                    <a:moveTo>
                      <a:pt x="5412" y="17"/>
                    </a:moveTo>
                    <a:lnTo>
                      <a:pt x="4736" y="17"/>
                    </a:lnTo>
                    <a:lnTo>
                      <a:pt x="4761" y="0"/>
                    </a:lnTo>
                    <a:lnTo>
                      <a:pt x="5420" y="0"/>
                    </a:lnTo>
                    <a:lnTo>
                      <a:pt x="5412" y="17"/>
                    </a:lnTo>
                    <a:close/>
                    <a:moveTo>
                      <a:pt x="1080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038" y="0"/>
                    </a:lnTo>
                    <a:lnTo>
                      <a:pt x="1080" y="17"/>
                    </a:lnTo>
                    <a:close/>
                  </a:path>
                </a:pathLst>
              </a:custGeom>
              <a:solidFill>
                <a:srgbClr val="c2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936000" y="1558800"/>
                <a:ext cx="920520" cy="3240"/>
              </a:xfrm>
              <a:custGeom>
                <a:avLst/>
                <a:gdLst/>
                <a:ahLst/>
                <a:rect l="l" t="t" r="r" b="b"/>
                <a:pathLst>
                  <a:path w="5428" h="17">
                    <a:moveTo>
                      <a:pt x="5412" y="17"/>
                    </a:moveTo>
                    <a:lnTo>
                      <a:pt x="4745" y="17"/>
                    </a:lnTo>
                    <a:lnTo>
                      <a:pt x="4770" y="0"/>
                    </a:lnTo>
                    <a:lnTo>
                      <a:pt x="5428" y="0"/>
                    </a:lnTo>
                    <a:lnTo>
                      <a:pt x="5412" y="17"/>
                    </a:lnTo>
                    <a:close/>
                    <a:moveTo>
                      <a:pt x="106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021" y="0"/>
                    </a:lnTo>
                    <a:lnTo>
                      <a:pt x="1064" y="17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934560" y="1557360"/>
                <a:ext cx="921960" cy="3240"/>
              </a:xfrm>
              <a:custGeom>
                <a:avLst/>
                <a:gdLst/>
                <a:ahLst/>
                <a:rect l="l" t="t" r="r" b="b"/>
                <a:pathLst>
                  <a:path w="5437" h="17">
                    <a:moveTo>
                      <a:pt x="5429" y="17"/>
                    </a:moveTo>
                    <a:lnTo>
                      <a:pt x="4770" y="17"/>
                    </a:lnTo>
                    <a:lnTo>
                      <a:pt x="4796" y="0"/>
                    </a:lnTo>
                    <a:lnTo>
                      <a:pt x="5437" y="0"/>
                    </a:lnTo>
                    <a:lnTo>
                      <a:pt x="5429" y="17"/>
                    </a:lnTo>
                    <a:close/>
                    <a:moveTo>
                      <a:pt x="1047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1005" y="0"/>
                    </a:lnTo>
                    <a:lnTo>
                      <a:pt x="1047" y="17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933120" y="1554120"/>
                <a:ext cx="924840" cy="4680"/>
              </a:xfrm>
              <a:custGeom>
                <a:avLst/>
                <a:gdLst/>
                <a:ahLst/>
                <a:rect l="l" t="t" r="r" b="b"/>
                <a:pathLst>
                  <a:path w="5454" h="25">
                    <a:moveTo>
                      <a:pt x="5445" y="25"/>
                    </a:moveTo>
                    <a:lnTo>
                      <a:pt x="4787" y="25"/>
                    </a:lnTo>
                    <a:lnTo>
                      <a:pt x="4812" y="0"/>
                    </a:lnTo>
                    <a:lnTo>
                      <a:pt x="5454" y="0"/>
                    </a:lnTo>
                    <a:lnTo>
                      <a:pt x="5445" y="25"/>
                    </a:lnTo>
                    <a:close/>
                    <a:moveTo>
                      <a:pt x="1038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988" y="0"/>
                    </a:lnTo>
                    <a:lnTo>
                      <a:pt x="1038" y="25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933120" y="1552680"/>
                <a:ext cx="924840" cy="4680"/>
              </a:xfrm>
              <a:custGeom>
                <a:avLst/>
                <a:gdLst/>
                <a:ahLst/>
                <a:rect l="l" t="t" r="r" b="b"/>
                <a:pathLst>
                  <a:path w="5463" h="26">
                    <a:moveTo>
                      <a:pt x="5454" y="26"/>
                    </a:moveTo>
                    <a:lnTo>
                      <a:pt x="4813" y="26"/>
                    </a:lnTo>
                    <a:lnTo>
                      <a:pt x="4838" y="0"/>
                    </a:lnTo>
                    <a:lnTo>
                      <a:pt x="5463" y="0"/>
                    </a:lnTo>
                    <a:lnTo>
                      <a:pt x="5454" y="26"/>
                    </a:lnTo>
                    <a:close/>
                    <a:moveTo>
                      <a:pt x="1022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980" y="0"/>
                    </a:lnTo>
                    <a:lnTo>
                      <a:pt x="997" y="9"/>
                    </a:lnTo>
                    <a:lnTo>
                      <a:pt x="1022" y="26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31320" y="1550880"/>
                <a:ext cx="928440" cy="3240"/>
              </a:xfrm>
              <a:custGeom>
                <a:avLst/>
                <a:gdLst/>
                <a:ahLst/>
                <a:rect l="l" t="t" r="r" b="b"/>
                <a:pathLst>
                  <a:path w="5479" h="17">
                    <a:moveTo>
                      <a:pt x="5471" y="17"/>
                    </a:moveTo>
                    <a:lnTo>
                      <a:pt x="4829" y="17"/>
                    </a:lnTo>
                    <a:lnTo>
                      <a:pt x="4855" y="0"/>
                    </a:lnTo>
                    <a:lnTo>
                      <a:pt x="5479" y="0"/>
                    </a:lnTo>
                    <a:lnTo>
                      <a:pt x="5471" y="17"/>
                    </a:lnTo>
                    <a:close/>
                    <a:moveTo>
                      <a:pt x="100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971" y="0"/>
                    </a:lnTo>
                    <a:lnTo>
                      <a:pt x="1005" y="17"/>
                    </a:lnTo>
                    <a:close/>
                  </a:path>
                </a:pathLst>
              </a:custGeom>
              <a:solidFill>
                <a:srgbClr val="c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929880" y="1549440"/>
                <a:ext cx="931320" cy="3240"/>
              </a:xfrm>
              <a:custGeom>
                <a:avLst/>
                <a:gdLst/>
                <a:ahLst/>
                <a:rect l="l" t="t" r="r" b="b"/>
                <a:pathLst>
                  <a:path w="5496" h="16">
                    <a:moveTo>
                      <a:pt x="5479" y="16"/>
                    </a:moveTo>
                    <a:lnTo>
                      <a:pt x="4854" y="16"/>
                    </a:lnTo>
                    <a:lnTo>
                      <a:pt x="4879" y="0"/>
                    </a:lnTo>
                    <a:lnTo>
                      <a:pt x="5496" y="0"/>
                    </a:lnTo>
                    <a:lnTo>
                      <a:pt x="5479" y="16"/>
                    </a:lnTo>
                    <a:close/>
                    <a:moveTo>
                      <a:pt x="996" y="16"/>
                    </a:moveTo>
                    <a:lnTo>
                      <a:pt x="16" y="16"/>
                    </a:lnTo>
                    <a:lnTo>
                      <a:pt x="0" y="0"/>
                    </a:lnTo>
                    <a:lnTo>
                      <a:pt x="954" y="0"/>
                    </a:lnTo>
                    <a:lnTo>
                      <a:pt x="996" y="16"/>
                    </a:lnTo>
                    <a:close/>
                  </a:path>
                </a:pathLst>
              </a:custGeom>
              <a:solidFill>
                <a:srgbClr val="c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928080" y="1546200"/>
                <a:ext cx="933120" cy="4680"/>
              </a:xfrm>
              <a:custGeom>
                <a:avLst/>
                <a:gdLst/>
                <a:ahLst/>
                <a:rect l="l" t="t" r="r" b="b"/>
                <a:pathLst>
                  <a:path w="5505" h="25">
                    <a:moveTo>
                      <a:pt x="5496" y="25"/>
                    </a:moveTo>
                    <a:lnTo>
                      <a:pt x="4872" y="25"/>
                    </a:lnTo>
                    <a:lnTo>
                      <a:pt x="4905" y="0"/>
                    </a:lnTo>
                    <a:lnTo>
                      <a:pt x="5505" y="0"/>
                    </a:lnTo>
                    <a:lnTo>
                      <a:pt x="5496" y="25"/>
                    </a:lnTo>
                    <a:close/>
                    <a:moveTo>
                      <a:pt x="988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946" y="0"/>
                    </a:lnTo>
                    <a:lnTo>
                      <a:pt x="988" y="25"/>
                    </a:lnTo>
                    <a:close/>
                  </a:path>
                </a:pathLst>
              </a:custGeom>
              <a:solidFill>
                <a:srgbClr val="c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926640" y="1544760"/>
                <a:ext cx="936360" cy="4680"/>
              </a:xfrm>
              <a:custGeom>
                <a:avLst/>
                <a:gdLst/>
                <a:ahLst/>
                <a:rect l="l" t="t" r="r" b="b"/>
                <a:pathLst>
                  <a:path w="5521" h="26">
                    <a:moveTo>
                      <a:pt x="5513" y="26"/>
                    </a:moveTo>
                    <a:lnTo>
                      <a:pt x="4896" y="26"/>
                    </a:lnTo>
                    <a:lnTo>
                      <a:pt x="4913" y="9"/>
                    </a:lnTo>
                    <a:lnTo>
                      <a:pt x="4922" y="0"/>
                    </a:lnTo>
                    <a:lnTo>
                      <a:pt x="5521" y="0"/>
                    </a:lnTo>
                    <a:lnTo>
                      <a:pt x="5513" y="26"/>
                    </a:lnTo>
                    <a:close/>
                    <a:moveTo>
                      <a:pt x="971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937" y="0"/>
                    </a:lnTo>
                    <a:lnTo>
                      <a:pt x="971" y="26"/>
                    </a:lnTo>
                    <a:close/>
                  </a:path>
                </a:pathLst>
              </a:custGeom>
              <a:solidFill>
                <a:srgbClr val="c4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924840" y="1542960"/>
                <a:ext cx="939600" cy="3240"/>
              </a:xfrm>
              <a:custGeom>
                <a:avLst/>
                <a:gdLst/>
                <a:ahLst/>
                <a:rect l="l" t="t" r="r" b="b"/>
                <a:pathLst>
                  <a:path w="5539" h="17">
                    <a:moveTo>
                      <a:pt x="5522" y="17"/>
                    </a:moveTo>
                    <a:lnTo>
                      <a:pt x="4922" y="17"/>
                    </a:lnTo>
                    <a:lnTo>
                      <a:pt x="4922" y="17"/>
                    </a:lnTo>
                    <a:lnTo>
                      <a:pt x="4939" y="0"/>
                    </a:lnTo>
                    <a:lnTo>
                      <a:pt x="5539" y="0"/>
                    </a:lnTo>
                    <a:lnTo>
                      <a:pt x="5522" y="17"/>
                    </a:lnTo>
                    <a:close/>
                    <a:moveTo>
                      <a:pt x="96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929" y="0"/>
                    </a:lnTo>
                    <a:lnTo>
                      <a:pt x="963" y="17"/>
                    </a:lnTo>
                    <a:close/>
                  </a:path>
                </a:pathLst>
              </a:custGeom>
              <a:solidFill>
                <a:srgbClr val="c4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924840" y="1541520"/>
                <a:ext cx="939600" cy="3240"/>
              </a:xfrm>
              <a:custGeom>
                <a:avLst/>
                <a:gdLst/>
                <a:ahLst/>
                <a:rect l="l" t="t" r="r" b="b"/>
                <a:pathLst>
                  <a:path w="5539" h="17">
                    <a:moveTo>
                      <a:pt x="5530" y="17"/>
                    </a:moveTo>
                    <a:lnTo>
                      <a:pt x="4931" y="17"/>
                    </a:lnTo>
                    <a:lnTo>
                      <a:pt x="4956" y="0"/>
                    </a:lnTo>
                    <a:lnTo>
                      <a:pt x="5539" y="0"/>
                    </a:lnTo>
                    <a:lnTo>
                      <a:pt x="5530" y="17"/>
                    </a:lnTo>
                    <a:close/>
                    <a:moveTo>
                      <a:pt x="946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912" y="0"/>
                    </a:lnTo>
                    <a:lnTo>
                      <a:pt x="946" y="17"/>
                    </a:lnTo>
                    <a:close/>
                  </a:path>
                </a:pathLst>
              </a:custGeom>
              <a:solidFill>
                <a:srgbClr val="c4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923400" y="1540080"/>
                <a:ext cx="942480" cy="2880"/>
              </a:xfrm>
              <a:custGeom>
                <a:avLst/>
                <a:gdLst/>
                <a:ahLst/>
                <a:rect l="l" t="t" r="r" b="b"/>
                <a:pathLst>
                  <a:path w="5555" h="17">
                    <a:moveTo>
                      <a:pt x="5547" y="17"/>
                    </a:moveTo>
                    <a:lnTo>
                      <a:pt x="4947" y="17"/>
                    </a:lnTo>
                    <a:lnTo>
                      <a:pt x="4973" y="0"/>
                    </a:lnTo>
                    <a:lnTo>
                      <a:pt x="5555" y="0"/>
                    </a:lnTo>
                    <a:lnTo>
                      <a:pt x="5547" y="17"/>
                    </a:lnTo>
                    <a:close/>
                    <a:moveTo>
                      <a:pt x="937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895" y="0"/>
                    </a:lnTo>
                    <a:lnTo>
                      <a:pt x="937" y="17"/>
                    </a:lnTo>
                    <a:close/>
                  </a:path>
                </a:pathLst>
              </a:custGeom>
              <a:solidFill>
                <a:srgbClr val="c5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921960" y="1536840"/>
                <a:ext cx="943920" cy="4680"/>
              </a:xfrm>
              <a:custGeom>
                <a:avLst/>
                <a:gdLst/>
                <a:ahLst/>
                <a:rect l="l" t="t" r="r" b="b"/>
                <a:pathLst>
                  <a:path w="5564" h="25">
                    <a:moveTo>
                      <a:pt x="5556" y="25"/>
                    </a:moveTo>
                    <a:lnTo>
                      <a:pt x="4973" y="25"/>
                    </a:lnTo>
                    <a:lnTo>
                      <a:pt x="4998" y="0"/>
                    </a:lnTo>
                    <a:lnTo>
                      <a:pt x="5564" y="0"/>
                    </a:lnTo>
                    <a:lnTo>
                      <a:pt x="5556" y="25"/>
                    </a:lnTo>
                    <a:close/>
                    <a:moveTo>
                      <a:pt x="929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887" y="0"/>
                    </a:lnTo>
                    <a:lnTo>
                      <a:pt x="929" y="25"/>
                    </a:lnTo>
                    <a:close/>
                  </a:path>
                </a:pathLst>
              </a:custGeom>
              <a:solidFill>
                <a:srgbClr val="c5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920160" y="1535040"/>
                <a:ext cx="947520" cy="5040"/>
              </a:xfrm>
              <a:custGeom>
                <a:avLst/>
                <a:gdLst/>
                <a:ahLst/>
                <a:rect l="l" t="t" r="r" b="b"/>
                <a:pathLst>
                  <a:path w="5580" h="25">
                    <a:moveTo>
                      <a:pt x="5572" y="25"/>
                    </a:moveTo>
                    <a:lnTo>
                      <a:pt x="4990" y="25"/>
                    </a:lnTo>
                    <a:lnTo>
                      <a:pt x="5015" y="0"/>
                    </a:lnTo>
                    <a:lnTo>
                      <a:pt x="5580" y="0"/>
                    </a:lnTo>
                    <a:lnTo>
                      <a:pt x="5572" y="25"/>
                    </a:lnTo>
                    <a:close/>
                    <a:moveTo>
                      <a:pt x="912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878" y="0"/>
                    </a:lnTo>
                    <a:lnTo>
                      <a:pt x="912" y="25"/>
                    </a:lnTo>
                    <a:close/>
                  </a:path>
                </a:pathLst>
              </a:custGeom>
              <a:solidFill>
                <a:srgbClr val="c6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920160" y="1533600"/>
                <a:ext cx="948960" cy="3240"/>
              </a:xfrm>
              <a:custGeom>
                <a:avLst/>
                <a:gdLst/>
                <a:ahLst/>
                <a:rect l="l" t="t" r="r" b="b"/>
                <a:pathLst>
                  <a:path w="5597" h="17">
                    <a:moveTo>
                      <a:pt x="5580" y="17"/>
                    </a:moveTo>
                    <a:lnTo>
                      <a:pt x="5014" y="17"/>
                    </a:lnTo>
                    <a:lnTo>
                      <a:pt x="5031" y="0"/>
                    </a:lnTo>
                    <a:lnTo>
                      <a:pt x="5597" y="0"/>
                    </a:lnTo>
                    <a:lnTo>
                      <a:pt x="5580" y="17"/>
                    </a:lnTo>
                    <a:close/>
                    <a:moveTo>
                      <a:pt x="903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861" y="0"/>
                    </a:lnTo>
                    <a:lnTo>
                      <a:pt x="903" y="17"/>
                    </a:lnTo>
                    <a:close/>
                  </a:path>
                </a:pathLst>
              </a:custGeom>
              <a:solidFill>
                <a:srgbClr val="c6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918720" y="1532160"/>
                <a:ext cx="950400" cy="2880"/>
              </a:xfrm>
              <a:custGeom>
                <a:avLst/>
                <a:gdLst/>
                <a:ahLst/>
                <a:rect l="l" t="t" r="r" b="b"/>
                <a:pathLst>
                  <a:path w="5606" h="17">
                    <a:moveTo>
                      <a:pt x="5597" y="17"/>
                    </a:moveTo>
                    <a:lnTo>
                      <a:pt x="5032" y="17"/>
                    </a:lnTo>
                    <a:lnTo>
                      <a:pt x="5057" y="0"/>
                    </a:lnTo>
                    <a:lnTo>
                      <a:pt x="5606" y="0"/>
                    </a:lnTo>
                    <a:lnTo>
                      <a:pt x="5597" y="17"/>
                    </a:lnTo>
                    <a:close/>
                    <a:moveTo>
                      <a:pt x="89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853" y="0"/>
                    </a:lnTo>
                    <a:lnTo>
                      <a:pt x="895" y="17"/>
                    </a:lnTo>
                    <a:close/>
                  </a:path>
                </a:pathLst>
              </a:custGeom>
              <a:solidFill>
                <a:srgbClr val="c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916920" y="1528920"/>
                <a:ext cx="954000" cy="4680"/>
              </a:xfrm>
              <a:custGeom>
                <a:avLst/>
                <a:gdLst/>
                <a:ahLst/>
                <a:rect l="l" t="t" r="r" b="b"/>
                <a:pathLst>
                  <a:path w="5622" h="25">
                    <a:moveTo>
                      <a:pt x="5614" y="25"/>
                    </a:moveTo>
                    <a:lnTo>
                      <a:pt x="5048" y="25"/>
                    </a:lnTo>
                    <a:lnTo>
                      <a:pt x="5074" y="0"/>
                    </a:lnTo>
                    <a:lnTo>
                      <a:pt x="5622" y="0"/>
                    </a:lnTo>
                    <a:lnTo>
                      <a:pt x="5614" y="25"/>
                    </a:lnTo>
                    <a:close/>
                    <a:moveTo>
                      <a:pt x="878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844" y="0"/>
                    </a:lnTo>
                    <a:lnTo>
                      <a:pt x="878" y="25"/>
                    </a:lnTo>
                    <a:close/>
                  </a:path>
                </a:pathLst>
              </a:custGeom>
              <a:solidFill>
                <a:srgbClr val="c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915480" y="1527120"/>
                <a:ext cx="955440" cy="5040"/>
              </a:xfrm>
              <a:custGeom>
                <a:avLst/>
                <a:gdLst/>
                <a:ahLst/>
                <a:rect l="l" t="t" r="r" b="b"/>
                <a:pathLst>
                  <a:path w="5640" h="26">
                    <a:moveTo>
                      <a:pt x="5623" y="26"/>
                    </a:moveTo>
                    <a:lnTo>
                      <a:pt x="5074" y="26"/>
                    </a:lnTo>
                    <a:lnTo>
                      <a:pt x="5091" y="0"/>
                    </a:lnTo>
                    <a:lnTo>
                      <a:pt x="5640" y="0"/>
                    </a:lnTo>
                    <a:lnTo>
                      <a:pt x="5623" y="26"/>
                    </a:lnTo>
                    <a:close/>
                    <a:moveTo>
                      <a:pt x="870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836" y="0"/>
                    </a:lnTo>
                    <a:lnTo>
                      <a:pt x="870" y="26"/>
                    </a:lnTo>
                    <a:close/>
                  </a:path>
                </a:pathLst>
              </a:custGeom>
              <a:solidFill>
                <a:srgbClr val="c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914040" y="1525680"/>
                <a:ext cx="956880" cy="3240"/>
              </a:xfrm>
              <a:custGeom>
                <a:avLst/>
                <a:gdLst/>
                <a:ahLst/>
                <a:rect l="l" t="t" r="r" b="b"/>
                <a:pathLst>
                  <a:path w="5648" h="17">
                    <a:moveTo>
                      <a:pt x="5639" y="17"/>
                    </a:moveTo>
                    <a:lnTo>
                      <a:pt x="5091" y="17"/>
                    </a:lnTo>
                    <a:lnTo>
                      <a:pt x="5116" y="0"/>
                    </a:lnTo>
                    <a:lnTo>
                      <a:pt x="5648" y="0"/>
                    </a:lnTo>
                    <a:lnTo>
                      <a:pt x="5639" y="17"/>
                    </a:lnTo>
                    <a:close/>
                    <a:moveTo>
                      <a:pt x="861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861" y="17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914040" y="1523880"/>
                <a:ext cx="958320" cy="3240"/>
              </a:xfrm>
              <a:custGeom>
                <a:avLst/>
                <a:gdLst/>
                <a:ahLst/>
                <a:rect l="l" t="t" r="r" b="b"/>
                <a:pathLst>
                  <a:path w="5656" h="16">
                    <a:moveTo>
                      <a:pt x="5648" y="16"/>
                    </a:moveTo>
                    <a:lnTo>
                      <a:pt x="5099" y="16"/>
                    </a:lnTo>
                    <a:lnTo>
                      <a:pt x="5124" y="0"/>
                    </a:lnTo>
                    <a:lnTo>
                      <a:pt x="5656" y="0"/>
                    </a:lnTo>
                    <a:lnTo>
                      <a:pt x="5656" y="8"/>
                    </a:lnTo>
                    <a:lnTo>
                      <a:pt x="5648" y="16"/>
                    </a:lnTo>
                    <a:close/>
                    <a:moveTo>
                      <a:pt x="844" y="16"/>
                    </a:moveTo>
                    <a:lnTo>
                      <a:pt x="8" y="16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844" y="16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910800" y="1522440"/>
                <a:ext cx="961560" cy="3240"/>
              </a:xfrm>
              <a:custGeom>
                <a:avLst/>
                <a:gdLst/>
                <a:ahLst/>
                <a:rect l="l" t="t" r="r" b="b"/>
                <a:pathLst>
                  <a:path w="5673" h="17">
                    <a:moveTo>
                      <a:pt x="5665" y="17"/>
                    </a:moveTo>
                    <a:lnTo>
                      <a:pt x="5133" y="17"/>
                    </a:lnTo>
                    <a:lnTo>
                      <a:pt x="5141" y="9"/>
                    </a:lnTo>
                    <a:lnTo>
                      <a:pt x="5150" y="0"/>
                    </a:lnTo>
                    <a:lnTo>
                      <a:pt x="5673" y="0"/>
                    </a:lnTo>
                    <a:lnTo>
                      <a:pt x="5673" y="17"/>
                    </a:lnTo>
                    <a:lnTo>
                      <a:pt x="5665" y="17"/>
                    </a:lnTo>
                    <a:close/>
                    <a:moveTo>
                      <a:pt x="84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844" y="17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910800" y="1519200"/>
                <a:ext cx="963360" cy="4680"/>
              </a:xfrm>
              <a:custGeom>
                <a:avLst/>
                <a:gdLst/>
                <a:ahLst/>
                <a:rect l="l" t="t" r="r" b="b"/>
                <a:pathLst>
                  <a:path w="5682" h="26">
                    <a:moveTo>
                      <a:pt x="5673" y="26"/>
                    </a:moveTo>
                    <a:lnTo>
                      <a:pt x="5141" y="26"/>
                    </a:lnTo>
                    <a:lnTo>
                      <a:pt x="5141" y="26"/>
                    </a:lnTo>
                    <a:lnTo>
                      <a:pt x="5158" y="0"/>
                    </a:lnTo>
                    <a:lnTo>
                      <a:pt x="5682" y="0"/>
                    </a:lnTo>
                    <a:lnTo>
                      <a:pt x="5673" y="26"/>
                    </a:lnTo>
                    <a:close/>
                    <a:moveTo>
                      <a:pt x="819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785" y="0"/>
                    </a:lnTo>
                    <a:lnTo>
                      <a:pt x="819" y="26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909000" y="1517760"/>
                <a:ext cx="965160" cy="4680"/>
              </a:xfrm>
              <a:custGeom>
                <a:avLst/>
                <a:gdLst/>
                <a:ahLst/>
                <a:rect l="l" t="t" r="r" b="b"/>
                <a:pathLst>
                  <a:path w="5691" h="25">
                    <a:moveTo>
                      <a:pt x="5682" y="25"/>
                    </a:moveTo>
                    <a:lnTo>
                      <a:pt x="5159" y="25"/>
                    </a:lnTo>
                    <a:lnTo>
                      <a:pt x="5176" y="0"/>
                    </a:lnTo>
                    <a:lnTo>
                      <a:pt x="5691" y="0"/>
                    </a:lnTo>
                    <a:lnTo>
                      <a:pt x="5682" y="25"/>
                    </a:lnTo>
                    <a:close/>
                    <a:moveTo>
                      <a:pt x="811" y="25"/>
                    </a:moveTo>
                    <a:lnTo>
                      <a:pt x="9" y="25"/>
                    </a:lnTo>
                    <a:lnTo>
                      <a:pt x="0" y="0"/>
                    </a:lnTo>
                    <a:lnTo>
                      <a:pt x="769" y="0"/>
                    </a:lnTo>
                    <a:lnTo>
                      <a:pt x="811" y="25"/>
                    </a:lnTo>
                    <a:close/>
                  </a:path>
                </a:pathLst>
              </a:custGeom>
              <a:solidFill>
                <a:srgbClr val="c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07560" y="1515960"/>
                <a:ext cx="968040" cy="3240"/>
              </a:xfrm>
              <a:custGeom>
                <a:avLst/>
                <a:gdLst/>
                <a:ahLst/>
                <a:rect l="l" t="t" r="r" b="b"/>
                <a:pathLst>
                  <a:path w="5707" h="17">
                    <a:moveTo>
                      <a:pt x="5699" y="17"/>
                    </a:moveTo>
                    <a:lnTo>
                      <a:pt x="5175" y="17"/>
                    </a:lnTo>
                    <a:lnTo>
                      <a:pt x="5201" y="0"/>
                    </a:lnTo>
                    <a:lnTo>
                      <a:pt x="5707" y="0"/>
                    </a:lnTo>
                    <a:lnTo>
                      <a:pt x="5699" y="17"/>
                    </a:lnTo>
                    <a:close/>
                    <a:moveTo>
                      <a:pt x="802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760" y="0"/>
                    </a:lnTo>
                    <a:lnTo>
                      <a:pt x="802" y="17"/>
                    </a:lnTo>
                    <a:close/>
                  </a:path>
                </a:pathLst>
              </a:custGeom>
              <a:solidFill>
                <a:srgbClr val="c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906120" y="1515960"/>
                <a:ext cx="969480" cy="1800"/>
              </a:xfrm>
              <a:custGeom>
                <a:avLst/>
                <a:gdLst/>
                <a:ahLst/>
                <a:rect l="l" t="t" r="r" b="b"/>
                <a:pathLst>
                  <a:path w="5715" h="17">
                    <a:moveTo>
                      <a:pt x="5707" y="17"/>
                    </a:moveTo>
                    <a:lnTo>
                      <a:pt x="5192" y="17"/>
                    </a:lnTo>
                    <a:lnTo>
                      <a:pt x="5217" y="0"/>
                    </a:lnTo>
                    <a:lnTo>
                      <a:pt x="5715" y="0"/>
                    </a:lnTo>
                    <a:lnTo>
                      <a:pt x="5707" y="17"/>
                    </a:lnTo>
                    <a:close/>
                    <a:moveTo>
                      <a:pt x="785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751" y="0"/>
                    </a:lnTo>
                    <a:lnTo>
                      <a:pt x="785" y="17"/>
                    </a:lnTo>
                    <a:close/>
                  </a:path>
                </a:pathLst>
              </a:custGeom>
              <a:solidFill>
                <a:srgbClr val="c9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904320" y="1513080"/>
                <a:ext cx="972720" cy="2880"/>
              </a:xfrm>
              <a:custGeom>
                <a:avLst/>
                <a:gdLst/>
                <a:ahLst/>
                <a:rect l="l" t="t" r="r" b="b"/>
                <a:pathLst>
                  <a:path w="5733" h="25">
                    <a:moveTo>
                      <a:pt x="5724" y="25"/>
                    </a:moveTo>
                    <a:lnTo>
                      <a:pt x="5218" y="25"/>
                    </a:lnTo>
                    <a:lnTo>
                      <a:pt x="5234" y="0"/>
                    </a:lnTo>
                    <a:lnTo>
                      <a:pt x="5733" y="0"/>
                    </a:lnTo>
                    <a:lnTo>
                      <a:pt x="5724" y="25"/>
                    </a:lnTo>
                    <a:close/>
                    <a:moveTo>
                      <a:pt x="777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743" y="0"/>
                    </a:lnTo>
                    <a:lnTo>
                      <a:pt x="777" y="25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904320" y="1511280"/>
                <a:ext cx="972720" cy="4680"/>
              </a:xfrm>
              <a:custGeom>
                <a:avLst/>
                <a:gdLst/>
                <a:ahLst/>
                <a:rect l="l" t="t" r="r" b="b"/>
                <a:pathLst>
                  <a:path w="5741" h="25">
                    <a:moveTo>
                      <a:pt x="5732" y="25"/>
                    </a:moveTo>
                    <a:lnTo>
                      <a:pt x="5234" y="25"/>
                    </a:lnTo>
                    <a:lnTo>
                      <a:pt x="5251" y="0"/>
                    </a:lnTo>
                    <a:lnTo>
                      <a:pt x="5741" y="0"/>
                    </a:lnTo>
                    <a:lnTo>
                      <a:pt x="5732" y="25"/>
                    </a:lnTo>
                    <a:close/>
                    <a:moveTo>
                      <a:pt x="768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726" y="0"/>
                    </a:lnTo>
                    <a:lnTo>
                      <a:pt x="768" y="25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02880" y="1509840"/>
                <a:ext cx="975960" cy="3240"/>
              </a:xfrm>
              <a:custGeom>
                <a:avLst/>
                <a:gdLst/>
                <a:ahLst/>
                <a:rect l="l" t="t" r="r" b="b"/>
                <a:pathLst>
                  <a:path w="5758" h="17">
                    <a:moveTo>
                      <a:pt x="5750" y="17"/>
                    </a:moveTo>
                    <a:lnTo>
                      <a:pt x="5251" y="17"/>
                    </a:lnTo>
                    <a:lnTo>
                      <a:pt x="5268" y="0"/>
                    </a:lnTo>
                    <a:lnTo>
                      <a:pt x="5758" y="0"/>
                    </a:lnTo>
                    <a:lnTo>
                      <a:pt x="5750" y="17"/>
                    </a:lnTo>
                    <a:close/>
                    <a:moveTo>
                      <a:pt x="760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718" y="0"/>
                    </a:lnTo>
                    <a:lnTo>
                      <a:pt x="760" y="17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01080" y="1508040"/>
                <a:ext cx="977760" cy="3240"/>
              </a:xfrm>
              <a:custGeom>
                <a:avLst/>
                <a:gdLst/>
                <a:ahLst/>
                <a:rect l="l" t="t" r="r" b="b"/>
                <a:pathLst>
                  <a:path w="5766" h="17">
                    <a:moveTo>
                      <a:pt x="5758" y="17"/>
                    </a:moveTo>
                    <a:lnTo>
                      <a:pt x="5268" y="17"/>
                    </a:lnTo>
                    <a:lnTo>
                      <a:pt x="5285" y="0"/>
                    </a:lnTo>
                    <a:lnTo>
                      <a:pt x="5766" y="0"/>
                    </a:lnTo>
                    <a:lnTo>
                      <a:pt x="5758" y="17"/>
                    </a:lnTo>
                    <a:close/>
                    <a:moveTo>
                      <a:pt x="74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709" y="0"/>
                    </a:lnTo>
                    <a:lnTo>
                      <a:pt x="743" y="17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99640" y="1505160"/>
                <a:ext cx="980640" cy="4680"/>
              </a:xfrm>
              <a:custGeom>
                <a:avLst/>
                <a:gdLst/>
                <a:ahLst/>
                <a:rect l="l" t="t" r="r" b="b"/>
                <a:pathLst>
                  <a:path w="5783" h="25">
                    <a:moveTo>
                      <a:pt x="5775" y="25"/>
                    </a:moveTo>
                    <a:lnTo>
                      <a:pt x="5285" y="25"/>
                    </a:lnTo>
                    <a:lnTo>
                      <a:pt x="5302" y="0"/>
                    </a:lnTo>
                    <a:lnTo>
                      <a:pt x="5783" y="0"/>
                    </a:lnTo>
                    <a:lnTo>
                      <a:pt x="5775" y="25"/>
                    </a:lnTo>
                    <a:close/>
                    <a:moveTo>
                      <a:pt x="735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735" y="25"/>
                    </a:lnTo>
                    <a:close/>
                  </a:path>
                </a:pathLst>
              </a:custGeom>
              <a:solidFill>
                <a:srgbClr val="ca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99640" y="1503360"/>
                <a:ext cx="980640" cy="4680"/>
              </a:xfrm>
              <a:custGeom>
                <a:avLst/>
                <a:gdLst/>
                <a:ahLst/>
                <a:rect l="l" t="t" r="r" b="b"/>
                <a:pathLst>
                  <a:path w="5783" h="26">
                    <a:moveTo>
                      <a:pt x="5775" y="26"/>
                    </a:moveTo>
                    <a:lnTo>
                      <a:pt x="5294" y="26"/>
                    </a:lnTo>
                    <a:lnTo>
                      <a:pt x="5319" y="0"/>
                    </a:lnTo>
                    <a:lnTo>
                      <a:pt x="5783" y="0"/>
                    </a:lnTo>
                    <a:lnTo>
                      <a:pt x="5775" y="26"/>
                    </a:lnTo>
                    <a:close/>
                    <a:moveTo>
                      <a:pt x="718" y="26"/>
                    </a:moveTo>
                    <a:lnTo>
                      <a:pt x="9" y="26"/>
                    </a:lnTo>
                    <a:lnTo>
                      <a:pt x="0" y="0"/>
                    </a:lnTo>
                    <a:lnTo>
                      <a:pt x="676" y="0"/>
                    </a:lnTo>
                    <a:lnTo>
                      <a:pt x="718" y="26"/>
                    </a:lnTo>
                    <a:close/>
                  </a:path>
                </a:pathLst>
              </a:custGeom>
              <a:solidFill>
                <a:srgbClr val="ca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98200" y="1501920"/>
                <a:ext cx="983880" cy="3240"/>
              </a:xfrm>
              <a:custGeom>
                <a:avLst/>
                <a:gdLst/>
                <a:ahLst/>
                <a:rect l="l" t="t" r="r" b="b"/>
                <a:pathLst>
                  <a:path w="5800" h="17">
                    <a:moveTo>
                      <a:pt x="5791" y="17"/>
                    </a:moveTo>
                    <a:lnTo>
                      <a:pt x="5310" y="17"/>
                    </a:lnTo>
                    <a:lnTo>
                      <a:pt x="5336" y="0"/>
                    </a:lnTo>
                    <a:lnTo>
                      <a:pt x="5800" y="0"/>
                    </a:lnTo>
                    <a:lnTo>
                      <a:pt x="5791" y="17"/>
                    </a:lnTo>
                    <a:close/>
                    <a:moveTo>
                      <a:pt x="709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667" y="0"/>
                    </a:lnTo>
                    <a:lnTo>
                      <a:pt x="709" y="17"/>
                    </a:lnTo>
                    <a:close/>
                  </a:path>
                </a:pathLst>
              </a:custGeom>
              <a:solidFill>
                <a:srgbClr val="ca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96400" y="1500120"/>
                <a:ext cx="987120" cy="3240"/>
              </a:xfrm>
              <a:custGeom>
                <a:avLst/>
                <a:gdLst/>
                <a:ahLst/>
                <a:rect l="l" t="t" r="r" b="b"/>
                <a:pathLst>
                  <a:path w="5817" h="17">
                    <a:moveTo>
                      <a:pt x="5800" y="17"/>
                    </a:moveTo>
                    <a:lnTo>
                      <a:pt x="5336" y="17"/>
                    </a:lnTo>
                    <a:lnTo>
                      <a:pt x="5353" y="0"/>
                    </a:lnTo>
                    <a:lnTo>
                      <a:pt x="5817" y="0"/>
                    </a:lnTo>
                    <a:lnTo>
                      <a:pt x="5800" y="17"/>
                    </a:lnTo>
                    <a:close/>
                    <a:moveTo>
                      <a:pt x="69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659" y="0"/>
                    </a:lnTo>
                    <a:lnTo>
                      <a:pt x="693" y="17"/>
                    </a:lnTo>
                    <a:close/>
                  </a:path>
                </a:pathLst>
              </a:custGeom>
              <a:solidFill>
                <a:srgbClr val="c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94960" y="1498680"/>
                <a:ext cx="988560" cy="3240"/>
              </a:xfrm>
              <a:custGeom>
                <a:avLst/>
                <a:gdLst/>
                <a:ahLst/>
                <a:rect l="l" t="t" r="r" b="b"/>
                <a:pathLst>
                  <a:path w="5825" h="17">
                    <a:moveTo>
                      <a:pt x="5817" y="17"/>
                    </a:moveTo>
                    <a:lnTo>
                      <a:pt x="5353" y="17"/>
                    </a:lnTo>
                    <a:lnTo>
                      <a:pt x="5369" y="0"/>
                    </a:lnTo>
                    <a:lnTo>
                      <a:pt x="5825" y="0"/>
                    </a:lnTo>
                    <a:lnTo>
                      <a:pt x="5817" y="17"/>
                    </a:lnTo>
                    <a:close/>
                    <a:moveTo>
                      <a:pt x="68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642" y="0"/>
                    </a:lnTo>
                    <a:lnTo>
                      <a:pt x="650" y="0"/>
                    </a:lnTo>
                    <a:lnTo>
                      <a:pt x="684" y="17"/>
                    </a:lnTo>
                    <a:close/>
                  </a:path>
                </a:pathLst>
              </a:custGeom>
              <a:solidFill>
                <a:srgbClr val="cb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93160" y="1495440"/>
                <a:ext cx="990360" cy="4680"/>
              </a:xfrm>
              <a:custGeom>
                <a:avLst/>
                <a:gdLst/>
                <a:ahLst/>
                <a:rect l="l" t="t" r="r" b="b"/>
                <a:pathLst>
                  <a:path w="5833" h="25">
                    <a:moveTo>
                      <a:pt x="5833" y="25"/>
                    </a:moveTo>
                    <a:lnTo>
                      <a:pt x="5369" y="25"/>
                    </a:lnTo>
                    <a:lnTo>
                      <a:pt x="5386" y="9"/>
                    </a:lnTo>
                    <a:lnTo>
                      <a:pt x="5386" y="0"/>
                    </a:lnTo>
                    <a:lnTo>
                      <a:pt x="5833" y="0"/>
                    </a:lnTo>
                    <a:lnTo>
                      <a:pt x="5833" y="25"/>
                    </a:lnTo>
                    <a:close/>
                    <a:moveTo>
                      <a:pt x="675" y="25"/>
                    </a:moveTo>
                    <a:lnTo>
                      <a:pt x="16" y="25"/>
                    </a:lnTo>
                    <a:lnTo>
                      <a:pt x="0" y="0"/>
                    </a:lnTo>
                    <a:lnTo>
                      <a:pt x="641" y="0"/>
                    </a:lnTo>
                    <a:lnTo>
                      <a:pt x="658" y="17"/>
                    </a:lnTo>
                    <a:lnTo>
                      <a:pt x="675" y="25"/>
                    </a:lnTo>
                    <a:close/>
                  </a:path>
                </a:pathLst>
              </a:custGeom>
              <a:solidFill>
                <a:srgbClr val="cc8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891720" y="1494000"/>
                <a:ext cx="993240" cy="4680"/>
              </a:xfrm>
              <a:custGeom>
                <a:avLst/>
                <a:gdLst/>
                <a:ahLst/>
                <a:rect l="l" t="t" r="r" b="b"/>
                <a:pathLst>
                  <a:path w="5851" h="25">
                    <a:moveTo>
                      <a:pt x="5842" y="25"/>
                    </a:moveTo>
                    <a:lnTo>
                      <a:pt x="5386" y="25"/>
                    </a:lnTo>
                    <a:lnTo>
                      <a:pt x="5395" y="17"/>
                    </a:lnTo>
                    <a:lnTo>
                      <a:pt x="5403" y="0"/>
                    </a:lnTo>
                    <a:lnTo>
                      <a:pt x="5851" y="0"/>
                    </a:lnTo>
                    <a:lnTo>
                      <a:pt x="5842" y="25"/>
                    </a:lnTo>
                    <a:close/>
                    <a:moveTo>
                      <a:pt x="659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633" y="0"/>
                    </a:lnTo>
                    <a:lnTo>
                      <a:pt x="659" y="25"/>
                    </a:lnTo>
                    <a:close/>
                  </a:path>
                </a:pathLst>
              </a:custGeom>
              <a:solidFill>
                <a:srgbClr val="cc8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89920" y="1492200"/>
                <a:ext cx="995040" cy="3240"/>
              </a:xfrm>
              <a:custGeom>
                <a:avLst/>
                <a:gdLst/>
                <a:ahLst/>
                <a:rect l="l" t="t" r="r" b="b"/>
                <a:pathLst>
                  <a:path w="5859" h="17">
                    <a:moveTo>
                      <a:pt x="5850" y="17"/>
                    </a:moveTo>
                    <a:lnTo>
                      <a:pt x="5403" y="17"/>
                    </a:lnTo>
                    <a:lnTo>
                      <a:pt x="5428" y="0"/>
                    </a:lnTo>
                    <a:lnTo>
                      <a:pt x="5859" y="0"/>
                    </a:lnTo>
                    <a:lnTo>
                      <a:pt x="5850" y="17"/>
                    </a:lnTo>
                    <a:close/>
                    <a:moveTo>
                      <a:pt x="658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624" y="0"/>
                    </a:lnTo>
                    <a:lnTo>
                      <a:pt x="658" y="17"/>
                    </a:lnTo>
                    <a:close/>
                  </a:path>
                </a:pathLst>
              </a:custGeom>
              <a:solidFill>
                <a:srgbClr val="cc8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88480" y="1490760"/>
                <a:ext cx="996480" cy="3240"/>
              </a:xfrm>
              <a:custGeom>
                <a:avLst/>
                <a:gdLst/>
                <a:ahLst/>
                <a:rect l="l" t="t" r="r" b="b"/>
                <a:pathLst>
                  <a:path w="5876" h="17">
                    <a:moveTo>
                      <a:pt x="5868" y="17"/>
                    </a:moveTo>
                    <a:lnTo>
                      <a:pt x="5420" y="17"/>
                    </a:lnTo>
                    <a:lnTo>
                      <a:pt x="5446" y="0"/>
                    </a:lnTo>
                    <a:lnTo>
                      <a:pt x="5876" y="0"/>
                    </a:lnTo>
                    <a:lnTo>
                      <a:pt x="5868" y="17"/>
                    </a:lnTo>
                    <a:close/>
                    <a:moveTo>
                      <a:pt x="650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617" y="0"/>
                    </a:lnTo>
                    <a:lnTo>
                      <a:pt x="650" y="17"/>
                    </a:lnTo>
                    <a:close/>
                  </a:path>
                </a:pathLst>
              </a:custGeom>
              <a:solidFill>
                <a:srgbClr val="cc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88480" y="1487520"/>
                <a:ext cx="996480" cy="4680"/>
              </a:xfrm>
              <a:custGeom>
                <a:avLst/>
                <a:gdLst/>
                <a:ahLst/>
                <a:rect l="l" t="t" r="r" b="b"/>
                <a:pathLst>
                  <a:path w="5884" h="25">
                    <a:moveTo>
                      <a:pt x="5876" y="25"/>
                    </a:moveTo>
                    <a:lnTo>
                      <a:pt x="5445" y="25"/>
                    </a:lnTo>
                    <a:lnTo>
                      <a:pt x="5462" y="0"/>
                    </a:lnTo>
                    <a:lnTo>
                      <a:pt x="5884" y="0"/>
                    </a:lnTo>
                    <a:lnTo>
                      <a:pt x="5876" y="25"/>
                    </a:lnTo>
                    <a:close/>
                    <a:moveTo>
                      <a:pt x="641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41" y="25"/>
                    </a:lnTo>
                    <a:close/>
                  </a:path>
                </a:pathLst>
              </a:custGeom>
              <a:solidFill>
                <a:srgbClr val="cd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88480" y="1486080"/>
                <a:ext cx="998280" cy="4680"/>
              </a:xfrm>
              <a:custGeom>
                <a:avLst/>
                <a:gdLst/>
                <a:ahLst/>
                <a:rect l="l" t="t" r="r" b="b"/>
                <a:pathLst>
                  <a:path w="5893" h="26">
                    <a:moveTo>
                      <a:pt x="5884" y="26"/>
                    </a:moveTo>
                    <a:lnTo>
                      <a:pt x="5454" y="26"/>
                    </a:lnTo>
                    <a:lnTo>
                      <a:pt x="5479" y="0"/>
                    </a:lnTo>
                    <a:lnTo>
                      <a:pt x="5893" y="0"/>
                    </a:lnTo>
                    <a:lnTo>
                      <a:pt x="5884" y="26"/>
                    </a:lnTo>
                    <a:close/>
                    <a:moveTo>
                      <a:pt x="625" y="26"/>
                    </a:moveTo>
                    <a:lnTo>
                      <a:pt x="8" y="26"/>
                    </a:lnTo>
                    <a:lnTo>
                      <a:pt x="0" y="0"/>
                    </a:lnTo>
                    <a:lnTo>
                      <a:pt x="591" y="0"/>
                    </a:lnTo>
                    <a:lnTo>
                      <a:pt x="625" y="26"/>
                    </a:lnTo>
                    <a:close/>
                  </a:path>
                </a:pathLst>
              </a:custGeom>
              <a:solidFill>
                <a:srgbClr val="cd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85240" y="1484280"/>
                <a:ext cx="1002960" cy="3240"/>
              </a:xfrm>
              <a:custGeom>
                <a:avLst/>
                <a:gdLst/>
                <a:ahLst/>
                <a:rect l="l" t="t" r="r" b="b"/>
                <a:pathLst>
                  <a:path w="5918" h="17">
                    <a:moveTo>
                      <a:pt x="5901" y="17"/>
                    </a:moveTo>
                    <a:lnTo>
                      <a:pt x="5479" y="17"/>
                    </a:lnTo>
                    <a:lnTo>
                      <a:pt x="5504" y="0"/>
                    </a:lnTo>
                    <a:lnTo>
                      <a:pt x="5918" y="0"/>
                    </a:lnTo>
                    <a:lnTo>
                      <a:pt x="5901" y="17"/>
                    </a:lnTo>
                    <a:close/>
                    <a:moveTo>
                      <a:pt x="62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82" y="0"/>
                    </a:lnTo>
                    <a:lnTo>
                      <a:pt x="625" y="17"/>
                    </a:lnTo>
                    <a:close/>
                  </a:path>
                </a:pathLst>
              </a:custGeom>
              <a:solidFill>
                <a:srgbClr val="cd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85240" y="1482840"/>
                <a:ext cx="1002960" cy="3240"/>
              </a:xfrm>
              <a:custGeom>
                <a:avLst/>
                <a:gdLst/>
                <a:ahLst/>
                <a:rect l="l" t="t" r="r" b="b"/>
                <a:pathLst>
                  <a:path w="5918" h="16">
                    <a:moveTo>
                      <a:pt x="5910" y="16"/>
                    </a:moveTo>
                    <a:lnTo>
                      <a:pt x="5496" y="16"/>
                    </a:lnTo>
                    <a:lnTo>
                      <a:pt x="5513" y="0"/>
                    </a:lnTo>
                    <a:lnTo>
                      <a:pt x="5918" y="0"/>
                    </a:lnTo>
                    <a:lnTo>
                      <a:pt x="5910" y="16"/>
                    </a:lnTo>
                    <a:close/>
                    <a:moveTo>
                      <a:pt x="608" y="16"/>
                    </a:moveTo>
                    <a:lnTo>
                      <a:pt x="17" y="16"/>
                    </a:lnTo>
                    <a:lnTo>
                      <a:pt x="0" y="0"/>
                    </a:lnTo>
                    <a:lnTo>
                      <a:pt x="574" y="0"/>
                    </a:lnTo>
                    <a:lnTo>
                      <a:pt x="608" y="16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83800" y="1481040"/>
                <a:ext cx="1004400" cy="3240"/>
              </a:xfrm>
              <a:custGeom>
                <a:avLst/>
                <a:gdLst/>
                <a:ahLst/>
                <a:rect l="l" t="t" r="r" b="b"/>
                <a:pathLst>
                  <a:path w="5927" h="17">
                    <a:moveTo>
                      <a:pt x="5927" y="17"/>
                    </a:moveTo>
                    <a:lnTo>
                      <a:pt x="5513" y="17"/>
                    </a:lnTo>
                    <a:lnTo>
                      <a:pt x="5530" y="0"/>
                    </a:lnTo>
                    <a:lnTo>
                      <a:pt x="5927" y="0"/>
                    </a:lnTo>
                    <a:lnTo>
                      <a:pt x="5927" y="17"/>
                    </a:lnTo>
                    <a:close/>
                    <a:moveTo>
                      <a:pt x="591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558" y="0"/>
                    </a:lnTo>
                    <a:lnTo>
                      <a:pt x="591" y="17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82000" y="1478160"/>
                <a:ext cx="1008000" cy="4680"/>
              </a:xfrm>
              <a:custGeom>
                <a:avLst/>
                <a:gdLst/>
                <a:ahLst/>
                <a:rect l="l" t="t" r="r" b="b"/>
                <a:pathLst>
                  <a:path w="5944" h="26">
                    <a:moveTo>
                      <a:pt x="5935" y="26"/>
                    </a:moveTo>
                    <a:lnTo>
                      <a:pt x="5530" y="26"/>
                    </a:lnTo>
                    <a:lnTo>
                      <a:pt x="5547" y="0"/>
                    </a:lnTo>
                    <a:lnTo>
                      <a:pt x="5944" y="0"/>
                    </a:lnTo>
                    <a:lnTo>
                      <a:pt x="5935" y="26"/>
                    </a:lnTo>
                    <a:close/>
                    <a:moveTo>
                      <a:pt x="591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557" y="0"/>
                    </a:lnTo>
                    <a:lnTo>
                      <a:pt x="591" y="26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80560" y="1476360"/>
                <a:ext cx="1009440" cy="4680"/>
              </a:xfrm>
              <a:custGeom>
                <a:avLst/>
                <a:gdLst/>
                <a:ahLst/>
                <a:rect l="l" t="t" r="r" b="b"/>
                <a:pathLst>
                  <a:path w="5952" h="25">
                    <a:moveTo>
                      <a:pt x="5943" y="25"/>
                    </a:moveTo>
                    <a:lnTo>
                      <a:pt x="5546" y="25"/>
                    </a:lnTo>
                    <a:lnTo>
                      <a:pt x="5572" y="0"/>
                    </a:lnTo>
                    <a:lnTo>
                      <a:pt x="5952" y="0"/>
                    </a:lnTo>
                    <a:lnTo>
                      <a:pt x="5943" y="25"/>
                    </a:lnTo>
                    <a:close/>
                    <a:moveTo>
                      <a:pt x="574" y="25"/>
                    </a:moveTo>
                    <a:lnTo>
                      <a:pt x="16" y="25"/>
                    </a:lnTo>
                    <a:lnTo>
                      <a:pt x="0" y="0"/>
                    </a:lnTo>
                    <a:lnTo>
                      <a:pt x="548" y="0"/>
                    </a:lnTo>
                    <a:lnTo>
                      <a:pt x="574" y="25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79120" y="1474920"/>
                <a:ext cx="1012320" cy="3240"/>
              </a:xfrm>
              <a:custGeom>
                <a:avLst/>
                <a:gdLst/>
                <a:ahLst/>
                <a:rect l="l" t="t" r="r" b="b"/>
                <a:pathLst>
                  <a:path w="5969" h="17">
                    <a:moveTo>
                      <a:pt x="5961" y="17"/>
                    </a:moveTo>
                    <a:lnTo>
                      <a:pt x="5564" y="17"/>
                    </a:lnTo>
                    <a:lnTo>
                      <a:pt x="5589" y="0"/>
                    </a:lnTo>
                    <a:lnTo>
                      <a:pt x="5589" y="0"/>
                    </a:lnTo>
                    <a:lnTo>
                      <a:pt x="5969" y="0"/>
                    </a:lnTo>
                    <a:lnTo>
                      <a:pt x="5961" y="17"/>
                    </a:lnTo>
                    <a:close/>
                    <a:moveTo>
                      <a:pt x="57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74" y="17"/>
                    </a:lnTo>
                    <a:close/>
                  </a:path>
                </a:pathLst>
              </a:custGeom>
              <a:solidFill>
                <a:srgbClr val="ce8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77320" y="1473120"/>
                <a:ext cx="1014120" cy="3240"/>
              </a:xfrm>
              <a:custGeom>
                <a:avLst/>
                <a:gdLst/>
                <a:ahLst/>
                <a:rect l="l" t="t" r="r" b="b"/>
                <a:pathLst>
                  <a:path w="5977" h="17">
                    <a:moveTo>
                      <a:pt x="5969" y="17"/>
                    </a:moveTo>
                    <a:lnTo>
                      <a:pt x="5589" y="17"/>
                    </a:lnTo>
                    <a:lnTo>
                      <a:pt x="5597" y="8"/>
                    </a:lnTo>
                    <a:lnTo>
                      <a:pt x="5606" y="0"/>
                    </a:lnTo>
                    <a:lnTo>
                      <a:pt x="5977" y="0"/>
                    </a:lnTo>
                    <a:lnTo>
                      <a:pt x="5969" y="17"/>
                    </a:lnTo>
                    <a:close/>
                    <a:moveTo>
                      <a:pt x="56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532" y="0"/>
                    </a:lnTo>
                    <a:lnTo>
                      <a:pt x="565" y="17"/>
                    </a:lnTo>
                    <a:close/>
                  </a:path>
                </a:pathLst>
              </a:custGeom>
              <a:solidFill>
                <a:srgbClr val="ce8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75880" y="1470240"/>
                <a:ext cx="1017000" cy="4680"/>
              </a:xfrm>
              <a:custGeom>
                <a:avLst/>
                <a:gdLst/>
                <a:ahLst/>
                <a:rect l="l" t="t" r="r" b="b"/>
                <a:pathLst>
                  <a:path w="5994" h="25">
                    <a:moveTo>
                      <a:pt x="5986" y="25"/>
                    </a:moveTo>
                    <a:lnTo>
                      <a:pt x="5606" y="25"/>
                    </a:lnTo>
                    <a:lnTo>
                      <a:pt x="5631" y="0"/>
                    </a:lnTo>
                    <a:lnTo>
                      <a:pt x="5994" y="0"/>
                    </a:lnTo>
                    <a:lnTo>
                      <a:pt x="5986" y="25"/>
                    </a:lnTo>
                    <a:close/>
                    <a:moveTo>
                      <a:pt x="557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524" y="0"/>
                    </a:lnTo>
                    <a:lnTo>
                      <a:pt x="557" y="25"/>
                    </a:lnTo>
                    <a:close/>
                  </a:path>
                </a:pathLst>
              </a:custGeom>
              <a:solidFill>
                <a:srgbClr val="ce8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75880" y="1468440"/>
                <a:ext cx="1018800" cy="4680"/>
              </a:xfrm>
              <a:custGeom>
                <a:avLst/>
                <a:gdLst/>
                <a:ahLst/>
                <a:rect l="l" t="t" r="r" b="b"/>
                <a:pathLst>
                  <a:path w="6011" h="25">
                    <a:moveTo>
                      <a:pt x="5994" y="25"/>
                    </a:moveTo>
                    <a:lnTo>
                      <a:pt x="5623" y="25"/>
                    </a:lnTo>
                    <a:lnTo>
                      <a:pt x="5648" y="0"/>
                    </a:lnTo>
                    <a:lnTo>
                      <a:pt x="6011" y="0"/>
                    </a:lnTo>
                    <a:lnTo>
                      <a:pt x="5994" y="25"/>
                    </a:lnTo>
                    <a:close/>
                    <a:moveTo>
                      <a:pt x="549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515" y="0"/>
                    </a:lnTo>
                    <a:lnTo>
                      <a:pt x="549" y="25"/>
                    </a:lnTo>
                    <a:close/>
                  </a:path>
                </a:pathLst>
              </a:custGeom>
              <a:solidFill>
                <a:srgbClr val="ce8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74080" y="1467000"/>
                <a:ext cx="1020600" cy="3240"/>
              </a:xfrm>
              <a:custGeom>
                <a:avLst/>
                <a:gdLst/>
                <a:ahLst/>
                <a:rect l="l" t="t" r="r" b="b"/>
                <a:pathLst>
                  <a:path w="6020" h="17">
                    <a:moveTo>
                      <a:pt x="6011" y="17"/>
                    </a:moveTo>
                    <a:lnTo>
                      <a:pt x="5648" y="17"/>
                    </a:lnTo>
                    <a:lnTo>
                      <a:pt x="5665" y="0"/>
                    </a:lnTo>
                    <a:lnTo>
                      <a:pt x="6020" y="0"/>
                    </a:lnTo>
                    <a:lnTo>
                      <a:pt x="6020" y="0"/>
                    </a:lnTo>
                    <a:lnTo>
                      <a:pt x="6011" y="17"/>
                    </a:lnTo>
                    <a:close/>
                    <a:moveTo>
                      <a:pt x="541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541" y="17"/>
                    </a:lnTo>
                    <a:close/>
                  </a:path>
                </a:pathLst>
              </a:custGeom>
              <a:solidFill>
                <a:srgbClr val="cf8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74080" y="1465200"/>
                <a:ext cx="1020600" cy="3240"/>
              </a:xfrm>
              <a:custGeom>
                <a:avLst/>
                <a:gdLst/>
                <a:ahLst/>
                <a:rect l="l" t="t" r="r" b="b"/>
                <a:pathLst>
                  <a:path w="6020" h="17">
                    <a:moveTo>
                      <a:pt x="6020" y="17"/>
                    </a:moveTo>
                    <a:lnTo>
                      <a:pt x="5657" y="17"/>
                    </a:lnTo>
                    <a:lnTo>
                      <a:pt x="5682" y="0"/>
                    </a:lnTo>
                    <a:lnTo>
                      <a:pt x="6020" y="0"/>
                    </a:lnTo>
                    <a:lnTo>
                      <a:pt x="6020" y="8"/>
                    </a:lnTo>
                    <a:lnTo>
                      <a:pt x="6020" y="17"/>
                    </a:lnTo>
                    <a:close/>
                    <a:moveTo>
                      <a:pt x="524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524" y="17"/>
                    </a:lnTo>
                    <a:close/>
                  </a:path>
                </a:pathLst>
              </a:custGeom>
              <a:solidFill>
                <a:srgbClr val="cf8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72640" y="1463760"/>
                <a:ext cx="1022040" cy="3240"/>
              </a:xfrm>
              <a:custGeom>
                <a:avLst/>
                <a:gdLst/>
                <a:ahLst/>
                <a:rect l="l" t="t" r="r" b="b"/>
                <a:pathLst>
                  <a:path w="6028" h="17">
                    <a:moveTo>
                      <a:pt x="6028" y="17"/>
                    </a:moveTo>
                    <a:lnTo>
                      <a:pt x="5673" y="17"/>
                    </a:lnTo>
                    <a:lnTo>
                      <a:pt x="5699" y="0"/>
                    </a:lnTo>
                    <a:lnTo>
                      <a:pt x="6028" y="0"/>
                    </a:lnTo>
                    <a:lnTo>
                      <a:pt x="6028" y="17"/>
                    </a:lnTo>
                    <a:close/>
                    <a:moveTo>
                      <a:pt x="506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506" y="17"/>
                    </a:lnTo>
                    <a:close/>
                  </a:path>
                </a:pathLst>
              </a:custGeom>
              <a:solidFill>
                <a:srgbClr val="cf8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71200" y="1460520"/>
                <a:ext cx="1023480" cy="4680"/>
              </a:xfrm>
              <a:custGeom>
                <a:avLst/>
                <a:gdLst/>
                <a:ahLst/>
                <a:rect l="l" t="t" r="r" b="b"/>
                <a:pathLst>
                  <a:path w="6037" h="26">
                    <a:moveTo>
                      <a:pt x="6037" y="26"/>
                    </a:moveTo>
                    <a:lnTo>
                      <a:pt x="5699" y="26"/>
                    </a:lnTo>
                    <a:lnTo>
                      <a:pt x="5716" y="0"/>
                    </a:lnTo>
                    <a:lnTo>
                      <a:pt x="6037" y="0"/>
                    </a:lnTo>
                    <a:lnTo>
                      <a:pt x="6037" y="26"/>
                    </a:lnTo>
                    <a:close/>
                    <a:moveTo>
                      <a:pt x="507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507" y="26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69400" y="1460520"/>
                <a:ext cx="1025280" cy="3240"/>
              </a:xfrm>
              <a:custGeom>
                <a:avLst/>
                <a:gdLst/>
                <a:ahLst/>
                <a:rect l="l" t="t" r="r" b="b"/>
                <a:pathLst>
                  <a:path w="6045" h="25">
                    <a:moveTo>
                      <a:pt x="6045" y="25"/>
                    </a:moveTo>
                    <a:lnTo>
                      <a:pt x="5716" y="25"/>
                    </a:lnTo>
                    <a:lnTo>
                      <a:pt x="5733" y="0"/>
                    </a:lnTo>
                    <a:lnTo>
                      <a:pt x="6045" y="0"/>
                    </a:lnTo>
                    <a:lnTo>
                      <a:pt x="6045" y="25"/>
                    </a:lnTo>
                    <a:close/>
                    <a:moveTo>
                      <a:pt x="490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56" y="0"/>
                    </a:lnTo>
                    <a:lnTo>
                      <a:pt x="490" y="25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67960" y="1457280"/>
                <a:ext cx="1026720" cy="3240"/>
              </a:xfrm>
              <a:custGeom>
                <a:avLst/>
                <a:gdLst/>
                <a:ahLst/>
                <a:rect l="l" t="t" r="r" b="b"/>
                <a:pathLst>
                  <a:path w="6053" h="17">
                    <a:moveTo>
                      <a:pt x="6053" y="17"/>
                    </a:moveTo>
                    <a:lnTo>
                      <a:pt x="5732" y="17"/>
                    </a:lnTo>
                    <a:lnTo>
                      <a:pt x="5757" y="0"/>
                    </a:lnTo>
                    <a:lnTo>
                      <a:pt x="6053" y="0"/>
                    </a:lnTo>
                    <a:lnTo>
                      <a:pt x="6053" y="17"/>
                    </a:lnTo>
                    <a:close/>
                    <a:moveTo>
                      <a:pt x="489" y="17"/>
                    </a:moveTo>
                    <a:lnTo>
                      <a:pt x="16" y="17"/>
                    </a:lnTo>
                    <a:lnTo>
                      <a:pt x="0" y="0"/>
                    </a:lnTo>
                    <a:lnTo>
                      <a:pt x="455" y="0"/>
                    </a:lnTo>
                    <a:lnTo>
                      <a:pt x="489" y="17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66160" y="1455840"/>
                <a:ext cx="1028520" cy="4680"/>
              </a:xfrm>
              <a:custGeom>
                <a:avLst/>
                <a:gdLst/>
                <a:ahLst/>
                <a:rect l="l" t="t" r="r" b="b"/>
                <a:pathLst>
                  <a:path w="6062" h="25">
                    <a:moveTo>
                      <a:pt x="6062" y="25"/>
                    </a:moveTo>
                    <a:lnTo>
                      <a:pt x="5750" y="25"/>
                    </a:lnTo>
                    <a:lnTo>
                      <a:pt x="5775" y="0"/>
                    </a:lnTo>
                    <a:lnTo>
                      <a:pt x="6062" y="0"/>
                    </a:lnTo>
                    <a:lnTo>
                      <a:pt x="6062" y="25"/>
                    </a:lnTo>
                    <a:close/>
                    <a:moveTo>
                      <a:pt x="473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73" y="25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64720" y="1454040"/>
                <a:ext cx="1029960" cy="3240"/>
              </a:xfrm>
              <a:custGeom>
                <a:avLst/>
                <a:gdLst/>
                <a:ahLst/>
                <a:rect l="l" t="t" r="r" b="b"/>
                <a:pathLst>
                  <a:path w="6070" h="25">
                    <a:moveTo>
                      <a:pt x="6070" y="25"/>
                    </a:moveTo>
                    <a:lnTo>
                      <a:pt x="5774" y="25"/>
                    </a:lnTo>
                    <a:lnTo>
                      <a:pt x="5791" y="0"/>
                    </a:lnTo>
                    <a:lnTo>
                      <a:pt x="6070" y="0"/>
                    </a:lnTo>
                    <a:lnTo>
                      <a:pt x="6070" y="9"/>
                    </a:lnTo>
                    <a:lnTo>
                      <a:pt x="6070" y="25"/>
                    </a:lnTo>
                    <a:close/>
                    <a:moveTo>
                      <a:pt x="472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39" y="0"/>
                    </a:lnTo>
                    <a:lnTo>
                      <a:pt x="472" y="25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63280" y="1452600"/>
                <a:ext cx="1031400" cy="3240"/>
              </a:xfrm>
              <a:custGeom>
                <a:avLst/>
                <a:gdLst/>
                <a:ahLst/>
                <a:rect l="l" t="t" r="r" b="b"/>
                <a:pathLst>
                  <a:path w="6079" h="17">
                    <a:moveTo>
                      <a:pt x="6079" y="17"/>
                    </a:moveTo>
                    <a:lnTo>
                      <a:pt x="5792" y="17"/>
                    </a:lnTo>
                    <a:lnTo>
                      <a:pt x="5809" y="0"/>
                    </a:lnTo>
                    <a:lnTo>
                      <a:pt x="6070" y="0"/>
                    </a:lnTo>
                    <a:lnTo>
                      <a:pt x="6079" y="17"/>
                    </a:lnTo>
                    <a:close/>
                    <a:moveTo>
                      <a:pt x="46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31" y="0"/>
                    </a:lnTo>
                    <a:lnTo>
                      <a:pt x="465" y="17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61480" y="1451160"/>
                <a:ext cx="1033200" cy="2880"/>
              </a:xfrm>
              <a:custGeom>
                <a:avLst/>
                <a:gdLst/>
                <a:ahLst/>
                <a:rect l="l" t="t" r="r" b="b"/>
                <a:pathLst>
                  <a:path w="6087" h="17">
                    <a:moveTo>
                      <a:pt x="6087" y="17"/>
                    </a:moveTo>
                    <a:lnTo>
                      <a:pt x="5808" y="17"/>
                    </a:lnTo>
                    <a:lnTo>
                      <a:pt x="5825" y="0"/>
                    </a:lnTo>
                    <a:lnTo>
                      <a:pt x="5834" y="0"/>
                    </a:lnTo>
                    <a:lnTo>
                      <a:pt x="6070" y="0"/>
                    </a:lnTo>
                    <a:lnTo>
                      <a:pt x="6087" y="17"/>
                    </a:lnTo>
                    <a:close/>
                    <a:moveTo>
                      <a:pt x="456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422" y="0"/>
                    </a:lnTo>
                    <a:lnTo>
                      <a:pt x="422" y="0"/>
                    </a:lnTo>
                    <a:lnTo>
                      <a:pt x="456" y="17"/>
                    </a:lnTo>
                    <a:close/>
                  </a:path>
                </a:pathLst>
              </a:custGeom>
              <a:solidFill>
                <a:srgbClr val="d18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61480" y="1449360"/>
                <a:ext cx="1031400" cy="3240"/>
              </a:xfrm>
              <a:custGeom>
                <a:avLst/>
                <a:gdLst/>
                <a:ahLst/>
                <a:rect l="l" t="t" r="r" b="b"/>
                <a:pathLst>
                  <a:path w="6078" h="17">
                    <a:moveTo>
                      <a:pt x="6078" y="17"/>
                    </a:moveTo>
                    <a:lnTo>
                      <a:pt x="5817" y="17"/>
                    </a:lnTo>
                    <a:lnTo>
                      <a:pt x="5825" y="8"/>
                    </a:lnTo>
                    <a:lnTo>
                      <a:pt x="5851" y="0"/>
                    </a:lnTo>
                    <a:lnTo>
                      <a:pt x="6070" y="0"/>
                    </a:lnTo>
                    <a:lnTo>
                      <a:pt x="6078" y="17"/>
                    </a:lnTo>
                    <a:close/>
                    <a:moveTo>
                      <a:pt x="439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405" y="0"/>
                    </a:lnTo>
                    <a:lnTo>
                      <a:pt x="422" y="8"/>
                    </a:lnTo>
                    <a:lnTo>
                      <a:pt x="439" y="17"/>
                    </a:lnTo>
                    <a:close/>
                  </a:path>
                </a:pathLst>
              </a:custGeom>
              <a:solidFill>
                <a:srgbClr val="d18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60040" y="1446120"/>
                <a:ext cx="1031400" cy="5040"/>
              </a:xfrm>
              <a:custGeom>
                <a:avLst/>
                <a:gdLst/>
                <a:ahLst/>
                <a:rect l="l" t="t" r="r" b="b"/>
                <a:pathLst>
                  <a:path w="6087" h="25">
                    <a:moveTo>
                      <a:pt x="6087" y="25"/>
                    </a:moveTo>
                    <a:lnTo>
                      <a:pt x="5851" y="25"/>
                    </a:lnTo>
                    <a:lnTo>
                      <a:pt x="5893" y="0"/>
                    </a:lnTo>
                    <a:lnTo>
                      <a:pt x="6079" y="0"/>
                    </a:lnTo>
                    <a:lnTo>
                      <a:pt x="6087" y="8"/>
                    </a:lnTo>
                    <a:lnTo>
                      <a:pt x="6087" y="25"/>
                    </a:lnTo>
                    <a:close/>
                    <a:moveTo>
                      <a:pt x="439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414" y="0"/>
                    </a:lnTo>
                    <a:lnTo>
                      <a:pt x="439" y="25"/>
                    </a:lnTo>
                    <a:close/>
                  </a:path>
                </a:pathLst>
              </a:custGeom>
              <a:solidFill>
                <a:srgbClr val="d1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60040" y="1444680"/>
                <a:ext cx="1031400" cy="4680"/>
              </a:xfrm>
              <a:custGeom>
                <a:avLst/>
                <a:gdLst/>
                <a:ahLst/>
                <a:rect l="l" t="t" r="r" b="b"/>
                <a:pathLst>
                  <a:path w="6087" h="25">
                    <a:moveTo>
                      <a:pt x="6087" y="25"/>
                    </a:moveTo>
                    <a:lnTo>
                      <a:pt x="5868" y="25"/>
                    </a:lnTo>
                    <a:lnTo>
                      <a:pt x="5910" y="0"/>
                    </a:lnTo>
                    <a:lnTo>
                      <a:pt x="6070" y="0"/>
                    </a:lnTo>
                    <a:lnTo>
                      <a:pt x="6087" y="16"/>
                    </a:lnTo>
                    <a:lnTo>
                      <a:pt x="6087" y="25"/>
                    </a:lnTo>
                    <a:close/>
                    <a:moveTo>
                      <a:pt x="422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397" y="0"/>
                    </a:lnTo>
                    <a:lnTo>
                      <a:pt x="422" y="25"/>
                    </a:lnTo>
                    <a:close/>
                  </a:path>
                </a:pathLst>
              </a:custGeom>
              <a:solidFill>
                <a:srgbClr val="d1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58240" y="1443240"/>
                <a:ext cx="1031760" cy="2880"/>
              </a:xfrm>
              <a:custGeom>
                <a:avLst/>
                <a:gdLst/>
                <a:ahLst/>
                <a:rect l="l" t="t" r="r" b="b"/>
                <a:pathLst>
                  <a:path w="6088" h="17">
                    <a:moveTo>
                      <a:pt x="6088" y="17"/>
                    </a:moveTo>
                    <a:lnTo>
                      <a:pt x="5902" y="17"/>
                    </a:lnTo>
                    <a:lnTo>
                      <a:pt x="5944" y="0"/>
                    </a:lnTo>
                    <a:lnTo>
                      <a:pt x="6062" y="0"/>
                    </a:lnTo>
                    <a:lnTo>
                      <a:pt x="6088" y="17"/>
                    </a:lnTo>
                    <a:close/>
                    <a:moveTo>
                      <a:pt x="423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397" y="0"/>
                    </a:lnTo>
                    <a:lnTo>
                      <a:pt x="423" y="17"/>
                    </a:lnTo>
                    <a:close/>
                  </a:path>
                </a:pathLst>
              </a:custGeom>
              <a:solidFill>
                <a:srgbClr val="d2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56800" y="1441440"/>
                <a:ext cx="1031400" cy="3240"/>
              </a:xfrm>
              <a:custGeom>
                <a:avLst/>
                <a:gdLst/>
                <a:ahLst/>
                <a:rect l="l" t="t" r="r" b="b"/>
                <a:pathLst>
                  <a:path w="6087" h="17">
                    <a:moveTo>
                      <a:pt x="6087" y="17"/>
                    </a:moveTo>
                    <a:lnTo>
                      <a:pt x="5927" y="17"/>
                    </a:lnTo>
                    <a:lnTo>
                      <a:pt x="5969" y="0"/>
                    </a:lnTo>
                    <a:lnTo>
                      <a:pt x="6036" y="0"/>
                    </a:lnTo>
                    <a:lnTo>
                      <a:pt x="6053" y="0"/>
                    </a:lnTo>
                    <a:lnTo>
                      <a:pt x="6087" y="17"/>
                    </a:lnTo>
                    <a:close/>
                    <a:moveTo>
                      <a:pt x="41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397" y="0"/>
                    </a:lnTo>
                    <a:lnTo>
                      <a:pt x="414" y="17"/>
                    </a:lnTo>
                    <a:close/>
                  </a:path>
                </a:pathLst>
              </a:custGeom>
              <a:solidFill>
                <a:srgbClr val="d2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55000" y="1438200"/>
                <a:ext cx="1029960" cy="5040"/>
              </a:xfrm>
              <a:custGeom>
                <a:avLst/>
                <a:gdLst/>
                <a:ahLst/>
                <a:rect l="l" t="t" r="r" b="b"/>
                <a:pathLst>
                  <a:path w="6078" h="25">
                    <a:moveTo>
                      <a:pt x="6078" y="25"/>
                    </a:moveTo>
                    <a:lnTo>
                      <a:pt x="5960" y="25"/>
                    </a:lnTo>
                    <a:lnTo>
                      <a:pt x="5985" y="8"/>
                    </a:lnTo>
                    <a:lnTo>
                      <a:pt x="6061" y="17"/>
                    </a:lnTo>
                    <a:lnTo>
                      <a:pt x="6078" y="25"/>
                    </a:lnTo>
                    <a:close/>
                    <a:moveTo>
                      <a:pt x="413" y="25"/>
                    </a:moveTo>
                    <a:lnTo>
                      <a:pt x="16" y="25"/>
                    </a:lnTo>
                    <a:lnTo>
                      <a:pt x="0" y="0"/>
                    </a:lnTo>
                    <a:lnTo>
                      <a:pt x="388" y="0"/>
                    </a:lnTo>
                    <a:lnTo>
                      <a:pt x="413" y="25"/>
                    </a:lnTo>
                    <a:close/>
                  </a:path>
                </a:pathLst>
              </a:custGeom>
              <a:solidFill>
                <a:srgbClr val="d2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53560" y="1436760"/>
                <a:ext cx="1026720" cy="4680"/>
              </a:xfrm>
              <a:custGeom>
                <a:avLst/>
                <a:gdLst/>
                <a:ahLst/>
                <a:rect l="l" t="t" r="r" b="b"/>
                <a:pathLst>
                  <a:path w="6053" h="26">
                    <a:moveTo>
                      <a:pt x="6053" y="26"/>
                    </a:moveTo>
                    <a:lnTo>
                      <a:pt x="5986" y="26"/>
                    </a:lnTo>
                    <a:lnTo>
                      <a:pt x="5994" y="17"/>
                    </a:lnTo>
                    <a:lnTo>
                      <a:pt x="6053" y="26"/>
                    </a:lnTo>
                    <a:close/>
                    <a:moveTo>
                      <a:pt x="414" y="26"/>
                    </a:moveTo>
                    <a:lnTo>
                      <a:pt x="17" y="26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414" y="26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52120" y="1435320"/>
                <a:ext cx="67680" cy="2880"/>
              </a:xfrm>
              <a:custGeom>
                <a:avLst/>
                <a:gdLst/>
                <a:ahLst/>
                <a:rect l="l" t="t" r="r" b="b"/>
                <a:pathLst>
                  <a:path w="405" h="17">
                    <a:moveTo>
                      <a:pt x="405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380" y="0"/>
                    </a:lnTo>
                    <a:lnTo>
                      <a:pt x="405" y="17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50320" y="1433520"/>
                <a:ext cx="69480" cy="3240"/>
              </a:xfrm>
              <a:custGeom>
                <a:avLst/>
                <a:gdLst/>
                <a:ahLst/>
                <a:rect l="l" t="t" r="r" b="b"/>
                <a:pathLst>
                  <a:path w="406" h="17">
                    <a:moveTo>
                      <a:pt x="406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380" y="0"/>
                    </a:lnTo>
                    <a:lnTo>
                      <a:pt x="406" y="17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48880" y="1432080"/>
                <a:ext cx="67680" cy="3240"/>
              </a:xfrm>
              <a:custGeom>
                <a:avLst/>
                <a:gdLst/>
                <a:ahLst/>
                <a:rect l="l" t="t" r="r" b="b"/>
                <a:pathLst>
                  <a:path w="397" h="17">
                    <a:moveTo>
                      <a:pt x="397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371" y="0"/>
                    </a:lnTo>
                    <a:lnTo>
                      <a:pt x="397" y="17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47080" y="1428840"/>
                <a:ext cx="68040" cy="4680"/>
              </a:xfrm>
              <a:custGeom>
                <a:avLst/>
                <a:gdLst/>
                <a:ahLst/>
                <a:rect l="l" t="t" r="r" b="b"/>
                <a:pathLst>
                  <a:path w="397" h="25">
                    <a:moveTo>
                      <a:pt x="397" y="25"/>
                    </a:moveTo>
                    <a:lnTo>
                      <a:pt x="17" y="25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372" y="0"/>
                    </a:lnTo>
                    <a:lnTo>
                      <a:pt x="397" y="25"/>
                    </a:lnTo>
                    <a:close/>
                  </a:path>
                </a:pathLst>
              </a:custGeom>
              <a:solidFill>
                <a:srgbClr val="d5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47080" y="1427040"/>
                <a:ext cx="64800" cy="5040"/>
              </a:xfrm>
              <a:custGeom>
                <a:avLst/>
                <a:gdLst/>
                <a:ahLst/>
                <a:rect l="l" t="t" r="r" b="b"/>
                <a:pathLst>
                  <a:path w="380" h="25">
                    <a:moveTo>
                      <a:pt x="380" y="25"/>
                    </a:moveTo>
                    <a:lnTo>
                      <a:pt x="9" y="2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80" y="25"/>
                    </a:lnTo>
                    <a:close/>
                  </a:path>
                </a:pathLst>
              </a:custGeom>
              <a:solidFill>
                <a:srgbClr val="d5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45640" y="1425600"/>
                <a:ext cx="64800" cy="3240"/>
              </a:xfrm>
              <a:custGeom>
                <a:avLst/>
                <a:gdLst/>
                <a:ahLst/>
                <a:rect l="l" t="t" r="r" b="b"/>
                <a:pathLst>
                  <a:path w="380" h="17">
                    <a:moveTo>
                      <a:pt x="380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355" y="0"/>
                    </a:lnTo>
                    <a:lnTo>
                      <a:pt x="380" y="17"/>
                    </a:lnTo>
                    <a:close/>
                  </a:path>
                </a:pathLst>
              </a:custGeom>
              <a:solidFill>
                <a:srgbClr val="d5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44200" y="1424160"/>
                <a:ext cx="63000" cy="2880"/>
              </a:xfrm>
              <a:custGeom>
                <a:avLst/>
                <a:gdLst/>
                <a:ahLst/>
                <a:rect l="l" t="t" r="r" b="b"/>
                <a:pathLst>
                  <a:path w="372" h="17">
                    <a:moveTo>
                      <a:pt x="372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347" y="0"/>
                    </a:lnTo>
                    <a:lnTo>
                      <a:pt x="355" y="8"/>
                    </a:lnTo>
                    <a:lnTo>
                      <a:pt x="372" y="17"/>
                    </a:lnTo>
                    <a:close/>
                  </a:path>
                </a:pathLst>
              </a:custGeom>
              <a:solidFill>
                <a:srgbClr val="d6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44200" y="1420920"/>
                <a:ext cx="61560" cy="4680"/>
              </a:xfrm>
              <a:custGeom>
                <a:avLst/>
                <a:gdLst/>
                <a:ahLst/>
                <a:rect l="l" t="t" r="r" b="b"/>
                <a:pathLst>
                  <a:path w="372" h="25">
                    <a:moveTo>
                      <a:pt x="372" y="25"/>
                    </a:moveTo>
                    <a:lnTo>
                      <a:pt x="17" y="25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63" y="25"/>
                    </a:lnTo>
                    <a:lnTo>
                      <a:pt x="372" y="25"/>
                    </a:lnTo>
                    <a:close/>
                  </a:path>
                </a:pathLst>
              </a:custGeom>
              <a:solidFill>
                <a:srgbClr val="d6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42400" y="1419120"/>
                <a:ext cx="61560" cy="5040"/>
              </a:xfrm>
              <a:custGeom>
                <a:avLst/>
                <a:gdLst/>
                <a:ahLst/>
                <a:rect l="l" t="t" r="r" b="b"/>
                <a:pathLst>
                  <a:path w="363" h="26">
                    <a:moveTo>
                      <a:pt x="363" y="26"/>
                    </a:moveTo>
                    <a:lnTo>
                      <a:pt x="16" y="26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63" y="26"/>
                    </a:lnTo>
                    <a:close/>
                  </a:path>
                </a:pathLst>
              </a:custGeom>
              <a:solidFill>
                <a:srgbClr val="d6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42400" y="1417680"/>
                <a:ext cx="60120" cy="3240"/>
              </a:xfrm>
              <a:custGeom>
                <a:avLst/>
                <a:gdLst/>
                <a:ahLst/>
                <a:rect l="l" t="t" r="r" b="b"/>
                <a:pathLst>
                  <a:path w="354" h="17">
                    <a:moveTo>
                      <a:pt x="354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337" y="0"/>
                    </a:lnTo>
                    <a:lnTo>
                      <a:pt x="354" y="17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40960" y="1416240"/>
                <a:ext cx="59760" cy="2880"/>
              </a:xfrm>
              <a:custGeom>
                <a:avLst/>
                <a:gdLst/>
                <a:ahLst/>
                <a:rect l="l" t="t" r="r" b="b"/>
                <a:pathLst>
                  <a:path w="355" h="16">
                    <a:moveTo>
                      <a:pt x="355" y="16"/>
                    </a:moveTo>
                    <a:lnTo>
                      <a:pt x="9" y="16"/>
                    </a:lnTo>
                    <a:lnTo>
                      <a:pt x="0" y="0"/>
                    </a:lnTo>
                    <a:lnTo>
                      <a:pt x="338" y="0"/>
                    </a:lnTo>
                    <a:lnTo>
                      <a:pt x="355" y="16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39160" y="1414440"/>
                <a:ext cx="60120" cy="3240"/>
              </a:xfrm>
              <a:custGeom>
                <a:avLst/>
                <a:gdLst/>
                <a:ahLst/>
                <a:rect l="l" t="t" r="r" b="b"/>
                <a:pathLst>
                  <a:path w="354" h="17">
                    <a:moveTo>
                      <a:pt x="354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9" y="0"/>
                    </a:lnTo>
                    <a:lnTo>
                      <a:pt x="354" y="17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39160" y="1411200"/>
                <a:ext cx="58680" cy="5040"/>
              </a:xfrm>
              <a:custGeom>
                <a:avLst/>
                <a:gdLst/>
                <a:ahLst/>
                <a:rect l="l" t="t" r="r" b="b"/>
                <a:pathLst>
                  <a:path w="346" h="26">
                    <a:moveTo>
                      <a:pt x="346" y="26"/>
                    </a:moveTo>
                    <a:lnTo>
                      <a:pt x="8" y="26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21" y="0"/>
                    </a:lnTo>
                    <a:lnTo>
                      <a:pt x="346" y="26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37720" y="1409760"/>
                <a:ext cx="56880" cy="4680"/>
              </a:xfrm>
              <a:custGeom>
                <a:avLst/>
                <a:gdLst/>
                <a:ahLst/>
                <a:rect l="l" t="t" r="r" b="b"/>
                <a:pathLst>
                  <a:path w="338" h="25">
                    <a:moveTo>
                      <a:pt x="338" y="25"/>
                    </a:moveTo>
                    <a:lnTo>
                      <a:pt x="9" y="25"/>
                    </a:lnTo>
                    <a:lnTo>
                      <a:pt x="0" y="0"/>
                    </a:lnTo>
                    <a:lnTo>
                      <a:pt x="321" y="0"/>
                    </a:lnTo>
                    <a:lnTo>
                      <a:pt x="338" y="25"/>
                    </a:lnTo>
                    <a:close/>
                  </a:path>
                </a:pathLst>
              </a:custGeom>
              <a:solidFill>
                <a:srgbClr val="d6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37720" y="1408320"/>
                <a:ext cx="55080" cy="2880"/>
              </a:xfrm>
              <a:custGeom>
                <a:avLst/>
                <a:gdLst/>
                <a:ahLst/>
                <a:rect l="l" t="t" r="r" b="b"/>
                <a:pathLst>
                  <a:path w="330" h="17">
                    <a:moveTo>
                      <a:pt x="330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313" y="0"/>
                    </a:lnTo>
                    <a:lnTo>
                      <a:pt x="330" y="17"/>
                    </a:lnTo>
                    <a:close/>
                  </a:path>
                </a:pathLst>
              </a:custGeom>
              <a:solidFill>
                <a:srgbClr val="d6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36280" y="1406520"/>
                <a:ext cx="55080" cy="3240"/>
              </a:xfrm>
              <a:custGeom>
                <a:avLst/>
                <a:gdLst/>
                <a:ahLst/>
                <a:rect l="l" t="t" r="r" b="b"/>
                <a:pathLst>
                  <a:path w="329" h="17">
                    <a:moveTo>
                      <a:pt x="329" y="17"/>
                    </a:moveTo>
                    <a:lnTo>
                      <a:pt x="8" y="17"/>
                    </a:lnTo>
                    <a:lnTo>
                      <a:pt x="0" y="0"/>
                    </a:lnTo>
                    <a:lnTo>
                      <a:pt x="312" y="0"/>
                    </a:lnTo>
                    <a:lnTo>
                      <a:pt x="329" y="17"/>
                    </a:lnTo>
                    <a:close/>
                  </a:path>
                </a:pathLst>
              </a:custGeom>
              <a:solidFill>
                <a:srgbClr val="d6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36280" y="1405080"/>
                <a:ext cx="53280" cy="3240"/>
              </a:xfrm>
              <a:custGeom>
                <a:avLst/>
                <a:gdLst/>
                <a:ahLst/>
                <a:rect l="l" t="t" r="r" b="b"/>
                <a:pathLst>
                  <a:path w="321" h="25">
                    <a:moveTo>
                      <a:pt x="321" y="25"/>
                    </a:moveTo>
                    <a:lnTo>
                      <a:pt x="8" y="25"/>
                    </a:lnTo>
                    <a:lnTo>
                      <a:pt x="0" y="0"/>
                    </a:lnTo>
                    <a:lnTo>
                      <a:pt x="295" y="0"/>
                    </a:lnTo>
                    <a:lnTo>
                      <a:pt x="321" y="25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34840" y="1403280"/>
                <a:ext cx="53640" cy="3240"/>
              </a:xfrm>
              <a:custGeom>
                <a:avLst/>
                <a:gdLst/>
                <a:ahLst/>
                <a:rect l="l" t="t" r="r" b="b"/>
                <a:pathLst>
                  <a:path w="321" h="25">
                    <a:moveTo>
                      <a:pt x="321" y="25"/>
                    </a:moveTo>
                    <a:lnTo>
                      <a:pt x="9" y="25"/>
                    </a:lnTo>
                    <a:lnTo>
                      <a:pt x="0" y="0"/>
                    </a:lnTo>
                    <a:lnTo>
                      <a:pt x="296" y="0"/>
                    </a:lnTo>
                    <a:lnTo>
                      <a:pt x="321" y="25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34840" y="1401840"/>
                <a:ext cx="52200" cy="3240"/>
              </a:xfrm>
              <a:custGeom>
                <a:avLst/>
                <a:gdLst/>
                <a:ahLst/>
                <a:rect l="l" t="t" r="r" b="b"/>
                <a:pathLst>
                  <a:path w="304" h="17">
                    <a:moveTo>
                      <a:pt x="304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87" y="0"/>
                    </a:lnTo>
                    <a:lnTo>
                      <a:pt x="304" y="17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34840" y="1400040"/>
                <a:ext cx="50400" cy="3240"/>
              </a:xfrm>
              <a:custGeom>
                <a:avLst/>
                <a:gdLst/>
                <a:ahLst/>
                <a:rect l="l" t="t" r="r" b="b"/>
                <a:pathLst>
                  <a:path w="296" h="17">
                    <a:moveTo>
                      <a:pt x="296" y="17"/>
                    </a:moveTo>
                    <a:lnTo>
                      <a:pt x="0" y="17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71" y="0"/>
                    </a:lnTo>
                    <a:lnTo>
                      <a:pt x="279" y="0"/>
                    </a:lnTo>
                    <a:lnTo>
                      <a:pt x="296" y="17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4840" y="1398600"/>
                <a:ext cx="48960" cy="3240"/>
              </a:xfrm>
              <a:custGeom>
                <a:avLst/>
                <a:gdLst/>
                <a:ahLst/>
                <a:rect l="l" t="t" r="r" b="b"/>
                <a:pathLst>
                  <a:path w="287" h="17">
                    <a:moveTo>
                      <a:pt x="287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62" y="0"/>
                    </a:lnTo>
                    <a:lnTo>
                      <a:pt x="279" y="9"/>
                    </a:lnTo>
                    <a:lnTo>
                      <a:pt x="287" y="17"/>
                    </a:lnTo>
                    <a:close/>
                  </a:path>
                </a:pathLst>
              </a:custGeom>
              <a:solidFill>
                <a:srgbClr val="d8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34840" y="1395360"/>
                <a:ext cx="45720" cy="4680"/>
              </a:xfrm>
              <a:custGeom>
                <a:avLst/>
                <a:gdLst/>
                <a:ahLst/>
                <a:rect l="l" t="t" r="r" b="b"/>
                <a:pathLst>
                  <a:path w="271" h="26">
                    <a:moveTo>
                      <a:pt x="271" y="26"/>
                    </a:moveTo>
                    <a:lnTo>
                      <a:pt x="0" y="26"/>
                    </a:lnTo>
                    <a:lnTo>
                      <a:pt x="0" y="0"/>
                    </a:lnTo>
                    <a:lnTo>
                      <a:pt x="254" y="0"/>
                    </a:lnTo>
                    <a:lnTo>
                      <a:pt x="271" y="26"/>
                    </a:lnTo>
                    <a:close/>
                  </a:path>
                </a:pathLst>
              </a:custGeom>
              <a:solidFill>
                <a:srgbClr val="d8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34840" y="139392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262" h="25">
                    <a:moveTo>
                      <a:pt x="262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45" y="0"/>
                    </a:lnTo>
                    <a:lnTo>
                      <a:pt x="262" y="25"/>
                    </a:lnTo>
                    <a:close/>
                  </a:path>
                </a:pathLst>
              </a:custGeom>
              <a:solidFill>
                <a:srgbClr val="d8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34840" y="1392120"/>
                <a:ext cx="42480" cy="3240"/>
              </a:xfrm>
              <a:custGeom>
                <a:avLst/>
                <a:gdLst/>
                <a:ahLst/>
                <a:rect l="l" t="t" r="r" b="b"/>
                <a:pathLst>
                  <a:path w="254" h="17">
                    <a:moveTo>
                      <a:pt x="254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228" y="0"/>
                    </a:lnTo>
                    <a:lnTo>
                      <a:pt x="254" y="17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34840" y="1389240"/>
                <a:ext cx="41040" cy="4680"/>
              </a:xfrm>
              <a:custGeom>
                <a:avLst/>
                <a:gdLst/>
                <a:ahLst/>
                <a:rect l="l" t="t" r="r" b="b"/>
                <a:pathLst>
                  <a:path w="245" h="25">
                    <a:moveTo>
                      <a:pt x="245" y="25"/>
                    </a:moveTo>
                    <a:lnTo>
                      <a:pt x="0" y="25"/>
                    </a:lnTo>
                    <a:lnTo>
                      <a:pt x="0" y="0"/>
                    </a:lnTo>
                    <a:lnTo>
                      <a:pt x="220" y="0"/>
                    </a:lnTo>
                    <a:lnTo>
                      <a:pt x="245" y="25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34840" y="1387440"/>
                <a:ext cx="39240" cy="4680"/>
              </a:xfrm>
              <a:custGeom>
                <a:avLst/>
                <a:gdLst/>
                <a:ahLst/>
                <a:rect l="l" t="t" r="r" b="b"/>
                <a:pathLst>
                  <a:path w="228" h="25">
                    <a:moveTo>
                      <a:pt x="228" y="25"/>
                    </a:moveTo>
                    <a:lnTo>
                      <a:pt x="0" y="25"/>
                    </a:lnTo>
                    <a:lnTo>
                      <a:pt x="9" y="9"/>
                    </a:lnTo>
                    <a:lnTo>
                      <a:pt x="9" y="0"/>
                    </a:lnTo>
                    <a:lnTo>
                      <a:pt x="211" y="0"/>
                    </a:lnTo>
                    <a:lnTo>
                      <a:pt x="228" y="25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4840" y="1386000"/>
                <a:ext cx="37800" cy="3240"/>
              </a:xfrm>
              <a:custGeom>
                <a:avLst/>
                <a:gdLst/>
                <a:ahLst/>
                <a:rect l="l" t="t" r="r" b="b"/>
                <a:pathLst>
                  <a:path w="220" h="17">
                    <a:moveTo>
                      <a:pt x="220" y="17"/>
                    </a:moveTo>
                    <a:lnTo>
                      <a:pt x="0" y="17"/>
                    </a:lnTo>
                    <a:lnTo>
                      <a:pt x="9" y="17"/>
                    </a:lnTo>
                    <a:lnTo>
                      <a:pt x="17" y="0"/>
                    </a:lnTo>
                    <a:lnTo>
                      <a:pt x="203" y="0"/>
                    </a:lnTo>
                    <a:lnTo>
                      <a:pt x="220" y="17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36280" y="1384200"/>
                <a:ext cx="34560" cy="3240"/>
              </a:xfrm>
              <a:custGeom>
                <a:avLst/>
                <a:gdLst/>
                <a:ahLst/>
                <a:rect l="l" t="t" r="r" b="b"/>
                <a:pathLst>
                  <a:path w="202" h="17">
                    <a:moveTo>
                      <a:pt x="202" y="17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177" y="0"/>
                    </a:lnTo>
                    <a:lnTo>
                      <a:pt x="202" y="17"/>
                    </a:lnTo>
                    <a:close/>
                  </a:path>
                </a:pathLst>
              </a:custGeom>
              <a:solidFill>
                <a:srgbClr val="db8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37720" y="1382760"/>
                <a:ext cx="31320" cy="3240"/>
              </a:xfrm>
              <a:custGeom>
                <a:avLst/>
                <a:gdLst/>
                <a:ahLst/>
                <a:rect l="l" t="t" r="r" b="b"/>
                <a:pathLst>
                  <a:path w="186" h="17">
                    <a:moveTo>
                      <a:pt x="186" y="17"/>
                    </a:moveTo>
                    <a:lnTo>
                      <a:pt x="0" y="17"/>
                    </a:lnTo>
                    <a:lnTo>
                      <a:pt x="17" y="0"/>
                    </a:lnTo>
                    <a:lnTo>
                      <a:pt x="26" y="0"/>
                    </a:lnTo>
                    <a:lnTo>
                      <a:pt x="152" y="0"/>
                    </a:lnTo>
                    <a:lnTo>
                      <a:pt x="161" y="0"/>
                    </a:lnTo>
                    <a:lnTo>
                      <a:pt x="186" y="17"/>
                    </a:lnTo>
                    <a:close/>
                  </a:path>
                </a:pathLst>
              </a:custGeom>
              <a:solidFill>
                <a:srgbClr val="db8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39160" y="1381320"/>
                <a:ext cx="26640" cy="2880"/>
              </a:xfrm>
              <a:custGeom>
                <a:avLst/>
                <a:gdLst/>
                <a:ahLst/>
                <a:rect l="l" t="t" r="r" b="b"/>
                <a:pathLst>
                  <a:path w="160" h="17">
                    <a:moveTo>
                      <a:pt x="160" y="17"/>
                    </a:moveTo>
                    <a:lnTo>
                      <a:pt x="0" y="17"/>
                    </a:lnTo>
                    <a:lnTo>
                      <a:pt x="8" y="9"/>
                    </a:lnTo>
                    <a:lnTo>
                      <a:pt x="50" y="0"/>
                    </a:lnTo>
                    <a:lnTo>
                      <a:pt x="118" y="0"/>
                    </a:lnTo>
                    <a:lnTo>
                      <a:pt x="152" y="9"/>
                    </a:lnTo>
                    <a:lnTo>
                      <a:pt x="160" y="17"/>
                    </a:lnTo>
                    <a:close/>
                  </a:path>
                </a:pathLst>
              </a:custGeom>
              <a:solidFill>
                <a:srgbClr val="db8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42400" y="1378080"/>
                <a:ext cx="20520" cy="4680"/>
              </a:xfrm>
              <a:custGeom>
                <a:avLst/>
                <a:gdLst/>
                <a:ahLst/>
                <a:rect l="l" t="t" r="r" b="b"/>
                <a:pathLst>
                  <a:path w="126" h="26">
                    <a:moveTo>
                      <a:pt x="126" y="26"/>
                    </a:moveTo>
                    <a:lnTo>
                      <a:pt x="0" y="26"/>
                    </a:lnTo>
                    <a:lnTo>
                      <a:pt x="67" y="0"/>
                    </a:lnTo>
                    <a:lnTo>
                      <a:pt x="126" y="26"/>
                    </a:lnTo>
                    <a:close/>
                  </a:path>
                </a:pathLst>
              </a:custGeom>
              <a:solidFill>
                <a:srgbClr val="dc8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47080" y="13780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68" h="17">
                    <a:moveTo>
                      <a:pt x="68" y="17"/>
                    </a:moveTo>
                    <a:lnTo>
                      <a:pt x="0" y="17"/>
                    </a:lnTo>
                    <a:lnTo>
                      <a:pt x="34" y="0"/>
                    </a:lnTo>
                    <a:lnTo>
                      <a:pt x="68" y="17"/>
                    </a:lnTo>
                    <a:close/>
                  </a:path>
                </a:pathLst>
              </a:custGeom>
              <a:solidFill>
                <a:srgbClr val="dd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34840" y="1378080"/>
                <a:ext cx="1060200" cy="484200"/>
              </a:xfrm>
              <a:custGeom>
                <a:avLst/>
                <a:gdLst/>
                <a:ahLst/>
                <a:rect l="l" t="t" r="r" b="b"/>
                <a:pathLst>
                  <a:path w="6248" h="2651">
                    <a:moveTo>
                      <a:pt x="279" y="119"/>
                    </a:moveTo>
                    <a:lnTo>
                      <a:pt x="178" y="26"/>
                    </a:lnTo>
                    <a:lnTo>
                      <a:pt x="110" y="0"/>
                    </a:lnTo>
                    <a:lnTo>
                      <a:pt x="34" y="26"/>
                    </a:lnTo>
                    <a:lnTo>
                      <a:pt x="9" y="60"/>
                    </a:lnTo>
                    <a:lnTo>
                      <a:pt x="0" y="127"/>
                    </a:lnTo>
                    <a:lnTo>
                      <a:pt x="26" y="203"/>
                    </a:lnTo>
                    <a:lnTo>
                      <a:pt x="76" y="288"/>
                    </a:lnTo>
                    <a:lnTo>
                      <a:pt x="845" y="1326"/>
                    </a:lnTo>
                    <a:lnTo>
                      <a:pt x="1056" y="1588"/>
                    </a:lnTo>
                    <a:lnTo>
                      <a:pt x="1326" y="1866"/>
                    </a:lnTo>
                    <a:lnTo>
                      <a:pt x="1604" y="2103"/>
                    </a:lnTo>
                    <a:lnTo>
                      <a:pt x="1934" y="2288"/>
                    </a:lnTo>
                    <a:lnTo>
                      <a:pt x="2119" y="2381"/>
                    </a:lnTo>
                    <a:lnTo>
                      <a:pt x="2297" y="2457"/>
                    </a:lnTo>
                    <a:lnTo>
                      <a:pt x="2542" y="2533"/>
                    </a:lnTo>
                    <a:lnTo>
                      <a:pt x="2947" y="2609"/>
                    </a:lnTo>
                    <a:lnTo>
                      <a:pt x="3209" y="2643"/>
                    </a:lnTo>
                    <a:lnTo>
                      <a:pt x="3445" y="2651"/>
                    </a:lnTo>
                    <a:lnTo>
                      <a:pt x="3766" y="2643"/>
                    </a:lnTo>
                    <a:lnTo>
                      <a:pt x="4011" y="2626"/>
                    </a:lnTo>
                    <a:lnTo>
                      <a:pt x="4407" y="2550"/>
                    </a:lnTo>
                    <a:lnTo>
                      <a:pt x="4610" y="2491"/>
                    </a:lnTo>
                    <a:lnTo>
                      <a:pt x="4939" y="2348"/>
                    </a:lnTo>
                    <a:lnTo>
                      <a:pt x="5083" y="2246"/>
                    </a:lnTo>
                    <a:lnTo>
                      <a:pt x="5328" y="2027"/>
                    </a:lnTo>
                    <a:lnTo>
                      <a:pt x="5463" y="1866"/>
                    </a:lnTo>
                    <a:lnTo>
                      <a:pt x="5733" y="1503"/>
                    </a:lnTo>
                    <a:lnTo>
                      <a:pt x="5927" y="1174"/>
                    </a:lnTo>
                    <a:lnTo>
                      <a:pt x="6121" y="811"/>
                    </a:lnTo>
                    <a:lnTo>
                      <a:pt x="6248" y="490"/>
                    </a:lnTo>
                    <a:lnTo>
                      <a:pt x="6248" y="423"/>
                    </a:lnTo>
                    <a:lnTo>
                      <a:pt x="6231" y="380"/>
                    </a:lnTo>
                    <a:lnTo>
                      <a:pt x="6180" y="347"/>
                    </a:lnTo>
                    <a:lnTo>
                      <a:pt x="6104" y="338"/>
                    </a:lnTo>
                    <a:lnTo>
                      <a:pt x="5986" y="397"/>
                    </a:lnTo>
                    <a:lnTo>
                      <a:pt x="5851" y="532"/>
                    </a:lnTo>
                    <a:lnTo>
                      <a:pt x="5733" y="651"/>
                    </a:lnTo>
                    <a:lnTo>
                      <a:pt x="5589" y="803"/>
                    </a:lnTo>
                    <a:lnTo>
                      <a:pt x="5454" y="921"/>
                    </a:lnTo>
                    <a:lnTo>
                      <a:pt x="5159" y="1157"/>
                    </a:lnTo>
                    <a:lnTo>
                      <a:pt x="4821" y="1326"/>
                    </a:lnTo>
                    <a:lnTo>
                      <a:pt x="4652" y="1377"/>
                    </a:lnTo>
                    <a:lnTo>
                      <a:pt x="4483" y="1419"/>
                    </a:lnTo>
                    <a:lnTo>
                      <a:pt x="4264" y="1453"/>
                    </a:lnTo>
                    <a:lnTo>
                      <a:pt x="3952" y="1486"/>
                    </a:lnTo>
                    <a:lnTo>
                      <a:pt x="3631" y="1495"/>
                    </a:lnTo>
                    <a:lnTo>
                      <a:pt x="3200" y="1469"/>
                    </a:lnTo>
                    <a:lnTo>
                      <a:pt x="2913" y="1427"/>
                    </a:lnTo>
                    <a:lnTo>
                      <a:pt x="2499" y="1343"/>
                    </a:lnTo>
                    <a:lnTo>
                      <a:pt x="2221" y="1250"/>
                    </a:lnTo>
                    <a:lnTo>
                      <a:pt x="1934" y="1132"/>
                    </a:lnTo>
                    <a:lnTo>
                      <a:pt x="1571" y="963"/>
                    </a:lnTo>
                    <a:lnTo>
                      <a:pt x="1005" y="659"/>
                    </a:lnTo>
                    <a:lnTo>
                      <a:pt x="583" y="397"/>
                    </a:lnTo>
                    <a:lnTo>
                      <a:pt x="414" y="262"/>
                    </a:lnTo>
                    <a:lnTo>
                      <a:pt x="279" y="119"/>
                    </a:lnTo>
                    <a:close/>
                  </a:path>
                </a:pathLst>
              </a:custGeom>
              <a:noFill/>
              <a:ln w="1440">
                <a:solidFill>
                  <a:srgbClr val="3437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49080" y="1282680"/>
                <a:ext cx="39240" cy="1800"/>
              </a:xfrm>
              <a:custGeom>
                <a:avLst/>
                <a:gdLst/>
                <a:ahLst/>
                <a:rect l="l" t="t" r="r" b="b"/>
                <a:pathLst>
                  <a:path w="228" h="8">
                    <a:moveTo>
                      <a:pt x="194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228" y="0"/>
                    </a:lnTo>
                    <a:lnTo>
                      <a:pt x="194" y="8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540800" y="1282680"/>
                <a:ext cx="52200" cy="1800"/>
              </a:xfrm>
              <a:custGeom>
                <a:avLst/>
                <a:gdLst/>
                <a:ahLst/>
                <a:rect l="l" t="t" r="r" b="b"/>
                <a:pathLst>
                  <a:path w="312" h="8">
                    <a:moveTo>
                      <a:pt x="244" y="8"/>
                    </a:moveTo>
                    <a:lnTo>
                      <a:pt x="101" y="8"/>
                    </a:lnTo>
                    <a:lnTo>
                      <a:pt x="0" y="0"/>
                    </a:lnTo>
                    <a:lnTo>
                      <a:pt x="312" y="0"/>
                    </a:lnTo>
                    <a:lnTo>
                      <a:pt x="244" y="8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32880" y="1281240"/>
                <a:ext cx="66600" cy="1440"/>
              </a:xfrm>
              <a:custGeom>
                <a:avLst/>
                <a:gdLst/>
                <a:ahLst/>
                <a:rect l="l" t="t" r="r" b="b"/>
                <a:pathLst>
                  <a:path w="397" h="8">
                    <a:moveTo>
                      <a:pt x="329" y="8"/>
                    </a:moveTo>
                    <a:lnTo>
                      <a:pt x="101" y="8"/>
                    </a:lnTo>
                    <a:lnTo>
                      <a:pt x="0" y="0"/>
                    </a:lnTo>
                    <a:lnTo>
                      <a:pt x="397" y="0"/>
                    </a:lnTo>
                    <a:lnTo>
                      <a:pt x="329" y="8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28200" y="1281240"/>
                <a:ext cx="74160" cy="1440"/>
              </a:xfrm>
              <a:custGeom>
                <a:avLst/>
                <a:gdLst/>
                <a:ahLst/>
                <a:rect l="l" t="t" r="r" b="b"/>
                <a:pathLst>
                  <a:path w="439" h="8">
                    <a:moveTo>
                      <a:pt x="388" y="8"/>
                    </a:moveTo>
                    <a:lnTo>
                      <a:pt x="76" y="8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439" y="0"/>
                    </a:lnTo>
                    <a:lnTo>
                      <a:pt x="430" y="0"/>
                    </a:lnTo>
                    <a:lnTo>
                      <a:pt x="388" y="8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24960" y="1279440"/>
                <a:ext cx="80640" cy="1800"/>
              </a:xfrm>
              <a:custGeom>
                <a:avLst/>
                <a:gdLst/>
                <a:ahLst/>
                <a:rect l="l" t="t" r="r" b="b"/>
                <a:pathLst>
                  <a:path w="473" h="9">
                    <a:moveTo>
                      <a:pt x="439" y="9"/>
                    </a:moveTo>
                    <a:lnTo>
                      <a:pt x="42" y="9"/>
                    </a:lnTo>
                    <a:lnTo>
                      <a:pt x="33" y="9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47" y="9"/>
                    </a:lnTo>
                    <a:lnTo>
                      <a:pt x="439" y="9"/>
                    </a:lnTo>
                    <a:close/>
                  </a:path>
                </a:pathLst>
              </a:custGeom>
              <a:solidFill>
                <a:srgbClr val="9f6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523520" y="1278000"/>
                <a:ext cx="83880" cy="3240"/>
              </a:xfrm>
              <a:custGeom>
                <a:avLst/>
                <a:gdLst/>
                <a:ahLst/>
                <a:rect l="l" t="t" r="r" b="b"/>
                <a:pathLst>
                  <a:path w="498" h="17">
                    <a:moveTo>
                      <a:pt x="465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465" y="17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520280" y="1278000"/>
                <a:ext cx="90000" cy="1440"/>
              </a:xfrm>
              <a:custGeom>
                <a:avLst/>
                <a:gdLst/>
                <a:ahLst/>
                <a:rect l="l" t="t" r="r" b="b"/>
                <a:pathLst>
                  <a:path w="540" h="8">
                    <a:moveTo>
                      <a:pt x="507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07" y="8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18840" y="1276560"/>
                <a:ext cx="94680" cy="1440"/>
              </a:xfrm>
              <a:custGeom>
                <a:avLst/>
                <a:gdLst/>
                <a:ahLst/>
                <a:rect l="l" t="t" r="r" b="b"/>
                <a:pathLst>
                  <a:path w="566" h="9">
                    <a:moveTo>
                      <a:pt x="532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566" y="0"/>
                    </a:lnTo>
                    <a:lnTo>
                      <a:pt x="532" y="9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515600" y="1276560"/>
                <a:ext cx="101160" cy="1440"/>
              </a:xfrm>
              <a:custGeom>
                <a:avLst/>
                <a:gdLst/>
                <a:ahLst/>
                <a:rect l="l" t="t" r="r" b="b"/>
                <a:pathLst>
                  <a:path w="599" h="9">
                    <a:moveTo>
                      <a:pt x="565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599" y="0"/>
                    </a:lnTo>
                    <a:lnTo>
                      <a:pt x="565" y="9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12360" y="1274760"/>
                <a:ext cx="107640" cy="1800"/>
              </a:xfrm>
              <a:custGeom>
                <a:avLst/>
                <a:gdLst/>
                <a:ahLst/>
                <a:rect l="l" t="t" r="r" b="b"/>
                <a:pathLst>
                  <a:path w="633" h="8">
                    <a:moveTo>
                      <a:pt x="599" y="8"/>
                    </a:moveTo>
                    <a:lnTo>
                      <a:pt x="33" y="8"/>
                    </a:lnTo>
                    <a:lnTo>
                      <a:pt x="0" y="0"/>
                    </a:lnTo>
                    <a:lnTo>
                      <a:pt x="633" y="0"/>
                    </a:lnTo>
                    <a:lnTo>
                      <a:pt x="599" y="8"/>
                    </a:lnTo>
                    <a:close/>
                  </a:path>
                </a:pathLst>
              </a:custGeom>
              <a:solidFill>
                <a:srgbClr val="a067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509120" y="1273320"/>
                <a:ext cx="112320" cy="3240"/>
              </a:xfrm>
              <a:custGeom>
                <a:avLst/>
                <a:gdLst/>
                <a:ahLst/>
                <a:rect l="l" t="t" r="r" b="b"/>
                <a:pathLst>
                  <a:path w="667" h="17">
                    <a:moveTo>
                      <a:pt x="633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667" y="0"/>
                    </a:lnTo>
                    <a:lnTo>
                      <a:pt x="633" y="17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505880" y="1273320"/>
                <a:ext cx="118800" cy="1440"/>
              </a:xfrm>
              <a:custGeom>
                <a:avLst/>
                <a:gdLst/>
                <a:ahLst/>
                <a:rect l="l" t="t" r="r" b="b"/>
                <a:pathLst>
                  <a:path w="701" h="9">
                    <a:moveTo>
                      <a:pt x="667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701" y="0"/>
                    </a:lnTo>
                    <a:lnTo>
                      <a:pt x="667" y="9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04440" y="1271520"/>
                <a:ext cx="123480" cy="1800"/>
              </a:xfrm>
              <a:custGeom>
                <a:avLst/>
                <a:gdLst/>
                <a:ahLst/>
                <a:rect l="l" t="t" r="r" b="b"/>
                <a:pathLst>
                  <a:path w="735" h="8">
                    <a:moveTo>
                      <a:pt x="701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735" y="0"/>
                    </a:lnTo>
                    <a:lnTo>
                      <a:pt x="701" y="8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501200" y="1271520"/>
                <a:ext cx="129960" cy="1800"/>
              </a:xfrm>
              <a:custGeom>
                <a:avLst/>
                <a:gdLst/>
                <a:ahLst/>
                <a:rect l="l" t="t" r="r" b="b"/>
                <a:pathLst>
                  <a:path w="768" h="8">
                    <a:moveTo>
                      <a:pt x="735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35" y="8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97960" y="1270080"/>
                <a:ext cx="136440" cy="1440"/>
              </a:xfrm>
              <a:custGeom>
                <a:avLst/>
                <a:gdLst/>
                <a:ahLst/>
                <a:rect l="l" t="t" r="r" b="b"/>
                <a:pathLst>
                  <a:path w="802" h="9">
                    <a:moveTo>
                      <a:pt x="769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802" y="0"/>
                    </a:lnTo>
                    <a:lnTo>
                      <a:pt x="769" y="9"/>
                    </a:lnTo>
                    <a:close/>
                  </a:path>
                </a:pathLst>
              </a:custGeom>
              <a:solidFill>
                <a:srgbClr val="a168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496520" y="1270080"/>
                <a:ext cx="139320" cy="1440"/>
              </a:xfrm>
              <a:custGeom>
                <a:avLst/>
                <a:gdLst/>
                <a:ahLst/>
                <a:rect l="l" t="t" r="r" b="b"/>
                <a:pathLst>
                  <a:path w="827" h="9">
                    <a:moveTo>
                      <a:pt x="793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827" y="0"/>
                    </a:lnTo>
                    <a:lnTo>
                      <a:pt x="793" y="9"/>
                    </a:lnTo>
                    <a:close/>
                  </a:path>
                </a:pathLst>
              </a:custGeom>
              <a:solidFill>
                <a:srgbClr val="a26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493280" y="1268280"/>
                <a:ext cx="145800" cy="1800"/>
              </a:xfrm>
              <a:custGeom>
                <a:avLst/>
                <a:gdLst/>
                <a:ahLst/>
                <a:rect l="l" t="t" r="r" b="b"/>
                <a:pathLst>
                  <a:path w="861" h="8">
                    <a:moveTo>
                      <a:pt x="827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861" y="0"/>
                    </a:lnTo>
                    <a:lnTo>
                      <a:pt x="827" y="8"/>
                    </a:lnTo>
                    <a:close/>
                  </a:path>
                </a:pathLst>
              </a:custGeom>
              <a:solidFill>
                <a:srgbClr val="a26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490040" y="1266840"/>
                <a:ext cx="152280" cy="3240"/>
              </a:xfrm>
              <a:custGeom>
                <a:avLst/>
                <a:gdLst/>
                <a:ahLst/>
                <a:rect l="l" t="t" r="r" b="b"/>
                <a:pathLst>
                  <a:path w="903" h="16">
                    <a:moveTo>
                      <a:pt x="869" y="16"/>
                    </a:moveTo>
                    <a:lnTo>
                      <a:pt x="42" y="16"/>
                    </a:lnTo>
                    <a:lnTo>
                      <a:pt x="0" y="0"/>
                    </a:lnTo>
                    <a:lnTo>
                      <a:pt x="903" y="0"/>
                    </a:lnTo>
                    <a:lnTo>
                      <a:pt x="895" y="8"/>
                    </a:lnTo>
                    <a:lnTo>
                      <a:pt x="869" y="16"/>
                    </a:lnTo>
                    <a:close/>
                  </a:path>
                </a:pathLst>
              </a:custGeom>
              <a:solidFill>
                <a:srgbClr val="a26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488600" y="1266840"/>
                <a:ext cx="155160" cy="1440"/>
              </a:xfrm>
              <a:custGeom>
                <a:avLst/>
                <a:gdLst/>
                <a:ahLst/>
                <a:rect l="l" t="t" r="r" b="b"/>
                <a:pathLst>
                  <a:path w="920" h="8">
                    <a:moveTo>
                      <a:pt x="895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920" y="0"/>
                    </a:lnTo>
                    <a:lnTo>
                      <a:pt x="904" y="8"/>
                    </a:lnTo>
                    <a:lnTo>
                      <a:pt x="895" y="8"/>
                    </a:lnTo>
                    <a:close/>
                  </a:path>
                </a:pathLst>
              </a:custGeom>
              <a:solidFill>
                <a:srgbClr val="a269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485360" y="1265400"/>
                <a:ext cx="161640" cy="1440"/>
              </a:xfrm>
              <a:custGeom>
                <a:avLst/>
                <a:gdLst/>
                <a:ahLst/>
                <a:rect l="l" t="t" r="r" b="b"/>
                <a:pathLst>
                  <a:path w="954" h="9">
                    <a:moveTo>
                      <a:pt x="929" y="9"/>
                    </a:moveTo>
                    <a:lnTo>
                      <a:pt x="26" y="9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954" y="0"/>
                    </a:lnTo>
                    <a:lnTo>
                      <a:pt x="929" y="9"/>
                    </a:lnTo>
                    <a:close/>
                  </a:path>
                </a:pathLst>
              </a:custGeom>
              <a:solidFill>
                <a:srgbClr val="a3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483920" y="1265400"/>
                <a:ext cx="166320" cy="1440"/>
              </a:xfrm>
              <a:custGeom>
                <a:avLst/>
                <a:gdLst/>
                <a:ahLst/>
                <a:rect l="l" t="t" r="r" b="b"/>
                <a:pathLst>
                  <a:path w="979" h="9">
                    <a:moveTo>
                      <a:pt x="945" y="9"/>
                    </a:moveTo>
                    <a:lnTo>
                      <a:pt x="25" y="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979" y="0"/>
                    </a:lnTo>
                    <a:lnTo>
                      <a:pt x="945" y="9"/>
                    </a:lnTo>
                    <a:close/>
                  </a:path>
                </a:pathLst>
              </a:custGeom>
              <a:solidFill>
                <a:srgbClr val="a3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482120" y="1263600"/>
                <a:ext cx="169560" cy="1800"/>
              </a:xfrm>
              <a:custGeom>
                <a:avLst/>
                <a:gdLst/>
                <a:ahLst/>
                <a:rect l="l" t="t" r="r" b="b"/>
                <a:pathLst>
                  <a:path w="1005" h="8">
                    <a:moveTo>
                      <a:pt x="971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1005" y="0"/>
                    </a:lnTo>
                    <a:lnTo>
                      <a:pt x="971" y="8"/>
                    </a:lnTo>
                    <a:close/>
                  </a:path>
                </a:pathLst>
              </a:custGeom>
              <a:solidFill>
                <a:srgbClr val="a3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478880" y="1263600"/>
                <a:ext cx="176040" cy="1800"/>
              </a:xfrm>
              <a:custGeom>
                <a:avLst/>
                <a:gdLst/>
                <a:ahLst/>
                <a:rect l="l" t="t" r="r" b="b"/>
                <a:pathLst>
                  <a:path w="1038" h="8">
                    <a:moveTo>
                      <a:pt x="1004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038" y="0"/>
                    </a:lnTo>
                    <a:lnTo>
                      <a:pt x="1004" y="8"/>
                    </a:lnTo>
                    <a:close/>
                  </a:path>
                </a:pathLst>
              </a:custGeom>
              <a:solidFill>
                <a:srgbClr val="a4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477440" y="1262160"/>
                <a:ext cx="180720" cy="1440"/>
              </a:xfrm>
              <a:custGeom>
                <a:avLst/>
                <a:gdLst/>
                <a:ahLst/>
                <a:rect l="l" t="t" r="r" b="b"/>
                <a:pathLst>
                  <a:path w="1064" h="9">
                    <a:moveTo>
                      <a:pt x="1030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064" y="0"/>
                    </a:lnTo>
                    <a:lnTo>
                      <a:pt x="1030" y="9"/>
                    </a:lnTo>
                    <a:close/>
                  </a:path>
                </a:pathLst>
              </a:custGeom>
              <a:solidFill>
                <a:srgbClr val="a4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76000" y="1262160"/>
                <a:ext cx="185400" cy="1440"/>
              </a:xfrm>
              <a:custGeom>
                <a:avLst/>
                <a:gdLst/>
                <a:ahLst/>
                <a:rect l="l" t="t" r="r" b="b"/>
                <a:pathLst>
                  <a:path w="1089" h="9">
                    <a:moveTo>
                      <a:pt x="1055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1089" y="0"/>
                    </a:lnTo>
                    <a:lnTo>
                      <a:pt x="1055" y="9"/>
                    </a:lnTo>
                    <a:close/>
                  </a:path>
                </a:pathLst>
              </a:custGeom>
              <a:solidFill>
                <a:srgbClr val="a4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474200" y="1260360"/>
                <a:ext cx="188640" cy="1800"/>
              </a:xfrm>
              <a:custGeom>
                <a:avLst/>
                <a:gdLst/>
                <a:ahLst/>
                <a:rect l="l" t="t" r="r" b="b"/>
                <a:pathLst>
                  <a:path w="1114" h="8">
                    <a:moveTo>
                      <a:pt x="1089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114" y="0"/>
                    </a:lnTo>
                    <a:lnTo>
                      <a:pt x="1089" y="8"/>
                    </a:lnTo>
                    <a:close/>
                  </a:path>
                </a:pathLst>
              </a:custGeom>
              <a:solidFill>
                <a:srgbClr val="a4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852480" y="1085760"/>
              <a:ext cx="1235880" cy="176400"/>
              <a:chOff x="852480" y="1085760"/>
              <a:chExt cx="1235880" cy="176400"/>
            </a:xfrm>
          </p:grpSpPr>
          <p:sp>
            <p:nvSpPr>
              <p:cNvPr id="869" name=""/>
              <p:cNvSpPr/>
              <p:nvPr/>
            </p:nvSpPr>
            <p:spPr>
              <a:xfrm>
                <a:off x="1472760" y="1260360"/>
                <a:ext cx="193320" cy="1800"/>
              </a:xfrm>
              <a:custGeom>
                <a:avLst/>
                <a:gdLst/>
                <a:ahLst/>
                <a:rect l="l" t="t" r="r" b="b"/>
                <a:pathLst>
                  <a:path w="1140" h="8">
                    <a:moveTo>
                      <a:pt x="1115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1140" y="0"/>
                    </a:lnTo>
                    <a:lnTo>
                      <a:pt x="1115" y="8"/>
                    </a:lnTo>
                    <a:close/>
                  </a:path>
                </a:pathLst>
              </a:custGeom>
              <a:solidFill>
                <a:srgbClr val="a46a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470960" y="1258920"/>
                <a:ext cx="196560" cy="1440"/>
              </a:xfrm>
              <a:custGeom>
                <a:avLst/>
                <a:gdLst/>
                <a:ahLst/>
                <a:rect l="l" t="t" r="r" b="b"/>
                <a:pathLst>
                  <a:path w="1165" h="9">
                    <a:moveTo>
                      <a:pt x="1131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1165" y="0"/>
                    </a:lnTo>
                    <a:lnTo>
                      <a:pt x="1131" y="9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468080" y="1258920"/>
                <a:ext cx="201240" cy="1440"/>
              </a:xfrm>
              <a:custGeom>
                <a:avLst/>
                <a:gdLst/>
                <a:ahLst/>
                <a:rect l="l" t="t" r="r" b="b"/>
                <a:pathLst>
                  <a:path w="1190" h="9">
                    <a:moveTo>
                      <a:pt x="1165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190" y="0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466280" y="1257480"/>
                <a:ext cx="205920" cy="1440"/>
              </a:xfrm>
              <a:custGeom>
                <a:avLst/>
                <a:gdLst/>
                <a:ahLst/>
                <a:rect l="l" t="t" r="r" b="b"/>
                <a:pathLst>
                  <a:path w="1215" h="8">
                    <a:moveTo>
                      <a:pt x="1190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215" y="0"/>
                    </a:lnTo>
                    <a:lnTo>
                      <a:pt x="1190" y="8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463040" y="1255680"/>
                <a:ext cx="212400" cy="3240"/>
              </a:xfrm>
              <a:custGeom>
                <a:avLst/>
                <a:gdLst/>
                <a:ahLst/>
                <a:rect l="l" t="t" r="r" b="b"/>
                <a:pathLst>
                  <a:path w="1249" h="16">
                    <a:moveTo>
                      <a:pt x="1215" y="16"/>
                    </a:moveTo>
                    <a:lnTo>
                      <a:pt x="25" y="16"/>
                    </a:lnTo>
                    <a:lnTo>
                      <a:pt x="0" y="0"/>
                    </a:lnTo>
                    <a:lnTo>
                      <a:pt x="1249" y="0"/>
                    </a:lnTo>
                    <a:lnTo>
                      <a:pt x="1215" y="16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461600" y="1255680"/>
                <a:ext cx="217080" cy="1800"/>
              </a:xfrm>
              <a:custGeom>
                <a:avLst/>
                <a:gdLst/>
                <a:ahLst/>
                <a:rect l="l" t="t" r="r" b="b"/>
                <a:pathLst>
                  <a:path w="1275" h="8">
                    <a:moveTo>
                      <a:pt x="1241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1275" y="0"/>
                    </a:lnTo>
                    <a:lnTo>
                      <a:pt x="1241" y="8"/>
                    </a:lnTo>
                    <a:close/>
                  </a:path>
                </a:pathLst>
              </a:custGeom>
              <a:solidFill>
                <a:srgbClr val="a56b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461600" y="1254240"/>
                <a:ext cx="218880" cy="1440"/>
              </a:xfrm>
              <a:custGeom>
                <a:avLst/>
                <a:gdLst/>
                <a:ahLst/>
                <a:rect l="l" t="t" r="r" b="b"/>
                <a:pathLst>
                  <a:path w="1300" h="9">
                    <a:moveTo>
                      <a:pt x="1266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1300" y="0"/>
                    </a:lnTo>
                    <a:lnTo>
                      <a:pt x="1292" y="0"/>
                    </a:lnTo>
                    <a:lnTo>
                      <a:pt x="1266" y="9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458360" y="1254240"/>
                <a:ext cx="225000" cy="1440"/>
              </a:xfrm>
              <a:custGeom>
                <a:avLst/>
                <a:gdLst/>
                <a:ahLst/>
                <a:rect l="l" t="t" r="r" b="b"/>
                <a:pathLst>
                  <a:path w="1334" h="9">
                    <a:moveTo>
                      <a:pt x="1300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334" y="0"/>
                    </a:lnTo>
                    <a:lnTo>
                      <a:pt x="1309" y="0"/>
                    </a:lnTo>
                    <a:lnTo>
                      <a:pt x="1300" y="9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456920" y="1252440"/>
                <a:ext cx="229680" cy="1800"/>
              </a:xfrm>
              <a:custGeom>
                <a:avLst/>
                <a:gdLst/>
                <a:ahLst/>
                <a:rect l="l" t="t" r="r" b="b"/>
                <a:pathLst>
                  <a:path w="1360" h="8">
                    <a:moveTo>
                      <a:pt x="1326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1360" y="0"/>
                    </a:lnTo>
                    <a:lnTo>
                      <a:pt x="1326" y="8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455120" y="1251000"/>
                <a:ext cx="233280" cy="3240"/>
              </a:xfrm>
              <a:custGeom>
                <a:avLst/>
                <a:gdLst/>
                <a:ahLst/>
                <a:rect l="l" t="t" r="r" b="b"/>
                <a:pathLst>
                  <a:path w="1376" h="17">
                    <a:moveTo>
                      <a:pt x="1351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51" y="17"/>
                    </a:lnTo>
                    <a:close/>
                  </a:path>
                </a:pathLst>
              </a:custGeom>
              <a:solidFill>
                <a:srgbClr val="a66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452240" y="1251000"/>
                <a:ext cx="239040" cy="1440"/>
              </a:xfrm>
              <a:custGeom>
                <a:avLst/>
                <a:gdLst/>
                <a:ahLst/>
                <a:rect l="l" t="t" r="r" b="b"/>
                <a:pathLst>
                  <a:path w="1410" h="9">
                    <a:moveTo>
                      <a:pt x="1385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410" y="0"/>
                    </a:lnTo>
                    <a:lnTo>
                      <a:pt x="1385" y="9"/>
                    </a:lnTo>
                    <a:close/>
                  </a:path>
                </a:pathLst>
              </a:custGeom>
              <a:solidFill>
                <a:srgbClr val="a76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450440" y="1249560"/>
                <a:ext cx="244080" cy="1440"/>
              </a:xfrm>
              <a:custGeom>
                <a:avLst/>
                <a:gdLst/>
                <a:ahLst/>
                <a:rect l="l" t="t" r="r" b="b"/>
                <a:pathLst>
                  <a:path w="1435" h="8">
                    <a:moveTo>
                      <a:pt x="1401" y="8"/>
                    </a:moveTo>
                    <a:lnTo>
                      <a:pt x="25" y="8"/>
                    </a:lnTo>
                    <a:lnTo>
                      <a:pt x="8" y="8"/>
                    </a:lnTo>
                    <a:lnTo>
                      <a:pt x="0" y="0"/>
                    </a:lnTo>
                    <a:lnTo>
                      <a:pt x="1435" y="0"/>
                    </a:lnTo>
                    <a:lnTo>
                      <a:pt x="1401" y="8"/>
                    </a:lnTo>
                    <a:close/>
                  </a:path>
                </a:pathLst>
              </a:custGeom>
              <a:solidFill>
                <a:srgbClr val="a76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447200" y="1249560"/>
                <a:ext cx="247320" cy="1440"/>
              </a:xfrm>
              <a:custGeom>
                <a:avLst/>
                <a:gdLst/>
                <a:ahLst/>
                <a:rect l="l" t="t" r="r" b="b"/>
                <a:pathLst>
                  <a:path w="1460" h="8">
                    <a:moveTo>
                      <a:pt x="1435" y="8"/>
                    </a:moveTo>
                    <a:lnTo>
                      <a:pt x="25" y="8"/>
                    </a:lnTo>
                    <a:lnTo>
                      <a:pt x="25" y="8"/>
                    </a:lnTo>
                    <a:lnTo>
                      <a:pt x="0" y="0"/>
                    </a:lnTo>
                    <a:lnTo>
                      <a:pt x="1460" y="0"/>
                    </a:lnTo>
                    <a:lnTo>
                      <a:pt x="1435" y="8"/>
                    </a:lnTo>
                    <a:close/>
                  </a:path>
                </a:pathLst>
              </a:custGeom>
              <a:solidFill>
                <a:srgbClr val="a76c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445760" y="1247760"/>
                <a:ext cx="252000" cy="1800"/>
              </a:xfrm>
              <a:custGeom>
                <a:avLst/>
                <a:gdLst/>
                <a:ahLst/>
                <a:rect l="l" t="t" r="r" b="b"/>
                <a:pathLst>
                  <a:path w="1486" h="9">
                    <a:moveTo>
                      <a:pt x="1461" y="9"/>
                    </a:moveTo>
                    <a:lnTo>
                      <a:pt x="26" y="9"/>
                    </a:lnTo>
                    <a:lnTo>
                      <a:pt x="0" y="0"/>
                    </a:lnTo>
                    <a:lnTo>
                      <a:pt x="1486" y="0"/>
                    </a:lnTo>
                    <a:lnTo>
                      <a:pt x="1461" y="9"/>
                    </a:lnTo>
                    <a:close/>
                  </a:path>
                </a:pathLst>
              </a:custGeom>
              <a:solidFill>
                <a:srgbClr val="a8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445760" y="1247760"/>
                <a:ext cx="255240" cy="1800"/>
              </a:xfrm>
              <a:custGeom>
                <a:avLst/>
                <a:gdLst/>
                <a:ahLst/>
                <a:rect l="l" t="t" r="r" b="b"/>
                <a:pathLst>
                  <a:path w="1511" h="9">
                    <a:moveTo>
                      <a:pt x="1477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1511" y="0"/>
                    </a:lnTo>
                    <a:lnTo>
                      <a:pt x="1477" y="9"/>
                    </a:lnTo>
                    <a:close/>
                  </a:path>
                </a:pathLst>
              </a:custGeom>
              <a:solidFill>
                <a:srgbClr val="a8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442520" y="1246320"/>
                <a:ext cx="261720" cy="1440"/>
              </a:xfrm>
              <a:custGeom>
                <a:avLst/>
                <a:gdLst/>
                <a:ahLst/>
                <a:rect l="l" t="t" r="r" b="b"/>
                <a:pathLst>
                  <a:path w="1545" h="8">
                    <a:moveTo>
                      <a:pt x="1511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545" y="0"/>
                    </a:lnTo>
                    <a:lnTo>
                      <a:pt x="1511" y="8"/>
                    </a:lnTo>
                    <a:close/>
                  </a:path>
                </a:pathLst>
              </a:custGeom>
              <a:solidFill>
                <a:srgbClr val="a8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441080" y="1244520"/>
                <a:ext cx="264600" cy="3240"/>
              </a:xfrm>
              <a:custGeom>
                <a:avLst/>
                <a:gdLst/>
                <a:ahLst/>
                <a:rect l="l" t="t" r="r" b="b"/>
                <a:pathLst>
                  <a:path w="1561" h="17">
                    <a:moveTo>
                      <a:pt x="1536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1561" y="0"/>
                    </a:lnTo>
                    <a:lnTo>
                      <a:pt x="1536" y="17"/>
                    </a:lnTo>
                    <a:close/>
                  </a:path>
                </a:pathLst>
              </a:custGeom>
              <a:solidFill>
                <a:srgbClr val="a86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437840" y="1244520"/>
                <a:ext cx="271080" cy="1800"/>
              </a:xfrm>
              <a:custGeom>
                <a:avLst/>
                <a:gdLst/>
                <a:ahLst/>
                <a:rect l="l" t="t" r="r" b="b"/>
                <a:pathLst>
                  <a:path w="1595" h="9">
                    <a:moveTo>
                      <a:pt x="1570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595" y="0"/>
                    </a:lnTo>
                    <a:lnTo>
                      <a:pt x="1570" y="9"/>
                    </a:lnTo>
                    <a:close/>
                  </a:path>
                </a:pathLst>
              </a:custGeom>
              <a:solidFill>
                <a:srgbClr val="a8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436040" y="1243080"/>
                <a:ext cx="274320" cy="1440"/>
              </a:xfrm>
              <a:custGeom>
                <a:avLst/>
                <a:gdLst/>
                <a:ahLst/>
                <a:rect l="l" t="t" r="r" b="b"/>
                <a:pathLst>
                  <a:path w="1621" h="8">
                    <a:moveTo>
                      <a:pt x="1587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1621" y="0"/>
                    </a:lnTo>
                    <a:lnTo>
                      <a:pt x="1587" y="8"/>
                    </a:lnTo>
                    <a:close/>
                  </a:path>
                </a:pathLst>
              </a:custGeom>
              <a:solidFill>
                <a:srgbClr val="a8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434600" y="1243080"/>
                <a:ext cx="277560" cy="1440"/>
              </a:xfrm>
              <a:custGeom>
                <a:avLst/>
                <a:gdLst/>
                <a:ahLst/>
                <a:rect l="l" t="t" r="r" b="b"/>
                <a:pathLst>
                  <a:path w="1638" h="8">
                    <a:moveTo>
                      <a:pt x="1612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1638" y="0"/>
                    </a:lnTo>
                    <a:lnTo>
                      <a:pt x="1612" y="8"/>
                    </a:lnTo>
                    <a:close/>
                  </a:path>
                </a:pathLst>
              </a:custGeom>
              <a:solidFill>
                <a:srgbClr val="a8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431360" y="1243080"/>
                <a:ext cx="284040" cy="1440"/>
              </a:xfrm>
              <a:custGeom>
                <a:avLst/>
                <a:gdLst/>
                <a:ahLst/>
                <a:rect l="l" t="t" r="r" b="b"/>
                <a:pathLst>
                  <a:path w="1672" h="8">
                    <a:moveTo>
                      <a:pt x="1646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672" y="0"/>
                    </a:lnTo>
                    <a:lnTo>
                      <a:pt x="1646" y="8"/>
                    </a:lnTo>
                    <a:close/>
                  </a:path>
                </a:pathLst>
              </a:custGeom>
              <a:solidFill>
                <a:srgbClr val="a9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31360" y="1243080"/>
                <a:ext cx="286920" cy="1440"/>
              </a:xfrm>
              <a:custGeom>
                <a:avLst/>
                <a:gdLst/>
                <a:ahLst/>
                <a:rect l="l" t="t" r="r" b="b"/>
                <a:pathLst>
                  <a:path w="1696" h="8">
                    <a:moveTo>
                      <a:pt x="1663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63" y="8"/>
                    </a:lnTo>
                    <a:close/>
                  </a:path>
                </a:pathLst>
              </a:custGeom>
              <a:solidFill>
                <a:srgbClr val="a96d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28120" y="1241640"/>
                <a:ext cx="293400" cy="1440"/>
              </a:xfrm>
              <a:custGeom>
                <a:avLst/>
                <a:gdLst/>
                <a:ahLst/>
                <a:rect l="l" t="t" r="r" b="b"/>
                <a:pathLst>
                  <a:path w="1730" h="9">
                    <a:moveTo>
                      <a:pt x="1697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730" y="0"/>
                    </a:lnTo>
                    <a:lnTo>
                      <a:pt x="1697" y="9"/>
                    </a:lnTo>
                    <a:close/>
                  </a:path>
                </a:pathLst>
              </a:custGeom>
              <a:solidFill>
                <a:srgbClr val="a96d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26680" y="1239840"/>
                <a:ext cx="296640" cy="3240"/>
              </a:xfrm>
              <a:custGeom>
                <a:avLst/>
                <a:gdLst/>
                <a:ahLst/>
                <a:rect l="l" t="t" r="r" b="b"/>
                <a:pathLst>
                  <a:path w="1748" h="17">
                    <a:moveTo>
                      <a:pt x="1722" y="17"/>
                    </a:moveTo>
                    <a:lnTo>
                      <a:pt x="26" y="17"/>
                    </a:lnTo>
                    <a:lnTo>
                      <a:pt x="0" y="0"/>
                    </a:lnTo>
                    <a:lnTo>
                      <a:pt x="1748" y="0"/>
                    </a:lnTo>
                    <a:lnTo>
                      <a:pt x="1722" y="17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23440" y="1239840"/>
                <a:ext cx="301320" cy="1800"/>
              </a:xfrm>
              <a:custGeom>
                <a:avLst/>
                <a:gdLst/>
                <a:ahLst/>
                <a:rect l="l" t="t" r="r" b="b"/>
                <a:pathLst>
                  <a:path w="1782" h="8">
                    <a:moveTo>
                      <a:pt x="1756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1782" y="0"/>
                    </a:lnTo>
                    <a:lnTo>
                      <a:pt x="1756" y="8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422000" y="1238400"/>
                <a:ext cx="306000" cy="1440"/>
              </a:xfrm>
              <a:custGeom>
                <a:avLst/>
                <a:gdLst/>
                <a:ahLst/>
                <a:rect l="l" t="t" r="r" b="b"/>
                <a:pathLst>
                  <a:path w="1807" h="9">
                    <a:moveTo>
                      <a:pt x="1773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1807" y="0"/>
                    </a:lnTo>
                    <a:lnTo>
                      <a:pt x="1773" y="9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420200" y="1238400"/>
                <a:ext cx="309240" cy="1440"/>
              </a:xfrm>
              <a:custGeom>
                <a:avLst/>
                <a:gdLst/>
                <a:ahLst/>
                <a:rect l="l" t="t" r="r" b="b"/>
                <a:pathLst>
                  <a:path w="1824" h="9">
                    <a:moveTo>
                      <a:pt x="1799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799" y="9"/>
                    </a:lnTo>
                    <a:close/>
                  </a:path>
                </a:pathLst>
              </a:custGeom>
              <a:solidFill>
                <a:srgbClr val="aa6e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1417320" y="1236600"/>
                <a:ext cx="315360" cy="1800"/>
              </a:xfrm>
              <a:custGeom>
                <a:avLst/>
                <a:gdLst/>
                <a:ahLst/>
                <a:rect l="l" t="t" r="r" b="b"/>
                <a:pathLst>
                  <a:path w="1857" h="8">
                    <a:moveTo>
                      <a:pt x="1832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857" y="0"/>
                    </a:lnTo>
                    <a:lnTo>
                      <a:pt x="1832" y="8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417320" y="1236600"/>
                <a:ext cx="318600" cy="1800"/>
              </a:xfrm>
              <a:custGeom>
                <a:avLst/>
                <a:gdLst/>
                <a:ahLst/>
                <a:rect l="l" t="t" r="r" b="b"/>
                <a:pathLst>
                  <a:path w="1883" h="8">
                    <a:moveTo>
                      <a:pt x="1849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883" y="0"/>
                    </a:lnTo>
                    <a:lnTo>
                      <a:pt x="1849" y="8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414080" y="1235160"/>
                <a:ext cx="325080" cy="1440"/>
              </a:xfrm>
              <a:custGeom>
                <a:avLst/>
                <a:gdLst/>
                <a:ahLst/>
                <a:rect l="l" t="t" r="r" b="b"/>
                <a:pathLst>
                  <a:path w="1917" h="9">
                    <a:moveTo>
                      <a:pt x="1883" y="9"/>
                    </a:moveTo>
                    <a:lnTo>
                      <a:pt x="26" y="9"/>
                    </a:lnTo>
                    <a:lnTo>
                      <a:pt x="0" y="0"/>
                    </a:lnTo>
                    <a:lnTo>
                      <a:pt x="1917" y="0"/>
                    </a:lnTo>
                    <a:lnTo>
                      <a:pt x="1883" y="9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412280" y="1233360"/>
                <a:ext cx="326880" cy="3240"/>
              </a:xfrm>
              <a:custGeom>
                <a:avLst/>
                <a:gdLst/>
                <a:ahLst/>
                <a:rect l="l" t="t" r="r" b="b"/>
                <a:pathLst>
                  <a:path w="1933" h="17">
                    <a:moveTo>
                      <a:pt x="1908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1933" y="0"/>
                    </a:lnTo>
                    <a:lnTo>
                      <a:pt x="1908" y="17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409040" y="1233360"/>
                <a:ext cx="333000" cy="1800"/>
              </a:xfrm>
              <a:custGeom>
                <a:avLst/>
                <a:gdLst/>
                <a:ahLst/>
                <a:rect l="l" t="t" r="r" b="b"/>
                <a:pathLst>
                  <a:path w="1967" h="8">
                    <a:moveTo>
                      <a:pt x="1942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1967" y="0"/>
                    </a:lnTo>
                    <a:lnTo>
                      <a:pt x="1942" y="8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07600" y="1231920"/>
                <a:ext cx="337680" cy="1440"/>
              </a:xfrm>
              <a:custGeom>
                <a:avLst/>
                <a:gdLst/>
                <a:ahLst/>
                <a:rect l="l" t="t" r="r" b="b"/>
                <a:pathLst>
                  <a:path w="1993" h="9">
                    <a:moveTo>
                      <a:pt x="1959" y="9"/>
                    </a:moveTo>
                    <a:lnTo>
                      <a:pt x="26" y="9"/>
                    </a:lnTo>
                    <a:lnTo>
                      <a:pt x="9" y="9"/>
                    </a:lnTo>
                    <a:lnTo>
                      <a:pt x="0" y="0"/>
                    </a:lnTo>
                    <a:lnTo>
                      <a:pt x="1993" y="0"/>
                    </a:lnTo>
                    <a:lnTo>
                      <a:pt x="1959" y="9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04360" y="1231920"/>
                <a:ext cx="342720" cy="1440"/>
              </a:xfrm>
              <a:custGeom>
                <a:avLst/>
                <a:gdLst/>
                <a:ahLst/>
                <a:rect l="l" t="t" r="r" b="b"/>
                <a:pathLst>
                  <a:path w="2017" h="9">
                    <a:moveTo>
                      <a:pt x="1992" y="9"/>
                    </a:moveTo>
                    <a:lnTo>
                      <a:pt x="25" y="9"/>
                    </a:lnTo>
                    <a:lnTo>
                      <a:pt x="25" y="9"/>
                    </a:lnTo>
                    <a:lnTo>
                      <a:pt x="0" y="0"/>
                    </a:lnTo>
                    <a:lnTo>
                      <a:pt x="2017" y="0"/>
                    </a:lnTo>
                    <a:lnTo>
                      <a:pt x="1992" y="9"/>
                    </a:lnTo>
                    <a:close/>
                  </a:path>
                </a:pathLst>
              </a:custGeom>
              <a:solidFill>
                <a:srgbClr val="ab6e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402920" y="1230480"/>
                <a:ext cx="347400" cy="1440"/>
              </a:xfrm>
              <a:custGeom>
                <a:avLst/>
                <a:gdLst/>
                <a:ahLst/>
                <a:rect l="l" t="t" r="r" b="b"/>
                <a:pathLst>
                  <a:path w="2043" h="8">
                    <a:moveTo>
                      <a:pt x="2018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2043" y="0"/>
                    </a:lnTo>
                    <a:lnTo>
                      <a:pt x="2018" y="8"/>
                    </a:lnTo>
                    <a:close/>
                  </a:path>
                </a:pathLst>
              </a:custGeom>
              <a:solidFill>
                <a:srgbClr val="ac6f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401120" y="1230480"/>
                <a:ext cx="352080" cy="1440"/>
              </a:xfrm>
              <a:custGeom>
                <a:avLst/>
                <a:gdLst/>
                <a:ahLst/>
                <a:rect l="l" t="t" r="r" b="b"/>
                <a:pathLst>
                  <a:path w="2077" h="8">
                    <a:moveTo>
                      <a:pt x="2043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2077" y="0"/>
                    </a:lnTo>
                    <a:lnTo>
                      <a:pt x="2043" y="8"/>
                    </a:lnTo>
                    <a:close/>
                  </a:path>
                </a:pathLst>
              </a:custGeom>
              <a:solidFill>
                <a:srgbClr val="ac6f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398240" y="1228680"/>
                <a:ext cx="356760" cy="1800"/>
              </a:xfrm>
              <a:custGeom>
                <a:avLst/>
                <a:gdLst/>
                <a:ahLst/>
                <a:rect l="l" t="t" r="r" b="b"/>
                <a:pathLst>
                  <a:path w="2111" h="8">
                    <a:moveTo>
                      <a:pt x="2077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2111" y="0"/>
                    </a:lnTo>
                    <a:lnTo>
                      <a:pt x="2077" y="8"/>
                    </a:lnTo>
                    <a:close/>
                  </a:path>
                </a:pathLst>
              </a:custGeom>
              <a:solidFill>
                <a:srgbClr val="ac6f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396440" y="1228680"/>
                <a:ext cx="360000" cy="1800"/>
              </a:xfrm>
              <a:custGeom>
                <a:avLst/>
                <a:gdLst/>
                <a:ahLst/>
                <a:rect l="l" t="t" r="r" b="b"/>
                <a:pathLst>
                  <a:path w="2127" h="8">
                    <a:moveTo>
                      <a:pt x="2102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2127" y="0"/>
                    </a:lnTo>
                    <a:lnTo>
                      <a:pt x="2102" y="8"/>
                    </a:lnTo>
                    <a:close/>
                  </a:path>
                </a:pathLst>
              </a:custGeom>
              <a:solidFill>
                <a:srgbClr val="ab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393200" y="1227240"/>
                <a:ext cx="366480" cy="1440"/>
              </a:xfrm>
              <a:custGeom>
                <a:avLst/>
                <a:gdLst/>
                <a:ahLst/>
                <a:rect l="l" t="t" r="r" b="b"/>
                <a:pathLst>
                  <a:path w="2161" h="9">
                    <a:moveTo>
                      <a:pt x="2136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2161" y="0"/>
                    </a:lnTo>
                    <a:lnTo>
                      <a:pt x="2136" y="9"/>
                    </a:lnTo>
                    <a:close/>
                  </a:path>
                </a:pathLst>
              </a:custGeom>
              <a:solidFill>
                <a:srgbClr val="ab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390320" y="1227240"/>
                <a:ext cx="372600" cy="1440"/>
              </a:xfrm>
              <a:custGeom>
                <a:avLst/>
                <a:gdLst/>
                <a:ahLst/>
                <a:rect l="l" t="t" r="r" b="b"/>
                <a:pathLst>
                  <a:path w="2195" h="9">
                    <a:moveTo>
                      <a:pt x="2161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2195" y="0"/>
                    </a:lnTo>
                    <a:lnTo>
                      <a:pt x="2161" y="9"/>
                    </a:lnTo>
                    <a:close/>
                  </a:path>
                </a:pathLst>
              </a:custGeom>
              <a:solidFill>
                <a:srgbClr val="ad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388520" y="1225440"/>
                <a:ext cx="377640" cy="1800"/>
              </a:xfrm>
              <a:custGeom>
                <a:avLst/>
                <a:gdLst/>
                <a:ahLst/>
                <a:rect l="l" t="t" r="r" b="b"/>
                <a:pathLst>
                  <a:path w="2220" h="8">
                    <a:moveTo>
                      <a:pt x="2186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2220" y="0"/>
                    </a:lnTo>
                    <a:lnTo>
                      <a:pt x="2186" y="8"/>
                    </a:lnTo>
                    <a:close/>
                  </a:path>
                </a:pathLst>
              </a:custGeom>
              <a:solidFill>
                <a:srgbClr val="ad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387080" y="1224000"/>
                <a:ext cx="380520" cy="3240"/>
              </a:xfrm>
              <a:custGeom>
                <a:avLst/>
                <a:gdLst/>
                <a:ahLst/>
                <a:rect l="l" t="t" r="r" b="b"/>
                <a:pathLst>
                  <a:path w="2246" h="17">
                    <a:moveTo>
                      <a:pt x="2220" y="17"/>
                    </a:moveTo>
                    <a:lnTo>
                      <a:pt x="25" y="17"/>
                    </a:lnTo>
                    <a:lnTo>
                      <a:pt x="0" y="0"/>
                    </a:lnTo>
                    <a:lnTo>
                      <a:pt x="2246" y="0"/>
                    </a:lnTo>
                    <a:lnTo>
                      <a:pt x="2220" y="17"/>
                    </a:lnTo>
                    <a:close/>
                  </a:path>
                </a:pathLst>
              </a:custGeom>
              <a:solidFill>
                <a:srgbClr val="ad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383840" y="1224000"/>
                <a:ext cx="385200" cy="1440"/>
              </a:xfrm>
              <a:custGeom>
                <a:avLst/>
                <a:gdLst/>
                <a:ahLst/>
                <a:rect l="l" t="t" r="r" b="b"/>
                <a:pathLst>
                  <a:path w="2279" h="9">
                    <a:moveTo>
                      <a:pt x="2254" y="9"/>
                    </a:moveTo>
                    <a:lnTo>
                      <a:pt x="34" y="9"/>
                    </a:lnTo>
                    <a:lnTo>
                      <a:pt x="0" y="0"/>
                    </a:lnTo>
                    <a:lnTo>
                      <a:pt x="2279" y="0"/>
                    </a:lnTo>
                    <a:lnTo>
                      <a:pt x="2254" y="9"/>
                    </a:lnTo>
                    <a:close/>
                  </a:path>
                </a:pathLst>
              </a:custGeom>
              <a:solidFill>
                <a:srgbClr val="ad70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380600" y="1222560"/>
                <a:ext cx="391680" cy="1440"/>
              </a:xfrm>
              <a:custGeom>
                <a:avLst/>
                <a:gdLst/>
                <a:ahLst/>
                <a:rect l="l" t="t" r="r" b="b"/>
                <a:pathLst>
                  <a:path w="2313" h="8">
                    <a:moveTo>
                      <a:pt x="2280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2313" y="0"/>
                    </a:lnTo>
                    <a:lnTo>
                      <a:pt x="2280" y="8"/>
                    </a:lnTo>
                    <a:close/>
                  </a:path>
                </a:pathLst>
              </a:custGeom>
              <a:solidFill>
                <a:srgbClr val="ae7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379160" y="1222560"/>
                <a:ext cx="396360" cy="1440"/>
              </a:xfrm>
              <a:custGeom>
                <a:avLst/>
                <a:gdLst/>
                <a:ahLst/>
                <a:rect l="l" t="t" r="r" b="b"/>
                <a:pathLst>
                  <a:path w="2338" h="8">
                    <a:moveTo>
                      <a:pt x="2304" y="8"/>
                    </a:moveTo>
                    <a:lnTo>
                      <a:pt x="25" y="8"/>
                    </a:lnTo>
                    <a:lnTo>
                      <a:pt x="0" y="0"/>
                    </a:lnTo>
                    <a:lnTo>
                      <a:pt x="2338" y="0"/>
                    </a:lnTo>
                    <a:lnTo>
                      <a:pt x="2304" y="8"/>
                    </a:lnTo>
                    <a:close/>
                  </a:path>
                </a:pathLst>
              </a:custGeom>
              <a:solidFill>
                <a:srgbClr val="ae7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375920" y="1220760"/>
                <a:ext cx="401400" cy="1800"/>
              </a:xfrm>
              <a:custGeom>
                <a:avLst/>
                <a:gdLst/>
                <a:ahLst/>
                <a:rect l="l" t="t" r="r" b="b"/>
                <a:pathLst>
                  <a:path w="2364" h="9">
                    <a:moveTo>
                      <a:pt x="2338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2364" y="0"/>
                    </a:lnTo>
                    <a:lnTo>
                      <a:pt x="2338" y="9"/>
                    </a:lnTo>
                    <a:close/>
                  </a:path>
                </a:pathLst>
              </a:custGeom>
              <a:solidFill>
                <a:srgbClr val="ae7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374120" y="1220760"/>
                <a:ext cx="406080" cy="1800"/>
              </a:xfrm>
              <a:custGeom>
                <a:avLst/>
                <a:gdLst/>
                <a:ahLst/>
                <a:rect l="l" t="t" r="r" b="b"/>
                <a:pathLst>
                  <a:path w="2390" h="9">
                    <a:moveTo>
                      <a:pt x="2364" y="9"/>
                    </a:moveTo>
                    <a:lnTo>
                      <a:pt x="26" y="9"/>
                    </a:lnTo>
                    <a:lnTo>
                      <a:pt x="0" y="0"/>
                    </a:lnTo>
                    <a:lnTo>
                      <a:pt x="2390" y="0"/>
                    </a:lnTo>
                    <a:lnTo>
                      <a:pt x="2364" y="9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372680" y="1219320"/>
                <a:ext cx="409320" cy="1440"/>
              </a:xfrm>
              <a:custGeom>
                <a:avLst/>
                <a:gdLst/>
                <a:ahLst/>
                <a:rect l="l" t="t" r="r" b="b"/>
                <a:pathLst>
                  <a:path w="2423" h="8">
                    <a:moveTo>
                      <a:pt x="2390" y="8"/>
                    </a:moveTo>
                    <a:lnTo>
                      <a:pt x="26" y="8"/>
                    </a:lnTo>
                    <a:lnTo>
                      <a:pt x="0" y="0"/>
                    </a:lnTo>
                    <a:lnTo>
                      <a:pt x="2423" y="0"/>
                    </a:lnTo>
                    <a:lnTo>
                      <a:pt x="2390" y="8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369440" y="1217520"/>
                <a:ext cx="415800" cy="3240"/>
              </a:xfrm>
              <a:custGeom>
                <a:avLst/>
                <a:gdLst/>
                <a:ahLst/>
                <a:rect l="l" t="t" r="r" b="b"/>
                <a:pathLst>
                  <a:path w="2457" h="17">
                    <a:moveTo>
                      <a:pt x="2424" y="17"/>
                    </a:moveTo>
                    <a:lnTo>
                      <a:pt x="34" y="17"/>
                    </a:lnTo>
                    <a:lnTo>
                      <a:pt x="0" y="0"/>
                    </a:lnTo>
                    <a:lnTo>
                      <a:pt x="2457" y="0"/>
                    </a:lnTo>
                    <a:lnTo>
                      <a:pt x="2449" y="0"/>
                    </a:lnTo>
                    <a:lnTo>
                      <a:pt x="2424" y="17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68000" y="1217520"/>
                <a:ext cx="420120" cy="1800"/>
              </a:xfrm>
              <a:custGeom>
                <a:avLst/>
                <a:gdLst/>
                <a:ahLst/>
                <a:rect l="l" t="t" r="r" b="b"/>
                <a:pathLst>
                  <a:path w="2482" h="9">
                    <a:moveTo>
                      <a:pt x="2448" y="9"/>
                    </a:moveTo>
                    <a:lnTo>
                      <a:pt x="25" y="9"/>
                    </a:lnTo>
                    <a:lnTo>
                      <a:pt x="0" y="0"/>
                    </a:lnTo>
                    <a:lnTo>
                      <a:pt x="2482" y="0"/>
                    </a:lnTo>
                    <a:lnTo>
                      <a:pt x="2457" y="0"/>
                    </a:lnTo>
                    <a:lnTo>
                      <a:pt x="2448" y="9"/>
                    </a:lnTo>
                    <a:close/>
                  </a:path>
                </a:pathLst>
              </a:custGeom>
              <a:solidFill>
                <a:srgbClr val="a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363320" y="1216080"/>
                <a:ext cx="428040" cy="1440"/>
              </a:xfrm>
              <a:custGeom>
                <a:avLst/>
                <a:gdLst/>
                <a:ahLst/>
                <a:rect l="l" t="t" r="r" b="b"/>
                <a:pathLst>
                  <a:path w="2524" h="8">
                    <a:moveTo>
                      <a:pt x="2490" y="8"/>
                    </a:moveTo>
                    <a:lnTo>
                      <a:pt x="33" y="8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2524" y="0"/>
                    </a:lnTo>
                    <a:lnTo>
                      <a:pt x="2490" y="8"/>
                    </a:lnTo>
                    <a:close/>
                  </a:path>
                </a:pathLst>
              </a:custGeom>
              <a:solidFill>
                <a:srgbClr val="af7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360080" y="1216080"/>
                <a:ext cx="433080" cy="1440"/>
              </a:xfrm>
              <a:custGeom>
                <a:avLst/>
                <a:gdLst/>
                <a:ahLst/>
                <a:rect l="l" t="t" r="r" b="b"/>
                <a:pathLst>
                  <a:path w="2549" h="8">
                    <a:moveTo>
                      <a:pt x="2524" y="8"/>
                    </a:moveTo>
                    <a:lnTo>
                      <a:pt x="42" y="8"/>
                    </a:lnTo>
                    <a:lnTo>
                      <a:pt x="34" y="8"/>
                    </a:lnTo>
                    <a:lnTo>
                      <a:pt x="0" y="0"/>
                    </a:lnTo>
                    <a:lnTo>
                      <a:pt x="2549" y="0"/>
                    </a:lnTo>
                    <a:lnTo>
                      <a:pt x="2524" y="8"/>
                    </a:lnTo>
                    <a:close/>
                  </a:path>
                </a:pathLst>
              </a:custGeom>
              <a:solidFill>
                <a:srgbClr val="af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358280" y="1214640"/>
                <a:ext cx="437760" cy="1440"/>
              </a:xfrm>
              <a:custGeom>
                <a:avLst/>
                <a:gdLst/>
                <a:ahLst/>
                <a:rect l="l" t="t" r="r" b="b"/>
                <a:pathLst>
                  <a:path w="2583" h="8">
                    <a:moveTo>
                      <a:pt x="2558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2583" y="0"/>
                    </a:lnTo>
                    <a:lnTo>
                      <a:pt x="2558" y="8"/>
                    </a:lnTo>
                    <a:close/>
                  </a:path>
                </a:pathLst>
              </a:custGeom>
              <a:solidFill>
                <a:srgbClr val="af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353600" y="1212840"/>
                <a:ext cx="444240" cy="3240"/>
              </a:xfrm>
              <a:custGeom>
                <a:avLst/>
                <a:gdLst/>
                <a:ahLst/>
                <a:rect l="l" t="t" r="r" b="b"/>
                <a:pathLst>
                  <a:path w="2625" h="17">
                    <a:moveTo>
                      <a:pt x="2591" y="17"/>
                    </a:moveTo>
                    <a:lnTo>
                      <a:pt x="42" y="17"/>
                    </a:lnTo>
                    <a:lnTo>
                      <a:pt x="0" y="0"/>
                    </a:lnTo>
                    <a:lnTo>
                      <a:pt x="2625" y="0"/>
                    </a:lnTo>
                    <a:lnTo>
                      <a:pt x="2591" y="17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350360" y="1212840"/>
                <a:ext cx="450720" cy="1800"/>
              </a:xfrm>
              <a:custGeom>
                <a:avLst/>
                <a:gdLst/>
                <a:ahLst/>
                <a:rect l="l" t="t" r="r" b="b"/>
                <a:pathLst>
                  <a:path w="2659" h="9">
                    <a:moveTo>
                      <a:pt x="2625" y="9"/>
                    </a:moveTo>
                    <a:lnTo>
                      <a:pt x="42" y="9"/>
                    </a:lnTo>
                    <a:lnTo>
                      <a:pt x="0" y="0"/>
                    </a:lnTo>
                    <a:lnTo>
                      <a:pt x="2659" y="0"/>
                    </a:lnTo>
                    <a:lnTo>
                      <a:pt x="2625" y="9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347120" y="1211400"/>
                <a:ext cx="456840" cy="1440"/>
              </a:xfrm>
              <a:custGeom>
                <a:avLst/>
                <a:gdLst/>
                <a:ahLst/>
                <a:rect l="l" t="t" r="r" b="b"/>
                <a:pathLst>
                  <a:path w="2693" h="8">
                    <a:moveTo>
                      <a:pt x="2659" y="8"/>
                    </a:moveTo>
                    <a:lnTo>
                      <a:pt x="34" y="8"/>
                    </a:lnTo>
                    <a:lnTo>
                      <a:pt x="0" y="0"/>
                    </a:lnTo>
                    <a:lnTo>
                      <a:pt x="2693" y="0"/>
                    </a:lnTo>
                    <a:lnTo>
                      <a:pt x="2659" y="8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923400" y="1211400"/>
                <a:ext cx="883800" cy="1440"/>
              </a:xfrm>
              <a:custGeom>
                <a:avLst/>
                <a:gdLst/>
                <a:ahLst/>
                <a:rect l="l" t="t" r="r" b="b"/>
                <a:pathLst>
                  <a:path w="5209" h="8">
                    <a:moveTo>
                      <a:pt x="5175" y="8"/>
                    </a:moveTo>
                    <a:lnTo>
                      <a:pt x="2516" y="8"/>
                    </a:lnTo>
                    <a:lnTo>
                      <a:pt x="2473" y="0"/>
                    </a:lnTo>
                    <a:lnTo>
                      <a:pt x="5209" y="0"/>
                    </a:lnTo>
                    <a:lnTo>
                      <a:pt x="5175" y="8"/>
                    </a:lnTo>
                    <a:close/>
                    <a:moveTo>
                      <a:pt x="0" y="0"/>
                    </a:moveTo>
                    <a:lnTo>
                      <a:pt x="177" y="0"/>
                    </a:lnTo>
                    <a:lnTo>
                      <a:pt x="169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7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907560" y="1209600"/>
                <a:ext cx="902880" cy="1800"/>
              </a:xfrm>
              <a:custGeom>
                <a:avLst/>
                <a:gdLst/>
                <a:ahLst/>
                <a:rect l="l" t="t" r="r" b="b"/>
                <a:pathLst>
                  <a:path w="5319" h="9">
                    <a:moveTo>
                      <a:pt x="5285" y="9"/>
                    </a:moveTo>
                    <a:lnTo>
                      <a:pt x="2592" y="9"/>
                    </a:lnTo>
                    <a:lnTo>
                      <a:pt x="2550" y="0"/>
                    </a:lnTo>
                    <a:lnTo>
                      <a:pt x="5319" y="0"/>
                    </a:lnTo>
                    <a:lnTo>
                      <a:pt x="5285" y="9"/>
                    </a:lnTo>
                    <a:close/>
                    <a:moveTo>
                      <a:pt x="0" y="0"/>
                    </a:moveTo>
                    <a:lnTo>
                      <a:pt x="355" y="0"/>
                    </a:lnTo>
                    <a:lnTo>
                      <a:pt x="262" y="9"/>
                    </a:lnTo>
                    <a:lnTo>
                      <a:pt x="101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98200" y="1209600"/>
                <a:ext cx="915480" cy="1800"/>
              </a:xfrm>
              <a:custGeom>
                <a:avLst/>
                <a:gdLst/>
                <a:ahLst/>
                <a:rect l="l" t="t" r="r" b="b"/>
                <a:pathLst>
                  <a:path w="5395" h="9">
                    <a:moveTo>
                      <a:pt x="5361" y="9"/>
                    </a:moveTo>
                    <a:lnTo>
                      <a:pt x="2625" y="9"/>
                    </a:lnTo>
                    <a:lnTo>
                      <a:pt x="2583" y="0"/>
                    </a:lnTo>
                    <a:lnTo>
                      <a:pt x="5395" y="0"/>
                    </a:lnTo>
                    <a:lnTo>
                      <a:pt x="5361" y="9"/>
                    </a:lnTo>
                    <a:close/>
                    <a:moveTo>
                      <a:pt x="329" y="9"/>
                    </a:moveTo>
                    <a:lnTo>
                      <a:pt x="152" y="9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498" y="0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b173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893160" y="1208160"/>
                <a:ext cx="921960" cy="1440"/>
              </a:xfrm>
              <a:custGeom>
                <a:avLst/>
                <a:gdLst/>
                <a:ahLst/>
                <a:rect l="l" t="t" r="r" b="b"/>
                <a:pathLst>
                  <a:path w="5437" h="8">
                    <a:moveTo>
                      <a:pt x="5403" y="8"/>
                    </a:moveTo>
                    <a:lnTo>
                      <a:pt x="2634" y="8"/>
                    </a:lnTo>
                    <a:lnTo>
                      <a:pt x="2591" y="0"/>
                    </a:lnTo>
                    <a:lnTo>
                      <a:pt x="5437" y="0"/>
                    </a:lnTo>
                    <a:lnTo>
                      <a:pt x="5403" y="8"/>
                    </a:lnTo>
                    <a:close/>
                    <a:moveTo>
                      <a:pt x="439" y="8"/>
                    </a:moveTo>
                    <a:lnTo>
                      <a:pt x="84" y="8"/>
                    </a:lnTo>
                    <a:lnTo>
                      <a:pt x="33" y="8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439" y="8"/>
                    </a:lnTo>
                    <a:close/>
                  </a:path>
                </a:pathLst>
              </a:custGeom>
              <a:solidFill>
                <a:srgbClr val="b173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888480" y="1206720"/>
                <a:ext cx="929880" cy="2880"/>
              </a:xfrm>
              <a:custGeom>
                <a:avLst/>
                <a:gdLst/>
                <a:ahLst/>
                <a:rect l="l" t="t" r="r" b="b"/>
                <a:pathLst>
                  <a:path w="5479" h="17">
                    <a:moveTo>
                      <a:pt x="5446" y="17"/>
                    </a:moveTo>
                    <a:lnTo>
                      <a:pt x="2634" y="17"/>
                    </a:lnTo>
                    <a:lnTo>
                      <a:pt x="2592" y="0"/>
                    </a:lnTo>
                    <a:lnTo>
                      <a:pt x="5479" y="0"/>
                    </a:lnTo>
                    <a:lnTo>
                      <a:pt x="5446" y="17"/>
                    </a:lnTo>
                    <a:close/>
                    <a:moveTo>
                      <a:pt x="549" y="17"/>
                    </a:moveTo>
                    <a:lnTo>
                      <a:pt x="51" y="17"/>
                    </a:lnTo>
                    <a:lnTo>
                      <a:pt x="0" y="0"/>
                    </a:lnTo>
                    <a:lnTo>
                      <a:pt x="692" y="0"/>
                    </a:lnTo>
                    <a:lnTo>
                      <a:pt x="642" y="9"/>
                    </a:lnTo>
                    <a:lnTo>
                      <a:pt x="549" y="17"/>
                    </a:lnTo>
                    <a:close/>
                  </a:path>
                </a:pathLst>
              </a:custGeom>
              <a:solidFill>
                <a:srgbClr val="b2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885240" y="1206720"/>
                <a:ext cx="936360" cy="1440"/>
              </a:xfrm>
              <a:custGeom>
                <a:avLst/>
                <a:gdLst/>
                <a:ahLst/>
                <a:rect l="l" t="t" r="r" b="b"/>
                <a:pathLst>
                  <a:path w="5521" h="9">
                    <a:moveTo>
                      <a:pt x="5488" y="9"/>
                    </a:moveTo>
                    <a:lnTo>
                      <a:pt x="2642" y="9"/>
                    </a:lnTo>
                    <a:lnTo>
                      <a:pt x="2600" y="0"/>
                    </a:lnTo>
                    <a:lnTo>
                      <a:pt x="5521" y="0"/>
                    </a:lnTo>
                    <a:lnTo>
                      <a:pt x="5488" y="9"/>
                    </a:lnTo>
                    <a:close/>
                    <a:moveTo>
                      <a:pt x="667" y="9"/>
                    </a:moveTo>
                    <a:lnTo>
                      <a:pt x="51" y="9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667" y="9"/>
                    </a:lnTo>
                    <a:close/>
                  </a:path>
                </a:pathLst>
              </a:custGeom>
              <a:solidFill>
                <a:srgbClr val="b2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880560" y="1204920"/>
                <a:ext cx="944280" cy="1800"/>
              </a:xfrm>
              <a:custGeom>
                <a:avLst/>
                <a:gdLst/>
                <a:ahLst/>
                <a:rect l="l" t="t" r="r" b="b"/>
                <a:pathLst>
                  <a:path w="5563" h="8">
                    <a:moveTo>
                      <a:pt x="5529" y="8"/>
                    </a:moveTo>
                    <a:lnTo>
                      <a:pt x="2642" y="8"/>
                    </a:lnTo>
                    <a:lnTo>
                      <a:pt x="2608" y="0"/>
                    </a:lnTo>
                    <a:lnTo>
                      <a:pt x="5563" y="0"/>
                    </a:lnTo>
                    <a:lnTo>
                      <a:pt x="5529" y="8"/>
                    </a:lnTo>
                    <a:close/>
                    <a:moveTo>
                      <a:pt x="742" y="8"/>
                    </a:moveTo>
                    <a:lnTo>
                      <a:pt x="50" y="8"/>
                    </a:lnTo>
                    <a:lnTo>
                      <a:pt x="0" y="0"/>
                    </a:lnTo>
                    <a:lnTo>
                      <a:pt x="844" y="0"/>
                    </a:lnTo>
                    <a:lnTo>
                      <a:pt x="742" y="8"/>
                    </a:lnTo>
                    <a:close/>
                  </a:path>
                </a:pathLst>
              </a:custGeom>
              <a:solidFill>
                <a:srgbClr val="b2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75880" y="1204920"/>
                <a:ext cx="950400" cy="1800"/>
              </a:xfrm>
              <a:custGeom>
                <a:avLst/>
                <a:gdLst/>
                <a:ahLst/>
                <a:rect l="l" t="t" r="r" b="b"/>
                <a:pathLst>
                  <a:path w="5606" h="8">
                    <a:moveTo>
                      <a:pt x="5572" y="8"/>
                    </a:moveTo>
                    <a:lnTo>
                      <a:pt x="2651" y="8"/>
                    </a:lnTo>
                    <a:lnTo>
                      <a:pt x="2609" y="0"/>
                    </a:lnTo>
                    <a:lnTo>
                      <a:pt x="5606" y="0"/>
                    </a:lnTo>
                    <a:lnTo>
                      <a:pt x="5572" y="8"/>
                    </a:lnTo>
                    <a:close/>
                    <a:moveTo>
                      <a:pt x="819" y="8"/>
                    </a:moveTo>
                    <a:lnTo>
                      <a:pt x="51" y="8"/>
                    </a:lnTo>
                    <a:lnTo>
                      <a:pt x="0" y="0"/>
                    </a:lnTo>
                    <a:lnTo>
                      <a:pt x="920" y="0"/>
                    </a:lnTo>
                    <a:lnTo>
                      <a:pt x="819" y="8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72640" y="1203480"/>
                <a:ext cx="955440" cy="1440"/>
              </a:xfrm>
              <a:custGeom>
                <a:avLst/>
                <a:gdLst/>
                <a:ahLst/>
                <a:rect l="l" t="t" r="r" b="b"/>
                <a:pathLst>
                  <a:path w="5640" h="9">
                    <a:moveTo>
                      <a:pt x="5614" y="9"/>
                    </a:moveTo>
                    <a:lnTo>
                      <a:pt x="2659" y="9"/>
                    </a:lnTo>
                    <a:lnTo>
                      <a:pt x="2617" y="0"/>
                    </a:lnTo>
                    <a:lnTo>
                      <a:pt x="5640" y="0"/>
                    </a:lnTo>
                    <a:lnTo>
                      <a:pt x="5614" y="9"/>
                    </a:lnTo>
                    <a:close/>
                    <a:moveTo>
                      <a:pt x="895" y="9"/>
                    </a:moveTo>
                    <a:lnTo>
                      <a:pt x="51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96" y="0"/>
                    </a:lnTo>
                    <a:lnTo>
                      <a:pt x="895" y="9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71200" y="1203480"/>
                <a:ext cx="961560" cy="1440"/>
              </a:xfrm>
              <a:custGeom>
                <a:avLst/>
                <a:gdLst/>
                <a:ahLst/>
                <a:rect l="l" t="t" r="r" b="b"/>
                <a:pathLst>
                  <a:path w="5674" h="9">
                    <a:moveTo>
                      <a:pt x="5640" y="9"/>
                    </a:moveTo>
                    <a:lnTo>
                      <a:pt x="2643" y="9"/>
                    </a:lnTo>
                    <a:lnTo>
                      <a:pt x="2601" y="0"/>
                    </a:lnTo>
                    <a:lnTo>
                      <a:pt x="5674" y="0"/>
                    </a:lnTo>
                    <a:lnTo>
                      <a:pt x="5640" y="9"/>
                    </a:lnTo>
                    <a:close/>
                    <a:moveTo>
                      <a:pt x="954" y="9"/>
                    </a:moveTo>
                    <a:lnTo>
                      <a:pt x="34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954" y="9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871200" y="1201680"/>
                <a:ext cx="963000" cy="1800"/>
              </a:xfrm>
              <a:custGeom>
                <a:avLst/>
                <a:gdLst/>
                <a:ahLst/>
                <a:rect l="l" t="t" r="r" b="b"/>
                <a:pathLst>
                  <a:path w="5682" h="8">
                    <a:moveTo>
                      <a:pt x="5649" y="8"/>
                    </a:moveTo>
                    <a:lnTo>
                      <a:pt x="2626" y="8"/>
                    </a:lnTo>
                    <a:lnTo>
                      <a:pt x="2584" y="0"/>
                    </a:lnTo>
                    <a:lnTo>
                      <a:pt x="5682" y="0"/>
                    </a:lnTo>
                    <a:lnTo>
                      <a:pt x="5649" y="8"/>
                    </a:lnTo>
                    <a:close/>
                    <a:moveTo>
                      <a:pt x="1005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1106" y="0"/>
                    </a:lnTo>
                    <a:lnTo>
                      <a:pt x="1005" y="8"/>
                    </a:lnTo>
                    <a:close/>
                  </a:path>
                </a:pathLst>
              </a:custGeom>
              <a:solidFill>
                <a:srgbClr val="b37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69400" y="1201680"/>
                <a:ext cx="968040" cy="1800"/>
              </a:xfrm>
              <a:custGeom>
                <a:avLst/>
                <a:gdLst/>
                <a:ahLst/>
                <a:rect l="l" t="t" r="r" b="b"/>
                <a:pathLst>
                  <a:path w="5707" h="8">
                    <a:moveTo>
                      <a:pt x="5682" y="8"/>
                    </a:moveTo>
                    <a:lnTo>
                      <a:pt x="2609" y="8"/>
                    </a:lnTo>
                    <a:lnTo>
                      <a:pt x="2575" y="0"/>
                    </a:lnTo>
                    <a:lnTo>
                      <a:pt x="5707" y="0"/>
                    </a:lnTo>
                    <a:lnTo>
                      <a:pt x="5682" y="8"/>
                    </a:lnTo>
                    <a:close/>
                    <a:moveTo>
                      <a:pt x="1064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1165" y="0"/>
                    </a:lnTo>
                    <a:lnTo>
                      <a:pt x="1064" y="8"/>
                    </a:lnTo>
                    <a:close/>
                  </a:path>
                </a:pathLst>
              </a:custGeom>
              <a:solidFill>
                <a:srgbClr val="b37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867960" y="1200240"/>
                <a:ext cx="972720" cy="1440"/>
              </a:xfrm>
              <a:custGeom>
                <a:avLst/>
                <a:gdLst/>
                <a:ahLst/>
                <a:rect l="l" t="t" r="r" b="b"/>
                <a:pathLst>
                  <a:path w="5732" h="8">
                    <a:moveTo>
                      <a:pt x="5698" y="8"/>
                    </a:moveTo>
                    <a:lnTo>
                      <a:pt x="2600" y="8"/>
                    </a:lnTo>
                    <a:lnTo>
                      <a:pt x="2558" y="0"/>
                    </a:lnTo>
                    <a:lnTo>
                      <a:pt x="5732" y="0"/>
                    </a:lnTo>
                    <a:lnTo>
                      <a:pt x="5698" y="8"/>
                    </a:lnTo>
                    <a:close/>
                    <a:moveTo>
                      <a:pt x="1122" y="8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1291" y="0"/>
                    </a:lnTo>
                    <a:lnTo>
                      <a:pt x="1190" y="0"/>
                    </a:lnTo>
                    <a:lnTo>
                      <a:pt x="1122" y="8"/>
                    </a:lnTo>
                    <a:close/>
                  </a:path>
                </a:pathLst>
              </a:custGeom>
              <a:solidFill>
                <a:srgbClr val="b37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867960" y="1200240"/>
                <a:ext cx="974160" cy="1440"/>
              </a:xfrm>
              <a:custGeom>
                <a:avLst/>
                <a:gdLst/>
                <a:ahLst/>
                <a:rect l="l" t="t" r="r" b="b"/>
                <a:pathLst>
                  <a:path w="5749" h="8">
                    <a:moveTo>
                      <a:pt x="5715" y="8"/>
                    </a:moveTo>
                    <a:lnTo>
                      <a:pt x="2583" y="8"/>
                    </a:lnTo>
                    <a:lnTo>
                      <a:pt x="2541" y="0"/>
                    </a:lnTo>
                    <a:lnTo>
                      <a:pt x="2532" y="0"/>
                    </a:lnTo>
                    <a:lnTo>
                      <a:pt x="5749" y="0"/>
                    </a:lnTo>
                    <a:lnTo>
                      <a:pt x="5715" y="8"/>
                    </a:lnTo>
                    <a:close/>
                    <a:moveTo>
                      <a:pt x="1173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1426" y="0"/>
                    </a:lnTo>
                    <a:lnTo>
                      <a:pt x="1190" y="0"/>
                    </a:lnTo>
                    <a:lnTo>
                      <a:pt x="1173" y="8"/>
                    </a:lnTo>
                    <a:close/>
                  </a:path>
                </a:pathLst>
              </a:custGeom>
              <a:solidFill>
                <a:srgbClr val="b374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866160" y="1198440"/>
                <a:ext cx="979200" cy="1800"/>
              </a:xfrm>
              <a:custGeom>
                <a:avLst/>
                <a:gdLst/>
                <a:ahLst/>
                <a:rect l="l" t="t" r="r" b="b"/>
                <a:pathLst>
                  <a:path w="5775" h="9">
                    <a:moveTo>
                      <a:pt x="5741" y="9"/>
                    </a:moveTo>
                    <a:lnTo>
                      <a:pt x="2567" y="9"/>
                    </a:lnTo>
                    <a:lnTo>
                      <a:pt x="2550" y="9"/>
                    </a:lnTo>
                    <a:lnTo>
                      <a:pt x="2499" y="0"/>
                    </a:lnTo>
                    <a:lnTo>
                      <a:pt x="5775" y="0"/>
                    </a:lnTo>
                    <a:lnTo>
                      <a:pt x="5741" y="9"/>
                    </a:lnTo>
                    <a:close/>
                    <a:moveTo>
                      <a:pt x="1300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1570" y="0"/>
                    </a:lnTo>
                    <a:lnTo>
                      <a:pt x="1300" y="9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864720" y="1197000"/>
                <a:ext cx="983880" cy="3240"/>
              </a:xfrm>
              <a:custGeom>
                <a:avLst/>
                <a:gdLst/>
                <a:ahLst/>
                <a:rect l="l" t="t" r="r" b="b"/>
                <a:pathLst>
                  <a:path w="5800" h="17">
                    <a:moveTo>
                      <a:pt x="5766" y="17"/>
                    </a:moveTo>
                    <a:lnTo>
                      <a:pt x="2549" y="17"/>
                    </a:lnTo>
                    <a:lnTo>
                      <a:pt x="2456" y="0"/>
                    </a:lnTo>
                    <a:lnTo>
                      <a:pt x="5800" y="0"/>
                    </a:lnTo>
                    <a:lnTo>
                      <a:pt x="5766" y="17"/>
                    </a:lnTo>
                    <a:close/>
                    <a:moveTo>
                      <a:pt x="1443" y="17"/>
                    </a:moveTo>
                    <a:lnTo>
                      <a:pt x="17" y="17"/>
                    </a:lnTo>
                    <a:lnTo>
                      <a:pt x="0" y="0"/>
                    </a:lnTo>
                    <a:lnTo>
                      <a:pt x="1722" y="0"/>
                    </a:lnTo>
                    <a:lnTo>
                      <a:pt x="1443" y="17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63280" y="1197000"/>
                <a:ext cx="988560" cy="1440"/>
              </a:xfrm>
              <a:custGeom>
                <a:avLst/>
                <a:gdLst/>
                <a:ahLst/>
                <a:rect l="l" t="t" r="r" b="b"/>
                <a:pathLst>
                  <a:path w="5826" h="8">
                    <a:moveTo>
                      <a:pt x="5792" y="8"/>
                    </a:moveTo>
                    <a:lnTo>
                      <a:pt x="2516" y="8"/>
                    </a:lnTo>
                    <a:lnTo>
                      <a:pt x="2423" y="0"/>
                    </a:lnTo>
                    <a:lnTo>
                      <a:pt x="5826" y="0"/>
                    </a:lnTo>
                    <a:lnTo>
                      <a:pt x="5792" y="8"/>
                    </a:lnTo>
                    <a:close/>
                    <a:moveTo>
                      <a:pt x="1587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1866" y="0"/>
                    </a:lnTo>
                    <a:lnTo>
                      <a:pt x="1587" y="8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63280" y="1195560"/>
                <a:ext cx="991800" cy="1440"/>
              </a:xfrm>
              <a:custGeom>
                <a:avLst/>
                <a:gdLst/>
                <a:ahLst/>
                <a:rect l="l" t="t" r="r" b="b"/>
                <a:pathLst>
                  <a:path w="5843" h="9">
                    <a:moveTo>
                      <a:pt x="5809" y="9"/>
                    </a:moveTo>
                    <a:lnTo>
                      <a:pt x="2465" y="9"/>
                    </a:lnTo>
                    <a:lnTo>
                      <a:pt x="2373" y="0"/>
                    </a:lnTo>
                    <a:lnTo>
                      <a:pt x="5843" y="0"/>
                    </a:lnTo>
                    <a:lnTo>
                      <a:pt x="5809" y="9"/>
                    </a:lnTo>
                    <a:close/>
                    <a:moveTo>
                      <a:pt x="1731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2001" y="0"/>
                    </a:lnTo>
                    <a:lnTo>
                      <a:pt x="1731" y="9"/>
                    </a:lnTo>
                    <a:close/>
                  </a:path>
                </a:pathLst>
              </a:custGeom>
              <a:solidFill>
                <a:srgbClr val="b4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61480" y="1195560"/>
                <a:ext cx="995040" cy="1440"/>
              </a:xfrm>
              <a:custGeom>
                <a:avLst/>
                <a:gdLst/>
                <a:ahLst/>
                <a:rect l="l" t="t" r="r" b="b"/>
                <a:pathLst>
                  <a:path w="5867" h="9">
                    <a:moveTo>
                      <a:pt x="5834" y="9"/>
                    </a:moveTo>
                    <a:lnTo>
                      <a:pt x="2431" y="9"/>
                    </a:lnTo>
                    <a:lnTo>
                      <a:pt x="2347" y="0"/>
                    </a:lnTo>
                    <a:lnTo>
                      <a:pt x="2102" y="0"/>
                    </a:lnTo>
                    <a:lnTo>
                      <a:pt x="1874" y="9"/>
                    </a:lnTo>
                    <a:lnTo>
                      <a:pt x="8" y="9"/>
                    </a:lnTo>
                    <a:lnTo>
                      <a:pt x="0" y="0"/>
                    </a:lnTo>
                    <a:lnTo>
                      <a:pt x="5867" y="0"/>
                    </a:lnTo>
                    <a:lnTo>
                      <a:pt x="5834" y="9"/>
                    </a:lnTo>
                    <a:close/>
                  </a:path>
                </a:pathLst>
              </a:custGeom>
              <a:solidFill>
                <a:srgbClr val="b5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60040" y="1193760"/>
                <a:ext cx="999720" cy="1800"/>
              </a:xfrm>
              <a:custGeom>
                <a:avLst/>
                <a:gdLst/>
                <a:ahLst/>
                <a:rect l="l" t="t" r="r" b="b"/>
                <a:pathLst>
                  <a:path w="5893" h="8">
                    <a:moveTo>
                      <a:pt x="5860" y="8"/>
                    </a:moveTo>
                    <a:lnTo>
                      <a:pt x="2390" y="8"/>
                    </a:lnTo>
                    <a:lnTo>
                      <a:pt x="2356" y="8"/>
                    </a:lnTo>
                    <a:lnTo>
                      <a:pt x="2111" y="8"/>
                    </a:lnTo>
                    <a:lnTo>
                      <a:pt x="2018" y="8"/>
                    </a:lnTo>
                    <a:lnTo>
                      <a:pt x="17" y="8"/>
                    </a:lnTo>
                    <a:lnTo>
                      <a:pt x="0" y="0"/>
                    </a:lnTo>
                    <a:lnTo>
                      <a:pt x="5893" y="0"/>
                    </a:lnTo>
                    <a:lnTo>
                      <a:pt x="5860" y="8"/>
                    </a:lnTo>
                    <a:close/>
                  </a:path>
                </a:pathLst>
              </a:custGeom>
              <a:solidFill>
                <a:srgbClr val="b5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860040" y="1193760"/>
                <a:ext cx="1002960" cy="1800"/>
              </a:xfrm>
              <a:custGeom>
                <a:avLst/>
                <a:gdLst/>
                <a:ahLst/>
                <a:rect l="l" t="t" r="r" b="b"/>
                <a:pathLst>
                  <a:path w="5918" h="8">
                    <a:moveTo>
                      <a:pt x="5884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5918" y="0"/>
                    </a:lnTo>
                    <a:lnTo>
                      <a:pt x="5884" y="8"/>
                    </a:lnTo>
                    <a:close/>
                  </a:path>
                </a:pathLst>
              </a:custGeom>
              <a:solidFill>
                <a:srgbClr val="b575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860040" y="1192320"/>
                <a:ext cx="1004400" cy="1440"/>
              </a:xfrm>
              <a:custGeom>
                <a:avLst/>
                <a:gdLst/>
                <a:ahLst/>
                <a:rect l="l" t="t" r="r" b="b"/>
                <a:pathLst>
                  <a:path w="5927" h="9">
                    <a:moveTo>
                      <a:pt x="5901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5927" y="0"/>
                    </a:lnTo>
                    <a:lnTo>
                      <a:pt x="5901" y="9"/>
                    </a:lnTo>
                    <a:close/>
                  </a:path>
                </a:pathLst>
              </a:custGeom>
              <a:solidFill>
                <a:srgbClr val="b67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858240" y="1192320"/>
                <a:ext cx="1010880" cy="1440"/>
              </a:xfrm>
              <a:custGeom>
                <a:avLst/>
                <a:gdLst/>
                <a:ahLst/>
                <a:rect l="l" t="t" r="r" b="b"/>
                <a:pathLst>
                  <a:path w="5961" h="9">
                    <a:moveTo>
                      <a:pt x="5927" y="9"/>
                    </a:moveTo>
                    <a:lnTo>
                      <a:pt x="9" y="9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5961" y="0"/>
                    </a:lnTo>
                    <a:lnTo>
                      <a:pt x="5927" y="9"/>
                    </a:lnTo>
                    <a:close/>
                  </a:path>
                </a:pathLst>
              </a:custGeom>
              <a:solidFill>
                <a:srgbClr val="b67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858240" y="1190520"/>
                <a:ext cx="1012680" cy="1800"/>
              </a:xfrm>
              <a:custGeom>
                <a:avLst/>
                <a:gdLst/>
                <a:ahLst/>
                <a:rect l="l" t="t" r="r" b="b"/>
                <a:pathLst>
                  <a:path w="5969" h="8">
                    <a:moveTo>
                      <a:pt x="5936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5969" y="0"/>
                    </a:lnTo>
                    <a:lnTo>
                      <a:pt x="5936" y="8"/>
                    </a:lnTo>
                    <a:close/>
                  </a:path>
                </a:pathLst>
              </a:custGeom>
              <a:solidFill>
                <a:srgbClr val="b676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858240" y="1189080"/>
                <a:ext cx="1014120" cy="3240"/>
              </a:xfrm>
              <a:custGeom>
                <a:avLst/>
                <a:gdLst/>
                <a:ahLst/>
                <a:rect l="l" t="t" r="r" b="b"/>
                <a:pathLst>
                  <a:path w="5986" h="17">
                    <a:moveTo>
                      <a:pt x="5961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5986" y="0"/>
                    </a:lnTo>
                    <a:lnTo>
                      <a:pt x="5961" y="17"/>
                    </a:lnTo>
                    <a:close/>
                  </a:path>
                </a:pathLst>
              </a:custGeom>
              <a:solidFill>
                <a:srgbClr val="b7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56800" y="1189080"/>
                <a:ext cx="1018800" cy="1440"/>
              </a:xfrm>
              <a:custGeom>
                <a:avLst/>
                <a:gdLst/>
                <a:ahLst/>
                <a:rect l="l" t="t" r="r" b="b"/>
                <a:pathLst>
                  <a:path w="6011" h="9">
                    <a:moveTo>
                      <a:pt x="5977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6011" y="0"/>
                    </a:lnTo>
                    <a:lnTo>
                      <a:pt x="5977" y="9"/>
                    </a:lnTo>
                    <a:close/>
                  </a:path>
                </a:pathLst>
              </a:custGeom>
              <a:solidFill>
                <a:srgbClr val="b7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856800" y="1189080"/>
                <a:ext cx="1022040" cy="1440"/>
              </a:xfrm>
              <a:custGeom>
                <a:avLst/>
                <a:gdLst/>
                <a:ahLst/>
                <a:rect l="l" t="t" r="r" b="b"/>
                <a:pathLst>
                  <a:path w="6028" h="8">
                    <a:moveTo>
                      <a:pt x="5994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6028" y="0"/>
                    </a:lnTo>
                    <a:lnTo>
                      <a:pt x="5994" y="8"/>
                    </a:lnTo>
                    <a:close/>
                  </a:path>
                </a:pathLst>
              </a:custGeom>
              <a:solidFill>
                <a:srgbClr val="b7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55000" y="1189080"/>
                <a:ext cx="1027080" cy="1440"/>
              </a:xfrm>
              <a:custGeom>
                <a:avLst/>
                <a:gdLst/>
                <a:ahLst/>
                <a:rect l="l" t="t" r="r" b="b"/>
                <a:pathLst>
                  <a:path w="6053" h="8">
                    <a:moveTo>
                      <a:pt x="6019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6053" y="0"/>
                    </a:lnTo>
                    <a:lnTo>
                      <a:pt x="6019" y="8"/>
                    </a:lnTo>
                    <a:close/>
                  </a:path>
                </a:pathLst>
              </a:custGeom>
              <a:solidFill>
                <a:srgbClr val="b7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855000" y="1187640"/>
                <a:ext cx="1029960" cy="1440"/>
              </a:xfrm>
              <a:custGeom>
                <a:avLst/>
                <a:gdLst/>
                <a:ahLst/>
                <a:rect l="l" t="t" r="r" b="b"/>
                <a:pathLst>
                  <a:path w="6070" h="8">
                    <a:moveTo>
                      <a:pt x="6036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6070" y="0"/>
                    </a:lnTo>
                    <a:lnTo>
                      <a:pt x="6061" y="0"/>
                    </a:lnTo>
                    <a:lnTo>
                      <a:pt x="6036" y="8"/>
                    </a:lnTo>
                    <a:close/>
                  </a:path>
                </a:pathLst>
              </a:custGeom>
              <a:solidFill>
                <a:srgbClr val="b877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853560" y="1185840"/>
                <a:ext cx="1033200" cy="3240"/>
              </a:xfrm>
              <a:custGeom>
                <a:avLst/>
                <a:gdLst/>
                <a:ahLst/>
                <a:rect l="l" t="t" r="r" b="b"/>
                <a:pathLst>
                  <a:path w="6096" h="17">
                    <a:moveTo>
                      <a:pt x="6062" y="17"/>
                    </a:moveTo>
                    <a:lnTo>
                      <a:pt x="9" y="17"/>
                    </a:lnTo>
                    <a:lnTo>
                      <a:pt x="0" y="0"/>
                    </a:lnTo>
                    <a:lnTo>
                      <a:pt x="6096" y="0"/>
                    </a:lnTo>
                    <a:lnTo>
                      <a:pt x="6070" y="9"/>
                    </a:lnTo>
                    <a:lnTo>
                      <a:pt x="6062" y="17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53560" y="1185840"/>
                <a:ext cx="1036440" cy="1800"/>
              </a:xfrm>
              <a:custGeom>
                <a:avLst/>
                <a:gdLst/>
                <a:ahLst/>
                <a:rect l="l" t="t" r="r" b="b"/>
                <a:pathLst>
                  <a:path w="6113" h="9">
                    <a:moveTo>
                      <a:pt x="6079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113" y="0"/>
                    </a:lnTo>
                    <a:lnTo>
                      <a:pt x="6079" y="9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853560" y="1184400"/>
                <a:ext cx="1039320" cy="1440"/>
              </a:xfrm>
              <a:custGeom>
                <a:avLst/>
                <a:gdLst/>
                <a:ahLst/>
                <a:rect l="l" t="t" r="r" b="b"/>
                <a:pathLst>
                  <a:path w="6129" h="8">
                    <a:moveTo>
                      <a:pt x="6096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6129" y="0"/>
                    </a:lnTo>
                    <a:lnTo>
                      <a:pt x="6096" y="8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52480" y="1184400"/>
                <a:ext cx="1044000" cy="1440"/>
              </a:xfrm>
              <a:custGeom>
                <a:avLst/>
                <a:gdLst/>
                <a:ahLst/>
                <a:rect l="l" t="t" r="r" b="b"/>
                <a:pathLst>
                  <a:path w="6154" h="8">
                    <a:moveTo>
                      <a:pt x="6121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6154" y="0"/>
                    </a:lnTo>
                    <a:lnTo>
                      <a:pt x="6121" y="8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52480" y="1182600"/>
                <a:ext cx="1048680" cy="1800"/>
              </a:xfrm>
              <a:custGeom>
                <a:avLst/>
                <a:gdLst/>
                <a:ahLst/>
                <a:rect l="l" t="t" r="r" b="b"/>
                <a:pathLst>
                  <a:path w="6180" h="9">
                    <a:moveTo>
                      <a:pt x="6137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6180" y="0"/>
                    </a:lnTo>
                    <a:lnTo>
                      <a:pt x="6137" y="9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852480" y="1182600"/>
                <a:ext cx="1048680" cy="1800"/>
              </a:xfrm>
              <a:custGeom>
                <a:avLst/>
                <a:gdLst/>
                <a:ahLst/>
                <a:rect l="l" t="t" r="r" b="b"/>
                <a:pathLst>
                  <a:path w="6188" h="9">
                    <a:moveTo>
                      <a:pt x="6154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6188" y="0"/>
                    </a:lnTo>
                    <a:lnTo>
                      <a:pt x="6154" y="9"/>
                    </a:lnTo>
                    <a:close/>
                  </a:path>
                </a:pathLst>
              </a:custGeom>
              <a:solidFill>
                <a:srgbClr val="b8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852480" y="1181160"/>
                <a:ext cx="1053720" cy="1440"/>
              </a:xfrm>
              <a:custGeom>
                <a:avLst/>
                <a:gdLst/>
                <a:ahLst/>
                <a:rect l="l" t="t" r="r" b="b"/>
                <a:pathLst>
                  <a:path w="6213" h="8">
                    <a:moveTo>
                      <a:pt x="618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213" y="0"/>
                    </a:lnTo>
                    <a:lnTo>
                      <a:pt x="6180" y="8"/>
                    </a:lnTo>
                    <a:close/>
                  </a:path>
                </a:pathLst>
              </a:custGeom>
              <a:solidFill>
                <a:srgbClr val="b978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52480" y="1179720"/>
                <a:ext cx="1056960" cy="2880"/>
              </a:xfrm>
              <a:custGeom>
                <a:avLst/>
                <a:gdLst/>
                <a:ahLst/>
                <a:rect l="l" t="t" r="r" b="b"/>
                <a:pathLst>
                  <a:path w="6230" h="17">
                    <a:moveTo>
                      <a:pt x="6188" y="17"/>
                    </a:moveTo>
                    <a:lnTo>
                      <a:pt x="0" y="17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6230" y="0"/>
                    </a:lnTo>
                    <a:lnTo>
                      <a:pt x="6188" y="17"/>
                    </a:lnTo>
                    <a:close/>
                  </a:path>
                </a:pathLst>
              </a:custGeom>
              <a:solidFill>
                <a:srgbClr val="b9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852480" y="1179720"/>
                <a:ext cx="1059840" cy="1440"/>
              </a:xfrm>
              <a:custGeom>
                <a:avLst/>
                <a:gdLst/>
                <a:ahLst/>
                <a:rect l="l" t="t" r="r" b="b"/>
                <a:pathLst>
                  <a:path w="6247" h="9">
                    <a:moveTo>
                      <a:pt x="6213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6247" y="0"/>
                    </a:lnTo>
                    <a:lnTo>
                      <a:pt x="6213" y="9"/>
                    </a:lnTo>
                    <a:close/>
                  </a:path>
                </a:pathLst>
              </a:custGeom>
              <a:solidFill>
                <a:srgbClr val="b9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852480" y="1177920"/>
                <a:ext cx="1063080" cy="1800"/>
              </a:xfrm>
              <a:custGeom>
                <a:avLst/>
                <a:gdLst/>
                <a:ahLst/>
                <a:rect l="l" t="t" r="r" b="b"/>
                <a:pathLst>
                  <a:path w="6264" h="8">
                    <a:moveTo>
                      <a:pt x="623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264" y="0"/>
                    </a:lnTo>
                    <a:lnTo>
                      <a:pt x="6230" y="8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52480" y="1177920"/>
                <a:ext cx="1064880" cy="1800"/>
              </a:xfrm>
              <a:custGeom>
                <a:avLst/>
                <a:gdLst/>
                <a:ahLst/>
                <a:rect l="l" t="t" r="r" b="b"/>
                <a:pathLst>
                  <a:path w="6281" h="8">
                    <a:moveTo>
                      <a:pt x="6247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281" y="0"/>
                    </a:lnTo>
                    <a:lnTo>
                      <a:pt x="6281" y="0"/>
                    </a:lnTo>
                    <a:lnTo>
                      <a:pt x="6247" y="8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52480" y="1176480"/>
                <a:ext cx="1069560" cy="1440"/>
              </a:xfrm>
              <a:custGeom>
                <a:avLst/>
                <a:gdLst/>
                <a:ahLst/>
                <a:rect l="l" t="t" r="r" b="b"/>
                <a:pathLst>
                  <a:path w="6306" h="8">
                    <a:moveTo>
                      <a:pt x="626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306" y="0"/>
                    </a:lnTo>
                    <a:lnTo>
                      <a:pt x="6281" y="8"/>
                    </a:lnTo>
                    <a:lnTo>
                      <a:pt x="6264" y="8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52480" y="1174680"/>
                <a:ext cx="1072800" cy="3240"/>
              </a:xfrm>
              <a:custGeom>
                <a:avLst/>
                <a:gdLst/>
                <a:ahLst/>
                <a:rect l="l" t="t" r="r" b="b"/>
                <a:pathLst>
                  <a:path w="6323" h="17">
                    <a:moveTo>
                      <a:pt x="6281" y="17"/>
                    </a:moveTo>
                    <a:lnTo>
                      <a:pt x="0" y="17"/>
                    </a:lnTo>
                    <a:lnTo>
                      <a:pt x="0" y="0"/>
                    </a:lnTo>
                    <a:lnTo>
                      <a:pt x="6323" y="0"/>
                    </a:lnTo>
                    <a:lnTo>
                      <a:pt x="6281" y="17"/>
                    </a:lnTo>
                    <a:close/>
                  </a:path>
                </a:pathLst>
              </a:custGeom>
              <a:solidFill>
                <a:srgbClr val="ba79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52480" y="1174680"/>
                <a:ext cx="1077480" cy="1800"/>
              </a:xfrm>
              <a:custGeom>
                <a:avLst/>
                <a:gdLst/>
                <a:ahLst/>
                <a:rect l="l" t="t" r="r" b="b"/>
                <a:pathLst>
                  <a:path w="6349" h="9">
                    <a:moveTo>
                      <a:pt x="6306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6349" y="0"/>
                    </a:lnTo>
                    <a:lnTo>
                      <a:pt x="6306" y="9"/>
                    </a:lnTo>
                    <a:close/>
                  </a:path>
                </a:pathLst>
              </a:custGeom>
              <a:solidFill>
                <a:srgbClr val="bc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52480" y="1173240"/>
                <a:ext cx="1078920" cy="1440"/>
              </a:xfrm>
              <a:custGeom>
                <a:avLst/>
                <a:gdLst/>
                <a:ahLst/>
                <a:rect l="l" t="t" r="r" b="b"/>
                <a:pathLst>
                  <a:path w="6365" h="8">
                    <a:moveTo>
                      <a:pt x="6323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365" y="0"/>
                    </a:lnTo>
                    <a:lnTo>
                      <a:pt x="6323" y="8"/>
                    </a:lnTo>
                    <a:close/>
                  </a:path>
                </a:pathLst>
              </a:custGeom>
              <a:solidFill>
                <a:srgbClr val="bc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52480" y="1173240"/>
                <a:ext cx="1083600" cy="1440"/>
              </a:xfrm>
              <a:custGeom>
                <a:avLst/>
                <a:gdLst/>
                <a:ahLst/>
                <a:rect l="l" t="t" r="r" b="b"/>
                <a:pathLst>
                  <a:path w="6391" h="8">
                    <a:moveTo>
                      <a:pt x="6349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391" y="0"/>
                    </a:lnTo>
                    <a:lnTo>
                      <a:pt x="6349" y="8"/>
                    </a:lnTo>
                    <a:close/>
                  </a:path>
                </a:pathLst>
              </a:custGeom>
              <a:solidFill>
                <a:srgbClr val="bb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852480" y="1171440"/>
                <a:ext cx="1088640" cy="1800"/>
              </a:xfrm>
              <a:custGeom>
                <a:avLst/>
                <a:gdLst/>
                <a:ahLst/>
                <a:rect l="l" t="t" r="r" b="b"/>
                <a:pathLst>
                  <a:path w="6416" h="9">
                    <a:moveTo>
                      <a:pt x="6365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6416" y="0"/>
                    </a:lnTo>
                    <a:lnTo>
                      <a:pt x="6365" y="9"/>
                    </a:lnTo>
                    <a:close/>
                  </a:path>
                </a:pathLst>
              </a:custGeom>
              <a:solidFill>
                <a:srgbClr val="bd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852480" y="1171440"/>
                <a:ext cx="1091880" cy="1800"/>
              </a:xfrm>
              <a:custGeom>
                <a:avLst/>
                <a:gdLst/>
                <a:ahLst/>
                <a:rect l="l" t="t" r="r" b="b"/>
                <a:pathLst>
                  <a:path w="6433" h="9">
                    <a:moveTo>
                      <a:pt x="6391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433" y="0"/>
                    </a:lnTo>
                    <a:lnTo>
                      <a:pt x="6391" y="9"/>
                    </a:lnTo>
                    <a:close/>
                  </a:path>
                </a:pathLst>
              </a:custGeom>
              <a:solidFill>
                <a:srgbClr val="bd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52480" y="1170000"/>
                <a:ext cx="1094760" cy="1440"/>
              </a:xfrm>
              <a:custGeom>
                <a:avLst/>
                <a:gdLst/>
                <a:ahLst/>
                <a:rect l="l" t="t" r="r" b="b"/>
                <a:pathLst>
                  <a:path w="6458" h="8">
                    <a:moveTo>
                      <a:pt x="6416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17" y="0"/>
                    </a:lnTo>
                    <a:lnTo>
                      <a:pt x="6458" y="0"/>
                    </a:lnTo>
                    <a:lnTo>
                      <a:pt x="6416" y="8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853560" y="1170000"/>
                <a:ext cx="1096560" cy="1440"/>
              </a:xfrm>
              <a:custGeom>
                <a:avLst/>
                <a:gdLst/>
                <a:ahLst/>
                <a:rect l="l" t="t" r="r" b="b"/>
                <a:pathLst>
                  <a:path w="6467" h="8">
                    <a:moveTo>
                      <a:pt x="6425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6467" y="0"/>
                    </a:lnTo>
                    <a:lnTo>
                      <a:pt x="6425" y="8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55000" y="1168560"/>
                <a:ext cx="1099800" cy="1440"/>
              </a:xfrm>
              <a:custGeom>
                <a:avLst/>
                <a:gdLst/>
                <a:ahLst/>
                <a:rect l="l" t="t" r="r" b="b"/>
                <a:pathLst>
                  <a:path w="6483" h="9">
                    <a:moveTo>
                      <a:pt x="6441" y="9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59" y="0"/>
                    </a:lnTo>
                    <a:lnTo>
                      <a:pt x="143" y="0"/>
                    </a:lnTo>
                    <a:lnTo>
                      <a:pt x="152" y="0"/>
                    </a:lnTo>
                    <a:lnTo>
                      <a:pt x="6483" y="0"/>
                    </a:lnTo>
                    <a:lnTo>
                      <a:pt x="6441" y="9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56800" y="1168560"/>
                <a:ext cx="1101240" cy="1440"/>
              </a:xfrm>
              <a:custGeom>
                <a:avLst/>
                <a:gdLst/>
                <a:ahLst/>
                <a:rect l="l" t="t" r="r" b="b"/>
                <a:pathLst>
                  <a:path w="6492" h="9">
                    <a:moveTo>
                      <a:pt x="6450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51" y="0"/>
                    </a:lnTo>
                    <a:lnTo>
                      <a:pt x="135" y="0"/>
                    </a:lnTo>
                    <a:lnTo>
                      <a:pt x="169" y="0"/>
                    </a:lnTo>
                    <a:lnTo>
                      <a:pt x="6492" y="0"/>
                    </a:lnTo>
                    <a:lnTo>
                      <a:pt x="6450" y="9"/>
                    </a:lnTo>
                    <a:close/>
                  </a:path>
                </a:pathLst>
              </a:custGeom>
              <a:solidFill>
                <a:srgbClr val="bd7a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80560" y="1166760"/>
                <a:ext cx="1080720" cy="1800"/>
              </a:xfrm>
              <a:custGeom>
                <a:avLst/>
                <a:gdLst/>
                <a:ahLst/>
                <a:rect l="l" t="t" r="r" b="b"/>
                <a:pathLst>
                  <a:path w="6374" h="8">
                    <a:moveTo>
                      <a:pt x="6331" y="8"/>
                    </a:moveTo>
                    <a:lnTo>
                      <a:pt x="0" y="8"/>
                    </a:lnTo>
                    <a:lnTo>
                      <a:pt x="50" y="0"/>
                    </a:lnTo>
                    <a:lnTo>
                      <a:pt x="6374" y="0"/>
                    </a:lnTo>
                    <a:lnTo>
                      <a:pt x="6331" y="8"/>
                    </a:lnTo>
                    <a:close/>
                  </a:path>
                </a:pathLst>
              </a:custGeom>
              <a:solidFill>
                <a:srgbClr val="be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85240" y="1166760"/>
                <a:ext cx="1080720" cy="1800"/>
              </a:xfrm>
              <a:custGeom>
                <a:avLst/>
                <a:gdLst/>
                <a:ahLst/>
                <a:rect l="l" t="t" r="r" b="b"/>
                <a:pathLst>
                  <a:path w="6374" h="8">
                    <a:moveTo>
                      <a:pt x="6323" y="8"/>
                    </a:moveTo>
                    <a:lnTo>
                      <a:pt x="0" y="8"/>
                    </a:lnTo>
                    <a:lnTo>
                      <a:pt x="59" y="0"/>
                    </a:lnTo>
                    <a:lnTo>
                      <a:pt x="6374" y="0"/>
                    </a:lnTo>
                    <a:lnTo>
                      <a:pt x="6323" y="8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88480" y="1165320"/>
                <a:ext cx="1080720" cy="1440"/>
              </a:xfrm>
              <a:custGeom>
                <a:avLst/>
                <a:gdLst/>
                <a:ahLst/>
                <a:rect l="l" t="t" r="r" b="b"/>
                <a:pathLst>
                  <a:path w="6366" h="9">
                    <a:moveTo>
                      <a:pt x="6324" y="9"/>
                    </a:moveTo>
                    <a:lnTo>
                      <a:pt x="0" y="9"/>
                    </a:lnTo>
                    <a:lnTo>
                      <a:pt x="59" y="0"/>
                    </a:lnTo>
                    <a:lnTo>
                      <a:pt x="6366" y="0"/>
                    </a:lnTo>
                    <a:lnTo>
                      <a:pt x="6324" y="9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94960" y="1163520"/>
                <a:ext cx="1078920" cy="3240"/>
              </a:xfrm>
              <a:custGeom>
                <a:avLst/>
                <a:gdLst/>
                <a:ahLst/>
                <a:rect l="l" t="t" r="r" b="b"/>
                <a:pathLst>
                  <a:path w="6357" h="17">
                    <a:moveTo>
                      <a:pt x="6315" y="17"/>
                    </a:moveTo>
                    <a:lnTo>
                      <a:pt x="0" y="17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6357" y="0"/>
                    </a:lnTo>
                    <a:lnTo>
                      <a:pt x="6349" y="0"/>
                    </a:lnTo>
                    <a:lnTo>
                      <a:pt x="6315" y="17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99640" y="1163520"/>
                <a:ext cx="1079280" cy="1800"/>
              </a:xfrm>
              <a:custGeom>
                <a:avLst/>
                <a:gdLst/>
                <a:ahLst/>
                <a:rect l="l" t="t" r="r" b="b"/>
                <a:pathLst>
                  <a:path w="6366" h="8">
                    <a:moveTo>
                      <a:pt x="6307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59" y="0"/>
                    </a:lnTo>
                    <a:lnTo>
                      <a:pt x="6366" y="0"/>
                    </a:lnTo>
                    <a:lnTo>
                      <a:pt x="6324" y="0"/>
                    </a:lnTo>
                    <a:lnTo>
                      <a:pt x="6307" y="8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904320" y="1162080"/>
                <a:ext cx="1080720" cy="1440"/>
              </a:xfrm>
              <a:custGeom>
                <a:avLst/>
                <a:gdLst/>
                <a:ahLst/>
                <a:rect l="l" t="t" r="r" b="b"/>
                <a:pathLst>
                  <a:path w="6366" h="8">
                    <a:moveTo>
                      <a:pt x="6298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6366" y="0"/>
                    </a:lnTo>
                    <a:lnTo>
                      <a:pt x="6298" y="8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909000" y="1162080"/>
                <a:ext cx="1080720" cy="1440"/>
              </a:xfrm>
              <a:custGeom>
                <a:avLst/>
                <a:gdLst/>
                <a:ahLst/>
                <a:rect l="l" t="t" r="r" b="b"/>
                <a:pathLst>
                  <a:path w="6375" h="8">
                    <a:moveTo>
                      <a:pt x="6307" y="8"/>
                    </a:moveTo>
                    <a:lnTo>
                      <a:pt x="0" y="8"/>
                    </a:lnTo>
                    <a:lnTo>
                      <a:pt x="60" y="0"/>
                    </a:lnTo>
                    <a:lnTo>
                      <a:pt x="6375" y="0"/>
                    </a:lnTo>
                    <a:lnTo>
                      <a:pt x="6307" y="8"/>
                    </a:lnTo>
                    <a:close/>
                  </a:path>
                </a:pathLst>
              </a:custGeom>
              <a:solidFill>
                <a:srgbClr val="be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914040" y="1160640"/>
                <a:ext cx="1082160" cy="1440"/>
              </a:xfrm>
              <a:custGeom>
                <a:avLst/>
                <a:gdLst/>
                <a:ahLst/>
                <a:rect l="l" t="t" r="r" b="b"/>
                <a:pathLst>
                  <a:path w="6382" h="9">
                    <a:moveTo>
                      <a:pt x="6315" y="9"/>
                    </a:moveTo>
                    <a:lnTo>
                      <a:pt x="0" y="9"/>
                    </a:lnTo>
                    <a:lnTo>
                      <a:pt x="59" y="0"/>
                    </a:lnTo>
                    <a:lnTo>
                      <a:pt x="6382" y="0"/>
                    </a:lnTo>
                    <a:lnTo>
                      <a:pt x="6315" y="9"/>
                    </a:lnTo>
                    <a:close/>
                  </a:path>
                </a:pathLst>
              </a:custGeom>
              <a:solidFill>
                <a:srgbClr val="bf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920160" y="1160640"/>
                <a:ext cx="1082520" cy="1440"/>
              </a:xfrm>
              <a:custGeom>
                <a:avLst/>
                <a:gdLst/>
                <a:ahLst/>
                <a:rect l="l" t="t" r="r" b="b"/>
                <a:pathLst>
                  <a:path w="6382" h="9">
                    <a:moveTo>
                      <a:pt x="6315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6382" y="0"/>
                    </a:lnTo>
                    <a:lnTo>
                      <a:pt x="6315" y="9"/>
                    </a:lnTo>
                    <a:close/>
                  </a:path>
                </a:pathLst>
              </a:custGeom>
              <a:solidFill>
                <a:srgbClr val="bf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923400" y="1158840"/>
                <a:ext cx="1083960" cy="1800"/>
              </a:xfrm>
              <a:custGeom>
                <a:avLst/>
                <a:gdLst/>
                <a:ahLst/>
                <a:rect l="l" t="t" r="r" b="b"/>
                <a:pathLst>
                  <a:path w="6391" h="8">
                    <a:moveTo>
                      <a:pt x="6323" y="8"/>
                    </a:moveTo>
                    <a:lnTo>
                      <a:pt x="0" y="8"/>
                    </a:lnTo>
                    <a:lnTo>
                      <a:pt x="17" y="8"/>
                    </a:lnTo>
                    <a:lnTo>
                      <a:pt x="42" y="0"/>
                    </a:lnTo>
                    <a:lnTo>
                      <a:pt x="6391" y="0"/>
                    </a:lnTo>
                    <a:lnTo>
                      <a:pt x="6323" y="8"/>
                    </a:lnTo>
                    <a:close/>
                  </a:path>
                </a:pathLst>
              </a:custGeom>
              <a:solidFill>
                <a:srgbClr val="bd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928080" y="1157400"/>
                <a:ext cx="1090440" cy="3240"/>
              </a:xfrm>
              <a:custGeom>
                <a:avLst/>
                <a:gdLst/>
                <a:ahLst/>
                <a:rect l="l" t="t" r="r" b="b"/>
                <a:pathLst>
                  <a:path w="6425" h="17">
                    <a:moveTo>
                      <a:pt x="6332" y="17"/>
                    </a:moveTo>
                    <a:lnTo>
                      <a:pt x="0" y="17"/>
                    </a:lnTo>
                    <a:lnTo>
                      <a:pt x="42" y="0"/>
                    </a:lnTo>
                    <a:lnTo>
                      <a:pt x="6425" y="0"/>
                    </a:lnTo>
                    <a:lnTo>
                      <a:pt x="6366" y="9"/>
                    </a:lnTo>
                    <a:lnTo>
                      <a:pt x="6332" y="17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1320" y="1157400"/>
                <a:ext cx="1096560" cy="1440"/>
              </a:xfrm>
              <a:custGeom>
                <a:avLst/>
                <a:gdLst/>
                <a:ahLst/>
                <a:rect l="l" t="t" r="r" b="b"/>
                <a:pathLst>
                  <a:path w="6467" h="9">
                    <a:moveTo>
                      <a:pt x="6349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6467" y="0"/>
                    </a:lnTo>
                    <a:lnTo>
                      <a:pt x="6349" y="9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934560" y="1155600"/>
                <a:ext cx="1103040" cy="1800"/>
              </a:xfrm>
              <a:custGeom>
                <a:avLst/>
                <a:gdLst/>
                <a:ahLst/>
                <a:rect l="l" t="t" r="r" b="b"/>
                <a:pathLst>
                  <a:path w="6501" h="8">
                    <a:moveTo>
                      <a:pt x="6383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6501" y="0"/>
                    </a:lnTo>
                    <a:lnTo>
                      <a:pt x="6383" y="8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937800" y="1155600"/>
                <a:ext cx="1109160" cy="1800"/>
              </a:xfrm>
              <a:custGeom>
                <a:avLst/>
                <a:gdLst/>
                <a:ahLst/>
                <a:rect l="l" t="t" r="r" b="b"/>
                <a:pathLst>
                  <a:path w="6543" h="8">
                    <a:moveTo>
                      <a:pt x="6425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543" y="0"/>
                    </a:lnTo>
                    <a:lnTo>
                      <a:pt x="6425" y="8"/>
                    </a:lnTo>
                    <a:close/>
                  </a:path>
                </a:pathLst>
              </a:custGeom>
              <a:solidFill>
                <a:srgbClr val="be7c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942480" y="1154160"/>
                <a:ext cx="1114200" cy="1440"/>
              </a:xfrm>
              <a:custGeom>
                <a:avLst/>
                <a:gdLst/>
                <a:ahLst/>
                <a:rect l="l" t="t" r="r" b="b"/>
                <a:pathLst>
                  <a:path w="6568" h="9">
                    <a:moveTo>
                      <a:pt x="6458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6568" y="0"/>
                    </a:lnTo>
                    <a:lnTo>
                      <a:pt x="6568" y="0"/>
                    </a:lnTo>
                    <a:lnTo>
                      <a:pt x="6458" y="9"/>
                    </a:lnTo>
                    <a:close/>
                  </a:path>
                </a:pathLst>
              </a:custGeom>
              <a:solidFill>
                <a:srgbClr val="b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945720" y="1154160"/>
                <a:ext cx="1115640" cy="1440"/>
              </a:xfrm>
              <a:custGeom>
                <a:avLst/>
                <a:gdLst/>
                <a:ahLst/>
                <a:rect l="l" t="t" r="r" b="b"/>
                <a:pathLst>
                  <a:path w="6577" h="9">
                    <a:moveTo>
                      <a:pt x="6501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6577" y="0"/>
                    </a:lnTo>
                    <a:lnTo>
                      <a:pt x="6552" y="0"/>
                    </a:lnTo>
                    <a:lnTo>
                      <a:pt x="6501" y="9"/>
                    </a:lnTo>
                    <a:close/>
                  </a:path>
                </a:pathLst>
              </a:custGeom>
              <a:solidFill>
                <a:srgbClr val="bf7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948960" y="1152720"/>
                <a:ext cx="1113840" cy="1440"/>
              </a:xfrm>
              <a:custGeom>
                <a:avLst/>
                <a:gdLst/>
                <a:ahLst/>
                <a:rect l="l" t="t" r="r" b="b"/>
                <a:pathLst>
                  <a:path w="6568" h="8">
                    <a:moveTo>
                      <a:pt x="6526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6568" y="0"/>
                    </a:lnTo>
                    <a:lnTo>
                      <a:pt x="6526" y="8"/>
                    </a:lnTo>
                    <a:close/>
                  </a:path>
                </a:pathLst>
              </a:custGeom>
              <a:solidFill>
                <a:srgbClr val="bf7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951840" y="1150920"/>
                <a:ext cx="1114200" cy="3240"/>
              </a:xfrm>
              <a:custGeom>
                <a:avLst/>
                <a:gdLst/>
                <a:ahLst/>
                <a:rect l="l" t="t" r="r" b="b"/>
                <a:pathLst>
                  <a:path w="6568" h="17">
                    <a:moveTo>
                      <a:pt x="6534" y="17"/>
                    </a:moveTo>
                    <a:lnTo>
                      <a:pt x="0" y="17"/>
                    </a:lnTo>
                    <a:lnTo>
                      <a:pt x="42" y="0"/>
                    </a:lnTo>
                    <a:lnTo>
                      <a:pt x="6568" y="0"/>
                    </a:lnTo>
                    <a:lnTo>
                      <a:pt x="6534" y="17"/>
                    </a:lnTo>
                    <a:close/>
                  </a:path>
                </a:pathLst>
              </a:custGeom>
              <a:solidFill>
                <a:srgbClr val="c07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955080" y="1150920"/>
                <a:ext cx="1115640" cy="1800"/>
              </a:xfrm>
              <a:custGeom>
                <a:avLst/>
                <a:gdLst/>
                <a:ahLst/>
                <a:rect l="l" t="t" r="r" b="b"/>
                <a:pathLst>
                  <a:path w="6576" h="9">
                    <a:moveTo>
                      <a:pt x="6534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6576" y="0"/>
                    </a:lnTo>
                    <a:lnTo>
                      <a:pt x="6534" y="9"/>
                    </a:lnTo>
                    <a:close/>
                  </a:path>
                </a:pathLst>
              </a:custGeom>
              <a:solidFill>
                <a:srgbClr val="c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960120" y="1149480"/>
                <a:ext cx="1113840" cy="1440"/>
              </a:xfrm>
              <a:custGeom>
                <a:avLst/>
                <a:gdLst/>
                <a:ahLst/>
                <a:rect l="l" t="t" r="r" b="b"/>
                <a:pathLst>
                  <a:path w="6568" h="8">
                    <a:moveTo>
                      <a:pt x="6526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568" y="0"/>
                    </a:lnTo>
                    <a:lnTo>
                      <a:pt x="6526" y="8"/>
                    </a:lnTo>
                    <a:close/>
                  </a:path>
                </a:pathLst>
              </a:custGeom>
              <a:solidFill>
                <a:srgbClr val="c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963000" y="1149480"/>
                <a:ext cx="1112760" cy="1440"/>
              </a:xfrm>
              <a:custGeom>
                <a:avLst/>
                <a:gdLst/>
                <a:ahLst/>
                <a:rect l="l" t="t" r="r" b="b"/>
                <a:pathLst>
                  <a:path w="6568" h="8">
                    <a:moveTo>
                      <a:pt x="6534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568" y="0"/>
                    </a:lnTo>
                    <a:lnTo>
                      <a:pt x="6534" y="8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966240" y="1147680"/>
                <a:ext cx="1112400" cy="1800"/>
              </a:xfrm>
              <a:custGeom>
                <a:avLst/>
                <a:gdLst/>
                <a:ahLst/>
                <a:rect l="l" t="t" r="r" b="b"/>
                <a:pathLst>
                  <a:path w="6560" h="8">
                    <a:moveTo>
                      <a:pt x="6526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560" y="0"/>
                    </a:lnTo>
                    <a:lnTo>
                      <a:pt x="6560" y="0"/>
                    </a:lnTo>
                    <a:lnTo>
                      <a:pt x="6526" y="8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69480" y="1146240"/>
                <a:ext cx="1112400" cy="3240"/>
              </a:xfrm>
              <a:custGeom>
                <a:avLst/>
                <a:gdLst/>
                <a:ahLst/>
                <a:rect l="l" t="t" r="r" b="b"/>
                <a:pathLst>
                  <a:path w="6560" h="17">
                    <a:moveTo>
                      <a:pt x="6526" y="17"/>
                    </a:moveTo>
                    <a:lnTo>
                      <a:pt x="0" y="17"/>
                    </a:lnTo>
                    <a:lnTo>
                      <a:pt x="42" y="0"/>
                    </a:lnTo>
                    <a:lnTo>
                      <a:pt x="6560" y="0"/>
                    </a:lnTo>
                    <a:lnTo>
                      <a:pt x="6543" y="9"/>
                    </a:lnTo>
                    <a:lnTo>
                      <a:pt x="6526" y="17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974160" y="1146240"/>
                <a:ext cx="1109520" cy="1440"/>
              </a:xfrm>
              <a:custGeom>
                <a:avLst/>
                <a:gdLst/>
                <a:ahLst/>
                <a:rect l="l" t="t" r="r" b="b"/>
                <a:pathLst>
                  <a:path w="6543" h="9">
                    <a:moveTo>
                      <a:pt x="6518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6543" y="0"/>
                    </a:lnTo>
                    <a:lnTo>
                      <a:pt x="6518" y="9"/>
                    </a:lnTo>
                    <a:close/>
                  </a:path>
                </a:pathLst>
              </a:custGeom>
              <a:solidFill>
                <a:srgbClr val="c17e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977400" y="1144800"/>
                <a:ext cx="1107720" cy="1440"/>
              </a:xfrm>
              <a:custGeom>
                <a:avLst/>
                <a:gdLst/>
                <a:ahLst/>
                <a:rect l="l" t="t" r="r" b="b"/>
                <a:pathLst>
                  <a:path w="6535" h="8">
                    <a:moveTo>
                      <a:pt x="6518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535" y="0"/>
                    </a:lnTo>
                    <a:lnTo>
                      <a:pt x="6535" y="0"/>
                    </a:lnTo>
                    <a:lnTo>
                      <a:pt x="6518" y="8"/>
                    </a:lnTo>
                    <a:close/>
                  </a:path>
                </a:pathLst>
              </a:custGeom>
              <a:solidFill>
                <a:srgbClr val="c2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980640" y="1144800"/>
                <a:ext cx="1104480" cy="1440"/>
              </a:xfrm>
              <a:custGeom>
                <a:avLst/>
                <a:gdLst/>
                <a:ahLst/>
                <a:rect l="l" t="t" r="r" b="b"/>
                <a:pathLst>
                  <a:path w="6509" h="8">
                    <a:moveTo>
                      <a:pt x="6500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6509" y="0"/>
                    </a:lnTo>
                    <a:lnTo>
                      <a:pt x="6509" y="0"/>
                    </a:lnTo>
                    <a:lnTo>
                      <a:pt x="6500" y="8"/>
                    </a:lnTo>
                    <a:close/>
                  </a:path>
                </a:pathLst>
              </a:custGeom>
              <a:solidFill>
                <a:srgbClr val="c2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983880" y="1143000"/>
                <a:ext cx="1102680" cy="1800"/>
              </a:xfrm>
              <a:custGeom>
                <a:avLst/>
                <a:gdLst/>
                <a:ahLst/>
                <a:rect l="l" t="t" r="r" b="b"/>
                <a:pathLst>
                  <a:path w="6501" h="9">
                    <a:moveTo>
                      <a:pt x="6493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6501" y="0"/>
                    </a:lnTo>
                    <a:lnTo>
                      <a:pt x="6493" y="9"/>
                    </a:lnTo>
                    <a:close/>
                  </a:path>
                </a:pathLst>
              </a:custGeom>
              <a:solidFill>
                <a:srgbClr val="c2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986760" y="1143000"/>
                <a:ext cx="1099800" cy="1800"/>
              </a:xfrm>
              <a:custGeom>
                <a:avLst/>
                <a:gdLst/>
                <a:ahLst/>
                <a:rect l="l" t="t" r="r" b="b"/>
                <a:pathLst>
                  <a:path w="6484" h="9">
                    <a:moveTo>
                      <a:pt x="6476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6484" y="0"/>
                    </a:lnTo>
                    <a:lnTo>
                      <a:pt x="6476" y="9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991800" y="1141560"/>
                <a:ext cx="1096560" cy="1440"/>
              </a:xfrm>
              <a:custGeom>
                <a:avLst/>
                <a:gdLst/>
                <a:ahLst/>
                <a:rect l="l" t="t" r="r" b="b"/>
                <a:pathLst>
                  <a:path w="6467" h="8">
                    <a:moveTo>
                      <a:pt x="6458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467" y="0"/>
                    </a:lnTo>
                    <a:lnTo>
                      <a:pt x="6458" y="8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993240" y="1139760"/>
                <a:ext cx="1095120" cy="3240"/>
              </a:xfrm>
              <a:custGeom>
                <a:avLst/>
                <a:gdLst/>
                <a:ahLst/>
                <a:rect l="l" t="t" r="r" b="b"/>
                <a:pathLst>
                  <a:path w="6450" h="17">
                    <a:moveTo>
                      <a:pt x="6441" y="17"/>
                    </a:moveTo>
                    <a:lnTo>
                      <a:pt x="0" y="17"/>
                    </a:lnTo>
                    <a:lnTo>
                      <a:pt x="42" y="0"/>
                    </a:lnTo>
                    <a:lnTo>
                      <a:pt x="6450" y="0"/>
                    </a:lnTo>
                    <a:lnTo>
                      <a:pt x="6450" y="9"/>
                    </a:lnTo>
                    <a:lnTo>
                      <a:pt x="6441" y="17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97920" y="1139760"/>
                <a:ext cx="1090440" cy="1800"/>
              </a:xfrm>
              <a:custGeom>
                <a:avLst/>
                <a:gdLst/>
                <a:ahLst/>
                <a:rect l="l" t="t" r="r" b="b"/>
                <a:pathLst>
                  <a:path w="6425" h="9">
                    <a:moveTo>
                      <a:pt x="6425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6425" y="0"/>
                    </a:lnTo>
                    <a:lnTo>
                      <a:pt x="6425" y="9"/>
                    </a:lnTo>
                    <a:close/>
                  </a:path>
                </a:pathLst>
              </a:custGeom>
              <a:solidFill>
                <a:srgbClr val="c38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001160" y="1138320"/>
                <a:ext cx="1087200" cy="1440"/>
              </a:xfrm>
              <a:custGeom>
                <a:avLst/>
                <a:gdLst/>
                <a:ahLst/>
                <a:rect l="l" t="t" r="r" b="b"/>
                <a:pathLst>
                  <a:path w="6408" h="8">
                    <a:moveTo>
                      <a:pt x="6408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408" y="0"/>
                    </a:lnTo>
                    <a:lnTo>
                      <a:pt x="6408" y="8"/>
                    </a:lnTo>
                    <a:close/>
                  </a:path>
                </a:pathLst>
              </a:custGeom>
              <a:solidFill>
                <a:srgbClr val="c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04400" y="1138320"/>
                <a:ext cx="1083960" cy="1440"/>
              </a:xfrm>
              <a:custGeom>
                <a:avLst/>
                <a:gdLst/>
                <a:ahLst/>
                <a:rect l="l" t="t" r="r" b="b"/>
                <a:pathLst>
                  <a:path w="6391" h="8">
                    <a:moveTo>
                      <a:pt x="6391" y="8"/>
                    </a:moveTo>
                    <a:lnTo>
                      <a:pt x="0" y="8"/>
                    </a:lnTo>
                    <a:lnTo>
                      <a:pt x="50" y="0"/>
                    </a:lnTo>
                    <a:lnTo>
                      <a:pt x="6391" y="0"/>
                    </a:lnTo>
                    <a:lnTo>
                      <a:pt x="6391" y="8"/>
                    </a:lnTo>
                    <a:close/>
                  </a:path>
                </a:pathLst>
              </a:custGeom>
              <a:solidFill>
                <a:srgbClr val="c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007640" y="1136520"/>
                <a:ext cx="1080720" cy="1800"/>
              </a:xfrm>
              <a:custGeom>
                <a:avLst/>
                <a:gdLst/>
                <a:ahLst/>
                <a:rect l="l" t="t" r="r" b="b"/>
                <a:pathLst>
                  <a:path w="6366" h="9">
                    <a:moveTo>
                      <a:pt x="6366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6366" y="0"/>
                    </a:lnTo>
                    <a:lnTo>
                      <a:pt x="6366" y="9"/>
                    </a:lnTo>
                    <a:close/>
                  </a:path>
                </a:pathLst>
              </a:custGeom>
              <a:solidFill>
                <a:srgbClr val="c3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012320" y="1136520"/>
                <a:ext cx="1076040" cy="1800"/>
              </a:xfrm>
              <a:custGeom>
                <a:avLst/>
                <a:gdLst/>
                <a:ahLst/>
                <a:rect l="l" t="t" r="r" b="b"/>
                <a:pathLst>
                  <a:path w="6341" h="9">
                    <a:moveTo>
                      <a:pt x="6341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6341" y="0"/>
                    </a:lnTo>
                    <a:lnTo>
                      <a:pt x="6341" y="0"/>
                    </a:lnTo>
                    <a:lnTo>
                      <a:pt x="6341" y="9"/>
                    </a:lnTo>
                    <a:close/>
                  </a:path>
                </a:pathLst>
              </a:custGeom>
              <a:solidFill>
                <a:srgbClr val="c4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015560" y="1135080"/>
                <a:ext cx="1072800" cy="1440"/>
              </a:xfrm>
              <a:custGeom>
                <a:avLst/>
                <a:gdLst/>
                <a:ahLst/>
                <a:rect l="l" t="t" r="r" b="b"/>
                <a:pathLst>
                  <a:path w="6324" h="8">
                    <a:moveTo>
                      <a:pt x="6324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324" y="0"/>
                    </a:lnTo>
                    <a:lnTo>
                      <a:pt x="6324" y="8"/>
                    </a:lnTo>
                    <a:close/>
                  </a:path>
                </a:pathLst>
              </a:custGeom>
              <a:solidFill>
                <a:srgbClr val="c4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018800" y="1135080"/>
                <a:ext cx="1069560" cy="1440"/>
              </a:xfrm>
              <a:custGeom>
                <a:avLst/>
                <a:gdLst/>
                <a:ahLst/>
                <a:rect l="l" t="t" r="r" b="b"/>
                <a:pathLst>
                  <a:path w="6307" h="8">
                    <a:moveTo>
                      <a:pt x="6307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307" y="0"/>
                    </a:lnTo>
                    <a:lnTo>
                      <a:pt x="6307" y="8"/>
                    </a:lnTo>
                    <a:close/>
                  </a:path>
                </a:pathLst>
              </a:custGeom>
              <a:solidFill>
                <a:srgbClr val="c4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021680" y="1135080"/>
                <a:ext cx="1066680" cy="1440"/>
              </a:xfrm>
              <a:custGeom>
                <a:avLst/>
                <a:gdLst/>
                <a:ahLst/>
                <a:rect l="l" t="t" r="r" b="b"/>
                <a:pathLst>
                  <a:path w="6282" h="8">
                    <a:moveTo>
                      <a:pt x="6282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6282" y="0"/>
                    </a:lnTo>
                    <a:lnTo>
                      <a:pt x="6282" y="8"/>
                    </a:lnTo>
                    <a:close/>
                  </a:path>
                </a:pathLst>
              </a:custGeom>
              <a:solidFill>
                <a:srgbClr val="c5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024920" y="1135080"/>
                <a:ext cx="1063440" cy="1440"/>
              </a:xfrm>
              <a:custGeom>
                <a:avLst/>
                <a:gdLst/>
                <a:ahLst/>
                <a:rect l="l" t="t" r="r" b="b"/>
                <a:pathLst>
                  <a:path w="6265" h="8">
                    <a:moveTo>
                      <a:pt x="6265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6256" y="0"/>
                    </a:lnTo>
                    <a:lnTo>
                      <a:pt x="6265" y="8"/>
                    </a:lnTo>
                    <a:close/>
                  </a:path>
                </a:pathLst>
              </a:custGeom>
              <a:solidFill>
                <a:srgbClr val="c5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029960" y="1133640"/>
                <a:ext cx="1058400" cy="1440"/>
              </a:xfrm>
              <a:custGeom>
                <a:avLst/>
                <a:gdLst/>
                <a:ahLst/>
                <a:rect l="l" t="t" r="r" b="b"/>
                <a:pathLst>
                  <a:path w="6239" h="9">
                    <a:moveTo>
                      <a:pt x="6239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6230" y="0"/>
                    </a:lnTo>
                    <a:lnTo>
                      <a:pt x="6239" y="9"/>
                    </a:lnTo>
                    <a:close/>
                  </a:path>
                </a:pathLst>
              </a:custGeom>
              <a:solidFill>
                <a:srgbClr val="c6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032840" y="1133640"/>
                <a:ext cx="1053720" cy="1440"/>
              </a:xfrm>
              <a:custGeom>
                <a:avLst/>
                <a:gdLst/>
                <a:ahLst/>
                <a:rect l="l" t="t" r="r" b="b"/>
                <a:pathLst>
                  <a:path w="6214" h="9">
                    <a:moveTo>
                      <a:pt x="6214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6214" y="0"/>
                    </a:lnTo>
                    <a:lnTo>
                      <a:pt x="6214" y="0"/>
                    </a:lnTo>
                    <a:lnTo>
                      <a:pt x="6214" y="9"/>
                    </a:lnTo>
                    <a:close/>
                  </a:path>
                </a:pathLst>
              </a:custGeom>
              <a:solidFill>
                <a:srgbClr val="c68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036080" y="1131840"/>
                <a:ext cx="1050480" cy="1800"/>
              </a:xfrm>
              <a:custGeom>
                <a:avLst/>
                <a:gdLst/>
                <a:ahLst/>
                <a:rect l="l" t="t" r="r" b="b"/>
                <a:pathLst>
                  <a:path w="6197" h="8">
                    <a:moveTo>
                      <a:pt x="6197" y="8"/>
                    </a:moveTo>
                    <a:lnTo>
                      <a:pt x="0" y="8"/>
                    </a:lnTo>
                    <a:lnTo>
                      <a:pt x="26" y="8"/>
                    </a:lnTo>
                    <a:lnTo>
                      <a:pt x="43" y="0"/>
                    </a:lnTo>
                    <a:lnTo>
                      <a:pt x="6189" y="0"/>
                    </a:lnTo>
                    <a:lnTo>
                      <a:pt x="6197" y="8"/>
                    </a:lnTo>
                    <a:close/>
                  </a:path>
                </a:pathLst>
              </a:custGeom>
              <a:solidFill>
                <a:srgbClr val="c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039320" y="1130400"/>
                <a:ext cx="1047240" cy="3240"/>
              </a:xfrm>
              <a:custGeom>
                <a:avLst/>
                <a:gdLst/>
                <a:ahLst/>
                <a:rect l="l" t="t" r="r" b="b"/>
                <a:pathLst>
                  <a:path w="6171" h="17">
                    <a:moveTo>
                      <a:pt x="6171" y="17"/>
                    </a:moveTo>
                    <a:lnTo>
                      <a:pt x="0" y="17"/>
                    </a:lnTo>
                    <a:lnTo>
                      <a:pt x="33" y="0"/>
                    </a:lnTo>
                    <a:lnTo>
                      <a:pt x="6154" y="0"/>
                    </a:lnTo>
                    <a:lnTo>
                      <a:pt x="6171" y="17"/>
                    </a:lnTo>
                    <a:close/>
                  </a:path>
                </a:pathLst>
              </a:custGeom>
              <a:solidFill>
                <a:srgbClr val="c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042560" y="1130400"/>
                <a:ext cx="1042560" cy="1440"/>
              </a:xfrm>
              <a:custGeom>
                <a:avLst/>
                <a:gdLst/>
                <a:ahLst/>
                <a:rect l="l" t="t" r="r" b="b"/>
                <a:pathLst>
                  <a:path w="6146" h="9">
                    <a:moveTo>
                      <a:pt x="6146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6129" y="0"/>
                    </a:lnTo>
                    <a:lnTo>
                      <a:pt x="6146" y="9"/>
                    </a:lnTo>
                    <a:close/>
                  </a:path>
                </a:pathLst>
              </a:custGeom>
              <a:solidFill>
                <a:srgbClr val="c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045800" y="1128600"/>
                <a:ext cx="1037880" cy="1800"/>
              </a:xfrm>
              <a:custGeom>
                <a:avLst/>
                <a:gdLst/>
                <a:ahLst/>
                <a:rect l="l" t="t" r="r" b="b"/>
                <a:pathLst>
                  <a:path w="6121" h="8">
                    <a:moveTo>
                      <a:pt x="6121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6088" y="0"/>
                    </a:lnTo>
                    <a:lnTo>
                      <a:pt x="6113" y="8"/>
                    </a:lnTo>
                    <a:lnTo>
                      <a:pt x="6121" y="8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048680" y="1128600"/>
                <a:ext cx="1033200" cy="1800"/>
              </a:xfrm>
              <a:custGeom>
                <a:avLst/>
                <a:gdLst/>
                <a:ahLst/>
                <a:rect l="l" t="t" r="r" b="b"/>
                <a:pathLst>
                  <a:path w="6096" h="8">
                    <a:moveTo>
                      <a:pt x="6096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6037" y="0"/>
                    </a:lnTo>
                    <a:lnTo>
                      <a:pt x="6096" y="8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051920" y="1127160"/>
                <a:ext cx="1025280" cy="1440"/>
              </a:xfrm>
              <a:custGeom>
                <a:avLst/>
                <a:gdLst/>
                <a:ahLst/>
                <a:rect l="l" t="t" r="r" b="b"/>
                <a:pathLst>
                  <a:path w="6045" h="9">
                    <a:moveTo>
                      <a:pt x="6045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5977" y="0"/>
                    </a:lnTo>
                    <a:lnTo>
                      <a:pt x="6045" y="9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055160" y="1125720"/>
                <a:ext cx="1017360" cy="2880"/>
              </a:xfrm>
              <a:custGeom>
                <a:avLst/>
                <a:gdLst/>
                <a:ahLst/>
                <a:rect l="l" t="t" r="r" b="b"/>
                <a:pathLst>
                  <a:path w="5994" h="17">
                    <a:moveTo>
                      <a:pt x="5994" y="17"/>
                    </a:moveTo>
                    <a:lnTo>
                      <a:pt x="0" y="17"/>
                    </a:lnTo>
                    <a:lnTo>
                      <a:pt x="33" y="0"/>
                    </a:lnTo>
                    <a:lnTo>
                      <a:pt x="5935" y="0"/>
                    </a:lnTo>
                    <a:lnTo>
                      <a:pt x="5943" y="0"/>
                    </a:lnTo>
                    <a:lnTo>
                      <a:pt x="5994" y="17"/>
                    </a:lnTo>
                    <a:close/>
                  </a:path>
                </a:pathLst>
              </a:custGeom>
              <a:solidFill>
                <a:srgbClr val="c8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058400" y="1125720"/>
                <a:ext cx="1007640" cy="1440"/>
              </a:xfrm>
              <a:custGeom>
                <a:avLst/>
                <a:gdLst/>
                <a:ahLst/>
                <a:rect l="l" t="t" r="r" b="b"/>
                <a:pathLst>
                  <a:path w="5944" h="8">
                    <a:moveTo>
                      <a:pt x="5944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5893" y="0"/>
                    </a:lnTo>
                    <a:lnTo>
                      <a:pt x="5927" y="0"/>
                    </a:lnTo>
                    <a:lnTo>
                      <a:pt x="5944" y="8"/>
                    </a:lnTo>
                    <a:close/>
                  </a:path>
                </a:pathLst>
              </a:custGeom>
              <a:solidFill>
                <a:srgbClr val="c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61640" y="1123920"/>
                <a:ext cx="1001160" cy="1800"/>
              </a:xfrm>
              <a:custGeom>
                <a:avLst/>
                <a:gdLst/>
                <a:ahLst/>
                <a:rect l="l" t="t" r="r" b="b"/>
                <a:pathLst>
                  <a:path w="5902" h="9">
                    <a:moveTo>
                      <a:pt x="5902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3175" y="0"/>
                    </a:lnTo>
                    <a:lnTo>
                      <a:pt x="3200" y="9"/>
                    </a:lnTo>
                    <a:lnTo>
                      <a:pt x="3234" y="0"/>
                    </a:lnTo>
                    <a:lnTo>
                      <a:pt x="5851" y="0"/>
                    </a:lnTo>
                    <a:lnTo>
                      <a:pt x="5902" y="9"/>
                    </a:lnTo>
                    <a:close/>
                  </a:path>
                </a:pathLst>
              </a:custGeom>
              <a:solidFill>
                <a:srgbClr val="c982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64880" y="1123920"/>
                <a:ext cx="993240" cy="1800"/>
              </a:xfrm>
              <a:custGeom>
                <a:avLst/>
                <a:gdLst/>
                <a:ahLst/>
                <a:rect l="l" t="t" r="r" b="b"/>
                <a:pathLst>
                  <a:path w="5859" h="9">
                    <a:moveTo>
                      <a:pt x="5859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3124" y="0"/>
                    </a:lnTo>
                    <a:lnTo>
                      <a:pt x="3183" y="9"/>
                    </a:lnTo>
                    <a:lnTo>
                      <a:pt x="3242" y="0"/>
                    </a:lnTo>
                    <a:lnTo>
                      <a:pt x="5809" y="0"/>
                    </a:lnTo>
                    <a:lnTo>
                      <a:pt x="5859" y="9"/>
                    </a:lnTo>
                    <a:close/>
                  </a:path>
                </a:pathLst>
              </a:custGeom>
              <a:solidFill>
                <a:srgbClr val="c9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67760" y="1122480"/>
                <a:ext cx="985680" cy="1440"/>
              </a:xfrm>
              <a:custGeom>
                <a:avLst/>
                <a:gdLst/>
                <a:ahLst/>
                <a:rect l="l" t="t" r="r" b="b"/>
                <a:pathLst>
                  <a:path w="5808" h="8">
                    <a:moveTo>
                      <a:pt x="5808" y="8"/>
                    </a:moveTo>
                    <a:lnTo>
                      <a:pt x="3191" y="8"/>
                    </a:lnTo>
                    <a:lnTo>
                      <a:pt x="3241" y="0"/>
                    </a:lnTo>
                    <a:lnTo>
                      <a:pt x="3241" y="0"/>
                    </a:lnTo>
                    <a:lnTo>
                      <a:pt x="5757" y="0"/>
                    </a:lnTo>
                    <a:lnTo>
                      <a:pt x="5757" y="0"/>
                    </a:lnTo>
                    <a:lnTo>
                      <a:pt x="5808" y="8"/>
                    </a:lnTo>
                    <a:close/>
                    <a:moveTo>
                      <a:pt x="3132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3073" y="0"/>
                    </a:lnTo>
                    <a:lnTo>
                      <a:pt x="3073" y="0"/>
                    </a:lnTo>
                    <a:lnTo>
                      <a:pt x="3132" y="8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69560" y="1122480"/>
                <a:ext cx="979200" cy="1440"/>
              </a:xfrm>
              <a:custGeom>
                <a:avLst/>
                <a:gdLst/>
                <a:ahLst/>
                <a:rect l="l" t="t" r="r" b="b"/>
                <a:pathLst>
                  <a:path w="5775" h="8">
                    <a:moveTo>
                      <a:pt x="5775" y="8"/>
                    </a:moveTo>
                    <a:lnTo>
                      <a:pt x="3208" y="8"/>
                    </a:lnTo>
                    <a:lnTo>
                      <a:pt x="3233" y="0"/>
                    </a:lnTo>
                    <a:lnTo>
                      <a:pt x="3250" y="0"/>
                    </a:lnTo>
                    <a:lnTo>
                      <a:pt x="5724" y="0"/>
                    </a:lnTo>
                    <a:lnTo>
                      <a:pt x="5749" y="0"/>
                    </a:lnTo>
                    <a:lnTo>
                      <a:pt x="5775" y="8"/>
                    </a:lnTo>
                    <a:close/>
                    <a:moveTo>
                      <a:pt x="3090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3048" y="0"/>
                    </a:lnTo>
                    <a:lnTo>
                      <a:pt x="3065" y="0"/>
                    </a:lnTo>
                    <a:lnTo>
                      <a:pt x="3090" y="8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074240" y="1120680"/>
                <a:ext cx="971280" cy="1800"/>
              </a:xfrm>
              <a:custGeom>
                <a:avLst/>
                <a:gdLst/>
                <a:ahLst/>
                <a:rect l="l" t="t" r="r" b="b"/>
                <a:pathLst>
                  <a:path w="5724" h="8">
                    <a:moveTo>
                      <a:pt x="5724" y="8"/>
                    </a:moveTo>
                    <a:lnTo>
                      <a:pt x="3208" y="8"/>
                    </a:lnTo>
                    <a:lnTo>
                      <a:pt x="3234" y="0"/>
                    </a:lnTo>
                    <a:lnTo>
                      <a:pt x="5682" y="0"/>
                    </a:lnTo>
                    <a:lnTo>
                      <a:pt x="5724" y="8"/>
                    </a:lnTo>
                    <a:close/>
                    <a:moveTo>
                      <a:pt x="3040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3006" y="0"/>
                    </a:lnTo>
                    <a:lnTo>
                      <a:pt x="3040" y="8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077480" y="1119240"/>
                <a:ext cx="963360" cy="3240"/>
              </a:xfrm>
              <a:custGeom>
                <a:avLst/>
                <a:gdLst/>
                <a:ahLst/>
                <a:rect l="l" t="t" r="r" b="b"/>
                <a:pathLst>
                  <a:path w="5682" h="17">
                    <a:moveTo>
                      <a:pt x="5682" y="17"/>
                    </a:moveTo>
                    <a:lnTo>
                      <a:pt x="3208" y="17"/>
                    </a:lnTo>
                    <a:lnTo>
                      <a:pt x="3234" y="0"/>
                    </a:lnTo>
                    <a:lnTo>
                      <a:pt x="5640" y="0"/>
                    </a:lnTo>
                    <a:lnTo>
                      <a:pt x="5682" y="17"/>
                    </a:lnTo>
                    <a:close/>
                    <a:moveTo>
                      <a:pt x="3006" y="17"/>
                    </a:moveTo>
                    <a:lnTo>
                      <a:pt x="0" y="17"/>
                    </a:lnTo>
                    <a:lnTo>
                      <a:pt x="34" y="0"/>
                    </a:lnTo>
                    <a:lnTo>
                      <a:pt x="2972" y="0"/>
                    </a:lnTo>
                    <a:lnTo>
                      <a:pt x="3006" y="17"/>
                    </a:lnTo>
                    <a:close/>
                  </a:path>
                </a:pathLst>
              </a:custGeom>
              <a:solidFill>
                <a:srgbClr val="ca8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080720" y="1119240"/>
                <a:ext cx="956880" cy="1440"/>
              </a:xfrm>
              <a:custGeom>
                <a:avLst/>
                <a:gdLst/>
                <a:ahLst/>
                <a:rect l="l" t="t" r="r" b="b"/>
                <a:pathLst>
                  <a:path w="5648" h="9">
                    <a:moveTo>
                      <a:pt x="5648" y="9"/>
                    </a:moveTo>
                    <a:lnTo>
                      <a:pt x="3200" y="9"/>
                    </a:lnTo>
                    <a:lnTo>
                      <a:pt x="3225" y="0"/>
                    </a:lnTo>
                    <a:lnTo>
                      <a:pt x="5606" y="0"/>
                    </a:lnTo>
                    <a:lnTo>
                      <a:pt x="5648" y="9"/>
                    </a:lnTo>
                    <a:close/>
                    <a:moveTo>
                      <a:pt x="2972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938" y="0"/>
                    </a:lnTo>
                    <a:lnTo>
                      <a:pt x="2972" y="9"/>
                    </a:lnTo>
                    <a:close/>
                  </a:path>
                </a:pathLst>
              </a:custGeom>
              <a:solidFill>
                <a:srgbClr val="ca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082160" y="1117800"/>
                <a:ext cx="950400" cy="1440"/>
              </a:xfrm>
              <a:custGeom>
                <a:avLst/>
                <a:gdLst/>
                <a:ahLst/>
                <a:rect l="l" t="t" r="r" b="b"/>
                <a:pathLst>
                  <a:path w="5606" h="8">
                    <a:moveTo>
                      <a:pt x="5606" y="8"/>
                    </a:moveTo>
                    <a:lnTo>
                      <a:pt x="3200" y="8"/>
                    </a:lnTo>
                    <a:lnTo>
                      <a:pt x="3217" y="0"/>
                    </a:lnTo>
                    <a:lnTo>
                      <a:pt x="5572" y="0"/>
                    </a:lnTo>
                    <a:lnTo>
                      <a:pt x="5606" y="8"/>
                    </a:lnTo>
                    <a:close/>
                    <a:moveTo>
                      <a:pt x="2938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2904" y="0"/>
                    </a:lnTo>
                    <a:lnTo>
                      <a:pt x="2938" y="8"/>
                    </a:lnTo>
                    <a:close/>
                  </a:path>
                </a:pathLst>
              </a:custGeom>
              <a:solidFill>
                <a:srgbClr val="ca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085400" y="1117800"/>
                <a:ext cx="945720" cy="1440"/>
              </a:xfrm>
              <a:custGeom>
                <a:avLst/>
                <a:gdLst/>
                <a:ahLst/>
                <a:rect l="l" t="t" r="r" b="b"/>
                <a:pathLst>
                  <a:path w="5572" h="8">
                    <a:moveTo>
                      <a:pt x="5572" y="8"/>
                    </a:moveTo>
                    <a:lnTo>
                      <a:pt x="3191" y="8"/>
                    </a:lnTo>
                    <a:lnTo>
                      <a:pt x="3216" y="0"/>
                    </a:lnTo>
                    <a:lnTo>
                      <a:pt x="5530" y="0"/>
                    </a:lnTo>
                    <a:lnTo>
                      <a:pt x="5547" y="0"/>
                    </a:lnTo>
                    <a:lnTo>
                      <a:pt x="5572" y="8"/>
                    </a:lnTo>
                    <a:close/>
                    <a:moveTo>
                      <a:pt x="2904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2870" y="0"/>
                    </a:lnTo>
                    <a:lnTo>
                      <a:pt x="2904" y="8"/>
                    </a:lnTo>
                    <a:close/>
                  </a:path>
                </a:pathLst>
              </a:custGeom>
              <a:solidFill>
                <a:srgbClr val="ca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090080" y="1116000"/>
                <a:ext cx="937800" cy="1800"/>
              </a:xfrm>
              <a:custGeom>
                <a:avLst/>
                <a:gdLst/>
                <a:ahLst/>
                <a:rect l="l" t="t" r="r" b="b"/>
                <a:pathLst>
                  <a:path w="5530" h="9">
                    <a:moveTo>
                      <a:pt x="5530" y="9"/>
                    </a:moveTo>
                    <a:lnTo>
                      <a:pt x="3175" y="9"/>
                    </a:lnTo>
                    <a:lnTo>
                      <a:pt x="3200" y="0"/>
                    </a:lnTo>
                    <a:lnTo>
                      <a:pt x="3200" y="0"/>
                    </a:lnTo>
                    <a:lnTo>
                      <a:pt x="5488" y="0"/>
                    </a:lnTo>
                    <a:lnTo>
                      <a:pt x="5522" y="9"/>
                    </a:lnTo>
                    <a:lnTo>
                      <a:pt x="5530" y="9"/>
                    </a:lnTo>
                    <a:close/>
                    <a:moveTo>
                      <a:pt x="2862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828" y="0"/>
                    </a:lnTo>
                    <a:lnTo>
                      <a:pt x="2837" y="9"/>
                    </a:lnTo>
                    <a:lnTo>
                      <a:pt x="2862" y="9"/>
                    </a:lnTo>
                    <a:close/>
                  </a:path>
                </a:pathLst>
              </a:custGeom>
              <a:solidFill>
                <a:srgbClr val="cb8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093320" y="1116000"/>
                <a:ext cx="929880" cy="1800"/>
              </a:xfrm>
              <a:custGeom>
                <a:avLst/>
                <a:gdLst/>
                <a:ahLst/>
                <a:rect l="l" t="t" r="r" b="b"/>
                <a:pathLst>
                  <a:path w="5488" h="9">
                    <a:moveTo>
                      <a:pt x="5488" y="9"/>
                    </a:moveTo>
                    <a:lnTo>
                      <a:pt x="3174" y="9"/>
                    </a:lnTo>
                    <a:lnTo>
                      <a:pt x="3183" y="0"/>
                    </a:lnTo>
                    <a:lnTo>
                      <a:pt x="3200" y="0"/>
                    </a:lnTo>
                    <a:lnTo>
                      <a:pt x="5454" y="0"/>
                    </a:lnTo>
                    <a:lnTo>
                      <a:pt x="5488" y="9"/>
                    </a:lnTo>
                    <a:close/>
                    <a:moveTo>
                      <a:pt x="2828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795" y="0"/>
                    </a:lnTo>
                    <a:lnTo>
                      <a:pt x="2820" y="9"/>
                    </a:lnTo>
                    <a:lnTo>
                      <a:pt x="2828" y="9"/>
                    </a:lnTo>
                    <a:close/>
                  </a:path>
                </a:pathLst>
              </a:custGeom>
              <a:solidFill>
                <a:srgbClr val="cb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094760" y="1114560"/>
                <a:ext cx="925200" cy="1440"/>
              </a:xfrm>
              <a:custGeom>
                <a:avLst/>
                <a:gdLst/>
                <a:ahLst/>
                <a:rect l="l" t="t" r="r" b="b"/>
                <a:pathLst>
                  <a:path w="5454" h="8">
                    <a:moveTo>
                      <a:pt x="5454" y="8"/>
                    </a:moveTo>
                    <a:lnTo>
                      <a:pt x="3166" y="8"/>
                    </a:lnTo>
                    <a:lnTo>
                      <a:pt x="3191" y="0"/>
                    </a:lnTo>
                    <a:lnTo>
                      <a:pt x="5420" y="0"/>
                    </a:lnTo>
                    <a:lnTo>
                      <a:pt x="5454" y="8"/>
                    </a:lnTo>
                    <a:close/>
                    <a:moveTo>
                      <a:pt x="2794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2761" y="0"/>
                    </a:lnTo>
                    <a:lnTo>
                      <a:pt x="2794" y="8"/>
                    </a:lnTo>
                    <a:close/>
                  </a:path>
                </a:pathLst>
              </a:custGeom>
              <a:solidFill>
                <a:srgbClr val="cc8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098000" y="1112760"/>
                <a:ext cx="920520" cy="3240"/>
              </a:xfrm>
              <a:custGeom>
                <a:avLst/>
                <a:gdLst/>
                <a:ahLst/>
                <a:rect l="l" t="t" r="r" b="b"/>
                <a:pathLst>
                  <a:path w="5420" h="17">
                    <a:moveTo>
                      <a:pt x="5420" y="17"/>
                    </a:moveTo>
                    <a:lnTo>
                      <a:pt x="3166" y="17"/>
                    </a:lnTo>
                    <a:lnTo>
                      <a:pt x="3183" y="0"/>
                    </a:lnTo>
                    <a:lnTo>
                      <a:pt x="5386" y="0"/>
                    </a:lnTo>
                    <a:lnTo>
                      <a:pt x="5420" y="17"/>
                    </a:lnTo>
                    <a:close/>
                    <a:moveTo>
                      <a:pt x="2761" y="17"/>
                    </a:moveTo>
                    <a:lnTo>
                      <a:pt x="0" y="17"/>
                    </a:lnTo>
                    <a:lnTo>
                      <a:pt x="34" y="0"/>
                    </a:lnTo>
                    <a:lnTo>
                      <a:pt x="2735" y="0"/>
                    </a:lnTo>
                    <a:lnTo>
                      <a:pt x="2761" y="17"/>
                    </a:lnTo>
                    <a:close/>
                  </a:path>
                </a:pathLst>
              </a:custGeom>
              <a:solidFill>
                <a:srgbClr val="cc8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101240" y="1112760"/>
                <a:ext cx="914040" cy="1800"/>
              </a:xfrm>
              <a:custGeom>
                <a:avLst/>
                <a:gdLst/>
                <a:ahLst/>
                <a:rect l="l" t="t" r="r" b="b"/>
                <a:pathLst>
                  <a:path w="5386" h="9">
                    <a:moveTo>
                      <a:pt x="5386" y="9"/>
                    </a:moveTo>
                    <a:lnTo>
                      <a:pt x="3157" y="9"/>
                    </a:lnTo>
                    <a:lnTo>
                      <a:pt x="3183" y="0"/>
                    </a:lnTo>
                    <a:lnTo>
                      <a:pt x="5352" y="0"/>
                    </a:lnTo>
                    <a:lnTo>
                      <a:pt x="5386" y="9"/>
                    </a:lnTo>
                    <a:close/>
                    <a:moveTo>
                      <a:pt x="2727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2701" y="0"/>
                    </a:lnTo>
                    <a:lnTo>
                      <a:pt x="2727" y="9"/>
                    </a:lnTo>
                    <a:close/>
                  </a:path>
                </a:pathLst>
              </a:custGeom>
              <a:solidFill>
                <a:srgbClr val="cc85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104480" y="1111320"/>
                <a:ext cx="907560" cy="1440"/>
              </a:xfrm>
              <a:custGeom>
                <a:avLst/>
                <a:gdLst/>
                <a:ahLst/>
                <a:rect l="l" t="t" r="r" b="b"/>
                <a:pathLst>
                  <a:path w="5352" h="8">
                    <a:moveTo>
                      <a:pt x="5352" y="8"/>
                    </a:moveTo>
                    <a:lnTo>
                      <a:pt x="3149" y="8"/>
                    </a:lnTo>
                    <a:lnTo>
                      <a:pt x="3174" y="0"/>
                    </a:lnTo>
                    <a:lnTo>
                      <a:pt x="5310" y="0"/>
                    </a:lnTo>
                    <a:lnTo>
                      <a:pt x="5352" y="8"/>
                    </a:lnTo>
                    <a:close/>
                    <a:moveTo>
                      <a:pt x="2701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2667" y="0"/>
                    </a:lnTo>
                    <a:lnTo>
                      <a:pt x="2701" y="8"/>
                    </a:lnTo>
                    <a:close/>
                  </a:path>
                </a:pathLst>
              </a:custGeom>
              <a:solidFill>
                <a:srgbClr val="cc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107720" y="1111320"/>
                <a:ext cx="901080" cy="1440"/>
              </a:xfrm>
              <a:custGeom>
                <a:avLst/>
                <a:gdLst/>
                <a:ahLst/>
                <a:rect l="l" t="t" r="r" b="b"/>
                <a:pathLst>
                  <a:path w="5319" h="8">
                    <a:moveTo>
                      <a:pt x="5319" y="8"/>
                    </a:moveTo>
                    <a:lnTo>
                      <a:pt x="3150" y="8"/>
                    </a:lnTo>
                    <a:lnTo>
                      <a:pt x="3175" y="0"/>
                    </a:lnTo>
                    <a:lnTo>
                      <a:pt x="5277" y="0"/>
                    </a:lnTo>
                    <a:lnTo>
                      <a:pt x="5319" y="8"/>
                    </a:lnTo>
                    <a:close/>
                    <a:moveTo>
                      <a:pt x="2668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2635" y="0"/>
                    </a:lnTo>
                    <a:lnTo>
                      <a:pt x="2668" y="8"/>
                    </a:lnTo>
                    <a:close/>
                  </a:path>
                </a:pathLst>
              </a:custGeom>
              <a:solidFill>
                <a:srgbClr val="cd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110600" y="1109880"/>
                <a:ext cx="893520" cy="1440"/>
              </a:xfrm>
              <a:custGeom>
                <a:avLst/>
                <a:gdLst/>
                <a:ahLst/>
                <a:rect l="l" t="t" r="r" b="b"/>
                <a:pathLst>
                  <a:path w="5268" h="9">
                    <a:moveTo>
                      <a:pt x="5268" y="9"/>
                    </a:moveTo>
                    <a:lnTo>
                      <a:pt x="3132" y="9"/>
                    </a:lnTo>
                    <a:lnTo>
                      <a:pt x="3157" y="0"/>
                    </a:lnTo>
                    <a:lnTo>
                      <a:pt x="5234" y="0"/>
                    </a:lnTo>
                    <a:lnTo>
                      <a:pt x="5268" y="9"/>
                    </a:lnTo>
                    <a:close/>
                    <a:moveTo>
                      <a:pt x="2625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600" y="0"/>
                    </a:lnTo>
                    <a:lnTo>
                      <a:pt x="2625" y="9"/>
                    </a:lnTo>
                    <a:close/>
                  </a:path>
                </a:pathLst>
              </a:custGeom>
              <a:solidFill>
                <a:srgbClr val="cd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113840" y="1109880"/>
                <a:ext cx="888840" cy="1440"/>
              </a:xfrm>
              <a:custGeom>
                <a:avLst/>
                <a:gdLst/>
                <a:ahLst/>
                <a:rect l="l" t="t" r="r" b="b"/>
                <a:pathLst>
                  <a:path w="5234" h="9">
                    <a:moveTo>
                      <a:pt x="5234" y="9"/>
                    </a:moveTo>
                    <a:lnTo>
                      <a:pt x="3132" y="9"/>
                    </a:lnTo>
                    <a:lnTo>
                      <a:pt x="3157" y="0"/>
                    </a:lnTo>
                    <a:lnTo>
                      <a:pt x="5200" y="0"/>
                    </a:lnTo>
                    <a:lnTo>
                      <a:pt x="5234" y="9"/>
                    </a:lnTo>
                    <a:close/>
                    <a:moveTo>
                      <a:pt x="2592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2566" y="0"/>
                    </a:lnTo>
                    <a:lnTo>
                      <a:pt x="2592" y="9"/>
                    </a:lnTo>
                    <a:close/>
                  </a:path>
                </a:pathLst>
              </a:custGeom>
              <a:solidFill>
                <a:srgbClr val="cd85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117080" y="1108080"/>
                <a:ext cx="882360" cy="1800"/>
              </a:xfrm>
              <a:custGeom>
                <a:avLst/>
                <a:gdLst/>
                <a:ahLst/>
                <a:rect l="l" t="t" r="r" b="b"/>
                <a:pathLst>
                  <a:path w="5200" h="8">
                    <a:moveTo>
                      <a:pt x="5200" y="8"/>
                    </a:moveTo>
                    <a:lnTo>
                      <a:pt x="3123" y="8"/>
                    </a:lnTo>
                    <a:lnTo>
                      <a:pt x="3149" y="0"/>
                    </a:lnTo>
                    <a:lnTo>
                      <a:pt x="5166" y="0"/>
                    </a:lnTo>
                    <a:lnTo>
                      <a:pt x="5200" y="8"/>
                    </a:lnTo>
                    <a:close/>
                    <a:moveTo>
                      <a:pt x="2566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2532" y="0"/>
                    </a:lnTo>
                    <a:lnTo>
                      <a:pt x="2566" y="8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120320" y="1106640"/>
                <a:ext cx="875880" cy="3240"/>
              </a:xfrm>
              <a:custGeom>
                <a:avLst/>
                <a:gdLst/>
                <a:ahLst/>
                <a:rect l="l" t="t" r="r" b="b"/>
                <a:pathLst>
                  <a:path w="5167" h="16">
                    <a:moveTo>
                      <a:pt x="5167" y="16"/>
                    </a:moveTo>
                    <a:lnTo>
                      <a:pt x="3124" y="16"/>
                    </a:lnTo>
                    <a:lnTo>
                      <a:pt x="3141" y="0"/>
                    </a:lnTo>
                    <a:lnTo>
                      <a:pt x="5125" y="0"/>
                    </a:lnTo>
                    <a:lnTo>
                      <a:pt x="5167" y="16"/>
                    </a:lnTo>
                    <a:close/>
                    <a:moveTo>
                      <a:pt x="2533" y="16"/>
                    </a:moveTo>
                    <a:lnTo>
                      <a:pt x="0" y="16"/>
                    </a:lnTo>
                    <a:lnTo>
                      <a:pt x="34" y="0"/>
                    </a:lnTo>
                    <a:lnTo>
                      <a:pt x="2499" y="0"/>
                    </a:lnTo>
                    <a:lnTo>
                      <a:pt x="2533" y="16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23560" y="1106640"/>
                <a:ext cx="869400" cy="1440"/>
              </a:xfrm>
              <a:custGeom>
                <a:avLst/>
                <a:gdLst/>
                <a:ahLst/>
                <a:rect l="l" t="t" r="r" b="b"/>
                <a:pathLst>
                  <a:path w="5133" h="8">
                    <a:moveTo>
                      <a:pt x="5133" y="8"/>
                    </a:moveTo>
                    <a:lnTo>
                      <a:pt x="3116" y="8"/>
                    </a:lnTo>
                    <a:lnTo>
                      <a:pt x="3141" y="0"/>
                    </a:lnTo>
                    <a:lnTo>
                      <a:pt x="5091" y="0"/>
                    </a:lnTo>
                    <a:lnTo>
                      <a:pt x="5133" y="8"/>
                    </a:lnTo>
                    <a:close/>
                    <a:moveTo>
                      <a:pt x="2499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2466" y="0"/>
                    </a:lnTo>
                    <a:lnTo>
                      <a:pt x="2499" y="8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125000" y="1104840"/>
                <a:ext cx="863280" cy="1800"/>
              </a:xfrm>
              <a:custGeom>
                <a:avLst/>
                <a:gdLst/>
                <a:ahLst/>
                <a:rect l="l" t="t" r="r" b="b"/>
                <a:pathLst>
                  <a:path w="5091" h="9">
                    <a:moveTo>
                      <a:pt x="5091" y="9"/>
                    </a:moveTo>
                    <a:lnTo>
                      <a:pt x="3107" y="9"/>
                    </a:lnTo>
                    <a:lnTo>
                      <a:pt x="3132" y="0"/>
                    </a:lnTo>
                    <a:lnTo>
                      <a:pt x="5057" y="0"/>
                    </a:lnTo>
                    <a:lnTo>
                      <a:pt x="5091" y="9"/>
                    </a:lnTo>
                    <a:close/>
                    <a:moveTo>
                      <a:pt x="2465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2440" y="0"/>
                    </a:lnTo>
                    <a:lnTo>
                      <a:pt x="2465" y="9"/>
                    </a:lnTo>
                    <a:close/>
                  </a:path>
                </a:pathLst>
              </a:custGeom>
              <a:solidFill>
                <a:srgbClr val="cd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129680" y="1104840"/>
                <a:ext cx="857160" cy="1800"/>
              </a:xfrm>
              <a:custGeom>
                <a:avLst/>
                <a:gdLst/>
                <a:ahLst/>
                <a:rect l="l" t="t" r="r" b="b"/>
                <a:pathLst>
                  <a:path w="5048" h="9">
                    <a:moveTo>
                      <a:pt x="5048" y="9"/>
                    </a:moveTo>
                    <a:lnTo>
                      <a:pt x="3098" y="9"/>
                    </a:lnTo>
                    <a:lnTo>
                      <a:pt x="3123" y="0"/>
                    </a:lnTo>
                    <a:lnTo>
                      <a:pt x="5014" y="0"/>
                    </a:lnTo>
                    <a:lnTo>
                      <a:pt x="5048" y="9"/>
                    </a:lnTo>
                    <a:close/>
                    <a:moveTo>
                      <a:pt x="2423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397" y="0"/>
                    </a:lnTo>
                    <a:lnTo>
                      <a:pt x="2423" y="9"/>
                    </a:lnTo>
                    <a:close/>
                  </a:path>
                </a:pathLst>
              </a:custGeom>
              <a:solidFill>
                <a:srgbClr val="ce8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132920" y="1103400"/>
                <a:ext cx="850680" cy="1440"/>
              </a:xfrm>
              <a:custGeom>
                <a:avLst/>
                <a:gdLst/>
                <a:ahLst/>
                <a:rect l="l" t="t" r="r" b="b"/>
                <a:pathLst>
                  <a:path w="5015" h="8">
                    <a:moveTo>
                      <a:pt x="5015" y="8"/>
                    </a:moveTo>
                    <a:lnTo>
                      <a:pt x="3090" y="8"/>
                    </a:lnTo>
                    <a:lnTo>
                      <a:pt x="3116" y="0"/>
                    </a:lnTo>
                    <a:lnTo>
                      <a:pt x="4982" y="0"/>
                    </a:lnTo>
                    <a:lnTo>
                      <a:pt x="5015" y="8"/>
                    </a:lnTo>
                    <a:close/>
                    <a:moveTo>
                      <a:pt x="2398" y="8"/>
                    </a:moveTo>
                    <a:lnTo>
                      <a:pt x="0" y="8"/>
                    </a:lnTo>
                    <a:lnTo>
                      <a:pt x="17" y="8"/>
                    </a:lnTo>
                    <a:lnTo>
                      <a:pt x="34" y="0"/>
                    </a:lnTo>
                    <a:lnTo>
                      <a:pt x="2364" y="0"/>
                    </a:lnTo>
                    <a:lnTo>
                      <a:pt x="2398" y="8"/>
                    </a:lnTo>
                    <a:close/>
                  </a:path>
                </a:pathLst>
              </a:custGeom>
              <a:solidFill>
                <a:srgbClr val="ce8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136160" y="1103400"/>
                <a:ext cx="844200" cy="1440"/>
              </a:xfrm>
              <a:custGeom>
                <a:avLst/>
                <a:gdLst/>
                <a:ahLst/>
                <a:rect l="l" t="t" r="r" b="b"/>
                <a:pathLst>
                  <a:path w="4981" h="8">
                    <a:moveTo>
                      <a:pt x="4981" y="8"/>
                    </a:moveTo>
                    <a:lnTo>
                      <a:pt x="3090" y="8"/>
                    </a:lnTo>
                    <a:lnTo>
                      <a:pt x="3107" y="0"/>
                    </a:lnTo>
                    <a:lnTo>
                      <a:pt x="3116" y="0"/>
                    </a:lnTo>
                    <a:lnTo>
                      <a:pt x="4939" y="0"/>
                    </a:lnTo>
                    <a:lnTo>
                      <a:pt x="4981" y="8"/>
                    </a:lnTo>
                    <a:close/>
                    <a:moveTo>
                      <a:pt x="2364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2339" y="0"/>
                    </a:lnTo>
                    <a:lnTo>
                      <a:pt x="2364" y="8"/>
                    </a:lnTo>
                    <a:close/>
                  </a:path>
                </a:pathLst>
              </a:custGeom>
              <a:solidFill>
                <a:srgbClr val="ce86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137600" y="1101600"/>
                <a:ext cx="839520" cy="1800"/>
              </a:xfrm>
              <a:custGeom>
                <a:avLst/>
                <a:gdLst/>
                <a:ahLst/>
                <a:rect l="l" t="t" r="r" b="b"/>
                <a:pathLst>
                  <a:path w="4948" h="9">
                    <a:moveTo>
                      <a:pt x="4948" y="9"/>
                    </a:moveTo>
                    <a:lnTo>
                      <a:pt x="3082" y="9"/>
                    </a:lnTo>
                    <a:lnTo>
                      <a:pt x="3090" y="9"/>
                    </a:lnTo>
                    <a:lnTo>
                      <a:pt x="3107" y="0"/>
                    </a:lnTo>
                    <a:lnTo>
                      <a:pt x="4905" y="0"/>
                    </a:lnTo>
                    <a:lnTo>
                      <a:pt x="4948" y="9"/>
                    </a:lnTo>
                    <a:close/>
                    <a:moveTo>
                      <a:pt x="2330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305" y="0"/>
                    </a:lnTo>
                    <a:lnTo>
                      <a:pt x="2330" y="9"/>
                    </a:lnTo>
                    <a:close/>
                  </a:path>
                </a:pathLst>
              </a:custGeom>
              <a:solidFill>
                <a:srgbClr val="ce87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140840" y="1101600"/>
                <a:ext cx="833040" cy="1800"/>
              </a:xfrm>
              <a:custGeom>
                <a:avLst/>
                <a:gdLst/>
                <a:ahLst/>
                <a:rect l="l" t="t" r="r" b="b"/>
                <a:pathLst>
                  <a:path w="4905" h="9">
                    <a:moveTo>
                      <a:pt x="4905" y="9"/>
                    </a:moveTo>
                    <a:lnTo>
                      <a:pt x="3082" y="9"/>
                    </a:lnTo>
                    <a:lnTo>
                      <a:pt x="3107" y="0"/>
                    </a:lnTo>
                    <a:lnTo>
                      <a:pt x="4871" y="0"/>
                    </a:lnTo>
                    <a:lnTo>
                      <a:pt x="4905" y="9"/>
                    </a:lnTo>
                    <a:close/>
                    <a:moveTo>
                      <a:pt x="2305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271" y="0"/>
                    </a:lnTo>
                    <a:lnTo>
                      <a:pt x="2305" y="9"/>
                    </a:lnTo>
                    <a:close/>
                  </a:path>
                </a:pathLst>
              </a:custGeom>
              <a:solidFill>
                <a:srgbClr val="cf8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144080" y="1100160"/>
                <a:ext cx="826560" cy="1440"/>
              </a:xfrm>
              <a:custGeom>
                <a:avLst/>
                <a:gdLst/>
                <a:ahLst/>
                <a:rect l="l" t="t" r="r" b="b"/>
                <a:pathLst>
                  <a:path w="4871" h="8">
                    <a:moveTo>
                      <a:pt x="4871" y="8"/>
                    </a:moveTo>
                    <a:lnTo>
                      <a:pt x="3073" y="8"/>
                    </a:lnTo>
                    <a:lnTo>
                      <a:pt x="3098" y="0"/>
                    </a:lnTo>
                    <a:lnTo>
                      <a:pt x="4838" y="0"/>
                    </a:lnTo>
                    <a:lnTo>
                      <a:pt x="4871" y="8"/>
                    </a:lnTo>
                    <a:close/>
                    <a:moveTo>
                      <a:pt x="2271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2237" y="0"/>
                    </a:lnTo>
                    <a:lnTo>
                      <a:pt x="2271" y="8"/>
                    </a:lnTo>
                    <a:close/>
                  </a:path>
                </a:pathLst>
              </a:custGeom>
              <a:solidFill>
                <a:srgbClr val="cf8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147320" y="1100160"/>
                <a:ext cx="820440" cy="1440"/>
              </a:xfrm>
              <a:custGeom>
                <a:avLst/>
                <a:gdLst/>
                <a:ahLst/>
                <a:rect l="l" t="t" r="r" b="b"/>
                <a:pathLst>
                  <a:path w="4837" h="8">
                    <a:moveTo>
                      <a:pt x="4837" y="8"/>
                    </a:moveTo>
                    <a:lnTo>
                      <a:pt x="3073" y="8"/>
                    </a:lnTo>
                    <a:lnTo>
                      <a:pt x="3098" y="0"/>
                    </a:lnTo>
                    <a:lnTo>
                      <a:pt x="4804" y="0"/>
                    </a:lnTo>
                    <a:lnTo>
                      <a:pt x="4837" y="8"/>
                    </a:lnTo>
                    <a:close/>
                    <a:moveTo>
                      <a:pt x="2237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2212" y="0"/>
                    </a:lnTo>
                    <a:lnTo>
                      <a:pt x="2237" y="8"/>
                    </a:lnTo>
                    <a:close/>
                  </a:path>
                </a:pathLst>
              </a:custGeom>
              <a:solidFill>
                <a:srgbClr val="cf8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150560" y="1098720"/>
                <a:ext cx="813960" cy="1440"/>
              </a:xfrm>
              <a:custGeom>
                <a:avLst/>
                <a:gdLst/>
                <a:ahLst/>
                <a:rect l="l" t="t" r="r" b="b"/>
                <a:pathLst>
                  <a:path w="4804" h="9">
                    <a:moveTo>
                      <a:pt x="4804" y="9"/>
                    </a:moveTo>
                    <a:lnTo>
                      <a:pt x="3064" y="9"/>
                    </a:lnTo>
                    <a:lnTo>
                      <a:pt x="3090" y="0"/>
                    </a:lnTo>
                    <a:lnTo>
                      <a:pt x="4761" y="0"/>
                    </a:lnTo>
                    <a:lnTo>
                      <a:pt x="4804" y="9"/>
                    </a:lnTo>
                    <a:close/>
                    <a:moveTo>
                      <a:pt x="2203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178" y="0"/>
                    </a:lnTo>
                    <a:lnTo>
                      <a:pt x="2203" y="9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153440" y="1096920"/>
                <a:ext cx="807840" cy="3240"/>
              </a:xfrm>
              <a:custGeom>
                <a:avLst/>
                <a:gdLst/>
                <a:ahLst/>
                <a:rect l="l" t="t" r="r" b="b"/>
                <a:pathLst>
                  <a:path w="4770" h="17">
                    <a:moveTo>
                      <a:pt x="4770" y="17"/>
                    </a:moveTo>
                    <a:lnTo>
                      <a:pt x="3064" y="17"/>
                    </a:lnTo>
                    <a:lnTo>
                      <a:pt x="3090" y="0"/>
                    </a:lnTo>
                    <a:lnTo>
                      <a:pt x="4727" y="0"/>
                    </a:lnTo>
                    <a:lnTo>
                      <a:pt x="4770" y="17"/>
                    </a:lnTo>
                    <a:close/>
                    <a:moveTo>
                      <a:pt x="2178" y="17"/>
                    </a:moveTo>
                    <a:lnTo>
                      <a:pt x="0" y="17"/>
                    </a:lnTo>
                    <a:lnTo>
                      <a:pt x="33" y="0"/>
                    </a:lnTo>
                    <a:lnTo>
                      <a:pt x="2144" y="0"/>
                    </a:lnTo>
                    <a:lnTo>
                      <a:pt x="2178" y="17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155240" y="1096920"/>
                <a:ext cx="802800" cy="1800"/>
              </a:xfrm>
              <a:custGeom>
                <a:avLst/>
                <a:gdLst/>
                <a:ahLst/>
                <a:rect l="l" t="t" r="r" b="b"/>
                <a:pathLst>
                  <a:path w="4727" h="8">
                    <a:moveTo>
                      <a:pt x="4727" y="8"/>
                    </a:moveTo>
                    <a:lnTo>
                      <a:pt x="3056" y="8"/>
                    </a:lnTo>
                    <a:lnTo>
                      <a:pt x="3081" y="0"/>
                    </a:lnTo>
                    <a:lnTo>
                      <a:pt x="4694" y="0"/>
                    </a:lnTo>
                    <a:lnTo>
                      <a:pt x="4727" y="8"/>
                    </a:lnTo>
                    <a:close/>
                    <a:moveTo>
                      <a:pt x="2144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2110" y="0"/>
                    </a:lnTo>
                    <a:lnTo>
                      <a:pt x="2144" y="8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158480" y="1095480"/>
                <a:ext cx="796320" cy="1440"/>
              </a:xfrm>
              <a:custGeom>
                <a:avLst/>
                <a:gdLst/>
                <a:ahLst/>
                <a:rect l="l" t="t" r="r" b="b"/>
                <a:pathLst>
                  <a:path w="4694" h="9">
                    <a:moveTo>
                      <a:pt x="4694" y="9"/>
                    </a:moveTo>
                    <a:lnTo>
                      <a:pt x="3057" y="9"/>
                    </a:lnTo>
                    <a:lnTo>
                      <a:pt x="3082" y="0"/>
                    </a:lnTo>
                    <a:lnTo>
                      <a:pt x="4661" y="0"/>
                    </a:lnTo>
                    <a:lnTo>
                      <a:pt x="4694" y="9"/>
                    </a:lnTo>
                    <a:close/>
                    <a:moveTo>
                      <a:pt x="2111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086" y="0"/>
                    </a:lnTo>
                    <a:lnTo>
                      <a:pt x="2086" y="0"/>
                    </a:lnTo>
                    <a:lnTo>
                      <a:pt x="2111" y="9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161720" y="1095480"/>
                <a:ext cx="790200" cy="1440"/>
              </a:xfrm>
              <a:custGeom>
                <a:avLst/>
                <a:gdLst/>
                <a:ahLst/>
                <a:rect l="l" t="t" r="r" b="b"/>
                <a:pathLst>
                  <a:path w="4661" h="9">
                    <a:moveTo>
                      <a:pt x="4661" y="9"/>
                    </a:moveTo>
                    <a:lnTo>
                      <a:pt x="3048" y="9"/>
                    </a:lnTo>
                    <a:lnTo>
                      <a:pt x="3073" y="0"/>
                    </a:lnTo>
                    <a:lnTo>
                      <a:pt x="4627" y="0"/>
                    </a:lnTo>
                    <a:lnTo>
                      <a:pt x="4661" y="9"/>
                    </a:lnTo>
                    <a:close/>
                    <a:moveTo>
                      <a:pt x="2077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052" y="0"/>
                    </a:lnTo>
                    <a:lnTo>
                      <a:pt x="2069" y="0"/>
                    </a:lnTo>
                    <a:lnTo>
                      <a:pt x="2077" y="9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164600" y="1093680"/>
                <a:ext cx="784080" cy="1800"/>
              </a:xfrm>
              <a:custGeom>
                <a:avLst/>
                <a:gdLst/>
                <a:ahLst/>
                <a:rect l="l" t="t" r="r" b="b"/>
                <a:pathLst>
                  <a:path w="4627" h="8">
                    <a:moveTo>
                      <a:pt x="4627" y="8"/>
                    </a:moveTo>
                    <a:lnTo>
                      <a:pt x="3048" y="8"/>
                    </a:lnTo>
                    <a:lnTo>
                      <a:pt x="3073" y="0"/>
                    </a:lnTo>
                    <a:lnTo>
                      <a:pt x="4593" y="0"/>
                    </a:lnTo>
                    <a:lnTo>
                      <a:pt x="4627" y="8"/>
                    </a:lnTo>
                    <a:close/>
                    <a:moveTo>
                      <a:pt x="2052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2018" y="0"/>
                    </a:lnTo>
                    <a:lnTo>
                      <a:pt x="2052" y="8"/>
                    </a:lnTo>
                    <a:close/>
                  </a:path>
                </a:pathLst>
              </a:custGeom>
              <a:solidFill>
                <a:srgbClr val="cf88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167840" y="1093680"/>
                <a:ext cx="777600" cy="1800"/>
              </a:xfrm>
              <a:custGeom>
                <a:avLst/>
                <a:gdLst/>
                <a:ahLst/>
                <a:rect l="l" t="t" r="r" b="b"/>
                <a:pathLst>
                  <a:path w="4593" h="8">
                    <a:moveTo>
                      <a:pt x="4593" y="8"/>
                    </a:moveTo>
                    <a:lnTo>
                      <a:pt x="3039" y="8"/>
                    </a:lnTo>
                    <a:lnTo>
                      <a:pt x="3065" y="0"/>
                    </a:lnTo>
                    <a:lnTo>
                      <a:pt x="4559" y="0"/>
                    </a:lnTo>
                    <a:lnTo>
                      <a:pt x="4593" y="8"/>
                    </a:lnTo>
                    <a:close/>
                    <a:moveTo>
                      <a:pt x="2018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1984" y="0"/>
                    </a:lnTo>
                    <a:lnTo>
                      <a:pt x="2018" y="8"/>
                    </a:lnTo>
                    <a:close/>
                  </a:path>
                </a:pathLst>
              </a:custGeom>
              <a:solidFill>
                <a:srgbClr val="d18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169640" y="1092240"/>
                <a:ext cx="774360" cy="1440"/>
              </a:xfrm>
              <a:custGeom>
                <a:avLst/>
                <a:gdLst/>
                <a:ahLst/>
                <a:rect l="l" t="t" r="r" b="b"/>
                <a:pathLst>
                  <a:path w="4559" h="8">
                    <a:moveTo>
                      <a:pt x="4559" y="8"/>
                    </a:moveTo>
                    <a:lnTo>
                      <a:pt x="3039" y="8"/>
                    </a:lnTo>
                    <a:lnTo>
                      <a:pt x="3065" y="0"/>
                    </a:lnTo>
                    <a:lnTo>
                      <a:pt x="4517" y="0"/>
                    </a:lnTo>
                    <a:lnTo>
                      <a:pt x="4559" y="8"/>
                    </a:lnTo>
                    <a:close/>
                    <a:moveTo>
                      <a:pt x="1984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1950" y="0"/>
                    </a:lnTo>
                    <a:lnTo>
                      <a:pt x="1984" y="8"/>
                    </a:lnTo>
                    <a:close/>
                  </a:path>
                </a:pathLst>
              </a:custGeom>
              <a:solidFill>
                <a:srgbClr val="d189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172520" y="1090800"/>
                <a:ext cx="768240" cy="2880"/>
              </a:xfrm>
              <a:custGeom>
                <a:avLst/>
                <a:gdLst/>
                <a:ahLst/>
                <a:rect l="l" t="t" r="r" b="b"/>
                <a:pathLst>
                  <a:path w="4525" h="17">
                    <a:moveTo>
                      <a:pt x="4525" y="17"/>
                    </a:moveTo>
                    <a:lnTo>
                      <a:pt x="3031" y="17"/>
                    </a:lnTo>
                    <a:lnTo>
                      <a:pt x="3056" y="0"/>
                    </a:lnTo>
                    <a:lnTo>
                      <a:pt x="4483" y="0"/>
                    </a:lnTo>
                    <a:lnTo>
                      <a:pt x="4525" y="17"/>
                    </a:lnTo>
                    <a:close/>
                    <a:moveTo>
                      <a:pt x="1950" y="17"/>
                    </a:moveTo>
                    <a:lnTo>
                      <a:pt x="0" y="17"/>
                    </a:lnTo>
                    <a:lnTo>
                      <a:pt x="34" y="0"/>
                    </a:lnTo>
                    <a:lnTo>
                      <a:pt x="1916" y="0"/>
                    </a:lnTo>
                    <a:lnTo>
                      <a:pt x="1950" y="17"/>
                    </a:lnTo>
                    <a:close/>
                  </a:path>
                </a:pathLst>
              </a:custGeom>
              <a:solidFill>
                <a:srgbClr val="d1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175760" y="1090800"/>
                <a:ext cx="759960" cy="1440"/>
              </a:xfrm>
              <a:custGeom>
                <a:avLst/>
                <a:gdLst/>
                <a:ahLst/>
                <a:rect l="l" t="t" r="r" b="b"/>
                <a:pathLst>
                  <a:path w="4483" h="9">
                    <a:moveTo>
                      <a:pt x="4483" y="9"/>
                    </a:moveTo>
                    <a:lnTo>
                      <a:pt x="3031" y="9"/>
                    </a:lnTo>
                    <a:lnTo>
                      <a:pt x="3056" y="0"/>
                    </a:lnTo>
                    <a:lnTo>
                      <a:pt x="4449" y="0"/>
                    </a:lnTo>
                    <a:lnTo>
                      <a:pt x="4483" y="9"/>
                    </a:lnTo>
                    <a:close/>
                    <a:moveTo>
                      <a:pt x="1916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1891" y="0"/>
                    </a:lnTo>
                    <a:lnTo>
                      <a:pt x="1916" y="9"/>
                    </a:lnTo>
                    <a:close/>
                  </a:path>
                </a:pathLst>
              </a:custGeom>
              <a:solidFill>
                <a:srgbClr val="d1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179000" y="1089000"/>
                <a:ext cx="753840" cy="1800"/>
              </a:xfrm>
              <a:custGeom>
                <a:avLst/>
                <a:gdLst/>
                <a:ahLst/>
                <a:rect l="l" t="t" r="r" b="b"/>
                <a:pathLst>
                  <a:path w="4449" h="8">
                    <a:moveTo>
                      <a:pt x="4449" y="8"/>
                    </a:moveTo>
                    <a:lnTo>
                      <a:pt x="3022" y="8"/>
                    </a:lnTo>
                    <a:lnTo>
                      <a:pt x="3047" y="0"/>
                    </a:lnTo>
                    <a:lnTo>
                      <a:pt x="4415" y="0"/>
                    </a:lnTo>
                    <a:lnTo>
                      <a:pt x="4449" y="8"/>
                    </a:lnTo>
                    <a:close/>
                    <a:moveTo>
                      <a:pt x="1882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1857" y="0"/>
                    </a:lnTo>
                    <a:lnTo>
                      <a:pt x="1882" y="8"/>
                    </a:lnTo>
                    <a:close/>
                  </a:path>
                </a:pathLst>
              </a:custGeom>
              <a:solidFill>
                <a:srgbClr val="d2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182240" y="1089000"/>
                <a:ext cx="747360" cy="1800"/>
              </a:xfrm>
              <a:custGeom>
                <a:avLst/>
                <a:gdLst/>
                <a:ahLst/>
                <a:rect l="l" t="t" r="r" b="b"/>
                <a:pathLst>
                  <a:path w="4416" h="8">
                    <a:moveTo>
                      <a:pt x="4416" y="8"/>
                    </a:moveTo>
                    <a:lnTo>
                      <a:pt x="3023" y="8"/>
                    </a:lnTo>
                    <a:lnTo>
                      <a:pt x="3048" y="0"/>
                    </a:lnTo>
                    <a:lnTo>
                      <a:pt x="4382" y="0"/>
                    </a:lnTo>
                    <a:lnTo>
                      <a:pt x="4416" y="8"/>
                    </a:lnTo>
                    <a:close/>
                    <a:moveTo>
                      <a:pt x="1858" y="8"/>
                    </a:moveTo>
                    <a:lnTo>
                      <a:pt x="0" y="8"/>
                    </a:lnTo>
                    <a:lnTo>
                      <a:pt x="43" y="0"/>
                    </a:lnTo>
                    <a:lnTo>
                      <a:pt x="1824" y="0"/>
                    </a:lnTo>
                    <a:lnTo>
                      <a:pt x="1858" y="8"/>
                    </a:lnTo>
                    <a:close/>
                  </a:path>
                </a:pathLst>
              </a:custGeom>
              <a:solidFill>
                <a:srgbClr val="d2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183680" y="1087560"/>
                <a:ext cx="744120" cy="1440"/>
              </a:xfrm>
              <a:custGeom>
                <a:avLst/>
                <a:gdLst/>
                <a:ahLst/>
                <a:rect l="l" t="t" r="r" b="b"/>
                <a:pathLst>
                  <a:path w="4382" h="9">
                    <a:moveTo>
                      <a:pt x="4382" y="9"/>
                    </a:moveTo>
                    <a:lnTo>
                      <a:pt x="3014" y="9"/>
                    </a:lnTo>
                    <a:lnTo>
                      <a:pt x="3040" y="0"/>
                    </a:lnTo>
                    <a:lnTo>
                      <a:pt x="4340" y="0"/>
                    </a:lnTo>
                    <a:lnTo>
                      <a:pt x="4382" y="9"/>
                    </a:lnTo>
                    <a:close/>
                    <a:moveTo>
                      <a:pt x="1824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1790" y="0"/>
                    </a:lnTo>
                    <a:lnTo>
                      <a:pt x="1824" y="9"/>
                    </a:lnTo>
                    <a:close/>
                  </a:path>
                </a:pathLst>
              </a:custGeom>
              <a:solidFill>
                <a:srgbClr val="d2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188720" y="1085760"/>
                <a:ext cx="736200" cy="3240"/>
              </a:xfrm>
              <a:custGeom>
                <a:avLst/>
                <a:gdLst/>
                <a:ahLst/>
                <a:rect l="l" t="t" r="r" b="b"/>
                <a:pathLst>
                  <a:path w="4339" h="17">
                    <a:moveTo>
                      <a:pt x="4339" y="17"/>
                    </a:moveTo>
                    <a:lnTo>
                      <a:pt x="3005" y="17"/>
                    </a:lnTo>
                    <a:lnTo>
                      <a:pt x="3031" y="0"/>
                    </a:lnTo>
                    <a:lnTo>
                      <a:pt x="4297" y="0"/>
                    </a:lnTo>
                    <a:lnTo>
                      <a:pt x="4339" y="17"/>
                    </a:lnTo>
                    <a:close/>
                    <a:moveTo>
                      <a:pt x="1781" y="17"/>
                    </a:moveTo>
                    <a:lnTo>
                      <a:pt x="0" y="17"/>
                    </a:lnTo>
                    <a:lnTo>
                      <a:pt x="33" y="0"/>
                    </a:lnTo>
                    <a:lnTo>
                      <a:pt x="1747" y="0"/>
                    </a:lnTo>
                    <a:lnTo>
                      <a:pt x="1781" y="17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190160" y="1085760"/>
                <a:ext cx="729720" cy="1800"/>
              </a:xfrm>
              <a:custGeom>
                <a:avLst/>
                <a:gdLst/>
                <a:ahLst/>
                <a:rect l="l" t="t" r="r" b="b"/>
                <a:pathLst>
                  <a:path w="4306" h="8">
                    <a:moveTo>
                      <a:pt x="4306" y="8"/>
                    </a:moveTo>
                    <a:lnTo>
                      <a:pt x="3006" y="8"/>
                    </a:lnTo>
                    <a:lnTo>
                      <a:pt x="3031" y="0"/>
                    </a:lnTo>
                    <a:lnTo>
                      <a:pt x="4272" y="0"/>
                    </a:lnTo>
                    <a:lnTo>
                      <a:pt x="4306" y="8"/>
                    </a:lnTo>
                    <a:close/>
                    <a:moveTo>
                      <a:pt x="1756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1722" y="0"/>
                    </a:lnTo>
                    <a:lnTo>
                      <a:pt x="1756" y="8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9" name=""/>
            <p:cNvGrpSpPr/>
            <p:nvPr/>
          </p:nvGrpSpPr>
          <p:grpSpPr>
            <a:xfrm>
              <a:off x="852480" y="1060560"/>
              <a:ext cx="1236240" cy="685800"/>
              <a:chOff x="852480" y="1060560"/>
              <a:chExt cx="1236240" cy="685800"/>
            </a:xfrm>
          </p:grpSpPr>
          <p:sp>
            <p:nvSpPr>
              <p:cNvPr id="1070" name=""/>
              <p:cNvSpPr/>
              <p:nvPr/>
            </p:nvSpPr>
            <p:spPr>
              <a:xfrm>
                <a:off x="1194840" y="1084320"/>
                <a:ext cx="722160" cy="1440"/>
              </a:xfrm>
              <a:custGeom>
                <a:avLst/>
                <a:gdLst/>
                <a:ahLst/>
                <a:rect l="l" t="t" r="r" b="b"/>
                <a:pathLst>
                  <a:path w="4264" h="9">
                    <a:moveTo>
                      <a:pt x="4264" y="9"/>
                    </a:moveTo>
                    <a:lnTo>
                      <a:pt x="2998" y="9"/>
                    </a:lnTo>
                    <a:lnTo>
                      <a:pt x="3023" y="0"/>
                    </a:lnTo>
                    <a:lnTo>
                      <a:pt x="4230" y="0"/>
                    </a:lnTo>
                    <a:lnTo>
                      <a:pt x="4264" y="9"/>
                    </a:lnTo>
                    <a:close/>
                    <a:moveTo>
                      <a:pt x="1714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1689" y="0"/>
                    </a:lnTo>
                    <a:lnTo>
                      <a:pt x="1714" y="9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196640" y="1084320"/>
                <a:ext cx="718560" cy="1440"/>
              </a:xfrm>
              <a:custGeom>
                <a:avLst/>
                <a:gdLst/>
                <a:ahLst/>
                <a:rect l="l" t="t" r="r" b="b"/>
                <a:pathLst>
                  <a:path w="4230" h="9">
                    <a:moveTo>
                      <a:pt x="4230" y="9"/>
                    </a:moveTo>
                    <a:lnTo>
                      <a:pt x="2989" y="9"/>
                    </a:lnTo>
                    <a:lnTo>
                      <a:pt x="3014" y="0"/>
                    </a:lnTo>
                    <a:lnTo>
                      <a:pt x="4196" y="0"/>
                    </a:lnTo>
                    <a:lnTo>
                      <a:pt x="4230" y="9"/>
                    </a:lnTo>
                    <a:close/>
                    <a:moveTo>
                      <a:pt x="1680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1655" y="0"/>
                    </a:lnTo>
                    <a:lnTo>
                      <a:pt x="1680" y="9"/>
                    </a:lnTo>
                    <a:close/>
                  </a:path>
                </a:pathLst>
              </a:custGeom>
              <a:solidFill>
                <a:srgbClr val="d389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199520" y="1082880"/>
                <a:ext cx="712440" cy="1440"/>
              </a:xfrm>
              <a:custGeom>
                <a:avLst/>
                <a:gdLst/>
                <a:ahLst/>
                <a:rect l="l" t="t" r="r" b="b"/>
                <a:pathLst>
                  <a:path w="4196" h="8">
                    <a:moveTo>
                      <a:pt x="4196" y="8"/>
                    </a:moveTo>
                    <a:lnTo>
                      <a:pt x="2989" y="8"/>
                    </a:lnTo>
                    <a:lnTo>
                      <a:pt x="3014" y="0"/>
                    </a:lnTo>
                    <a:lnTo>
                      <a:pt x="4154" y="0"/>
                    </a:lnTo>
                    <a:lnTo>
                      <a:pt x="4162" y="0"/>
                    </a:lnTo>
                    <a:lnTo>
                      <a:pt x="4196" y="8"/>
                    </a:lnTo>
                    <a:close/>
                    <a:moveTo>
                      <a:pt x="1655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1621" y="0"/>
                    </a:lnTo>
                    <a:lnTo>
                      <a:pt x="1655" y="8"/>
                    </a:lnTo>
                    <a:close/>
                  </a:path>
                </a:pathLst>
              </a:custGeom>
              <a:solidFill>
                <a:srgbClr val="d5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202760" y="1082880"/>
                <a:ext cx="706320" cy="1440"/>
              </a:xfrm>
              <a:custGeom>
                <a:avLst/>
                <a:gdLst/>
                <a:ahLst/>
                <a:rect l="l" t="t" r="r" b="b"/>
                <a:pathLst>
                  <a:path w="4162" h="8">
                    <a:moveTo>
                      <a:pt x="4162" y="8"/>
                    </a:moveTo>
                    <a:lnTo>
                      <a:pt x="2980" y="8"/>
                    </a:lnTo>
                    <a:lnTo>
                      <a:pt x="3006" y="0"/>
                    </a:lnTo>
                    <a:lnTo>
                      <a:pt x="4120" y="0"/>
                    </a:lnTo>
                    <a:lnTo>
                      <a:pt x="4145" y="0"/>
                    </a:lnTo>
                    <a:lnTo>
                      <a:pt x="4162" y="8"/>
                    </a:lnTo>
                    <a:close/>
                    <a:moveTo>
                      <a:pt x="1621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1587" y="0"/>
                    </a:lnTo>
                    <a:lnTo>
                      <a:pt x="1621" y="8"/>
                    </a:lnTo>
                    <a:close/>
                  </a:path>
                </a:pathLst>
              </a:custGeom>
              <a:solidFill>
                <a:srgbClr val="d5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206000" y="1081080"/>
                <a:ext cx="698040" cy="1800"/>
              </a:xfrm>
              <a:custGeom>
                <a:avLst/>
                <a:gdLst/>
                <a:ahLst/>
                <a:rect l="l" t="t" r="r" b="b"/>
                <a:pathLst>
                  <a:path w="4120" h="9">
                    <a:moveTo>
                      <a:pt x="4120" y="9"/>
                    </a:moveTo>
                    <a:lnTo>
                      <a:pt x="2980" y="9"/>
                    </a:lnTo>
                    <a:lnTo>
                      <a:pt x="3006" y="0"/>
                    </a:lnTo>
                    <a:lnTo>
                      <a:pt x="4086" y="0"/>
                    </a:lnTo>
                    <a:lnTo>
                      <a:pt x="4120" y="9"/>
                    </a:lnTo>
                    <a:close/>
                    <a:moveTo>
                      <a:pt x="1587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1553" y="0"/>
                    </a:lnTo>
                    <a:lnTo>
                      <a:pt x="1587" y="9"/>
                    </a:lnTo>
                    <a:close/>
                  </a:path>
                </a:pathLst>
              </a:custGeom>
              <a:solidFill>
                <a:srgbClr val="d5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209240" y="1079640"/>
                <a:ext cx="691560" cy="3240"/>
              </a:xfrm>
              <a:custGeom>
                <a:avLst/>
                <a:gdLst/>
                <a:ahLst/>
                <a:rect l="l" t="t" r="r" b="b"/>
                <a:pathLst>
                  <a:path w="4086" h="17">
                    <a:moveTo>
                      <a:pt x="4086" y="17"/>
                    </a:moveTo>
                    <a:lnTo>
                      <a:pt x="2972" y="17"/>
                    </a:lnTo>
                    <a:lnTo>
                      <a:pt x="2997" y="0"/>
                    </a:lnTo>
                    <a:lnTo>
                      <a:pt x="4044" y="0"/>
                    </a:lnTo>
                    <a:lnTo>
                      <a:pt x="4086" y="17"/>
                    </a:lnTo>
                    <a:close/>
                    <a:moveTo>
                      <a:pt x="1553" y="17"/>
                    </a:moveTo>
                    <a:lnTo>
                      <a:pt x="0" y="17"/>
                    </a:lnTo>
                    <a:lnTo>
                      <a:pt x="34" y="0"/>
                    </a:lnTo>
                    <a:lnTo>
                      <a:pt x="1520" y="0"/>
                    </a:lnTo>
                    <a:lnTo>
                      <a:pt x="1528" y="8"/>
                    </a:lnTo>
                    <a:lnTo>
                      <a:pt x="1553" y="17"/>
                    </a:lnTo>
                    <a:close/>
                  </a:path>
                </a:pathLst>
              </a:custGeom>
              <a:solidFill>
                <a:srgbClr val="d6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212480" y="1079640"/>
                <a:ext cx="686880" cy="1440"/>
              </a:xfrm>
              <a:custGeom>
                <a:avLst/>
                <a:gdLst/>
                <a:ahLst/>
                <a:rect l="l" t="t" r="r" b="b"/>
                <a:pathLst>
                  <a:path w="4052" h="8">
                    <a:moveTo>
                      <a:pt x="4052" y="8"/>
                    </a:moveTo>
                    <a:lnTo>
                      <a:pt x="2972" y="8"/>
                    </a:lnTo>
                    <a:lnTo>
                      <a:pt x="2997" y="0"/>
                    </a:lnTo>
                    <a:lnTo>
                      <a:pt x="4010" y="0"/>
                    </a:lnTo>
                    <a:lnTo>
                      <a:pt x="4052" y="8"/>
                    </a:lnTo>
                    <a:close/>
                    <a:moveTo>
                      <a:pt x="1519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1486" y="0"/>
                    </a:lnTo>
                    <a:lnTo>
                      <a:pt x="1511" y="8"/>
                    </a:lnTo>
                    <a:lnTo>
                      <a:pt x="1519" y="8"/>
                    </a:lnTo>
                    <a:close/>
                  </a:path>
                </a:pathLst>
              </a:custGeom>
              <a:solidFill>
                <a:srgbClr val="d68a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213920" y="1079640"/>
                <a:ext cx="680760" cy="1440"/>
              </a:xfrm>
              <a:custGeom>
                <a:avLst/>
                <a:gdLst/>
                <a:ahLst/>
                <a:rect l="l" t="t" r="r" b="b"/>
                <a:pathLst>
                  <a:path w="4010" h="8">
                    <a:moveTo>
                      <a:pt x="4010" y="8"/>
                    </a:moveTo>
                    <a:lnTo>
                      <a:pt x="2963" y="8"/>
                    </a:lnTo>
                    <a:lnTo>
                      <a:pt x="2988" y="0"/>
                    </a:lnTo>
                    <a:lnTo>
                      <a:pt x="3976" y="0"/>
                    </a:lnTo>
                    <a:lnTo>
                      <a:pt x="4010" y="8"/>
                    </a:lnTo>
                    <a:close/>
                    <a:moveTo>
                      <a:pt x="1486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1452" y="0"/>
                    </a:lnTo>
                    <a:lnTo>
                      <a:pt x="1486" y="8"/>
                    </a:lnTo>
                    <a:close/>
                  </a:path>
                </a:pathLst>
              </a:custGeom>
              <a:solidFill>
                <a:srgbClr val="d6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217160" y="1079640"/>
                <a:ext cx="674280" cy="1440"/>
              </a:xfrm>
              <a:custGeom>
                <a:avLst/>
                <a:gdLst/>
                <a:ahLst/>
                <a:rect l="l" t="t" r="r" b="b"/>
                <a:pathLst>
                  <a:path w="3976" h="8">
                    <a:moveTo>
                      <a:pt x="3976" y="8"/>
                    </a:moveTo>
                    <a:lnTo>
                      <a:pt x="2963" y="8"/>
                    </a:lnTo>
                    <a:lnTo>
                      <a:pt x="2988" y="0"/>
                    </a:lnTo>
                    <a:lnTo>
                      <a:pt x="3934" y="0"/>
                    </a:lnTo>
                    <a:lnTo>
                      <a:pt x="3976" y="8"/>
                    </a:lnTo>
                    <a:close/>
                    <a:moveTo>
                      <a:pt x="1452" y="8"/>
                    </a:moveTo>
                    <a:lnTo>
                      <a:pt x="0" y="8"/>
                    </a:lnTo>
                    <a:lnTo>
                      <a:pt x="33" y="0"/>
                    </a:lnTo>
                    <a:lnTo>
                      <a:pt x="1418" y="0"/>
                    </a:lnTo>
                    <a:lnTo>
                      <a:pt x="1452" y="8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220400" y="1077840"/>
                <a:ext cx="667800" cy="1800"/>
              </a:xfrm>
              <a:custGeom>
                <a:avLst/>
                <a:gdLst/>
                <a:ahLst/>
                <a:rect l="l" t="t" r="r" b="b"/>
                <a:pathLst>
                  <a:path w="3943" h="9">
                    <a:moveTo>
                      <a:pt x="3943" y="9"/>
                    </a:moveTo>
                    <a:lnTo>
                      <a:pt x="2955" y="9"/>
                    </a:lnTo>
                    <a:lnTo>
                      <a:pt x="2981" y="0"/>
                    </a:lnTo>
                    <a:lnTo>
                      <a:pt x="3901" y="0"/>
                    </a:lnTo>
                    <a:lnTo>
                      <a:pt x="3943" y="9"/>
                    </a:lnTo>
                    <a:close/>
                    <a:moveTo>
                      <a:pt x="1419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1385" y="0"/>
                    </a:lnTo>
                    <a:lnTo>
                      <a:pt x="1419" y="9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223640" y="1077840"/>
                <a:ext cx="661320" cy="1800"/>
              </a:xfrm>
              <a:custGeom>
                <a:avLst/>
                <a:gdLst/>
                <a:ahLst/>
                <a:rect l="l" t="t" r="r" b="b"/>
                <a:pathLst>
                  <a:path w="3901" h="9">
                    <a:moveTo>
                      <a:pt x="3901" y="9"/>
                    </a:moveTo>
                    <a:lnTo>
                      <a:pt x="2955" y="9"/>
                    </a:lnTo>
                    <a:lnTo>
                      <a:pt x="2981" y="0"/>
                    </a:lnTo>
                    <a:lnTo>
                      <a:pt x="3859" y="0"/>
                    </a:lnTo>
                    <a:lnTo>
                      <a:pt x="3901" y="9"/>
                    </a:lnTo>
                    <a:close/>
                    <a:moveTo>
                      <a:pt x="1385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34" y="0"/>
                    </a:lnTo>
                    <a:lnTo>
                      <a:pt x="1351" y="0"/>
                    </a:lnTo>
                    <a:lnTo>
                      <a:pt x="1385" y="9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226520" y="1076400"/>
                <a:ext cx="655560" cy="1440"/>
              </a:xfrm>
              <a:custGeom>
                <a:avLst/>
                <a:gdLst/>
                <a:ahLst/>
                <a:rect l="l" t="t" r="r" b="b"/>
                <a:pathLst>
                  <a:path w="3867" h="8">
                    <a:moveTo>
                      <a:pt x="3867" y="8"/>
                    </a:moveTo>
                    <a:lnTo>
                      <a:pt x="2947" y="8"/>
                    </a:lnTo>
                    <a:lnTo>
                      <a:pt x="2972" y="0"/>
                    </a:lnTo>
                    <a:lnTo>
                      <a:pt x="3825" y="0"/>
                    </a:lnTo>
                    <a:lnTo>
                      <a:pt x="3867" y="8"/>
                    </a:lnTo>
                    <a:close/>
                    <a:moveTo>
                      <a:pt x="1351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42" y="0"/>
                    </a:lnTo>
                    <a:lnTo>
                      <a:pt x="1317" y="0"/>
                    </a:lnTo>
                    <a:lnTo>
                      <a:pt x="1351" y="8"/>
                    </a:lnTo>
                    <a:close/>
                  </a:path>
                </a:pathLst>
              </a:custGeom>
              <a:solidFill>
                <a:srgbClr val="d68b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228320" y="1076400"/>
                <a:ext cx="648720" cy="1440"/>
              </a:xfrm>
              <a:custGeom>
                <a:avLst/>
                <a:gdLst/>
                <a:ahLst/>
                <a:rect l="l" t="t" r="r" b="b"/>
                <a:pathLst>
                  <a:path w="3825" h="8">
                    <a:moveTo>
                      <a:pt x="3825" y="8"/>
                    </a:moveTo>
                    <a:lnTo>
                      <a:pt x="2947" y="8"/>
                    </a:lnTo>
                    <a:lnTo>
                      <a:pt x="2972" y="0"/>
                    </a:lnTo>
                    <a:lnTo>
                      <a:pt x="3782" y="0"/>
                    </a:lnTo>
                    <a:lnTo>
                      <a:pt x="3825" y="8"/>
                    </a:lnTo>
                    <a:close/>
                    <a:moveTo>
                      <a:pt x="1317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1283" y="0"/>
                    </a:lnTo>
                    <a:lnTo>
                      <a:pt x="1317" y="8"/>
                    </a:lnTo>
                    <a:close/>
                  </a:path>
                </a:pathLst>
              </a:custGeom>
              <a:solidFill>
                <a:srgbClr val="d6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233000" y="1074960"/>
                <a:ext cx="641160" cy="1440"/>
              </a:xfrm>
              <a:custGeom>
                <a:avLst/>
                <a:gdLst/>
                <a:ahLst/>
                <a:rect l="l" t="t" r="r" b="b"/>
                <a:pathLst>
                  <a:path w="3783" h="9">
                    <a:moveTo>
                      <a:pt x="3783" y="9"/>
                    </a:moveTo>
                    <a:lnTo>
                      <a:pt x="2930" y="9"/>
                    </a:lnTo>
                    <a:lnTo>
                      <a:pt x="2955" y="0"/>
                    </a:lnTo>
                    <a:lnTo>
                      <a:pt x="3740" y="0"/>
                    </a:lnTo>
                    <a:lnTo>
                      <a:pt x="3783" y="9"/>
                    </a:lnTo>
                    <a:close/>
                    <a:moveTo>
                      <a:pt x="1275" y="9"/>
                    </a:moveTo>
                    <a:lnTo>
                      <a:pt x="0" y="9"/>
                    </a:lnTo>
                    <a:lnTo>
                      <a:pt x="51" y="0"/>
                    </a:lnTo>
                    <a:lnTo>
                      <a:pt x="1241" y="0"/>
                    </a:lnTo>
                    <a:lnTo>
                      <a:pt x="1275" y="9"/>
                    </a:lnTo>
                    <a:close/>
                  </a:path>
                </a:pathLst>
              </a:custGeom>
              <a:solidFill>
                <a:srgbClr val="d6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237680" y="1073160"/>
                <a:ext cx="633240" cy="3240"/>
              </a:xfrm>
              <a:custGeom>
                <a:avLst/>
                <a:gdLst/>
                <a:ahLst/>
                <a:rect l="l" t="t" r="r" b="b"/>
                <a:pathLst>
                  <a:path w="3731" h="17">
                    <a:moveTo>
                      <a:pt x="3731" y="17"/>
                    </a:moveTo>
                    <a:lnTo>
                      <a:pt x="2921" y="17"/>
                    </a:lnTo>
                    <a:lnTo>
                      <a:pt x="2946" y="0"/>
                    </a:lnTo>
                    <a:lnTo>
                      <a:pt x="3698" y="0"/>
                    </a:lnTo>
                    <a:lnTo>
                      <a:pt x="3731" y="17"/>
                    </a:lnTo>
                    <a:close/>
                    <a:moveTo>
                      <a:pt x="1232" y="17"/>
                    </a:moveTo>
                    <a:lnTo>
                      <a:pt x="0" y="17"/>
                    </a:lnTo>
                    <a:lnTo>
                      <a:pt x="50" y="0"/>
                    </a:lnTo>
                    <a:lnTo>
                      <a:pt x="1199" y="0"/>
                    </a:lnTo>
                    <a:lnTo>
                      <a:pt x="1232" y="17"/>
                    </a:lnTo>
                    <a:close/>
                  </a:path>
                </a:pathLst>
              </a:custGeom>
              <a:solidFill>
                <a:srgbClr val="d68c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240920" y="1073160"/>
                <a:ext cx="626760" cy="1800"/>
              </a:xfrm>
              <a:custGeom>
                <a:avLst/>
                <a:gdLst/>
                <a:ahLst/>
                <a:rect l="l" t="t" r="r" b="b"/>
                <a:pathLst>
                  <a:path w="3689" h="8">
                    <a:moveTo>
                      <a:pt x="3689" y="8"/>
                    </a:moveTo>
                    <a:lnTo>
                      <a:pt x="2904" y="8"/>
                    </a:lnTo>
                    <a:lnTo>
                      <a:pt x="2930" y="0"/>
                    </a:lnTo>
                    <a:lnTo>
                      <a:pt x="2930" y="0"/>
                    </a:lnTo>
                    <a:lnTo>
                      <a:pt x="3647" y="0"/>
                    </a:lnTo>
                    <a:lnTo>
                      <a:pt x="3689" y="8"/>
                    </a:lnTo>
                    <a:close/>
                    <a:moveTo>
                      <a:pt x="1190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1148" y="0"/>
                    </a:lnTo>
                    <a:lnTo>
                      <a:pt x="1165" y="0"/>
                    </a:lnTo>
                    <a:lnTo>
                      <a:pt x="1190" y="8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45600" y="1071720"/>
                <a:ext cx="618840" cy="1440"/>
              </a:xfrm>
              <a:custGeom>
                <a:avLst/>
                <a:gdLst/>
                <a:ahLst/>
                <a:rect l="l" t="t" r="r" b="b"/>
                <a:pathLst>
                  <a:path w="3648" h="9">
                    <a:moveTo>
                      <a:pt x="3648" y="9"/>
                    </a:moveTo>
                    <a:lnTo>
                      <a:pt x="2896" y="9"/>
                    </a:lnTo>
                    <a:lnTo>
                      <a:pt x="2905" y="9"/>
                    </a:lnTo>
                    <a:lnTo>
                      <a:pt x="2922" y="0"/>
                    </a:lnTo>
                    <a:lnTo>
                      <a:pt x="3605" y="0"/>
                    </a:lnTo>
                    <a:lnTo>
                      <a:pt x="3648" y="9"/>
                    </a:lnTo>
                    <a:close/>
                    <a:moveTo>
                      <a:pt x="1149" y="9"/>
                    </a:moveTo>
                    <a:lnTo>
                      <a:pt x="0" y="9"/>
                    </a:lnTo>
                    <a:lnTo>
                      <a:pt x="43" y="0"/>
                    </a:lnTo>
                    <a:lnTo>
                      <a:pt x="1098" y="0"/>
                    </a:lnTo>
                    <a:lnTo>
                      <a:pt x="1140" y="9"/>
                    </a:lnTo>
                    <a:lnTo>
                      <a:pt x="1149" y="9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50280" y="1071720"/>
                <a:ext cx="609480" cy="1440"/>
              </a:xfrm>
              <a:custGeom>
                <a:avLst/>
                <a:gdLst/>
                <a:ahLst/>
                <a:rect l="l" t="t" r="r" b="b"/>
                <a:pathLst>
                  <a:path w="3596" h="9">
                    <a:moveTo>
                      <a:pt x="3596" y="9"/>
                    </a:moveTo>
                    <a:lnTo>
                      <a:pt x="2879" y="9"/>
                    </a:lnTo>
                    <a:lnTo>
                      <a:pt x="2921" y="0"/>
                    </a:lnTo>
                    <a:lnTo>
                      <a:pt x="3554" y="0"/>
                    </a:lnTo>
                    <a:lnTo>
                      <a:pt x="3571" y="0"/>
                    </a:lnTo>
                    <a:lnTo>
                      <a:pt x="3596" y="9"/>
                    </a:lnTo>
                    <a:close/>
                    <a:moveTo>
                      <a:pt x="1097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1047" y="0"/>
                    </a:lnTo>
                    <a:lnTo>
                      <a:pt x="1097" y="9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253520" y="1069920"/>
                <a:ext cx="603000" cy="1800"/>
              </a:xfrm>
              <a:custGeom>
                <a:avLst/>
                <a:gdLst/>
                <a:ahLst/>
                <a:rect l="l" t="t" r="r" b="b"/>
                <a:pathLst>
                  <a:path w="3562" h="8">
                    <a:moveTo>
                      <a:pt x="3562" y="8"/>
                    </a:moveTo>
                    <a:lnTo>
                      <a:pt x="2879" y="8"/>
                    </a:lnTo>
                    <a:lnTo>
                      <a:pt x="2921" y="0"/>
                    </a:lnTo>
                    <a:lnTo>
                      <a:pt x="3512" y="0"/>
                    </a:lnTo>
                    <a:lnTo>
                      <a:pt x="3554" y="8"/>
                    </a:lnTo>
                    <a:lnTo>
                      <a:pt x="3562" y="8"/>
                    </a:lnTo>
                    <a:close/>
                    <a:moveTo>
                      <a:pt x="1055" y="8"/>
                    </a:moveTo>
                    <a:lnTo>
                      <a:pt x="0" y="8"/>
                    </a:lnTo>
                    <a:lnTo>
                      <a:pt x="50" y="0"/>
                    </a:lnTo>
                    <a:lnTo>
                      <a:pt x="1004" y="0"/>
                    </a:lnTo>
                    <a:lnTo>
                      <a:pt x="1055" y="8"/>
                    </a:lnTo>
                    <a:close/>
                  </a:path>
                </a:pathLst>
              </a:custGeom>
              <a:solidFill>
                <a:srgbClr val="d7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256760" y="1069920"/>
                <a:ext cx="596520" cy="1800"/>
              </a:xfrm>
              <a:custGeom>
                <a:avLst/>
                <a:gdLst/>
                <a:ahLst/>
                <a:rect l="l" t="t" r="r" b="b"/>
                <a:pathLst>
                  <a:path w="3512" h="8">
                    <a:moveTo>
                      <a:pt x="3512" y="8"/>
                    </a:moveTo>
                    <a:lnTo>
                      <a:pt x="2879" y="8"/>
                    </a:lnTo>
                    <a:lnTo>
                      <a:pt x="2913" y="0"/>
                    </a:lnTo>
                    <a:lnTo>
                      <a:pt x="3470" y="0"/>
                    </a:lnTo>
                    <a:lnTo>
                      <a:pt x="3512" y="8"/>
                    </a:lnTo>
                    <a:close/>
                    <a:moveTo>
                      <a:pt x="1005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954" y="0"/>
                    </a:lnTo>
                    <a:lnTo>
                      <a:pt x="1005" y="8"/>
                    </a:lnTo>
                    <a:close/>
                  </a:path>
                </a:pathLst>
              </a:custGeom>
              <a:solidFill>
                <a:srgbClr val="d8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261440" y="1068480"/>
                <a:ext cx="587160" cy="1440"/>
              </a:xfrm>
              <a:custGeom>
                <a:avLst/>
                <a:gdLst/>
                <a:ahLst/>
                <a:rect l="l" t="t" r="r" b="b"/>
                <a:pathLst>
                  <a:path w="3462" h="8">
                    <a:moveTo>
                      <a:pt x="3462" y="8"/>
                    </a:moveTo>
                    <a:lnTo>
                      <a:pt x="2871" y="8"/>
                    </a:lnTo>
                    <a:lnTo>
                      <a:pt x="2905" y="0"/>
                    </a:lnTo>
                    <a:lnTo>
                      <a:pt x="3420" y="0"/>
                    </a:lnTo>
                    <a:lnTo>
                      <a:pt x="3462" y="8"/>
                    </a:lnTo>
                    <a:close/>
                    <a:moveTo>
                      <a:pt x="954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895" y="0"/>
                    </a:lnTo>
                    <a:lnTo>
                      <a:pt x="954" y="8"/>
                    </a:lnTo>
                    <a:close/>
                  </a:path>
                </a:pathLst>
              </a:custGeom>
              <a:solidFill>
                <a:srgbClr val="d8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266480" y="1068480"/>
                <a:ext cx="578880" cy="1440"/>
              </a:xfrm>
              <a:custGeom>
                <a:avLst/>
                <a:gdLst/>
                <a:ahLst/>
                <a:rect l="l" t="t" r="r" b="b"/>
                <a:pathLst>
                  <a:path w="3419" h="8">
                    <a:moveTo>
                      <a:pt x="3419" y="8"/>
                    </a:moveTo>
                    <a:lnTo>
                      <a:pt x="2862" y="8"/>
                    </a:lnTo>
                    <a:lnTo>
                      <a:pt x="2895" y="0"/>
                    </a:lnTo>
                    <a:lnTo>
                      <a:pt x="3368" y="0"/>
                    </a:lnTo>
                    <a:lnTo>
                      <a:pt x="3419" y="8"/>
                    </a:lnTo>
                    <a:close/>
                    <a:moveTo>
                      <a:pt x="903" y="8"/>
                    </a:moveTo>
                    <a:lnTo>
                      <a:pt x="0" y="8"/>
                    </a:lnTo>
                    <a:lnTo>
                      <a:pt x="42" y="0"/>
                    </a:lnTo>
                    <a:lnTo>
                      <a:pt x="844" y="0"/>
                    </a:lnTo>
                    <a:lnTo>
                      <a:pt x="903" y="8"/>
                    </a:lnTo>
                    <a:close/>
                  </a:path>
                </a:pathLst>
              </a:custGeom>
              <a:solidFill>
                <a:srgbClr val="d88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271160" y="1066680"/>
                <a:ext cx="570960" cy="1800"/>
              </a:xfrm>
              <a:custGeom>
                <a:avLst/>
                <a:gdLst/>
                <a:ahLst/>
                <a:rect l="l" t="t" r="r" b="b"/>
                <a:pathLst>
                  <a:path w="3369" h="9">
                    <a:moveTo>
                      <a:pt x="3369" y="9"/>
                    </a:moveTo>
                    <a:lnTo>
                      <a:pt x="2854" y="9"/>
                    </a:lnTo>
                    <a:lnTo>
                      <a:pt x="2896" y="0"/>
                    </a:lnTo>
                    <a:lnTo>
                      <a:pt x="3318" y="0"/>
                    </a:lnTo>
                    <a:lnTo>
                      <a:pt x="3369" y="9"/>
                    </a:lnTo>
                    <a:close/>
                    <a:moveTo>
                      <a:pt x="844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794" y="0"/>
                    </a:lnTo>
                    <a:lnTo>
                      <a:pt x="844" y="9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72600" y="1066680"/>
                <a:ext cx="564840" cy="1800"/>
              </a:xfrm>
              <a:custGeom>
                <a:avLst/>
                <a:gdLst/>
                <a:ahLst/>
                <a:rect l="l" t="t" r="r" b="b"/>
                <a:pathLst>
                  <a:path w="3326" h="9">
                    <a:moveTo>
                      <a:pt x="3326" y="9"/>
                    </a:moveTo>
                    <a:lnTo>
                      <a:pt x="2853" y="9"/>
                    </a:lnTo>
                    <a:lnTo>
                      <a:pt x="2896" y="0"/>
                    </a:lnTo>
                    <a:lnTo>
                      <a:pt x="3276" y="0"/>
                    </a:lnTo>
                    <a:lnTo>
                      <a:pt x="3276" y="0"/>
                    </a:lnTo>
                    <a:lnTo>
                      <a:pt x="3326" y="9"/>
                    </a:lnTo>
                    <a:close/>
                    <a:moveTo>
                      <a:pt x="802" y="9"/>
                    </a:moveTo>
                    <a:lnTo>
                      <a:pt x="0" y="9"/>
                    </a:lnTo>
                    <a:lnTo>
                      <a:pt x="50" y="0"/>
                    </a:lnTo>
                    <a:lnTo>
                      <a:pt x="751" y="0"/>
                    </a:lnTo>
                    <a:lnTo>
                      <a:pt x="802" y="9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77280" y="1065240"/>
                <a:ext cx="555480" cy="1440"/>
              </a:xfrm>
              <a:custGeom>
                <a:avLst/>
                <a:gdLst/>
                <a:ahLst/>
                <a:rect l="l" t="t" r="r" b="b"/>
                <a:pathLst>
                  <a:path w="3276" h="8">
                    <a:moveTo>
                      <a:pt x="3276" y="8"/>
                    </a:moveTo>
                    <a:lnTo>
                      <a:pt x="2854" y="8"/>
                    </a:lnTo>
                    <a:lnTo>
                      <a:pt x="2888" y="0"/>
                    </a:lnTo>
                    <a:lnTo>
                      <a:pt x="3208" y="0"/>
                    </a:lnTo>
                    <a:lnTo>
                      <a:pt x="3251" y="8"/>
                    </a:lnTo>
                    <a:lnTo>
                      <a:pt x="3276" y="8"/>
                    </a:lnTo>
                    <a:close/>
                    <a:moveTo>
                      <a:pt x="752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701" y="0"/>
                    </a:lnTo>
                    <a:lnTo>
                      <a:pt x="752" y="8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82320" y="1063800"/>
                <a:ext cx="545760" cy="2880"/>
              </a:xfrm>
              <a:custGeom>
                <a:avLst/>
                <a:gdLst/>
                <a:ahLst/>
                <a:rect l="l" t="t" r="r" b="b"/>
                <a:pathLst>
                  <a:path w="3226" h="17">
                    <a:moveTo>
                      <a:pt x="3226" y="17"/>
                    </a:moveTo>
                    <a:lnTo>
                      <a:pt x="2846" y="17"/>
                    </a:lnTo>
                    <a:lnTo>
                      <a:pt x="2888" y="0"/>
                    </a:lnTo>
                    <a:lnTo>
                      <a:pt x="3150" y="0"/>
                    </a:lnTo>
                    <a:lnTo>
                      <a:pt x="3226" y="17"/>
                    </a:lnTo>
                    <a:close/>
                    <a:moveTo>
                      <a:pt x="701" y="17"/>
                    </a:moveTo>
                    <a:lnTo>
                      <a:pt x="0" y="17"/>
                    </a:lnTo>
                    <a:lnTo>
                      <a:pt x="34" y="0"/>
                    </a:lnTo>
                    <a:lnTo>
                      <a:pt x="60" y="0"/>
                    </a:lnTo>
                    <a:lnTo>
                      <a:pt x="642" y="0"/>
                    </a:lnTo>
                    <a:lnTo>
                      <a:pt x="701" y="17"/>
                    </a:lnTo>
                    <a:close/>
                  </a:path>
                </a:pathLst>
              </a:custGeom>
              <a:solidFill>
                <a:srgbClr val="da8e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285200" y="1063800"/>
                <a:ext cx="536400" cy="1440"/>
              </a:xfrm>
              <a:custGeom>
                <a:avLst/>
                <a:gdLst/>
                <a:ahLst/>
                <a:rect l="l" t="t" r="r" b="b"/>
                <a:pathLst>
                  <a:path w="3157" h="9">
                    <a:moveTo>
                      <a:pt x="3157" y="9"/>
                    </a:moveTo>
                    <a:lnTo>
                      <a:pt x="2837" y="9"/>
                    </a:lnTo>
                    <a:lnTo>
                      <a:pt x="2870" y="0"/>
                    </a:lnTo>
                    <a:lnTo>
                      <a:pt x="2887" y="0"/>
                    </a:lnTo>
                    <a:lnTo>
                      <a:pt x="3081" y="0"/>
                    </a:lnTo>
                    <a:lnTo>
                      <a:pt x="3157" y="9"/>
                    </a:lnTo>
                    <a:close/>
                    <a:moveTo>
                      <a:pt x="650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101" y="0"/>
                    </a:lnTo>
                    <a:lnTo>
                      <a:pt x="549" y="0"/>
                    </a:lnTo>
                    <a:lnTo>
                      <a:pt x="616" y="0"/>
                    </a:lnTo>
                    <a:lnTo>
                      <a:pt x="650" y="9"/>
                    </a:lnTo>
                    <a:close/>
                  </a:path>
                </a:pathLst>
              </a:custGeom>
              <a:solidFill>
                <a:srgbClr val="db8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291680" y="1062000"/>
                <a:ext cx="523440" cy="1800"/>
              </a:xfrm>
              <a:custGeom>
                <a:avLst/>
                <a:gdLst/>
                <a:ahLst/>
                <a:rect l="l" t="t" r="r" b="b"/>
                <a:pathLst>
                  <a:path w="3090" h="8">
                    <a:moveTo>
                      <a:pt x="3090" y="8"/>
                    </a:moveTo>
                    <a:lnTo>
                      <a:pt x="2828" y="8"/>
                    </a:lnTo>
                    <a:lnTo>
                      <a:pt x="2836" y="8"/>
                    </a:lnTo>
                    <a:lnTo>
                      <a:pt x="2921" y="0"/>
                    </a:lnTo>
                    <a:lnTo>
                      <a:pt x="3005" y="0"/>
                    </a:lnTo>
                    <a:lnTo>
                      <a:pt x="3090" y="8"/>
                    </a:lnTo>
                    <a:close/>
                    <a:moveTo>
                      <a:pt x="582" y="8"/>
                    </a:moveTo>
                    <a:lnTo>
                      <a:pt x="0" y="8"/>
                    </a:lnTo>
                    <a:lnTo>
                      <a:pt x="143" y="0"/>
                    </a:lnTo>
                    <a:lnTo>
                      <a:pt x="439" y="0"/>
                    </a:lnTo>
                    <a:lnTo>
                      <a:pt x="582" y="8"/>
                    </a:lnTo>
                    <a:close/>
                  </a:path>
                </a:pathLst>
              </a:custGeom>
              <a:solidFill>
                <a:srgbClr val="db8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2840" y="1062000"/>
                <a:ext cx="506160" cy="1800"/>
              </a:xfrm>
              <a:custGeom>
                <a:avLst/>
                <a:gdLst/>
                <a:ahLst/>
                <a:rect l="l" t="t" r="r" b="b"/>
                <a:pathLst>
                  <a:path w="2980" h="8">
                    <a:moveTo>
                      <a:pt x="2980" y="8"/>
                    </a:moveTo>
                    <a:lnTo>
                      <a:pt x="2786" y="8"/>
                    </a:lnTo>
                    <a:lnTo>
                      <a:pt x="2904" y="0"/>
                    </a:lnTo>
                    <a:lnTo>
                      <a:pt x="2980" y="8"/>
                    </a:lnTo>
                    <a:close/>
                    <a:moveTo>
                      <a:pt x="448" y="8"/>
                    </a:moveTo>
                    <a:lnTo>
                      <a:pt x="0" y="8"/>
                    </a:lnTo>
                    <a:lnTo>
                      <a:pt x="144" y="0"/>
                    </a:lnTo>
                    <a:lnTo>
                      <a:pt x="296" y="0"/>
                    </a:lnTo>
                    <a:lnTo>
                      <a:pt x="448" y="8"/>
                    </a:lnTo>
                    <a:close/>
                  </a:path>
                </a:pathLst>
              </a:custGeom>
              <a:solidFill>
                <a:srgbClr val="db8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5440" y="1060560"/>
                <a:ext cx="485640" cy="1440"/>
              </a:xfrm>
              <a:custGeom>
                <a:avLst/>
                <a:gdLst/>
                <a:ahLst/>
                <a:rect l="l" t="t" r="r" b="b"/>
                <a:pathLst>
                  <a:path w="2862" h="9">
                    <a:moveTo>
                      <a:pt x="2862" y="9"/>
                    </a:moveTo>
                    <a:lnTo>
                      <a:pt x="2778" y="9"/>
                    </a:lnTo>
                    <a:lnTo>
                      <a:pt x="2828" y="9"/>
                    </a:lnTo>
                    <a:lnTo>
                      <a:pt x="2862" y="9"/>
                    </a:lnTo>
                    <a:close/>
                    <a:moveTo>
                      <a:pt x="296" y="9"/>
                    </a:moveTo>
                    <a:lnTo>
                      <a:pt x="0" y="9"/>
                    </a:lnTo>
                    <a:lnTo>
                      <a:pt x="144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dc8d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28400" y="106056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52" h="9">
                    <a:moveTo>
                      <a:pt x="152" y="9"/>
                    </a:moveTo>
                    <a:lnTo>
                      <a:pt x="0" y="9"/>
                    </a:lnTo>
                    <a:lnTo>
                      <a:pt x="76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dd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852480" y="1060560"/>
                <a:ext cx="1236240" cy="223920"/>
              </a:xfrm>
              <a:custGeom>
                <a:avLst/>
                <a:gdLst/>
                <a:ahLst/>
                <a:rect l="l" t="t" r="r" b="b"/>
                <a:pathLst>
                  <a:path w="7286" h="1224">
                    <a:moveTo>
                      <a:pt x="160" y="591"/>
                    </a:moveTo>
                    <a:lnTo>
                      <a:pt x="76" y="591"/>
                    </a:lnTo>
                    <a:lnTo>
                      <a:pt x="33" y="591"/>
                    </a:lnTo>
                    <a:lnTo>
                      <a:pt x="0" y="608"/>
                    </a:lnTo>
                    <a:lnTo>
                      <a:pt x="0" y="659"/>
                    </a:lnTo>
                    <a:lnTo>
                      <a:pt x="8" y="684"/>
                    </a:lnTo>
                    <a:lnTo>
                      <a:pt x="42" y="726"/>
                    </a:lnTo>
                    <a:lnTo>
                      <a:pt x="118" y="785"/>
                    </a:lnTo>
                    <a:lnTo>
                      <a:pt x="278" y="819"/>
                    </a:lnTo>
                    <a:lnTo>
                      <a:pt x="430" y="828"/>
                    </a:lnTo>
                    <a:lnTo>
                      <a:pt x="591" y="828"/>
                    </a:lnTo>
                    <a:lnTo>
                      <a:pt x="861" y="811"/>
                    </a:lnTo>
                    <a:lnTo>
                      <a:pt x="1283" y="769"/>
                    </a:lnTo>
                    <a:lnTo>
                      <a:pt x="2161" y="743"/>
                    </a:lnTo>
                    <a:lnTo>
                      <a:pt x="2406" y="743"/>
                    </a:lnTo>
                    <a:lnTo>
                      <a:pt x="2634" y="769"/>
                    </a:lnTo>
                    <a:lnTo>
                      <a:pt x="3031" y="861"/>
                    </a:lnTo>
                    <a:lnTo>
                      <a:pt x="3284" y="946"/>
                    </a:lnTo>
                    <a:lnTo>
                      <a:pt x="3537" y="1047"/>
                    </a:lnTo>
                    <a:lnTo>
                      <a:pt x="3740" y="1132"/>
                    </a:lnTo>
                    <a:lnTo>
                      <a:pt x="4001" y="1208"/>
                    </a:lnTo>
                    <a:lnTo>
                      <a:pt x="4162" y="1224"/>
                    </a:lnTo>
                    <a:lnTo>
                      <a:pt x="4305" y="1224"/>
                    </a:lnTo>
                    <a:lnTo>
                      <a:pt x="4415" y="1208"/>
                    </a:lnTo>
                    <a:lnTo>
                      <a:pt x="4652" y="1140"/>
                    </a:lnTo>
                    <a:lnTo>
                      <a:pt x="4880" y="1064"/>
                    </a:lnTo>
                    <a:lnTo>
                      <a:pt x="5496" y="861"/>
                    </a:lnTo>
                    <a:lnTo>
                      <a:pt x="6078" y="693"/>
                    </a:lnTo>
                    <a:lnTo>
                      <a:pt x="6281" y="642"/>
                    </a:lnTo>
                    <a:lnTo>
                      <a:pt x="6602" y="566"/>
                    </a:lnTo>
                    <a:lnTo>
                      <a:pt x="6813" y="541"/>
                    </a:lnTo>
                    <a:lnTo>
                      <a:pt x="7100" y="515"/>
                    </a:lnTo>
                    <a:lnTo>
                      <a:pt x="7235" y="482"/>
                    </a:lnTo>
                    <a:lnTo>
                      <a:pt x="7269" y="465"/>
                    </a:lnTo>
                    <a:lnTo>
                      <a:pt x="7286" y="448"/>
                    </a:lnTo>
                    <a:lnTo>
                      <a:pt x="7286" y="422"/>
                    </a:lnTo>
                    <a:lnTo>
                      <a:pt x="7277" y="397"/>
                    </a:lnTo>
                    <a:lnTo>
                      <a:pt x="7252" y="380"/>
                    </a:lnTo>
                    <a:lnTo>
                      <a:pt x="7142" y="355"/>
                    </a:lnTo>
                    <a:lnTo>
                      <a:pt x="7032" y="338"/>
                    </a:lnTo>
                    <a:lnTo>
                      <a:pt x="6923" y="313"/>
                    </a:lnTo>
                    <a:lnTo>
                      <a:pt x="6213" y="127"/>
                    </a:lnTo>
                    <a:lnTo>
                      <a:pt x="5918" y="59"/>
                    </a:lnTo>
                    <a:lnTo>
                      <a:pt x="5758" y="34"/>
                    </a:lnTo>
                    <a:lnTo>
                      <a:pt x="5563" y="9"/>
                    </a:lnTo>
                    <a:lnTo>
                      <a:pt x="5428" y="17"/>
                    </a:lnTo>
                    <a:lnTo>
                      <a:pt x="5226" y="68"/>
                    </a:lnTo>
                    <a:lnTo>
                      <a:pt x="4778" y="237"/>
                    </a:lnTo>
                    <a:lnTo>
                      <a:pt x="4601" y="304"/>
                    </a:lnTo>
                    <a:lnTo>
                      <a:pt x="4516" y="338"/>
                    </a:lnTo>
                    <a:lnTo>
                      <a:pt x="4432" y="355"/>
                    </a:lnTo>
                    <a:lnTo>
                      <a:pt x="4348" y="338"/>
                    </a:lnTo>
                    <a:lnTo>
                      <a:pt x="4238" y="313"/>
                    </a:lnTo>
                    <a:lnTo>
                      <a:pt x="3892" y="194"/>
                    </a:lnTo>
                    <a:lnTo>
                      <a:pt x="3630" y="118"/>
                    </a:lnTo>
                    <a:lnTo>
                      <a:pt x="3461" y="68"/>
                    </a:lnTo>
                    <a:lnTo>
                      <a:pt x="3174" y="17"/>
                    </a:lnTo>
                    <a:lnTo>
                      <a:pt x="2879" y="0"/>
                    </a:lnTo>
                    <a:lnTo>
                      <a:pt x="2566" y="17"/>
                    </a:lnTo>
                    <a:lnTo>
                      <a:pt x="2203" y="93"/>
                    </a:lnTo>
                    <a:lnTo>
                      <a:pt x="1671" y="245"/>
                    </a:lnTo>
                    <a:lnTo>
                      <a:pt x="1106" y="397"/>
                    </a:lnTo>
                    <a:lnTo>
                      <a:pt x="439" y="549"/>
                    </a:lnTo>
                    <a:lnTo>
                      <a:pt x="295" y="566"/>
                    </a:lnTo>
                    <a:lnTo>
                      <a:pt x="160" y="591"/>
                    </a:lnTo>
                    <a:close/>
                  </a:path>
                </a:pathLst>
              </a:custGeom>
              <a:noFill/>
              <a:ln w="1440">
                <a:solidFill>
                  <a:srgbClr val="3437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80760" y="174456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0" y="0"/>
                    </a:moveTo>
                    <a:lnTo>
                      <a:pt x="68" y="0"/>
                    </a:lnTo>
                    <a:lnTo>
                      <a:pt x="25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7520" y="1744560"/>
                <a:ext cx="20160" cy="1800"/>
              </a:xfrm>
              <a:custGeom>
                <a:avLst/>
                <a:gdLst/>
                <a:ahLst/>
                <a:rect l="l" t="t" r="r" b="b"/>
                <a:pathLst>
                  <a:path w="126" h="8">
                    <a:moveTo>
                      <a:pt x="0" y="0"/>
                    </a:moveTo>
                    <a:lnTo>
                      <a:pt x="126" y="0"/>
                    </a:lnTo>
                    <a:lnTo>
                      <a:pt x="118" y="0"/>
                    </a:lnTo>
                    <a:lnTo>
                      <a:pt x="5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574280" y="1744560"/>
                <a:ext cx="26640" cy="1800"/>
              </a:xfrm>
              <a:custGeom>
                <a:avLst/>
                <a:gdLst/>
                <a:ahLst/>
                <a:rect l="l" t="t" r="r" b="b"/>
                <a:pathLst>
                  <a:path w="160" h="0">
                    <a:moveTo>
                      <a:pt x="110" y="0"/>
                    </a:moveTo>
                    <a:lnTo>
                      <a:pt x="42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572840" y="1743120"/>
                <a:ext cx="32760" cy="1440"/>
              </a:xfrm>
              <a:custGeom>
                <a:avLst/>
                <a:gdLst/>
                <a:ahLst/>
                <a:rect l="l" t="t" r="r" b="b"/>
                <a:pathLst>
                  <a:path w="195" h="9">
                    <a:moveTo>
                      <a:pt x="152" y="9"/>
                    </a:moveTo>
                    <a:lnTo>
                      <a:pt x="26" y="9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195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571040" y="174312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219" h="9">
                    <a:moveTo>
                      <a:pt x="177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219" y="0"/>
                    </a:lnTo>
                    <a:lnTo>
                      <a:pt x="17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569600" y="1743120"/>
                <a:ext cx="40680" cy="1440"/>
              </a:xfrm>
              <a:custGeom>
                <a:avLst/>
                <a:gdLst/>
                <a:ahLst/>
                <a:rect l="l" t="t" r="r" b="b"/>
                <a:pathLst>
                  <a:path w="245" h="0">
                    <a:moveTo>
                      <a:pt x="212" y="0"/>
                    </a:moveTo>
                    <a:lnTo>
                      <a:pt x="17" y="0"/>
                    </a:lnTo>
                    <a:lnTo>
                      <a:pt x="0" y="0"/>
                    </a:lnTo>
                    <a:lnTo>
                      <a:pt x="245" y="0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567800" y="1741680"/>
                <a:ext cx="45720" cy="1440"/>
              </a:xfrm>
              <a:custGeom>
                <a:avLst/>
                <a:gdLst/>
                <a:ahLst/>
                <a:rect l="l" t="t" r="r" b="b"/>
                <a:pathLst>
                  <a:path w="270" h="8">
                    <a:moveTo>
                      <a:pt x="236" y="8"/>
                    </a:moveTo>
                    <a:lnTo>
                      <a:pt x="17" y="8"/>
                    </a:lnTo>
                    <a:lnTo>
                      <a:pt x="0" y="0"/>
                    </a:lnTo>
                    <a:lnTo>
                      <a:pt x="270" y="0"/>
                    </a:lnTo>
                    <a:lnTo>
                      <a:pt x="270" y="0"/>
                    </a:lnTo>
                    <a:lnTo>
                      <a:pt x="23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66360" y="1741680"/>
                <a:ext cx="48960" cy="1440"/>
              </a:xfrm>
              <a:custGeom>
                <a:avLst/>
                <a:gdLst/>
                <a:ahLst/>
                <a:rect l="l" t="t" r="r" b="b"/>
                <a:pathLst>
                  <a:path w="287" h="8">
                    <a:moveTo>
                      <a:pt x="261" y="8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287" y="0"/>
                    </a:lnTo>
                    <a:lnTo>
                      <a:pt x="278" y="0"/>
                    </a:lnTo>
                    <a:lnTo>
                      <a:pt x="26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564920" y="1739880"/>
                <a:ext cx="53640" cy="1800"/>
              </a:xfrm>
              <a:custGeom>
                <a:avLst/>
                <a:gdLst/>
                <a:ahLst/>
                <a:rect l="l" t="t" r="r" b="b"/>
                <a:pathLst>
                  <a:path w="312" h="9">
                    <a:moveTo>
                      <a:pt x="287" y="9"/>
                    </a:moveTo>
                    <a:lnTo>
                      <a:pt x="17" y="9"/>
                    </a:lnTo>
                    <a:lnTo>
                      <a:pt x="0" y="0"/>
                    </a:lnTo>
                    <a:lnTo>
                      <a:pt x="312" y="0"/>
                    </a:lnTo>
                    <a:lnTo>
                      <a:pt x="28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564920" y="1739880"/>
                <a:ext cx="55080" cy="1800"/>
              </a:xfrm>
              <a:custGeom>
                <a:avLst/>
                <a:gdLst/>
                <a:ahLst/>
                <a:rect l="l" t="t" r="r" b="b"/>
                <a:pathLst>
                  <a:path w="321" h="9">
                    <a:moveTo>
                      <a:pt x="296" y="9"/>
                    </a:moveTo>
                    <a:lnTo>
                      <a:pt x="9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21" y="0"/>
                    </a:lnTo>
                    <a:lnTo>
                      <a:pt x="29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564920" y="1739880"/>
                <a:ext cx="56520" cy="1800"/>
              </a:xfrm>
              <a:custGeom>
                <a:avLst/>
                <a:gdLst/>
                <a:ahLst/>
                <a:rect l="l" t="t" r="r" b="b"/>
                <a:pathLst>
                  <a:path w="337" h="0">
                    <a:moveTo>
                      <a:pt x="320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337" y="0"/>
                    </a:lnTo>
                    <a:lnTo>
                      <a:pt x="3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564920" y="1738440"/>
                <a:ext cx="56520" cy="1440"/>
              </a:xfrm>
              <a:custGeom>
                <a:avLst/>
                <a:gdLst/>
                <a:ahLst/>
                <a:rect l="l" t="t" r="r" b="b"/>
                <a:pathLst>
                  <a:path w="346" h="8">
                    <a:moveTo>
                      <a:pt x="329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346" y="0"/>
                    </a:lnTo>
                    <a:lnTo>
                      <a:pt x="32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564920" y="1738440"/>
                <a:ext cx="58320" cy="1440"/>
              </a:xfrm>
              <a:custGeom>
                <a:avLst/>
                <a:gdLst/>
                <a:ahLst/>
                <a:rect l="l" t="t" r="r" b="b"/>
                <a:pathLst>
                  <a:path w="354" h="8">
                    <a:moveTo>
                      <a:pt x="337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54" y="0"/>
                    </a:lnTo>
                    <a:lnTo>
                      <a:pt x="33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563120" y="1738440"/>
                <a:ext cx="63360" cy="1440"/>
              </a:xfrm>
              <a:custGeom>
                <a:avLst/>
                <a:gdLst/>
                <a:ahLst/>
                <a:rect l="l" t="t" r="r" b="b"/>
                <a:pathLst>
                  <a:path w="380" h="0">
                    <a:moveTo>
                      <a:pt x="355" y="0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380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563120" y="1736640"/>
                <a:ext cx="64800" cy="1800"/>
              </a:xfrm>
              <a:custGeom>
                <a:avLst/>
                <a:gdLst/>
                <a:ahLst/>
                <a:rect l="l" t="t" r="r" b="b"/>
                <a:pathLst>
                  <a:path w="389" h="8">
                    <a:moveTo>
                      <a:pt x="363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389" y="0"/>
                    </a:lnTo>
                    <a:lnTo>
                      <a:pt x="36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563120" y="1736640"/>
                <a:ext cx="66240" cy="1800"/>
              </a:xfrm>
              <a:custGeom>
                <a:avLst/>
                <a:gdLst/>
                <a:ahLst/>
                <a:rect l="l" t="t" r="r" b="b"/>
                <a:pathLst>
                  <a:path w="397" h="8">
                    <a:moveTo>
                      <a:pt x="38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397" y="0"/>
                    </a:lnTo>
                    <a:lnTo>
                      <a:pt x="38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561680" y="1736640"/>
                <a:ext cx="69480" cy="1800"/>
              </a:xfrm>
              <a:custGeom>
                <a:avLst/>
                <a:gdLst/>
                <a:ahLst/>
                <a:rect l="l" t="t" r="r" b="b"/>
                <a:pathLst>
                  <a:path w="413" h="0">
                    <a:moveTo>
                      <a:pt x="397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413" y="0"/>
                    </a:lnTo>
                    <a:lnTo>
                      <a:pt x="39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561680" y="1735200"/>
                <a:ext cx="70920" cy="1440"/>
              </a:xfrm>
              <a:custGeom>
                <a:avLst/>
                <a:gdLst/>
                <a:ahLst/>
                <a:rect l="l" t="t" r="r" b="b"/>
                <a:pathLst>
                  <a:path w="422" h="9">
                    <a:moveTo>
                      <a:pt x="405" y="9"/>
                    </a:moveTo>
                    <a:lnTo>
                      <a:pt x="8" y="9"/>
                    </a:lnTo>
                    <a:lnTo>
                      <a:pt x="0" y="0"/>
                    </a:lnTo>
                    <a:lnTo>
                      <a:pt x="422" y="0"/>
                    </a:lnTo>
                    <a:lnTo>
                      <a:pt x="40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561680" y="1735200"/>
                <a:ext cx="74160" cy="1440"/>
              </a:xfrm>
              <a:custGeom>
                <a:avLst/>
                <a:gdLst/>
                <a:ahLst/>
                <a:rect l="l" t="t" r="r" b="b"/>
                <a:pathLst>
                  <a:path w="439" h="9">
                    <a:moveTo>
                      <a:pt x="413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439" y="0"/>
                    </a:lnTo>
                    <a:lnTo>
                      <a:pt x="41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559880" y="1733760"/>
                <a:ext cx="75960" cy="1440"/>
              </a:xfrm>
              <a:custGeom>
                <a:avLst/>
                <a:gdLst/>
                <a:ahLst/>
                <a:rect l="l" t="t" r="r" b="b"/>
                <a:pathLst>
                  <a:path w="448" h="8">
                    <a:moveTo>
                      <a:pt x="431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8"/>
                    </a:lnTo>
                    <a:lnTo>
                      <a:pt x="43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559880" y="1733760"/>
                <a:ext cx="75960" cy="1440"/>
              </a:xfrm>
              <a:custGeom>
                <a:avLst/>
                <a:gdLst/>
                <a:ahLst/>
                <a:rect l="l" t="t" r="r" b="b"/>
                <a:pathLst>
                  <a:path w="456" h="8">
                    <a:moveTo>
                      <a:pt x="448" y="8"/>
                    </a:moveTo>
                    <a:lnTo>
                      <a:pt x="9" y="8"/>
                    </a:lnTo>
                    <a:lnTo>
                      <a:pt x="0" y="0"/>
                    </a:lnTo>
                    <a:lnTo>
                      <a:pt x="456" y="0"/>
                    </a:lnTo>
                    <a:lnTo>
                      <a:pt x="44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559880" y="1733760"/>
                <a:ext cx="77400" cy="1440"/>
              </a:xfrm>
              <a:custGeom>
                <a:avLst/>
                <a:gdLst/>
                <a:ahLst/>
                <a:rect l="l" t="t" r="r" b="b"/>
                <a:pathLst>
                  <a:path w="465" h="0">
                    <a:moveTo>
                      <a:pt x="44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65" y="0"/>
                    </a:lnTo>
                    <a:lnTo>
                      <a:pt x="44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559880" y="1731960"/>
                <a:ext cx="79200" cy="1800"/>
              </a:xfrm>
              <a:custGeom>
                <a:avLst/>
                <a:gdLst/>
                <a:ahLst/>
                <a:rect l="l" t="t" r="r" b="b"/>
                <a:pathLst>
                  <a:path w="473" h="9">
                    <a:moveTo>
                      <a:pt x="456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73" y="0"/>
                    </a:lnTo>
                    <a:lnTo>
                      <a:pt x="45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559880" y="1731960"/>
                <a:ext cx="80640" cy="1800"/>
              </a:xfrm>
              <a:custGeom>
                <a:avLst/>
                <a:gdLst/>
                <a:ahLst/>
                <a:rect l="l" t="t" r="r" b="b"/>
                <a:pathLst>
                  <a:path w="482" h="9">
                    <a:moveTo>
                      <a:pt x="465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82" y="0"/>
                    </a:lnTo>
                    <a:lnTo>
                      <a:pt x="46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559880" y="1731960"/>
                <a:ext cx="82440" cy="1800"/>
              </a:xfrm>
              <a:custGeom>
                <a:avLst/>
                <a:gdLst/>
                <a:ahLst/>
                <a:rect l="l" t="t" r="r" b="b"/>
                <a:pathLst>
                  <a:path w="490" h="0">
                    <a:moveTo>
                      <a:pt x="47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90" y="0"/>
                    </a:lnTo>
                    <a:lnTo>
                      <a:pt x="4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558440" y="1731960"/>
                <a:ext cx="85320" cy="1800"/>
              </a:xfrm>
              <a:custGeom>
                <a:avLst/>
                <a:gdLst/>
                <a:ahLst/>
                <a:rect l="l" t="t" r="r" b="b"/>
                <a:pathLst>
                  <a:path w="506" h="8">
                    <a:moveTo>
                      <a:pt x="490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506" y="0"/>
                    </a:lnTo>
                    <a:lnTo>
                      <a:pt x="49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558440" y="1731960"/>
                <a:ext cx="87120" cy="1800"/>
              </a:xfrm>
              <a:custGeom>
                <a:avLst/>
                <a:gdLst/>
                <a:ahLst/>
                <a:rect l="l" t="t" r="r" b="b"/>
                <a:pathLst>
                  <a:path w="515" h="8">
                    <a:moveTo>
                      <a:pt x="498" y="8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515" y="0"/>
                    </a:lnTo>
                    <a:lnTo>
                      <a:pt x="49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558440" y="1728720"/>
                <a:ext cx="88560" cy="3240"/>
              </a:xfrm>
              <a:custGeom>
                <a:avLst/>
                <a:gdLst/>
                <a:ahLst/>
                <a:rect l="l" t="t" r="r" b="b"/>
                <a:pathLst>
                  <a:path w="523" h="9">
                    <a:moveTo>
                      <a:pt x="506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523" y="0"/>
                    </a:lnTo>
                    <a:lnTo>
                      <a:pt x="50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558440" y="1728720"/>
                <a:ext cx="90000" cy="3240"/>
              </a:xfrm>
              <a:custGeom>
                <a:avLst/>
                <a:gdLst/>
                <a:ahLst/>
                <a:rect l="l" t="t" r="r" b="b"/>
                <a:pathLst>
                  <a:path w="532" h="9">
                    <a:moveTo>
                      <a:pt x="515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532" y="0"/>
                    </a:lnTo>
                    <a:lnTo>
                      <a:pt x="51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558440" y="1728720"/>
                <a:ext cx="91800" cy="1800"/>
              </a:xfrm>
              <a:custGeom>
                <a:avLst/>
                <a:gdLst/>
                <a:ahLst/>
                <a:rect l="l" t="t" r="r" b="b"/>
                <a:pathLst>
                  <a:path w="540" h="0">
                    <a:moveTo>
                      <a:pt x="523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40" y="0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558440" y="1728720"/>
                <a:ext cx="93240" cy="1800"/>
              </a:xfrm>
              <a:custGeom>
                <a:avLst/>
                <a:gdLst/>
                <a:ahLst/>
                <a:rect l="l" t="t" r="r" b="b"/>
                <a:pathLst>
                  <a:path w="549" h="8">
                    <a:moveTo>
                      <a:pt x="532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49" y="0"/>
                    </a:lnTo>
                    <a:lnTo>
                      <a:pt x="53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558440" y="1728720"/>
                <a:ext cx="93240" cy="1800"/>
              </a:xfrm>
              <a:custGeom>
                <a:avLst/>
                <a:gdLst/>
                <a:ahLst/>
                <a:rect l="l" t="t" r="r" b="b"/>
                <a:pathLst>
                  <a:path w="557" h="8">
                    <a:moveTo>
                      <a:pt x="54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57" y="0"/>
                    </a:lnTo>
                    <a:lnTo>
                      <a:pt x="54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558440" y="1728720"/>
                <a:ext cx="95040" cy="1800"/>
              </a:xfrm>
              <a:custGeom>
                <a:avLst/>
                <a:gdLst/>
                <a:ahLst/>
                <a:rect l="l" t="t" r="r" b="b"/>
                <a:pathLst>
                  <a:path w="566" h="0">
                    <a:moveTo>
                      <a:pt x="54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66" y="0"/>
                    </a:lnTo>
                    <a:lnTo>
                      <a:pt x="5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558440" y="1727280"/>
                <a:ext cx="96480" cy="1440"/>
              </a:xfrm>
              <a:custGeom>
                <a:avLst/>
                <a:gdLst/>
                <a:ahLst/>
                <a:rect l="l" t="t" r="r" b="b"/>
                <a:pathLst>
                  <a:path w="574" h="8">
                    <a:moveTo>
                      <a:pt x="557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74" y="0"/>
                    </a:lnTo>
                    <a:lnTo>
                      <a:pt x="55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558440" y="1727280"/>
                <a:ext cx="97920" cy="1440"/>
              </a:xfrm>
              <a:custGeom>
                <a:avLst/>
                <a:gdLst/>
                <a:ahLst/>
                <a:rect l="l" t="t" r="r" b="b"/>
                <a:pathLst>
                  <a:path w="582" h="8">
                    <a:moveTo>
                      <a:pt x="56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82" y="0"/>
                    </a:lnTo>
                    <a:lnTo>
                      <a:pt x="574" y="0"/>
                    </a:lnTo>
                    <a:lnTo>
                      <a:pt x="56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558440" y="1727280"/>
                <a:ext cx="99720" cy="1440"/>
              </a:xfrm>
              <a:custGeom>
                <a:avLst/>
                <a:gdLst/>
                <a:ahLst/>
                <a:rect l="l" t="t" r="r" b="b"/>
                <a:pathLst>
                  <a:path w="591" h="0">
                    <a:moveTo>
                      <a:pt x="57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591" y="0"/>
                    </a:lnTo>
                    <a:lnTo>
                      <a:pt x="5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558440" y="1725480"/>
                <a:ext cx="99720" cy="1800"/>
              </a:xfrm>
              <a:custGeom>
                <a:avLst/>
                <a:gdLst/>
                <a:ahLst/>
                <a:rect l="l" t="t" r="r" b="b"/>
                <a:pathLst>
                  <a:path w="591" h="9">
                    <a:moveTo>
                      <a:pt x="582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591" y="0"/>
                    </a:lnTo>
                    <a:lnTo>
                      <a:pt x="58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558440" y="1725480"/>
                <a:ext cx="101160" cy="1800"/>
              </a:xfrm>
              <a:custGeom>
                <a:avLst/>
                <a:gdLst/>
                <a:ahLst/>
                <a:rect l="l" t="t" r="r" b="b"/>
                <a:pathLst>
                  <a:path w="599" h="9">
                    <a:moveTo>
                      <a:pt x="591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599" y="0"/>
                    </a:lnTo>
                    <a:lnTo>
                      <a:pt x="59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558440" y="1724040"/>
                <a:ext cx="102960" cy="1440"/>
              </a:xfrm>
              <a:custGeom>
                <a:avLst/>
                <a:gdLst/>
                <a:ahLst/>
                <a:rect l="l" t="t" r="r" b="b"/>
                <a:pathLst>
                  <a:path w="608" h="8">
                    <a:moveTo>
                      <a:pt x="591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59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558440" y="1724040"/>
                <a:ext cx="104400" cy="1440"/>
              </a:xfrm>
              <a:custGeom>
                <a:avLst/>
                <a:gdLst/>
                <a:ahLst/>
                <a:rect l="l" t="t" r="r" b="b"/>
                <a:pathLst>
                  <a:path w="616" h="8">
                    <a:moveTo>
                      <a:pt x="599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59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558440" y="1724040"/>
                <a:ext cx="104400" cy="1440"/>
              </a:xfrm>
              <a:custGeom>
                <a:avLst/>
                <a:gdLst/>
                <a:ahLst/>
                <a:rect l="l" t="t" r="r" b="b"/>
                <a:pathLst>
                  <a:path w="616" h="0">
                    <a:moveTo>
                      <a:pt x="608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16" y="0"/>
                    </a:lnTo>
                    <a:lnTo>
                      <a:pt x="60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558440" y="1722600"/>
                <a:ext cx="105840" cy="1440"/>
              </a:xfrm>
              <a:custGeom>
                <a:avLst/>
                <a:gdLst/>
                <a:ahLst/>
                <a:rect l="l" t="t" r="r" b="b"/>
                <a:pathLst>
                  <a:path w="625" h="9">
                    <a:moveTo>
                      <a:pt x="616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625" y="0"/>
                    </a:lnTo>
                    <a:lnTo>
                      <a:pt x="6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558440" y="1722600"/>
                <a:ext cx="107640" cy="1440"/>
              </a:xfrm>
              <a:custGeom>
                <a:avLst/>
                <a:gdLst/>
                <a:ahLst/>
                <a:rect l="l" t="t" r="r" b="b"/>
                <a:pathLst>
                  <a:path w="633" h="9">
                    <a:moveTo>
                      <a:pt x="616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633" y="0"/>
                    </a:lnTo>
                    <a:lnTo>
                      <a:pt x="61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58440" y="1722600"/>
                <a:ext cx="107640" cy="1440"/>
              </a:xfrm>
              <a:custGeom>
                <a:avLst/>
                <a:gdLst/>
                <a:ahLst/>
                <a:rect l="l" t="t" r="r" b="b"/>
                <a:pathLst>
                  <a:path w="642" h="0">
                    <a:moveTo>
                      <a:pt x="625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642" y="0"/>
                    </a:lnTo>
                    <a:lnTo>
                      <a:pt x="62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59880" y="1720800"/>
                <a:ext cx="106200" cy="1800"/>
              </a:xfrm>
              <a:custGeom>
                <a:avLst/>
                <a:gdLst/>
                <a:ahLst/>
                <a:rect l="l" t="t" r="r" b="b"/>
                <a:pathLst>
                  <a:path w="634" h="8">
                    <a:moveTo>
                      <a:pt x="62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34" y="0"/>
                    </a:lnTo>
                    <a:lnTo>
                      <a:pt x="62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559880" y="1720800"/>
                <a:ext cx="107640" cy="1800"/>
              </a:xfrm>
              <a:custGeom>
                <a:avLst/>
                <a:gdLst/>
                <a:ahLst/>
                <a:rect l="l" t="t" r="r" b="b"/>
                <a:pathLst>
                  <a:path w="642" h="8">
                    <a:moveTo>
                      <a:pt x="634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42" y="0"/>
                    </a:lnTo>
                    <a:lnTo>
                      <a:pt x="63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59880" y="171936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650" h="9">
                    <a:moveTo>
                      <a:pt x="634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650" y="0"/>
                    </a:lnTo>
                    <a:lnTo>
                      <a:pt x="63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59880" y="1719360"/>
                <a:ext cx="109440" cy="1440"/>
              </a:xfrm>
              <a:custGeom>
                <a:avLst/>
                <a:gdLst/>
                <a:ahLst/>
                <a:rect l="l" t="t" r="r" b="b"/>
                <a:pathLst>
                  <a:path w="650" h="9">
                    <a:moveTo>
                      <a:pt x="642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650" y="0"/>
                    </a:lnTo>
                    <a:lnTo>
                      <a:pt x="64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59880" y="1719360"/>
                <a:ext cx="110880" cy="1440"/>
              </a:xfrm>
              <a:custGeom>
                <a:avLst/>
                <a:gdLst/>
                <a:ahLst/>
                <a:rect l="l" t="t" r="r" b="b"/>
                <a:pathLst>
                  <a:path w="659" h="0">
                    <a:moveTo>
                      <a:pt x="65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659" y="0"/>
                    </a:lnTo>
                    <a:lnTo>
                      <a:pt x="65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561680" y="1717560"/>
                <a:ext cx="110520" cy="1800"/>
              </a:xfrm>
              <a:custGeom>
                <a:avLst/>
                <a:gdLst/>
                <a:ahLst/>
                <a:rect l="l" t="t" r="r" b="b"/>
                <a:pathLst>
                  <a:path w="658" h="8">
                    <a:moveTo>
                      <a:pt x="641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58" y="0"/>
                    </a:lnTo>
                    <a:lnTo>
                      <a:pt x="64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61680" y="1717560"/>
                <a:ext cx="112320" cy="1800"/>
              </a:xfrm>
              <a:custGeom>
                <a:avLst/>
                <a:gdLst/>
                <a:ahLst/>
                <a:rect l="l" t="t" r="r" b="b"/>
                <a:pathLst>
                  <a:path w="667" h="8">
                    <a:moveTo>
                      <a:pt x="65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67" y="0"/>
                    </a:lnTo>
                    <a:lnTo>
                      <a:pt x="65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61680" y="1717560"/>
                <a:ext cx="113760" cy="1800"/>
              </a:xfrm>
              <a:custGeom>
                <a:avLst/>
                <a:gdLst/>
                <a:ahLst/>
                <a:rect l="l" t="t" r="r" b="b"/>
                <a:pathLst>
                  <a:path w="675" h="0">
                    <a:moveTo>
                      <a:pt x="658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675" y="0"/>
                    </a:lnTo>
                    <a:lnTo>
                      <a:pt x="65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61680" y="1716120"/>
                <a:ext cx="115560" cy="1440"/>
              </a:xfrm>
              <a:custGeom>
                <a:avLst/>
                <a:gdLst/>
                <a:ahLst/>
                <a:rect l="l" t="t" r="r" b="b"/>
                <a:pathLst>
                  <a:path w="684" h="9">
                    <a:moveTo>
                      <a:pt x="667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684" y="0"/>
                    </a:lnTo>
                    <a:lnTo>
                      <a:pt x="6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563120" y="1716120"/>
                <a:ext cx="114120" cy="1440"/>
              </a:xfrm>
              <a:custGeom>
                <a:avLst/>
                <a:gdLst/>
                <a:ahLst/>
                <a:rect l="l" t="t" r="r" b="b"/>
                <a:pathLst>
                  <a:path w="676" h="9">
                    <a:moveTo>
                      <a:pt x="667" y="9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676" y="0"/>
                    </a:lnTo>
                    <a:lnTo>
                      <a:pt x="676" y="0"/>
                    </a:lnTo>
                    <a:lnTo>
                      <a:pt x="6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63120" y="1716120"/>
                <a:ext cx="115560" cy="1440"/>
              </a:xfrm>
              <a:custGeom>
                <a:avLst/>
                <a:gdLst/>
                <a:ahLst/>
                <a:rect l="l" t="t" r="r" b="b"/>
                <a:pathLst>
                  <a:path w="684" h="0">
                    <a:moveTo>
                      <a:pt x="676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684" y="0"/>
                    </a:lnTo>
                    <a:lnTo>
                      <a:pt x="6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563120" y="1714680"/>
                <a:ext cx="115560" cy="1440"/>
              </a:xfrm>
              <a:custGeom>
                <a:avLst/>
                <a:gdLst/>
                <a:ahLst/>
                <a:rect l="l" t="t" r="r" b="b"/>
                <a:pathLst>
                  <a:path w="684" h="8">
                    <a:moveTo>
                      <a:pt x="676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684" y="0"/>
                    </a:lnTo>
                    <a:lnTo>
                      <a:pt x="67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564920" y="1714680"/>
                <a:ext cx="115560" cy="1440"/>
              </a:xfrm>
              <a:custGeom>
                <a:avLst/>
                <a:gdLst/>
                <a:ahLst/>
                <a:rect l="l" t="t" r="r" b="b"/>
                <a:pathLst>
                  <a:path w="684" h="8">
                    <a:moveTo>
                      <a:pt x="675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684" y="0"/>
                    </a:lnTo>
                    <a:lnTo>
                      <a:pt x="67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564920" y="1712880"/>
                <a:ext cx="115560" cy="1800"/>
              </a:xfrm>
              <a:custGeom>
                <a:avLst/>
                <a:gdLst/>
                <a:ahLst/>
                <a:rect l="l" t="t" r="r" b="b"/>
                <a:pathLst>
                  <a:path w="692" h="8">
                    <a:moveTo>
                      <a:pt x="675" y="8"/>
                    </a:moveTo>
                    <a:lnTo>
                      <a:pt x="0" y="8"/>
                    </a:lnTo>
                    <a:lnTo>
                      <a:pt x="0" y="8"/>
                    </a:lnTo>
                    <a:lnTo>
                      <a:pt x="17" y="0"/>
                    </a:lnTo>
                    <a:lnTo>
                      <a:pt x="692" y="0"/>
                    </a:lnTo>
                    <a:lnTo>
                      <a:pt x="67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64920" y="1712880"/>
                <a:ext cx="115560" cy="1800"/>
              </a:xfrm>
              <a:custGeom>
                <a:avLst/>
                <a:gdLst/>
                <a:ahLst/>
                <a:rect l="l" t="t" r="r" b="b"/>
                <a:pathLst>
                  <a:path w="684" h="8">
                    <a:moveTo>
                      <a:pt x="676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684" y="0"/>
                    </a:lnTo>
                    <a:lnTo>
                      <a:pt x="67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566360" y="1712880"/>
                <a:ext cx="115560" cy="1800"/>
              </a:xfrm>
              <a:custGeom>
                <a:avLst/>
                <a:gdLst/>
                <a:ahLst/>
                <a:rect l="l" t="t" r="r" b="b"/>
                <a:pathLst>
                  <a:path w="683" h="0">
                    <a:moveTo>
                      <a:pt x="675" y="0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683" y="0"/>
                    </a:lnTo>
                    <a:lnTo>
                      <a:pt x="6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567800" y="1711440"/>
                <a:ext cx="115560" cy="1440"/>
              </a:xfrm>
              <a:custGeom>
                <a:avLst/>
                <a:gdLst/>
                <a:ahLst/>
                <a:rect l="l" t="t" r="r" b="b"/>
                <a:pathLst>
                  <a:path w="684" h="9">
                    <a:moveTo>
                      <a:pt x="667" y="9"/>
                    </a:moveTo>
                    <a:lnTo>
                      <a:pt x="0" y="9"/>
                    </a:lnTo>
                    <a:lnTo>
                      <a:pt x="25" y="0"/>
                    </a:lnTo>
                    <a:lnTo>
                      <a:pt x="684" y="0"/>
                    </a:lnTo>
                    <a:lnTo>
                      <a:pt x="6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571040" y="1711440"/>
                <a:ext cx="112320" cy="1440"/>
              </a:xfrm>
              <a:custGeom>
                <a:avLst/>
                <a:gdLst/>
                <a:ahLst/>
                <a:rect l="l" t="t" r="r" b="b"/>
                <a:pathLst>
                  <a:path w="667" h="9">
                    <a:moveTo>
                      <a:pt x="658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51" y="0"/>
                    </a:lnTo>
                    <a:lnTo>
                      <a:pt x="667" y="0"/>
                    </a:lnTo>
                    <a:lnTo>
                      <a:pt x="65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572840" y="1711440"/>
                <a:ext cx="112320" cy="1440"/>
              </a:xfrm>
              <a:custGeom>
                <a:avLst/>
                <a:gdLst/>
                <a:ahLst/>
                <a:rect l="l" t="t" r="r" b="b"/>
                <a:pathLst>
                  <a:path w="667" h="0">
                    <a:moveTo>
                      <a:pt x="659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102" y="0"/>
                    </a:lnTo>
                    <a:lnTo>
                      <a:pt x="667" y="0"/>
                    </a:lnTo>
                    <a:lnTo>
                      <a:pt x="6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578960" y="1709640"/>
                <a:ext cx="107640" cy="1800"/>
              </a:xfrm>
              <a:custGeom>
                <a:avLst/>
                <a:gdLst/>
                <a:ahLst/>
                <a:rect l="l" t="t" r="r" b="b"/>
                <a:pathLst>
                  <a:path w="633" h="8">
                    <a:moveTo>
                      <a:pt x="616" y="8"/>
                    </a:moveTo>
                    <a:lnTo>
                      <a:pt x="0" y="8"/>
                    </a:lnTo>
                    <a:lnTo>
                      <a:pt x="33" y="8"/>
                    </a:lnTo>
                    <a:lnTo>
                      <a:pt x="160" y="0"/>
                    </a:lnTo>
                    <a:lnTo>
                      <a:pt x="633" y="0"/>
                    </a:lnTo>
                    <a:lnTo>
                      <a:pt x="61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590120" y="1709640"/>
                <a:ext cx="96480" cy="1800"/>
              </a:xfrm>
              <a:custGeom>
                <a:avLst/>
                <a:gdLst/>
                <a:ahLst/>
                <a:rect l="l" t="t" r="r" b="b"/>
                <a:pathLst>
                  <a:path w="574" h="8">
                    <a:moveTo>
                      <a:pt x="565" y="8"/>
                    </a:moveTo>
                    <a:lnTo>
                      <a:pt x="0" y="8"/>
                    </a:lnTo>
                    <a:lnTo>
                      <a:pt x="101" y="0"/>
                    </a:lnTo>
                    <a:lnTo>
                      <a:pt x="126" y="0"/>
                    </a:lnTo>
                    <a:lnTo>
                      <a:pt x="574" y="0"/>
                    </a:lnTo>
                    <a:lnTo>
                      <a:pt x="56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607760" y="1708200"/>
                <a:ext cx="80640" cy="1440"/>
              </a:xfrm>
              <a:custGeom>
                <a:avLst/>
                <a:gdLst/>
                <a:ahLst/>
                <a:rect l="l" t="t" r="r" b="b"/>
                <a:pathLst>
                  <a:path w="481" h="9">
                    <a:moveTo>
                      <a:pt x="473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59" y="0"/>
                    </a:lnTo>
                    <a:lnTo>
                      <a:pt x="481" y="0"/>
                    </a:lnTo>
                    <a:lnTo>
                      <a:pt x="473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610640" y="1708200"/>
                <a:ext cx="79200" cy="1440"/>
              </a:xfrm>
              <a:custGeom>
                <a:avLst/>
                <a:gdLst/>
                <a:ahLst/>
                <a:rect l="l" t="t" r="r" b="b"/>
                <a:pathLst>
                  <a:path w="465" h="9">
                    <a:moveTo>
                      <a:pt x="448" y="9"/>
                    </a:moveTo>
                    <a:lnTo>
                      <a:pt x="0" y="9"/>
                    </a:lnTo>
                    <a:lnTo>
                      <a:pt x="59" y="0"/>
                    </a:lnTo>
                    <a:lnTo>
                      <a:pt x="465" y="0"/>
                    </a:lnTo>
                    <a:lnTo>
                      <a:pt x="44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17120" y="170820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431" h="0">
                    <a:moveTo>
                      <a:pt x="422" y="0"/>
                    </a:moveTo>
                    <a:lnTo>
                      <a:pt x="0" y="0"/>
                    </a:lnTo>
                    <a:lnTo>
                      <a:pt x="51" y="0"/>
                    </a:lnTo>
                    <a:lnTo>
                      <a:pt x="431" y="0"/>
                    </a:lnTo>
                    <a:lnTo>
                      <a:pt x="4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621800" y="1706760"/>
                <a:ext cx="69480" cy="1440"/>
              </a:xfrm>
              <a:custGeom>
                <a:avLst/>
                <a:gdLst/>
                <a:ahLst/>
                <a:rect l="l" t="t" r="r" b="b"/>
                <a:pathLst>
                  <a:path w="414" h="8">
                    <a:moveTo>
                      <a:pt x="406" y="8"/>
                    </a:moveTo>
                    <a:lnTo>
                      <a:pt x="0" y="8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414" y="0"/>
                    </a:lnTo>
                    <a:lnTo>
                      <a:pt x="40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625040" y="1706760"/>
                <a:ext cx="68040" cy="1440"/>
              </a:xfrm>
              <a:custGeom>
                <a:avLst/>
                <a:gdLst/>
                <a:ahLst/>
                <a:rect l="l" t="t" r="r" b="b"/>
                <a:pathLst>
                  <a:path w="396" h="8">
                    <a:moveTo>
                      <a:pt x="380" y="8"/>
                    </a:moveTo>
                    <a:lnTo>
                      <a:pt x="0" y="8"/>
                    </a:lnTo>
                    <a:lnTo>
                      <a:pt x="25" y="0"/>
                    </a:lnTo>
                    <a:lnTo>
                      <a:pt x="42" y="0"/>
                    </a:lnTo>
                    <a:lnTo>
                      <a:pt x="396" y="0"/>
                    </a:lnTo>
                    <a:lnTo>
                      <a:pt x="38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629720" y="1706760"/>
                <a:ext cx="63360" cy="1440"/>
              </a:xfrm>
              <a:custGeom>
                <a:avLst/>
                <a:gdLst/>
                <a:ahLst/>
                <a:rect l="l" t="t" r="r" b="b"/>
                <a:pathLst>
                  <a:path w="371" h="0">
                    <a:moveTo>
                      <a:pt x="363" y="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371" y="0"/>
                    </a:lnTo>
                    <a:lnTo>
                      <a:pt x="3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632960" y="1704960"/>
                <a:ext cx="61560" cy="1800"/>
              </a:xfrm>
              <a:custGeom>
                <a:avLst/>
                <a:gdLst/>
                <a:ahLst/>
                <a:rect l="l" t="t" r="r" b="b"/>
                <a:pathLst>
                  <a:path w="363" h="9">
                    <a:moveTo>
                      <a:pt x="354" y="9"/>
                    </a:moveTo>
                    <a:lnTo>
                      <a:pt x="0" y="9"/>
                    </a:lnTo>
                    <a:lnTo>
                      <a:pt x="42" y="0"/>
                    </a:lnTo>
                    <a:lnTo>
                      <a:pt x="363" y="0"/>
                    </a:lnTo>
                    <a:lnTo>
                      <a:pt x="35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636200" y="1704960"/>
                <a:ext cx="58320" cy="1800"/>
              </a:xfrm>
              <a:custGeom>
                <a:avLst/>
                <a:gdLst/>
                <a:ahLst/>
                <a:rect l="l" t="t" r="r" b="b"/>
                <a:pathLst>
                  <a:path w="338" h="9">
                    <a:moveTo>
                      <a:pt x="329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338" y="0"/>
                    </a:lnTo>
                    <a:lnTo>
                      <a:pt x="32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639440" y="1704960"/>
                <a:ext cx="55080" cy="1800"/>
              </a:xfrm>
              <a:custGeom>
                <a:avLst/>
                <a:gdLst/>
                <a:ahLst/>
                <a:rect l="l" t="t" r="r" b="b"/>
                <a:pathLst>
                  <a:path w="329" h="0">
                    <a:moveTo>
                      <a:pt x="321" y="0"/>
                    </a:moveTo>
                    <a:lnTo>
                      <a:pt x="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29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642680" y="1703520"/>
                <a:ext cx="53640" cy="1440"/>
              </a:xfrm>
              <a:custGeom>
                <a:avLst/>
                <a:gdLst/>
                <a:ahLst/>
                <a:rect l="l" t="t" r="r" b="b"/>
                <a:pathLst>
                  <a:path w="321" h="8">
                    <a:moveTo>
                      <a:pt x="304" y="8"/>
                    </a:moveTo>
                    <a:lnTo>
                      <a:pt x="0" y="8"/>
                    </a:lnTo>
                    <a:lnTo>
                      <a:pt x="17" y="8"/>
                    </a:lnTo>
                    <a:lnTo>
                      <a:pt x="34" y="0"/>
                    </a:lnTo>
                    <a:lnTo>
                      <a:pt x="321" y="0"/>
                    </a:lnTo>
                    <a:lnTo>
                      <a:pt x="30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645920" y="1703520"/>
                <a:ext cx="51840" cy="1440"/>
              </a:xfrm>
              <a:custGeom>
                <a:avLst/>
                <a:gdLst/>
                <a:ahLst/>
                <a:rect l="l" t="t" r="r" b="b"/>
                <a:pathLst>
                  <a:path w="312" h="8">
                    <a:moveTo>
                      <a:pt x="295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312" y="0"/>
                    </a:lnTo>
                    <a:lnTo>
                      <a:pt x="29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648800" y="1701720"/>
                <a:ext cx="48960" cy="1800"/>
              </a:xfrm>
              <a:custGeom>
                <a:avLst/>
                <a:gdLst/>
                <a:ahLst/>
                <a:rect l="l" t="t" r="r" b="b"/>
                <a:pathLst>
                  <a:path w="295" h="9">
                    <a:moveTo>
                      <a:pt x="287" y="9"/>
                    </a:moveTo>
                    <a:lnTo>
                      <a:pt x="0" y="9"/>
                    </a:lnTo>
                    <a:lnTo>
                      <a:pt x="34" y="0"/>
                    </a:lnTo>
                    <a:lnTo>
                      <a:pt x="295" y="0"/>
                    </a:lnTo>
                    <a:lnTo>
                      <a:pt x="295" y="9"/>
                    </a:lnTo>
                    <a:lnTo>
                      <a:pt x="28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652040" y="1701720"/>
                <a:ext cx="47160" cy="1800"/>
              </a:xfrm>
              <a:custGeom>
                <a:avLst/>
                <a:gdLst/>
                <a:ahLst/>
                <a:rect l="l" t="t" r="r" b="b"/>
                <a:pathLst>
                  <a:path w="287" h="9">
                    <a:moveTo>
                      <a:pt x="278" y="9"/>
                    </a:moveTo>
                    <a:lnTo>
                      <a:pt x="0" y="9"/>
                    </a:lnTo>
                    <a:lnTo>
                      <a:pt x="33" y="0"/>
                    </a:lnTo>
                    <a:lnTo>
                      <a:pt x="287" y="0"/>
                    </a:lnTo>
                    <a:lnTo>
                      <a:pt x="27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653840" y="1701720"/>
                <a:ext cx="45360" cy="1800"/>
              </a:xfrm>
              <a:custGeom>
                <a:avLst/>
                <a:gdLst/>
                <a:ahLst/>
                <a:rect l="l" t="t" r="r" b="b"/>
                <a:pathLst>
                  <a:path w="270" h="0">
                    <a:moveTo>
                      <a:pt x="261" y="0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270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656720" y="1700280"/>
                <a:ext cx="42480" cy="1440"/>
              </a:xfrm>
              <a:custGeom>
                <a:avLst/>
                <a:gdLst/>
                <a:ahLst/>
                <a:rect l="l" t="t" r="r" b="b"/>
                <a:pathLst>
                  <a:path w="254" h="8">
                    <a:moveTo>
                      <a:pt x="254" y="8"/>
                    </a:moveTo>
                    <a:lnTo>
                      <a:pt x="0" y="8"/>
                    </a:lnTo>
                    <a:lnTo>
                      <a:pt x="26" y="0"/>
                    </a:lnTo>
                    <a:lnTo>
                      <a:pt x="254" y="0"/>
                    </a:lnTo>
                    <a:lnTo>
                      <a:pt x="25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658520" y="1700280"/>
                <a:ext cx="42480" cy="1440"/>
              </a:xfrm>
              <a:custGeom>
                <a:avLst/>
                <a:gdLst/>
                <a:ahLst/>
                <a:rect l="l" t="t" r="r" b="b"/>
                <a:pathLst>
                  <a:path w="253" h="8">
                    <a:moveTo>
                      <a:pt x="245" y="8"/>
                    </a:moveTo>
                    <a:lnTo>
                      <a:pt x="0" y="8"/>
                    </a:lnTo>
                    <a:lnTo>
                      <a:pt x="34" y="0"/>
                    </a:lnTo>
                    <a:lnTo>
                      <a:pt x="253" y="0"/>
                    </a:lnTo>
                    <a:lnTo>
                      <a:pt x="24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661760" y="1700280"/>
                <a:ext cx="40680" cy="1440"/>
              </a:xfrm>
              <a:custGeom>
                <a:avLst/>
                <a:gdLst/>
                <a:ahLst/>
                <a:rect l="l" t="t" r="r" b="b"/>
                <a:pathLst>
                  <a:path w="245" h="0">
                    <a:moveTo>
                      <a:pt x="228" y="0"/>
                    </a:moveTo>
                    <a:lnTo>
                      <a:pt x="0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5" y="0"/>
                    </a:lnTo>
                    <a:lnTo>
                      <a:pt x="22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664640" y="1698840"/>
                <a:ext cx="37800" cy="1440"/>
              </a:xfrm>
              <a:custGeom>
                <a:avLst/>
                <a:gdLst/>
                <a:ahLst/>
                <a:rect l="l" t="t" r="r" b="b"/>
                <a:pathLst>
                  <a:path w="228" h="8">
                    <a:moveTo>
                      <a:pt x="219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228" y="0"/>
                    </a:lnTo>
                    <a:lnTo>
                      <a:pt x="21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66440" y="1698840"/>
                <a:ext cx="37800" cy="1440"/>
              </a:xfrm>
              <a:custGeom>
                <a:avLst/>
                <a:gdLst/>
                <a:ahLst/>
                <a:rect l="l" t="t" r="r" b="b"/>
                <a:pathLst>
                  <a:path w="228" h="8">
                    <a:moveTo>
                      <a:pt x="220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228" y="0"/>
                    </a:lnTo>
                    <a:lnTo>
                      <a:pt x="22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666440" y="1697040"/>
                <a:ext cx="37800" cy="1800"/>
              </a:xfrm>
              <a:custGeom>
                <a:avLst/>
                <a:gdLst/>
                <a:ahLst/>
                <a:rect l="l" t="t" r="r" b="b"/>
                <a:pathLst>
                  <a:path w="219" h="9">
                    <a:moveTo>
                      <a:pt x="211" y="9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219" y="0"/>
                    </a:lnTo>
                    <a:lnTo>
                      <a:pt x="21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667880" y="1697040"/>
                <a:ext cx="37800" cy="1800"/>
              </a:xfrm>
              <a:custGeom>
                <a:avLst/>
                <a:gdLst/>
                <a:ahLst/>
                <a:rect l="l" t="t" r="r" b="b"/>
                <a:pathLst>
                  <a:path w="219" h="9">
                    <a:moveTo>
                      <a:pt x="211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219" y="0"/>
                    </a:lnTo>
                    <a:lnTo>
                      <a:pt x="21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669680" y="1697040"/>
                <a:ext cx="36000" cy="1800"/>
              </a:xfrm>
              <a:custGeom>
                <a:avLst/>
                <a:gdLst/>
                <a:ahLst/>
                <a:rect l="l" t="t" r="r" b="b"/>
                <a:pathLst>
                  <a:path w="211" h="0">
                    <a:moveTo>
                      <a:pt x="203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211" y="0"/>
                    </a:lnTo>
                    <a:lnTo>
                      <a:pt x="20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671120" y="1695600"/>
                <a:ext cx="36000" cy="1440"/>
              </a:xfrm>
              <a:custGeom>
                <a:avLst/>
                <a:gdLst/>
                <a:ahLst/>
                <a:rect l="l" t="t" r="r" b="b"/>
                <a:pathLst>
                  <a:path w="211" h="8">
                    <a:moveTo>
                      <a:pt x="202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211" y="0"/>
                    </a:lnTo>
                    <a:lnTo>
                      <a:pt x="202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672560" y="1695600"/>
                <a:ext cx="36360" cy="1440"/>
              </a:xfrm>
              <a:custGeom>
                <a:avLst/>
                <a:gdLst/>
                <a:ahLst/>
                <a:rect l="l" t="t" r="r" b="b"/>
                <a:pathLst>
                  <a:path w="211" h="8">
                    <a:moveTo>
                      <a:pt x="194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211" y="0"/>
                    </a:lnTo>
                    <a:lnTo>
                      <a:pt x="19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4360" y="1695600"/>
                <a:ext cx="34560" cy="1440"/>
              </a:xfrm>
              <a:custGeom>
                <a:avLst/>
                <a:gdLst/>
                <a:ahLst/>
                <a:rect l="l" t="t" r="r" b="b"/>
                <a:pathLst>
                  <a:path w="202" h="0">
                    <a:moveTo>
                      <a:pt x="194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202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675800" y="1693800"/>
                <a:ext cx="34560" cy="1800"/>
              </a:xfrm>
              <a:custGeom>
                <a:avLst/>
                <a:gdLst/>
                <a:ahLst/>
                <a:rect l="l" t="t" r="r" b="b"/>
                <a:pathLst>
                  <a:path w="203" h="9">
                    <a:moveTo>
                      <a:pt x="194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203" y="0"/>
                    </a:lnTo>
                    <a:lnTo>
                      <a:pt x="19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677600" y="1693800"/>
                <a:ext cx="32760" cy="1800"/>
              </a:xfrm>
              <a:custGeom>
                <a:avLst/>
                <a:gdLst/>
                <a:ahLst/>
                <a:rect l="l" t="t" r="r" b="b"/>
                <a:pathLst>
                  <a:path w="194" h="9">
                    <a:moveTo>
                      <a:pt x="185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94" y="0"/>
                    </a:lnTo>
                    <a:lnTo>
                      <a:pt x="18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679040" y="1693800"/>
                <a:ext cx="31320" cy="1800"/>
              </a:xfrm>
              <a:custGeom>
                <a:avLst/>
                <a:gdLst/>
                <a:ahLst/>
                <a:rect l="l" t="t" r="r" b="b"/>
                <a:pathLst>
                  <a:path w="186" h="0">
                    <a:moveTo>
                      <a:pt x="186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680840" y="1692360"/>
                <a:ext cx="29520" cy="1440"/>
              </a:xfrm>
              <a:custGeom>
                <a:avLst/>
                <a:gdLst/>
                <a:ahLst/>
                <a:rect l="l" t="t" r="r" b="b"/>
                <a:pathLst>
                  <a:path w="185" h="8">
                    <a:moveTo>
                      <a:pt x="177" y="8"/>
                    </a:moveTo>
                    <a:lnTo>
                      <a:pt x="0" y="8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85" y="0"/>
                    </a:lnTo>
                    <a:lnTo>
                      <a:pt x="177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80840" y="1692360"/>
                <a:ext cx="31320" cy="1440"/>
              </a:xfrm>
              <a:custGeom>
                <a:avLst/>
                <a:gdLst/>
                <a:ahLst/>
                <a:rect l="l" t="t" r="r" b="b"/>
                <a:pathLst>
                  <a:path w="186" h="8">
                    <a:moveTo>
                      <a:pt x="169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7" y="0"/>
                    </a:lnTo>
                    <a:lnTo>
                      <a:pt x="186" y="0"/>
                    </a:lnTo>
                    <a:lnTo>
                      <a:pt x="16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682280" y="1690560"/>
                <a:ext cx="29880" cy="1800"/>
              </a:xfrm>
              <a:custGeom>
                <a:avLst/>
                <a:gdLst/>
                <a:ahLst/>
                <a:rect l="l" t="t" r="r" b="b"/>
                <a:pathLst>
                  <a:path w="178" h="9">
                    <a:moveTo>
                      <a:pt x="169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78" y="0"/>
                    </a:lnTo>
                    <a:lnTo>
                      <a:pt x="16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683720" y="1690560"/>
                <a:ext cx="29880" cy="1800"/>
              </a:xfrm>
              <a:custGeom>
                <a:avLst/>
                <a:gdLst/>
                <a:ahLst/>
                <a:rect l="l" t="t" r="r" b="b"/>
                <a:pathLst>
                  <a:path w="177" h="9">
                    <a:moveTo>
                      <a:pt x="169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77" y="0"/>
                    </a:lnTo>
                    <a:lnTo>
                      <a:pt x="16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685520" y="1690560"/>
                <a:ext cx="28080" cy="1800"/>
              </a:xfrm>
              <a:custGeom>
                <a:avLst/>
                <a:gdLst/>
                <a:ahLst/>
                <a:rect l="l" t="t" r="r" b="b"/>
                <a:pathLst>
                  <a:path w="169" h="0">
                    <a:moveTo>
                      <a:pt x="161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69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686960" y="168912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69" h="8">
                    <a:moveTo>
                      <a:pt x="160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69" y="0"/>
                    </a:lnTo>
                    <a:lnTo>
                      <a:pt x="16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686960" y="1689120"/>
                <a:ext cx="28440" cy="1440"/>
              </a:xfrm>
              <a:custGeom>
                <a:avLst/>
                <a:gdLst/>
                <a:ahLst/>
                <a:rect l="l" t="t" r="r" b="b"/>
                <a:pathLst>
                  <a:path w="169" h="8">
                    <a:moveTo>
                      <a:pt x="160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169" y="0"/>
                    </a:lnTo>
                    <a:lnTo>
                      <a:pt x="16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688760" y="1689120"/>
                <a:ext cx="28080" cy="1440"/>
              </a:xfrm>
              <a:custGeom>
                <a:avLst/>
                <a:gdLst/>
                <a:ahLst/>
                <a:rect l="l" t="t" r="r" b="b"/>
                <a:pathLst>
                  <a:path w="169" h="0">
                    <a:moveTo>
                      <a:pt x="161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69" y="0"/>
                    </a:lnTo>
                    <a:lnTo>
                      <a:pt x="1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690200" y="1687680"/>
                <a:ext cx="28080" cy="1440"/>
              </a:xfrm>
              <a:custGeom>
                <a:avLst/>
                <a:gdLst/>
                <a:ahLst/>
                <a:rect l="l" t="t" r="r" b="b"/>
                <a:pathLst>
                  <a:path w="168" h="9">
                    <a:moveTo>
                      <a:pt x="152" y="9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168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691640" y="168768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60" h="9">
                    <a:moveTo>
                      <a:pt x="152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60" y="0"/>
                    </a:lnTo>
                    <a:lnTo>
                      <a:pt x="15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93440" y="168768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52" h="0">
                    <a:moveTo>
                      <a:pt x="152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694880" y="168588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152" h="8">
                    <a:moveTo>
                      <a:pt x="143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52" y="0"/>
                    </a:lnTo>
                    <a:lnTo>
                      <a:pt x="14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694880" y="168588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144" h="8">
                    <a:moveTo>
                      <a:pt x="135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144" y="0"/>
                    </a:lnTo>
                    <a:lnTo>
                      <a:pt x="13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694880" y="1684440"/>
                <a:ext cx="26640" cy="1440"/>
              </a:xfrm>
              <a:custGeom>
                <a:avLst/>
                <a:gdLst/>
                <a:ahLst/>
                <a:rect l="l" t="t" r="r" b="b"/>
                <a:pathLst>
                  <a:path w="152" h="8">
                    <a:moveTo>
                      <a:pt x="144" y="8"/>
                    </a:moveTo>
                    <a:lnTo>
                      <a:pt x="0" y="8"/>
                    </a:lnTo>
                    <a:lnTo>
                      <a:pt x="17" y="8"/>
                    </a:lnTo>
                    <a:lnTo>
                      <a:pt x="17" y="0"/>
                    </a:lnTo>
                    <a:lnTo>
                      <a:pt x="152" y="0"/>
                    </a:lnTo>
                    <a:lnTo>
                      <a:pt x="144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696680" y="168444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143" h="8">
                    <a:moveTo>
                      <a:pt x="135" y="8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7" y="0"/>
                    </a:lnTo>
                    <a:lnTo>
                      <a:pt x="143" y="0"/>
                    </a:lnTo>
                    <a:lnTo>
                      <a:pt x="13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698120" y="168444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135" h="0">
                    <a:moveTo>
                      <a:pt x="135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99560" y="1682640"/>
                <a:ext cx="23760" cy="1800"/>
              </a:xfrm>
              <a:custGeom>
                <a:avLst/>
                <a:gdLst/>
                <a:ahLst/>
                <a:rect l="l" t="t" r="r" b="b"/>
                <a:pathLst>
                  <a:path w="135" h="9">
                    <a:moveTo>
                      <a:pt x="126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135" y="0"/>
                    </a:lnTo>
                    <a:lnTo>
                      <a:pt x="12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99560" y="1682640"/>
                <a:ext cx="25200" cy="1800"/>
              </a:xfrm>
              <a:custGeom>
                <a:avLst/>
                <a:gdLst/>
                <a:ahLst/>
                <a:rect l="l" t="t" r="r" b="b"/>
                <a:pathLst>
                  <a:path w="143" h="9">
                    <a:moveTo>
                      <a:pt x="126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43" y="0"/>
                    </a:lnTo>
                    <a:lnTo>
                      <a:pt x="12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701360" y="1682640"/>
                <a:ext cx="23400" cy="1800"/>
              </a:xfrm>
              <a:custGeom>
                <a:avLst/>
                <a:gdLst/>
                <a:ahLst/>
                <a:rect l="l" t="t" r="r" b="b"/>
                <a:pathLst>
                  <a:path w="135" h="0">
                    <a:moveTo>
                      <a:pt x="127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35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702800" y="1681200"/>
                <a:ext cx="21960" cy="1440"/>
              </a:xfrm>
              <a:custGeom>
                <a:avLst/>
                <a:gdLst/>
                <a:ahLst/>
                <a:rect l="l" t="t" r="r" b="b"/>
                <a:pathLst>
                  <a:path w="126" h="8">
                    <a:moveTo>
                      <a:pt x="126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26" y="0"/>
                    </a:lnTo>
                    <a:lnTo>
                      <a:pt x="12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704600" y="168120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27" h="8">
                    <a:moveTo>
                      <a:pt x="118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127" y="0"/>
                    </a:lnTo>
                    <a:lnTo>
                      <a:pt x="1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704600" y="167976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27" h="9">
                    <a:moveTo>
                      <a:pt x="118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127" y="0"/>
                    </a:lnTo>
                    <a:lnTo>
                      <a:pt x="11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706040" y="167976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27" h="9">
                    <a:moveTo>
                      <a:pt x="119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127" y="0"/>
                    </a:lnTo>
                    <a:lnTo>
                      <a:pt x="11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706040" y="1679760"/>
                <a:ext cx="20160" cy="1440"/>
              </a:xfrm>
              <a:custGeom>
                <a:avLst/>
                <a:gdLst/>
                <a:ahLst/>
                <a:rect l="l" t="t" r="r" b="b"/>
                <a:pathLst>
                  <a:path w="127" h="0">
                    <a:moveTo>
                      <a:pt x="119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27" y="0"/>
                    </a:lnTo>
                    <a:lnTo>
                      <a:pt x="1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707480" y="1679760"/>
                <a:ext cx="20520" cy="1440"/>
              </a:xfrm>
              <a:custGeom>
                <a:avLst/>
                <a:gdLst/>
                <a:ahLst/>
                <a:rect l="l" t="t" r="r" b="b"/>
                <a:pathLst>
                  <a:path w="127" h="8">
                    <a:moveTo>
                      <a:pt x="118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127" y="0"/>
                    </a:lnTo>
                    <a:lnTo>
                      <a:pt x="11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709280" y="167976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19" h="8">
                    <a:moveTo>
                      <a:pt x="110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119" y="0"/>
                    </a:lnTo>
                    <a:lnTo>
                      <a:pt x="11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710720" y="167976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10" h="0">
                    <a:moveTo>
                      <a:pt x="11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710720" y="1676520"/>
                <a:ext cx="18720" cy="3240"/>
              </a:xfrm>
              <a:custGeom>
                <a:avLst/>
                <a:gdLst/>
                <a:ahLst/>
                <a:rect l="l" t="t" r="r" b="b"/>
                <a:pathLst>
                  <a:path w="118" h="9">
                    <a:moveTo>
                      <a:pt x="110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18" y="0"/>
                    </a:lnTo>
                    <a:lnTo>
                      <a:pt x="11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710720" y="1676520"/>
                <a:ext cx="18720" cy="3240"/>
              </a:xfrm>
              <a:custGeom>
                <a:avLst/>
                <a:gdLst/>
                <a:ahLst/>
                <a:rect l="l" t="t" r="r" b="b"/>
                <a:pathLst>
                  <a:path w="110" h="9">
                    <a:moveTo>
                      <a:pt x="102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110" y="0"/>
                    </a:lnTo>
                    <a:lnTo>
                      <a:pt x="10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712520" y="16765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09" h="0">
                    <a:moveTo>
                      <a:pt x="101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09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712520" y="1676520"/>
                <a:ext cx="18720" cy="1440"/>
              </a:xfrm>
              <a:custGeom>
                <a:avLst/>
                <a:gdLst/>
                <a:ahLst/>
                <a:rect l="l" t="t" r="r" b="b"/>
                <a:pathLst>
                  <a:path w="109" h="8">
                    <a:moveTo>
                      <a:pt x="101" y="8"/>
                    </a:moveTo>
                    <a:lnTo>
                      <a:pt x="0" y="8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09" y="0"/>
                    </a:lnTo>
                    <a:lnTo>
                      <a:pt x="10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713960" y="167652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01" h="8">
                    <a:moveTo>
                      <a:pt x="101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1" y="0"/>
                    </a:lnTo>
                    <a:lnTo>
                      <a:pt x="10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715760" y="167472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1" h="9">
                    <a:moveTo>
                      <a:pt x="92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101" y="0"/>
                    </a:lnTo>
                    <a:lnTo>
                      <a:pt x="9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715760" y="1674720"/>
                <a:ext cx="18360" cy="1800"/>
              </a:xfrm>
              <a:custGeom>
                <a:avLst/>
                <a:gdLst/>
                <a:ahLst/>
                <a:rect l="l" t="t" r="r" b="b"/>
                <a:pathLst>
                  <a:path w="109" h="9">
                    <a:moveTo>
                      <a:pt x="92" y="9"/>
                    </a:moveTo>
                    <a:lnTo>
                      <a:pt x="0" y="9"/>
                    </a:lnTo>
                    <a:lnTo>
                      <a:pt x="16" y="0"/>
                    </a:lnTo>
                    <a:lnTo>
                      <a:pt x="109" y="0"/>
                    </a:lnTo>
                    <a:lnTo>
                      <a:pt x="92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717200" y="167472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101" h="0">
                    <a:moveTo>
                      <a:pt x="93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01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718640" y="167328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3" h="8">
                    <a:moveTo>
                      <a:pt x="93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718640" y="1673280"/>
                <a:ext cx="17280" cy="144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93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102" y="0"/>
                    </a:lnTo>
                    <a:lnTo>
                      <a:pt x="93" y="0"/>
                    </a:lnTo>
                    <a:lnTo>
                      <a:pt x="9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720440" y="167328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3" h="0">
                    <a:moveTo>
                      <a:pt x="84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93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720440" y="16718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3" h="8">
                    <a:moveTo>
                      <a:pt x="93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93" y="0"/>
                    </a:lnTo>
                    <a:lnTo>
                      <a:pt x="93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721880" y="16718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93" h="8">
                    <a:moveTo>
                      <a:pt x="85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93" y="0"/>
                    </a:lnTo>
                    <a:lnTo>
                      <a:pt x="8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721880" y="16700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85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102" y="0"/>
                    </a:lnTo>
                    <a:lnTo>
                      <a:pt x="85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1723680" y="1670040"/>
                <a:ext cx="15480" cy="1800"/>
              </a:xfrm>
              <a:custGeom>
                <a:avLst/>
                <a:gdLst/>
                <a:ahLst/>
                <a:rect l="l" t="t" r="r" b="b"/>
                <a:pathLst>
                  <a:path w="93" h="9">
                    <a:moveTo>
                      <a:pt x="84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93" y="0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25120" y="16700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5" h="0">
                    <a:moveTo>
                      <a:pt x="85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25120" y="16686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93" h="8">
                    <a:moveTo>
                      <a:pt x="85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93" y="0"/>
                    </a:lnTo>
                    <a:lnTo>
                      <a:pt x="85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25120" y="16686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4" h="8">
                    <a:moveTo>
                      <a:pt x="76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84" y="0"/>
                    </a:lnTo>
                    <a:lnTo>
                      <a:pt x="76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25120" y="1668600"/>
                <a:ext cx="14040" cy="1440"/>
              </a:xfrm>
              <a:custGeom>
                <a:avLst/>
                <a:gdLst/>
                <a:ahLst/>
                <a:rect l="l" t="t" r="r" b="b"/>
                <a:pathLst>
                  <a:path w="84" h="0">
                    <a:moveTo>
                      <a:pt x="84" y="0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26560" y="166680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85" h="9">
                    <a:moveTo>
                      <a:pt x="76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85" y="0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728360" y="166680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67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76" y="0"/>
                    </a:lnTo>
                    <a:lnTo>
                      <a:pt x="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728360" y="166680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76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729800" y="16653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68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76" y="0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729800" y="166536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68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6" y="0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731600" y="16639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68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9" y="0"/>
                    </a:lnTo>
                    <a:lnTo>
                      <a:pt x="76" y="0"/>
                    </a:lnTo>
                    <a:lnTo>
                      <a:pt x="6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731600" y="16639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68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76" y="0"/>
                    </a:lnTo>
                    <a:lnTo>
                      <a:pt x="68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733040" y="166392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67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76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734480" y="166212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59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68" y="0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734480" y="166212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68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68" y="0"/>
                    </a:lnTo>
                    <a:lnTo>
                      <a:pt x="68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734480" y="16621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76" h="0">
                    <a:moveTo>
                      <a:pt x="68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7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736280" y="166068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59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67" y="0"/>
                    </a:lnTo>
                    <a:lnTo>
                      <a:pt x="5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736280" y="166068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67" y="9"/>
                    </a:moveTo>
                    <a:lnTo>
                      <a:pt x="0" y="9"/>
                    </a:lnTo>
                    <a:lnTo>
                      <a:pt x="17" y="0"/>
                    </a:lnTo>
                    <a:lnTo>
                      <a:pt x="67" y="0"/>
                    </a:lnTo>
                    <a:lnTo>
                      <a:pt x="67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737720" y="16588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59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68" y="0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739520" y="1658880"/>
                <a:ext cx="9000" cy="180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50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59" y="0"/>
                    </a:lnTo>
                    <a:lnTo>
                      <a:pt x="50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739520" y="16588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59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67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39520" y="16574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67" h="8">
                    <a:moveTo>
                      <a:pt x="59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67" y="0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39520" y="16574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59" h="8">
                    <a:moveTo>
                      <a:pt x="59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59" y="0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39520" y="1657440"/>
                <a:ext cx="12240" cy="1440"/>
              </a:xfrm>
              <a:custGeom>
                <a:avLst/>
                <a:gdLst/>
                <a:ahLst/>
                <a:rect l="l" t="t" r="r" b="b"/>
                <a:pathLst>
                  <a:path w="68" h="0">
                    <a:moveTo>
                      <a:pt x="59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68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740960" y="165564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59" h="9">
                    <a:moveTo>
                      <a:pt x="50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59" y="0"/>
                    </a:lnTo>
                    <a:lnTo>
                      <a:pt x="5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740960" y="165564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67" h="9">
                    <a:moveTo>
                      <a:pt x="59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67" y="0"/>
                    </a:lnTo>
                    <a:lnTo>
                      <a:pt x="59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742400" y="165564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1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9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742400" y="165420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68" h="8">
                    <a:moveTo>
                      <a:pt x="59" y="8"/>
                    </a:moveTo>
                    <a:lnTo>
                      <a:pt x="0" y="8"/>
                    </a:lnTo>
                    <a:lnTo>
                      <a:pt x="8" y="0"/>
                    </a:lnTo>
                    <a:lnTo>
                      <a:pt x="68" y="0"/>
                    </a:lnTo>
                    <a:lnTo>
                      <a:pt x="5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744200" y="165420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51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60" y="0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44200" y="165276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60" h="9">
                    <a:moveTo>
                      <a:pt x="60" y="9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60" y="0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1745640" y="16527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59" h="9">
                    <a:moveTo>
                      <a:pt x="51" y="9"/>
                    </a:moveTo>
                    <a:lnTo>
                      <a:pt x="0" y="9"/>
                    </a:lnTo>
                    <a:lnTo>
                      <a:pt x="8" y="0"/>
                    </a:lnTo>
                    <a:lnTo>
                      <a:pt x="59" y="0"/>
                    </a:lnTo>
                    <a:lnTo>
                      <a:pt x="51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745640" y="165276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59" h="0">
                    <a:moveTo>
                      <a:pt x="51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9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1747440" y="165096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51" h="8">
                    <a:moveTo>
                      <a:pt x="51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51" y="0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747440" y="1650960"/>
                <a:ext cx="7560" cy="1800"/>
              </a:xfrm>
              <a:custGeom>
                <a:avLst/>
                <a:gdLst/>
                <a:ahLst/>
                <a:rect l="l" t="t" r="r" b="b"/>
                <a:pathLst>
                  <a:path w="51" h="8">
                    <a:moveTo>
                      <a:pt x="51" y="8"/>
                    </a:moveTo>
                    <a:lnTo>
                      <a:pt x="0" y="8"/>
                    </a:lnTo>
                    <a:lnTo>
                      <a:pt x="9" y="0"/>
                    </a:lnTo>
                    <a:lnTo>
                      <a:pt x="51" y="0"/>
                    </a:lnTo>
                    <a:lnTo>
                      <a:pt x="51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0" name=""/>
            <p:cNvSpPr/>
            <p:nvPr/>
          </p:nvSpPr>
          <p:spPr>
            <a:xfrm>
              <a:off x="1687320" y="1162080"/>
              <a:ext cx="10800" cy="144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0" y="0"/>
                  </a:moveTo>
                  <a:lnTo>
                    <a:pt x="67" y="0"/>
                  </a:lnTo>
                  <a:lnTo>
                    <a:pt x="67" y="0"/>
                  </a:lnTo>
                  <a:lnTo>
                    <a:pt x="8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684080" y="1162080"/>
              <a:ext cx="18720" cy="1440"/>
            </a:xfrm>
            <a:custGeom>
              <a:avLst/>
              <a:gdLst/>
              <a:ahLst/>
              <a:rect l="l" t="t" r="r" b="b"/>
              <a:pathLst>
                <a:path w="110" h="8">
                  <a:moveTo>
                    <a:pt x="0" y="0"/>
                  </a:moveTo>
                  <a:lnTo>
                    <a:pt x="110" y="0"/>
                  </a:lnTo>
                  <a:lnTo>
                    <a:pt x="84" y="0"/>
                  </a:lnTo>
                  <a:lnTo>
                    <a:pt x="25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682640" y="1162080"/>
              <a:ext cx="23400" cy="1440"/>
            </a:xfrm>
            <a:custGeom>
              <a:avLst/>
              <a:gdLst/>
              <a:ahLst/>
              <a:rect l="l" t="t" r="r" b="b"/>
              <a:pathLst>
                <a:path w="135" h="0">
                  <a:moveTo>
                    <a:pt x="93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681200" y="1160640"/>
              <a:ext cx="28080" cy="1440"/>
            </a:xfrm>
            <a:custGeom>
              <a:avLst/>
              <a:gdLst/>
              <a:ahLst/>
              <a:rect l="l" t="t" r="r" b="b"/>
              <a:pathLst>
                <a:path w="168" h="9">
                  <a:moveTo>
                    <a:pt x="135" y="9"/>
                  </a:moveTo>
                  <a:lnTo>
                    <a:pt x="25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43" y="9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681200" y="1160640"/>
              <a:ext cx="29520" cy="1440"/>
            </a:xfrm>
            <a:custGeom>
              <a:avLst/>
              <a:gdLst/>
              <a:ahLst/>
              <a:rect l="l" t="t" r="r" b="b"/>
              <a:pathLst>
                <a:path w="177" h="9">
                  <a:moveTo>
                    <a:pt x="151" y="9"/>
                  </a:moveTo>
                  <a:lnTo>
                    <a:pt x="16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7" y="0"/>
                  </a:lnTo>
                  <a:lnTo>
                    <a:pt x="15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679400" y="1160640"/>
              <a:ext cx="31320" cy="1440"/>
            </a:xfrm>
            <a:custGeom>
              <a:avLst/>
              <a:gdLst/>
              <a:ahLst/>
              <a:rect l="l" t="t" r="r" b="b"/>
              <a:pathLst>
                <a:path w="194" h="0">
                  <a:moveTo>
                    <a:pt x="177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679400" y="1158840"/>
              <a:ext cx="34560" cy="1800"/>
            </a:xfrm>
            <a:custGeom>
              <a:avLst/>
              <a:gdLst/>
              <a:ahLst/>
              <a:rect l="l" t="t" r="r" b="b"/>
              <a:pathLst>
                <a:path w="211" h="8">
                  <a:moveTo>
                    <a:pt x="186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1" y="0"/>
                  </a:lnTo>
                  <a:lnTo>
                    <a:pt x="18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677960" y="1158840"/>
              <a:ext cx="37800" cy="1800"/>
            </a:xfrm>
            <a:custGeom>
              <a:avLst/>
              <a:gdLst/>
              <a:ahLst/>
              <a:rect l="l" t="t" r="r" b="b"/>
              <a:pathLst>
                <a:path w="228" h="8">
                  <a:moveTo>
                    <a:pt x="202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19" y="0"/>
                  </a:lnTo>
                  <a:lnTo>
                    <a:pt x="20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677960" y="1157400"/>
              <a:ext cx="39240" cy="1440"/>
            </a:xfrm>
            <a:custGeom>
              <a:avLst/>
              <a:gdLst/>
              <a:ahLst/>
              <a:rect l="l" t="t" r="r" b="b"/>
              <a:pathLst>
                <a:path w="236" h="9">
                  <a:moveTo>
                    <a:pt x="219" y="9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236" y="0"/>
                  </a:lnTo>
                  <a:lnTo>
                    <a:pt x="21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676160" y="1157400"/>
              <a:ext cx="42480" cy="1440"/>
            </a:xfrm>
            <a:custGeom>
              <a:avLst/>
              <a:gdLst/>
              <a:ahLst/>
              <a:rect l="l" t="t" r="r" b="b"/>
              <a:pathLst>
                <a:path w="253" h="9">
                  <a:moveTo>
                    <a:pt x="237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253" y="0"/>
                  </a:lnTo>
                  <a:lnTo>
                    <a:pt x="23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676160" y="1157400"/>
              <a:ext cx="44280" cy="1440"/>
            </a:xfrm>
            <a:custGeom>
              <a:avLst/>
              <a:gdLst/>
              <a:ahLst/>
              <a:rect l="l" t="t" r="r" b="b"/>
              <a:pathLst>
                <a:path w="262" h="0">
                  <a:moveTo>
                    <a:pt x="245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62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676160" y="1155600"/>
              <a:ext cx="45720" cy="1800"/>
            </a:xfrm>
            <a:custGeom>
              <a:avLst/>
              <a:gdLst/>
              <a:ahLst/>
              <a:rect l="l" t="t" r="r" b="b"/>
              <a:pathLst>
                <a:path w="270" h="8">
                  <a:moveTo>
                    <a:pt x="253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270" y="0"/>
                  </a:lnTo>
                  <a:lnTo>
                    <a:pt x="25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674720" y="1155600"/>
              <a:ext cx="48960" cy="1800"/>
            </a:xfrm>
            <a:custGeom>
              <a:avLst/>
              <a:gdLst/>
              <a:ahLst/>
              <a:rect l="l" t="t" r="r" b="b"/>
              <a:pathLst>
                <a:path w="287" h="8">
                  <a:moveTo>
                    <a:pt x="270" y="8"/>
                  </a:moveTo>
                  <a:lnTo>
                    <a:pt x="8" y="8"/>
                  </a:lnTo>
                  <a:lnTo>
                    <a:pt x="0" y="0"/>
                  </a:lnTo>
                  <a:lnTo>
                    <a:pt x="287" y="0"/>
                  </a:lnTo>
                  <a:lnTo>
                    <a:pt x="27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674720" y="1155600"/>
              <a:ext cx="50400" cy="1800"/>
            </a:xfrm>
            <a:custGeom>
              <a:avLst/>
              <a:gdLst/>
              <a:ahLst/>
              <a:rect l="l" t="t" r="r" b="b"/>
              <a:pathLst>
                <a:path w="304" h="0">
                  <a:moveTo>
                    <a:pt x="27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304" y="0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4720" y="1154160"/>
              <a:ext cx="51840" cy="1440"/>
            </a:xfrm>
            <a:custGeom>
              <a:avLst/>
              <a:gdLst/>
              <a:ahLst/>
              <a:rect l="l" t="t" r="r" b="b"/>
              <a:pathLst>
                <a:path w="312" h="9">
                  <a:moveTo>
                    <a:pt x="28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12" y="0"/>
                  </a:lnTo>
                  <a:lnTo>
                    <a:pt x="28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1674720" y="1154160"/>
              <a:ext cx="53640" cy="1440"/>
            </a:xfrm>
            <a:custGeom>
              <a:avLst/>
              <a:gdLst/>
              <a:ahLst/>
              <a:rect l="l" t="t" r="r" b="b"/>
              <a:pathLst>
                <a:path w="321" h="9">
                  <a:moveTo>
                    <a:pt x="304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21" y="0"/>
                  </a:lnTo>
                  <a:lnTo>
                    <a:pt x="312" y="0"/>
                  </a:lnTo>
                  <a:lnTo>
                    <a:pt x="30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674720" y="1154160"/>
              <a:ext cx="53640" cy="1440"/>
            </a:xfrm>
            <a:custGeom>
              <a:avLst/>
              <a:gdLst/>
              <a:ahLst/>
              <a:rect l="l" t="t" r="r" b="b"/>
              <a:pathLst>
                <a:path w="321" h="0">
                  <a:moveTo>
                    <a:pt x="31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21" y="0"/>
                  </a:lnTo>
                  <a:lnTo>
                    <a:pt x="3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674720" y="1152720"/>
              <a:ext cx="55080" cy="1440"/>
            </a:xfrm>
            <a:custGeom>
              <a:avLst/>
              <a:gdLst/>
              <a:ahLst/>
              <a:rect l="l" t="t" r="r" b="b"/>
              <a:pathLst>
                <a:path w="329" h="8">
                  <a:moveTo>
                    <a:pt x="321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29" y="0"/>
                  </a:lnTo>
                  <a:lnTo>
                    <a:pt x="32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2920" y="1152720"/>
              <a:ext cx="58680" cy="1440"/>
            </a:xfrm>
            <a:custGeom>
              <a:avLst/>
              <a:gdLst/>
              <a:ahLst/>
              <a:rect l="l" t="t" r="r" b="b"/>
              <a:pathLst>
                <a:path w="346" h="8">
                  <a:moveTo>
                    <a:pt x="330" y="8"/>
                  </a:moveTo>
                  <a:lnTo>
                    <a:pt x="9" y="8"/>
                  </a:lnTo>
                  <a:lnTo>
                    <a:pt x="0" y="0"/>
                  </a:lnTo>
                  <a:lnTo>
                    <a:pt x="346" y="0"/>
                  </a:lnTo>
                  <a:lnTo>
                    <a:pt x="33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672920" y="1150920"/>
              <a:ext cx="60120" cy="1800"/>
            </a:xfrm>
            <a:custGeom>
              <a:avLst/>
              <a:gdLst/>
              <a:ahLst/>
              <a:rect l="l" t="t" r="r" b="b"/>
              <a:pathLst>
                <a:path w="355" h="9">
                  <a:moveTo>
                    <a:pt x="338" y="9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355" y="0"/>
                  </a:lnTo>
                  <a:lnTo>
                    <a:pt x="33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72920" y="1150920"/>
              <a:ext cx="61560" cy="1800"/>
            </a:xfrm>
            <a:custGeom>
              <a:avLst/>
              <a:gdLst/>
              <a:ahLst/>
              <a:rect l="l" t="t" r="r" b="b"/>
              <a:pathLst>
                <a:path w="363" h="9">
                  <a:moveTo>
                    <a:pt x="34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363" y="0"/>
                  </a:lnTo>
                  <a:lnTo>
                    <a:pt x="34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672920" y="1150920"/>
              <a:ext cx="63360" cy="1800"/>
            </a:xfrm>
            <a:custGeom>
              <a:avLst/>
              <a:gdLst/>
              <a:ahLst/>
              <a:rect l="l" t="t" r="r" b="b"/>
              <a:pathLst>
                <a:path w="372" h="0">
                  <a:moveTo>
                    <a:pt x="355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72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672920" y="1149480"/>
              <a:ext cx="63360" cy="1440"/>
            </a:xfrm>
            <a:custGeom>
              <a:avLst/>
              <a:gdLst/>
              <a:ahLst/>
              <a:rect l="l" t="t" r="r" b="b"/>
              <a:pathLst>
                <a:path w="372" h="8">
                  <a:moveTo>
                    <a:pt x="363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72" y="0"/>
                  </a:lnTo>
                  <a:lnTo>
                    <a:pt x="36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672920" y="1149480"/>
              <a:ext cx="64800" cy="1440"/>
            </a:xfrm>
            <a:custGeom>
              <a:avLst/>
              <a:gdLst/>
              <a:ahLst/>
              <a:rect l="l" t="t" r="r" b="b"/>
              <a:pathLst>
                <a:path w="380" h="8">
                  <a:moveTo>
                    <a:pt x="372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80" y="0"/>
                  </a:lnTo>
                  <a:lnTo>
                    <a:pt x="37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2920" y="1149480"/>
              <a:ext cx="66600" cy="1440"/>
            </a:xfrm>
            <a:custGeom>
              <a:avLst/>
              <a:gdLst/>
              <a:ahLst/>
              <a:rect l="l" t="t" r="r" b="b"/>
              <a:pathLst>
                <a:path w="389" h="0">
                  <a:moveTo>
                    <a:pt x="37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89" y="0"/>
                  </a:lnTo>
                  <a:lnTo>
                    <a:pt x="3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672920" y="1147680"/>
              <a:ext cx="66600" cy="1800"/>
            </a:xfrm>
            <a:custGeom>
              <a:avLst/>
              <a:gdLst/>
              <a:ahLst/>
              <a:rect l="l" t="t" r="r" b="b"/>
              <a:pathLst>
                <a:path w="397" h="8">
                  <a:moveTo>
                    <a:pt x="380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397" y="0"/>
                  </a:lnTo>
                  <a:lnTo>
                    <a:pt x="38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672920" y="1147680"/>
              <a:ext cx="68040" cy="1800"/>
            </a:xfrm>
            <a:custGeom>
              <a:avLst/>
              <a:gdLst/>
              <a:ahLst/>
              <a:rect l="l" t="t" r="r" b="b"/>
              <a:pathLst>
                <a:path w="406" h="8">
                  <a:moveTo>
                    <a:pt x="389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406" y="0"/>
                  </a:lnTo>
                  <a:lnTo>
                    <a:pt x="38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674720" y="1146240"/>
              <a:ext cx="66240" cy="1440"/>
            </a:xfrm>
            <a:custGeom>
              <a:avLst/>
              <a:gdLst/>
              <a:ahLst/>
              <a:rect l="l" t="t" r="r" b="b"/>
              <a:pathLst>
                <a:path w="397" h="9">
                  <a:moveTo>
                    <a:pt x="38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97" y="0"/>
                  </a:lnTo>
                  <a:lnTo>
                    <a:pt x="38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674720" y="1146240"/>
              <a:ext cx="69480" cy="1440"/>
            </a:xfrm>
            <a:custGeom>
              <a:avLst/>
              <a:gdLst/>
              <a:ahLst/>
              <a:rect l="l" t="t" r="r" b="b"/>
              <a:pathLst>
                <a:path w="413" h="9">
                  <a:moveTo>
                    <a:pt x="39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413" y="0"/>
                  </a:lnTo>
                  <a:lnTo>
                    <a:pt x="39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674720" y="1146240"/>
              <a:ext cx="69480" cy="1440"/>
            </a:xfrm>
            <a:custGeom>
              <a:avLst/>
              <a:gdLst/>
              <a:ahLst/>
              <a:rect l="l" t="t" r="r" b="b"/>
              <a:pathLst>
                <a:path w="413" h="0">
                  <a:moveTo>
                    <a:pt x="39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13" y="0"/>
                  </a:lnTo>
                  <a:lnTo>
                    <a:pt x="39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674720" y="1144800"/>
              <a:ext cx="70920" cy="1440"/>
            </a:xfrm>
            <a:custGeom>
              <a:avLst/>
              <a:gdLst/>
              <a:ahLst/>
              <a:rect l="l" t="t" r="r" b="b"/>
              <a:pathLst>
                <a:path w="422" h="8">
                  <a:moveTo>
                    <a:pt x="413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422" y="0"/>
                  </a:lnTo>
                  <a:lnTo>
                    <a:pt x="4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674720" y="1144800"/>
              <a:ext cx="72720" cy="1440"/>
            </a:xfrm>
            <a:custGeom>
              <a:avLst/>
              <a:gdLst/>
              <a:ahLst/>
              <a:rect l="l" t="t" r="r" b="b"/>
              <a:pathLst>
                <a:path w="430" h="8">
                  <a:moveTo>
                    <a:pt x="413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430" y="0"/>
                  </a:lnTo>
                  <a:lnTo>
                    <a:pt x="41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674720" y="1144800"/>
              <a:ext cx="74160" cy="1440"/>
            </a:xfrm>
            <a:custGeom>
              <a:avLst/>
              <a:gdLst/>
              <a:ahLst/>
              <a:rect l="l" t="t" r="r" b="b"/>
              <a:pathLst>
                <a:path w="439" h="0">
                  <a:moveTo>
                    <a:pt x="42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39" y="0"/>
                  </a:lnTo>
                  <a:lnTo>
                    <a:pt x="4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674720" y="1143000"/>
              <a:ext cx="75960" cy="1800"/>
            </a:xfrm>
            <a:custGeom>
              <a:avLst/>
              <a:gdLst/>
              <a:ahLst/>
              <a:rect l="l" t="t" r="r" b="b"/>
              <a:pathLst>
                <a:path w="447" h="9">
                  <a:moveTo>
                    <a:pt x="430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47" y="0"/>
                  </a:lnTo>
                  <a:lnTo>
                    <a:pt x="439" y="9"/>
                  </a:lnTo>
                  <a:lnTo>
                    <a:pt x="43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674720" y="1143000"/>
              <a:ext cx="75960" cy="1800"/>
            </a:xfrm>
            <a:custGeom>
              <a:avLst/>
              <a:gdLst/>
              <a:ahLst/>
              <a:rect l="l" t="t" r="r" b="b"/>
              <a:pathLst>
                <a:path w="447" h="9">
                  <a:moveTo>
                    <a:pt x="439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447" y="0"/>
                  </a:lnTo>
                  <a:lnTo>
                    <a:pt x="43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674720" y="1143000"/>
              <a:ext cx="77400" cy="1800"/>
            </a:xfrm>
            <a:custGeom>
              <a:avLst/>
              <a:gdLst/>
              <a:ahLst/>
              <a:rect l="l" t="t" r="r" b="b"/>
              <a:pathLst>
                <a:path w="456" h="0">
                  <a:moveTo>
                    <a:pt x="44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56" y="0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76160" y="1141560"/>
              <a:ext cx="77400" cy="1440"/>
            </a:xfrm>
            <a:custGeom>
              <a:avLst/>
              <a:gdLst/>
              <a:ahLst/>
              <a:rect l="l" t="t" r="r" b="b"/>
              <a:pathLst>
                <a:path w="456" h="8">
                  <a:moveTo>
                    <a:pt x="439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0"/>
                  </a:lnTo>
                  <a:lnTo>
                    <a:pt x="456" y="0"/>
                  </a:lnTo>
                  <a:lnTo>
                    <a:pt x="4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676160" y="1141560"/>
              <a:ext cx="79200" cy="1440"/>
            </a:xfrm>
            <a:custGeom>
              <a:avLst/>
              <a:gdLst/>
              <a:ahLst/>
              <a:rect l="l" t="t" r="r" b="b"/>
              <a:pathLst>
                <a:path w="465" h="8">
                  <a:moveTo>
                    <a:pt x="448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465" y="0"/>
                  </a:lnTo>
                  <a:lnTo>
                    <a:pt x="44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676160" y="1139760"/>
              <a:ext cx="79200" cy="1800"/>
            </a:xfrm>
            <a:custGeom>
              <a:avLst/>
              <a:gdLst/>
              <a:ahLst/>
              <a:rect l="l" t="t" r="r" b="b"/>
              <a:pathLst>
                <a:path w="465" h="9">
                  <a:moveTo>
                    <a:pt x="456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465" y="0"/>
                  </a:lnTo>
                  <a:lnTo>
                    <a:pt x="4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77960" y="1139760"/>
              <a:ext cx="77400" cy="1800"/>
            </a:xfrm>
            <a:custGeom>
              <a:avLst/>
              <a:gdLst/>
              <a:ahLst/>
              <a:rect l="l" t="t" r="r" b="b"/>
              <a:pathLst>
                <a:path w="464" h="9">
                  <a:moveTo>
                    <a:pt x="456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464" y="0"/>
                  </a:lnTo>
                  <a:lnTo>
                    <a:pt x="4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677960" y="1139760"/>
              <a:ext cx="78840" cy="1800"/>
            </a:xfrm>
            <a:custGeom>
              <a:avLst/>
              <a:gdLst/>
              <a:ahLst/>
              <a:rect l="l" t="t" r="r" b="b"/>
              <a:pathLst>
                <a:path w="472" h="0">
                  <a:moveTo>
                    <a:pt x="456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77960" y="1138320"/>
              <a:ext cx="78840" cy="1440"/>
            </a:xfrm>
            <a:custGeom>
              <a:avLst/>
              <a:gdLst/>
              <a:ahLst/>
              <a:rect l="l" t="t" r="r" b="b"/>
              <a:pathLst>
                <a:path w="472" h="8">
                  <a:moveTo>
                    <a:pt x="464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72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679400" y="1138320"/>
              <a:ext cx="79200" cy="1440"/>
            </a:xfrm>
            <a:custGeom>
              <a:avLst/>
              <a:gdLst/>
              <a:ahLst/>
              <a:rect l="l" t="t" r="r" b="b"/>
              <a:pathLst>
                <a:path w="473" h="8">
                  <a:moveTo>
                    <a:pt x="464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473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679400" y="113832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0">
                  <a:moveTo>
                    <a:pt x="464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481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681200" y="1136520"/>
              <a:ext cx="80280" cy="180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64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481" y="0"/>
                  </a:lnTo>
                  <a:lnTo>
                    <a:pt x="46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81200" y="1136520"/>
              <a:ext cx="80280" cy="180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72" y="9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481" y="0"/>
                  </a:lnTo>
                  <a:lnTo>
                    <a:pt x="47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81200" y="1135080"/>
              <a:ext cx="82080" cy="144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73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81" y="0"/>
                  </a:lnTo>
                  <a:lnTo>
                    <a:pt x="4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682640" y="1135080"/>
              <a:ext cx="82080" cy="1440"/>
            </a:xfrm>
            <a:custGeom>
              <a:avLst/>
              <a:gdLst/>
              <a:ahLst/>
              <a:rect l="l" t="t" r="r" b="b"/>
              <a:pathLst>
                <a:path w="482" h="8">
                  <a:moveTo>
                    <a:pt x="465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482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682640" y="1135080"/>
              <a:ext cx="83880" cy="1440"/>
            </a:xfrm>
            <a:custGeom>
              <a:avLst/>
              <a:gdLst/>
              <a:ahLst/>
              <a:rect l="l" t="t" r="r" b="b"/>
              <a:pathLst>
                <a:path w="490" h="0">
                  <a:moveTo>
                    <a:pt x="473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490" y="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684080" y="1135080"/>
              <a:ext cx="82440" cy="144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73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81" y="0"/>
                  </a:lnTo>
                  <a:lnTo>
                    <a:pt x="4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684080" y="1135080"/>
              <a:ext cx="83880" cy="1440"/>
            </a:xfrm>
            <a:custGeom>
              <a:avLst/>
              <a:gdLst/>
              <a:ahLst/>
              <a:rect l="l" t="t" r="r" b="b"/>
              <a:pathLst>
                <a:path w="490" h="8">
                  <a:moveTo>
                    <a:pt x="481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90" y="0"/>
                  </a:lnTo>
                  <a:lnTo>
                    <a:pt x="4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685880" y="1135080"/>
              <a:ext cx="83520" cy="1440"/>
            </a:xfrm>
            <a:custGeom>
              <a:avLst/>
              <a:gdLst/>
              <a:ahLst/>
              <a:rect l="l" t="t" r="r" b="b"/>
              <a:pathLst>
                <a:path w="490" h="0">
                  <a:moveTo>
                    <a:pt x="473" y="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490" y="0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87320" y="1133640"/>
              <a:ext cx="82080" cy="1440"/>
            </a:xfrm>
            <a:custGeom>
              <a:avLst/>
              <a:gdLst/>
              <a:ahLst/>
              <a:rect l="l" t="t" r="r" b="b"/>
              <a:pathLst>
                <a:path w="489" h="9">
                  <a:moveTo>
                    <a:pt x="473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489" y="0"/>
                  </a:lnTo>
                  <a:lnTo>
                    <a:pt x="47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89120" y="1133640"/>
              <a:ext cx="80280" cy="144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73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481" y="0"/>
                  </a:lnTo>
                  <a:lnTo>
                    <a:pt x="481" y="0"/>
                  </a:lnTo>
                  <a:lnTo>
                    <a:pt x="47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9120" y="1133640"/>
              <a:ext cx="82080" cy="1440"/>
            </a:xfrm>
            <a:custGeom>
              <a:avLst/>
              <a:gdLst/>
              <a:ahLst/>
              <a:rect l="l" t="t" r="r" b="b"/>
              <a:pathLst>
                <a:path w="490" h="0">
                  <a:moveTo>
                    <a:pt x="481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490" y="0"/>
                  </a:lnTo>
                  <a:lnTo>
                    <a:pt x="48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90560" y="1131840"/>
              <a:ext cx="82080" cy="180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472" y="8"/>
                  </a:moveTo>
                  <a:lnTo>
                    <a:pt x="0" y="8"/>
                  </a:lnTo>
                  <a:lnTo>
                    <a:pt x="25" y="0"/>
                  </a:lnTo>
                  <a:lnTo>
                    <a:pt x="489" y="0"/>
                  </a:lnTo>
                  <a:lnTo>
                    <a:pt x="47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693800" y="1131840"/>
              <a:ext cx="80640" cy="1800"/>
            </a:xfrm>
            <a:custGeom>
              <a:avLst/>
              <a:gdLst/>
              <a:ahLst/>
              <a:rect l="l" t="t" r="r" b="b"/>
              <a:pathLst>
                <a:path w="482" h="8">
                  <a:moveTo>
                    <a:pt x="465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82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95240" y="113040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64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81" y="0"/>
                  </a:lnTo>
                  <a:lnTo>
                    <a:pt x="46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95240" y="1130400"/>
              <a:ext cx="82440" cy="1440"/>
            </a:xfrm>
            <a:custGeom>
              <a:avLst/>
              <a:gdLst/>
              <a:ahLst/>
              <a:rect l="l" t="t" r="r" b="b"/>
              <a:pathLst>
                <a:path w="482" h="9">
                  <a:moveTo>
                    <a:pt x="465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82" y="0"/>
                  </a:lnTo>
                  <a:lnTo>
                    <a:pt x="46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97040" y="1130400"/>
              <a:ext cx="83520" cy="1440"/>
            </a:xfrm>
            <a:custGeom>
              <a:avLst/>
              <a:gdLst/>
              <a:ahLst/>
              <a:rect l="l" t="t" r="r" b="b"/>
              <a:pathLst>
                <a:path w="490" h="0">
                  <a:moveTo>
                    <a:pt x="464" y="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490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98480" y="1128600"/>
              <a:ext cx="82080" cy="1800"/>
            </a:xfrm>
            <a:custGeom>
              <a:avLst/>
              <a:gdLst/>
              <a:ahLst/>
              <a:rect l="l" t="t" r="r" b="b"/>
              <a:pathLst>
                <a:path w="482" h="8">
                  <a:moveTo>
                    <a:pt x="465" y="8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482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99920" y="1128600"/>
              <a:ext cx="82440" cy="180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73" y="8"/>
                  </a:moveTo>
                  <a:lnTo>
                    <a:pt x="0" y="8"/>
                  </a:lnTo>
                  <a:lnTo>
                    <a:pt x="25" y="0"/>
                  </a:lnTo>
                  <a:lnTo>
                    <a:pt x="481" y="0"/>
                  </a:lnTo>
                  <a:lnTo>
                    <a:pt x="4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703160" y="1128600"/>
              <a:ext cx="79200" cy="1800"/>
            </a:xfrm>
            <a:custGeom>
              <a:avLst/>
              <a:gdLst/>
              <a:ahLst/>
              <a:rect l="l" t="t" r="r" b="b"/>
              <a:pathLst>
                <a:path w="472" h="0">
                  <a:moveTo>
                    <a:pt x="456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472" y="0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704960" y="112716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56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81" y="0"/>
                  </a:lnTo>
                  <a:lnTo>
                    <a:pt x="4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706400" y="1127160"/>
              <a:ext cx="80640" cy="1440"/>
            </a:xfrm>
            <a:custGeom>
              <a:avLst/>
              <a:gdLst/>
              <a:ahLst/>
              <a:rect l="l" t="t" r="r" b="b"/>
              <a:pathLst>
                <a:path w="482" h="9">
                  <a:moveTo>
                    <a:pt x="456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82" y="0"/>
                  </a:lnTo>
                  <a:lnTo>
                    <a:pt x="473" y="0"/>
                  </a:lnTo>
                  <a:lnTo>
                    <a:pt x="4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07840" y="112572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64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81" y="0"/>
                  </a:lnTo>
                  <a:lnTo>
                    <a:pt x="46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709640" y="1125720"/>
              <a:ext cx="80640" cy="1440"/>
            </a:xfrm>
            <a:custGeom>
              <a:avLst/>
              <a:gdLst/>
              <a:ahLst/>
              <a:rect l="l" t="t" r="r" b="b"/>
              <a:pathLst>
                <a:path w="482" h="8">
                  <a:moveTo>
                    <a:pt x="465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82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711080" y="112572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0">
                  <a:moveTo>
                    <a:pt x="464" y="0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481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11080" y="1123920"/>
              <a:ext cx="82440" cy="180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65" y="9"/>
                  </a:moveTo>
                  <a:lnTo>
                    <a:pt x="0" y="9"/>
                  </a:lnTo>
                  <a:lnTo>
                    <a:pt x="26" y="0"/>
                  </a:lnTo>
                  <a:lnTo>
                    <a:pt x="481" y="0"/>
                  </a:lnTo>
                  <a:lnTo>
                    <a:pt x="46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714320" y="1123920"/>
              <a:ext cx="80640" cy="1800"/>
            </a:xfrm>
            <a:custGeom>
              <a:avLst/>
              <a:gdLst/>
              <a:ahLst/>
              <a:rect l="l" t="t" r="r" b="b"/>
              <a:pathLst>
                <a:path w="473" h="9">
                  <a:moveTo>
                    <a:pt x="456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73" y="0"/>
                  </a:lnTo>
                  <a:lnTo>
                    <a:pt x="4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716120" y="1123920"/>
              <a:ext cx="82080" cy="1800"/>
            </a:xfrm>
            <a:custGeom>
              <a:avLst/>
              <a:gdLst/>
              <a:ahLst/>
              <a:rect l="l" t="t" r="r" b="b"/>
              <a:pathLst>
                <a:path w="481" h="0">
                  <a:moveTo>
                    <a:pt x="455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481" y="0"/>
                  </a:lnTo>
                  <a:lnTo>
                    <a:pt x="4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717560" y="112248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56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81" y="0"/>
                  </a:lnTo>
                  <a:lnTo>
                    <a:pt x="473" y="8"/>
                  </a:lnTo>
                  <a:lnTo>
                    <a:pt x="45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719000" y="1122480"/>
              <a:ext cx="80640" cy="1440"/>
            </a:xfrm>
            <a:custGeom>
              <a:avLst/>
              <a:gdLst/>
              <a:ahLst/>
              <a:rect l="l" t="t" r="r" b="b"/>
              <a:pathLst>
                <a:path w="482" h="8">
                  <a:moveTo>
                    <a:pt x="465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82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720800" y="1122480"/>
              <a:ext cx="80640" cy="1440"/>
            </a:xfrm>
            <a:custGeom>
              <a:avLst/>
              <a:gdLst/>
              <a:ahLst/>
              <a:rect l="l" t="t" r="r" b="b"/>
              <a:pathLst>
                <a:path w="481" h="0">
                  <a:moveTo>
                    <a:pt x="464" y="0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481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722240" y="1120680"/>
              <a:ext cx="80640" cy="1800"/>
            </a:xfrm>
            <a:custGeom>
              <a:avLst/>
              <a:gdLst/>
              <a:ahLst/>
              <a:rect l="l" t="t" r="r" b="b"/>
              <a:pathLst>
                <a:path w="482" h="8">
                  <a:moveTo>
                    <a:pt x="465" y="8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482" y="0"/>
                  </a:lnTo>
                  <a:lnTo>
                    <a:pt x="46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725480" y="1120680"/>
              <a:ext cx="80640" cy="180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56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481" y="0"/>
                  </a:lnTo>
                  <a:lnTo>
                    <a:pt x="45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725480" y="1119240"/>
              <a:ext cx="82080" cy="1440"/>
            </a:xfrm>
            <a:custGeom>
              <a:avLst/>
              <a:gdLst/>
              <a:ahLst/>
              <a:rect l="l" t="t" r="r" b="b"/>
              <a:pathLst>
                <a:path w="481" h="9">
                  <a:moveTo>
                    <a:pt x="456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81" y="0"/>
                  </a:lnTo>
                  <a:lnTo>
                    <a:pt x="472" y="9"/>
                  </a:lnTo>
                  <a:lnTo>
                    <a:pt x="45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26920" y="1119240"/>
              <a:ext cx="83880" cy="1440"/>
            </a:xfrm>
            <a:custGeom>
              <a:avLst/>
              <a:gdLst/>
              <a:ahLst/>
              <a:rect l="l" t="t" r="r" b="b"/>
              <a:pathLst>
                <a:path w="490" h="9">
                  <a:moveTo>
                    <a:pt x="464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90" y="0"/>
                  </a:lnTo>
                  <a:lnTo>
                    <a:pt x="46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728720" y="1119240"/>
              <a:ext cx="85320" cy="1440"/>
            </a:xfrm>
            <a:custGeom>
              <a:avLst/>
              <a:gdLst/>
              <a:ahLst/>
              <a:rect l="l" t="t" r="r" b="b"/>
              <a:pathLst>
                <a:path w="498" h="0">
                  <a:moveTo>
                    <a:pt x="464" y="0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498" y="0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30160" y="1117800"/>
              <a:ext cx="85320" cy="1440"/>
            </a:xfrm>
            <a:custGeom>
              <a:avLst/>
              <a:gdLst/>
              <a:ahLst/>
              <a:rect l="l" t="t" r="r" b="b"/>
              <a:pathLst>
                <a:path w="507" h="8">
                  <a:moveTo>
                    <a:pt x="473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507" y="0"/>
                  </a:lnTo>
                  <a:lnTo>
                    <a:pt x="47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731960" y="1117800"/>
              <a:ext cx="88560" cy="1440"/>
            </a:xfrm>
            <a:custGeom>
              <a:avLst/>
              <a:gdLst/>
              <a:ahLst/>
              <a:rect l="l" t="t" r="r" b="b"/>
              <a:pathLst>
                <a:path w="524" h="8">
                  <a:moveTo>
                    <a:pt x="482" y="8"/>
                  </a:moveTo>
                  <a:lnTo>
                    <a:pt x="0" y="8"/>
                  </a:lnTo>
                  <a:lnTo>
                    <a:pt x="26" y="0"/>
                  </a:lnTo>
                  <a:lnTo>
                    <a:pt x="524" y="0"/>
                  </a:lnTo>
                  <a:lnTo>
                    <a:pt x="507" y="0"/>
                  </a:lnTo>
                  <a:lnTo>
                    <a:pt x="4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733400" y="1117800"/>
              <a:ext cx="93240" cy="1440"/>
            </a:xfrm>
            <a:custGeom>
              <a:avLst/>
              <a:gdLst/>
              <a:ahLst/>
              <a:rect l="l" t="t" r="r" b="b"/>
              <a:pathLst>
                <a:path w="549" h="0">
                  <a:moveTo>
                    <a:pt x="490" y="0"/>
                  </a:moveTo>
                  <a:lnTo>
                    <a:pt x="0" y="0"/>
                  </a:lnTo>
                  <a:lnTo>
                    <a:pt x="25" y="0"/>
                  </a:lnTo>
                  <a:lnTo>
                    <a:pt x="549" y="0"/>
                  </a:lnTo>
                  <a:lnTo>
                    <a:pt x="498" y="0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736640" y="1116000"/>
              <a:ext cx="94680" cy="1800"/>
            </a:xfrm>
            <a:custGeom>
              <a:avLst/>
              <a:gdLst/>
              <a:ahLst/>
              <a:rect l="l" t="t" r="r" b="b"/>
              <a:pathLst>
                <a:path w="565" h="9">
                  <a:moveTo>
                    <a:pt x="498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565" y="0"/>
                  </a:lnTo>
                  <a:lnTo>
                    <a:pt x="498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38080" y="1116000"/>
              <a:ext cx="117360" cy="1800"/>
            </a:xfrm>
            <a:custGeom>
              <a:avLst/>
              <a:gdLst/>
              <a:ahLst/>
              <a:rect l="l" t="t" r="r" b="b"/>
              <a:pathLst>
                <a:path w="693" h="9">
                  <a:moveTo>
                    <a:pt x="524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693" y="0"/>
                  </a:lnTo>
                  <a:lnTo>
                    <a:pt x="650" y="0"/>
                  </a:lnTo>
                  <a:lnTo>
                    <a:pt x="566" y="0"/>
                  </a:lnTo>
                  <a:lnTo>
                    <a:pt x="52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739880" y="1116000"/>
              <a:ext cx="126360" cy="1800"/>
            </a:xfrm>
            <a:custGeom>
              <a:avLst/>
              <a:gdLst/>
              <a:ahLst/>
              <a:rect l="l" t="t" r="r" b="b"/>
              <a:pathLst>
                <a:path w="751" h="0">
                  <a:moveTo>
                    <a:pt x="548" y="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751" y="0"/>
                  </a:lnTo>
                  <a:lnTo>
                    <a:pt x="641" y="0"/>
                  </a:lnTo>
                  <a:lnTo>
                    <a:pt x="557" y="0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739880" y="1114560"/>
              <a:ext cx="134640" cy="1440"/>
            </a:xfrm>
            <a:custGeom>
              <a:avLst/>
              <a:gdLst/>
              <a:ahLst/>
              <a:rect l="l" t="t" r="r" b="b"/>
              <a:pathLst>
                <a:path w="794" h="8">
                  <a:moveTo>
                    <a:pt x="676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794" y="0"/>
                  </a:lnTo>
                  <a:lnTo>
                    <a:pt x="794" y="8"/>
                  </a:lnTo>
                  <a:lnTo>
                    <a:pt x="67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741320" y="1114560"/>
              <a:ext cx="133200" cy="1440"/>
            </a:xfrm>
            <a:custGeom>
              <a:avLst/>
              <a:gdLst/>
              <a:ahLst/>
              <a:rect l="l" t="t" r="r" b="b"/>
              <a:pathLst>
                <a:path w="785" h="8">
                  <a:moveTo>
                    <a:pt x="734" y="8"/>
                  </a:moveTo>
                  <a:lnTo>
                    <a:pt x="0" y="8"/>
                  </a:lnTo>
                  <a:lnTo>
                    <a:pt x="16" y="0"/>
                  </a:lnTo>
                  <a:lnTo>
                    <a:pt x="759" y="0"/>
                  </a:lnTo>
                  <a:lnTo>
                    <a:pt x="785" y="8"/>
                  </a:lnTo>
                  <a:lnTo>
                    <a:pt x="73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742760" y="1112760"/>
              <a:ext cx="131760" cy="1800"/>
            </a:xfrm>
            <a:custGeom>
              <a:avLst/>
              <a:gdLst/>
              <a:ahLst/>
              <a:rect l="l" t="t" r="r" b="b"/>
              <a:pathLst>
                <a:path w="777" h="9">
                  <a:moveTo>
                    <a:pt x="777" y="9"/>
                  </a:moveTo>
                  <a:lnTo>
                    <a:pt x="0" y="9"/>
                  </a:lnTo>
                  <a:lnTo>
                    <a:pt x="25" y="0"/>
                  </a:lnTo>
                  <a:lnTo>
                    <a:pt x="734" y="0"/>
                  </a:lnTo>
                  <a:lnTo>
                    <a:pt x="77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744560" y="1112760"/>
              <a:ext cx="126720" cy="1800"/>
            </a:xfrm>
            <a:custGeom>
              <a:avLst/>
              <a:gdLst/>
              <a:ahLst/>
              <a:rect l="l" t="t" r="r" b="b"/>
              <a:pathLst>
                <a:path w="743" h="9">
                  <a:moveTo>
                    <a:pt x="743" y="9"/>
                  </a:moveTo>
                  <a:lnTo>
                    <a:pt x="0" y="9"/>
                  </a:lnTo>
                  <a:lnTo>
                    <a:pt x="26" y="0"/>
                  </a:lnTo>
                  <a:lnTo>
                    <a:pt x="710" y="0"/>
                  </a:lnTo>
                  <a:lnTo>
                    <a:pt x="743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47800" y="1112760"/>
              <a:ext cx="120240" cy="1800"/>
            </a:xfrm>
            <a:custGeom>
              <a:avLst/>
              <a:gdLst/>
              <a:ahLst/>
              <a:rect l="l" t="t" r="r" b="b"/>
              <a:pathLst>
                <a:path w="709" h="0">
                  <a:moveTo>
                    <a:pt x="709" y="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676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749240" y="1111320"/>
              <a:ext cx="115560" cy="1440"/>
            </a:xfrm>
            <a:custGeom>
              <a:avLst/>
              <a:gdLst/>
              <a:ahLst/>
              <a:rect l="l" t="t" r="r" b="b"/>
              <a:pathLst>
                <a:path w="684" h="8">
                  <a:moveTo>
                    <a:pt x="684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650" y="0"/>
                  </a:lnTo>
                  <a:lnTo>
                    <a:pt x="68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751040" y="1111320"/>
              <a:ext cx="110520" cy="1440"/>
            </a:xfrm>
            <a:custGeom>
              <a:avLst/>
              <a:gdLst/>
              <a:ahLst/>
              <a:rect l="l" t="t" r="r" b="b"/>
              <a:pathLst>
                <a:path w="659" h="8">
                  <a:moveTo>
                    <a:pt x="659" y="8"/>
                  </a:moveTo>
                  <a:lnTo>
                    <a:pt x="0" y="8"/>
                  </a:lnTo>
                  <a:lnTo>
                    <a:pt x="17" y="0"/>
                  </a:lnTo>
                  <a:lnTo>
                    <a:pt x="617" y="0"/>
                  </a:lnTo>
                  <a:lnTo>
                    <a:pt x="65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752480" y="1111320"/>
              <a:ext cx="105840" cy="1440"/>
            </a:xfrm>
            <a:custGeom>
              <a:avLst/>
              <a:gdLst/>
              <a:ahLst/>
              <a:rect l="l" t="t" r="r" b="b"/>
              <a:pathLst>
                <a:path w="633" h="0">
                  <a:moveTo>
                    <a:pt x="633" y="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5" y="0"/>
                  </a:lnTo>
                  <a:lnTo>
                    <a:pt x="591" y="0"/>
                  </a:lnTo>
                  <a:lnTo>
                    <a:pt x="6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753920" y="1111320"/>
              <a:ext cx="101520" cy="1440"/>
            </a:xfrm>
            <a:custGeom>
              <a:avLst/>
              <a:gdLst/>
              <a:ahLst/>
              <a:rect l="l" t="t" r="r" b="b"/>
              <a:pathLst>
                <a:path w="600" h="0">
                  <a:moveTo>
                    <a:pt x="600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5" y="0"/>
                  </a:lnTo>
                  <a:lnTo>
                    <a:pt x="566" y="0"/>
                  </a:lnTo>
                  <a:lnTo>
                    <a:pt x="6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755720" y="1109880"/>
              <a:ext cx="96480" cy="1440"/>
            </a:xfrm>
            <a:custGeom>
              <a:avLst/>
              <a:gdLst/>
              <a:ahLst/>
              <a:rect l="l" t="t" r="r" b="b"/>
              <a:pathLst>
                <a:path w="566" h="9">
                  <a:moveTo>
                    <a:pt x="566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532" y="0"/>
                  </a:lnTo>
                  <a:lnTo>
                    <a:pt x="56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757160" y="1109880"/>
              <a:ext cx="91800" cy="1440"/>
            </a:xfrm>
            <a:custGeom>
              <a:avLst/>
              <a:gdLst/>
              <a:ahLst/>
              <a:rect l="l" t="t" r="r" b="b"/>
              <a:pathLst>
                <a:path w="541" h="9">
                  <a:moveTo>
                    <a:pt x="541" y="9"/>
                  </a:moveTo>
                  <a:lnTo>
                    <a:pt x="0" y="9"/>
                  </a:lnTo>
                  <a:lnTo>
                    <a:pt x="26" y="0"/>
                  </a:lnTo>
                  <a:lnTo>
                    <a:pt x="507" y="0"/>
                  </a:lnTo>
                  <a:lnTo>
                    <a:pt x="541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758960" y="1108080"/>
              <a:ext cx="86760" cy="1800"/>
            </a:xfrm>
            <a:custGeom>
              <a:avLst/>
              <a:gdLst/>
              <a:ahLst/>
              <a:rect l="l" t="t" r="r" b="b"/>
              <a:pathLst>
                <a:path w="515" h="8">
                  <a:moveTo>
                    <a:pt x="515" y="8"/>
                  </a:moveTo>
                  <a:lnTo>
                    <a:pt x="0" y="8"/>
                  </a:lnTo>
                  <a:lnTo>
                    <a:pt x="25" y="0"/>
                  </a:lnTo>
                  <a:lnTo>
                    <a:pt x="473" y="0"/>
                  </a:lnTo>
                  <a:lnTo>
                    <a:pt x="51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761840" y="1108080"/>
              <a:ext cx="80640" cy="1800"/>
            </a:xfrm>
            <a:custGeom>
              <a:avLst/>
              <a:gdLst/>
              <a:ahLst/>
              <a:rect l="l" t="t" r="r" b="b"/>
              <a:pathLst>
                <a:path w="481" h="8">
                  <a:moveTo>
                    <a:pt x="481" y="8"/>
                  </a:moveTo>
                  <a:lnTo>
                    <a:pt x="0" y="8"/>
                  </a:lnTo>
                  <a:lnTo>
                    <a:pt x="25" y="0"/>
                  </a:lnTo>
                  <a:lnTo>
                    <a:pt x="439" y="0"/>
                  </a:lnTo>
                  <a:lnTo>
                    <a:pt x="481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763640" y="1108080"/>
              <a:ext cx="75600" cy="1800"/>
            </a:xfrm>
            <a:custGeom>
              <a:avLst/>
              <a:gdLst/>
              <a:ahLst/>
              <a:rect l="l" t="t" r="r" b="b"/>
              <a:pathLst>
                <a:path w="448" h="0">
                  <a:moveTo>
                    <a:pt x="448" y="0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26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4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766880" y="1106640"/>
              <a:ext cx="69480" cy="1440"/>
            </a:xfrm>
            <a:custGeom>
              <a:avLst/>
              <a:gdLst/>
              <a:ahLst/>
              <a:rect l="l" t="t" r="r" b="b"/>
              <a:pathLst>
                <a:path w="414" h="8">
                  <a:moveTo>
                    <a:pt x="414" y="8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34" y="0"/>
                  </a:lnTo>
                  <a:lnTo>
                    <a:pt x="380" y="0"/>
                  </a:lnTo>
                  <a:lnTo>
                    <a:pt x="405" y="8"/>
                  </a:lnTo>
                  <a:lnTo>
                    <a:pt x="41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768320" y="1106640"/>
              <a:ext cx="64800" cy="1440"/>
            </a:xfrm>
            <a:custGeom>
              <a:avLst/>
              <a:gdLst/>
              <a:ahLst/>
              <a:rect l="l" t="t" r="r" b="b"/>
              <a:pathLst>
                <a:path w="388" h="8">
                  <a:moveTo>
                    <a:pt x="388" y="8"/>
                  </a:moveTo>
                  <a:lnTo>
                    <a:pt x="0" y="8"/>
                  </a:lnTo>
                  <a:lnTo>
                    <a:pt x="42" y="0"/>
                  </a:lnTo>
                  <a:lnTo>
                    <a:pt x="354" y="0"/>
                  </a:lnTo>
                  <a:lnTo>
                    <a:pt x="38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771560" y="1106640"/>
              <a:ext cx="58320" cy="1440"/>
            </a:xfrm>
            <a:custGeom>
              <a:avLst/>
              <a:gdLst/>
              <a:ahLst/>
              <a:rect l="l" t="t" r="r" b="b"/>
              <a:pathLst>
                <a:path w="346" h="0">
                  <a:moveTo>
                    <a:pt x="346" y="0"/>
                  </a:moveTo>
                  <a:lnTo>
                    <a:pt x="0" y="0"/>
                  </a:lnTo>
                  <a:lnTo>
                    <a:pt x="34" y="0"/>
                  </a:lnTo>
                  <a:lnTo>
                    <a:pt x="304" y="0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774800" y="1104840"/>
              <a:ext cx="51840" cy="1800"/>
            </a:xfrm>
            <a:custGeom>
              <a:avLst/>
              <a:gdLst/>
              <a:ahLst/>
              <a:rect l="l" t="t" r="r" b="b"/>
              <a:pathLst>
                <a:path w="312" h="9">
                  <a:moveTo>
                    <a:pt x="312" y="9"/>
                  </a:moveTo>
                  <a:lnTo>
                    <a:pt x="0" y="9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270" y="0"/>
                  </a:lnTo>
                  <a:lnTo>
                    <a:pt x="31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778040" y="1104840"/>
              <a:ext cx="45360" cy="1800"/>
            </a:xfrm>
            <a:custGeom>
              <a:avLst/>
              <a:gdLst/>
              <a:ahLst/>
              <a:rect l="l" t="t" r="r" b="b"/>
              <a:pathLst>
                <a:path w="270" h="9">
                  <a:moveTo>
                    <a:pt x="270" y="9"/>
                  </a:moveTo>
                  <a:lnTo>
                    <a:pt x="0" y="9"/>
                  </a:lnTo>
                  <a:lnTo>
                    <a:pt x="17" y="0"/>
                  </a:lnTo>
                  <a:lnTo>
                    <a:pt x="42" y="0"/>
                  </a:lnTo>
                  <a:lnTo>
                    <a:pt x="236" y="0"/>
                  </a:lnTo>
                  <a:lnTo>
                    <a:pt x="27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782720" y="1104840"/>
              <a:ext cx="37800" cy="1800"/>
            </a:xfrm>
            <a:custGeom>
              <a:avLst/>
              <a:gdLst/>
              <a:ahLst/>
              <a:rect l="l" t="t" r="r" b="b"/>
              <a:pathLst>
                <a:path w="228" h="0">
                  <a:moveTo>
                    <a:pt x="228" y="0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194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84160" y="1103400"/>
              <a:ext cx="33120" cy="1440"/>
            </a:xfrm>
            <a:custGeom>
              <a:avLst/>
              <a:gdLst/>
              <a:ahLst/>
              <a:rect l="l" t="t" r="r" b="b"/>
              <a:pathLst>
                <a:path w="194" h="8">
                  <a:moveTo>
                    <a:pt x="194" y="8"/>
                  </a:moveTo>
                  <a:lnTo>
                    <a:pt x="0" y="8"/>
                  </a:lnTo>
                  <a:lnTo>
                    <a:pt x="50" y="0"/>
                  </a:lnTo>
                  <a:lnTo>
                    <a:pt x="110" y="0"/>
                  </a:lnTo>
                  <a:lnTo>
                    <a:pt x="177" y="8"/>
                  </a:lnTo>
                  <a:lnTo>
                    <a:pt x="19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8840" y="1103400"/>
              <a:ext cx="25200" cy="1440"/>
            </a:xfrm>
            <a:custGeom>
              <a:avLst/>
              <a:gdLst/>
              <a:ahLst/>
              <a:rect l="l" t="t" r="r" b="b"/>
              <a:pathLst>
                <a:path w="152" h="8">
                  <a:moveTo>
                    <a:pt x="152" y="8"/>
                  </a:moveTo>
                  <a:lnTo>
                    <a:pt x="0" y="8"/>
                  </a:lnTo>
                  <a:lnTo>
                    <a:pt x="25" y="0"/>
                  </a:lnTo>
                  <a:lnTo>
                    <a:pt x="85" y="0"/>
                  </a:lnTo>
                  <a:lnTo>
                    <a:pt x="15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93880" y="1103400"/>
              <a:ext cx="900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195640" y="1844640"/>
            <a:ext cx="1524600" cy="1521720"/>
            <a:chOff x="2195640" y="1844640"/>
            <a:chExt cx="1524600" cy="1521720"/>
          </a:xfrm>
        </p:grpSpPr>
        <p:sp>
          <p:nvSpPr>
            <p:cNvPr id="1379" name=""/>
            <p:cNvSpPr/>
            <p:nvPr/>
          </p:nvSpPr>
          <p:spPr>
            <a:xfrm>
              <a:off x="2750040" y="1936440"/>
              <a:ext cx="20160" cy="4680"/>
            </a:xfrm>
            <a:custGeom>
              <a:avLst/>
              <a:gdLst/>
              <a:ahLst/>
              <a:rect l="l" t="t" r="r" b="b"/>
              <a:pathLst>
                <a:path w="50" h="0">
                  <a:moveTo>
                    <a:pt x="42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50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50040" y="1932120"/>
              <a:ext cx="20160" cy="3960"/>
            </a:xfrm>
            <a:custGeom>
              <a:avLst/>
              <a:gdLst/>
              <a:ahLst/>
              <a:rect l="l" t="t" r="r" b="b"/>
              <a:pathLst>
                <a:path w="50" h="9">
                  <a:moveTo>
                    <a:pt x="42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50" y="0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54720" y="1932120"/>
              <a:ext cx="15840" cy="39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42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54720" y="1932120"/>
              <a:ext cx="20160" cy="3960"/>
            </a:xfrm>
            <a:custGeom>
              <a:avLst/>
              <a:gdLst/>
              <a:ahLst/>
              <a:rect l="l" t="t" r="r" b="b"/>
              <a:pathLst>
                <a:path w="51" h="0">
                  <a:moveTo>
                    <a:pt x="42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51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58320" y="1927440"/>
              <a:ext cx="16560" cy="468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33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2" y="0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758320" y="1927440"/>
              <a:ext cx="20160" cy="4680"/>
            </a:xfrm>
            <a:custGeom>
              <a:avLst/>
              <a:gdLst/>
              <a:ahLst/>
              <a:rect l="l" t="t" r="r" b="b"/>
              <a:pathLst>
                <a:path w="50" h="8">
                  <a:moveTo>
                    <a:pt x="42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50" y="0"/>
                  </a:lnTo>
                  <a:lnTo>
                    <a:pt x="4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762280" y="1923120"/>
              <a:ext cx="16560" cy="39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34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42" y="0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762280" y="1923120"/>
              <a:ext cx="16560" cy="396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42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42" y="0"/>
                  </a:lnTo>
                  <a:lnTo>
                    <a:pt x="4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66600" y="1923120"/>
              <a:ext cx="15840" cy="3960"/>
            </a:xfrm>
            <a:custGeom>
              <a:avLst/>
              <a:gdLst/>
              <a:ahLst/>
              <a:rect l="l" t="t" r="r" b="b"/>
              <a:pathLst>
                <a:path w="42" h="0">
                  <a:moveTo>
                    <a:pt x="3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66600" y="1919160"/>
              <a:ext cx="15840" cy="396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33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2" y="0"/>
                  </a:lnTo>
                  <a:lnTo>
                    <a:pt x="3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66600" y="1919160"/>
              <a:ext cx="15840" cy="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66600" y="1919160"/>
              <a:ext cx="1584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66600" y="1914480"/>
              <a:ext cx="20160" cy="468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34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2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70560" y="1914480"/>
              <a:ext cx="16560" cy="4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6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34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70560" y="1910160"/>
              <a:ext cx="20160" cy="396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34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43" y="0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70560" y="1910160"/>
              <a:ext cx="20160" cy="3960"/>
            </a:xfrm>
            <a:custGeom>
              <a:avLst/>
              <a:gdLst/>
              <a:ahLst/>
              <a:rect l="l" t="t" r="r" b="b"/>
              <a:pathLst>
                <a:path w="43" h="9">
                  <a:moveTo>
                    <a:pt x="34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43" y="0"/>
                  </a:lnTo>
                  <a:lnTo>
                    <a:pt x="34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75240" y="1910160"/>
              <a:ext cx="1584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75240" y="1905480"/>
              <a:ext cx="20160" cy="4680"/>
            </a:xfrm>
            <a:custGeom>
              <a:avLst/>
              <a:gdLst/>
              <a:ahLst/>
              <a:rect l="l" t="t" r="r" b="b"/>
              <a:pathLst>
                <a:path w="42" h="8">
                  <a:moveTo>
                    <a:pt x="34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42" y="0"/>
                  </a:lnTo>
                  <a:lnTo>
                    <a:pt x="34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78840" y="1905480"/>
              <a:ext cx="16560" cy="468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6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34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778840" y="1905480"/>
              <a:ext cx="16560" cy="468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82440" y="1901520"/>
              <a:ext cx="16560" cy="396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25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4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82440" y="1901520"/>
              <a:ext cx="16560" cy="3960"/>
            </a:xfrm>
            <a:custGeom>
              <a:avLst/>
              <a:gdLst/>
              <a:ahLst/>
              <a:rect l="l" t="t" r="r" b="b"/>
              <a:pathLst>
                <a:path w="34" h="9">
                  <a:moveTo>
                    <a:pt x="25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34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82440" y="1901520"/>
              <a:ext cx="16560" cy="3960"/>
            </a:xfrm>
            <a:custGeom>
              <a:avLst/>
              <a:gdLst/>
              <a:ahLst/>
              <a:rect l="l" t="t" r="r" b="b"/>
              <a:pathLst>
                <a:path w="34" h="0">
                  <a:moveTo>
                    <a:pt x="34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787120" y="1897200"/>
              <a:ext cx="11880" cy="396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26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26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87120" y="1897200"/>
              <a:ext cx="15840" cy="3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6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34" y="0"/>
                  </a:lnTo>
                  <a:lnTo>
                    <a:pt x="26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91080" y="1892520"/>
              <a:ext cx="11880" cy="46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17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91080" y="1892520"/>
              <a:ext cx="11880" cy="468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25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33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95760" y="1892520"/>
              <a:ext cx="7200" cy="468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17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95760" y="1888200"/>
              <a:ext cx="7200" cy="3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25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25" y="0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95760" y="1888200"/>
              <a:ext cx="11880" cy="3960"/>
            </a:xfrm>
            <a:custGeom>
              <a:avLst/>
              <a:gdLst/>
              <a:ahLst/>
              <a:rect l="l" t="t" r="r" b="b"/>
              <a:pathLst>
                <a:path w="34" h="8">
                  <a:moveTo>
                    <a:pt x="25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34" y="0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99360" y="1888200"/>
              <a:ext cx="8280" cy="396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16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99360" y="1883520"/>
              <a:ext cx="8280" cy="468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25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99360" y="1883520"/>
              <a:ext cx="11880" cy="4680"/>
            </a:xfrm>
            <a:custGeom>
              <a:avLst/>
              <a:gdLst/>
              <a:ahLst/>
              <a:rect l="l" t="t" r="r" b="b"/>
              <a:pathLst>
                <a:path w="33" h="9">
                  <a:moveTo>
                    <a:pt x="25" y="9"/>
                  </a:moveTo>
                  <a:lnTo>
                    <a:pt x="0" y="9"/>
                  </a:lnTo>
                  <a:lnTo>
                    <a:pt x="16" y="0"/>
                  </a:lnTo>
                  <a:lnTo>
                    <a:pt x="33" y="0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02960" y="1879560"/>
              <a:ext cx="8280" cy="3960"/>
            </a:xfrm>
            <a:custGeom>
              <a:avLst/>
              <a:gdLst/>
              <a:ahLst/>
              <a:rect l="l" t="t" r="r" b="b"/>
              <a:pathLst>
                <a:path w="25" h="8">
                  <a:moveTo>
                    <a:pt x="17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25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02960" y="1879560"/>
              <a:ext cx="8280" cy="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02960" y="1879560"/>
              <a:ext cx="8280" cy="396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02960" y="1874520"/>
              <a:ext cx="12960" cy="468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17" y="8"/>
                  </a:moveTo>
                  <a:lnTo>
                    <a:pt x="0" y="8"/>
                  </a:lnTo>
                  <a:lnTo>
                    <a:pt x="9" y="0"/>
                  </a:lnTo>
                  <a:lnTo>
                    <a:pt x="26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07640" y="1874520"/>
              <a:ext cx="8280" cy="4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17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07640" y="1874520"/>
              <a:ext cx="11880" cy="4680"/>
            </a:xfrm>
            <a:custGeom>
              <a:avLst/>
              <a:gdLst/>
              <a:ahLst/>
              <a:rect l="l" t="t" r="r" b="b"/>
              <a:pathLst>
                <a:path w="25" h="0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07640" y="1870560"/>
              <a:ext cx="11880" cy="396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17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11600" y="1870560"/>
              <a:ext cx="8280" cy="396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7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11600" y="1870560"/>
              <a:ext cx="12960" cy="3960"/>
            </a:xfrm>
            <a:custGeom>
              <a:avLst/>
              <a:gdLst/>
              <a:ahLst/>
              <a:rect l="l" t="t" r="r" b="b"/>
              <a:pathLst>
                <a:path w="26" h="0">
                  <a:moveTo>
                    <a:pt x="17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26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16280" y="1866240"/>
              <a:ext cx="8280" cy="3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17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16280" y="1866240"/>
              <a:ext cx="8280" cy="39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17" y="0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19880" y="1861560"/>
              <a:ext cx="8280" cy="46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17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19880" y="1861560"/>
              <a:ext cx="8280" cy="468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819880" y="1861560"/>
              <a:ext cx="8280" cy="4680"/>
            </a:xfrm>
            <a:custGeom>
              <a:avLst/>
              <a:gdLst/>
              <a:ahLst/>
              <a:rect l="l" t="t" r="r" b="b"/>
              <a:pathLst>
                <a:path w="17" h="0">
                  <a:moveTo>
                    <a:pt x="17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24560" y="1861560"/>
              <a:ext cx="7200" cy="4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17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24560" y="1861560"/>
              <a:ext cx="7200" cy="468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17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28160" y="1861560"/>
              <a:ext cx="3600" cy="468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28160" y="1852560"/>
              <a:ext cx="8280" cy="86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9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32120" y="1852560"/>
              <a:ext cx="4320" cy="86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32120" y="1852560"/>
              <a:ext cx="4320" cy="46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32120" y="1852560"/>
              <a:ext cx="4320" cy="468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36800" y="1852560"/>
              <a:ext cx="360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36800" y="1848600"/>
              <a:ext cx="3600" cy="3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36800" y="1848600"/>
              <a:ext cx="3600" cy="3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36800" y="1848600"/>
              <a:ext cx="3600" cy="3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36800" y="1844640"/>
              <a:ext cx="3600" cy="3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40400" y="1844640"/>
              <a:ext cx="4320" cy="396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40400" y="1844640"/>
              <a:ext cx="4320" cy="3960"/>
            </a:xfrm>
            <a:custGeom>
              <a:avLst/>
              <a:gdLst/>
              <a:ahLst/>
              <a:rect l="l" t="t" r="r" b="b"/>
              <a:pathLst>
                <a:path w="8" h="0">
                  <a:moveTo>
                    <a:pt x="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45080" y="1844640"/>
              <a:ext cx="3600" cy="396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25680" y="1936440"/>
              <a:ext cx="627840" cy="430920"/>
            </a:xfrm>
            <a:custGeom>
              <a:avLst/>
              <a:gdLst/>
              <a:ahLst/>
              <a:rect l="l" t="t" r="r" b="b"/>
              <a:pathLst>
                <a:path w="1427" h="853">
                  <a:moveTo>
                    <a:pt x="76" y="0"/>
                  </a:moveTo>
                  <a:lnTo>
                    <a:pt x="34" y="8"/>
                  </a:lnTo>
                  <a:lnTo>
                    <a:pt x="0" y="50"/>
                  </a:lnTo>
                  <a:lnTo>
                    <a:pt x="0" y="110"/>
                  </a:lnTo>
                  <a:lnTo>
                    <a:pt x="34" y="160"/>
                  </a:lnTo>
                  <a:lnTo>
                    <a:pt x="76" y="194"/>
                  </a:lnTo>
                  <a:lnTo>
                    <a:pt x="135" y="236"/>
                  </a:lnTo>
                  <a:lnTo>
                    <a:pt x="211" y="278"/>
                  </a:lnTo>
                  <a:lnTo>
                    <a:pt x="296" y="329"/>
                  </a:lnTo>
                  <a:lnTo>
                    <a:pt x="389" y="380"/>
                  </a:lnTo>
                  <a:lnTo>
                    <a:pt x="498" y="430"/>
                  </a:lnTo>
                  <a:lnTo>
                    <a:pt x="600" y="481"/>
                  </a:lnTo>
                  <a:lnTo>
                    <a:pt x="709" y="540"/>
                  </a:lnTo>
                  <a:lnTo>
                    <a:pt x="819" y="591"/>
                  </a:lnTo>
                  <a:lnTo>
                    <a:pt x="921" y="641"/>
                  </a:lnTo>
                  <a:lnTo>
                    <a:pt x="1013" y="692"/>
                  </a:lnTo>
                  <a:lnTo>
                    <a:pt x="1098" y="726"/>
                  </a:lnTo>
                  <a:lnTo>
                    <a:pt x="1182" y="760"/>
                  </a:lnTo>
                  <a:lnTo>
                    <a:pt x="1233" y="802"/>
                  </a:lnTo>
                  <a:lnTo>
                    <a:pt x="1284" y="819"/>
                  </a:lnTo>
                  <a:lnTo>
                    <a:pt x="1309" y="844"/>
                  </a:lnTo>
                  <a:lnTo>
                    <a:pt x="1376" y="853"/>
                  </a:lnTo>
                  <a:lnTo>
                    <a:pt x="1419" y="827"/>
                  </a:lnTo>
                  <a:lnTo>
                    <a:pt x="1427" y="760"/>
                  </a:lnTo>
                  <a:lnTo>
                    <a:pt x="1351" y="684"/>
                  </a:lnTo>
                  <a:lnTo>
                    <a:pt x="1317" y="667"/>
                  </a:lnTo>
                  <a:lnTo>
                    <a:pt x="1267" y="633"/>
                  </a:lnTo>
                  <a:lnTo>
                    <a:pt x="1199" y="599"/>
                  </a:lnTo>
                  <a:lnTo>
                    <a:pt x="1115" y="549"/>
                  </a:lnTo>
                  <a:lnTo>
                    <a:pt x="1022" y="506"/>
                  </a:lnTo>
                  <a:lnTo>
                    <a:pt x="921" y="439"/>
                  </a:lnTo>
                  <a:lnTo>
                    <a:pt x="811" y="388"/>
                  </a:lnTo>
                  <a:lnTo>
                    <a:pt x="701" y="329"/>
                  </a:lnTo>
                  <a:lnTo>
                    <a:pt x="600" y="270"/>
                  </a:lnTo>
                  <a:lnTo>
                    <a:pt x="490" y="211"/>
                  </a:lnTo>
                  <a:lnTo>
                    <a:pt x="389" y="160"/>
                  </a:lnTo>
                  <a:lnTo>
                    <a:pt x="296" y="110"/>
                  </a:lnTo>
                  <a:lnTo>
                    <a:pt x="211" y="67"/>
                  </a:lnTo>
                  <a:lnTo>
                    <a:pt x="152" y="34"/>
                  </a:lnTo>
                  <a:lnTo>
                    <a:pt x="102" y="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327040" y="2116800"/>
              <a:ext cx="538560" cy="448920"/>
            </a:xfrm>
            <a:custGeom>
              <a:avLst/>
              <a:gdLst/>
              <a:ahLst/>
              <a:rect l="l" t="t" r="r" b="b"/>
              <a:pathLst>
                <a:path w="1224" h="887">
                  <a:moveTo>
                    <a:pt x="102" y="0"/>
                  </a:moveTo>
                  <a:lnTo>
                    <a:pt x="59" y="0"/>
                  </a:lnTo>
                  <a:lnTo>
                    <a:pt x="17" y="26"/>
                  </a:lnTo>
                  <a:lnTo>
                    <a:pt x="0" y="68"/>
                  </a:lnTo>
                  <a:lnTo>
                    <a:pt x="26" y="119"/>
                  </a:lnTo>
                  <a:lnTo>
                    <a:pt x="59" y="152"/>
                  </a:lnTo>
                  <a:lnTo>
                    <a:pt x="119" y="195"/>
                  </a:lnTo>
                  <a:lnTo>
                    <a:pt x="186" y="237"/>
                  </a:lnTo>
                  <a:lnTo>
                    <a:pt x="270" y="296"/>
                  </a:lnTo>
                  <a:lnTo>
                    <a:pt x="346" y="347"/>
                  </a:lnTo>
                  <a:lnTo>
                    <a:pt x="431" y="406"/>
                  </a:lnTo>
                  <a:lnTo>
                    <a:pt x="515" y="465"/>
                  </a:lnTo>
                  <a:lnTo>
                    <a:pt x="608" y="524"/>
                  </a:lnTo>
                  <a:lnTo>
                    <a:pt x="693" y="583"/>
                  </a:lnTo>
                  <a:lnTo>
                    <a:pt x="777" y="642"/>
                  </a:lnTo>
                  <a:lnTo>
                    <a:pt x="853" y="701"/>
                  </a:lnTo>
                  <a:lnTo>
                    <a:pt x="929" y="743"/>
                  </a:lnTo>
                  <a:lnTo>
                    <a:pt x="988" y="786"/>
                  </a:lnTo>
                  <a:lnTo>
                    <a:pt x="1039" y="819"/>
                  </a:lnTo>
                  <a:lnTo>
                    <a:pt x="1081" y="845"/>
                  </a:lnTo>
                  <a:lnTo>
                    <a:pt x="1098" y="862"/>
                  </a:lnTo>
                  <a:lnTo>
                    <a:pt x="1165" y="887"/>
                  </a:lnTo>
                  <a:lnTo>
                    <a:pt x="1216" y="853"/>
                  </a:lnTo>
                  <a:lnTo>
                    <a:pt x="1224" y="794"/>
                  </a:lnTo>
                  <a:lnTo>
                    <a:pt x="1149" y="710"/>
                  </a:lnTo>
                  <a:lnTo>
                    <a:pt x="1123" y="693"/>
                  </a:lnTo>
                  <a:lnTo>
                    <a:pt x="1081" y="659"/>
                  </a:lnTo>
                  <a:lnTo>
                    <a:pt x="1022" y="617"/>
                  </a:lnTo>
                  <a:lnTo>
                    <a:pt x="954" y="574"/>
                  </a:lnTo>
                  <a:lnTo>
                    <a:pt x="887" y="515"/>
                  </a:lnTo>
                  <a:lnTo>
                    <a:pt x="794" y="456"/>
                  </a:lnTo>
                  <a:lnTo>
                    <a:pt x="709" y="397"/>
                  </a:lnTo>
                  <a:lnTo>
                    <a:pt x="625" y="338"/>
                  </a:lnTo>
                  <a:lnTo>
                    <a:pt x="532" y="279"/>
                  </a:lnTo>
                  <a:lnTo>
                    <a:pt x="439" y="220"/>
                  </a:lnTo>
                  <a:lnTo>
                    <a:pt x="363" y="169"/>
                  </a:lnTo>
                  <a:lnTo>
                    <a:pt x="287" y="110"/>
                  </a:lnTo>
                  <a:lnTo>
                    <a:pt x="220" y="76"/>
                  </a:lnTo>
                  <a:lnTo>
                    <a:pt x="169" y="43"/>
                  </a:lnTo>
                  <a:lnTo>
                    <a:pt x="135" y="1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95640" y="2226600"/>
              <a:ext cx="776160" cy="792000"/>
            </a:xfrm>
            <a:custGeom>
              <a:avLst/>
              <a:gdLst/>
              <a:ahLst/>
              <a:rect l="l" t="t" r="r" b="b"/>
              <a:pathLst>
                <a:path w="1764" h="1562">
                  <a:moveTo>
                    <a:pt x="110" y="8"/>
                  </a:moveTo>
                  <a:lnTo>
                    <a:pt x="59" y="0"/>
                  </a:lnTo>
                  <a:lnTo>
                    <a:pt x="8" y="42"/>
                  </a:lnTo>
                  <a:lnTo>
                    <a:pt x="0" y="110"/>
                  </a:lnTo>
                  <a:lnTo>
                    <a:pt x="76" y="211"/>
                  </a:lnTo>
                  <a:lnTo>
                    <a:pt x="126" y="245"/>
                  </a:lnTo>
                  <a:lnTo>
                    <a:pt x="186" y="312"/>
                  </a:lnTo>
                  <a:lnTo>
                    <a:pt x="287" y="388"/>
                  </a:lnTo>
                  <a:lnTo>
                    <a:pt x="397" y="473"/>
                  </a:lnTo>
                  <a:lnTo>
                    <a:pt x="523" y="574"/>
                  </a:lnTo>
                  <a:lnTo>
                    <a:pt x="650" y="684"/>
                  </a:lnTo>
                  <a:lnTo>
                    <a:pt x="785" y="794"/>
                  </a:lnTo>
                  <a:lnTo>
                    <a:pt x="928" y="912"/>
                  </a:lnTo>
                  <a:lnTo>
                    <a:pt x="1072" y="1021"/>
                  </a:lnTo>
                  <a:lnTo>
                    <a:pt x="1207" y="1131"/>
                  </a:lnTo>
                  <a:lnTo>
                    <a:pt x="1325" y="1241"/>
                  </a:lnTo>
                  <a:lnTo>
                    <a:pt x="1444" y="1334"/>
                  </a:lnTo>
                  <a:lnTo>
                    <a:pt x="1545" y="1410"/>
                  </a:lnTo>
                  <a:lnTo>
                    <a:pt x="1621" y="1477"/>
                  </a:lnTo>
                  <a:lnTo>
                    <a:pt x="1671" y="1520"/>
                  </a:lnTo>
                  <a:lnTo>
                    <a:pt x="1697" y="1545"/>
                  </a:lnTo>
                  <a:lnTo>
                    <a:pt x="1731" y="1562"/>
                  </a:lnTo>
                  <a:lnTo>
                    <a:pt x="1747" y="1553"/>
                  </a:lnTo>
                  <a:lnTo>
                    <a:pt x="1764" y="1528"/>
                  </a:lnTo>
                  <a:lnTo>
                    <a:pt x="1756" y="1477"/>
                  </a:lnTo>
                  <a:lnTo>
                    <a:pt x="1731" y="1418"/>
                  </a:lnTo>
                  <a:lnTo>
                    <a:pt x="1680" y="1342"/>
                  </a:lnTo>
                  <a:lnTo>
                    <a:pt x="1604" y="1241"/>
                  </a:lnTo>
                  <a:lnTo>
                    <a:pt x="1494" y="1131"/>
                  </a:lnTo>
                  <a:lnTo>
                    <a:pt x="1460" y="1106"/>
                  </a:lnTo>
                  <a:lnTo>
                    <a:pt x="1410" y="1064"/>
                  </a:lnTo>
                  <a:lnTo>
                    <a:pt x="1334" y="996"/>
                  </a:lnTo>
                  <a:lnTo>
                    <a:pt x="1249" y="929"/>
                  </a:lnTo>
                  <a:lnTo>
                    <a:pt x="1156" y="844"/>
                  </a:lnTo>
                  <a:lnTo>
                    <a:pt x="1038" y="751"/>
                  </a:lnTo>
                  <a:lnTo>
                    <a:pt x="920" y="658"/>
                  </a:lnTo>
                  <a:lnTo>
                    <a:pt x="802" y="549"/>
                  </a:lnTo>
                  <a:lnTo>
                    <a:pt x="675" y="456"/>
                  </a:lnTo>
                  <a:lnTo>
                    <a:pt x="557" y="354"/>
                  </a:lnTo>
                  <a:lnTo>
                    <a:pt x="456" y="270"/>
                  </a:lnTo>
                  <a:lnTo>
                    <a:pt x="354" y="194"/>
                  </a:lnTo>
                  <a:lnTo>
                    <a:pt x="262" y="118"/>
                  </a:lnTo>
                  <a:lnTo>
                    <a:pt x="194" y="67"/>
                  </a:lnTo>
                  <a:lnTo>
                    <a:pt x="135" y="25"/>
                  </a:lnTo>
                  <a:lnTo>
                    <a:pt x="110" y="8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033360" y="2037960"/>
              <a:ext cx="686880" cy="1139400"/>
            </a:xfrm>
            <a:custGeom>
              <a:avLst/>
              <a:gdLst/>
              <a:ahLst/>
              <a:rect l="l" t="t" r="r" b="b"/>
              <a:pathLst>
                <a:path w="1562" h="2246">
                  <a:moveTo>
                    <a:pt x="895" y="769"/>
                  </a:moveTo>
                  <a:lnTo>
                    <a:pt x="920" y="524"/>
                  </a:lnTo>
                  <a:lnTo>
                    <a:pt x="869" y="321"/>
                  </a:lnTo>
                  <a:lnTo>
                    <a:pt x="768" y="161"/>
                  </a:lnTo>
                  <a:lnTo>
                    <a:pt x="616" y="51"/>
                  </a:lnTo>
                  <a:lnTo>
                    <a:pt x="447" y="0"/>
                  </a:lnTo>
                  <a:lnTo>
                    <a:pt x="278" y="17"/>
                  </a:lnTo>
                  <a:lnTo>
                    <a:pt x="126" y="93"/>
                  </a:lnTo>
                  <a:lnTo>
                    <a:pt x="8" y="262"/>
                  </a:lnTo>
                  <a:lnTo>
                    <a:pt x="0" y="330"/>
                  </a:lnTo>
                  <a:lnTo>
                    <a:pt x="25" y="363"/>
                  </a:lnTo>
                  <a:lnTo>
                    <a:pt x="67" y="347"/>
                  </a:lnTo>
                  <a:lnTo>
                    <a:pt x="110" y="313"/>
                  </a:lnTo>
                  <a:lnTo>
                    <a:pt x="202" y="195"/>
                  </a:lnTo>
                  <a:lnTo>
                    <a:pt x="338" y="144"/>
                  </a:lnTo>
                  <a:lnTo>
                    <a:pt x="473" y="161"/>
                  </a:lnTo>
                  <a:lnTo>
                    <a:pt x="591" y="228"/>
                  </a:lnTo>
                  <a:lnTo>
                    <a:pt x="692" y="347"/>
                  </a:lnTo>
                  <a:lnTo>
                    <a:pt x="743" y="490"/>
                  </a:lnTo>
                  <a:lnTo>
                    <a:pt x="734" y="651"/>
                  </a:lnTo>
                  <a:lnTo>
                    <a:pt x="650" y="836"/>
                  </a:lnTo>
                  <a:lnTo>
                    <a:pt x="641" y="887"/>
                  </a:lnTo>
                  <a:lnTo>
                    <a:pt x="667" y="912"/>
                  </a:lnTo>
                  <a:lnTo>
                    <a:pt x="717" y="921"/>
                  </a:lnTo>
                  <a:lnTo>
                    <a:pt x="768" y="929"/>
                  </a:lnTo>
                  <a:lnTo>
                    <a:pt x="945" y="921"/>
                  </a:lnTo>
                  <a:lnTo>
                    <a:pt x="1097" y="988"/>
                  </a:lnTo>
                  <a:lnTo>
                    <a:pt x="1216" y="1081"/>
                  </a:lnTo>
                  <a:lnTo>
                    <a:pt x="1283" y="1225"/>
                  </a:lnTo>
                  <a:lnTo>
                    <a:pt x="1300" y="1368"/>
                  </a:lnTo>
                  <a:lnTo>
                    <a:pt x="1258" y="1512"/>
                  </a:lnTo>
                  <a:lnTo>
                    <a:pt x="1156" y="1638"/>
                  </a:lnTo>
                  <a:lnTo>
                    <a:pt x="996" y="1731"/>
                  </a:lnTo>
                  <a:lnTo>
                    <a:pt x="945" y="1756"/>
                  </a:lnTo>
                  <a:lnTo>
                    <a:pt x="954" y="1799"/>
                  </a:lnTo>
                  <a:lnTo>
                    <a:pt x="996" y="1832"/>
                  </a:lnTo>
                  <a:lnTo>
                    <a:pt x="1055" y="1866"/>
                  </a:lnTo>
                  <a:lnTo>
                    <a:pt x="1165" y="1908"/>
                  </a:lnTo>
                  <a:lnTo>
                    <a:pt x="1224" y="1951"/>
                  </a:lnTo>
                  <a:lnTo>
                    <a:pt x="1232" y="2010"/>
                  </a:lnTo>
                  <a:lnTo>
                    <a:pt x="1216" y="2044"/>
                  </a:lnTo>
                  <a:lnTo>
                    <a:pt x="1165" y="2086"/>
                  </a:lnTo>
                  <a:lnTo>
                    <a:pt x="1089" y="2103"/>
                  </a:lnTo>
                  <a:lnTo>
                    <a:pt x="1013" y="2103"/>
                  </a:lnTo>
                  <a:lnTo>
                    <a:pt x="945" y="2060"/>
                  </a:lnTo>
                  <a:lnTo>
                    <a:pt x="920" y="2052"/>
                  </a:lnTo>
                  <a:lnTo>
                    <a:pt x="903" y="2060"/>
                  </a:lnTo>
                  <a:lnTo>
                    <a:pt x="886" y="2069"/>
                  </a:lnTo>
                  <a:lnTo>
                    <a:pt x="878" y="2094"/>
                  </a:lnTo>
                  <a:lnTo>
                    <a:pt x="886" y="2120"/>
                  </a:lnTo>
                  <a:lnTo>
                    <a:pt x="912" y="2153"/>
                  </a:lnTo>
                  <a:lnTo>
                    <a:pt x="971" y="2196"/>
                  </a:lnTo>
                  <a:lnTo>
                    <a:pt x="1055" y="2238"/>
                  </a:lnTo>
                  <a:lnTo>
                    <a:pt x="1131" y="2246"/>
                  </a:lnTo>
                  <a:lnTo>
                    <a:pt x="1207" y="2246"/>
                  </a:lnTo>
                  <a:lnTo>
                    <a:pt x="1292" y="2212"/>
                  </a:lnTo>
                  <a:lnTo>
                    <a:pt x="1351" y="2162"/>
                  </a:lnTo>
                  <a:lnTo>
                    <a:pt x="1401" y="2094"/>
                  </a:lnTo>
                  <a:lnTo>
                    <a:pt x="1401" y="2010"/>
                  </a:lnTo>
                  <a:lnTo>
                    <a:pt x="1384" y="1917"/>
                  </a:lnTo>
                  <a:lnTo>
                    <a:pt x="1300" y="1816"/>
                  </a:lnTo>
                  <a:lnTo>
                    <a:pt x="1427" y="1740"/>
                  </a:lnTo>
                  <a:lnTo>
                    <a:pt x="1520" y="1605"/>
                  </a:lnTo>
                  <a:lnTo>
                    <a:pt x="1562" y="1436"/>
                  </a:lnTo>
                  <a:lnTo>
                    <a:pt x="1562" y="1258"/>
                  </a:lnTo>
                  <a:lnTo>
                    <a:pt x="1503" y="1073"/>
                  </a:lnTo>
                  <a:lnTo>
                    <a:pt x="1376" y="921"/>
                  </a:lnTo>
                  <a:lnTo>
                    <a:pt x="1182" y="819"/>
                  </a:lnTo>
                  <a:lnTo>
                    <a:pt x="895" y="769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06640" y="2613960"/>
              <a:ext cx="484560" cy="752400"/>
            </a:xfrm>
            <a:custGeom>
              <a:avLst/>
              <a:gdLst/>
              <a:ahLst/>
              <a:rect l="l" t="t" r="r" b="b"/>
              <a:pathLst>
                <a:path w="1106" h="1486">
                  <a:moveTo>
                    <a:pt x="346" y="0"/>
                  </a:moveTo>
                  <a:lnTo>
                    <a:pt x="296" y="0"/>
                  </a:lnTo>
                  <a:lnTo>
                    <a:pt x="271" y="26"/>
                  </a:lnTo>
                  <a:lnTo>
                    <a:pt x="254" y="42"/>
                  </a:lnTo>
                  <a:lnTo>
                    <a:pt x="262" y="68"/>
                  </a:lnTo>
                  <a:lnTo>
                    <a:pt x="271" y="102"/>
                  </a:lnTo>
                  <a:lnTo>
                    <a:pt x="304" y="127"/>
                  </a:lnTo>
                  <a:lnTo>
                    <a:pt x="346" y="152"/>
                  </a:lnTo>
                  <a:lnTo>
                    <a:pt x="389" y="161"/>
                  </a:lnTo>
                  <a:lnTo>
                    <a:pt x="574" y="220"/>
                  </a:lnTo>
                  <a:lnTo>
                    <a:pt x="701" y="313"/>
                  </a:lnTo>
                  <a:lnTo>
                    <a:pt x="794" y="422"/>
                  </a:lnTo>
                  <a:lnTo>
                    <a:pt x="828" y="549"/>
                  </a:lnTo>
                  <a:lnTo>
                    <a:pt x="819" y="659"/>
                  </a:lnTo>
                  <a:lnTo>
                    <a:pt x="769" y="768"/>
                  </a:lnTo>
                  <a:lnTo>
                    <a:pt x="684" y="836"/>
                  </a:lnTo>
                  <a:lnTo>
                    <a:pt x="566" y="861"/>
                  </a:lnTo>
                  <a:lnTo>
                    <a:pt x="490" y="870"/>
                  </a:lnTo>
                  <a:lnTo>
                    <a:pt x="473" y="895"/>
                  </a:lnTo>
                  <a:lnTo>
                    <a:pt x="482" y="929"/>
                  </a:lnTo>
                  <a:lnTo>
                    <a:pt x="507" y="988"/>
                  </a:lnTo>
                  <a:lnTo>
                    <a:pt x="541" y="1157"/>
                  </a:lnTo>
                  <a:lnTo>
                    <a:pt x="515" y="1258"/>
                  </a:lnTo>
                  <a:lnTo>
                    <a:pt x="456" y="1309"/>
                  </a:lnTo>
                  <a:lnTo>
                    <a:pt x="363" y="1309"/>
                  </a:lnTo>
                  <a:lnTo>
                    <a:pt x="279" y="1275"/>
                  </a:lnTo>
                  <a:lnTo>
                    <a:pt x="203" y="1207"/>
                  </a:lnTo>
                  <a:lnTo>
                    <a:pt x="161" y="1123"/>
                  </a:lnTo>
                  <a:lnTo>
                    <a:pt x="169" y="1030"/>
                  </a:lnTo>
                  <a:lnTo>
                    <a:pt x="178" y="954"/>
                  </a:lnTo>
                  <a:lnTo>
                    <a:pt x="135" y="895"/>
                  </a:lnTo>
                  <a:lnTo>
                    <a:pt x="85" y="878"/>
                  </a:lnTo>
                  <a:lnTo>
                    <a:pt x="26" y="929"/>
                  </a:lnTo>
                  <a:lnTo>
                    <a:pt x="0" y="996"/>
                  </a:lnTo>
                  <a:lnTo>
                    <a:pt x="0" y="1072"/>
                  </a:lnTo>
                  <a:lnTo>
                    <a:pt x="9" y="1157"/>
                  </a:lnTo>
                  <a:lnTo>
                    <a:pt x="34" y="1250"/>
                  </a:lnTo>
                  <a:lnTo>
                    <a:pt x="93" y="1334"/>
                  </a:lnTo>
                  <a:lnTo>
                    <a:pt x="169" y="1410"/>
                  </a:lnTo>
                  <a:lnTo>
                    <a:pt x="287" y="1461"/>
                  </a:lnTo>
                  <a:lnTo>
                    <a:pt x="439" y="1486"/>
                  </a:lnTo>
                  <a:lnTo>
                    <a:pt x="498" y="1478"/>
                  </a:lnTo>
                  <a:lnTo>
                    <a:pt x="566" y="1452"/>
                  </a:lnTo>
                  <a:lnTo>
                    <a:pt x="617" y="1410"/>
                  </a:lnTo>
                  <a:lnTo>
                    <a:pt x="659" y="1351"/>
                  </a:lnTo>
                  <a:lnTo>
                    <a:pt x="684" y="1283"/>
                  </a:lnTo>
                  <a:lnTo>
                    <a:pt x="701" y="1207"/>
                  </a:lnTo>
                  <a:lnTo>
                    <a:pt x="684" y="1131"/>
                  </a:lnTo>
                  <a:lnTo>
                    <a:pt x="634" y="1039"/>
                  </a:lnTo>
                  <a:lnTo>
                    <a:pt x="735" y="1039"/>
                  </a:lnTo>
                  <a:lnTo>
                    <a:pt x="819" y="1022"/>
                  </a:lnTo>
                  <a:lnTo>
                    <a:pt x="895" y="980"/>
                  </a:lnTo>
                  <a:lnTo>
                    <a:pt x="963" y="920"/>
                  </a:lnTo>
                  <a:lnTo>
                    <a:pt x="1022" y="844"/>
                  </a:lnTo>
                  <a:lnTo>
                    <a:pt x="1073" y="768"/>
                  </a:lnTo>
                  <a:lnTo>
                    <a:pt x="1098" y="676"/>
                  </a:lnTo>
                  <a:lnTo>
                    <a:pt x="1106" y="574"/>
                  </a:lnTo>
                  <a:lnTo>
                    <a:pt x="1098" y="473"/>
                  </a:lnTo>
                  <a:lnTo>
                    <a:pt x="1073" y="372"/>
                  </a:lnTo>
                  <a:lnTo>
                    <a:pt x="1013" y="287"/>
                  </a:lnTo>
                  <a:lnTo>
                    <a:pt x="937" y="203"/>
                  </a:lnTo>
                  <a:lnTo>
                    <a:pt x="836" y="127"/>
                  </a:lnTo>
                  <a:lnTo>
                    <a:pt x="710" y="68"/>
                  </a:lnTo>
                  <a:lnTo>
                    <a:pt x="541" y="17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24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46" name=""/>
          <p:cNvGraphicFramePr/>
          <p:nvPr/>
        </p:nvGraphicFramePr>
        <p:xfrm>
          <a:off x="539640" y="981000"/>
          <a:ext cx="172728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172728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8" name=""/>
          <p:cNvGraphicFramePr/>
          <p:nvPr/>
        </p:nvGraphicFramePr>
        <p:xfrm>
          <a:off x="3780000" y="981000"/>
          <a:ext cx="1512720" cy="9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981000"/>
                    <a:ext cx="15127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0" name=""/>
          <p:cNvGraphicFramePr/>
          <p:nvPr/>
        </p:nvGraphicFramePr>
        <p:xfrm>
          <a:off x="6227640" y="1197000"/>
          <a:ext cx="2541600" cy="71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7640" y="1197000"/>
                    <a:ext cx="254160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2" name=""/>
          <p:cNvGraphicFramePr/>
          <p:nvPr/>
        </p:nvGraphicFramePr>
        <p:xfrm>
          <a:off x="6877080" y="620640"/>
          <a:ext cx="1890720" cy="143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620640"/>
                    <a:ext cx="189072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4" name=""/>
          <p:cNvSpPr/>
          <p:nvPr/>
        </p:nvSpPr>
        <p:spPr>
          <a:xfrm>
            <a:off x="3492360" y="4437000"/>
            <a:ext cx="576360" cy="576360"/>
          </a:xfrm>
          <a:prstGeom prst="flowChartConnector">
            <a:avLst/>
          </a:prstGeom>
          <a:solidFill>
            <a:srgbClr val="005d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500" fill="hold"/>
                                        <p:tgtEl>
                                          <p:spTgt spid="13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6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457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2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pSp>
        <p:nvGrpSpPr>
          <p:cNvPr id="1464" name=""/>
          <p:cNvGrpSpPr/>
          <p:nvPr/>
        </p:nvGrpSpPr>
        <p:grpSpPr>
          <a:xfrm>
            <a:off x="1619280" y="3573360"/>
            <a:ext cx="718920" cy="366840"/>
            <a:chOff x="1619280" y="3573360"/>
            <a:chExt cx="718920" cy="366840"/>
          </a:xfrm>
        </p:grpSpPr>
        <p:sp>
          <p:nvSpPr>
            <p:cNvPr id="1465" name=""/>
            <p:cNvSpPr/>
            <p:nvPr/>
          </p:nvSpPr>
          <p:spPr>
            <a:xfrm>
              <a:off x="1619280" y="3573360"/>
              <a:ext cx="660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678680" y="3855600"/>
              <a:ext cx="65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678680" y="3742560"/>
              <a:ext cx="118800" cy="11304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6804000" y="3500280"/>
            <a:ext cx="654120" cy="366840"/>
            <a:chOff x="6804000" y="3500280"/>
            <a:chExt cx="654120" cy="366840"/>
          </a:xfrm>
        </p:grpSpPr>
        <p:sp>
          <p:nvSpPr>
            <p:cNvPr id="1469" name=""/>
            <p:cNvSpPr/>
            <p:nvPr/>
          </p:nvSpPr>
          <p:spPr>
            <a:xfrm flipH="1">
              <a:off x="6803640" y="3500280"/>
              <a:ext cx="65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6805080" y="3848400"/>
              <a:ext cx="65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340400" y="3709080"/>
              <a:ext cx="117720" cy="1393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473" name="" descr=""/>
          <p:cNvPicPr/>
          <p:nvPr/>
        </p:nvPicPr>
        <p:blipFill>
          <a:blip r:embed="rId5"/>
          <a:stretch/>
        </p:blipFill>
        <p:spPr>
          <a:xfrm>
            <a:off x="4716360" y="404640"/>
            <a:ext cx="649440" cy="622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1000" fill="hold"/>
                                        <p:tgtEl>
                                          <p:spTgt spid="14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1000" fill="hold"/>
                                        <p:tgtEl>
                                          <p:spTgt spid="1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1000" fill="hold"/>
                                        <p:tgtEl>
                                          <p:spTgt spid="14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9" dur="1000" fill="hold"/>
                                        <p:tgtEl>
                                          <p:spTgt spid="14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3.5369E-006 L -0.32674 0.39347 E">
                                      <p:cBhvr>
                                        <p:cTn id="203" dur="2000" fill="hold"/>
                                        <p:tgtEl>
                                          <p:spTgt spid="1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0718 L -0.33472 0.39556 E">
                                      <p:cBhvr>
                                        <p:cTn id="205" dur="2000" fill="hold"/>
                                        <p:tgtEl>
                                          <p:spTgt spid="1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2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0" dur="1000" fill="hold"/>
                                        <p:tgtEl>
                                          <p:spTgt spid="145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4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475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0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481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pSp>
        <p:nvGrpSpPr>
          <p:cNvPr id="1482" name=""/>
          <p:cNvGrpSpPr/>
          <p:nvPr/>
        </p:nvGrpSpPr>
        <p:grpSpPr>
          <a:xfrm>
            <a:off x="1476360" y="3500280"/>
            <a:ext cx="1007640" cy="433080"/>
            <a:chOff x="1476360" y="3500280"/>
            <a:chExt cx="1007640" cy="433080"/>
          </a:xfrm>
        </p:grpSpPr>
        <p:sp>
          <p:nvSpPr>
            <p:cNvPr id="1483" name=""/>
            <p:cNvSpPr/>
            <p:nvPr/>
          </p:nvSpPr>
          <p:spPr>
            <a:xfrm>
              <a:off x="1476360" y="3500280"/>
              <a:ext cx="9262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559880" y="3933360"/>
              <a:ext cx="92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559880" y="3759840"/>
              <a:ext cx="166680" cy="173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6" name="" descr=""/>
          <p:cNvPicPr/>
          <p:nvPr/>
        </p:nvPicPr>
        <p:blipFill>
          <a:blip r:embed="rId4"/>
          <a:stretch/>
        </p:blipFill>
        <p:spPr>
          <a:xfrm>
            <a:off x="5979960" y="4292640"/>
            <a:ext cx="814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487" name=""/>
          <p:cNvGrpSpPr/>
          <p:nvPr/>
        </p:nvGrpSpPr>
        <p:grpSpPr>
          <a:xfrm>
            <a:off x="6659640" y="3500280"/>
            <a:ext cx="934560" cy="433080"/>
            <a:chOff x="6659640" y="3500280"/>
            <a:chExt cx="934560" cy="433080"/>
          </a:xfrm>
        </p:grpSpPr>
        <p:sp>
          <p:nvSpPr>
            <p:cNvPr id="1488" name=""/>
            <p:cNvSpPr/>
            <p:nvPr/>
          </p:nvSpPr>
          <p:spPr>
            <a:xfrm flipH="1">
              <a:off x="6659640" y="3500280"/>
              <a:ext cx="934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6659640" y="3933360"/>
              <a:ext cx="93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25720" y="3759840"/>
              <a:ext cx="168480" cy="173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1" name="" descr=""/>
          <p:cNvPicPr/>
          <p:nvPr/>
        </p:nvPicPr>
        <p:blipFill>
          <a:blip r:embed="rId5"/>
          <a:stretch/>
        </p:blipFill>
        <p:spPr>
          <a:xfrm>
            <a:off x="4716360" y="476280"/>
            <a:ext cx="514440" cy="576360"/>
          </a:xfrm>
          <a:prstGeom prst="rect">
            <a:avLst/>
          </a:prstGeom>
          <a:ln w="0">
            <a:noFill/>
          </a:ln>
        </p:spPr>
      </p:pic>
      <p:pic>
        <p:nvPicPr>
          <p:cNvPr id="1492" name="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3" dur="500" fill="hold"/>
                                        <p:tgtEl>
                                          <p:spTgt spid="1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35" dur="500" fill="hold"/>
                                        <p:tgtEl>
                                          <p:spTgt spid="14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3.5369E-006 L 0.2717 0.37242 E">
                                      <p:cBhvr>
                                        <p:cTn id="239" dur="2000" fill="hold"/>
                                        <p:tgtEl>
                                          <p:spTgt spid="1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.3331 E">
                                      <p:cBhvr>
                                        <p:cTn id="241" dur="2000" fill="hold"/>
                                        <p:tgtEl>
                                          <p:spTgt spid="1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44" dur="1000" fill="hold"/>
                                        <p:tgtEl>
                                          <p:spTgt spid="147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6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3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494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9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500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pSp>
        <p:nvGrpSpPr>
          <p:cNvPr id="1501" name=""/>
          <p:cNvGrpSpPr/>
          <p:nvPr/>
        </p:nvGrpSpPr>
        <p:grpSpPr>
          <a:xfrm>
            <a:off x="1476360" y="3500280"/>
            <a:ext cx="934560" cy="398160"/>
            <a:chOff x="1476360" y="3500280"/>
            <a:chExt cx="934560" cy="398160"/>
          </a:xfrm>
        </p:grpSpPr>
        <p:sp>
          <p:nvSpPr>
            <p:cNvPr id="1502" name=""/>
            <p:cNvSpPr/>
            <p:nvPr/>
          </p:nvSpPr>
          <p:spPr>
            <a:xfrm>
              <a:off x="1476360" y="3500280"/>
              <a:ext cx="858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553760" y="389844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553760" y="3738960"/>
              <a:ext cx="154440" cy="15948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5" name="" descr=""/>
          <p:cNvPicPr/>
          <p:nvPr/>
        </p:nvPicPr>
        <p:blipFill>
          <a:blip r:embed="rId4"/>
          <a:stretch/>
        </p:blipFill>
        <p:spPr>
          <a:xfrm>
            <a:off x="5979960" y="4292640"/>
            <a:ext cx="814680" cy="1008000"/>
          </a:xfrm>
          <a:prstGeom prst="rect">
            <a:avLst/>
          </a:prstGeom>
          <a:ln w="0">
            <a:noFill/>
          </a:ln>
        </p:spPr>
      </p:pic>
      <p:grpSp>
        <p:nvGrpSpPr>
          <p:cNvPr id="1506" name=""/>
          <p:cNvGrpSpPr/>
          <p:nvPr/>
        </p:nvGrpSpPr>
        <p:grpSpPr>
          <a:xfrm>
            <a:off x="6732720" y="3500280"/>
            <a:ext cx="863640" cy="411120"/>
            <a:chOff x="6732720" y="3500280"/>
            <a:chExt cx="863640" cy="411120"/>
          </a:xfrm>
        </p:grpSpPr>
        <p:sp>
          <p:nvSpPr>
            <p:cNvPr id="1507" name=""/>
            <p:cNvSpPr/>
            <p:nvPr/>
          </p:nvSpPr>
          <p:spPr>
            <a:xfrm flipH="1">
              <a:off x="6732720" y="3500280"/>
              <a:ext cx="86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6734520" y="3911400"/>
              <a:ext cx="86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441200" y="3746880"/>
              <a:ext cx="155160" cy="164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0" name="" descr=""/>
          <p:cNvPicPr/>
          <p:nvPr/>
        </p:nvPicPr>
        <p:blipFill>
          <a:blip r:embed="rId5"/>
          <a:stretch/>
        </p:blipFill>
        <p:spPr>
          <a:xfrm>
            <a:off x="2124000" y="5445000"/>
            <a:ext cx="1079640" cy="97632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6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7"/>
          <a:stretch/>
        </p:blipFill>
        <p:spPr>
          <a:xfrm>
            <a:off x="4716360" y="404640"/>
            <a:ext cx="647640" cy="586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0" dur="500" fill="hold"/>
                                        <p:tgtEl>
                                          <p:spTgt spid="15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72" dur="500" fill="hold"/>
                                        <p:tgtEl>
                                          <p:spTgt spid="14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3.5369E-006 L -0.30313 0.44598 E">
                                      <p:cBhvr>
                                        <p:cTn id="276" dur="2000" fill="hold"/>
                                        <p:tgtEl>
                                          <p:spTgt spid="1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72222E-006 1.50359E-007 L -0.36615 0.51353 E">
                                      <p:cBhvr>
                                        <p:cTn id="278" dur="2000" fill="hold"/>
                                        <p:tgtEl>
                                          <p:spTgt spid="1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80" dur="2000" fill="hold"/>
                                        <p:tgtEl>
                                          <p:spTgt spid="149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2" dur="2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3" name=""/>
          <p:cNvGrpSpPr/>
          <p:nvPr/>
        </p:nvGrpSpPr>
        <p:grpSpPr>
          <a:xfrm>
            <a:off x="3995640" y="404640"/>
            <a:ext cx="1368360" cy="936720"/>
            <a:chOff x="3995640" y="404640"/>
            <a:chExt cx="1368360" cy="936720"/>
          </a:xfrm>
        </p:grpSpPr>
        <p:pic>
          <p:nvPicPr>
            <p:cNvPr id="1514" name="" descr=""/>
            <p:cNvPicPr/>
            <p:nvPr/>
          </p:nvPicPr>
          <p:blipFill>
            <a:blip r:embed="rId1"/>
            <a:stretch/>
          </p:blipFill>
          <p:spPr>
            <a:xfrm>
              <a:off x="3995640" y="404640"/>
              <a:ext cx="13683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3995640" y="404640"/>
              <a:ext cx="1366920" cy="936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147560" y="799200"/>
              <a:ext cx="45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147560" y="946800"/>
              <a:ext cx="354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147560" y="1094400"/>
              <a:ext cx="253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9" name="" descr=""/>
          <p:cNvPicPr/>
          <p:nvPr/>
        </p:nvPicPr>
        <p:blipFill>
          <a:blip r:embed="rId2"/>
          <a:stretch/>
        </p:blipFill>
        <p:spPr>
          <a:xfrm>
            <a:off x="5472000" y="2133720"/>
            <a:ext cx="3672000" cy="4506840"/>
          </a:xfrm>
          <a:prstGeom prst="rect">
            <a:avLst/>
          </a:prstGeom>
          <a:ln w="0">
            <a:noFill/>
          </a:ln>
        </p:spPr>
      </p:pic>
      <p:pic>
        <p:nvPicPr>
          <p:cNvPr id="1520" name="" descr=""/>
          <p:cNvPicPr/>
          <p:nvPr/>
        </p:nvPicPr>
        <p:blipFill>
          <a:blip r:embed="rId3"/>
          <a:stretch/>
        </p:blipFill>
        <p:spPr>
          <a:xfrm>
            <a:off x="108000" y="2133720"/>
            <a:ext cx="3672000" cy="450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1" name=""/>
          <p:cNvGraphicFramePr/>
          <p:nvPr/>
        </p:nvGraphicFramePr>
        <p:xfrm>
          <a:off x="7308720" y="4349880"/>
          <a:ext cx="1224000" cy="94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4349880"/>
                    <a:ext cx="122400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3" name=""/>
          <p:cNvGraphicFramePr/>
          <p:nvPr/>
        </p:nvGraphicFramePr>
        <p:xfrm>
          <a:off x="4643280" y="476280"/>
          <a:ext cx="649440" cy="501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43280" y="476280"/>
                    <a:ext cx="64944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5" name="" descr=""/>
          <p:cNvPicPr/>
          <p:nvPr/>
        </p:nvPicPr>
        <p:blipFill>
          <a:blip r:embed="rId8"/>
          <a:stretch/>
        </p:blipFill>
        <p:spPr>
          <a:xfrm>
            <a:off x="5979960" y="4292640"/>
            <a:ext cx="814680" cy="1008000"/>
          </a:xfrm>
          <a:prstGeom prst="rect">
            <a:avLst/>
          </a:prstGeom>
          <a:ln w="0">
            <a:noFill/>
          </a:ln>
        </p:spPr>
      </p:pic>
      <p:pic>
        <p:nvPicPr>
          <p:cNvPr id="1526" name="" descr=""/>
          <p:cNvPicPr/>
          <p:nvPr/>
        </p:nvPicPr>
        <p:blipFill>
          <a:blip r:embed="rId9"/>
          <a:stretch/>
        </p:blipFill>
        <p:spPr>
          <a:xfrm>
            <a:off x="2124000" y="5445000"/>
            <a:ext cx="1079640" cy="976320"/>
          </a:xfrm>
          <a:prstGeom prst="rect">
            <a:avLst/>
          </a:prstGeom>
          <a:ln w="0">
            <a:noFill/>
          </a:ln>
        </p:spPr>
      </p:pic>
      <p:pic>
        <p:nvPicPr>
          <p:cNvPr id="1527" name="" descr=""/>
          <p:cNvPicPr/>
          <p:nvPr/>
        </p:nvPicPr>
        <p:blipFill>
          <a:blip r:embed="rId10"/>
          <a:stretch/>
        </p:blipFill>
        <p:spPr>
          <a:xfrm>
            <a:off x="611280" y="4292640"/>
            <a:ext cx="1224000" cy="1171440"/>
          </a:xfrm>
          <a:prstGeom prst="rect">
            <a:avLst/>
          </a:prstGeom>
          <a:ln w="0">
            <a:noFill/>
          </a:ln>
        </p:spPr>
      </p:pic>
      <p:grpSp>
        <p:nvGrpSpPr>
          <p:cNvPr id="1528" name=""/>
          <p:cNvGrpSpPr/>
          <p:nvPr/>
        </p:nvGrpSpPr>
        <p:grpSpPr>
          <a:xfrm>
            <a:off x="6732720" y="3500280"/>
            <a:ext cx="863640" cy="411120"/>
            <a:chOff x="6732720" y="3500280"/>
            <a:chExt cx="863640" cy="411120"/>
          </a:xfrm>
        </p:grpSpPr>
        <p:sp>
          <p:nvSpPr>
            <p:cNvPr id="1529" name=""/>
            <p:cNvSpPr/>
            <p:nvPr/>
          </p:nvSpPr>
          <p:spPr>
            <a:xfrm flipH="1">
              <a:off x="6732720" y="3500280"/>
              <a:ext cx="861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6734520" y="3911400"/>
              <a:ext cx="86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441200" y="3746880"/>
              <a:ext cx="155160" cy="16452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476360" y="3500280"/>
            <a:ext cx="934560" cy="398160"/>
            <a:chOff x="1476360" y="3500280"/>
            <a:chExt cx="934560" cy="398160"/>
          </a:xfrm>
        </p:grpSpPr>
        <p:sp>
          <p:nvSpPr>
            <p:cNvPr id="1533" name=""/>
            <p:cNvSpPr/>
            <p:nvPr/>
          </p:nvSpPr>
          <p:spPr>
            <a:xfrm>
              <a:off x="1476360" y="3500280"/>
              <a:ext cx="858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53760" y="3898440"/>
              <a:ext cx="85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553760" y="3738960"/>
              <a:ext cx="154440" cy="159480"/>
            </a:xfrm>
            <a:prstGeom prst="flowChartConnector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out" orient="ver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06" dur="500" fill="hold"/>
                                        <p:tgtEl>
                                          <p:spTgt spid="1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08" dur="500" fill="hold"/>
                                        <p:tgtEl>
                                          <p:spTgt spid="15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4.44444E-006 3.5369E-006 L 0.33472 0.47744 E">
                                      <p:cBhvr>
                                        <p:cTn id="312" dur="2000" fill="hold"/>
                                        <p:tgtEl>
                                          <p:spTgt spid="1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-4.94564E-006 L 0.3191 0.42517 E">
                                      <p:cBhvr>
                                        <p:cTn id="314" dur="2000" fill="hold"/>
                                        <p:tgtEl>
                                          <p:spTgt spid="1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6" dur="2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319" dur="2000" fill="hold"/>
                                        <p:tgtEl>
                                          <p:spTgt spid="15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4:27:17Z</dcterms:created>
  <dc:creator>Ольга</dc:creator>
  <dc:description/>
  <dc:language>en-US</dc:language>
  <cp:lastModifiedBy>надежда</cp:lastModifiedBy>
  <dcterms:modified xsi:type="dcterms:W3CDTF">2011-04-03T16:28:58Z</dcterms:modified>
  <cp:revision>25</cp:revision>
  <dc:subject/>
  <dc:title>Слайд 1</dc:title>
</cp:coreProperties>
</file>