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24.jpeg" ContentType="image/jpeg"/>
  <Override PartName="/ppt/media/image14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5.png" ContentType="image/png"/>
  <Override PartName="/ppt/media/image43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30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37.jpeg" ContentType="image/jpeg"/>
  <Override PartName="/ppt/media/image11.jpeg" ContentType="image/jpeg"/>
  <Override PartName="/ppt/media/image20.png" ContentType="image/png"/>
  <Override PartName="/ppt/media/image36.jpeg" ContentType="image/jpeg"/>
  <Override PartName="/ppt/media/image44.jpeg" ContentType="image/jpeg"/>
  <Override PartName="/ppt/media/image45.jpeg" ContentType="image/jpeg"/>
  <Override PartName="/ppt/media/image46.png" ContentType="image/png"/>
  <Override PartName="/ppt/media/image49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48.jpeg" ContentType="image/jpeg"/>
  <Override PartName="/ppt/media/image53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28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C0F4-03FF-45A0-A0FE-A8BE0998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CD2-B683-4215-9B16-20EA0B45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95FB-C9B1-400A-BACC-B6924E61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0384-8337-4C2A-83F7-969EAA0A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6D5D-68CE-4E4E-BF22-A1870512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8D0A-B4EF-4F3C-B176-935F84F8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0BC9-8826-4C16-A9B0-8D58113B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A07A-05DE-4F24-9643-5460449B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CADC-2EAF-49D2-8281-AC5F3F78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E9E6-0EF0-4D37-8931-C839D3CD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ABB8-CF34-44DE-83D3-E87E49ED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875F-0F3B-4C9C-9F7B-5FC66388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E1DB-411F-4E05-91D2-E8966CF58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981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От Февраля к Октябр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rcRect l="0" t="27945" r="0" b="31110"/>
          <a:stretch/>
        </p:blipFill>
        <p:spPr>
          <a:xfrm>
            <a:off x="0" y="260280"/>
            <a:ext cx="9144000" cy="2952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5445000"/>
            <a:ext cx="9144000" cy="1079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  Национальный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759636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80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2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2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213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75120" y="0"/>
            <a:ext cx="516888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726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1355760"/>
          <a:ext cx="9144000" cy="5502240"/>
        </p:xfrm>
        <a:graphic>
          <a:graphicData uri="http://schemas.openxmlformats.org/drawingml/2006/table">
            <a:tbl>
              <a:tblPr/>
              <a:tblGrid>
                <a:gridCol w="4716360"/>
                <a:gridCol w="442764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Сохранить солдатские комитеты, но обязать их следовать дисциплине, в противном случае наложить на них ответственность по суд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бъявить железные дороги и большую часть заводов на военном положен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Запретить митинги в арм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Запретить митинги, забастовки и стач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Восстановить в полной мере власть офицер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Установить нормы выработки, в случае их не исполнения отправлять рабочих на фрон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Ввести смертную казнь за дезертирств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Выделить военный округ Петрограда и передать его непосредственно в подчинение Став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Государственном совещании Корнилов Л.Г. Выдвинул проект необходимых мер в двух сферах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военно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гражданско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98880" cy="4653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382920" y="4092480"/>
            <a:ext cx="576108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8136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340000" y="2349360"/>
            <a:ext cx="4680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4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3467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380360" y="549360"/>
            <a:ext cx="176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Отменял тайную дипломатию и обещал опубликовать тайные документы царя и Временного правительст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5000"/>
            <a:ext cx="18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Отказался от прежних договоров, заключенных царем и Временным правитель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451640" y="404640"/>
            <a:ext cx="169236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Отменял помещичью собственность на зем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емля объявлялась общенародным достоя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прещалось использование наемного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60280"/>
            <a:ext cx="1763640" cy="59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Вся земля переходила в распоряжение местных земельных комитетов и Советов крестьянских депут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Право пользования землей предоставлялось всем трудящимся до тех пор, пока они могли её обрабатывать своими си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rcRect l="5122" t="23816" r="49222" b="18289"/>
          <a:stretch/>
        </p:blipFill>
        <p:spPr>
          <a:xfrm>
            <a:off x="-324000" y="0"/>
            <a:ext cx="4175280" cy="3960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843280" y="2060640"/>
            <a:ext cx="2251080" cy="3500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rcRect l="55521" t="22764" r="5122" b="16178"/>
          <a:stretch/>
        </p:blipFill>
        <p:spPr>
          <a:xfrm>
            <a:off x="5076720" y="0"/>
            <a:ext cx="40672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становка политических партий в период двоевлас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549360"/>
            <a:ext cx="3024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енное прави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19640" y="549360"/>
            <a:ext cx="3456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оградский Совет рабочих и солдатских депу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237360"/>
            <a:ext cx="15476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нархи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92360" y="6237360"/>
            <a:ext cx="15112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Октябри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48000" y="6237360"/>
            <a:ext cx="93672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Кад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96360" y="6237360"/>
            <a:ext cx="15476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Большев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59280" y="6237360"/>
            <a:ext cx="93492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Эс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6237360"/>
            <a:ext cx="158436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Меньшев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7840" y="766800"/>
            <a:ext cx="361800" cy="5472000"/>
          </a:xfrm>
          <a:custGeom>
            <a:avLst/>
            <a:gdLst/>
            <a:ahLst/>
            <a:rect l="l" t="t" r="r" b="b"/>
            <a:pathLst>
              <a:path w="228" h="3447">
                <a:moveTo>
                  <a:pt x="1" y="3447"/>
                </a:moveTo>
                <a:lnTo>
                  <a:pt x="0" y="5"/>
                </a:lnTo>
                <a:lnTo>
                  <a:pt x="22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2492280"/>
            <a:ext cx="158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разили поддержку Времен-ному правитель-ству после отречения ца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92360" y="1052640"/>
            <a:ext cx="0" cy="51847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1916280"/>
            <a:ext cx="151272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А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ошли в состав Времен-ного правитель-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348000" y="1052640"/>
            <a:ext cx="0" cy="518472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1916280"/>
            <a:ext cx="151128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Вошли в состав Времен-ного правитель-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796000" y="1196640"/>
            <a:ext cx="0" cy="504036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16360" y="2349360"/>
            <a:ext cx="115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ошли в состав Совета и поддер-жали Времен-ное правите-льство через Со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451640" y="1196640"/>
            <a:ext cx="0" cy="504036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7640" y="2349360"/>
            <a:ext cx="115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Вошли в состав Совета и поддер-жали Времен-ное правите-льство через Со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67640" y="2421000"/>
            <a:ext cx="115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ошли в состав Совета, но </a:t>
            </a:r>
            <a:r>
              <a:rPr b="1" lang="ru-RU" sz="1800" spc="-1" strike="noStrike">
                <a:solidFill>
                  <a:srgbClr val="9900cc"/>
                </a:solidFill>
                <a:latin typeface="Arial"/>
              </a:rPr>
              <a:t>не поддер-жали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Времен-ное правите-льство через Со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675640" y="836640"/>
            <a:ext cx="289080" cy="5400720"/>
          </a:xfrm>
          <a:custGeom>
            <a:avLst/>
            <a:gdLst/>
            <a:ahLst/>
            <a:rect l="l" t="t" r="r" b="b"/>
            <a:pathLst>
              <a:path w="182" h="3402">
                <a:moveTo>
                  <a:pt x="182" y="3402"/>
                </a:moveTo>
                <a:lnTo>
                  <a:pt x="151" y="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77080" y="1413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Л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563640" y="765000"/>
            <a:ext cx="1655640" cy="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67280" y="333360"/>
            <a:ext cx="100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360" y="333360"/>
            <a:ext cx="1727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ддер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сех, кро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ьшев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rcRect l="44481" t="11157" r="44481" b="69961"/>
          <a:stretch/>
        </p:blipFill>
        <p:spPr>
          <a:xfrm>
            <a:off x="179280" y="907920"/>
            <a:ext cx="2079720" cy="2665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348000" y="620640"/>
            <a:ext cx="2664000" cy="151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АК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1009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2:38:11Z</dcterms:created>
  <dc:creator>Ахз</dc:creator>
  <dc:description/>
  <dc:language>en-US</dc:language>
  <cp:lastModifiedBy>Adel</cp:lastModifiedBy>
  <dcterms:modified xsi:type="dcterms:W3CDTF">2011-03-30T20:55:39Z</dcterms:modified>
  <cp:revision>56</cp:revision>
  <dc:subject/>
  <dc:title>Слайд 1</dc:title>
</cp:coreProperties>
</file>