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drumroll.wav" ContentType="audio/x-wav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004-4890-4DD3-B64D-49966987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4C4-FF5F-41B6-803D-8AB3DA3A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8F7-9698-4168-9BD0-014335AC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446-165E-4386-95BB-95C35AE3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FEE1-60A1-489D-9DE1-5264E568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6ADA-4368-4A16-B2FA-48AE6A8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446-AB05-4B9E-8231-2B050A32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80B9-BE9E-4A04-B442-4EEC3EF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009B-3E17-4129-8C22-917F398C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B9F-C8D6-43D8-A528-47B0A78D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90A-7D2F-4978-9C8A-41FCC4E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590-ED4B-444D-9933-99649843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A266-666C-42FC-B3C5-956026C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3103-35E5-406C-A9FC-4C71B3D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1EE-CE16-4426-B60D-E54B76FA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C7B6-5EA8-4BC6-AFEF-5AEA52EF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CE3-F40E-4343-B916-EBBE0067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2243-19B6-4CFC-85D3-D13D09D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E9FB-A0E7-4BD5-89A2-60B7657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F21D-40B0-4118-ABEB-766F88C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6B6E-3CBA-4DBB-9F40-C024BB2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E56E-FC70-4689-BC29-94E9DB32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126-7E36-4321-8014-A0DADC6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BDB4-A315-4301-84BE-338E9C0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2B63-BC13-4A23-A7A6-F33DE22C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A625-4E67-4409-9006-BEC07EA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ABBB-2834-4A80-BB03-4E0E259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54F2-E5D5-4B39-9C08-E6CEB22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DFE8-2627-4DF1-85C3-5CA3730A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6624-CFA7-4AC4-A6B1-F50C1E14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45BC-D4D1-468D-A631-5B1EE0B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053C-DB39-43D9-B1ED-D3821A8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5ED6-29A8-4518-9361-2B090D7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3D9-7FBB-475D-A80E-239A652D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3FE7-5679-414E-A70B-3B10064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FCCD-B50F-4A1C-BE4B-4C76138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9B6E-E58A-4BD5-8EAD-C6BDC5A0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E2E3-9F5E-4767-A363-C66B4E0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5A3D-985D-405F-BFAF-EB9060B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EC7C-8812-4F1E-B312-85C0AEC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3CAE-010C-4CA9-813B-DE3D034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4779-634E-48F9-B81E-965CA719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A2BD-BAEE-4EB4-A713-06FFED38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EF6-6B57-4F4E-B9D9-AAD8B2D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3C1-9A65-4489-8A84-CA845BE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860-AC37-49A8-90FF-EE3DD4E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E62-5A9D-45CF-A33C-61A65AA5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B51-86F4-407C-871C-C6BE1B37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113-5E44-4034-AF3C-89313DE71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F5E-E7E0-462B-BB5D-2F82BA22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C403-C26D-4D04-A535-49FD0304F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CE2-FAB1-4308-BB06-612E4A332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0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917 год в истории РОССИИ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0066ff"/>
                </a:solidFill>
                <a:latin typeface="Arial"/>
              </a:rPr>
              <a:t>Февральская буржуазно-демократическая революция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620640"/>
          <a:ext cx="9144000" cy="580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0640"/>
                    <a:ext cx="914400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0" cy="57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11280" y="60213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ереди за хлебом в Петрограде  19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Кризис «низов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т политической активности народных м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68360" y="1971720"/>
          <a:ext cx="8388360" cy="48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71720"/>
                    <a:ext cx="83883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95280" y="476280"/>
          <a:ext cx="8244000" cy="589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76280"/>
                    <a:ext cx="82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Основные событ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1197000"/>
            <a:ext cx="9144000" cy="720720"/>
            <a:chOff x="0" y="1197000"/>
            <a:chExt cx="9144000" cy="720720"/>
          </a:xfrm>
        </p:grpSpPr>
        <p:sp>
          <p:nvSpPr>
            <p:cNvPr id="255" name=""/>
            <p:cNvSpPr/>
            <p:nvPr/>
          </p:nvSpPr>
          <p:spPr>
            <a:xfrm>
              <a:off x="0" y="1197000"/>
              <a:ext cx="1835280" cy="720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1111"/>
                  </a:solidFill>
                  <a:latin typeface="Arial"/>
                </a:rPr>
                <a:t>18 феврал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35280" y="1197000"/>
              <a:ext cx="7308720" cy="720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1111"/>
                  </a:solidFill>
                  <a:latin typeface="Arial"/>
                </a:rPr>
                <a:t>Забастовка рабочих Путиловского заво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6920" y="1846440"/>
            <a:ext cx="756144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rcRect l="0" t="0" r="0" b="89203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8360" y="647640"/>
            <a:ext cx="82072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105080" cy="3079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rcRect l="0" t="10108" r="0" b="78652"/>
          <a:stretch/>
        </p:blipFill>
        <p:spPr>
          <a:xfrm>
            <a:off x="0" y="0"/>
            <a:ext cx="9144000" cy="720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9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2267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267"/>
                            </p:stCondLst>
                            <p:childTnLst>
                              <p:par>
                                <p:cTn id="9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767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ca02"/>
                </a:solidFill>
                <a:latin typeface="Times New Roman"/>
              </a:rPr>
              <a:t>Причины револю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ладывание революционной ситуаци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58920" y="2060640"/>
            <a:ext cx="6337440" cy="865080"/>
            <a:chOff x="1258920" y="2060640"/>
            <a:chExt cx="6337440" cy="865080"/>
          </a:xfrm>
        </p:grpSpPr>
        <p:sp>
          <p:nvSpPr>
            <p:cNvPr id="205" name=""/>
            <p:cNvSpPr/>
            <p:nvPr/>
          </p:nvSpPr>
          <p:spPr>
            <a:xfrm>
              <a:off x="6804000" y="2060640"/>
              <a:ext cx="792360" cy="79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58920" y="2133720"/>
              <a:ext cx="792000" cy="79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3213000"/>
            <a:ext cx="9144000" cy="653040"/>
            <a:chOff x="0" y="3213000"/>
            <a:chExt cx="9144000" cy="653040"/>
          </a:xfrm>
        </p:grpSpPr>
        <p:sp>
          <p:nvSpPr>
            <p:cNvPr id="208" name=""/>
            <p:cNvSpPr/>
            <p:nvPr/>
          </p:nvSpPr>
          <p:spPr>
            <a:xfrm>
              <a:off x="0" y="32130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Кризис «верхов»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3284640"/>
              <a:ext cx="41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Кризис «низов»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4716000" y="3933720"/>
            <a:ext cx="2303640" cy="50328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3933720"/>
            <a:ext cx="43164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4508640"/>
            <a:ext cx="25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бнищание выше обычного народных м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4581360"/>
            <a:ext cx="223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ост политической активности народных м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0" t="31476" r="0" b="57283"/>
          <a:stretch/>
        </p:blipFill>
        <p:spPr>
          <a:xfrm>
            <a:off x="0" y="0"/>
            <a:ext cx="914400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630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6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4000" cy="549360"/>
            <a:chOff x="0" y="0"/>
            <a:chExt cx="9144000" cy="549360"/>
          </a:xfrm>
        </p:grpSpPr>
        <p:sp>
          <p:nvSpPr>
            <p:cNvPr id="267" name=""/>
            <p:cNvSpPr/>
            <p:nvPr/>
          </p:nvSpPr>
          <p:spPr>
            <a:xfrm>
              <a:off x="0" y="0"/>
              <a:ext cx="1835280" cy="549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11"/>
                  </a:solidFill>
                  <a:latin typeface="Arial"/>
                </a:rPr>
                <a:t>2 март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35280" y="0"/>
              <a:ext cx="7308720" cy="549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1111"/>
                  </a:solidFill>
                  <a:latin typeface="Arial"/>
                </a:rPr>
                <a:t>Падение самодержа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7812000" cy="587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xit" presetID="4" presetSubtype="16">
                                  <p:stCondLst>
                                    <p:cond delay="22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8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260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692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1643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Никто в феврале не мог предвидеть Октября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оссия оказалась перед выбором будущей формы правления и, казалось, должна была пойти по проторенному пути конституционных монархий или буржуазных республик, конституций, парламентов, демократическ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328464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ко решение центрального вопроса любой революции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вопроса о вла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откладывалось до Учредительного собр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5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Фактически же его пришлось решать гораздо рань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25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25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75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907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Кризис «верхов»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дение престижа монарх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0" y="765000"/>
          <a:ext cx="422748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765000"/>
                    <a:ext cx="4227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50920" y="765000"/>
          <a:ext cx="3889440" cy="544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765000"/>
                    <a:ext cx="388944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19280" y="18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инистерская «чехард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0120" y="177336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За 1914-1917 г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сменилос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2280" y="249228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9dce7"/>
                </a:solidFill>
                <a:latin typeface="Arial"/>
              </a:rPr>
              <a:t> председателя Совета министр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84680" y="3357720"/>
            <a:ext cx="57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c9dce7"/>
                </a:solidFill>
                <a:latin typeface="Arial"/>
              </a:rPr>
              <a:t>министров внутренних де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26120" y="4221000"/>
            <a:ext cx="41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9dce7"/>
                </a:solidFill>
                <a:latin typeface="Arial"/>
              </a:rPr>
              <a:t> военных минист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9920" y="5157720"/>
            <a:ext cx="47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9dce7"/>
                </a:solidFill>
                <a:latin typeface="Arial"/>
              </a:rPr>
              <a:t> министра земледе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5041800" y="549360"/>
          <a:ext cx="4102200" cy="63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1800" y="549360"/>
                    <a:ext cx="41022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9528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ущало влияние Распутина на царскую сем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65280"/>
          <a:ext cx="3743280" cy="619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65280"/>
                    <a:ext cx="374328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484360" y="1413000"/>
          <a:ext cx="3471840" cy="384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1413000"/>
                    <a:ext cx="347184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46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4" name=""/>
            <p:cNvSpPr/>
            <p:nvPr/>
          </p:nvSpPr>
          <p:spPr>
            <a:xfrm>
              <a:off x="0" y="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84a9b"/>
                  </a:solidFill>
                  <a:latin typeface="Arial"/>
                </a:rPr>
                <a:t>Создание системы Особых совещаний по мобилизации ресурсов на нужды фронта и военно-промышленных комитет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9144000" cy="5516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6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икола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нностей верховного главнокомандующего на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7267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Кризис «низов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77336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бнищ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ыш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быч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родных м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8:54:06Z</dcterms:created>
  <dc:creator>User</dc:creator>
  <dc:description/>
  <dc:language>en-US</dc:language>
  <cp:lastModifiedBy>Adel</cp:lastModifiedBy>
  <dcterms:modified xsi:type="dcterms:W3CDTF">2011-03-30T20:55:03Z</dcterms:modified>
  <cp:revision>26</cp:revision>
  <dc:subject/>
  <dc:title>Февральская революция.</dc:title>
</cp:coreProperties>
</file>