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1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49.png" ContentType="image/png"/>
  <Override PartName="/ppt/media/image23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9.jpeg" ContentType="image/jpeg"/>
  <Override PartName="/ppt/media/image36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95C-227A-4484-A31D-70012BCE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735-EE56-462A-BB2F-CFBA4E8B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C623-5014-4100-879F-55A2D860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5304-5FC0-4874-83E7-6AA4D922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B9C-8FED-4916-8BA2-58982AFD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F95-AB3F-4E9B-B15F-DBE50044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331-75AF-4CE9-9FCD-F927EBA3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CBCA-3B75-49E7-B8D7-FEE0296E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140-4BE3-45BB-9E9F-0A90F64E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3244-57A2-4F7D-A313-85836B7E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DAFC-1E9B-454C-91FA-A129D9AF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261-719C-4784-870F-2FFCD64B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17C6-2CEF-4ADE-BE48-49AB6EEF1E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358120" cy="29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«Чтоб сердце не было жестоко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Литературно-музыкальная композиция по стихотворениям Николая Дегтярё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Администратор\Рабочий стол\1\Сосульки\03.jpg"/>
          <p:cNvPicPr/>
          <p:nvPr/>
        </p:nvPicPr>
        <p:blipFill>
          <a:blip r:embed="rId1"/>
          <a:stretch/>
        </p:blipFill>
        <p:spPr>
          <a:xfrm>
            <a:off x="2857680" y="285840"/>
            <a:ext cx="6095880" cy="4038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714240" y="4572000"/>
            <a:ext cx="750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Я сегодня увидел вес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В отраженье сосульки на кры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Неужели опять не усн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Если звуки капели услыш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Администратор\Рабочий стол\1\Сосульки\op_clip_image011_0000.jpg"/>
          <p:cNvPicPr/>
          <p:nvPr/>
        </p:nvPicPr>
        <p:blipFill>
          <a:blip r:embed="rId1"/>
          <a:stretch/>
        </p:blipFill>
        <p:spPr>
          <a:xfrm>
            <a:off x="2500200" y="285840"/>
            <a:ext cx="6272280" cy="4786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642960" y="507204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И смеётся, и стонет душ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С ней ликует и плачет прир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До чего же она хорош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На пороге цветущего го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Администратор\Рабочий стол\1\Цветок\normal_%CF%EE%E4%F1%ED%E5%E6%ED%E8%EA%E8.jpg"/>
          <p:cNvPicPr/>
          <p:nvPr/>
        </p:nvPicPr>
        <p:blipFill>
          <a:blip r:embed="rId1"/>
          <a:stretch/>
        </p:blipFill>
        <p:spPr>
          <a:xfrm>
            <a:off x="0" y="0"/>
            <a:ext cx="6591240" cy="4381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Администратор\Рабочий стол\1\Цветок\podsnejniki.jpg"/>
          <p:cNvPicPr/>
          <p:nvPr/>
        </p:nvPicPr>
        <p:blipFill>
          <a:blip r:embed="rId2"/>
          <a:stretch/>
        </p:blipFill>
        <p:spPr>
          <a:xfrm>
            <a:off x="3786120" y="3286080"/>
            <a:ext cx="5357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Администратор\Рабочий стол\1\Цветок\0_165e_3cec0109_XL.jpeg"/>
          <p:cNvPicPr/>
          <p:nvPr/>
        </p:nvPicPr>
        <p:blipFill>
          <a:blip r:embed="rId1"/>
          <a:stretch/>
        </p:blipFill>
        <p:spPr>
          <a:xfrm>
            <a:off x="428760" y="642960"/>
            <a:ext cx="82836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Администратор\Рабочий стол\1\Цветок\0_946_60a3b689_XL.jpe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5572080" y="642960"/>
            <a:ext cx="32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ркий багу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ка не цвет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стник весны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лгождан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 на поляне - о чудо!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- раст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жный подснежник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жела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Администратор\Рабочий стол\1\Цветок\rpb9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Администратор\Рабочий стол\1\Цветок\23384926_04.jpg"/>
          <p:cNvPicPr/>
          <p:nvPr/>
        </p:nvPicPr>
        <p:blipFill>
          <a:blip r:embed="rId2"/>
          <a:stretch/>
        </p:blipFill>
        <p:spPr>
          <a:xfrm>
            <a:off x="0" y="2892600"/>
            <a:ext cx="5286240" cy="39654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14200" y="357120"/>
            <a:ext cx="392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Calibri"/>
              </a:rPr>
              <a:t>Не грубой колючк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7030a0"/>
                </a:solidFill>
                <a:latin typeface="Calibri"/>
              </a:rPr>
              <a:t>жизнь воскресила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ff"/>
                </a:solidFill>
                <a:latin typeface="Calibri"/>
              </a:rPr>
              <a:t>А фиолетовым ц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5500800" y="4357800"/>
            <a:ext cx="350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Сквозь сырость и холод 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 она прояв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Надеждой и с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Администратор\Рабочий стол\1\Пожары\47.jpg"/>
          <p:cNvPicPr/>
          <p:nvPr/>
        </p:nvPicPr>
        <p:blipFill>
          <a:blip r:embed="rId1"/>
          <a:stretch/>
        </p:blipFill>
        <p:spPr>
          <a:xfrm>
            <a:off x="1428840" y="1214280"/>
            <a:ext cx="61592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Администратор\Рабочий стол\1\Пожары\2073888.jpg"/>
          <p:cNvPicPr/>
          <p:nvPr/>
        </p:nvPicPr>
        <p:blipFill>
          <a:blip r:embed="rId1"/>
          <a:stretch/>
        </p:blipFill>
        <p:spPr>
          <a:xfrm>
            <a:off x="714240" y="571680"/>
            <a:ext cx="75009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Documents and Settings\Администратор\Рабочий стол\1\Пожары\fire.JPG"/>
          <p:cNvPicPr/>
          <p:nvPr/>
        </p:nvPicPr>
        <p:blipFill>
          <a:blip r:embed="rId1"/>
          <a:stretch/>
        </p:blipFill>
        <p:spPr>
          <a:xfrm>
            <a:off x="928800" y="714240"/>
            <a:ext cx="71434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Documents and Settings\Администратор\Рабочий стол\1\Пожары\default.jpeg"/>
          <p:cNvPicPr/>
          <p:nvPr/>
        </p:nvPicPr>
        <p:blipFill>
          <a:blip r:embed="rId1"/>
          <a:stretch/>
        </p:blipFill>
        <p:spPr>
          <a:xfrm>
            <a:off x="4524480" y="0"/>
            <a:ext cx="4619520" cy="3314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Documents and Settings\Администратор\Рабочий стол\1\Пожары\251721.jpg"/>
          <p:cNvPicPr/>
          <p:nvPr/>
        </p:nvPicPr>
        <p:blipFill>
          <a:blip r:embed="rId2"/>
          <a:stretch/>
        </p:blipFill>
        <p:spPr>
          <a:xfrm>
            <a:off x="0" y="2365200"/>
            <a:ext cx="600084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I:\Обработанные\IMGP01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Администратор\Рабочий стол\1\Пожары\u3_14204905.jpg"/>
          <p:cNvPicPr/>
          <p:nvPr/>
        </p:nvPicPr>
        <p:blipFill>
          <a:blip r:embed="rId1"/>
          <a:stretch/>
        </p:blipFill>
        <p:spPr>
          <a:xfrm>
            <a:off x="857160" y="500040"/>
            <a:ext cx="7572600" cy="5680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Documents and Settings\Администратор\Рабочий стол\1\Пожары\ras2.jpg"/>
          <p:cNvPicPr/>
          <p:nvPr/>
        </p:nvPicPr>
        <p:blipFill>
          <a:blip r:embed="rId2"/>
          <a:stretch/>
        </p:blipFill>
        <p:spPr>
          <a:xfrm>
            <a:off x="-55440" y="500040"/>
            <a:ext cx="921384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C:\Documents and Settings\Администратор\Рабочий стол\1\Берёза\731654.jpg"/>
          <p:cNvPicPr/>
          <p:nvPr/>
        </p:nvPicPr>
        <p:blipFill>
          <a:blip r:embed="rId1"/>
          <a:stretch/>
        </p:blipFill>
        <p:spPr>
          <a:xfrm>
            <a:off x="285840" y="714240"/>
            <a:ext cx="4095720" cy="545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Documents and Settings\Администратор\Рабочий стол\1\Берёза\image_s500.jpeg"/>
          <p:cNvPicPr/>
          <p:nvPr/>
        </p:nvPicPr>
        <p:blipFill>
          <a:blip r:embed="rId2"/>
          <a:stretch/>
        </p:blipFill>
        <p:spPr>
          <a:xfrm>
            <a:off x="3857760" y="1143000"/>
            <a:ext cx="497664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Администратор\Рабочий стол\1\Берёза\zimnjaja_bereza.jpg"/>
          <p:cNvPicPr/>
          <p:nvPr/>
        </p:nvPicPr>
        <p:blipFill>
          <a:blip r:embed="rId1"/>
          <a:stretch/>
        </p:blipFill>
        <p:spPr>
          <a:xfrm>
            <a:off x="285840" y="214200"/>
            <a:ext cx="4857840" cy="647568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5286240" y="1214280"/>
            <a:ext cx="364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нажды я видел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мёрзшие слёз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сломанной ветке у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арой берё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Администратор\Рабочий стол\1\Image1.jpg"/>
          <p:cNvPicPr/>
          <p:nvPr/>
        </p:nvPicPr>
        <p:blipFill>
          <a:blip r:embed="rId1"/>
          <a:stretch/>
        </p:blipFill>
        <p:spPr>
          <a:xfrm>
            <a:off x="1571760" y="357120"/>
            <a:ext cx="61052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Администратор\Рабочий стол\1\Берёза\1744986.jpg"/>
          <p:cNvPicPr/>
          <p:nvPr/>
        </p:nvPicPr>
        <p:blipFill>
          <a:blip r:embed="rId1"/>
          <a:stretch/>
        </p:blipFill>
        <p:spPr>
          <a:xfrm>
            <a:off x="285840" y="285840"/>
            <a:ext cx="4471920" cy="61434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5143680" y="428760"/>
            <a:ext cx="400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елый ствол и листьев блестка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 чем сравнить тебя берез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е словом все опишеш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Шелест тот, что вдруг услыши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квозь пронзительную тиш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е споешь, не просвистиш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зумруд листка прозрач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ак наряд для новобрач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оплощенье совершен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ротость, трепет – вот блаженст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 заре ее увиде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ж не сможешь ты обиде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и людей и ни зверюшек,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удешь лишь березку слуш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Шепот этот очень див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ловно гуслей звук старин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елый ствол и листьев блестка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Я люблю тебя, берез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Администратор\Рабочий стол\1\Берёза\2697285.jpg"/>
          <p:cNvPicPr/>
          <p:nvPr/>
        </p:nvPicPr>
        <p:blipFill>
          <a:blip r:embed="rId1"/>
          <a:stretch/>
        </p:blipFill>
        <p:spPr>
          <a:xfrm>
            <a:off x="214200" y="214200"/>
            <a:ext cx="4357800" cy="5811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Documents and Settings\Администратор\Рабочий стол\1\Берёза\normal_%E1%E5%F0%E5%E7%E0.JPG"/>
          <p:cNvPicPr/>
          <p:nvPr/>
        </p:nvPicPr>
        <p:blipFill>
          <a:blip r:embed="rId2"/>
          <a:stretch/>
        </p:blipFill>
        <p:spPr>
          <a:xfrm>
            <a:off x="928800" y="285840"/>
            <a:ext cx="4357440" cy="5810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Администратор\Рабочий стол\1\Берёза\birch.jpg"/>
          <p:cNvPicPr/>
          <p:nvPr/>
        </p:nvPicPr>
        <p:blipFill>
          <a:blip r:embed="rId3"/>
          <a:stretch/>
        </p:blipFill>
        <p:spPr>
          <a:xfrm>
            <a:off x="1857240" y="357120"/>
            <a:ext cx="4357800" cy="5810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Documents and Settings\Администратор\Рабочий стол\1\Берёза\yaray0087.jpg"/>
          <p:cNvPicPr/>
          <p:nvPr/>
        </p:nvPicPr>
        <p:blipFill>
          <a:blip r:embed="rId4"/>
          <a:stretch/>
        </p:blipFill>
        <p:spPr>
          <a:xfrm>
            <a:off x="2857680" y="428760"/>
            <a:ext cx="3962160" cy="5929200"/>
          </a:xfrm>
          <a:prstGeom prst="rect">
            <a:avLst/>
          </a:prstGeom>
          <a:ln w="0">
            <a:noFill/>
          </a:ln>
        </p:spPr>
      </p:pic>
      <p:pic>
        <p:nvPicPr>
          <p:cNvPr id="89" name="Приложение 1.mp3" descr=""/>
          <p:cNvPicPr/>
          <p:nvPr/>
        </p:nvPicPr>
        <p:blipFill>
          <a:blip r:embed="rId5"/>
          <a:stretch/>
        </p:blipFill>
        <p:spPr>
          <a:xfrm>
            <a:off x="8286840" y="571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Администратор\Рабочий стол\1\Берёза\1744986.jpg"/>
          <p:cNvPicPr/>
          <p:nvPr/>
        </p:nvPicPr>
        <p:blipFill>
          <a:blip r:embed="rId1"/>
          <a:stretch/>
        </p:blipFill>
        <p:spPr>
          <a:xfrm>
            <a:off x="285840" y="285840"/>
            <a:ext cx="4471920" cy="6143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5143680" y="428760"/>
            <a:ext cx="400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елый ствол и листьев блестка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 чем сравнить тебя берез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е словом все опишеш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Шелест тот, что вдруг услыши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квозь пронзительную тиш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е споешь, не просвистиш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зумруд листка прозрач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ак наряд для новобрач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оплощенье совершен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ротость, трепет – вот блаженст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 заре ее увиде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ж не сможешь ты обиде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и людей и ни зверюшек,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удешь лишь березку слуш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Шепот этот очень див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ловно гуслей звук старин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елый ствол и листьев блестка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Я люблю тебя, берез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Documents and Settings\Администратор\Рабочий стол\1\Зея\cdfcc11306c8.jpg"/>
          <p:cNvPicPr/>
          <p:nvPr/>
        </p:nvPicPr>
        <p:blipFill>
          <a:blip r:embed="rId1"/>
          <a:stretch/>
        </p:blipFill>
        <p:spPr>
          <a:xfrm>
            <a:off x="0" y="0"/>
            <a:ext cx="5524560" cy="4143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Documents and Settings\Администратор\Рабочий стол\1\Зея\star28.jpg"/>
          <p:cNvPicPr/>
          <p:nvPr/>
        </p:nvPicPr>
        <p:blipFill>
          <a:blip r:embed="rId2"/>
          <a:stretch/>
        </p:blipFill>
        <p:spPr>
          <a:xfrm>
            <a:off x="5334120" y="177804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Администратор\Рабочий стол\1\Зея\big2.jpg"/>
          <p:cNvPicPr/>
          <p:nvPr/>
        </p:nvPicPr>
        <p:blipFill>
          <a:blip r:embed="rId3"/>
          <a:stretch/>
        </p:blipFill>
        <p:spPr>
          <a:xfrm>
            <a:off x="928800" y="642960"/>
            <a:ext cx="7359480" cy="551664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7000920" y="21420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 Black"/>
              </a:rPr>
              <a:t>Река 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З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Администратор\Рабочий стол\1\Зея\7199.jpg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Администратор\Рабочий стол\1\Зея\538529616.jpg"/>
          <p:cNvPicPr/>
          <p:nvPr/>
        </p:nvPicPr>
        <p:blipFill>
          <a:blip r:embed="rId2"/>
          <a:stretch/>
        </p:blipFill>
        <p:spPr>
          <a:xfrm>
            <a:off x="1182600" y="1571760"/>
            <a:ext cx="7961400" cy="52862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"/>
          <p:cNvSpPr/>
          <p:nvPr/>
        </p:nvSpPr>
        <p:spPr>
          <a:xfrm>
            <a:off x="7143840" y="35712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Река </a:t>
            </a:r>
            <a:r>
              <a:rPr b="0" i="1" lang="ru-RU" sz="2800" spc="-1" strike="noStrike">
                <a:solidFill>
                  <a:srgbClr val="ff0000"/>
                </a:solidFill>
                <a:latin typeface="Arial Black"/>
              </a:rPr>
              <a:t>З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4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C:\Documents and Settings\Администратор\Рабочий стол\1\Зея\10957.JPG"/>
          <p:cNvPicPr/>
          <p:nvPr/>
        </p:nvPicPr>
        <p:blipFill>
          <a:blip r:embed="rId1"/>
          <a:stretch/>
        </p:blipFill>
        <p:spPr>
          <a:xfrm>
            <a:off x="2928960" y="2197080"/>
            <a:ext cx="6215040" cy="466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Администратор\Рабочий стол\1\Зея\664908.jpg"/>
          <p:cNvPicPr/>
          <p:nvPr/>
        </p:nvPicPr>
        <p:blipFill>
          <a:blip r:embed="rId2"/>
          <a:stretch/>
        </p:blipFill>
        <p:spPr>
          <a:xfrm>
            <a:off x="0" y="0"/>
            <a:ext cx="6934320" cy="3543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Администратор\Рабочий стол\1\Зея\a_381.jpg"/>
          <p:cNvPicPr/>
          <p:nvPr/>
        </p:nvPicPr>
        <p:blipFill>
          <a:blip r:embed="rId3"/>
          <a:stretch/>
        </p:blipFill>
        <p:spPr>
          <a:xfrm>
            <a:off x="498600" y="642960"/>
            <a:ext cx="8143920" cy="55720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7000920" y="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Река </a:t>
            </a:r>
            <a:r>
              <a:rPr b="0" i="1" lang="ru-RU" sz="2800" spc="-1" strike="noStrike">
                <a:solidFill>
                  <a:srgbClr val="ff0000"/>
                </a:solidFill>
                <a:latin typeface="Arial Black"/>
              </a:rPr>
              <a:t>З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I:\Обработанные\2.JPG"/>
          <p:cNvPicPr/>
          <p:nvPr/>
        </p:nvPicPr>
        <p:blipFill>
          <a:blip r:embed="rId1"/>
          <a:stretch/>
        </p:blipFill>
        <p:spPr>
          <a:xfrm>
            <a:off x="2286000" y="285840"/>
            <a:ext cx="4240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C:\Documents and Settings\Администратор\Рабочий стол\1\Зея\12_big.jpg"/>
          <p:cNvPicPr/>
          <p:nvPr/>
        </p:nvPicPr>
        <p:blipFill>
          <a:blip r:embed="rId1"/>
          <a:stretch/>
        </p:blipFill>
        <p:spPr>
          <a:xfrm>
            <a:off x="0" y="0"/>
            <a:ext cx="6350040" cy="4838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Documents and Settings\Администратор\Рабочий стол\1\Зея\ohrana.jpg"/>
          <p:cNvPicPr/>
          <p:nvPr/>
        </p:nvPicPr>
        <p:blipFill>
          <a:blip r:embed="rId2"/>
          <a:stretch/>
        </p:blipFill>
        <p:spPr>
          <a:xfrm>
            <a:off x="2583000" y="2500200"/>
            <a:ext cx="6561000" cy="43578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7000920" y="5000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Река </a:t>
            </a:r>
            <a:r>
              <a:rPr b="0" i="1" lang="ru-RU" sz="2800" spc="-1" strike="noStrike">
                <a:solidFill>
                  <a:srgbClr val="ff0000"/>
                </a:solidFill>
                <a:latin typeface="Arial Black"/>
              </a:rPr>
              <a:t>З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642960" y="5500800"/>
            <a:ext cx="15717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Река  </a:t>
            </a:r>
            <a:r>
              <a:rPr b="0" i="1" lang="ru-RU" sz="2800" spc="-1" strike="noStrike">
                <a:solidFill>
                  <a:srgbClr val="ff0000"/>
                </a:solidFill>
                <a:latin typeface="Arial Black"/>
              </a:rPr>
              <a:t>Ам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Documents and Settings\Администратор\Рабочий стол\1\Белогорск\2007 08 31_clip_image002.jpg"/>
          <p:cNvPicPr/>
          <p:nvPr/>
        </p:nvPicPr>
        <p:blipFill>
          <a:blip r:embed="rId1"/>
          <a:stretch/>
        </p:blipFill>
        <p:spPr>
          <a:xfrm>
            <a:off x="0" y="0"/>
            <a:ext cx="5264280" cy="3929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Documents and Settings\Администратор\Рабочий стол\1\Белогорск\071109_water_l.jpg"/>
          <p:cNvPicPr/>
          <p:nvPr/>
        </p:nvPicPr>
        <p:blipFill>
          <a:blip r:embed="rId2"/>
          <a:stretch/>
        </p:blipFill>
        <p:spPr>
          <a:xfrm>
            <a:off x="3905280" y="2924280"/>
            <a:ext cx="5238720" cy="39337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6643800" y="1214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Река Том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Администратор\Рабочий стол\1\Белогорск\image001.gif"/>
          <p:cNvPicPr/>
          <p:nvPr/>
        </p:nvPicPr>
        <p:blipFill>
          <a:blip r:embed="rId1"/>
          <a:stretch/>
        </p:blipFill>
        <p:spPr>
          <a:xfrm>
            <a:off x="4143240" y="21420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Documents and Settings\Администратор\Рабочий стол\1\Белогорск\belogorsk001.JPG"/>
          <p:cNvPicPr/>
          <p:nvPr/>
        </p:nvPicPr>
        <p:blipFill>
          <a:blip r:embed="rId2"/>
          <a:stretch/>
        </p:blipFill>
        <p:spPr>
          <a:xfrm>
            <a:off x="214200" y="428760"/>
            <a:ext cx="5572080" cy="4178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Администратор\Рабочий стол\1\Белогорск\image005.jpg"/>
          <p:cNvPicPr/>
          <p:nvPr/>
        </p:nvPicPr>
        <p:blipFill>
          <a:blip r:embed="rId3"/>
          <a:stretch/>
        </p:blipFill>
        <p:spPr>
          <a:xfrm>
            <a:off x="5000760" y="2571840"/>
            <a:ext cx="3929040" cy="3260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Documents and Settings\Администратор\Рабочий стол\1\Белогорск\image004.jpg"/>
          <p:cNvPicPr/>
          <p:nvPr/>
        </p:nvPicPr>
        <p:blipFill>
          <a:blip r:embed="rId4"/>
          <a:stretch/>
        </p:blipFill>
        <p:spPr>
          <a:xfrm>
            <a:off x="500040" y="2714760"/>
            <a:ext cx="5200560" cy="3900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Documents and Settings\Администратор\Рабочий стол\1\Белогорск\image003.jpg"/>
          <p:cNvPicPr/>
          <p:nvPr/>
        </p:nvPicPr>
        <p:blipFill>
          <a:blip r:embed="rId5"/>
          <a:stretch/>
        </p:blipFill>
        <p:spPr>
          <a:xfrm>
            <a:off x="1797120" y="1243080"/>
            <a:ext cx="57038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Documents and Settings\Администратор\Рабочий стол\1\Белогорск\Image1.jpg"/>
          <p:cNvPicPr/>
          <p:nvPr/>
        </p:nvPicPr>
        <p:blipFill>
          <a:blip r:embed="rId1"/>
          <a:stretch/>
        </p:blipFill>
        <p:spPr>
          <a:xfrm>
            <a:off x="357120" y="-3240"/>
            <a:ext cx="842976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Documents and Settings\Администратор\Рабочий стол\1\Зея\920625.jpg"/>
          <p:cNvPicPr/>
          <p:nvPr/>
        </p:nvPicPr>
        <p:blipFill>
          <a:blip r:embed="rId1"/>
          <a:stretch/>
        </p:blipFill>
        <p:spPr>
          <a:xfrm>
            <a:off x="214200" y="0"/>
            <a:ext cx="872352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I:\Обработанные\3.JPG"/>
          <p:cNvPicPr/>
          <p:nvPr/>
        </p:nvPicPr>
        <p:blipFill>
          <a:blip r:embed="rId1"/>
          <a:stretch/>
        </p:blipFill>
        <p:spPr>
          <a:xfrm>
            <a:off x="428760" y="285840"/>
            <a:ext cx="4214520" cy="6323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4857840" y="214200"/>
            <a:ext cx="385740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роться со злом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ит злым станов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роться с добром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мне не год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всеми бороться – себя побед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ит, себе самому навред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торонке остатьс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друзьями расст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ужто всегда на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кем-то сража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у надо ж к чему-т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-то стреми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б в жизни когда-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го-то доб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то дал ответ седовласый стар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-то исчезнувший в этот же ми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«</a:t>
            </a:r>
            <a:r>
              <a:rPr b="0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Стремись стать соб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если ты Человек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е то растранжириш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апрасно свой ве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Администратор\Рабочий стол\1\Иисус\p11929.jpg"/>
          <p:cNvPicPr/>
          <p:nvPr/>
        </p:nvPicPr>
        <p:blipFill>
          <a:blip r:embed="rId1"/>
          <a:stretch/>
        </p:blipFill>
        <p:spPr>
          <a:xfrm>
            <a:off x="785880" y="428760"/>
            <a:ext cx="3524040" cy="4314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Администратор\Рабочий стол\1\Иисус\115489089047cf9abfed8f8.jpg"/>
          <p:cNvPicPr/>
          <p:nvPr/>
        </p:nvPicPr>
        <p:blipFill>
          <a:blip r:embed="rId2"/>
          <a:stretch/>
        </p:blipFill>
        <p:spPr>
          <a:xfrm>
            <a:off x="4734000" y="1143000"/>
            <a:ext cx="398124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C:\Documents and Settings\Администратор\Рабочий стол\1\Иисус\1210597475_1_FT201_p0000095.jpg"/>
          <p:cNvPicPr/>
          <p:nvPr/>
        </p:nvPicPr>
        <p:blipFill>
          <a:blip r:embed="rId1"/>
          <a:stretch/>
        </p:blipFill>
        <p:spPr>
          <a:xfrm>
            <a:off x="2162160" y="338040"/>
            <a:ext cx="4819680" cy="6181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Администратор\Рабочий стол\1\Иисус\38792.jpg"/>
          <p:cNvPicPr/>
          <p:nvPr/>
        </p:nvPicPr>
        <p:blipFill>
          <a:blip r:embed="rId2"/>
          <a:stretch/>
        </p:blipFill>
        <p:spPr>
          <a:xfrm>
            <a:off x="2171880" y="303120"/>
            <a:ext cx="4900320" cy="6126120"/>
          </a:xfrm>
          <a:prstGeom prst="rect">
            <a:avLst/>
          </a:prstGeom>
          <a:ln w="0">
            <a:noFill/>
          </a:ln>
        </p:spPr>
      </p:pic>
      <p:pic>
        <p:nvPicPr>
          <p:cNvPr id="123" name="Приложение 2.mp3" descr=""/>
          <p:cNvPicPr/>
          <p:nvPr/>
        </p:nvPicPr>
        <p:blipFill>
          <a:blip r:embed="rId3"/>
          <a:stretch/>
        </p:blipFill>
        <p:spPr>
          <a:xfrm>
            <a:off x="8429760" y="428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nts and Settings\Администратор\Рабочий стол\1\Иисус\26.JPG"/>
          <p:cNvPicPr/>
          <p:nvPr/>
        </p:nvPicPr>
        <p:blipFill>
          <a:blip r:embed="rId1"/>
          <a:stretch/>
        </p:blipFill>
        <p:spPr>
          <a:xfrm>
            <a:off x="2643120" y="285840"/>
            <a:ext cx="380052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C:\Documents and Settings\Администратор\Рабочий стол\1\Иисус\aura_2.jpg"/>
          <p:cNvPicPr/>
          <p:nvPr/>
        </p:nvPicPr>
        <p:blipFill>
          <a:blip r:embed="rId1"/>
          <a:stretch/>
        </p:blipFill>
        <p:spPr>
          <a:xfrm>
            <a:off x="214200" y="1357200"/>
            <a:ext cx="2519640" cy="356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C:\Documents and Settings\Администратор\Рабочий стол\1\Иисус\2797170.jpg"/>
          <p:cNvPicPr/>
          <p:nvPr/>
        </p:nvPicPr>
        <p:blipFill>
          <a:blip r:embed="rId2"/>
          <a:stretch/>
        </p:blipFill>
        <p:spPr>
          <a:xfrm>
            <a:off x="6357960" y="1428840"/>
            <a:ext cx="2603520" cy="3429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2928960" y="357120"/>
            <a:ext cx="3571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не Богородица явил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о сне, как свет людских надеж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 вся квартира озарил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иянием Её одеж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на пришла, а с чем - не зна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о уж, конечно, неспроста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гда-то женщина зем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м подарившая Хри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 эта светлая отра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уши покой и радость с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еня коснулись, как прохл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оды лесной сквозь жара пы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 смысл, и ощущенье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снулись ласково ме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 все исчезли укориз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ак дым уходит от ог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Я эту радость один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е понесу - она для вс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тоб сердце не было жест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 я не зря свой прожил 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I:\Обработанные\Соратник 4.JPG"/>
          <p:cNvPicPr/>
          <p:nvPr/>
        </p:nvPicPr>
        <p:blipFill>
          <a:blip r:embed="rId1"/>
          <a:stretch/>
        </p:blipFill>
        <p:spPr>
          <a:xfrm>
            <a:off x="214200" y="1571760"/>
            <a:ext cx="4786560" cy="445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I:\Обработанные\Соратник 3.JPG"/>
          <p:cNvPicPr/>
          <p:nvPr/>
        </p:nvPicPr>
        <p:blipFill>
          <a:blip r:embed="rId2"/>
          <a:stretch/>
        </p:blipFill>
        <p:spPr>
          <a:xfrm>
            <a:off x="5143680" y="500040"/>
            <a:ext cx="3786120" cy="578664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1000080" y="78588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Клуб «Соратн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I:\Обработанные\3.JPG"/>
          <p:cNvPicPr/>
          <p:nvPr/>
        </p:nvPicPr>
        <p:blipFill>
          <a:blip r:embed="rId1"/>
          <a:stretch/>
        </p:blipFill>
        <p:spPr>
          <a:xfrm>
            <a:off x="428760" y="285840"/>
            <a:ext cx="4214520" cy="63230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4857840" y="214200"/>
            <a:ext cx="385740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роться со злом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ит злым станов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роться с добром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мне не год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всеми бороться – себя побед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ит, себе самому навред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торонке остатьс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друзьями расст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ужто всегда на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кем-то сража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у надо ж к чему-т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-то стреми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б в жизни когда-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го-то доб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то дал ответ седовласый стар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-то исчезнувший в этот же ми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«</a:t>
            </a:r>
            <a:r>
              <a:rPr b="0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Стремись стать соб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если ты Человек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е то растранжириш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апрасно свой ве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I:\Обработанные\2.JPG"/>
          <p:cNvPicPr/>
          <p:nvPr/>
        </p:nvPicPr>
        <p:blipFill>
          <a:blip r:embed="rId1"/>
          <a:stretch/>
        </p:blipFill>
        <p:spPr>
          <a:xfrm>
            <a:off x="571680" y="357120"/>
            <a:ext cx="4240080" cy="61135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5000760" y="785880"/>
            <a:ext cx="3786120" cy="50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 смысл, и ощущенье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оснулись ласково ме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 все исчезли укориз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ак дым уходит от ог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Я эту радость один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е понесу - она для все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Чтоб сердце не было жест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 я не зря свой прожил 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треча членов кружка «Лира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 Н. Т. Дегтярёвым состоялас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8.03.2009 год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актовом зал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У СОШ с. Томск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I:\Обработанные\У моря.JPG"/>
          <p:cNvPicPr/>
          <p:nvPr/>
        </p:nvPicPr>
        <p:blipFill>
          <a:blip r:embed="rId1"/>
          <a:stretch/>
        </p:blipFill>
        <p:spPr>
          <a:xfrm>
            <a:off x="500040" y="428760"/>
            <a:ext cx="4786200" cy="596736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5572080" y="15001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d0d0d"/>
                </a:solidFill>
                <a:latin typeface="Calibri"/>
              </a:rPr>
              <a:t>У моря есть свои законы,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d0d0d"/>
                </a:solidFill>
                <a:latin typeface="Calibri"/>
              </a:rPr>
              <a:t>Для слабых место на земл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d0d0d"/>
                </a:solidFill>
                <a:latin typeface="Calibri"/>
              </a:rPr>
              <a:t>Они не впишутся в кан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d0d0d"/>
                </a:solidFill>
                <a:latin typeface="Calibri"/>
              </a:rPr>
              <a:t>Что действуют при Непту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:\Documents and Settings\Администратор\Рабочий стол\1\Багульник\rho_dah0.jpg"/>
          <p:cNvPicPr/>
          <p:nvPr/>
        </p:nvPicPr>
        <p:blipFill>
          <a:blip r:embed="rId1"/>
          <a:stretch/>
        </p:blipFill>
        <p:spPr>
          <a:xfrm>
            <a:off x="-214200" y="2857680"/>
            <a:ext cx="5348160" cy="4000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" descr="C:\Documents and Settings\Администратор\Рабочий стол\1\Багульник\168004681.jpg"/>
          <p:cNvPicPr/>
          <p:nvPr/>
        </p:nvPicPr>
        <p:blipFill>
          <a:blip r:embed="rId2"/>
          <a:stretch/>
        </p:blipFill>
        <p:spPr>
          <a:xfrm>
            <a:off x="3238560" y="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Администратор\Рабочий стол\1\Багульник\post-17445-1171681428.jpg"/>
          <p:cNvPicPr/>
          <p:nvPr/>
        </p:nvPicPr>
        <p:blipFill>
          <a:blip r:embed="rId1"/>
          <a:stretch/>
        </p:blipFill>
        <p:spPr>
          <a:xfrm>
            <a:off x="3929040" y="21420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Администратор\Рабочий стол\1\Багульник\81471.jpg"/>
          <p:cNvPicPr/>
          <p:nvPr/>
        </p:nvPicPr>
        <p:blipFill>
          <a:blip r:embed="rId2"/>
          <a:stretch/>
        </p:blipFill>
        <p:spPr>
          <a:xfrm>
            <a:off x="214200" y="300024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214200" y="714240"/>
            <a:ext cx="3643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00ff"/>
                </a:solidFill>
                <a:latin typeface="Calibri"/>
              </a:rPr>
              <a:t>Как быстро Природа весной оживае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00ff"/>
                </a:solidFill>
                <a:latin typeface="Calibri"/>
              </a:rPr>
              <a:t>Багульник цвете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00ff"/>
                </a:solidFill>
                <a:latin typeface="Calibri"/>
              </a:rPr>
              <a:t>	</a:t>
            </a:r>
            <a:r>
              <a:rPr b="0" i="1" lang="ru-RU" sz="1600" spc="-1" strike="noStrike">
                <a:solidFill>
                  <a:srgbClr val="cc00ff"/>
                </a:solidFill>
                <a:latin typeface="Calibri"/>
              </a:rPr>
              <a:t>где подснежник отцв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00ff"/>
                </a:solidFill>
                <a:latin typeface="Calibri"/>
              </a:rPr>
              <a:t>И почки березы уже набуха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00ff"/>
                </a:solidFill>
                <a:latin typeface="Calibri"/>
              </a:rPr>
              <a:t>В сиреневой мгле на окраинах 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143680" y="4643280"/>
            <a:ext cx="400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Calibri"/>
              </a:rPr>
              <a:t>При родах присутствую я у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Calibri"/>
              </a:rPr>
              <a:t>Свидетельствую появленье вес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Администратор\Рабочий стол\1\Багульник\63.jpg"/>
          <p:cNvPicPr/>
          <p:nvPr/>
        </p:nvPicPr>
        <p:blipFill>
          <a:blip r:embed="rId1"/>
          <a:stretch/>
        </p:blipFill>
        <p:spPr>
          <a:xfrm>
            <a:off x="0" y="0"/>
            <a:ext cx="92934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Администратор\Рабочий стол\1\Сосульки\icicle.jpg"/>
          <p:cNvPicPr/>
          <p:nvPr/>
        </p:nvPicPr>
        <p:blipFill>
          <a:blip r:embed="rId1"/>
          <a:stretch/>
        </p:blipFill>
        <p:spPr>
          <a:xfrm>
            <a:off x="571680" y="428760"/>
            <a:ext cx="8001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05:07:19Z</dcterms:created>
  <dc:creator>Zver</dc:creator>
  <dc:description/>
  <dc:language>en-US</dc:language>
  <cp:lastModifiedBy>user</cp:lastModifiedBy>
  <dcterms:modified xsi:type="dcterms:W3CDTF">2011-01-31T17:40:45Z</dcterms:modified>
  <cp:revision>31</cp:revision>
  <dc:subject/>
  <dc:title>«Чтоб сердце не было жестоко»</dc:title>
</cp:coreProperties>
</file>