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7A1-742F-4257-83AB-AB709578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266-D72A-4B08-BA76-199BC24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D92-823A-4488-AE3A-68936F0E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557-9447-4A53-A045-9113F6CA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014B-8358-4E05-A178-47D6C72A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12F1-F8C3-48BA-A301-02A9D833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597C-765C-49A1-A58A-BB03D10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8405-0414-4441-99C7-DC80B9F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AD4-140F-468E-9553-3BF22681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ABDE-A32E-490A-A127-2298AD4D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2CD4-EEA6-4062-8BD2-156B09C9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A56-AE29-41E5-BAC9-39C5F30D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DEF4-04F2-4373-B54F-A855374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A225-F62E-4A1A-88B9-EAD1568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6F1-BA18-45BD-A267-DAAE7A04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194B-AD31-40EC-AD4F-E45BE537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1C85-B000-4EC8-8D83-6EA668E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75F-27F4-4358-8E1A-C5119BE4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369-E23C-4DEC-8DE0-6E8389E0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FA6-302A-4D8F-A145-3657803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EF8-875D-4D5B-9ACA-15F23DF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B2B-21FF-42E4-ACB2-35EE1EC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E84-F3D7-4AD0-9005-D97CA32A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F63-AA51-4EB3-A1DD-AD3BC49F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E02F-8133-4DD2-8A2A-E16C351233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E867-DB4D-415A-9271-B33712A3A1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83;&#1086;&#1078;&#1077;&#1085;&#1080;&#1077;2.wm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755640" y="0"/>
            <a:ext cx="7921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в мир литературных героев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4508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Приложение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1766880"/>
            <a:ext cx="4038480" cy="4192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11280" y="105264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и подошло к концу наше путешествие. Наш походный дневник почти готов. Не хватает только последней странички, зовущей к новым странствиям. Помогите Гномам подружиться с математикой. Выполните действия: 2,315 – (8,7 +10,3 *3,2)*0,025. Прочитайте высказывания гномов. Укажите, какие высказывания, связанные с данным примером, истинные, а какие ложные. Разукрасьте колпачки гномов, которые говорят правду в зелёный цвет, а тех, которые допускают ошибки – в крас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979640" y="0"/>
            <a:ext cx="4448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видания, сказка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4691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тражи страны литературных герое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21040" cy="4392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987640" y="2492280"/>
            <a:ext cx="2879640" cy="3743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58000" y="1844640"/>
            <a:ext cx="3186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стреча с Мудрец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20454" r="48072" b="0"/>
          <a:stretch/>
        </p:blipFill>
        <p:spPr>
          <a:xfrm>
            <a:off x="457200" y="2678040"/>
            <a:ext cx="4038480" cy="2370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92360" y="119700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дание №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ив примеры, заполните таблицу, полученными ответами. В оставшиеся клетки впишите букву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932360" y="2637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00720" y="1989000"/>
            <a:ext cx="42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692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гите сказочным героям, определите значения углов, применяя транспортир интерактивной дос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03280" y="260280"/>
            <a:ext cx="64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ях у сказочных геров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705672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356000" y="2060640"/>
            <a:ext cx="42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981000"/>
            <a:ext cx="360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ние выполняется на интерактивной дос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дание №3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те действия. Разукрасьте бабочку в соответствии с результатами вычислений. Учитывайте, что левая и правая части симметричны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ым – те части, ответ на которых меньше 2 на 0,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ичневым – те части, где ответ совпадает с квадратом числа 0,8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ёрным – части, связанные с ответом, в котором цифра 3 стоит в разряде десяты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им – те части, где ответ – число в два раза больше, чем 19,5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авшиеся части сделайте жёлты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59280" y="189000"/>
            <a:ext cx="32032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треча в сказочном лес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067280" y="1557360"/>
            <a:ext cx="48258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00000" y="26028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казочном лес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162864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очка, цветной рисунок которой вы получили, самая большая и красивая на территории нашей страны. Выполните действия и по таблице узнайте её название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 – (0,32 + 1,02 *2,9) 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4076640"/>
          <a:ext cx="5182920" cy="2592000"/>
        </p:xfrm>
        <a:graphic>
          <a:graphicData uri="http://schemas.openxmlformats.org/drawingml/2006/table">
            <a:tbl>
              <a:tblPr/>
              <a:tblGrid>
                <a:gridCol w="1728000"/>
                <a:gridCol w="1726920"/>
                <a:gridCol w="1728000"/>
              </a:tblGrid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р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ха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олл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1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9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9640" y="1125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те действия. Выясните, чья стрела попадёт в какое число, и запишите имя этого персонажа сказки в прямоугольнике на рисунке. Поставьте знак математического действия в последнем примере так, чтобы его ответ соответствовал оставшемуся числ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1280" y="0"/>
            <a:ext cx="404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треча с Молодцами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9280" y="2332080"/>
            <a:ext cx="3173400" cy="4525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rcRect l="3398" t="30876" r="29295" b="24764"/>
          <a:stretch/>
        </p:blipFill>
        <p:spPr>
          <a:xfrm>
            <a:off x="3348000" y="2332080"/>
            <a:ext cx="3173400" cy="452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507000" y="2852640"/>
            <a:ext cx="2637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280" y="83664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те действия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 12 – 6,4) * 3,4 + 0,832: 0,4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чтите высказывания жителей Солнечного города. Узнайте какие высказывания, связанные с данным примером, истинные, а какие – ложные. Раскрасьте вывески на домах тех коротышек, которые говорят правд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03640" y="189000"/>
            <a:ext cx="37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к Незнайке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048280" y="1052640"/>
            <a:ext cx="3936960" cy="5616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971640" y="3429000"/>
            <a:ext cx="2514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66"/>
            </a:gs>
            <a:gs pos="100000">
              <a:srgbClr val="0ea04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5280" y="1413000"/>
            <a:ext cx="410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ои сказки А. Милна «Вини- Пух» решили пойти в кинотеатр. Помогите им найти свои места в зрительном зале. Для этого выполните вычисления. Укажите на плане имена персонажей сказк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4000" y="189000"/>
            <a:ext cx="41526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нни- Пух приглашает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527720" y="333360"/>
            <a:ext cx="4574880" cy="652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29401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1T18:40:09Z</dcterms:modified>
  <cp:revision>53</cp:revision>
  <dc:subject/>
  <dc:title>PowerPoint Presentation</dc:title>
</cp:coreProperties>
</file>