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22.jpeg" ContentType="image/jpeg"/>
  <Override PartName="/ppt/media/image9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33.gif" ContentType="image/gif"/>
  <Override PartName="/ppt/media/image36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1.gif" ContentType="image/gif"/>
  <Override PartName="/ppt/media/image11.jpeg" ContentType="image/jpeg"/>
  <Override PartName="/ppt/media/image1.gif" ContentType="image/gif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4FE-B69F-4941-92D8-DD2F2016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EFB-865C-48AA-AFE8-CC813D68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575-8B6D-44DB-9697-F2C924B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D14-E4C4-49C5-9DCD-A5097CCB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3D3-1EC4-4546-B4D8-34C0E3B3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81B6-271C-4B23-ACD7-3109D38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FF77-46B1-4BBF-9EE4-71A16852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6A2-0597-4B71-AF4A-3B77E10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33A-152B-4586-8279-1726B37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51B3-4C69-4F2A-BAC1-B659851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66C1-86A5-4402-BBF9-55C1EA5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B97-D96B-4F06-8F4E-3B877FC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89C0-80EA-4974-9AEF-0848191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F7E1-EB66-492B-B851-1CD75FC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9C1-D438-4B7C-8E75-BECA6D46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DC67-5BA7-4693-AF6F-DAF1E9DD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30F-B8CF-40E4-900D-2B1FFBD2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40FB-E916-47E7-BA59-79F2AC74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B20F-6B50-43BA-94C7-3A059ED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0821-5708-4D15-92D5-17320A81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2317-DDBC-46E8-9D05-5020868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C88E-C6A2-4155-8F5F-5D267684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E4C-263E-4773-8676-8260C06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F508-0E35-4188-85DE-8FD91C8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3225-F737-4FF7-B551-B0EC67E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8288-DF53-459C-A600-8671F94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F889-6536-4C8B-82C8-48E08B5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38D2-28FE-4515-8ACD-9F1DBED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3275-0516-4774-864B-58C03015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A7DF-F92E-4F8E-A0EC-70819816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1329-33E8-47BF-97A1-48113AC1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473EB-7473-4DDB-930C-53ED2888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D8CA-176B-47FC-894A-B2D3FC8E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350-A15D-41BC-AEEA-288724E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DFEC-61E6-4087-BC88-DA52CAC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2F2B-0198-4AC5-8124-94E281AE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5D37-A8A0-4899-AAF9-017649E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9B39-22E1-4D1C-B437-C5B3D01C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C7EC-B660-4BB1-9FB8-610BAB1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046D-1B63-497F-B0C0-F91AF0B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019E-198F-4F58-A76A-A564CBD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21C2-A279-4D44-BD39-A6A9835C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BEA6-EB22-482A-BC4E-F82718C9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9B64-9EB6-4101-AAE8-B3FA59EF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4E4-A952-47E3-B4B3-F1357CB3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CDB5-D029-40D0-B4DC-AEF59E57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07E1-B231-43DB-A797-3BA89C7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AE6A-4581-410E-AA9A-F5592A5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E91D-85AC-49EA-96C1-4747E79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F69E-6888-4756-8564-E782CF18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2706-49B5-4BA7-8CBB-ACD6099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B220-80D8-4659-9DE4-7C85959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948DF-E4E1-45C3-8637-865F7FE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044A-0B6C-471F-B06F-B06807B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CA8F-3A07-4295-B4ED-0F6D1DB9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5C2-E19C-4AA9-885E-76DF791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F2CE0-4A44-49BC-B3CB-DF5C3DC5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E049-289B-435A-AB86-5B86A4A0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A8BE-CCA6-41A9-B079-F0DCD728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B72B-DC00-4E7D-9FBB-900D31E7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3F0DF-27F9-46B9-A0F8-BB95FAB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99AB-02BF-45AE-B2AE-D9B14F75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5E13D-FA37-407B-BC5D-C3555DF8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9C97-A98F-4C4A-9DAC-9895B02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6C4A-23D2-49D4-84E7-79C22F7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AB887-4E85-4168-90CF-BA839FF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8F6-B701-4E66-B0A1-12FA60D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5E0C-DB4E-4F2B-9F13-DE78B5EC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6620-CCCF-47E9-B703-B86D229E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4EE5-8F49-4D16-BFE4-E558E25D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6AAA-88D3-4A31-925C-EA30909E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7CDD-6308-4892-BB9A-FACED695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D254-C211-47D2-A679-2C301E2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30F2-C701-412D-8306-83691E71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19A9-167D-42AB-AC70-996826A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29A8D-46BC-442C-A38D-AF113E9D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6BEF-8373-48EA-A55D-F3CEF29F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B64-FF5D-4945-8D7E-D9F7626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8346-DD8C-458D-A0F4-3260286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07F49-DF8A-4F4B-B514-92CD349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066F-D069-4789-BB20-DC06B6A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E5DF-5F43-4D26-B17A-1C7E86B2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3B6C-8CAF-4F40-ADF3-A75C77EC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0263-9F88-4DFA-90F8-9A639B6A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F3C3A-AD13-4797-9563-4DA107BD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9C6DB-88CD-444D-BDDA-FFD8316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5758-6F5D-4558-A5D1-9D1E8734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0961-4246-48ED-A6B2-DD928ECB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EC2-A111-45C0-BE1B-9C48DD82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0D8E-C512-4A2E-8CAC-6499841E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F989-309C-48C7-AA98-8030A88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F4159-2E50-4058-84D3-C6B484C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66A8-0E62-44E5-B978-1070F87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9EE58-2F36-4AE2-A43D-1FC2FCFD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D6C3-EF0D-42CE-939B-6AD767B0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CC6F-FDBE-4DD7-9A89-08115EF2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FA3-050B-4678-92A4-23A3F90431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25A1-6A71-4291-B69A-A4435A28694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89BB-83DB-46AA-B1D4-21EC05DC25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A31-70DD-4C4B-85C3-00B1AE61CC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B9D8-4033-4F1C-BBAB-332D808137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782-9E76-4178-AAD8-2D7095D5F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0844-C2A4-44FA-8BFD-DF2E97BEA76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EB6-32F7-4A05-A9C1-ECF07280E484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6751394_1.gif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2;&#1086;&#1079;&#1075;&#1086;&#1074;&#1086;&#1081;_&#1096;&#1090;&#1091;&#1088;&#1084;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2.dwar.ru/images/data/npcs/varvar-mag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ve4fun.ru/small_pictures/img_18457562_1945_0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Картинка 35 из 2291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Заголовок 3" descr=""/>
          <p:cNvPicPr/>
          <p:nvPr/>
        </p:nvPicPr>
        <p:blipFill>
          <a:blip r:embed="rId3"/>
          <a:stretch/>
        </p:blipFill>
        <p:spPr>
          <a:xfrm>
            <a:off x="341280" y="-23760"/>
            <a:ext cx="8400960" cy="1882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Выполнил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Степанова М. Ю.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г. Анжеро – Судженс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МОУ «СОШ №17»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2010 год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Прямоугольник 6" descr=""/>
          <p:cNvPicPr/>
          <p:nvPr/>
        </p:nvPicPr>
        <p:blipFill>
          <a:blip r:embed="rId4"/>
          <a:stretch/>
        </p:blipFill>
        <p:spPr>
          <a:xfrm>
            <a:off x="341280" y="1700280"/>
            <a:ext cx="81802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1928880" y="2714760"/>
            <a:ext cx="5572080" cy="171432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8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1" lang="en-US" sz="8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8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8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8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Прямоугольник 3"/>
          <p:cNvSpPr/>
          <p:nvPr/>
        </p:nvSpPr>
        <p:spPr>
          <a:xfrm>
            <a:off x="285840" y="571500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entury Gothic"/>
              </a:rPr>
              <a:t>Оригинальных необычных идей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4" name="Picture 3" descr="C:\Documents and Settings\Марина\Рабочий стол\картинки к проекту\аплодисменты.gif"/>
          <p:cNvPicPr/>
          <p:nvPr/>
        </p:nvPicPr>
        <p:blipFill>
          <a:blip r:embed="rId2"/>
          <a:stretch/>
        </p:blipFill>
        <p:spPr>
          <a:xfrm>
            <a:off x="214200" y="64296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Documents and Settings\Марина\Рабочий стол\картинки к проекту\аплодисменты.gif"/>
          <p:cNvPicPr/>
          <p:nvPr/>
        </p:nvPicPr>
        <p:blipFill>
          <a:blip r:embed="rId3"/>
          <a:stretch/>
        </p:blipFill>
        <p:spPr>
          <a:xfrm>
            <a:off x="214200" y="385776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C:\Documents and Settings\Марина\Рабочий стол\картинки к проекту\аплодисменты.gif"/>
          <p:cNvPicPr/>
          <p:nvPr/>
        </p:nvPicPr>
        <p:blipFill>
          <a:blip r:embed="rId4"/>
          <a:stretch/>
        </p:blipFill>
        <p:spPr>
          <a:xfrm>
            <a:off x="7072200" y="3786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C:\Documents and Settings\Марина\Рабочий стол\картинки к проекту\аплодисменты.gif"/>
          <p:cNvPicPr/>
          <p:nvPr/>
        </p:nvPicPr>
        <p:blipFill>
          <a:blip r:embed="rId5"/>
          <a:stretch/>
        </p:blipFill>
        <p:spPr>
          <a:xfrm>
            <a:off x="6572160" y="57168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236160" cy="24685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Картинка 56 из 451"/>
          <p:cNvPicPr/>
          <p:nvPr/>
        </p:nvPicPr>
        <p:blipFill>
          <a:blip r:embed="rId2"/>
          <a:stretch/>
        </p:blipFill>
        <p:spPr>
          <a:xfrm>
            <a:off x="-285840" y="2428920"/>
            <a:ext cx="7000920" cy="4260960"/>
          </a:xfrm>
          <a:prstGeom prst="rect">
            <a:avLst/>
          </a:prstGeom>
          <a:ln w="0">
            <a:noFill/>
          </a:ln>
        </p:spPr>
      </p:pic>
      <p:grpSp>
        <p:nvGrpSpPr>
          <p:cNvPr id="440" name="Прямоугольник 4"/>
          <p:cNvGrpSpPr/>
          <p:nvPr/>
        </p:nvGrpSpPr>
        <p:grpSpPr>
          <a:xfrm>
            <a:off x="4443480" y="4413240"/>
            <a:ext cx="4767120" cy="2500200"/>
            <a:chOff x="4443480" y="4413240"/>
            <a:chExt cx="4767120" cy="2500200"/>
          </a:xfrm>
        </p:grpSpPr>
        <p:pic>
          <p:nvPicPr>
            <p:cNvPr id="441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443480" y="4413240"/>
              <a:ext cx="476712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20839200">
              <a:off x="4633920" y="4998600"/>
              <a:ext cx="4411800" cy="13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Давайте создадим брошюру с собственными современными сказками в электронном формате, чтобы другие дети и взрослые могли прочитать!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3" descr=""/>
          <p:cNvPicPr/>
          <p:nvPr/>
        </p:nvPicPr>
        <p:blipFill>
          <a:blip r:embed="rId1"/>
          <a:stretch/>
        </p:blipFill>
        <p:spPr>
          <a:xfrm>
            <a:off x="438120" y="122400"/>
            <a:ext cx="8450280" cy="1560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Картинка 13 из 232028"/>
          <p:cNvPicPr/>
          <p:nvPr/>
        </p:nvPicPr>
        <p:blipFill>
          <a:blip r:embed="rId2"/>
          <a:stretch/>
        </p:blipFill>
        <p:spPr>
          <a:xfrm>
            <a:off x="214200" y="2357280"/>
            <a:ext cx="3762360" cy="3810240"/>
          </a:xfrm>
          <a:prstGeom prst="rect">
            <a:avLst/>
          </a:prstGeom>
          <a:ln w="0">
            <a:noFill/>
          </a:ln>
        </p:spPr>
      </p:pic>
      <p:pic>
        <p:nvPicPr>
          <p:cNvPr id="445" name="Заголовок 3" descr=""/>
          <p:cNvPicPr/>
          <p:nvPr/>
        </p:nvPicPr>
        <p:blipFill>
          <a:blip r:embed="rId3"/>
          <a:stretch/>
        </p:blipFill>
        <p:spPr>
          <a:xfrm>
            <a:off x="4194000" y="2712960"/>
            <a:ext cx="48578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511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сказочница"/>
          <p:cNvPicPr/>
          <p:nvPr/>
        </p:nvPicPr>
        <p:blipFill>
          <a:blip r:embed="rId2"/>
          <a:stretch/>
        </p:blipFill>
        <p:spPr>
          <a:xfrm>
            <a:off x="2428920" y="1857240"/>
            <a:ext cx="4143240" cy="454356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4"/>
          <p:cNvSpPr/>
          <p:nvPr/>
        </p:nvSpPr>
        <p:spPr>
          <a:xfrm rot="21010800">
            <a:off x="425160" y="4273560"/>
            <a:ext cx="8475480" cy="15336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«В 2011 ГОД –  С НОВОЙ СКАЗКОЙ?»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93560" y="29923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-128520"/>
            <a:ext cx="9182160" cy="1592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" descr="C:\Documents and Settings\Марина\Рабочий стол\картинки к проекту\аплодисменты.gif"/>
          <p:cNvPicPr/>
          <p:nvPr/>
        </p:nvPicPr>
        <p:blipFill>
          <a:blip r:embed="rId3"/>
          <a:stretch/>
        </p:blipFill>
        <p:spPr>
          <a:xfrm>
            <a:off x="3143160" y="407196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Марина\Рабочий стол\картинки к проекту\аплодисменты.gif"/>
          <p:cNvPicPr/>
          <p:nvPr/>
        </p:nvPicPr>
        <p:blipFill>
          <a:blip r:embed="rId4"/>
          <a:stretch/>
        </p:blipFill>
        <p:spPr>
          <a:xfrm>
            <a:off x="5929200" y="1500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Documents and Settings\Марина\Рабочий стол\картинки к проекту\аплодисменты.gif"/>
          <p:cNvPicPr/>
          <p:nvPr/>
        </p:nvPicPr>
        <p:blipFill>
          <a:blip r:embed="rId5"/>
          <a:stretch/>
        </p:blipFill>
        <p:spPr>
          <a:xfrm>
            <a:off x="1357200" y="14288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766960" y="353880"/>
            <a:ext cx="3517920" cy="87804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3" descr=""/>
          <p:cNvPicPr/>
          <p:nvPr/>
        </p:nvPicPr>
        <p:blipFill>
          <a:blip r:embed="rId2"/>
          <a:stretch/>
        </p:blipFill>
        <p:spPr>
          <a:xfrm>
            <a:off x="128520" y="4248000"/>
            <a:ext cx="8850240" cy="2354400"/>
          </a:xfrm>
          <a:prstGeom prst="rect">
            <a:avLst/>
          </a:prstGeom>
          <a:ln w="0">
            <a:noFill/>
          </a:ln>
        </p:spPr>
      </p:pic>
      <p:sp>
        <p:nvSpPr>
          <p:cNvPr id="351" name="Стрелка вниз 4"/>
          <p:cNvSpPr/>
          <p:nvPr/>
        </p:nvSpPr>
        <p:spPr>
          <a:xfrm>
            <a:off x="2786040" y="1428840"/>
            <a:ext cx="3429000" cy="2857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2" descr="C:\Documents and Settings\Марина\Рабочий стол\конкурсы\ит курсы 2010\картинки к проекту\сказка.jpg"/>
          <p:cNvPicPr/>
          <p:nvPr/>
        </p:nvPicPr>
        <p:blipFill>
          <a:blip r:embed="rId3"/>
          <a:stretch/>
        </p:blipFill>
        <p:spPr>
          <a:xfrm>
            <a:off x="5649840" y="1571760"/>
            <a:ext cx="3494160" cy="857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Documents and Settings\Марина\Рабочий стол\конкурсы\ит курсы 2010\картинки к проекту\сказка.jpg"/>
          <p:cNvPicPr/>
          <p:nvPr/>
        </p:nvPicPr>
        <p:blipFill>
          <a:blip r:embed="rId4"/>
          <a:stretch/>
        </p:blipFill>
        <p:spPr>
          <a:xfrm>
            <a:off x="0" y="3500280"/>
            <a:ext cx="34941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5-конечная звезда 3"/>
          <p:cNvSpPr/>
          <p:nvPr/>
        </p:nvSpPr>
        <p:spPr>
          <a:xfrm>
            <a:off x="1714680" y="1071720"/>
            <a:ext cx="4857480" cy="471456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«БОЛЬШАЯ  ПЯТЁРКА» –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«БОЛЬШИЕ  ИДЕ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Прямоугольник 4"/>
          <p:cNvSpPr/>
          <p:nvPr/>
        </p:nvSpPr>
        <p:spPr>
          <a:xfrm>
            <a:off x="2714760" y="285840"/>
            <a:ext cx="2786040" cy="7142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Арам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6715080" y="2357280"/>
            <a:ext cx="2000160" cy="10004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Юрий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0" y="2428920"/>
            <a:ext cx="1714680" cy="1071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Александр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785880" y="5429160"/>
            <a:ext cx="164304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иктор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6000840" y="5357880"/>
            <a:ext cx="207144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Анн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0" name="Выноска-облако 21"/>
          <p:cNvGrpSpPr/>
          <p:nvPr/>
        </p:nvGrpSpPr>
        <p:grpSpPr>
          <a:xfrm>
            <a:off x="1695600" y="1481040"/>
            <a:ext cx="5308560" cy="3603600"/>
            <a:chOff x="1695600" y="1481040"/>
            <a:chExt cx="5308560" cy="3603600"/>
          </a:xfrm>
        </p:grpSpPr>
        <p:pic>
          <p:nvPicPr>
            <p:cNvPr id="361" name="Выноска-облако 21" descr=""/>
            <p:cNvPicPr/>
            <p:nvPr/>
          </p:nvPicPr>
          <p:blipFill>
            <a:blip r:embed="rId1"/>
            <a:stretch/>
          </p:blipFill>
          <p:spPr>
            <a:xfrm>
              <a:off x="1695600" y="1481040"/>
              <a:ext cx="53085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2495520" y="2023920"/>
              <a:ext cx="3359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b0043"/>
                  </a:solidFill>
                  <a:latin typeface="Century Gothic"/>
                </a:rPr>
                <a:t>Приглашаем принять участие в мозговом штурме по организации полезного, интересного, увлекательного дела!!!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3" name="Выноска-облако 10"/>
          <p:cNvSpPr/>
          <p:nvPr/>
        </p:nvSpPr>
        <p:spPr>
          <a:xfrm>
            <a:off x="2428920" y="0"/>
            <a:ext cx="4643280" cy="221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3ddff"/>
                </a:solidFill>
                <a:latin typeface="Century Gothic"/>
              </a:rPr>
              <a:t>Выдавать глобальные идеи - это удовольстви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Выноска-облако 15"/>
          <p:cNvSpPr/>
          <p:nvPr/>
        </p:nvSpPr>
        <p:spPr>
          <a:xfrm>
            <a:off x="-214200" y="1500120"/>
            <a:ext cx="3714480" cy="235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озг взрывается!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Куча идей..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5" name="Выноска-облако 11"/>
          <p:cNvGrpSpPr/>
          <p:nvPr/>
        </p:nvGrpSpPr>
        <p:grpSpPr>
          <a:xfrm>
            <a:off x="122400" y="3975120"/>
            <a:ext cx="4883040" cy="2870280"/>
            <a:chOff x="122400" y="3975120"/>
            <a:chExt cx="4883040" cy="2870280"/>
          </a:xfrm>
        </p:grpSpPr>
        <p:pic>
          <p:nvPicPr>
            <p:cNvPr id="366" name="Выноска-облако 11" descr=""/>
            <p:cNvPicPr/>
            <p:nvPr/>
          </p:nvPicPr>
          <p:blipFill>
            <a:blip r:embed="rId2"/>
            <a:stretch/>
          </p:blipFill>
          <p:spPr>
            <a:xfrm>
              <a:off x="122400" y="3975120"/>
              <a:ext cx="488304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863640" y="4427640"/>
              <a:ext cx="3079800" cy="15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88c"/>
                  </a:solidFill>
                  <a:latin typeface="Century Gothic"/>
                </a:rPr>
                <a:t>Как придумать гениальную идею?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8" name="Выноска-облако 16"/>
          <p:cNvSpPr/>
          <p:nvPr/>
        </p:nvSpPr>
        <p:spPr>
          <a:xfrm>
            <a:off x="3500280" y="3643200"/>
            <a:ext cx="4714920" cy="2928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жно просто идею предложить, мы  разовьём  ее до Вселенских масштаб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9" name="Выноска-облако 19"/>
          <p:cNvGrpSpPr/>
          <p:nvPr/>
        </p:nvGrpSpPr>
        <p:grpSpPr>
          <a:xfrm>
            <a:off x="3767040" y="268200"/>
            <a:ext cx="5310360" cy="4181400"/>
            <a:chOff x="3767040" y="268200"/>
            <a:chExt cx="5310360" cy="4181400"/>
          </a:xfrm>
        </p:grpSpPr>
        <p:pic>
          <p:nvPicPr>
            <p:cNvPr id="370" name="Выноска-облако 19" descr=""/>
            <p:cNvPicPr/>
            <p:nvPr/>
          </p:nvPicPr>
          <p:blipFill>
            <a:blip r:embed="rId3"/>
            <a:stretch/>
          </p:blipFill>
          <p:spPr>
            <a:xfrm>
              <a:off x="3767040" y="268200"/>
              <a:ext cx="5310360" cy="41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567320" y="885960"/>
              <a:ext cx="3359160" cy="22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b0043"/>
                  </a:solidFill>
                  <a:latin typeface="Century Gothic"/>
                </a:rPr>
                <a:t>Вариант мозгового штурма хорошо знаком нам по любимой не одним поколением телезрителей передаче “Что? Где? Когда?”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b0043"/>
                  </a:solidFill>
                  <a:latin typeface="Century Gothic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2" name="Выноска-облако 20"/>
          <p:cNvSpPr/>
          <p:nvPr/>
        </p:nvSpPr>
        <p:spPr>
          <a:xfrm>
            <a:off x="1571760" y="2286000"/>
            <a:ext cx="500040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ебята, присоединяйтесь - все идеи принимаются!!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Выноска-облако 13"/>
          <p:cNvSpPr/>
          <p:nvPr/>
        </p:nvSpPr>
        <p:spPr>
          <a:xfrm>
            <a:off x="0" y="0"/>
            <a:ext cx="4000680" cy="2071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 мозгу все мысли вдруг собрАлис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, может, даже собралИсь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a83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0" y="330120"/>
            <a:ext cx="9144000" cy="927360"/>
          </a:xfrm>
          <a:prstGeom prst="rect">
            <a:avLst/>
          </a:prstGeom>
          <a:gradFill rotWithShape="0">
            <a:gsLst>
              <a:gs pos="0">
                <a:srgbClr val="6a83fe"/>
              </a:gs>
              <a:gs pos="100000">
                <a:srgbClr val="2121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60240" y="1434960"/>
            <a:ext cx="86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Это  автор метода мозговой ата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ли, как  назвал свой метод сам А. Осборн, «брейнсторминга»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228600" y="50760"/>
            <a:ext cx="8915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0059"/>
                </a:solidFill>
                <a:latin typeface="Tahoma"/>
              </a:rPr>
              <a:t>Экскурс в историю изобретательств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2222640" y="393840"/>
            <a:ext cx="514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Алекс Осборн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9" name="Group 22"/>
          <p:cNvGrpSpPr/>
          <p:nvPr/>
        </p:nvGrpSpPr>
        <p:grpSpPr>
          <a:xfrm>
            <a:off x="2887560" y="2252520"/>
            <a:ext cx="6096240" cy="4429800"/>
            <a:chOff x="2887560" y="2252520"/>
            <a:chExt cx="6096240" cy="4429800"/>
          </a:xfrm>
        </p:grpSpPr>
        <p:pic>
          <p:nvPicPr>
            <p:cNvPr id="380" name="Picture 18" descr="Осборн бесед"/>
            <p:cNvPicPr/>
            <p:nvPr/>
          </p:nvPicPr>
          <p:blipFill>
            <a:blip r:embed="rId1"/>
            <a:stretch/>
          </p:blipFill>
          <p:spPr>
            <a:xfrm>
              <a:off x="2887560" y="2252520"/>
              <a:ext cx="6096240" cy="4095720"/>
            </a:xfrm>
            <a:prstGeom prst="rect">
              <a:avLst/>
            </a:prstGeom>
            <a:ln w="38160">
              <a:solidFill>
                <a:srgbClr val="000066"/>
              </a:solidFill>
              <a:miter/>
            </a:ln>
          </p:spPr>
        </p:pic>
        <p:sp>
          <p:nvSpPr>
            <p:cNvPr id="381" name="Text Box 19"/>
            <p:cNvSpPr/>
            <p:nvPr/>
          </p:nvSpPr>
          <p:spPr>
            <a:xfrm>
              <a:off x="2895480" y="6375240"/>
              <a:ext cx="607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entury Gothic"/>
                </a:rPr>
                <a:t>Алекс Осборн (слева) в свободной беседе с сослуживцами </a:t>
              </a:r>
              <a:endParaRPr b="0" lang="en-US" sz="1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82" name="Group 21"/>
          <p:cNvGrpSpPr/>
          <p:nvPr/>
        </p:nvGrpSpPr>
        <p:grpSpPr>
          <a:xfrm>
            <a:off x="622440" y="2255760"/>
            <a:ext cx="1511280" cy="2521800"/>
            <a:chOff x="622440" y="2255760"/>
            <a:chExt cx="1511280" cy="2521800"/>
          </a:xfrm>
        </p:grpSpPr>
        <p:pic>
          <p:nvPicPr>
            <p:cNvPr id="383" name="Picture 17" descr="Осборн"/>
            <p:cNvPicPr/>
            <p:nvPr/>
          </p:nvPicPr>
          <p:blipFill>
            <a:blip r:embed="rId2"/>
            <a:stretch/>
          </p:blipFill>
          <p:spPr>
            <a:xfrm>
              <a:off x="642960" y="2255760"/>
              <a:ext cx="1447920" cy="2095560"/>
            </a:xfrm>
            <a:prstGeom prst="rect">
              <a:avLst/>
            </a:prstGeom>
            <a:ln w="38160">
              <a:solidFill>
                <a:srgbClr val="000066"/>
              </a:solidFill>
              <a:miter/>
            </a:ln>
          </p:spPr>
        </p:pic>
        <p:sp>
          <p:nvSpPr>
            <p:cNvPr id="384" name="Text Box 20"/>
            <p:cNvSpPr/>
            <p:nvPr/>
          </p:nvSpPr>
          <p:spPr>
            <a:xfrm>
              <a:off x="622440" y="447048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entury Gothic"/>
                </a:rPr>
                <a:t>Алекс Осборн</a:t>
              </a:r>
              <a:endParaRPr b="0" lang="en-US" sz="1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85" name="Прямоугольник 12"/>
          <p:cNvSpPr/>
          <p:nvPr/>
        </p:nvSpPr>
        <p:spPr>
          <a:xfrm>
            <a:off x="0" y="4826160"/>
            <a:ext cx="2643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ru.wikipedia.org/wiki/%D0%9C%D0%BE%D0%B7%D0%B3%D0%BE%D0%B2%D0%BE%D0%B9_%D1%88%D1%82%D1%83%D1%80%D0%B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800"/>
                            </p:stCondLst>
                            <p:childTnLst>
                              <p:par>
                                <p:cTn id="1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93560" y="-152280"/>
            <a:ext cx="8248680" cy="1311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Documents and Settings\Марина\Рабочий стол\Мариша\Фото\100SANPH\SANY0027.JPG"/>
          <p:cNvPicPr/>
          <p:nvPr/>
        </p:nvPicPr>
        <p:blipFill>
          <a:blip r:embed="rId3"/>
          <a:stretch/>
        </p:blipFill>
        <p:spPr>
          <a:xfrm>
            <a:off x="1928880" y="1357200"/>
            <a:ext cx="5643360" cy="5378400"/>
          </a:xfrm>
          <a:prstGeom prst="rect">
            <a:avLst/>
          </a:prstGeom>
          <a:ln w="0">
            <a:noFill/>
          </a:ln>
        </p:spPr>
      </p:pic>
      <p:sp>
        <p:nvSpPr>
          <p:cNvPr id="389" name="Пятно 2 4"/>
          <p:cNvSpPr/>
          <p:nvPr/>
        </p:nvSpPr>
        <p:spPr>
          <a:xfrm>
            <a:off x="-357120" y="1643040"/>
            <a:ext cx="9144000" cy="5929200"/>
          </a:xfrm>
          <a:prstGeom prst="irregularSeal2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А что сказочное воплотилось в реальность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Пятно 2 5"/>
          <p:cNvSpPr/>
          <p:nvPr/>
        </p:nvSpPr>
        <p:spPr>
          <a:xfrm>
            <a:off x="1785960" y="-1500120"/>
            <a:ext cx="11072880" cy="6786360"/>
          </a:xfrm>
          <a:prstGeom prst="irregularSeal2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Сказочное останется «сказочным» или воплотится в реальность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Пятно 2 6"/>
          <p:cNvSpPr/>
          <p:nvPr/>
        </p:nvSpPr>
        <p:spPr>
          <a:xfrm>
            <a:off x="-1643040" y="-1214280"/>
            <a:ext cx="8358120" cy="600048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ая сказка – вымысел или реальность, ждущая своего воплощения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Картинка 28 из 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83400" y="285840"/>
            <a:ext cx="2460600" cy="2214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Картинка 4 из 508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3680" y="2643120"/>
            <a:ext cx="1857240" cy="2782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Картинка 1 из 76995"/>
          <p:cNvPicPr/>
          <p:nvPr/>
        </p:nvPicPr>
        <p:blipFill>
          <a:blip r:embed="rId5"/>
          <a:stretch/>
        </p:blipFill>
        <p:spPr>
          <a:xfrm>
            <a:off x="7215120" y="2928960"/>
            <a:ext cx="1428840" cy="2814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Картинка 2 из 324202"/>
          <p:cNvPicPr/>
          <p:nvPr/>
        </p:nvPicPr>
        <p:blipFill>
          <a:blip r:embed="rId6"/>
          <a:stretch/>
        </p:blipFill>
        <p:spPr>
          <a:xfrm>
            <a:off x="3214800" y="4070520"/>
            <a:ext cx="1785960" cy="2388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Картинка 6 из 142452"/>
          <p:cNvPicPr/>
          <p:nvPr/>
        </p:nvPicPr>
        <p:blipFill>
          <a:blip r:embed="rId7"/>
          <a:stretch/>
        </p:blipFill>
        <p:spPr>
          <a:xfrm>
            <a:off x="428760" y="4429080"/>
            <a:ext cx="2511360" cy="2076480"/>
          </a:xfrm>
          <a:prstGeom prst="rect">
            <a:avLst/>
          </a:prstGeom>
          <a:ln w="0">
            <a:noFill/>
          </a:ln>
        </p:spPr>
      </p:pic>
      <p:sp>
        <p:nvSpPr>
          <p:cNvPr id="397" name="Содержимое 2"/>
          <p:cNvSpPr/>
          <p:nvPr/>
        </p:nvSpPr>
        <p:spPr>
          <a:xfrm>
            <a:off x="357120" y="1428840"/>
            <a:ext cx="4429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0062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0062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0062"/>
                </a:solidFill>
                <a:latin typeface="Arial Black"/>
              </a:rPr>
              <a:t>Зоркий Глаз (видит далеко, за много вёрс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Пятно 2 9"/>
          <p:cNvSpPr/>
          <p:nvPr/>
        </p:nvSpPr>
        <p:spPr>
          <a:xfrm>
            <a:off x="-1143000" y="-357120"/>
            <a:ext cx="5643720" cy="357192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аблюдается ли связь сказки с современной наукой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Пятно 2 14"/>
          <p:cNvSpPr/>
          <p:nvPr/>
        </p:nvSpPr>
        <p:spPr>
          <a:xfrm>
            <a:off x="1285920" y="-214200"/>
            <a:ext cx="5643360" cy="357192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оказаны ли в современных сказках чудеса техники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431200" cy="1511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Documents and Settings\Марина\Рабочий стол\Мариша\Фото\100SANPH\SANY0004.JPG"/>
          <p:cNvPicPr/>
          <p:nvPr/>
        </p:nvPicPr>
        <p:blipFill>
          <a:blip r:embed="rId3"/>
          <a:stretch/>
        </p:blipFill>
        <p:spPr>
          <a:xfrm>
            <a:off x="1285920" y="1643040"/>
            <a:ext cx="6715080" cy="5037120"/>
          </a:xfrm>
          <a:prstGeom prst="rect">
            <a:avLst/>
          </a:prstGeom>
          <a:ln w="0">
            <a:noFill/>
          </a:ln>
        </p:spPr>
      </p:pic>
      <p:sp>
        <p:nvSpPr>
          <p:cNvPr id="403" name="Пятно 2 4"/>
          <p:cNvSpPr/>
          <p:nvPr/>
        </p:nvSpPr>
        <p:spPr>
          <a:xfrm>
            <a:off x="-1643040" y="-1214280"/>
            <a:ext cx="9358200" cy="600048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Что может рассказать лингвистическая сказка о нашей школьной реальности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Пятно 2 5"/>
          <p:cNvSpPr/>
          <p:nvPr/>
        </p:nvSpPr>
        <p:spPr>
          <a:xfrm>
            <a:off x="3000240" y="-428760"/>
            <a:ext cx="7562880" cy="491976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ак написать лингвистическую сказку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5" name="Picture 2" descr="Картинка 1 из 101"/>
          <p:cNvPicPr/>
          <p:nvPr/>
        </p:nvPicPr>
        <p:blipFill>
          <a:blip r:embed="rId4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406" name="Пятно 2 8"/>
          <p:cNvSpPr/>
          <p:nvPr/>
        </p:nvSpPr>
        <p:spPr>
          <a:xfrm>
            <a:off x="-1490760" y="-1062000"/>
            <a:ext cx="9358560" cy="600084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Что это за чудо – лингвистические сказки или сказки с языковой начинкой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Пятно 2 9"/>
          <p:cNvSpPr/>
          <p:nvPr/>
        </p:nvSpPr>
        <p:spPr>
          <a:xfrm>
            <a:off x="1428840" y="1857240"/>
            <a:ext cx="9358200" cy="6000840"/>
          </a:xfrm>
          <a:prstGeom prst="irregularSeal2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Что сближает лингвистическую сказку с фольклорной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431200" cy="1511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Марина\Рабочий стол\Мариша\Фото\100SANPH\SANY0007.JPG"/>
          <p:cNvPicPr/>
          <p:nvPr/>
        </p:nvPicPr>
        <p:blipFill>
          <a:blip r:embed="rId3"/>
          <a:stretch/>
        </p:blipFill>
        <p:spPr>
          <a:xfrm>
            <a:off x="1357200" y="1928880"/>
            <a:ext cx="6286680" cy="4714920"/>
          </a:xfrm>
          <a:prstGeom prst="rect">
            <a:avLst/>
          </a:prstGeom>
          <a:ln w="0">
            <a:noFill/>
          </a:ln>
        </p:spPr>
      </p:pic>
      <p:sp>
        <p:nvSpPr>
          <p:cNvPr id="411" name="Пятно 2 4"/>
          <p:cNvSpPr/>
          <p:nvPr/>
        </p:nvSpPr>
        <p:spPr>
          <a:xfrm>
            <a:off x="-1285920" y="-1000080"/>
            <a:ext cx="11858760" cy="6000840"/>
          </a:xfrm>
          <a:prstGeom prst="irregularSeal2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ак мотивы сказок отражаются в современном детском и молодёжном костюм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2" name="Picture 3" descr="три девки"/>
          <p:cNvPicPr/>
          <p:nvPr/>
        </p:nvPicPr>
        <p:blipFill>
          <a:blip r:embed="rId4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13" name="Пятно 2 6"/>
          <p:cNvSpPr/>
          <p:nvPr/>
        </p:nvSpPr>
        <p:spPr>
          <a:xfrm>
            <a:off x="0" y="-714240"/>
            <a:ext cx="7358040" cy="464328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оплотились ли в современных моделях волшебство и тайны из мира сказок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Пятно 2 7"/>
          <p:cNvSpPr/>
          <p:nvPr/>
        </p:nvSpPr>
        <p:spPr>
          <a:xfrm>
            <a:off x="-928800" y="2928960"/>
            <a:ext cx="5643720" cy="3571920"/>
          </a:xfrm>
          <a:prstGeom prst="irregularSeal2">
            <a:avLst/>
          </a:prstGeom>
          <a:solidFill>
            <a:srgbClr val="00349e"/>
          </a:solidFill>
          <a:ln w="25560">
            <a:solidFill>
              <a:srgbClr val="002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акова реальность и сказка в современных костюмах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Пятно 2 8"/>
          <p:cNvSpPr/>
          <p:nvPr/>
        </p:nvSpPr>
        <p:spPr>
          <a:xfrm>
            <a:off x="3786120" y="928800"/>
            <a:ext cx="5981760" cy="3571920"/>
          </a:xfrm>
          <a:prstGeom prst="irregularSeal2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щущается ли сказочность в современных костюмах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Пятно 2 10"/>
          <p:cNvSpPr/>
          <p:nvPr/>
        </p:nvSpPr>
        <p:spPr>
          <a:xfrm>
            <a:off x="3714840" y="3286080"/>
            <a:ext cx="5981760" cy="357192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Чем те герои (герой) отличаются от только что узнанного и в чем их сходство в плане современной моды?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Пятно 2 9"/>
          <p:cNvSpPr/>
          <p:nvPr/>
        </p:nvSpPr>
        <p:spPr>
          <a:xfrm>
            <a:off x="1000080" y="1071720"/>
            <a:ext cx="6858000" cy="4786200"/>
          </a:xfrm>
          <a:prstGeom prst="irregularSeal2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акое отношение к реальной жизни имеют традиционно-сказочные костюмы — Бабы Яги, Водяного, Привидения?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8" name="Picture 4" descr="C:\Documents and Settings\Марина\Рабочий стол\Мариша\КОНКУРСЫ\ЭЙДОС Дистанционный проект Моя сказка\яна гот.JPG"/>
          <p:cNvPicPr/>
          <p:nvPr/>
        </p:nvPicPr>
        <p:blipFill>
          <a:blip r:embed="rId5"/>
          <a:stretch/>
        </p:blipFill>
        <p:spPr>
          <a:xfrm>
            <a:off x="-1285920" y="0"/>
            <a:ext cx="6143760" cy="4308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Марина\Рабочий стол\Мариша\КОНКУРСЫ\ЭЙДОС Дистанционный проект Моя сказка\на форум Валерия.jpg"/>
          <p:cNvPicPr/>
          <p:nvPr/>
        </p:nvPicPr>
        <p:blipFill>
          <a:blip r:embed="rId6"/>
          <a:stretch/>
        </p:blipFill>
        <p:spPr>
          <a:xfrm>
            <a:off x="0" y="2876400"/>
            <a:ext cx="3876840" cy="3981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C:\Documents and Settings\Марина\Рабочий стол\Мариша\КОНКУРСЫ\ЭЙДОС Дистанционный проект Моя сказка\18g.jpg"/>
          <p:cNvPicPr/>
          <p:nvPr/>
        </p:nvPicPr>
        <p:blipFill>
          <a:blip r:embed="rId7"/>
          <a:stretch/>
        </p:blipFill>
        <p:spPr>
          <a:xfrm>
            <a:off x="3214800" y="0"/>
            <a:ext cx="591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431200" cy="1511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Марина\Рабочий стол\конкурсы\ит курсы 2010\картинки к проекту\радуга.jpg"/>
          <p:cNvPicPr/>
          <p:nvPr/>
        </p:nvPicPr>
        <p:blipFill>
          <a:blip r:embed="rId2"/>
          <a:stretch/>
        </p:blipFill>
        <p:spPr>
          <a:xfrm>
            <a:off x="1143000" y="1857240"/>
            <a:ext cx="7077240" cy="4714920"/>
          </a:xfrm>
          <a:prstGeom prst="rect">
            <a:avLst/>
          </a:prstGeom>
          <a:ln w="0">
            <a:noFill/>
          </a:ln>
        </p:spPr>
      </p:pic>
      <p:sp>
        <p:nvSpPr>
          <p:cNvPr id="423" name="Пятно 2 4"/>
          <p:cNvSpPr/>
          <p:nvPr/>
        </p:nvSpPr>
        <p:spPr>
          <a:xfrm>
            <a:off x="-1490760" y="-1062000"/>
            <a:ext cx="10634760" cy="6848280"/>
          </a:xfrm>
          <a:prstGeom prst="irregularSeal2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Есть ли «постоянные формулы» в современных сказках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Пятно 2 6"/>
          <p:cNvSpPr/>
          <p:nvPr/>
        </p:nvSpPr>
        <p:spPr>
          <a:xfrm>
            <a:off x="3429000" y="-214200"/>
            <a:ext cx="6715080" cy="3571920"/>
          </a:xfrm>
          <a:prstGeom prst="irregularSeal2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Имеют ли классификацию "новые" сказки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Пятно 2 8"/>
          <p:cNvSpPr/>
          <p:nvPr/>
        </p:nvSpPr>
        <p:spPr>
          <a:xfrm>
            <a:off x="3286080" y="1714680"/>
            <a:ext cx="6715080" cy="3571560"/>
          </a:xfrm>
          <a:prstGeom prst="irregularSeal2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очему важно знать место и время действия сказки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Пятно 2 9"/>
          <p:cNvSpPr/>
          <p:nvPr/>
        </p:nvSpPr>
        <p:spPr>
          <a:xfrm>
            <a:off x="-857160" y="2071800"/>
            <a:ext cx="8072280" cy="4786200"/>
          </a:xfrm>
          <a:prstGeom prst="irregularSeal2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акие факторы определяют название сказки? Влияние каких из них наиболее значительно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Пятно 2 10"/>
          <p:cNvSpPr/>
          <p:nvPr/>
        </p:nvSpPr>
        <p:spPr>
          <a:xfrm>
            <a:off x="2214720" y="2357280"/>
            <a:ext cx="9348480" cy="4786560"/>
          </a:xfrm>
          <a:prstGeom prst="irregularSeal2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Сколько героев может быть в сказке? Каково оптимальное количество персонажей в сказке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28" name="Пятно 2 11"/>
          <p:cNvGrpSpPr/>
          <p:nvPr/>
        </p:nvGrpSpPr>
        <p:grpSpPr>
          <a:xfrm>
            <a:off x="268200" y="469800"/>
            <a:ext cx="9504360" cy="4943520"/>
            <a:chOff x="268200" y="469800"/>
            <a:chExt cx="9504360" cy="4943520"/>
          </a:xfrm>
        </p:grpSpPr>
        <p:pic>
          <p:nvPicPr>
            <p:cNvPr id="429" name="Пятно 2 11" descr=""/>
            <p:cNvPicPr/>
            <p:nvPr/>
          </p:nvPicPr>
          <p:blipFill>
            <a:blip r:embed="rId3"/>
            <a:stretch/>
          </p:blipFill>
          <p:spPr>
            <a:xfrm>
              <a:off x="268200" y="469800"/>
              <a:ext cx="9504360" cy="49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682720" y="1986120"/>
              <a:ext cx="401004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Gothic"/>
                </a:rPr>
                <a:t>По каким признакам персонажи делятся на главных и второстепенных? 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6:08:36Z</dcterms:created>
  <dc:creator>Marina</dc:creator>
  <dc:description/>
  <dc:language>en-US</dc:language>
  <cp:lastModifiedBy>UserXP</cp:lastModifiedBy>
  <dcterms:modified xsi:type="dcterms:W3CDTF">2011-01-20T16:30:38Z</dcterms:modified>
  <cp:revision>13</cp:revision>
  <dc:subject/>
  <dc:title>Учебный проект:  «В 2010 – С НОВОЙ СКАЗКОЙ?»</dc:title>
</cp:coreProperties>
</file>