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773-116F-4A93-B35C-D726B3CA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BF3-EB6D-41D0-A9F1-B60D888F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110-91C5-4911-917B-81965C91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324-DCAF-4838-ACBC-8264C804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B5A9-CA4E-41F7-B975-227A13D8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BC39-D9AF-4BE2-87E9-24355E7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898-F91B-4D9A-812F-4C43371D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E36-8FFA-413A-98FA-1B2D988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55DB-9ACD-477B-97BE-7ED53DA7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3439-43F0-46F3-8F69-FE2B642A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EE57-FED3-4D3F-92B6-EC8E812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BB2-A10B-43EF-BD84-DCA122AB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26D6-91BC-4B69-9BBC-374FD0E8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1C2A-4FAE-4C0A-9C0C-369D4701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ACFB-4AD7-4B88-8211-91299BEC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F7C-982D-4286-B217-5D6BE299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1855-B44A-4D74-A548-DD551926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F42-9AF6-4889-B9B1-7B3FE1D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ADD-6D63-4A98-AA70-09982B14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FDA-A682-4797-AA37-551A81D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EF7-E0C9-4BB5-A4BA-03735751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808-B4B6-4755-88DA-981369C8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C50-786F-4441-9415-D32C68D1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95D-57EE-4B4E-B08D-5EC13DE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E4B-875D-4B0D-824E-B3E958DB0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3685-FE52-4542-ADBB-57AEDC21F72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ril2.pp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Приемы оформления текста средствами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WORD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71760" y="3499920"/>
            <a:ext cx="7215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ал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чнева Людмила Андрее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информати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У «Ординская сош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ермского края, Ординского рай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да, 2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СТАВК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БУКВИЦ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 ТЕК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местить курсор в начало абзац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меню «Формат – Буквица...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нужный тип буквиц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шрифт, если он отличается от остальног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поле «Высота в строках» выбрать подходящее число (по умолчанию установлено 3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0" t="0" r="0" b="1525"/>
          <a:stretch/>
        </p:blipFill>
        <p:spPr>
          <a:xfrm>
            <a:off x="2771640" y="260280"/>
            <a:ext cx="5988240" cy="6240600"/>
          </a:xfrm>
          <a:prstGeom prst="rect">
            <a:avLst/>
          </a:prstGeom>
          <a:ln w="442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428760" y="2286000"/>
          <a:ext cx="3725640" cy="21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86000"/>
                    <a:ext cx="3725640" cy="21207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4714920" y="2000160"/>
            <a:ext cx="3960720" cy="2148120"/>
          </a:xfrm>
          <a:prstGeom prst="rect">
            <a:avLst/>
          </a:prstGeom>
          <a:ln w="38160">
            <a:solidFill>
              <a:srgbClr val="19194d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3071880" y="4643280"/>
            <a:ext cx="3757680" cy="2000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956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5859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КТИЧЕСКАЯ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5859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8591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5859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77080" y="5229000"/>
            <a:ext cx="17654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ТЕС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rcRect l="1185" t="380" r="2097" b="0"/>
          <a:stretch/>
        </p:blipFill>
        <p:spPr>
          <a:xfrm>
            <a:off x="285840" y="1357200"/>
            <a:ext cx="2857320" cy="41338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102" name="Picture 6" descr=""/>
          <p:cNvPicPr/>
          <p:nvPr/>
        </p:nvPicPr>
        <p:blipFill>
          <a:blip r:embed="rId2"/>
          <a:srcRect l="0" t="0" r="4404" b="0"/>
          <a:stretch/>
        </p:blipFill>
        <p:spPr>
          <a:xfrm>
            <a:off x="3348000" y="1197000"/>
            <a:ext cx="2652840" cy="4032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103" name="Picture 7" descr=""/>
          <p:cNvPicPr/>
          <p:nvPr/>
        </p:nvPicPr>
        <p:blipFill>
          <a:blip r:embed="rId3"/>
          <a:srcRect l="0" t="0" r="1272" b="0"/>
          <a:stretch/>
        </p:blipFill>
        <p:spPr>
          <a:xfrm>
            <a:off x="6227640" y="1442880"/>
            <a:ext cx="2702160" cy="3972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меню «Формат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«Граница и заливка…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вкладку «Страница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тип рам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рисунок рам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становить ширину рам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брать цвет рам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99720" y="4284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СТАВКА ГРАН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92360" y="5516640"/>
            <a:ext cx="15843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0" r="1250" b="975"/>
          <a:stretch/>
        </p:blipFill>
        <p:spPr>
          <a:xfrm>
            <a:off x="285840" y="260280"/>
            <a:ext cx="8572320" cy="63118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СТАВКА РИСУ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местить курсор на место вставки рису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брать меню «Вставка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брать «Рисунок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брать «Из файла…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 открывшемся окне выделить необходимый рисун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619280" y="5589720"/>
            <a:ext cx="288144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rcRect l="834" t="1113" r="794" b="1084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брать текст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делить нужный фрагмент текс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становить цвет шрифта         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становить размер шрифта             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становить начертание шрифта              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становить вид шрифт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95280" y="214200"/>
            <a:ext cx="8748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ОРМАТИРОВАНИЕ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ШРИФ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792360" cy="56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372360" y="3645000"/>
            <a:ext cx="1152360" cy="482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440000" cy="4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5724360" y="4797360"/>
            <a:ext cx="259272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0" t="0" r="-109" b="-49"/>
          <a:stretch/>
        </p:blipFill>
        <p:spPr>
          <a:xfrm>
            <a:off x="3492360" y="1052640"/>
            <a:ext cx="5365800" cy="5519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525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4897440" cy="1809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4896000" cy="1911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5724360" y="981000"/>
            <a:ext cx="3121200" cy="2630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125" name="Picture 10" descr=""/>
          <p:cNvPicPr/>
          <p:nvPr/>
        </p:nvPicPr>
        <p:blipFill>
          <a:blip r:embed="rId4"/>
          <a:stretch/>
        </p:blipFill>
        <p:spPr>
          <a:xfrm>
            <a:off x="5724360" y="3860640"/>
            <a:ext cx="3095640" cy="2737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7:16:26Z</dcterms:created>
  <dc:creator>KOCHNEV</dc:creator>
  <dc:description/>
  <dc:language>en-US</dc:language>
  <cp:lastModifiedBy>User</cp:lastModifiedBy>
  <dcterms:modified xsi:type="dcterms:W3CDTF">2011-04-09T13:08:49Z</dcterms:modified>
  <cp:revision>37</cp:revision>
  <dc:subject/>
  <dc:title>Слайд 1</dc:title>
</cp:coreProperties>
</file>