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6266-5F14-4607-AEAA-DE7875C3C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7759-0B3E-4F37-80AD-C7AD4F1A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AF66-8FE5-4986-B9E1-CA70322DF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F24F-E04C-41FB-8ED3-97940C704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3566-A377-4A58-906C-BE800D75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E383-5E17-4FCA-8772-B5FC3FF2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6A5E-935C-42F0-90F4-042C0019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302B-8640-44D6-8B61-A01A6F1A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67E2-6F05-4129-97C1-48662C5C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EC04-E4C4-4374-B9B5-FEC2B7AF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0EE9-5299-4E0D-9B79-E84AB70E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DC80-32A2-475F-A011-F8B089D5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EDD5-C905-4563-BCC1-B8896DA7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AF58-C6EF-4C13-8A59-9AFC004D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87BF-7952-4AD6-978A-F246F5D6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C517-689D-4F6A-A26B-F45458953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6F81-E118-4948-8D66-641C68C3B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7813-F19D-41D1-A8DE-041264A3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4518-40AB-46E9-A768-24E29D5C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EDF7-08B9-402C-A128-A783AE9A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2520-AB8A-4C5C-A93F-124F3949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6DEE-83C1-40D5-8FB2-223C30FB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3A7B-2590-4399-945A-74DD2FF7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2E57-9425-454D-BDB1-13F07CC6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F08C-CA75-4E30-8A47-D121C7A773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0E7B-BDD4-4BFC-8F22-DBA5AC2E4BF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Comic Sans MS"/>
              </a:rPr>
              <a:t>Электронные таблицы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55640" y="42206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Абсолютная и относительная адресация ячее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8836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0689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124000" y="2181240"/>
            <a:ext cx="6840720" cy="4176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95280" y="7650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кая формула будет получена при копировании в ячейку Е4 формулы из ячейки Е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637000"/>
            <a:ext cx="15112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2*C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2*$C$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$A$2*C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4*C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2637000"/>
            <a:ext cx="4683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51 0.00278 L 0.68455 0.24422 E">
                                      <p:cBhvr>
                                        <p:cTn id="378" dur="2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979640" y="2060640"/>
            <a:ext cx="6985080" cy="4321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24000" y="692280"/>
            <a:ext cx="851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кая формула будет получена при копировании в ячейку Е4 формулы из ячейки Е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2565360"/>
            <a:ext cx="15825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$A$2*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2*$C$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$A$2*C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4*C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2565360"/>
            <a:ext cx="4683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7037E-007 L 0.68854 0.43241 E">
                                      <p:cBhvr>
                                        <p:cTn id="384" dur="2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6769080" cy="4543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95280" y="7650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кая формула будет получена при копировании в ячейку Е4 формулы из ячейки Е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2565360"/>
            <a:ext cx="14763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2*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4*$C$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$A$2*C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4*C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2565360"/>
            <a:ext cx="468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96296E-006 L 0.72743 0.15532 E">
                                      <p:cBhvr>
                                        <p:cTn id="390" dur="2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Comic Sans MS"/>
              </a:rPr>
              <a:t>Задание на дом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учить определение относительной, абсолютной и смешанной ссыло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готовить данные  о расходе электроэнергии за го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380360" y="47628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исло – это последовательность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цифр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начинающаяся со знака «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» или «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», которая может содержать символ «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» как разделитель целой и дробной ча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1" action="ppaction://hlinksldjump"/>
          </p:cNvPr>
          <p:cNvSpPr/>
          <p:nvPr/>
        </p:nvSpPr>
        <p:spPr>
          <a:xfrm flipH="1">
            <a:off x="7524000" y="5661000"/>
            <a:ext cx="1079640" cy="289080"/>
          </a:xfrm>
          <a:custGeom>
            <a:avLst/>
            <a:gdLst>
              <a:gd name="textAreaLeft" fmla="*/ 188640 w 1079640"/>
              <a:gd name="textAreaRight" fmla="*/ 782640 w 107964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Формула – это последовательность символов, начинающаяся со знака «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» и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имеющая смысл с точки зрения математи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7524000" y="5661000"/>
            <a:ext cx="1079640" cy="289080"/>
          </a:xfrm>
          <a:custGeom>
            <a:avLst/>
            <a:gdLst>
              <a:gd name="textAreaLeft" fmla="*/ 188640 w 1079640"/>
              <a:gd name="textAreaRight" fmla="*/ 782640 w 107964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следовательность символов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не являющаяся ни числом, ни формулой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воспринимается табличным процессором как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текст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7524000" y="5661000"/>
            <a:ext cx="1079640" cy="289080"/>
          </a:xfrm>
          <a:custGeom>
            <a:avLst/>
            <a:gdLst>
              <a:gd name="textAreaLeft" fmla="*/ 188640 w 1079640"/>
              <a:gd name="textAreaRight" fmla="*/ 782640 w 107964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Comic Sans MS"/>
              </a:rPr>
              <a:t>Цели урока: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 algn="just">
              <a:lnSpc>
                <a:spcPct val="100000"/>
              </a:lnSpc>
              <a:spcBef>
                <a:spcPts val="8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omic Sans MS"/>
              </a:rPr>
              <a:t>Обобщение основных понятий электронной таблицы  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Exc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just">
              <a:lnSpc>
                <a:spcPct val="100000"/>
              </a:lnSpc>
              <a:spcBef>
                <a:spcPts val="8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omic Sans MS"/>
              </a:rPr>
              <a:t>Определение относительного, абсолютного и смешанного адресов ячейки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just">
              <a:lnSpc>
                <a:spcPct val="100000"/>
              </a:lnSpc>
              <a:spcBef>
                <a:spcPts val="8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omic Sans MS"/>
              </a:rPr>
              <a:t>Использование различных видов адресации при расчетах с помощью математических формул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00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Comic Sans MS"/>
              </a:rPr>
              <a:t>Закончите предложение: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572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Электронная таблица - эт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59280" y="1628640"/>
            <a:ext cx="4284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omic Sans MS"/>
              </a:rPr>
              <a:t>прикладная программа, предназначенная для обработки больших массивов чисе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4149720"/>
            <a:ext cx="4967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Электронная таблица состои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35640" y="4149720"/>
            <a:ext cx="370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omic Sans MS"/>
              </a:rPr>
              <a:t>из строк и столбцов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Comic Sans MS"/>
              </a:rPr>
              <a:t>Вставьте пропущенные слов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7040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7080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троки электронной таблицы ………………………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51640" y="184464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нумеруются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227664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толбцы электронной таблицы обознач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…………………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2708280"/>
            <a:ext cx="56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буквами латинского алфавит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378936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 пересечении столбца и строки находи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…………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основной структурный элемент таблицы.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4221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яче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Comic Sans MS"/>
              </a:rPr>
              <a:t>Исключи лишнее слово: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640" y="2491920"/>
            <a:ext cx="410544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Ячейка электронной таблицы может содержать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51280" y="2198520"/>
            <a:ext cx="3097080" cy="33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33"/>
                </a:solidFill>
                <a:uFillTx/>
                <a:latin typeface="Comic Sans MS"/>
                <a:hlinkClick r:id="rId1" action="ppaction://hlinksldjump"/>
              </a:rPr>
              <a:t>Числ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Формул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исун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к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2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95280" y="83664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Comic Sans MS"/>
              </a:rPr>
              <a:t>Для пользователя ячейка электронной таблицы идентифициру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198900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) путем последовательного указания имени столбца и номера строки, на пересечении которых располагается ячей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328464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) специальным кодовым слово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40766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) именем, произвольно задаваемым пользователе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5013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) адресом машинного слова оперативной памяти, отведенного под ячей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24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7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ри работе с формулами принято различать абсолютную и относительную адресацию ячеек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дрес ячейки, изменяющийся при копировании формулы называется </a:t>
            </a:r>
            <a:r>
              <a:rPr b="0" lang="ru-RU" sz="2200" spc="-1" strike="noStrike">
                <a:solidFill>
                  <a:srgbClr val="ff0000"/>
                </a:solidFill>
                <a:latin typeface="Comic Sans MS"/>
              </a:rPr>
              <a:t>относительным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. Он имеет вид В1, А3. По умолчанию программа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xcel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рассматривает адреса ячеек как относительные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дрес ячейки, не изменяющийся при копировании формулы, называется </a:t>
            </a:r>
            <a:r>
              <a:rPr b="0" lang="ru-RU" sz="2200" spc="-1" strike="noStrike">
                <a:solidFill>
                  <a:srgbClr val="ff0000"/>
                </a:solidFill>
                <a:latin typeface="Comic Sans MS"/>
              </a:rPr>
              <a:t>абсолютным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. Например,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$A$2, $C$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дрес ячейки называется </a:t>
            </a:r>
            <a:r>
              <a:rPr b="0" lang="ru-RU" sz="2200" spc="-1" strike="noStrike">
                <a:solidFill>
                  <a:srgbClr val="ff0000"/>
                </a:solidFill>
                <a:latin typeface="Comic Sans MS"/>
              </a:rPr>
              <a:t>смешанным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, если символ «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$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» стоит перед номером строки (при копировании формулы не изменяется номер строки)   или номером столбца (при копировании формулы не изменяется имя столбца).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апример,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$2 $C1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54936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Wingdings"/>
                <a:ea typeface="Wingdings"/>
              </a:rPr>
              <a:t>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00000" y="549360"/>
            <a:ext cx="7848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00"/>
                </a:solidFill>
                <a:latin typeface="Comic Sans MS"/>
              </a:rPr>
              <a:t>Каждая ячейка имеет имя (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адрес)</a:t>
            </a:r>
            <a:r>
              <a:rPr b="0" lang="en-US" sz="2600" spc="-1" strike="noStrike">
                <a:solidFill>
                  <a:srgbClr val="660000"/>
                </a:solidFill>
                <a:latin typeface="Comic Sans MS"/>
              </a:rPr>
              <a:t>, состоящий из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имени столбца</a:t>
            </a:r>
            <a:r>
              <a:rPr b="0" lang="en-US" sz="2600" spc="-1" strike="noStrike">
                <a:solidFill>
                  <a:srgbClr val="660000"/>
                </a:solidFill>
                <a:latin typeface="Comic Sans MS"/>
              </a:rPr>
              <a:t> и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номера строки</a:t>
            </a:r>
            <a:r>
              <a:rPr b="0" lang="en-US" sz="2600" spc="-1" strike="noStrike">
                <a:solidFill>
                  <a:srgbClr val="660000"/>
                </a:solidFill>
                <a:latin typeface="Comic Sans MS"/>
              </a:rPr>
              <a:t>, на пересечении которых она находитс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296120" y="4413240"/>
            <a:ext cx="139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мер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36000" y="6021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мер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96320" y="404640"/>
            <a:ext cx="749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равила поведения и техники безопас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ри работе на компьюте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68360" y="1125360"/>
            <a:ext cx="6409080" cy="601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258920" y="1844640"/>
            <a:ext cx="5834160" cy="495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2987640" y="2421000"/>
            <a:ext cx="5688000" cy="530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395280" y="3068640"/>
            <a:ext cx="6335640" cy="5634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3780000" y="3716280"/>
            <a:ext cx="4824360" cy="561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395280" y="4365720"/>
            <a:ext cx="6481800" cy="635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7"/>
          <a:stretch/>
        </p:blipFill>
        <p:spPr>
          <a:xfrm>
            <a:off x="2484360" y="5084640"/>
            <a:ext cx="6193080" cy="549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8"/>
          <a:stretch/>
        </p:blipFill>
        <p:spPr>
          <a:xfrm>
            <a:off x="324000" y="5734080"/>
            <a:ext cx="58323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4000"/>
                            </p:stCondLst>
                            <p:childTnLst>
                              <p:par>
                                <p:cTn id="3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8000"/>
                            </p:stCondLst>
                            <p:childTnLst>
                              <p:par>
                                <p:cTn id="3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755640" y="692280"/>
            <a:ext cx="7777080" cy="2116440"/>
            <a:chOff x="755640" y="692280"/>
            <a:chExt cx="7777080" cy="2116440"/>
          </a:xfrm>
        </p:grpSpPr>
        <p:sp>
          <p:nvSpPr>
            <p:cNvPr id="136" name=""/>
            <p:cNvSpPr/>
            <p:nvPr/>
          </p:nvSpPr>
          <p:spPr>
            <a:xfrm>
              <a:off x="755640" y="692280"/>
              <a:ext cx="719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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47640" y="765000"/>
              <a:ext cx="698508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cc00"/>
                  </a:solidFill>
                  <a:latin typeface="Comic Sans MS"/>
                </a:rPr>
                <a:t>Абсолютным</a:t>
              </a: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 называется адрес, который не изменяется при автокопировании формулы в другую ячейку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755640" y="3500280"/>
            <a:ext cx="7777080" cy="1629360"/>
            <a:chOff x="755640" y="3500280"/>
            <a:chExt cx="7777080" cy="1629360"/>
          </a:xfrm>
        </p:grpSpPr>
        <p:sp>
          <p:nvSpPr>
            <p:cNvPr id="139" name=""/>
            <p:cNvSpPr/>
            <p:nvPr/>
          </p:nvSpPr>
          <p:spPr>
            <a:xfrm>
              <a:off x="1476360" y="3573360"/>
              <a:ext cx="7056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cc00"/>
                  </a:solidFill>
                  <a:latin typeface="Comic Sans MS"/>
                </a:rPr>
                <a:t>Относительный</a:t>
              </a: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 адрес изменяется при автокопировании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55640" y="3500280"/>
              <a:ext cx="719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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vert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13:58:01Z</dcterms:created>
  <dc:creator>Учитель</dc:creator>
  <dc:description/>
  <dc:language>en-US</dc:language>
  <cp:lastModifiedBy>Vlad</cp:lastModifiedBy>
  <dcterms:modified xsi:type="dcterms:W3CDTF">2011-03-14T13:52:26Z</dcterms:modified>
  <cp:revision>20</cp:revision>
  <dc:subject/>
  <dc:title>Слайд 1</dc:title>
</cp:coreProperties>
</file>