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C754-17BA-4476-9041-BEAEF519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7ACA-C1E9-4A5E-BEAB-C6C8AB04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C5AD-DC95-4EA2-B919-C9EB168C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68D5-5140-438E-B706-8F4491DA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58E6-8A89-44CE-8AA1-E83C63B0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EAAF-612C-4CE1-B418-B75CF6F0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2C19-0998-44D0-8F4D-838C4412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05DE-6940-43C1-B9EA-56E5CA4A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7726-278B-4887-B710-26BE38E8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551A-3C83-40BA-BDD8-DAD41DC1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AB71-D6F8-4D9F-A0E8-DFD4CEF6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D8B2-0591-4C22-9132-3B018DE2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191F-0D6B-4C8B-A83E-3F14E0F9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A4DF-8BFA-4F67-B3E3-E00C1BBB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D7BD-80BE-4824-A17B-E09EEE0A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5B4C-9281-4C8F-BB45-96CD38D3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0CAE-373D-45EA-8027-5331D74B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E35A-0449-4D47-8513-EC073D33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432-3AA5-4B7B-ACE2-DFD2D3D9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9402-978D-4757-938A-07CF14F0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2DA3-B9E3-4323-B1B7-EB190C7F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A26B-1334-4CE0-813A-82B64449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BC52-E39D-4856-9FC2-CCB2E863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3B1B-73CC-4F34-8FA4-FC1DA6CF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7DD6-60A8-4AA5-B28C-88CF46DB6AC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8E85-0767-4382-8983-6A4C66771B1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oleObject" Target="../embeddings/oleObject1.bin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усский язык 3 класс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юлина Л.В. Учитель МАОУ «Прогимназия № 64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Шикова О.Н. Учитель МОУ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Ш № 4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. Набережные Чел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Object 3"/>
          <p:cNvGraphicFramePr/>
          <p:nvPr/>
        </p:nvGraphicFramePr>
        <p:xfrm>
          <a:off x="2743200" y="1752480"/>
          <a:ext cx="36511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752480"/>
                    <a:ext cx="36511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WordArt 7"/>
          <p:cNvSpPr txBox="1"/>
          <p:nvPr/>
        </p:nvSpPr>
        <p:spPr>
          <a:xfrm>
            <a:off x="2819520" y="685800"/>
            <a:ext cx="2895480" cy="198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МОЛЧУН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Проверь себ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057040" y="1218960"/>
            <a:ext cx="6095880" cy="5105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лина –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лин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чь – дочк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от – роти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лина - малиноч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1"/>
          <a:stretch/>
        </p:blipFill>
        <p:spPr>
          <a:xfrm>
            <a:off x="5562720" y="1676520"/>
            <a:ext cx="1143000" cy="223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"/>
          <p:cNvPicPr/>
          <p:nvPr/>
        </p:nvPicPr>
        <p:blipFill>
          <a:blip r:embed="rId2"/>
          <a:stretch/>
        </p:blipFill>
        <p:spPr>
          <a:xfrm>
            <a:off x="5257800" y="5105520"/>
            <a:ext cx="1295280" cy="314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"/>
          <p:cNvPicPr/>
          <p:nvPr/>
        </p:nvPicPr>
        <p:blipFill>
          <a:blip r:embed="rId3"/>
          <a:stretch/>
        </p:blipFill>
        <p:spPr>
          <a:xfrm>
            <a:off x="3429000" y="1600200"/>
            <a:ext cx="1143000" cy="237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"/>
          <p:cNvPicPr/>
          <p:nvPr/>
        </p:nvPicPr>
        <p:blipFill>
          <a:blip r:embed="rId4"/>
          <a:stretch/>
        </p:blipFill>
        <p:spPr>
          <a:xfrm>
            <a:off x="3581280" y="3962520"/>
            <a:ext cx="685800" cy="237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"/>
          <p:cNvPicPr/>
          <p:nvPr/>
        </p:nvPicPr>
        <p:blipFill>
          <a:blip r:embed="rId5"/>
          <a:stretch/>
        </p:blipFill>
        <p:spPr>
          <a:xfrm>
            <a:off x="4952880" y="2895480"/>
            <a:ext cx="609840" cy="162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"/>
          <p:cNvPicPr/>
          <p:nvPr/>
        </p:nvPicPr>
        <p:blipFill>
          <a:blip r:embed="rId6"/>
          <a:stretch/>
        </p:blipFill>
        <p:spPr>
          <a:xfrm>
            <a:off x="3733920" y="2819520"/>
            <a:ext cx="685800" cy="188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"/>
          <p:cNvPicPr/>
          <p:nvPr/>
        </p:nvPicPr>
        <p:blipFill>
          <a:blip r:embed="rId7"/>
          <a:stretch/>
        </p:blipFill>
        <p:spPr>
          <a:xfrm>
            <a:off x="4572000" y="3962520"/>
            <a:ext cx="800280" cy="179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"/>
          <p:cNvPicPr/>
          <p:nvPr/>
        </p:nvPicPr>
        <p:blipFill>
          <a:blip r:embed="rId8"/>
          <a:stretch/>
        </p:blipFill>
        <p:spPr>
          <a:xfrm>
            <a:off x="3276720" y="5029200"/>
            <a:ext cx="1333440" cy="314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"/>
          <p:cNvPicPr/>
          <p:nvPr/>
        </p:nvPicPr>
        <p:blipFill>
          <a:blip r:embed="rId9"/>
          <a:stretch/>
        </p:blipFill>
        <p:spPr>
          <a:xfrm>
            <a:off x="5334120" y="2209680"/>
            <a:ext cx="1600200" cy="214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5" descr=""/>
          <p:cNvPicPr/>
          <p:nvPr/>
        </p:nvPicPr>
        <p:blipFill>
          <a:blip r:embed="rId10"/>
          <a:stretch/>
        </p:blipFill>
        <p:spPr>
          <a:xfrm>
            <a:off x="3276720" y="2209680"/>
            <a:ext cx="1371600" cy="184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"/>
          <p:cNvPicPr/>
          <p:nvPr/>
        </p:nvPicPr>
        <p:blipFill>
          <a:blip r:embed="rId11"/>
          <a:stretch/>
        </p:blipFill>
        <p:spPr>
          <a:xfrm>
            <a:off x="5181480" y="5715000"/>
            <a:ext cx="2057400" cy="158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7" descr=""/>
          <p:cNvPicPr/>
          <p:nvPr/>
        </p:nvPicPr>
        <p:blipFill>
          <a:blip r:embed="rId12"/>
          <a:stretch/>
        </p:blipFill>
        <p:spPr>
          <a:xfrm>
            <a:off x="3200400" y="5715000"/>
            <a:ext cx="1495440" cy="2016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8" descr=""/>
          <p:cNvPicPr/>
          <p:nvPr/>
        </p:nvPicPr>
        <p:blipFill>
          <a:blip r:embed="rId13"/>
          <a:stretch/>
        </p:blipFill>
        <p:spPr>
          <a:xfrm>
            <a:off x="4648320" y="4572000"/>
            <a:ext cx="1143000" cy="154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9" descr=""/>
          <p:cNvPicPr/>
          <p:nvPr/>
        </p:nvPicPr>
        <p:blipFill>
          <a:blip r:embed="rId14"/>
          <a:stretch/>
        </p:blipFill>
        <p:spPr>
          <a:xfrm>
            <a:off x="3581280" y="4572000"/>
            <a:ext cx="685800" cy="93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0" descr=""/>
          <p:cNvPicPr/>
          <p:nvPr/>
        </p:nvPicPr>
        <p:blipFill>
          <a:blip r:embed="rId15"/>
          <a:stretch/>
        </p:blipFill>
        <p:spPr>
          <a:xfrm>
            <a:off x="3581280" y="3429000"/>
            <a:ext cx="914400" cy="123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1" descr=""/>
          <p:cNvPicPr/>
          <p:nvPr/>
        </p:nvPicPr>
        <p:blipFill>
          <a:blip r:embed="rId16"/>
          <a:stretch/>
        </p:blipFill>
        <p:spPr>
          <a:xfrm>
            <a:off x="4876920" y="3429000"/>
            <a:ext cx="990360" cy="1317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2" descr=""/>
          <p:cNvPicPr/>
          <p:nvPr/>
        </p:nvPicPr>
        <p:blipFill>
          <a:blip r:embed="rId17"/>
          <a:stretch/>
        </p:blipFill>
        <p:spPr>
          <a:xfrm>
            <a:off x="5410080" y="3962520"/>
            <a:ext cx="381240" cy="179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3" descr=""/>
          <p:cNvPicPr/>
          <p:nvPr/>
        </p:nvPicPr>
        <p:blipFill>
          <a:blip r:embed="rId18"/>
          <a:stretch/>
        </p:blipFill>
        <p:spPr>
          <a:xfrm>
            <a:off x="6553080" y="5029200"/>
            <a:ext cx="609840" cy="380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4" descr=""/>
          <p:cNvPicPr/>
          <p:nvPr/>
        </p:nvPicPr>
        <p:blipFill>
          <a:blip r:embed="rId19"/>
          <a:stretch/>
        </p:blipFill>
        <p:spPr>
          <a:xfrm>
            <a:off x="6781680" y="17524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5" descr=""/>
          <p:cNvPicPr/>
          <p:nvPr/>
        </p:nvPicPr>
        <p:blipFill>
          <a:blip r:embed="rId20"/>
          <a:stretch/>
        </p:blipFill>
        <p:spPr>
          <a:xfrm>
            <a:off x="5638680" y="2895480"/>
            <a:ext cx="228600" cy="1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Object 31"/>
          <p:cNvGraphicFramePr/>
          <p:nvPr/>
        </p:nvGraphicFramePr>
        <p:xfrm>
          <a:off x="457200" y="685800"/>
          <a:ext cx="925560" cy="1878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09" name="Object 3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57200" y="685800"/>
                    <a:ext cx="925560" cy="18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В русском языке с помощью суффиксов  </a:t>
            </a:r>
            <a:r>
              <a:rPr b="1" i="1" lang="ru-RU" sz="3600" spc="-1" strike="noStrike">
                <a:solidFill>
                  <a:srgbClr val="3333ff"/>
                </a:solidFill>
                <a:latin typeface="Comic Sans MS"/>
              </a:rPr>
              <a:t>-онк-, -оньк-,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1" i="1" lang="ru-RU" sz="3600" spc="-1" strike="noStrike">
                <a:solidFill>
                  <a:srgbClr val="3333ff"/>
                </a:solidFill>
                <a:latin typeface="Comic Sans MS"/>
              </a:rPr>
              <a:t>-еньк-, -ок-, -ек-,  -ик-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Comic Sans MS"/>
              </a:rPr>
              <a:t>  –</a:t>
            </a:r>
            <a:r>
              <a:rPr b="1" i="1" lang="ru-RU" sz="3600" spc="-1" strike="noStrike">
                <a:solidFill>
                  <a:srgbClr val="3333ff"/>
                </a:solidFill>
                <a:latin typeface="Comic Sans MS"/>
              </a:rPr>
              <a:t>очк-, -ушк-, -юшк-, -ышк-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ff"/>
                </a:solidFill>
                <a:latin typeface="Comic Sans MS"/>
              </a:rPr>
              <a:t>  </a:t>
            </a:r>
            <a:r>
              <a:rPr b="1" i="1" lang="ru-RU" sz="3600" spc="-1" strike="noStrike">
                <a:solidFill>
                  <a:srgbClr val="3333ff"/>
                </a:solidFill>
                <a:latin typeface="Comic Sans MS"/>
              </a:rPr>
              <a:t>-к-, -чик-</a:t>
            </a: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    от основ имён существительных образуются имена существительные с уменьшительно-ласкательным значением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142640" y="380880"/>
            <a:ext cx="6553080" cy="51055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99"/>
                </a:solidFill>
                <a:latin typeface="Comic Sans MS"/>
              </a:rPr>
              <a:t>Образуйте с помощью суффиксов –ушк-, -юшк-, -ышк-, -чик-, -ёнк-, -онк- новые слов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omic Sans MS"/>
              </a:rPr>
              <a:t>Трава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omic Sans MS"/>
              </a:rPr>
              <a:t>Поле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omic Sans MS"/>
              </a:rPr>
              <a:t>Стекло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omic Sans MS"/>
              </a:rPr>
              <a:t>Колокол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omic Sans MS"/>
              </a:rPr>
              <a:t>Рука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Comic Sans MS"/>
              </a:rPr>
              <a:t>Изба -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Object 42"/>
          <p:cNvGraphicFramePr/>
          <p:nvPr/>
        </p:nvGraphicFramePr>
        <p:xfrm>
          <a:off x="4495680" y="2666880"/>
          <a:ext cx="259092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2666880"/>
                    <a:ext cx="259092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723920" y="1828800"/>
            <a:ext cx="3581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ора – горка              лес – лес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ле – полюшко       сом – сомищ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нук – внучек            город –город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яч – мячик          слово – словечк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6" name="Object 5"/>
          <p:cNvGraphicFramePr/>
          <p:nvPr/>
        </p:nvGraphicFramePr>
        <p:xfrm>
          <a:off x="838080" y="1905120"/>
          <a:ext cx="276228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27622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733920" y="990360"/>
            <a:ext cx="44193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уб – дубок, дубочек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ука – рученька, ручонка, ручк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стра – сестричка, сестрёнк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лнце – солнышк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9" name="Object 12"/>
          <p:cNvGraphicFramePr/>
          <p:nvPr/>
        </p:nvGraphicFramePr>
        <p:xfrm>
          <a:off x="609480" y="380880"/>
          <a:ext cx="2787840" cy="35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2787840" cy="35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WordArt 15"/>
          <p:cNvSpPr txBox="1"/>
          <p:nvPr/>
        </p:nvSpPr>
        <p:spPr>
          <a:xfrm>
            <a:off x="533520" y="4191120"/>
            <a:ext cx="2971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99cc00"/>
                </a:solidFill>
                <a:latin typeface="Times New Roman"/>
              </a:rPr>
              <a:t>ПОНЧИК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99cc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ягода – ягодка, ягодоч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ябина – рябинка,рябинушк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рат – братик, братец, браток, братишка, братушка, братчик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рога – дорожка, дороженьк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3429000" y="3657600"/>
          <a:ext cx="16002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3657600"/>
                    <a:ext cx="16002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WordArt 5"/>
          <p:cNvSpPr txBox="1"/>
          <p:nvPr/>
        </p:nvSpPr>
        <p:spPr>
          <a:xfrm>
            <a:off x="5410080" y="5715000"/>
            <a:ext cx="182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НЕБОСЬКА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5029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ль- ёлочка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м – домик, домок, домишко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ерно – зернышко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ма- маменька, мамонька, мамочка, мамуш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7" name="Object 4"/>
          <p:cNvGraphicFramePr/>
          <p:nvPr/>
        </p:nvGraphicFramePr>
        <p:xfrm>
          <a:off x="5638680" y="2438280"/>
          <a:ext cx="228312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438280"/>
                    <a:ext cx="228312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WordArt 7"/>
          <p:cNvSpPr txBox="1"/>
          <p:nvPr/>
        </p:nvSpPr>
        <p:spPr>
          <a:xfrm>
            <a:off x="3048120" y="5410080"/>
            <a:ext cx="256212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СИРОПЧИК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80773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7493"/>
                </a:moveTo>
                <a:lnTo>
                  <a:pt x="9463" y="7493"/>
                </a:lnTo>
                <a:lnTo>
                  <a:pt x="9463" y="12828"/>
                </a:lnTo>
                <a:cubicBezTo>
                  <a:pt x="9463" y="13751"/>
                  <a:pt x="10264" y="14482"/>
                  <a:pt x="11300" y="14482"/>
                </a:cubicBezTo>
                <a:lnTo>
                  <a:pt x="12962" y="14482"/>
                </a:lnTo>
                <a:cubicBezTo>
                  <a:pt x="13998" y="14482"/>
                  <a:pt x="14799" y="13751"/>
                  <a:pt x="14799" y="12828"/>
                </a:cubicBezTo>
                <a:lnTo>
                  <a:pt x="14799" y="7493"/>
                </a:lnTo>
                <a:lnTo>
                  <a:pt x="12962" y="7493"/>
                </a:lnTo>
                <a:lnTo>
                  <a:pt x="16470" y="3985"/>
                </a:lnTo>
                <a:lnTo>
                  <a:pt x="20143" y="7493"/>
                </a:lnTo>
                <a:lnTo>
                  <a:pt x="18306" y="7493"/>
                </a:lnTo>
                <a:lnTo>
                  <a:pt x="18306" y="12828"/>
                </a:lnTo>
                <a:cubicBezTo>
                  <a:pt x="18306" y="15596"/>
                  <a:pt x="15730" y="18155"/>
                  <a:pt x="12962" y="18155"/>
                </a:cubicBezTo>
                <a:lnTo>
                  <a:pt x="11300" y="18155"/>
                </a:lnTo>
                <a:cubicBezTo>
                  <a:pt x="8532" y="18155"/>
                  <a:pt x="5956" y="15596"/>
                  <a:pt x="5956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-еньк-, -ок-, -ек-, -ик-,–очк-, </a:t>
            </a:r>
            <a:br>
              <a:rPr sz="3600"/>
            </a:br>
            <a:r>
              <a:rPr b="1" i="1" lang="ru-RU" sz="3600" spc="-1" strike="noStrike">
                <a:solidFill>
                  <a:srgbClr val="703dff"/>
                </a:solidFill>
                <a:latin typeface="Comic Sans MS"/>
              </a:rPr>
              <a:t> -ушк-, -юшк-, -ышк-, -чик-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Рустам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9900"/>
                </a:solidFill>
                <a:latin typeface="Comic Sans MS"/>
              </a:rPr>
              <a:t>Даш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ff"/>
                </a:solidFill>
                <a:latin typeface="Comic Sans MS"/>
              </a:rPr>
              <a:t>Витя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Comic Sans MS"/>
              </a:rPr>
              <a:t>Николай Носов «Приключения Незнайки и его друзей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6" descr="1207150809_n"/>
          <p:cNvPicPr/>
          <p:nvPr/>
        </p:nvPicPr>
        <p:blipFill>
          <a:blip r:embed="rId1"/>
          <a:stretch/>
        </p:blipFill>
        <p:spPr>
          <a:xfrm>
            <a:off x="1981080" y="1752480"/>
            <a:ext cx="5943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СУФФИК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 помощью этой части слова   могут совершаться превращения.      В    слове     она    стоит справа    от     корня. Иногда    в      слове может    быть  две  и даже    три      таких ча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7" descr="znayka_potter_1"/>
          <p:cNvPicPr/>
          <p:nvPr/>
        </p:nvPicPr>
        <p:blipFill>
          <a:blip r:embed="rId1"/>
          <a:stretch/>
        </p:blipFill>
        <p:spPr>
          <a:xfrm>
            <a:off x="228600" y="1600200"/>
            <a:ext cx="4419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7543800" cy="5029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mic Sans MS"/>
              </a:rPr>
              <a:t>Шестое феврал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mic Sans MS"/>
              </a:rPr>
              <a:t>Классная работ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ef66"/>
                </a:solidFill>
                <a:latin typeface="Comic Sans MS"/>
              </a:rPr>
              <a:t>Словообразование имен существительных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1980720"/>
            <a:ext cx="7772400" cy="3124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ветер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ветрище      ветерок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549080" y="4094280"/>
            <a:ext cx="603252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Line 6"/>
          <p:cNvSpPr/>
          <p:nvPr/>
        </p:nvSpPr>
        <p:spPr>
          <a:xfrm flipH="1">
            <a:off x="3200400" y="289548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5562720" y="289548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30"/>
          <p:cNvSpPr/>
          <p:nvPr/>
        </p:nvSpPr>
        <p:spPr>
          <a:xfrm>
            <a:off x="2286000" y="2971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44" descr=""/>
          <p:cNvPicPr/>
          <p:nvPr/>
        </p:nvPicPr>
        <p:blipFill>
          <a:blip r:embed="rId1"/>
          <a:stretch/>
        </p:blipFill>
        <p:spPr>
          <a:xfrm>
            <a:off x="3962520" y="2590920"/>
            <a:ext cx="1523880" cy="250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5" descr=""/>
          <p:cNvPicPr/>
          <p:nvPr/>
        </p:nvPicPr>
        <p:blipFill>
          <a:blip r:embed="rId2"/>
          <a:stretch/>
        </p:blipFill>
        <p:spPr>
          <a:xfrm>
            <a:off x="2209680" y="4419720"/>
            <a:ext cx="1981440" cy="237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6" descr=""/>
          <p:cNvPicPr/>
          <p:nvPr/>
        </p:nvPicPr>
        <p:blipFill>
          <a:blip r:embed="rId3"/>
          <a:stretch/>
        </p:blipFill>
        <p:spPr>
          <a:xfrm>
            <a:off x="5181480" y="4419720"/>
            <a:ext cx="2057400" cy="237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7" descr=""/>
          <p:cNvPicPr/>
          <p:nvPr/>
        </p:nvPicPr>
        <p:blipFill>
          <a:blip r:embed="rId4"/>
          <a:stretch/>
        </p:blipFill>
        <p:spPr>
          <a:xfrm>
            <a:off x="6553080" y="3657600"/>
            <a:ext cx="609840" cy="309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8" descr=""/>
          <p:cNvPicPr/>
          <p:nvPr/>
        </p:nvPicPr>
        <p:blipFill>
          <a:blip r:embed="rId5"/>
          <a:stretch/>
        </p:blipFill>
        <p:spPr>
          <a:xfrm>
            <a:off x="3352680" y="3657600"/>
            <a:ext cx="771480" cy="390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0" descr=""/>
          <p:cNvPicPr/>
          <p:nvPr/>
        </p:nvPicPr>
        <p:blipFill>
          <a:blip r:embed="rId6"/>
          <a:stretch/>
        </p:blipFill>
        <p:spPr>
          <a:xfrm>
            <a:off x="5257800" y="3733920"/>
            <a:ext cx="1219320" cy="264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1" descr=""/>
          <p:cNvPicPr/>
          <p:nvPr/>
        </p:nvPicPr>
        <p:blipFill>
          <a:blip r:embed="rId7"/>
          <a:stretch/>
        </p:blipFill>
        <p:spPr>
          <a:xfrm>
            <a:off x="2286000" y="3809880"/>
            <a:ext cx="1104840" cy="238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2" descr=""/>
          <p:cNvPicPr/>
          <p:nvPr/>
        </p:nvPicPr>
        <p:blipFill>
          <a:blip r:embed="rId8"/>
          <a:stretch/>
        </p:blipFill>
        <p:spPr>
          <a:xfrm>
            <a:off x="4038480" y="1905120"/>
            <a:ext cx="1333800" cy="314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78487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лывёт, плывёт корабли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запад, на восто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наты –паутин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парус – лепесто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14" descr="Korablik"/>
          <p:cNvPicPr/>
          <p:nvPr/>
        </p:nvPicPr>
        <p:blipFill>
          <a:blip r:embed="rId1"/>
          <a:stretch/>
        </p:blipFill>
        <p:spPr>
          <a:xfrm>
            <a:off x="5867280" y="3879720"/>
            <a:ext cx="30481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1.85014E-006 C -0.00346 -0.00694 -0.00954 -0.01573 -0.01527 -0.0185 C -0.02412 -0.02706 -0.03402 -0.03862 -0.04461 -0.04325 C -0.06596 -0.04117 -0.0651 -0.04394 -0.08003 -0.03076 C -0.08541 -0.0259 -0.0927 -0.02567 -0.09843 -0.02059 C -0.10537 -0.00717 -0.1177 -0.01157 -0.1276 -0.00417 C -0.14305 0.0074 -0.13107 0.00138 -0.14149 0.00601 C -0.17135 0.00439 -0.17308 0.01318 -0.18767 -0.00625 C -0.1894 -0.01781 -0.19114 -0.02729 -0.19999 -0.03076 C -0.2184 -0.04764 -0.24687 -0.03516 -0.2677 -0.02891 C -0.271 -0.02429 -0.27326 -0.02197 -0.27534 -0.01642 C -0.27603 -0.01457 -0.27586 -0.0118 -0.2769 -0.01041 C -0.27951 -0.00694 -0.2861 -0.00208 -0.2861 -0.00208 C -0.30121 -0.00463 -0.30971 -0.0111 -0.32308 -0.01642 C -0.33055 -0.02336 -0.33228 -0.03701 -0.34149 -0.04117 C -0.3486 -0.05042 -0.34461 -0.04603 -0.35537 -0.05551 C -0.35694 -0.05689 -0.35989 -0.05944 -0.35989 -0.05944 C -0.36874 -0.05874 -0.37916 -0.06291 -0.3861 -0.05551 C -0.38958 -0.05181 -0.38906 -0.04811 -0.39079 -0.04325 C -0.39548 -0.03053 -0.39999 -0.01642 -0.40919 -0.00833 C -0.41284 -0.00116 -0.41527 0.00115 -0.42152 0.00393 C -0.43593 0.00323 -0.45017 0.003 -0.46458 0.00185 C -0.46978 0.00138 -0.47846 -0.00833 -0.47846 -0.00833 C -0.48419 -0.02059 -0.49131 -0.02706 -0.49999 -0.03492 C -0.50034 -0.03539 -0.50885 -0.04302 -0.50919 -0.04325 C -0.5177 -0.04672 -0.52638 -0.0488 -0.53385 -0.05551 C -0.53749 -0.05481 -0.54114 -0.05458 -0.54461 -0.05343 C -0.5493 -0.05181 -0.5585 -0.04718 -0.5585 -0.04718 C -0.56058 -0.04302 -0.56336 -0.03955 -0.56458 -0.03492 C -0.5651 -0.03284 -0.56544 -0.03076 -0.56614 -0.02891 C -0.56787 -0.02452 -0.57013 -0.02059 -0.57221 -0.01642 C -0.57326 -0.01434 -0.57534 -0.01041 -0.57534 -0.01041 C -0.57846 0.00231 -0.58524 0.0178 -0.59531 0.02243 C -0.59947 0.02174 -0.60381 0.02243 -0.60763 0.02035 C -0.6118 0.01827 -0.6184 0.01017 -0.6184 0.01017 C -0.62638 -0.00578 -0.65069 -0.00417 -0.66301 -0.00417 E">
                                      <p:cBhvr>
                                        <p:cTn id="55" dur="5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neznaika"/>
          <p:cNvPicPr/>
          <p:nvPr/>
        </p:nvPicPr>
        <p:blipFill>
          <a:blip r:embed="rId1"/>
          <a:stretch/>
        </p:blipFill>
        <p:spPr>
          <a:xfrm>
            <a:off x="1768320" y="0"/>
            <a:ext cx="56088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6"/>
          <p:cNvSpPr/>
          <p:nvPr/>
        </p:nvSpPr>
        <p:spPr>
          <a:xfrm>
            <a:off x="82296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10800" y="3847"/>
                </a:moveTo>
                <a:lnTo>
                  <a:pt x="13376" y="6458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lnTo>
                  <a:pt x="17763" y="10810"/>
                </a:lnTo>
                <a:lnTo>
                  <a:pt x="16109" y="10810"/>
                </a:lnTo>
                <a:lnTo>
                  <a:pt x="16109" y="17999"/>
                </a:lnTo>
                <a:lnTo>
                  <a:pt x="5491" y="17999"/>
                </a:lnTo>
                <a:lnTo>
                  <a:pt x="5491" y="10810"/>
                </a:lnTo>
                <a:lnTo>
                  <a:pt x="3837" y="10810"/>
                </a:lnTo>
                <a:close/>
              </a:path>
              <a:path fill="darkenLess" w="21600" h="21620">
                <a:moveTo>
                  <a:pt x="13376" y="6458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4"/>
                </a:lnTo>
                <a:close/>
              </a:path>
              <a:path fill="darkenLess" w="21600" h="21620">
                <a:moveTo>
                  <a:pt x="9877" y="14309"/>
                </a:moveTo>
                <a:lnTo>
                  <a:pt x="11723" y="14309"/>
                </a:lnTo>
                <a:lnTo>
                  <a:pt x="11723" y="17999"/>
                </a:lnTo>
                <a:lnTo>
                  <a:pt x="16109" y="17999"/>
                </a:lnTo>
                <a:lnTo>
                  <a:pt x="16109" y="10810"/>
                </a:lnTo>
                <a:lnTo>
                  <a:pt x="5491" y="10810"/>
                </a:lnTo>
                <a:lnTo>
                  <a:pt x="5491" y="17999"/>
                </a:lnTo>
                <a:lnTo>
                  <a:pt x="9877" y="1799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dff"/>
                </a:solidFill>
                <a:latin typeface="Comic Sans MS"/>
              </a:rPr>
              <a:t>Назовите существительные, которые называют животных и предметы ласково, неж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5867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резонька скрип, скрип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я доченька спит, спит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я доченька уснёт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ё сон унесёт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несёт её в садок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д малиновый кусток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малинка упадёт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чке в ротик попадё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линочка сладенька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пи, доченька малень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рёзонька скрип, скрип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доченька спит, спит…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7418520" y="0"/>
          <a:ext cx="153324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8520" y="0"/>
                    <a:ext cx="153324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poljakowa_l-kolybelxnaja_dochke-.mp3" descr=""/>
          <p:cNvPicPr/>
          <p:nvPr/>
        </p:nvPicPr>
        <p:blipFill>
          <a:blip r:embed="rId3"/>
          <a:stretch/>
        </p:blipFill>
        <p:spPr>
          <a:xfrm>
            <a:off x="80010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61810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1-23T09:53:56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