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D9-32BF-4CD7-9527-0259D3EF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464-D36F-4215-B23D-65F6291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379-3663-484C-A5DE-DBB9859A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17C-36FB-4655-907A-350C5E08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884-3D71-4C02-975B-5A42303F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43F-3E49-45A2-8E3B-14355C3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50C-0848-4EC7-9C8E-4FBEE856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0E1-8991-4454-ADDD-FF57B83D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9AD-F6CA-4C11-8BDF-24ED9373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18C-5047-4118-9E72-4174B7F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8EE-82F3-48C0-AD14-ACF58C2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860A-BE9F-4101-BD96-77718BEB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C7D-F0BE-41ED-8900-D4132F7E49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../&#1052;&#1040;&#1057;&#1058;&#1045;&#1056;%20&#1050;&#1051;&#1040;&#1057;&#1057;%20&#1042;&#1086;&#1083;&#1082;&#1086;&#1074;&#1086;&#1081;%20&#1042;.&#1055;.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042920" y="2924280"/>
            <a:ext cx="2952720" cy="2498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8000" y="54936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MCDD01541_0000[1]"/>
          <p:cNvPicPr/>
          <p:nvPr/>
        </p:nvPicPr>
        <p:blipFill>
          <a:blip r:embed="rId1"/>
          <a:stretch/>
        </p:blipFill>
        <p:spPr>
          <a:xfrm>
            <a:off x="3348000" y="2060640"/>
            <a:ext cx="1224000" cy="182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DD01631_0000[1]"/>
          <p:cNvPicPr/>
          <p:nvPr/>
        </p:nvPicPr>
        <p:blipFill>
          <a:blip r:embed="rId2"/>
          <a:stretch/>
        </p:blipFill>
        <p:spPr>
          <a:xfrm>
            <a:off x="4859280" y="4287960"/>
            <a:ext cx="1944720" cy="13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DD01409_0000[1]"/>
          <p:cNvPicPr/>
          <p:nvPr/>
        </p:nvPicPr>
        <p:blipFill>
          <a:blip r:embed="rId3"/>
          <a:stretch/>
        </p:blipFill>
        <p:spPr>
          <a:xfrm>
            <a:off x="1042920" y="4286160"/>
            <a:ext cx="16574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CDD01562_0000[1]"/>
          <p:cNvPicPr/>
          <p:nvPr/>
        </p:nvPicPr>
        <p:blipFill>
          <a:blip r:embed="rId4"/>
          <a:stretch/>
        </p:blipFill>
        <p:spPr>
          <a:xfrm>
            <a:off x="6804000" y="2060640"/>
            <a:ext cx="1451160" cy="186840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 rot="20455800">
            <a:off x="900000" y="2997000"/>
            <a:ext cx="7523280" cy="21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ьте здоровы!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11" descr="MCj02351790000[1]"/>
          <p:cNvPicPr/>
          <p:nvPr/>
        </p:nvPicPr>
        <p:blipFill>
          <a:blip r:embed="rId5"/>
          <a:stretch/>
        </p:blipFill>
        <p:spPr>
          <a:xfrm>
            <a:off x="755640" y="1844640"/>
            <a:ext cx="1825560" cy="232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MCj04299610000[1]"/>
          <p:cNvPicPr/>
          <p:nvPr/>
        </p:nvPicPr>
        <p:blipFill>
          <a:blip r:embed="rId6"/>
          <a:stretch/>
        </p:blipFill>
        <p:spPr>
          <a:xfrm>
            <a:off x="6372360" y="4213080"/>
            <a:ext cx="2376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Сложи кузнеч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53880" y="1420920"/>
            <a:ext cx="8259840" cy="43704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>
            <a:hlinkClick r:id="rId2"/>
          </p:cNvPr>
          <p:cNvSpPr/>
          <p:nvPr/>
        </p:nvSpPr>
        <p:spPr>
          <a:xfrm>
            <a:off x="8101080" y="5734080"/>
            <a:ext cx="611280" cy="68256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82560"/>
              <a:gd name="textAreaBottom" fmla="*/ 642960 h 682560"/>
            </a:gdLst>
            <a:ahLst/>
            <a:rect l="textAreaLeft" t="textAreaTop" r="textAreaRight" b="textAreaBottom"/>
            <a:pathLst>
              <a:path w="21600" h="24117">
                <a:moveTo>
                  <a:pt x="0" y="0"/>
                </a:moveTo>
                <a:lnTo>
                  <a:pt x="21600" y="0"/>
                </a:lnTo>
                <a:lnTo>
                  <a:pt x="21600" y="24117"/>
                </a:lnTo>
                <a:lnTo>
                  <a:pt x="0" y="24117"/>
                </a:lnTo>
                <a:close/>
              </a:path>
              <a:path fill="lightenLess" w="21600" h="241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7">
                <a:moveTo>
                  <a:pt x="21600" y="0"/>
                </a:moveTo>
                <a:lnTo>
                  <a:pt x="21600" y="24117"/>
                </a:lnTo>
                <a:lnTo>
                  <a:pt x="20200" y="22717"/>
                </a:lnTo>
                <a:lnTo>
                  <a:pt x="20200" y="1400"/>
                </a:lnTo>
                <a:close/>
              </a:path>
              <a:path fill="darkenLess" w="21600" h="24117">
                <a:moveTo>
                  <a:pt x="21600" y="24117"/>
                </a:moveTo>
                <a:lnTo>
                  <a:pt x="0" y="24117"/>
                </a:lnTo>
                <a:lnTo>
                  <a:pt x="1400" y="22717"/>
                </a:lnTo>
                <a:lnTo>
                  <a:pt x="20200" y="22717"/>
                </a:lnTo>
                <a:close/>
              </a:path>
              <a:path fill="lighten" w="21600" h="24117">
                <a:moveTo>
                  <a:pt x="0" y="241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7"/>
                </a:lnTo>
                <a:close/>
              </a:path>
              <a:path fill="darken" w="21600" h="24117">
                <a:moveTo>
                  <a:pt x="3794" y="12059"/>
                </a:moveTo>
                <a:lnTo>
                  <a:pt x="17806" y="5052"/>
                </a:lnTo>
                <a:lnTo>
                  <a:pt x="17806" y="1906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20:25:53Z</dcterms:created>
  <dc:creator>Настасья</dc:creator>
  <dc:description/>
  <dc:language>en-US</dc:language>
  <cp:lastModifiedBy>User</cp:lastModifiedBy>
  <dcterms:modified xsi:type="dcterms:W3CDTF">2011-03-17T15:42:41Z</dcterms:modified>
  <cp:revision>19</cp:revision>
  <dc:subject/>
  <dc:title>Путешествие в увлекательный мир математики</dc:title>
</cp:coreProperties>
</file>