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chimes.wav" ContentType="audio/x-wav"/>
  <Override PartName="/ppt/media/image8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2935-37AC-4F44-8F0A-E803EE8D4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DB30-E472-4785-9ADD-B94B97B7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CFB0-B4D0-4233-AF8F-CAAB13095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865E-C794-43C8-98CF-5C9491AFF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4264-2FCA-4DAB-BECD-0457023E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634B-EF2B-4D45-96BE-255684EA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1E1D-1FED-4B0A-87E5-5684055E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625A-FDE2-46AB-A3BE-3F384528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EE7D-653C-4C02-B973-CBAF3B88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C232-F865-4F10-A594-610F11C3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EDBE-6DFE-4546-BF78-81F1DEFD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912A-F099-4367-83A8-AA31E621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6D1D-7194-4D4D-BA19-8D811B5289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hyperlink" Target="file:///../../&#1052;&#1040;&#1057;&#1058;&#1045;&#1056;%20&#1050;&#1051;&#1040;&#1057;&#1057;%20&#1042;&#1086;&#1083;&#1082;&#1086;&#1074;&#1086;&#1081;%20&#1042;.&#1055;..ppt" TargetMode="External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924280"/>
            <a:ext cx="2952720" cy="24987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08000" y="549360"/>
            <a:ext cx="6551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Физкультминут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348000" y="2060640"/>
            <a:ext cx="1224000" cy="1824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859280" y="4287960"/>
            <a:ext cx="1944720" cy="1347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042920" y="4286160"/>
            <a:ext cx="1657440" cy="1428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804000" y="2060640"/>
            <a:ext cx="1451160" cy="1868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 rot="20455800">
            <a:off x="900000" y="2997000"/>
            <a:ext cx="7523280" cy="21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удьте здоровы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755640" y="1844640"/>
            <a:ext cx="1825560" cy="2325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6372360" y="4213080"/>
            <a:ext cx="237636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500"/>
                            </p:stCondLst>
                            <p:childTnLst>
                              <p:par>
                                <p:cTn id="5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500"/>
                            </p:stCondLst>
                            <p:childTnLst>
                              <p:par>
                                <p:cTn id="66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8" dur="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9" dur="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0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2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500"/>
                            </p:stCondLst>
                            <p:childTnLst>
                              <p:par>
                                <p:cTn id="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71548E-006 C 0.01806 -0.10797 0.03611 -0.21571 0.06927 -0.22961 C 0.10243 -0.24352 0.14827 -0.0709 0.19861 -0.08365 C 0.24896 -0.09639 0.32709 -0.29148 0.37188 -0.30607 C 0.41667 -0.32067 0.45174 -0.19254 0.46788 -0.171 E">
                                      <p:cBhvr>
                                        <p:cTn id="80" dur="5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7000"/>
                            </p:stCondLst>
                            <p:childTnLst>
                              <p:par>
                                <p:cTn id="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500"/>
                            </p:stCondLst>
                            <p:childTnLst>
                              <p:par>
                                <p:cTn id="8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8000"/>
                            </p:stCondLst>
                            <p:childTnLst>
                              <p:par>
                                <p:cTn id="8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5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47640" y="260280"/>
            <a:ext cx="6253200" cy="6129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268360" y="0"/>
            <a:ext cx="5295960" cy="6264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619280" y="260280"/>
            <a:ext cx="5641920" cy="6048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1332000" y="260280"/>
            <a:ext cx="6840360" cy="6184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324000" y="765000"/>
            <a:ext cx="8640720" cy="4761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250920" y="620640"/>
            <a:ext cx="8642160" cy="50259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1116000" y="549360"/>
            <a:ext cx="6769080" cy="599580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rId8"/>
          </p:cNvPr>
          <p:cNvSpPr/>
          <p:nvPr/>
        </p:nvSpPr>
        <p:spPr>
          <a:xfrm>
            <a:off x="8244000" y="5734080"/>
            <a:ext cx="610920" cy="682560"/>
          </a:xfrm>
          <a:custGeom>
            <a:avLst/>
            <a:gdLst>
              <a:gd name="textAreaLeft" fmla="*/ 39600 w 610920"/>
              <a:gd name="textAreaRight" fmla="*/ 571320 w 610920"/>
              <a:gd name="textAreaTop" fmla="*/ 39600 h 682560"/>
              <a:gd name="textAreaBottom" fmla="*/ 642960 h 682560"/>
            </a:gdLst>
            <a:ahLst/>
            <a:rect l="textAreaLeft" t="textAreaTop" r="textAreaRight" b="textAreaBottom"/>
            <a:pathLst>
              <a:path w="21600" h="24131">
                <a:moveTo>
                  <a:pt x="0" y="0"/>
                </a:moveTo>
                <a:lnTo>
                  <a:pt x="21600" y="0"/>
                </a:lnTo>
                <a:lnTo>
                  <a:pt x="21600" y="24131"/>
                </a:lnTo>
                <a:lnTo>
                  <a:pt x="0" y="24131"/>
                </a:lnTo>
                <a:close/>
              </a:path>
              <a:path fill="lightenLess" w="21600" h="241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31">
                <a:moveTo>
                  <a:pt x="21600" y="0"/>
                </a:moveTo>
                <a:lnTo>
                  <a:pt x="21600" y="24131"/>
                </a:lnTo>
                <a:lnTo>
                  <a:pt x="20200" y="22731"/>
                </a:lnTo>
                <a:lnTo>
                  <a:pt x="20200" y="1400"/>
                </a:lnTo>
                <a:close/>
              </a:path>
              <a:path fill="darkenLess" w="21600" h="24131">
                <a:moveTo>
                  <a:pt x="21600" y="24131"/>
                </a:moveTo>
                <a:lnTo>
                  <a:pt x="0" y="24131"/>
                </a:lnTo>
                <a:lnTo>
                  <a:pt x="1400" y="22731"/>
                </a:lnTo>
                <a:lnTo>
                  <a:pt x="20200" y="22731"/>
                </a:lnTo>
                <a:close/>
              </a:path>
              <a:path fill="lighten" w="21600" h="24131">
                <a:moveTo>
                  <a:pt x="0" y="241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31"/>
                </a:lnTo>
                <a:close/>
              </a:path>
              <a:path fill="darken" w="21600" h="24131">
                <a:moveTo>
                  <a:pt x="3794" y="12066"/>
                </a:moveTo>
                <a:lnTo>
                  <a:pt x="17806" y="5059"/>
                </a:lnTo>
                <a:lnTo>
                  <a:pt x="17806" y="1907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6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7T20:25:53Z</dcterms:created>
  <dc:creator>Настасья</dc:creator>
  <dc:description/>
  <dc:language>en-US</dc:language>
  <cp:lastModifiedBy>User</cp:lastModifiedBy>
  <dcterms:modified xsi:type="dcterms:W3CDTF">2011-03-17T15:41:52Z</dcterms:modified>
  <cp:revision>17</cp:revision>
  <dc:subject/>
  <dc:title>Путешествие в увлекательный мир математики</dc:title>
</cp:coreProperties>
</file>