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8.jpeg" ContentType="image/jpeg"/>
  <Override PartName="/ppt/media/image27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6.gif" ContentType="image/gif"/>
  <Override PartName="/ppt/media/image26.png" ContentType="image/png"/>
  <Override PartName="/ppt/media/image3.gif" ContentType="image/gif"/>
  <Override PartName="/ppt/media/image11.gif" ContentType="image/gif"/>
  <Override PartName="/ppt/media/image8.gif" ContentType="image/gif"/>
  <Override PartName="/ppt/media/image18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7.jpeg" ContentType="image/jpeg"/>
  <Override PartName="/ppt/media/image10.gif" ContentType="image/gif"/>
  <Override PartName="/ppt/media/image39.jpeg" ContentType="image/jpeg"/>
  <Override PartName="/ppt/media/image38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media/image33.jpeg" ContentType="image/jpeg"/>
  <Override PartName="/ppt/media/image4.gif" ContentType="image/gif"/>
  <Override PartName="/ppt/media/image1.jpeg" ContentType="image/jpeg"/>
  <Override PartName="/ppt/media/image35.jpeg" ContentType="image/jpeg"/>
  <Override PartName="/ppt/media/image20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B62A-3FDF-4CE4-9F4D-A87DBD26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B483-E62D-40FD-94C8-78944587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FE8-1C9B-4FD8-A546-A2BF1671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4B6D-CF63-4788-B2E7-D666E486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D9F1-AEEA-4FB8-A5DD-89218668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482-3CF8-488D-AA25-B3AFE286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2F59-B73E-48E0-AFF9-57F70144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5ADF-AD4E-4CE6-A0FE-CEE6A7B4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4B5-3F5A-445F-BA57-76CDA57D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812-EC60-4183-8779-069A6E23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F88C-187E-4DD2-BD71-7D47CA19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F97E-8F44-4324-B07C-D9939B78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430F-4277-4192-91FC-CFAC0F4842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7.gif"/><Relationship Id="rId21" Type="http://schemas.openxmlformats.org/officeDocument/2006/relationships/image" Target="../media/image7.gif"/><Relationship Id="rId22" Type="http://schemas.openxmlformats.org/officeDocument/2006/relationships/image" Target="../media/image7.gif"/><Relationship Id="rId23" Type="http://schemas.openxmlformats.org/officeDocument/2006/relationships/image" Target="../media/image7.gif"/><Relationship Id="rId24" Type="http://schemas.openxmlformats.org/officeDocument/2006/relationships/image" Target="../media/image7.gif"/><Relationship Id="rId25" Type="http://schemas.openxmlformats.org/officeDocument/2006/relationships/image" Target="../media/image7.gif"/><Relationship Id="rId26" Type="http://schemas.openxmlformats.org/officeDocument/2006/relationships/image" Target="../media/image6.gif"/><Relationship Id="rId27" Type="http://schemas.openxmlformats.org/officeDocument/2006/relationships/image" Target="../media/image8.gif"/><Relationship Id="rId28" Type="http://schemas.openxmlformats.org/officeDocument/2006/relationships/image" Target="../media/image9.gif"/><Relationship Id="rId29" Type="http://schemas.openxmlformats.org/officeDocument/2006/relationships/image" Target="../media/image10.gif"/><Relationship Id="rId30" Type="http://schemas.openxmlformats.org/officeDocument/2006/relationships/image" Target="../media/image11.gif"/><Relationship Id="rId31" Type="http://schemas.openxmlformats.org/officeDocument/2006/relationships/image" Target="../media/image5.gif"/><Relationship Id="rId32" Type="http://schemas.openxmlformats.org/officeDocument/2006/relationships/image" Target="../media/image12.png"/><Relationship Id="rId3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Documents and Settings\Владимир\Рабочий стол\Новая папка (6)\обезъяна3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8" name="Picture 2" descr="C:\Documents and Settings\Владимир\Рабочий стол\Новая папка (6)\обезъяна3\Слайд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1" name="Picture 2" descr="C:\Documents and Settings\Владимир\Рабочий стол\Новая папка (6)\обезъяна3\Слайд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4" name="Picture 2" descr="C:\Documents and Settings\Владимир\Рабочий стол\Новая папка (6)\обезъяна3\Слайд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71480" y="2000160"/>
            <a:ext cx="352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Calibri"/>
              </a:rPr>
              <a:t>В лесу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786040" cy="2000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6072120" y="0"/>
            <a:ext cx="3071880" cy="2230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4"/>
          <a:stretch/>
        </p:blipFill>
        <p:spPr>
          <a:xfrm>
            <a:off x="2000160" y="3949560"/>
            <a:ext cx="2071800" cy="2908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5"/>
          <a:stretch/>
        </p:blipFill>
        <p:spPr>
          <a:xfrm>
            <a:off x="0" y="4000680"/>
            <a:ext cx="2019240" cy="2857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6"/>
          <a:stretch/>
        </p:blipFill>
        <p:spPr>
          <a:xfrm>
            <a:off x="5286240" y="3643200"/>
            <a:ext cx="3751560" cy="3214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7"/>
          <a:stretch/>
        </p:blipFill>
        <p:spPr>
          <a:xfrm>
            <a:off x="4071960" y="5153040"/>
            <a:ext cx="1214280" cy="1704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8"/>
          <a:stretch/>
        </p:blipFill>
        <p:spPr>
          <a:xfrm>
            <a:off x="4071960" y="4286160"/>
            <a:ext cx="1214280" cy="919080"/>
          </a:xfrm>
          <a:prstGeom prst="rect">
            <a:avLst/>
          </a:prstGeom>
          <a:ln w="0">
            <a:noFill/>
          </a:ln>
        </p:spPr>
      </p:pic>
      <p:pic>
        <p:nvPicPr>
          <p:cNvPr id="114" name="клёст сосновник.mp3" descr=""/>
          <p:cNvPicPr/>
          <p:nvPr/>
        </p:nvPicPr>
        <p:blipFill>
          <a:blip r:embed="rId9"/>
          <a:stretch/>
        </p:blipFill>
        <p:spPr>
          <a:xfrm>
            <a:off x="1785960" y="2786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3782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7" name="Picture 2" descr="C:\Documents and Settings\Владимир\Рабочий стол\Новая папка (6)\обезъяна3\Слайд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2" descr="C:\Documents and Settings\Владимир\Рабочий стол\Новая папка (6)\обезъяна3\Слайд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3" name="Picture 2" descr="C:\Documents and Settings\Владимир\Рабочий стол\Новая папка (6)\обезъяна3\Слайд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6" name="Picture 2" descr="C:\Documents and Settings\Владимир\Рабочий стол\Новая папка (6)\обезъяна3\Слайд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9" name="Picture 2" descr="C:\Documents and Settings\Владимир\Рабочий стол\Новая папка (6)\обезъяна3\Слайд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2" name="Picture 2" descr="C:\Documents and Settings\Владимир\Рабочий стол\Новая папка (6)\обезъяна3\Слайд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2" descr="C:\Documents and Settings\Владимир\Рабочий стол\Новая папка (6)\обезъяна3\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5" name="Picture 2" descr="C:\Documents and Settings\Владимир\Рабочий стол\Новая папка (6)\обезъяна3\Слайд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8" name="Picture 2" descr="C:\Documents and Settings\Владимир\Рабочий стол\Новая папка (6)\обезъяна3\Слайд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1" name="Picture 2" descr="C:\Documents and Settings\Владимир\Рабочий стол\Новая папка (6)\обезъяна3\Слайд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4" name="Picture 2" descr="C:\Documents and Settings\Владимир\Рабочий стол\Новая папка (6)\обезъяна3\Слайд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7" name="Picture 2" descr="C:\Documents and Settings\Владимир\Рабочий стол\Новая папка (6)\обезъяна3\Слайд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0" name="Picture 2" descr="C:\Documents and Settings\Владимир\Рабочий стол\Новая папка (6)\обезъяна3\Слайд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2" descr="C:\Documents and Settings\Владимир\Рабочий стол\Новая папка (6)\обезъяна3\Слайд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6" name="Picture 2" descr="C:\Documents and Settings\Владимир\Рабочий стол\Новая папка (6)\обезъяна3\Слайд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C:\Documents and Settings\Владимир\Рабочий стол\18703850005bcb92e36d22c347a089d963e2e8d70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785880" y="321480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В мире животных</a:t>
            </a:r>
            <a:r>
              <a:rPr b="1" lang="en-US" sz="5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и пти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Владимир\Рабочий стол\ptici12.gif"/>
          <p:cNvPicPr/>
          <p:nvPr/>
        </p:nvPicPr>
        <p:blipFill>
          <a:blip r:embed="rId1"/>
          <a:stretch/>
        </p:blipFill>
        <p:spPr>
          <a:xfrm>
            <a:off x="2643120" y="2214720"/>
            <a:ext cx="333360" cy="133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Владимир\Рабочий стол\ptici12.gif"/>
          <p:cNvPicPr/>
          <p:nvPr/>
        </p:nvPicPr>
        <p:blipFill>
          <a:blip r:embed="rId2"/>
          <a:stretch/>
        </p:blipFill>
        <p:spPr>
          <a:xfrm>
            <a:off x="3429000" y="2000160"/>
            <a:ext cx="333360" cy="133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Владимир\Рабочий стол\ptici12.gif"/>
          <p:cNvPicPr/>
          <p:nvPr/>
        </p:nvPicPr>
        <p:blipFill>
          <a:blip r:embed="rId3"/>
          <a:stretch/>
        </p:blipFill>
        <p:spPr>
          <a:xfrm>
            <a:off x="4143240" y="1714680"/>
            <a:ext cx="333360" cy="1333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Documents and Settings\Владимир\Рабочий стол\ptici12.gif"/>
          <p:cNvPicPr/>
          <p:nvPr/>
        </p:nvPicPr>
        <p:blipFill>
          <a:blip r:embed="rId4"/>
          <a:stretch/>
        </p:blipFill>
        <p:spPr>
          <a:xfrm>
            <a:off x="4857840" y="1357200"/>
            <a:ext cx="333360" cy="133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Documents and Settings\Владимир\Рабочий стол\ptici12.gif"/>
          <p:cNvPicPr/>
          <p:nvPr/>
        </p:nvPicPr>
        <p:blipFill>
          <a:blip r:embed="rId5"/>
          <a:stretch/>
        </p:blipFill>
        <p:spPr>
          <a:xfrm>
            <a:off x="5500800" y="1285920"/>
            <a:ext cx="333360" cy="133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:\Documents and Settings\Владимир\Рабочий стол\ptici12.gif"/>
          <p:cNvPicPr/>
          <p:nvPr/>
        </p:nvPicPr>
        <p:blipFill>
          <a:blip r:embed="rId6"/>
          <a:stretch/>
        </p:blipFill>
        <p:spPr>
          <a:xfrm>
            <a:off x="3643200" y="3714840"/>
            <a:ext cx="333360" cy="1333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:\Documents and Settings\Владимир\Рабочий стол\ptici12.gif"/>
          <p:cNvPicPr/>
          <p:nvPr/>
        </p:nvPicPr>
        <p:blipFill>
          <a:blip r:embed="rId7"/>
          <a:stretch/>
        </p:blipFill>
        <p:spPr>
          <a:xfrm>
            <a:off x="3000240" y="4214880"/>
            <a:ext cx="333360" cy="1333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C:\Documents and Settings\Владимир\Рабочий стол\ptici12.gif"/>
          <p:cNvPicPr/>
          <p:nvPr/>
        </p:nvPicPr>
        <p:blipFill>
          <a:blip r:embed="rId8"/>
          <a:stretch/>
        </p:blipFill>
        <p:spPr>
          <a:xfrm>
            <a:off x="5072040" y="2214720"/>
            <a:ext cx="333360" cy="133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:\Documents and Settings\Владимир\Рабочий стол\ptici12.gif"/>
          <p:cNvPicPr/>
          <p:nvPr/>
        </p:nvPicPr>
        <p:blipFill>
          <a:blip r:embed="rId9"/>
          <a:stretch/>
        </p:blipFill>
        <p:spPr>
          <a:xfrm>
            <a:off x="1857240" y="2643120"/>
            <a:ext cx="333360" cy="133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C:\Documents and Settings\Владимир\Рабочий стол\ptici13.gif"/>
          <p:cNvPicPr/>
          <p:nvPr/>
        </p:nvPicPr>
        <p:blipFill>
          <a:blip r:embed="rId10"/>
          <a:stretch/>
        </p:blipFill>
        <p:spPr>
          <a:xfrm>
            <a:off x="3714840" y="450072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C:\Documents and Settings\Владимир\Рабочий стол\ptici13.gif"/>
          <p:cNvPicPr/>
          <p:nvPr/>
        </p:nvPicPr>
        <p:blipFill>
          <a:blip r:embed="rId11"/>
          <a:stretch/>
        </p:blipFill>
        <p:spPr>
          <a:xfrm>
            <a:off x="4071960" y="314316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C:\Documents and Settings\Владимир\Рабочий стол\ptici13.gif"/>
          <p:cNvPicPr/>
          <p:nvPr/>
        </p:nvPicPr>
        <p:blipFill>
          <a:blip r:embed="rId12"/>
          <a:stretch/>
        </p:blipFill>
        <p:spPr>
          <a:xfrm>
            <a:off x="5286240" y="35712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C:\Documents and Settings\Владимир\Рабочий стол\ptici13.gif"/>
          <p:cNvPicPr/>
          <p:nvPr/>
        </p:nvPicPr>
        <p:blipFill>
          <a:blip r:embed="rId13"/>
          <a:stretch/>
        </p:blipFill>
        <p:spPr>
          <a:xfrm>
            <a:off x="1857240" y="421488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C:\Documents and Settings\Владимир\Рабочий стол\ptici13.gif"/>
          <p:cNvPicPr/>
          <p:nvPr/>
        </p:nvPicPr>
        <p:blipFill>
          <a:blip r:embed="rId14"/>
          <a:stretch/>
        </p:blipFill>
        <p:spPr>
          <a:xfrm>
            <a:off x="6072120" y="307188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C:\Documents and Settings\Владимир\Рабочий стол\ptici12.gif"/>
          <p:cNvPicPr/>
          <p:nvPr/>
        </p:nvPicPr>
        <p:blipFill>
          <a:blip r:embed="rId15"/>
          <a:stretch/>
        </p:blipFill>
        <p:spPr>
          <a:xfrm>
            <a:off x="1285920" y="3000240"/>
            <a:ext cx="333360" cy="1333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C:\Documents and Settings\Владимир\Рабочий стол\ptici12.gif"/>
          <p:cNvPicPr/>
          <p:nvPr/>
        </p:nvPicPr>
        <p:blipFill>
          <a:blip r:embed="rId16"/>
          <a:stretch/>
        </p:blipFill>
        <p:spPr>
          <a:xfrm>
            <a:off x="6143760" y="1000080"/>
            <a:ext cx="333360" cy="1333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C:\Documents and Settings\Владимир\Рабочий стол\animal71.gif"/>
          <p:cNvPicPr/>
          <p:nvPr/>
        </p:nvPicPr>
        <p:blipFill>
          <a:blip r:embed="rId17"/>
          <a:stretch/>
        </p:blipFill>
        <p:spPr>
          <a:xfrm>
            <a:off x="6643800" y="2428920"/>
            <a:ext cx="923760" cy="1319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C:\Documents and Settings\Владимир\Рабочий стол\animal71.gif"/>
          <p:cNvPicPr/>
          <p:nvPr/>
        </p:nvPicPr>
        <p:blipFill>
          <a:blip r:embed="rId18"/>
          <a:stretch/>
        </p:blipFill>
        <p:spPr>
          <a:xfrm>
            <a:off x="1357200" y="571680"/>
            <a:ext cx="10000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C:\Documents and Settings\Владимир\Рабочий стол\animal71.gif"/>
          <p:cNvPicPr/>
          <p:nvPr/>
        </p:nvPicPr>
        <p:blipFill>
          <a:blip r:embed="rId19"/>
          <a:stretch/>
        </p:blipFill>
        <p:spPr>
          <a:xfrm>
            <a:off x="2857680" y="4827600"/>
            <a:ext cx="1071360" cy="153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1" descr="C:\Documents and Settings\Владимир\Рабочий стол\animal73.gif"/>
          <p:cNvPicPr/>
          <p:nvPr/>
        </p:nvPicPr>
        <p:blipFill>
          <a:blip r:embed="rId20"/>
          <a:stretch/>
        </p:blipFill>
        <p:spPr>
          <a:xfrm>
            <a:off x="4071960" y="3571920"/>
            <a:ext cx="746280" cy="1004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2" descr="C:\Documents and Settings\Владимир\Рабочий стол\animal73.gif"/>
          <p:cNvPicPr/>
          <p:nvPr/>
        </p:nvPicPr>
        <p:blipFill>
          <a:blip r:embed="rId21"/>
          <a:stretch/>
        </p:blipFill>
        <p:spPr>
          <a:xfrm>
            <a:off x="5357880" y="1643040"/>
            <a:ext cx="709560" cy="955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" descr="C:\Documents and Settings\Владимир\Рабочий стол\animal73.gif"/>
          <p:cNvPicPr/>
          <p:nvPr/>
        </p:nvPicPr>
        <p:blipFill>
          <a:blip r:embed="rId22"/>
          <a:stretch/>
        </p:blipFill>
        <p:spPr>
          <a:xfrm>
            <a:off x="4659480" y="500040"/>
            <a:ext cx="765000" cy="1028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4" descr="C:\Documents and Settings\Владимир\Рабочий стол\animal73.gif"/>
          <p:cNvPicPr/>
          <p:nvPr/>
        </p:nvPicPr>
        <p:blipFill>
          <a:blip r:embed="rId23"/>
          <a:stretch/>
        </p:blipFill>
        <p:spPr>
          <a:xfrm>
            <a:off x="2571840" y="2971800"/>
            <a:ext cx="785880" cy="1057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C:\Documents and Settings\Владимир\Рабочий стол\animal73.gif"/>
          <p:cNvPicPr/>
          <p:nvPr/>
        </p:nvPicPr>
        <p:blipFill>
          <a:blip r:embed="rId24"/>
          <a:stretch/>
        </p:blipFill>
        <p:spPr>
          <a:xfrm>
            <a:off x="5286240" y="3143160"/>
            <a:ext cx="709920" cy="95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" descr="C:\Documents and Settings\Владимир\Рабочий стол\animal73.gif"/>
          <p:cNvPicPr/>
          <p:nvPr/>
        </p:nvPicPr>
        <p:blipFill>
          <a:blip r:embed="rId25"/>
          <a:stretch/>
        </p:blipFill>
        <p:spPr>
          <a:xfrm>
            <a:off x="3338640" y="1071720"/>
            <a:ext cx="728640" cy="979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9" descr="C:\Documents and Settings\Владимир\Рабочий стол\animal71.gif"/>
          <p:cNvPicPr/>
          <p:nvPr/>
        </p:nvPicPr>
        <p:blipFill>
          <a:blip r:embed="rId26"/>
          <a:stretch/>
        </p:blipFill>
        <p:spPr>
          <a:xfrm>
            <a:off x="3714840" y="200016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1" descr="C:\Documents and Settings\Владимир\Рабочий стол\0006-209.gif"/>
          <p:cNvPicPr/>
          <p:nvPr/>
        </p:nvPicPr>
        <p:blipFill>
          <a:blip r:embed="rId27"/>
          <a:stretch/>
        </p:blipFill>
        <p:spPr>
          <a:xfrm>
            <a:off x="3143160" y="1714680"/>
            <a:ext cx="928800" cy="1123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C:\Documents and Settings\Владимир\Рабочий стол\0004-237.gif"/>
          <p:cNvPicPr/>
          <p:nvPr/>
        </p:nvPicPr>
        <p:blipFill>
          <a:blip r:embed="rId28"/>
          <a:stretch/>
        </p:blipFill>
        <p:spPr>
          <a:xfrm>
            <a:off x="5429160" y="1500120"/>
            <a:ext cx="928800" cy="1069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3" descr="C:\Documents and Settings\Владимир\Рабочий стол\cat210.gif"/>
          <p:cNvPicPr/>
          <p:nvPr/>
        </p:nvPicPr>
        <p:blipFill>
          <a:blip r:embed="rId29"/>
          <a:stretch/>
        </p:blipFill>
        <p:spPr>
          <a:xfrm>
            <a:off x="1714680" y="1785960"/>
            <a:ext cx="861840" cy="196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4" descr="C:\Documents and Settings\Владимир\Рабочий стол\0003-237.gif"/>
          <p:cNvPicPr/>
          <p:nvPr/>
        </p:nvPicPr>
        <p:blipFill>
          <a:blip r:embed="rId30"/>
          <a:stretch/>
        </p:blipFill>
        <p:spPr>
          <a:xfrm>
            <a:off x="3786120" y="3500280"/>
            <a:ext cx="1462320" cy="668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C:\Documents and Settings\Владимир\Рабочий стол\ptici13.gif"/>
          <p:cNvPicPr/>
          <p:nvPr/>
        </p:nvPicPr>
        <p:blipFill>
          <a:blip r:embed="rId31"/>
          <a:stretch/>
        </p:blipFill>
        <p:spPr>
          <a:xfrm>
            <a:off x="4357800" y="192888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80" name="iz_t.p._v_mire_zhivotnh_-_zhavoronok.mp3" descr=""/>
          <p:cNvPicPr/>
          <p:nvPr/>
        </p:nvPicPr>
        <p:blipFill>
          <a:blip r:embed="rId32"/>
          <a:stretch/>
        </p:blipFill>
        <p:spPr>
          <a:xfrm>
            <a:off x="4643280" y="-642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" name="Picture 2" descr="C:\Documents and Settings\Владимир\Рабочий стол\Новая папка (6)\обезъяна3\Слайд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2" descr="C:\Documents and Settings\Владимир\Рабочий стол\Новая папка (6)\обезъяна3\Слайд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2" descr="C:\Documents and Settings\Владимир\Рабочий стол\Новая папка (6)\обезъяна3\Слайд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2" name="Picture 2" descr="C:\Documents and Settings\Владимир\Рабочий стол\Новая папка (6)\обезъяна3\Слайд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2" descr="C:\Documents and Settings\Владимир\Рабочий стол\Новая папка (6)\обезъяна3\Слайд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06:39:03Z</dcterms:created>
  <dc:creator>Владимир</dc:creator>
  <dc:description/>
  <dc:language>en-US</dc:language>
  <cp:lastModifiedBy>ольга</cp:lastModifiedBy>
  <dcterms:modified xsi:type="dcterms:W3CDTF">2011-03-26T10:28:47Z</dcterms:modified>
  <cp:revision>6</cp:revision>
  <dc:subject/>
  <dc:title>Слайд 1</dc:title>
</cp:coreProperties>
</file>