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13.jpeg" ContentType="image/jpeg"/>
  <Override PartName="/ppt/media/image30.png" ContentType="image/png"/>
  <Override PartName="/ppt/media/image1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34.jpeg" ContentType="image/jpeg"/>
  <Override PartName="/ppt/media/image37.png" ContentType="image/png"/>
  <Override PartName="/ppt/media/image33.jpeg" ContentType="image/jpeg"/>
  <Override PartName="/ppt/media/image39.jpeg" ContentType="image/jpeg"/>
  <Override PartName="/ppt/media/image40.gif" ContentType="image/gif"/>
  <Override PartName="/ppt/media/image12.jpeg" ContentType="image/jpeg"/>
  <Override PartName="/ppt/media/image6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image5.gif" ContentType="image/gif"/>
  <Override PartName="/ppt/media/image14.jpeg" ContentType="image/jpeg"/>
  <Override PartName="/ppt/media/image38.gif" ContentType="image/gif"/>
  <Override PartName="/ppt/media/image8.gif" ContentType="image/gif"/>
  <Override PartName="/ppt/media/image1.png" ContentType="image/png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DCC0-D879-4322-B78B-3AA286FCE4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1A66-2B28-45B2-A562-43EB7C9B94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0C2-B612-4C52-888A-7CD4E2CC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5D1-E701-4A08-A16C-AF27D4BD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56A-3BC4-48D8-B700-B0770FE0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85F-AD67-43E3-AB3A-B155C5F5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3663-2E9D-4B72-BADE-E0075406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D779-F27E-4257-BDB4-A81EE7C7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B263-99BD-452A-9397-07DE7F3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5909-A912-4B87-9A64-1E23316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3F9F-55FA-4870-8391-D0F69D06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D9ED-5A8E-4BF1-8EF4-E715C2EA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D39F-A836-4A7A-93E9-54AD841C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772-E84D-44B6-9DA3-C723FCE1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C862-CA4C-49D5-BF84-BC21B04D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9691-4390-44CB-9ADE-7346D78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8AA2-5C2D-41A8-9CB4-3233576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5BA3-E929-4318-9702-2197B4C5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4686-2300-4A1D-AB07-CE6AE1D6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0DFA-F7AF-4CA2-BD52-90FD7A27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11DB-EC58-4907-83C7-C31F38B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B728-F0C6-4650-A727-3EF2D33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A3B8-26AF-4A59-BCBC-F13CD99E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2371-A74D-4B46-B546-09B25C88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FA6-7968-4823-8C35-7D2E27E9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1B81-1685-41D7-B64C-7218EB11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F938-2A24-496D-A6F9-29B39690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DEA5-39CC-4F94-8838-3649B6F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95E9-3E90-4252-B59D-2A50CF7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E44A-4AD3-4BAB-A5CB-4FBD1B9E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4436-7DF3-4974-BF04-34912FF3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1805-9CAF-4961-97DA-D6BAE3FB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A05-BD74-4EF5-B110-FB91D28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0B3-4F19-42AF-90D6-63BC660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690-2F25-4B1F-B88F-700CCE4A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DA5-6719-416B-B4BD-82FE972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8A3-9A72-4BD4-A0AA-8F2A752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88C-F635-4D88-AF3B-A168E190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6022-4DAF-4E90-B1D1-FBE58A38AA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0AD5-827F-42D1-BD75-AEC084370E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520-9C35-4D07-BAD8-1E51E9EB8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2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8.jpeg"/><Relationship Id="rId6" Type="http://schemas.openxmlformats.org/officeDocument/2006/relationships/image" Target="../media/image25.jpeg"/><Relationship Id="rId7" Type="http://schemas.openxmlformats.org/officeDocument/2006/relationships/image" Target="../media/image36.jpe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0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0.jpe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71640" y="184464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Rage Italic"/>
              </a:rPr>
              <a:t>Защита Отечеств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58E-DB56-4918-AAB8-00BB330D0D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332000" y="476280"/>
            <a:ext cx="741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cc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Фронтовые письма ...</a:t>
            </a:r>
            <a:endParaRPr b="1" lang="en-US" sz="1800" spc="1" strike="noStrike">
              <a:ln w="28440">
                <a:solidFill>
                  <a:srgbClr val="ffcc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1187280" y="6308640"/>
            <a:ext cx="287640" cy="21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2268360" y="2421000"/>
            <a:ext cx="5329440" cy="39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1EE-1AB0-40FC-8A25-5330CD6BBD99}" type="slidenum">
              <a:t>10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268360" y="0"/>
            <a:ext cx="5919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94E-7611-4544-8010-3B144A738E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87280" y="549360"/>
            <a:ext cx="7670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549360"/>
            <a:ext cx="712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Rage Italic"/>
              </a:rPr>
              <a:t>Адресат, отправитель, получатель, долгожданная весточка, информация, обращение, до встречи, здравствуй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49435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Rage Italic"/>
              </a:rPr>
              <a:t>Полевая поч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1CC-3B6E-4567-8BF1-B9444778774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556000" y="0"/>
            <a:ext cx="4927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4B3-B061-419D-8C90-A1E53798FF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3963960" cy="5759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508720" y="242100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Эдуард Аркадьевич Асад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(1923-200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B64-EB00-468E-B744-BE94A08F608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2124000" y="0"/>
            <a:ext cx="516564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042920" y="6578640"/>
            <a:ext cx="371520" cy="27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5D6-7736-49EC-B511-70501B71BA90}" type="slidenum">
              <a:t>15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366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187280" y="620640"/>
            <a:ext cx="3807000" cy="504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16360" y="1916280"/>
            <a:ext cx="44276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Александр Иванович Лактион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Автопортрет (1945)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8F5-E476-4F99-9486-3943183DEB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484360" y="0"/>
            <a:ext cx="5138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8EB-0249-441D-B270-455A75BB4F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24000" y="3168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900000" y="620640"/>
            <a:ext cx="8244000" cy="5295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97164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55F-9326-4503-A082-602C7018246E}" type="slidenum">
              <a:t>18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1742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58920" y="0"/>
            <a:ext cx="7129440" cy="6815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26920" y="6424560"/>
            <a:ext cx="289080" cy="21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166-0218-4D59-93FC-ADBEF16699D6}" type="slidenum">
              <a:t>19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42233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5" descr="255755.jpg"/>
          <p:cNvPicPr/>
          <p:nvPr/>
        </p:nvPicPr>
        <p:blipFill>
          <a:blip r:embed="rId1"/>
          <a:stretch/>
        </p:blipFill>
        <p:spPr>
          <a:xfrm>
            <a:off x="539640" y="0"/>
            <a:ext cx="7956720" cy="5589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8244000" y="3168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8244000" y="3168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 rot="5400000">
            <a:off x="552888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9000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205092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03640" y="5638680"/>
            <a:ext cx="136836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4500720" y="5638680"/>
            <a:ext cx="136656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5796000" y="5638680"/>
            <a:ext cx="122400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6948360" y="5638680"/>
            <a:ext cx="1290600" cy="121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692280"/>
            <a:ext cx="727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тгремела войн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же давней историей стал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о никак не отпуст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ревожную память бой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т фугасов и мин мы очист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ши кварта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о какой же сап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азминирует наши серд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75387-BDF4-4C7A-9507-FC31767B00A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26920" y="1052640"/>
            <a:ext cx="8101080" cy="5027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042920" y="6381720"/>
            <a:ext cx="216000" cy="1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E6E-2BA7-41EF-A705-5BF2B69E39CF}" type="slidenum">
              <a:t>20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3168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58920" y="620640"/>
            <a:ext cx="4051440" cy="5543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580000" y="836640"/>
            <a:ext cx="331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Константин Михайл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им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1915-197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усский писатель, поэт, драматург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ценарист, журналис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общественный деяте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B4E-312D-4666-B19F-1AD014CD1C8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379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3498840"/>
            <a:ext cx="4284720" cy="3359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84720" cy="3294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rcRect l="4766" t="4291" r="3685" b="-1165"/>
          <a:stretch/>
        </p:blipFill>
        <p:spPr>
          <a:xfrm>
            <a:off x="4932360" y="3519360"/>
            <a:ext cx="4211640" cy="3338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4500720" y="6453360"/>
            <a:ext cx="215640" cy="16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3C2-082C-4D07-A991-0BDC859FE472}" type="slidenum">
              <a:t>22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68666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Фронтовые письма –</a:t>
            </a:r>
            <a:r>
              <a:rPr b="1" i="1" lang="ru-RU" sz="4400" spc="-1" strike="noStrike">
                <a:solidFill>
                  <a:srgbClr val="ffffff"/>
                </a:solidFill>
                <a:latin typeface="Rage Italic"/>
              </a:rPr>
              <a:t> радость, неожиданность, тревога на душе, наша история, вечная память, семейная реликвия, счастье, согревающие строки, стку, биение сердца, слезы радости, шелест старых страниц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36E-CA50-42A0-ABB9-9EEB3320656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011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4735440"/>
            <a:ext cx="3419640" cy="2122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276720" y="476280"/>
            <a:ext cx="2876400" cy="3816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6419880" y="3068640"/>
            <a:ext cx="2724120" cy="3789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rcRect l="3972" t="8396" r="0" b="0"/>
          <a:stretch/>
        </p:blipFill>
        <p:spPr>
          <a:xfrm rot="20340600">
            <a:off x="4029120" y="4726080"/>
            <a:ext cx="2014560" cy="1836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755640" y="2205000"/>
            <a:ext cx="1622520" cy="223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5364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B01-7AFA-4981-A6E6-5284D723EEB1}" type="slidenum">
              <a:t>24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17793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900000" y="112680"/>
            <a:ext cx="8244000" cy="6745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7848720" cy="641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D78-8595-47B3-8A4B-486E02A4BD27}" type="slidenum">
              <a:t>25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12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2121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212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260275.gif"/>
          <p:cNvPicPr/>
          <p:nvPr/>
        </p:nvPicPr>
        <p:blipFill>
          <a:blip r:embed="rId1"/>
          <a:stretch/>
        </p:blipFill>
        <p:spPr>
          <a:xfrm>
            <a:off x="1619280" y="-1440"/>
            <a:ext cx="7014960" cy="68594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1042920" y="404640"/>
            <a:ext cx="81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Салют и слава Побе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Навеки памятного дня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Салют её Героям павшим и жив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Салют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581040" cy="682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C0ED-8E8C-4D2B-889F-59035EBEDA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826920" y="1125360"/>
            <a:ext cx="74901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чная память и сла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гибши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6372360" y="4221000"/>
            <a:ext cx="1641240" cy="2086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7093080" y="458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81E-AB1B-4A14-881C-04F3D87D1213}" type="slidenum">
              <a:t>27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80979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5"/>
          <a:stretch/>
        </p:blipFill>
        <p:spPr>
          <a:xfrm>
            <a:off x="755640" y="0"/>
            <a:ext cx="8388360" cy="627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0" y="5854680"/>
            <a:ext cx="2843280" cy="1003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843280" y="5854680"/>
            <a:ext cx="3168720" cy="1003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940360" y="5854680"/>
            <a:ext cx="3203640" cy="10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DC9-E9A8-457E-BE33-EA5A7E9B2CF8}" type="slidenum">
              <a:t>3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9131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297240" cy="414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5854680"/>
            <a:ext cx="2278080" cy="1003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195640" y="5854680"/>
            <a:ext cx="2278080" cy="1003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356000" y="5854680"/>
            <a:ext cx="2278080" cy="1003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6588000" y="5854680"/>
            <a:ext cx="2556000" cy="1003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00000" y="458136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941 го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-61272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FD07-29C0-47AB-91F1-064A32A6EA32}" type="slidenum">
              <a:t>4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7077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81040" cy="6826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 rot="5400000">
            <a:off x="-3243240" y="3243240"/>
            <a:ext cx="6858000" cy="371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&amp;Scy;&amp;ocy;&amp;vcy;&amp;iecy;&amp;tcy;&amp;scy;&amp;kcy;&amp;icy;&amp;iecy; &amp;vcy;&amp;ocy;&amp;icy;&amp;ncy;&amp;ycy; &amp;ocy;&amp;tcy;&amp;pcy;&amp;rcy;&amp;acy;&amp;vcy;&amp;lcy;&amp;yacy;&amp;yucy;&amp;tcy;&amp;scy;&amp;yacy; &amp;ncy;&amp;acy; &amp;fcy;&amp;rcy;&amp;ocy;&amp;ncy;&amp;tcy; 1941 &amp;gcy;. &amp;Mcy;&amp;iecy;&amp;scy;&amp;tcy;&amp;ocy; &amp;scy;&amp;hardcy;&amp;iecy;&amp;mcy;&amp;kcy;&amp;icy;: &amp;Tcy;&amp;acy;&amp;mcy;&amp;bcy;&amp;ocy;&amp;vcy;c&amp;kcy;&amp;acy;&amp;yacy; &amp;ocy;&amp;bcy;&amp;lcy;&amp;acy;&amp;scy;&amp;tcy;&amp;softcy; &amp;Acy;&amp;vcy;&amp;tcy;&amp;ocy;&amp;rcy; &amp;scy;&amp;hardcy;&amp;iecy;&amp;mcy;&amp;kcy;&amp;icy;: &amp;CHcy;&amp;iecy;&amp;rcy;&amp;ncy;&amp;ocy;&amp;vcy; &amp;Dcy;. &amp;Rcy;&amp;Gcy;&amp;Acy;&amp;Kcy;&amp;Fcy;&amp;Dcy; &amp;iecy;&amp;dcy;.&amp;khcy;&amp;rcy;.0-256305"/>
          <p:cNvPicPr/>
          <p:nvPr/>
        </p:nvPicPr>
        <p:blipFill>
          <a:blip r:embed="rId4"/>
          <a:stretch/>
        </p:blipFill>
        <p:spPr>
          <a:xfrm>
            <a:off x="2411280" y="0"/>
            <a:ext cx="438948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0" y="5854680"/>
            <a:ext cx="3348000" cy="1003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276720" y="5854680"/>
            <a:ext cx="3024000" cy="1003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227640" y="5854680"/>
            <a:ext cx="2916360" cy="1003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10429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062-AA78-464B-A0D1-0D4CC5B24B4B}" type="slidenum">
              <a:t>5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5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5854680"/>
            <a:ext cx="3348000" cy="1003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556000" y="5854680"/>
            <a:ext cx="3348000" cy="1003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796000" y="5854680"/>
            <a:ext cx="3348000" cy="10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C1A-04CD-4498-AA5B-C8F841FAD4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1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11280" y="5157720"/>
            <a:ext cx="3348000" cy="170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796000" y="5229360"/>
            <a:ext cx="3348000" cy="1628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0" y="5157720"/>
            <a:ext cx="3348000" cy="17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978-CEC4-417A-84C8-9CA25723C8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203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3348000" cy="1700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484360" y="5157720"/>
            <a:ext cx="3348000" cy="17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796000" y="5157720"/>
            <a:ext cx="3348000" cy="17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0E2-606A-4540-9C1E-080F79483C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4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3348000" cy="1700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411280" y="5157720"/>
            <a:ext cx="3348000" cy="1700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96000" y="5157720"/>
            <a:ext cx="3348000" cy="17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CF4-F321-42E1-A477-887447E0B7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5:48:22Z</dcterms:created>
  <dc:creator>наталья</dc:creator>
  <dc:description/>
  <dc:language>en-US</dc:language>
  <cp:lastModifiedBy>Adel</cp:lastModifiedBy>
  <dcterms:modified xsi:type="dcterms:W3CDTF">2011-03-09T18:32:56Z</dcterms:modified>
  <cp:revision>74</cp:revision>
  <dc:subject/>
  <dc:title>Слайд 1</dc:title>
</cp:coreProperties>
</file>