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9C5-786D-42CE-9DC5-3CC55CC1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6A1-D487-42C9-9A25-22A7B0C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3BC-2F53-47D2-9B09-779D2957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CC6-6C3A-427D-9F6B-87E80947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E04-E685-4D35-A2E5-59297FF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64D-62CD-4DDF-89B0-B7CD6DF5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0E0-9298-4145-A187-2F5ECA4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E2A-C284-419A-8BB3-92147D2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D8F-63FD-46DA-BCCA-7DA9561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9EA-0DA1-4E8B-B3A3-176632A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DC1-B6C4-47A2-9B5A-E3AA3DA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D5D-8FDE-4175-B181-123C409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andar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andara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andar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458-B8ED-4E01-9907-3218D1F03C47}" type="slidenum">
              <a:rPr b="1" lang="en-US" sz="1200" spc="-1" strike="noStrike">
                <a:solidFill>
                  <a:srgbClr val="7f7f7f"/>
                </a:solidFill>
                <a:latin typeface="Candar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12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97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5193" t="11970" r="5259" b="31757"/>
          <a:stretch/>
        </p:blipFill>
        <p:spPr>
          <a:xfrm>
            <a:off x="1187280" y="189000"/>
            <a:ext cx="224172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697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Moving_Music.jpg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15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-418" r="200" b="0"/>
          <a:stretch/>
        </p:blipFill>
        <p:spPr>
          <a:xfrm>
            <a:off x="2397240" y="476280"/>
            <a:ext cx="4390920" cy="590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4960" y="1738440"/>
            <a:ext cx="89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e0000"/>
                </a:solidFill>
                <a:latin typeface="Monotype Corsiva"/>
              </a:rPr>
              <a:t>Этюд № 12</a:t>
            </a:r>
            <a:br>
              <a:rPr sz="7200"/>
            </a:br>
            <a:r>
              <a:rPr b="0" lang="en-US" sz="7200" spc="-1" strike="noStrike">
                <a:solidFill>
                  <a:srgbClr val="4e0000"/>
                </a:solidFill>
                <a:latin typeface="Monotype Corsiva"/>
              </a:rPr>
              <a:t>«Революционный»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5052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1231920"/>
            <a:ext cx="76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«… сердце его волнуется, трепещет, страдает, негодует, ужасается, томится, нежится, изнывает, стонет. Озаряется надеждой, радуется ласке, восторгается, снова печалится, снова рвётся и мучается, замирает и холодеет от страха, немеет среди завываний осенних вихрей, чтобы через несколько мигов опять поверить солнечным лучам и расцвести в звучаниях весенней пасторали». 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br>
              <a:rPr sz="2800"/>
            </a:b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4e0000"/>
                </a:solidFill>
                <a:latin typeface="Times New Roman"/>
              </a:rPr>
              <a:t>Б.Ас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9351" t="6028" r="9895" b="8712"/>
          <a:stretch/>
        </p:blipFill>
        <p:spPr>
          <a:xfrm>
            <a:off x="5148360" y="1989000"/>
            <a:ext cx="3579840" cy="453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e000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771640" y="5013360"/>
            <a:ext cx="2448000" cy="1509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5465" t="4762" r="6620" b="0"/>
          <a:stretch/>
        </p:blipFill>
        <p:spPr>
          <a:xfrm>
            <a:off x="755640" y="333360"/>
            <a:ext cx="3586320" cy="4535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4e0000">
                <a:alpha val="50000"/>
              </a:srgbClr>
            </a:outerShdw>
          </a:effectLst>
        </p:spPr>
      </p:pic>
    </p:spTree>
  </p:cSld>
  <p:transition spd="slow">
    <p:wipe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333360"/>
            <a:ext cx="8136000" cy="626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1b0c"/>
              </a:gs>
              <a:gs pos="100000">
                <a:srgbClr val="340c0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4e12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0526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2ab"/>
                </a:solidFill>
                <a:latin typeface="Times New Roman"/>
              </a:rPr>
              <a:t>СИНКВЕ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57360"/>
            <a:ext cx="7129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Сформулировать    тему   синквейна одним существ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Двумя глаголами дополнить характеристику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Охарактеризовать произведение с помощью трёх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Одним предложением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из 4 слов выразить собственное отношение к му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Слово – резюме, характеризующее с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333360"/>
            <a:ext cx="8136000" cy="626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1b0c"/>
              </a:gs>
              <a:gs pos="100000">
                <a:srgbClr val="340c0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4e12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203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2ab"/>
                </a:solidFill>
                <a:latin typeface="Times New Roman"/>
              </a:rPr>
              <a:t>ЭТЮ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2044800"/>
            <a:ext cx="712944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- (французское 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etude, буквально 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изуч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Эта пьеса, предназначенная для совершенствования техники на каком-либо инструмен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В XIX веке развивается новый жанр – концертный этюд. Его технические трудности подчинены раскрытию художественного замысла компози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428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00"/>
                </a:solidFill>
                <a:latin typeface="Monotype Corsiva"/>
              </a:rPr>
              <a:t>Фридерик Шопен</a:t>
            </a:r>
            <a:br>
              <a:rPr sz="3200"/>
            </a:br>
            <a:r>
              <a:rPr b="0" lang="ru-RU" sz="2400" spc="-1" strike="noStrike">
                <a:solidFill>
                  <a:srgbClr val="4e0000"/>
                </a:solidFill>
                <a:latin typeface="Monotype Corsiva"/>
              </a:rPr>
              <a:t>(1810-1849)</a:t>
            </a:r>
            <a:br>
              <a:rPr sz="2400"/>
            </a:br>
            <a:r>
              <a:rPr b="1" lang="ru-RU" sz="2800" spc="-1" strike="noStrike">
                <a:solidFill>
                  <a:srgbClr val="4e0000"/>
                </a:solidFill>
                <a:latin typeface="Monotype Corsiva"/>
              </a:rPr>
              <a:t>Прелюдия №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4224" r="0" b="0"/>
          <a:stretch/>
        </p:blipFill>
        <p:spPr>
          <a:xfrm>
            <a:off x="684360" y="1413000"/>
            <a:ext cx="4128840" cy="5286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e000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949320" cy="711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77080" y="692280"/>
            <a:ext cx="934920" cy="70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028000" y="404640"/>
            <a:ext cx="936720" cy="70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56000" y="2508120"/>
            <a:ext cx="4680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00"/>
                </a:solidFill>
                <a:latin typeface="Monotype Corsiva"/>
              </a:rPr>
              <a:t>Что   вам    напоминает Прелюдия №24 Шопена:             - эпическое повествование; - взволнованный рассказ;  - драматическую декла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1763640" y="717480"/>
            <a:ext cx="5902560" cy="4511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661000"/>
            <a:ext cx="8496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0000"/>
                </a:solidFill>
                <a:latin typeface="Times New Roman"/>
              </a:rPr>
              <a:t>Генрих Ипполитович Семирадский </a:t>
            </a:r>
            <a:r>
              <a:rPr b="1" i="1" lang="ru-RU" sz="1800" spc="-1" strike="noStrike">
                <a:solidFill>
                  <a:srgbClr val="4e0000"/>
                </a:solidFill>
                <a:latin typeface="Times New Roman"/>
              </a:rPr>
              <a:t>(1845-1902) Россия</a:t>
            </a:r>
            <a:br>
              <a:rPr sz="1800"/>
            </a:b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Шопен в салоне князя Антона Радзивилл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в Берлине в </a:t>
            </a:r>
            <a:r>
              <a:rPr b="1" i="1" lang="ru-RU" sz="2000" spc="-1" strike="noStrike">
                <a:solidFill>
                  <a:srgbClr val="4e0000"/>
                </a:solidFill>
                <a:latin typeface="Times New Roman"/>
              </a:rPr>
              <a:t>1829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87280" y="115920"/>
            <a:ext cx="698508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437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333360"/>
            <a:ext cx="8136000" cy="626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1b0c"/>
              </a:gs>
              <a:gs pos="100000">
                <a:srgbClr val="340c0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4e12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3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2ab"/>
                </a:solidFill>
                <a:latin typeface="Times New Roman"/>
              </a:rPr>
              <a:t>ПРЕЛЮ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0560" y="2206800"/>
            <a:ext cx="70581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( латинское  praeludere,  буквально  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 вступл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Инструментальная  пьеса  свободной формы. Выполняла роль вступительного музыкального  материала,  в основном к фуге.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Жанр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самостоятельной</a:t>
            </a: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пьесы, нередко концертного стиля, приобрела в XIX в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3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2ab"/>
                </a:solidFill>
                <a:latin typeface="Times New Roman"/>
              </a:rPr>
              <a:t>ПРЕЛЮ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4280"/>
            <a:ext cx="83534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00"/>
                </a:solidFill>
                <a:latin typeface="Times New Roman"/>
                <a:ea typeface="Times New Roman"/>
              </a:rPr>
              <a:t>Автор презентации:</a:t>
            </a:r>
            <a:r>
              <a:rPr b="1" lang="ru-RU" sz="3200" spc="-1" strike="noStrike">
                <a:solidFill>
                  <a:srgbClr val="4e00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4e00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4e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00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Я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00240" y="2060640"/>
            <a:ext cx="3156120" cy="460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0000">
                <a:alpha val="50000"/>
              </a:srgbClr>
            </a:outerShdw>
          </a:effectLst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12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16304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0000"/>
                </a:solidFill>
                <a:latin typeface="Times New Roman"/>
              </a:rPr>
              <a:t>Тема:</a:t>
            </a:r>
            <a:br>
              <a:rPr sz="7200"/>
            </a:br>
            <a:r>
              <a:rPr b="0" lang="ru-RU" sz="7200" spc="-1" strike="noStrike">
                <a:solidFill>
                  <a:srgbClr val="4e0000"/>
                </a:solidFill>
                <a:latin typeface="Monotype Corsiva"/>
              </a:rPr>
              <a:t>«Образы камерной музыки»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333360"/>
            <a:ext cx="8136000" cy="626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1b0c"/>
              </a:gs>
              <a:gs pos="100000">
                <a:srgbClr val="340c0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4e12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3478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2ab"/>
                </a:solidFill>
                <a:latin typeface="Times New Roman"/>
              </a:rPr>
              <a:t>КАМЕРНАЯ  МУ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503440"/>
            <a:ext cx="69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2e2ab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2ab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(итальянское camera, буквально - комната). 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2e2ab"/>
                </a:solidFill>
                <a:latin typeface="Times New Roman"/>
              </a:rPr>
              <a:t>Музыка, написанная для небольших вокальных и инструментальных ансамблей, или солирующих инструментов, также для пения, предназначенная для исполнения в небольшом поме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1280" y="5064120"/>
            <a:ext cx="8064360" cy="157968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6785" t="10109" r="9648" b="61316"/>
          <a:stretch/>
        </p:blipFill>
        <p:spPr>
          <a:xfrm>
            <a:off x="615960" y="4908600"/>
            <a:ext cx="8064360" cy="172224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rcRect l="22881" t="16208" r="24503" b="68209"/>
          <a:stretch/>
        </p:blipFill>
        <p:spPr>
          <a:xfrm>
            <a:off x="611280" y="4724280"/>
            <a:ext cx="8064360" cy="189864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8288280" cy="189576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40960" y="7920"/>
            <a:ext cx="75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0000"/>
                </a:solidFill>
                <a:latin typeface="Times New Roman"/>
              </a:rPr>
              <a:t>Фридерик Шопе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6"/>
          <a:stretch/>
        </p:blipFill>
        <p:spPr>
          <a:xfrm>
            <a:off x="1279440" y="1236600"/>
            <a:ext cx="2210040" cy="291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000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7"/>
          <a:srcRect l="535" t="2381" r="0" b="0"/>
          <a:stretch/>
        </p:blipFill>
        <p:spPr>
          <a:xfrm>
            <a:off x="539640" y="1557360"/>
            <a:ext cx="836136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3.20667E-006 C -0.00937 -0.06279 0.10764 -0.12511 0.11267 -0.19462 C 0.11806 -0.26413 -0.07743 -0.34592 -0.09531 -0.41751 C -0.11319 -0.48911 -0.01198 -0.58943 0.00469 -0.62326 E">
                                      <p:cBhvr>
                                        <p:cTn id="21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83 0.00186 C 0.01042 -0.05282 0.12083 -0.10751 0.12344 -0.17609 C 0.12604 -0.24467 -0.06528 -0.33851 -0.08385 -0.4101 C -0.10243 -0.48169 -0.04531 -0.54356 0.01181 -0.60542 E">
                                      <p:cBhvr>
                                        <p:cTn id="32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7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53 4.26321E-007 C 0.00243 -0.04982 0.12257 -0.09963 0.12448 -0.1703 C 0.12639 -0.24096 -0.08611 -0.35079 -0.10608 -0.42354 C -0.12604 -0.49629 -0.01406 -0.57716 0.00417 -0.60751 E">
                                      <p:cBhvr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2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6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4 0.02989 C 0.00625000000000001 -0.0234 0.10173 -0.07646 0.10191 -0.15107 C 0.10208 -0.22567 -0.07344 -0.34569 -0.08837 -0.41891 C -0.10278 -0.49189 -0.04531 -0.54101 0.01232 -0.5899 E">
                                      <p:cBhvr>
                                        <p:cTn id="5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1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2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0320" y="2854440"/>
            <a:ext cx="846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0000"/>
                </a:solidFill>
                <a:latin typeface="Times New Roman"/>
              </a:rPr>
              <a:t>«Удивительные способности. Музыкальный гений».</a:t>
            </a:r>
            <a:br>
              <a:rPr sz="2800"/>
            </a:br>
            <a:r>
              <a:rPr b="1" i="1" lang="ru-RU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e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Юзеф</a:t>
            </a:r>
            <a:r>
              <a:rPr b="1" i="1" lang="en-US" sz="2400" spc="-1" strike="noStrike">
                <a:solidFill>
                  <a:srgbClr val="4e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Эльс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0" t="8249" r="0" b="0"/>
          <a:stretch/>
        </p:blipFill>
        <p:spPr>
          <a:xfrm>
            <a:off x="5076720" y="1916280"/>
            <a:ext cx="3608640" cy="45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e0000">
                <a:alpha val="50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5013360"/>
            <a:ext cx="2448000" cy="15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5465" t="4762" r="6620" b="0"/>
          <a:stretch/>
        </p:blipFill>
        <p:spPr>
          <a:xfrm>
            <a:off x="755640" y="333360"/>
            <a:ext cx="3586320" cy="4535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4e0000">
                <a:alpha val="50000"/>
              </a:srgbClr>
            </a:outerShdw>
          </a:effectLst>
        </p:spPr>
      </p:pic>
    </p:spTree>
  </p:cSld>
  <p:transition spd="slow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892760" y="800280"/>
            <a:ext cx="4071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00"/>
                </a:solidFill>
                <a:latin typeface="Times New Roman"/>
              </a:rPr>
              <a:t>«… нет у меня сил назначить день отъезда; мне представляется, что я уезжаю, чтобы умереть, - а как должно быть, горько умирать на чужбине, не там, где жи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4119480"/>
            <a:ext cx="3311280" cy="2043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4842" t="3083" r="4815" b="3737"/>
          <a:stretch/>
        </p:blipFill>
        <p:spPr>
          <a:xfrm>
            <a:off x="611280" y="765000"/>
            <a:ext cx="4265640" cy="540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e0000">
                <a:alpha val="50000"/>
              </a:srgbClr>
            </a:outerShdw>
          </a:effectLst>
        </p:spPr>
      </p:pic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Горизонтальный свиток 3"/>
          <p:cNvSpPr/>
          <p:nvPr/>
        </p:nvSpPr>
        <p:spPr>
          <a:xfrm>
            <a:off x="2050920" y="404640"/>
            <a:ext cx="5113440" cy="720720"/>
          </a:xfrm>
          <a:prstGeom prst="horizontalScroll">
            <a:avLst>
              <a:gd name="adj" fmla="val 12500"/>
            </a:avLst>
          </a:prstGeom>
          <a:solidFill>
            <a:srgbClr val="4e0000"/>
          </a:solidFill>
          <a:ln w="25560">
            <a:solidFill>
              <a:srgbClr val="3e0000"/>
            </a:solidFill>
            <a:miter/>
          </a:ln>
          <a:effectLst>
            <a:outerShdw dist="107932" dir="13500000" blurRad="0" rotWithShape="0">
              <a:srgbClr val="4e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оября 183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8560" y="14097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4e0000"/>
                </a:solidFill>
                <a:latin typeface="Times New Roman"/>
              </a:rPr>
              <a:t>Состоялся прощальный вечер с друзьями. Товарищи дарят Фридерику серебряный кубок, наполненный польской земл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368440"/>
            <a:ext cx="65008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Когда Шопен отчизну покидал,                                  Друзья ему любовно поднесли                                   В старинном кубке горсть родной земли, Чтоб милый дар его сопровождал.                             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                                                                       В неизъяснимой грусти дни текли.                   Средь разных стран, холодных, чуждых зал Он свято кубок свой оберегал,                              В нём видя край, оставленный вдали…                 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4e0000"/>
                </a:solidFill>
                <a:latin typeface="Times New Roman"/>
              </a:rPr>
              <a:t>                                                                        </a:t>
            </a:r>
            <a:r>
              <a:rPr b="1" i="1" lang="ru-RU" sz="2000" spc="-1" strike="noStrike">
                <a:solidFill>
                  <a:srgbClr val="4e0000"/>
                </a:solidFill>
                <a:latin typeface="Times New Roman"/>
              </a:rPr>
              <a:t>А.Граши (отрывок из стихотворения «Горсть земл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553080" cy="5543640"/>
          </a:xfrm>
          <a:prstGeom prst="rect">
            <a:avLst/>
          </a:prstGeom>
          <a:ln w="38160">
            <a:solidFill>
              <a:srgbClr val="3e0000"/>
            </a:solidFill>
            <a:miter/>
          </a:ln>
          <a:effectLst>
            <a:outerShdw dist="17819" dir="2700000" blurRad="0" rotWithShape="0">
              <a:srgbClr val="3e0000"/>
            </a:outerShdw>
          </a:effectLst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457800" cy="453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e0000">
                <a:alpha val="50000"/>
              </a:srgbClr>
            </a:outerShdw>
          </a:effectLst>
        </p:spPr>
      </p:pic>
      <p:sp>
        <p:nvSpPr>
          <p:cNvPr id="69" name=""/>
          <p:cNvSpPr/>
          <p:nvPr/>
        </p:nvSpPr>
        <p:spPr>
          <a:xfrm>
            <a:off x="0" y="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00"/>
                </a:solidFill>
                <a:latin typeface="Monotype Corsiva"/>
              </a:rPr>
              <a:t>Желязова Воля</a:t>
            </a:r>
            <a:br>
              <a:rPr sz="3200"/>
            </a:br>
            <a:r>
              <a:rPr b="1" lang="ru-RU" sz="2000" spc="-1" strike="noStrike">
                <a:solidFill>
                  <a:srgbClr val="4e0000"/>
                </a:solidFill>
                <a:latin typeface="Times New Roman"/>
              </a:rPr>
              <a:t>Дом Фредерика Шоп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3"/>
          <a:stretch/>
        </p:blipFill>
        <p:spPr>
          <a:xfrm>
            <a:off x="826920" y="909720"/>
            <a:ext cx="3505320" cy="446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3e000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684360" y="551664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00"/>
                </a:solidFill>
                <a:latin typeface="Monotype Corsiva"/>
              </a:rPr>
              <a:t>Николай Шопен</a:t>
            </a:r>
            <a:br>
              <a:rPr sz="3200"/>
            </a:br>
            <a:r>
              <a:rPr b="1" lang="en-US" sz="2000" spc="-1" strike="noStrike">
                <a:solidFill>
                  <a:srgbClr val="4e0000"/>
                </a:solidFill>
                <a:latin typeface="Times New Roman"/>
              </a:rPr>
              <a:t>отец композ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888840"/>
            <a:ext cx="35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00"/>
                </a:solidFill>
                <a:latin typeface="Monotype Corsiva"/>
              </a:rPr>
              <a:t>Юстина Шопен</a:t>
            </a:r>
            <a:br>
              <a:rPr sz="3200"/>
            </a:br>
            <a:r>
              <a:rPr b="1" lang="ru-RU" sz="2000" spc="-1" strike="noStrike">
                <a:solidFill>
                  <a:srgbClr val="4e0000"/>
                </a:solidFill>
                <a:latin typeface="Times New Roman"/>
              </a:rPr>
              <a:t>мать композ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14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92760" y="800280"/>
            <a:ext cx="40719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00"/>
                </a:solidFill>
                <a:latin typeface="Times New Roman"/>
              </a:rPr>
              <a:t>«Я проклинаю час своего отъезда. Я не могу поступать, как мне хочется… В гостиных притворяюсь спокойным, а вернувшись домой, бушую на фортепиа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08720" y="4119480"/>
            <a:ext cx="3311280" cy="204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rcRect l="4842" t="3083" r="4815" b="3737"/>
          <a:stretch/>
        </p:blipFill>
        <p:spPr>
          <a:xfrm>
            <a:off x="611280" y="765000"/>
            <a:ext cx="4265640" cy="540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e0000">
                <a:alpha val="50000"/>
              </a:srgbClr>
            </a:outerShdw>
          </a:effectLst>
        </p:spPr>
      </p:pic>
    </p:spTree>
  </p:cSld>
  <p:transition spd="slow">
    <p:wipe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0,10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4,126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8:18:01Z</dcterms:created>
  <dc:creator>Татьяна Федоровна</dc:creator>
  <dc:description/>
  <dc:language>en-US</dc:language>
  <cp:lastModifiedBy>Adel</cp:lastModifiedBy>
  <dcterms:modified xsi:type="dcterms:W3CDTF">2012-04-13T21:37:38Z</dcterms:modified>
  <cp:revision>31</cp:revision>
  <dc:subject/>
  <dc:title>Слайд 1</dc:title>
</cp:coreProperties>
</file>