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669-7ACD-4459-A93A-F1A59BD3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3E78-3A34-4F85-8A83-1A1FDD87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D07-E6D1-44EC-AD53-9B050B45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D606-0930-4E80-82D3-7303102C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06EF-9F04-47DA-8482-D070B8E5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A9F-51AD-4A7B-8B4C-52001B15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1F28-9B4F-4736-84D9-B31D0897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29F7-C658-4FD3-B588-193AFE46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9DB1-B61B-4979-88B4-F099FC87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D79-1297-4142-B18A-5D8FF7FC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65C-0054-48CF-B3E3-B3C839C2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47A9-4F5C-40ED-BB57-F142CA48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6456-546C-4FB8-8452-B1EC7E64DE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349000"/>
            <a:ext cx="539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43280" y="2349360"/>
            <a:ext cx="718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360" y="2421000"/>
            <a:ext cx="5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2592360" cy="19447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419640" y="2421000"/>
            <a:ext cx="2519280" cy="19508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443640" y="2421000"/>
            <a:ext cx="2592360" cy="19429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5724360" y="115920"/>
            <a:ext cx="3311640" cy="576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 Билиби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24360" y="4941720"/>
            <a:ext cx="3419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imes New Roman"/>
              </a:rPr>
              <a:t>Составител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imes New Roman"/>
              </a:rPr>
              <a:t>Копылова 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imes New Roman"/>
              </a:rPr>
              <a:t>ученица 9 кла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4797360"/>
            <a:ext cx="7772400" cy="147024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дача. На плакате представлен график зависимости проекций скорости 1) волка, 2) лося, 3) медведя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Определите их ускорения. Найдите выражения для расчета скорости этих живот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24000" y="115560"/>
            <a:ext cx="3311640" cy="576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 Билиби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549360"/>
            <a:ext cx="0" cy="3598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348000" y="4149720"/>
            <a:ext cx="2664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400536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400536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76720" y="400536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203640" y="3718080"/>
            <a:ext cx="28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3286080"/>
            <a:ext cx="28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2925720"/>
            <a:ext cx="28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2565360"/>
            <a:ext cx="28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2133720"/>
            <a:ext cx="28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5080" y="400536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1701720"/>
            <a:ext cx="28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348000" y="1844640"/>
            <a:ext cx="1800360" cy="187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348000" y="1270080"/>
            <a:ext cx="64764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348000" y="1341360"/>
            <a:ext cx="1368360" cy="23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80000" y="2133720"/>
            <a:ext cx="0" cy="201600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348000" y="3286080"/>
            <a:ext cx="433440" cy="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348000" y="2925360"/>
            <a:ext cx="433440" cy="180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348000" y="2133720"/>
            <a:ext cx="433440" cy="144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1052640"/>
            <a:ext cx="358920" cy="333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1197000"/>
            <a:ext cx="358920" cy="333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1773360"/>
            <a:ext cx="358560" cy="333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59280" y="4292640"/>
            <a:ext cx="358920" cy="333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27640" y="4292640"/>
            <a:ext cx="358560" cy="333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4292640"/>
            <a:ext cx="358920" cy="333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64000" y="4292640"/>
            <a:ext cx="358560" cy="333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1484280"/>
            <a:ext cx="358560" cy="333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43280" y="1916280"/>
            <a:ext cx="358560" cy="333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43280" y="2349360"/>
            <a:ext cx="358560" cy="333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2781360"/>
            <a:ext cx="358560" cy="333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3280" y="3141720"/>
            <a:ext cx="358560" cy="333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3280" y="3573360"/>
            <a:ext cx="358560" cy="333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592360" cy="19447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8360" y="2421000"/>
            <a:ext cx="2592360" cy="20066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68360" y="4653000"/>
            <a:ext cx="2570040" cy="19270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3059280" y="260280"/>
            <a:ext cx="5905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о: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=</a:t>
            </a:r>
            <a:r>
              <a:rPr b="1" lang="en-US" sz="2800" spc="-1" strike="noStrike" baseline="40000">
                <a:solidFill>
                  <a:srgbClr val="000000"/>
                </a:solidFill>
                <a:latin typeface="Times New Roman"/>
              </a:rPr>
              <a:t>V-V</a:t>
            </a:r>
            <a:r>
              <a:rPr b="1" lang="en-US" sz="2000" spc="-1" strike="noStrike" baseline="40000">
                <a:solidFill>
                  <a:srgbClr val="000000"/>
                </a:solidFill>
                <a:latin typeface="Times New Roman"/>
              </a:rPr>
              <a:t>0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= </a:t>
            </a:r>
            <a:r>
              <a:rPr b="1" lang="en-US" sz="2800" spc="-1" strike="noStrike" baseline="46000">
                <a:solidFill>
                  <a:srgbClr val="000000"/>
                </a:solidFill>
                <a:latin typeface="Times New Roman"/>
              </a:rPr>
              <a:t>5-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м/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=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с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м/с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 м/с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492280"/>
            <a:ext cx="53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60280"/>
            <a:ext cx="53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724280"/>
            <a:ext cx="53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404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32000" y="170028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62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47628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19640" y="404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6000" y="62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47628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59280" y="4508640"/>
            <a:ext cx="590544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о: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=</a:t>
            </a:r>
            <a:r>
              <a:rPr b="1" lang="en-US" sz="2800" spc="-1" strike="noStrike" baseline="40000">
                <a:solidFill>
                  <a:srgbClr val="000000"/>
                </a:solidFill>
                <a:latin typeface="Times New Roman"/>
              </a:rPr>
              <a:t>V-V</a:t>
            </a:r>
            <a:r>
              <a:rPr b="1" lang="en-US" sz="2000" spc="-1" strike="noStrike" baseline="40000">
                <a:solidFill>
                  <a:srgbClr val="000000"/>
                </a:solidFill>
                <a:latin typeface="Times New Roman"/>
              </a:rPr>
              <a:t>0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baseline="46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46000">
                <a:solidFill>
                  <a:srgbClr val="000000"/>
                </a:solidFill>
                <a:latin typeface="Times New Roman"/>
              </a:rPr>
              <a:t>-1 </a:t>
            </a:r>
            <a:r>
              <a:rPr b="1" lang="ru-RU" sz="2800" spc="-1" strike="noStrike" baseline="46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,5 м/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=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с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м/с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 м/с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472428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595008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472428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3280" y="472428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472428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32000" y="2421000"/>
            <a:ext cx="59058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о: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=</a:t>
            </a:r>
            <a:r>
              <a:rPr b="1" lang="en-US" sz="2800" spc="-1" strike="noStrike" baseline="40000">
                <a:solidFill>
                  <a:srgbClr val="000000"/>
                </a:solidFill>
                <a:latin typeface="Times New Roman"/>
              </a:rPr>
              <a:t>V-V</a:t>
            </a:r>
            <a:r>
              <a:rPr b="1" lang="en-US" sz="2000" spc="-1" strike="noStrike" baseline="40000">
                <a:solidFill>
                  <a:srgbClr val="000000"/>
                </a:solidFill>
                <a:latin typeface="Times New Roman"/>
              </a:rPr>
              <a:t>0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= </a:t>
            </a:r>
            <a:r>
              <a:rPr b="1" lang="ru-RU" sz="2800" spc="-1" strike="noStrike" baseline="46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46000">
                <a:solidFill>
                  <a:srgbClr val="000000"/>
                </a:solidFill>
                <a:latin typeface="Times New Roman"/>
              </a:rPr>
              <a:t>-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м/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=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с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м/с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м/с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11640" y="2637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364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2637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27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2637000"/>
            <a:ext cx="360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27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2637000"/>
            <a:ext cx="360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476280"/>
            <a:ext cx="216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=1+2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2708280"/>
            <a:ext cx="216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=1+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4797360"/>
            <a:ext cx="216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=1+0,5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in</cp:lastModifiedBy>
  <dcterms:modified xsi:type="dcterms:W3CDTF">2011-04-17T13:00:46Z</dcterms:modified>
  <cp:revision>6</cp:revision>
  <dc:subject/>
  <dc:title>PowerPoint Presentation</dc:title>
</cp:coreProperties>
</file>