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11F-E13E-4534-AA4D-D3AD60D1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DB3C-202A-44F5-AF3E-9BB34D29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703-FA04-41A5-8C87-C2CBC2C7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D58C-4DDC-466C-98A7-EE3001EE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E4B-1390-406A-85AB-728DE018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334-85AB-4F61-B806-205AE437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06F-67A7-4BD7-9FD3-F0AD0A56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D345-90FA-4004-97F0-D557BC08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701-F268-4E0C-9E3F-183505A6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0BD-5D90-45B9-A29D-80C02F27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8BDF-25E6-4959-ADAE-E8D8D347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AF7-3597-4C60-AB5C-143D2CD6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C2B0-D855-4B6A-9BEC-77DCDD5A09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ип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7"/>
          <p:cNvSpPr/>
          <p:nvPr/>
        </p:nvSpPr>
        <p:spPr>
          <a:xfrm>
            <a:off x="468360" y="3554640"/>
            <a:ext cx="8164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доль побережий Северного Ледовитого океана широкой полосой протянулась тундра - местность без леса с болотами, речками и ручейками. Здесь настолько суровый климат, что высокие деревья расти не могут. Долгая морозная зима, продолжающаяся 9 месяцев в году, сменяется коротким и прохладным летом. Из-за низких температур земля промерзает, летом успевает оттаять только самый верхний слой почвы, на котором растут мхи, лишайники, тра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8"/>
          <p:cNvSpPr txBox="1"/>
          <p:nvPr/>
        </p:nvSpPr>
        <p:spPr>
          <a:xfrm>
            <a:off x="3203640" y="189000"/>
            <a:ext cx="26636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ундр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611280" y="1052640"/>
            <a:ext cx="77756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ндра белоснежная, королева вью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народов Севера самый главный др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юду море снега и ледовых глыб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день страдае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солнечных об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6715440" y="5897520"/>
            <a:ext cx="197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аксин 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9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100"/>
                            </p:stCondLst>
                            <p:childTnLst>
                              <p:par>
                                <p:cTn id="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90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300"/>
                            </p:stCondLst>
                            <p:childTnLst>
                              <p:par>
                                <p:cTn id="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55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ип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Object 13"/>
          <p:cNvGraphicFramePr/>
          <p:nvPr/>
        </p:nvGraphicFramePr>
        <p:xfrm>
          <a:off x="468360" y="4941720"/>
          <a:ext cx="2627280" cy="177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4941720"/>
                    <a:ext cx="262728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9" descr="kamazi"/>
          <p:cNvPicPr/>
          <p:nvPr/>
        </p:nvPicPr>
        <p:blipFill>
          <a:blip r:embed="rId4"/>
          <a:stretch/>
        </p:blipFill>
        <p:spPr>
          <a:xfrm>
            <a:off x="4932360" y="4761000"/>
            <a:ext cx="3240000" cy="209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ka50i"/>
          <p:cNvPicPr/>
          <p:nvPr/>
        </p:nvPicPr>
        <p:blipFill>
          <a:blip r:embed="rId5"/>
          <a:stretch/>
        </p:blipFill>
        <p:spPr>
          <a:xfrm>
            <a:off x="324000" y="260280"/>
            <a:ext cx="2930400" cy="2187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2"/>
          <p:cNvSpPr/>
          <p:nvPr/>
        </p:nvSpPr>
        <p:spPr>
          <a:xfrm>
            <a:off x="0" y="2924280"/>
            <a:ext cx="349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здеход, трогаясь с места, набирает скорость 35 км/ч, двигаясь с ускорением 0,5 м/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а какое время он приобретет эту скоро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3492360" y="260280"/>
            <a:ext cx="525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злете вертолет набирает скорость 240 км/ч, двигаясь с ускорением 1,5 м/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а какое время он приобретет эту скорость, если начальная скорость равна ну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3995640" y="3213000"/>
            <a:ext cx="489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обиль, трогаясь с места, достигает скорости 60 км/ч, двигаясь с ускорением 0,95 м/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а какое время он наберет эту скоро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8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385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38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440"/>
                            </p:stCondLst>
                            <p:childTnLst>
                              <p:par>
                                <p:cTn id="8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1440"/>
                            </p:stCondLst>
                            <p:childTnLst>
                              <p:par>
                                <p:cTn id="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6" descr="ип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ka50i"/>
          <p:cNvPicPr/>
          <p:nvPr/>
        </p:nvPicPr>
        <p:blipFill>
          <a:blip r:embed="rId2"/>
          <a:stretch/>
        </p:blipFill>
        <p:spPr>
          <a:xfrm>
            <a:off x="6516720" y="4869000"/>
            <a:ext cx="2376360" cy="177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kamazi"/>
          <p:cNvPicPr/>
          <p:nvPr/>
        </p:nvPicPr>
        <p:blipFill>
          <a:blip r:embed="rId3"/>
          <a:stretch/>
        </p:blipFill>
        <p:spPr>
          <a:xfrm>
            <a:off x="6946920" y="404640"/>
            <a:ext cx="2197080" cy="142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21"/>
          <p:cNvGraphicFramePr/>
          <p:nvPr/>
        </p:nvGraphicFramePr>
        <p:xfrm>
          <a:off x="250920" y="2852640"/>
          <a:ext cx="2016000" cy="136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Object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2852640"/>
                    <a:ext cx="2016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22" descr=""/>
          <p:cNvPicPr/>
          <p:nvPr/>
        </p:nvPicPr>
        <p:blipFill>
          <a:blip r:embed="rId6"/>
          <a:stretch/>
        </p:blipFill>
        <p:spPr>
          <a:xfrm>
            <a:off x="0" y="0"/>
            <a:ext cx="6227640" cy="2235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"/>
          <p:cNvPicPr/>
          <p:nvPr/>
        </p:nvPicPr>
        <p:blipFill>
          <a:blip r:embed="rId7"/>
          <a:stretch/>
        </p:blipFill>
        <p:spPr>
          <a:xfrm>
            <a:off x="3132000" y="2421000"/>
            <a:ext cx="6012000" cy="2219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"/>
          <p:cNvPicPr/>
          <p:nvPr/>
        </p:nvPicPr>
        <p:blipFill>
          <a:blip r:embed="rId8"/>
          <a:stretch/>
        </p:blipFill>
        <p:spPr>
          <a:xfrm>
            <a:off x="0" y="4786200"/>
            <a:ext cx="5724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5:06:28Z</dcterms:created>
  <dc:creator>User</dc:creator>
  <dc:description/>
  <dc:language>en-US</dc:language>
  <cp:lastModifiedBy>0</cp:lastModifiedBy>
  <dcterms:modified xsi:type="dcterms:W3CDTF">2012-01-10T07:30:12Z</dcterms:modified>
  <cp:revision>9</cp:revision>
  <dc:subject/>
  <dc:title>Слайд 1</dc:title>
</cp:coreProperties>
</file>