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6535-8978-4E1B-BD00-A499DC049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29D7-436F-4D09-BE49-58CE9AA11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E12-8879-4FC3-B1BB-BA194F128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236-6570-4C16-A2C6-641FC094F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A1E-E78A-459D-B09A-FF92ED1A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29F-3480-4736-BB29-98450D32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60A-A790-430C-8BB7-2FAA9602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4FE-1150-434B-8636-2494EAAD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5E3-DC0F-46BE-A68C-3FA1548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C7E-3776-4562-BD03-C227ECF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532-4BDF-4A93-AE4E-C1E32523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6EA-DB6D-4D86-994F-C87E80F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9A4-5EDC-4059-9EEB-258AE10D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D76-C924-47C7-8C85-1C47A63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5ED-334A-4180-9B9F-1FD6416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C8A-5CBD-4036-A767-063B7BBE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E43-AFDC-4F12-BCEA-D0BBA9349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100240" y="685800"/>
            <a:ext cx="612936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жение с ускорением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Крайний Север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486400" y="562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чнева Е,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Крайний Север – край Белого Безмолвия, красивейших природных явлений, добрых и сильных людей. Самое удивительное явление - Полярное си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Но где же, натура, твой зако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С полночных стран встаёт зар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Не солнце ль ставит там свой тро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Не льдисты ль мечут огнь мор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Се хладный пламень нас покры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Се в ночь на землю свет вступил!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Что зыблет ясной ночи луч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Что тонкий пламень в тверд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Как молния без грозных ту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Стремится от земли в зени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Как может быть, чтоб мерзлый п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erlin Sans FB"/>
              </a:rPr>
              <a:t>Среди зимы рожал пожа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ru-RU" sz="1600" spc="-1" strike="noStrike">
                <a:solidFill>
                  <a:srgbClr val="000099"/>
                </a:solidFill>
                <a:latin typeface="Arial Rounded MT Bold"/>
              </a:rPr>
              <a:t>М.В.Ломон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5229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7" descr="Blue hills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самолет 3"/>
          <p:cNvPicPr/>
          <p:nvPr/>
        </p:nvPicPr>
        <p:blipFill>
          <a:blip r:embed="rId2"/>
          <a:stretch/>
        </p:blipFill>
        <p:spPr>
          <a:xfrm>
            <a:off x="1143000" y="4191120"/>
            <a:ext cx="3054240" cy="223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самолет 2"/>
          <p:cNvPicPr/>
          <p:nvPr/>
        </p:nvPicPr>
        <p:blipFill>
          <a:blip r:embed="rId3"/>
          <a:stretch/>
        </p:blipFill>
        <p:spPr>
          <a:xfrm>
            <a:off x="380880" y="2590920"/>
            <a:ext cx="3867120" cy="1454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самолет"/>
          <p:cNvPicPr/>
          <p:nvPr/>
        </p:nvPicPr>
        <p:blipFill>
          <a:blip r:embed="rId4"/>
          <a:stretch/>
        </p:blipFill>
        <p:spPr>
          <a:xfrm>
            <a:off x="380880" y="228600"/>
            <a:ext cx="3776760" cy="162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карта"/>
          <p:cNvPicPr/>
          <p:nvPr/>
        </p:nvPicPr>
        <p:blipFill>
          <a:blip r:embed="rId5"/>
          <a:stretch/>
        </p:blipFill>
        <p:spPr>
          <a:xfrm>
            <a:off x="3962520" y="304920"/>
            <a:ext cx="48718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39080" y="-52653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76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00"/>
                </a:solidFill>
                <a:latin typeface="Arial"/>
              </a:rPr>
              <a:t>Самолёт Ан-72, трогается с места, через 1 минуту набирает скорость 220км/ч. С каким постоянным ускорением движется самолёт по взлётной полос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00"/>
                </a:solidFill>
                <a:latin typeface="Arial"/>
              </a:rPr>
              <a:t>Самолёт Ил-62, трогаясь с места, через 2 минуты набирает скорость 300км/ч.С каким постоянным ускорением движется самолёт по взлётной полос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00"/>
                </a:solidFill>
                <a:latin typeface="Arial"/>
              </a:rPr>
              <a:t>Самолёт Ту-154, двигается с места, через 1,5 мин набирает скорость 260 км/ч. С каким постоянным ускорением он движетс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380520"/>
            <a:ext cx="39625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илибин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век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8153280" y="762120"/>
            <a:ext cx="15264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533412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flipV="1">
            <a:off x="8077320" y="914400"/>
            <a:ext cx="15228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8305920" y="990720"/>
            <a:ext cx="15228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>
            <a:off x="7848720" y="1905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686800" y="-52416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Дано: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1 мин               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/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61,11/60=1,01 м/с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0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0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( 220*1000)/3600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220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м/ч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=6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11м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?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/с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Д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=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 мин                  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/t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83,3/120=0,69м/с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300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км/ч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(300*1000)/3600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8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м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? (м/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 д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(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/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72,2/90=0,8м/с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=1,5                  (260*1000)/3600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260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м/ч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=72,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>
            <a:off x="1676520" y="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4"/>
          <p:cNvSpPr/>
          <p:nvPr/>
        </p:nvSpPr>
        <p:spPr>
          <a:xfrm flipH="1">
            <a:off x="304560" y="1523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3962520" y="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6"/>
          <p:cNvSpPr/>
          <p:nvPr/>
        </p:nvSpPr>
        <p:spPr>
          <a:xfrm>
            <a:off x="1752480" y="2438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457200" y="3657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4038480" y="2438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>
            <a:off x="1752480" y="4343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3808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1"/>
          <p:cNvSpPr/>
          <p:nvPr/>
        </p:nvSpPr>
        <p:spPr>
          <a:xfrm>
            <a:off x="4038480" y="4343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</cp:lastModifiedBy>
  <dcterms:modified xsi:type="dcterms:W3CDTF">2011-04-20T07:46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