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A07CA-F8D8-4DCE-B59A-A0120D0AFD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59723-3832-4784-BFB7-918537B15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9D3E7-408B-49A6-ABE9-EC82693BA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F57C5-9EFC-4525-ACEA-3486971444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3C4CF9-616F-4C67-95FD-E480C2CF95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809DDF-C736-42EB-B747-1D5893830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B86D22-0FDC-4765-9E71-590A980F2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6A10A5-5829-45B6-8F0C-412CA0291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BEBB85-D757-411E-A7CA-E170900C3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C504CF-26E1-4940-AA5C-0AE184B32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81D8E1-3346-4099-8973-0DDBC4260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66C72-EC1B-494F-AF46-F1585B2FB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41A97F-7254-4E28-B9E7-6FCBFEA9A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79B8E6-22FF-415F-99D2-A99026324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6F9AE3-7F7B-4A7C-9432-66EA6BD3A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AA703F-4DBE-4402-B90E-CEDB3057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519057-0CEA-44A4-B8C3-CA2D84271BB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8A473-ED75-42A0-9F14-3BAA5357B9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24545-00CD-4A60-854F-F17B505EC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E3B15-D0A3-40FD-96F4-CB49A5DDC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9C8FE-3DB6-44ED-AA46-A589698DA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4F5FD-ECDE-4E3C-B92D-904965FC5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F95B4-5073-4FB1-8F21-2D92EC7FD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E7283-A154-4943-B23D-44D1A0966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29C86-2946-42C2-9B6D-1CE40F17C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4B122-10A5-4919-96F5-AC54C5CD2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44131-C9A6-4CCB-A9CE-77ED092CF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E2162-F763-4EA4-9C25-DC9263C5E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F09D7-0DA3-446E-A925-7827820E6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2437E-3A83-4599-B28E-B9446E0BD6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ED100-6AF9-4C01-AFD5-34950C07B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D8FE5-9F6A-4663-92F9-876E5C694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3B9D4-0063-48E0-980C-30D8D3E5F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30C7D-A98A-43DF-A591-C151E6611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F2C21-8C0E-4E38-912E-7B0381C57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4D404-A458-4D44-9F93-119EFC081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4dcf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5105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4dcf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1600200"/>
            <a:ext cx="9144000" cy="5105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316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3.5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ldNum" idx="2"/>
          </p:nvPr>
        </p:nvSpPr>
        <p:spPr>
          <a:xfrm>
            <a:off x="3809880" y="6172200"/>
            <a:ext cx="182736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9A67E86-BD95-462B-92EE-F479B865EEA4}" type="slidenum">
              <a:rPr b="0" lang="ru-RU" sz="18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body"/>
          </p:nvPr>
        </p:nvSpPr>
        <p:spPr>
          <a:xfrm>
            <a:off x="1143000" y="731880"/>
            <a:ext cx="639936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6000"/>
          </a:bodyPr>
          <a:p>
            <a:pPr marL="32904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329040" indent="-3290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329040" indent="-3290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329040" indent="-3290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329040" indent="-3290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329040" indent="-3290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329040" indent="-3290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4dcf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5105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4dcf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600200"/>
            <a:ext cx="9144000" cy="5105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dt" idx="3"/>
          </p:nvPr>
        </p:nvSpPr>
        <p:spPr>
          <a:xfrm>
            <a:off x="6171840" y="6172200"/>
            <a:ext cx="251316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3.5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Num" idx="4"/>
          </p:nvPr>
        </p:nvSpPr>
        <p:spPr>
          <a:xfrm>
            <a:off x="3809880" y="6172200"/>
            <a:ext cx="182736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0079136-9845-4799-BD50-78BA82FB32E4}" type="slidenum">
              <a:rPr b="0" lang="ru-RU" sz="18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4dcf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5105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4dcf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600200"/>
            <a:ext cx="9144000" cy="5105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dt" idx="5"/>
          </p:nvPr>
        </p:nvSpPr>
        <p:spPr>
          <a:xfrm>
            <a:off x="6171840" y="6172200"/>
            <a:ext cx="251316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3.5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736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FD2B955-5A4E-4D13-9318-396BD8929290}" type="slidenum">
              <a:rPr b="0" lang="ru-RU" sz="18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102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1142640" y="731880"/>
            <a:ext cx="334476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1000"/>
          </a:bodyPr>
          <a:p>
            <a:pPr marL="24336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243360" indent="-24336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243360" indent="-24336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243360" indent="-24336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243360" indent="-24336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243360" indent="-24336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243360" indent="-24336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"/>
          <p:cNvSpPr/>
          <p:nvPr/>
        </p:nvSpPr>
        <p:spPr>
          <a:xfrm>
            <a:off x="4645080" y="731880"/>
            <a:ext cx="3346560" cy="34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31640" indent="-32364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Для правки структуры щелкните мышь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  <a:ea typeface="Arial Unicode MS"/>
              </a:rPr>
              <a:t>Второй уровень структур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  <a:ea typeface="Arial Unicode MS"/>
              </a:rPr>
              <a:t>Третий уровень структур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100000"/>
              </a:lnSpc>
              <a:spcAft>
                <a:spcPts val="575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  <a:ea typeface="Arial Unicode MS"/>
              </a:rPr>
              <a:t>Четвёртый уровень структур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  <a:ea typeface="Arial Unicode MS"/>
              </a:rPr>
              <a:t>Пятый уровень структур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  <a:ea typeface="Arial Unicode MS"/>
              </a:rPr>
              <a:t>Шестой уровень структур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  <a:ea typeface="Arial Unicode MS"/>
              </a:rPr>
              <a:t>Седьмой уровень структур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  <a:ea typeface="Arial Unicode MS"/>
              </a:rPr>
              <a:t>Восьмой уровень структур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Bef>
                <a:spcPts val="437"/>
              </a:spcBef>
              <a:spcAft>
                <a:spcPts val="300"/>
              </a:spcAft>
              <a:buClr>
                <a:srgbClr val="c3260c"/>
              </a:buClr>
              <a:buFont typeface="Georgia"/>
              <a:buChar char="*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Девятый уровень структурыОбразец текс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Font typeface="Georgia"/>
              <a:buChar char="*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  <a:ea typeface="Arial Unicode MS"/>
              </a:rPr>
              <a:t>Второ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100000"/>
              </a:lnSpc>
              <a:spcBef>
                <a:spcPts val="363"/>
              </a:spcBef>
              <a:spcAft>
                <a:spcPts val="300"/>
              </a:spcAft>
              <a:buClr>
                <a:srgbClr val="c3260c"/>
              </a:buClr>
              <a:buFont typeface="Georgia"/>
              <a:buChar char="*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  <a:ea typeface="Arial Unicode MS"/>
              </a:rPr>
              <a:t>Трети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100000"/>
              </a:lnSpc>
              <a:spcBef>
                <a:spcPts val="326"/>
              </a:spcBef>
              <a:spcAft>
                <a:spcPts val="300"/>
              </a:spcAft>
              <a:buClr>
                <a:srgbClr val="c3260c"/>
              </a:buClr>
              <a:buFont typeface="Georgia"/>
              <a:buChar char="*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  <a:ea typeface="Arial Unicode MS"/>
              </a:rPr>
              <a:t>Четвертый урове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0000"/>
              </a:lnSpc>
              <a:spcBef>
                <a:spcPts val="275"/>
              </a:spcBef>
              <a:spcAft>
                <a:spcPts val="300"/>
              </a:spcAft>
              <a:buClr>
                <a:srgbClr val="c3260c"/>
              </a:buClr>
              <a:buFont typeface="Georgia"/>
              <a:buChar char="*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  <a:ea typeface="Arial Unicode MS"/>
              </a:rPr>
              <a:t>Пятый урове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mages.yandex.ru/" TargetMode="External"/><Relationship Id="rId2" Type="http://schemas.openxmlformats.org/officeDocument/2006/relationships/hyperlink" Target="http://images.yandex.ru/" TargetMode="External"/><Relationship Id="rId3" Type="http://schemas.openxmlformats.org/officeDocument/2006/relationships/hyperlink" Target="http://images.yandex.ru/" TargetMode="External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763640" y="333360"/>
            <a:ext cx="6400800" cy="5111640"/>
          </a:xfrm>
          <a:prstGeom prst="rect">
            <a:avLst/>
          </a:prstGeom>
          <a:gradFill rotWithShape="0">
            <a:gsLst>
              <a:gs pos="0">
                <a:srgbClr val="435ec5"/>
              </a:gs>
              <a:gs pos="100000">
                <a:srgbClr val="2a3f92"/>
              </a:gs>
            </a:gsLst>
            <a:lin ang="5400000"/>
          </a:gradFill>
          <a:ln w="9360">
            <a:solidFill>
              <a:srgbClr val="4e67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spcAft>
                <a:spcPts val="300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437"/>
              </a:spcBef>
              <a:spcAft>
                <a:spcPts val="300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ru-RU" sz="4400" spc="-1" strike="noStrike">
                <a:solidFill>
                  <a:srgbClr val="404040"/>
                </a:solidFill>
                <a:latin typeface="Times New Roman"/>
              </a:rPr>
              <a:t>«Маленькая курочк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437"/>
              </a:spcBef>
              <a:spcAft>
                <a:spcPts val="300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437"/>
              </a:spcBef>
              <a:spcAft>
                <a:spcPts val="300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437"/>
              </a:spcBef>
              <a:spcAft>
                <a:spcPts val="300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Алябьева Екатерина Александ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419640" y="260280"/>
            <a:ext cx="5111640" cy="37306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24000" y="3429000"/>
            <a:ext cx="3095640" cy="2101320"/>
          </a:xfrm>
          <a:prstGeom prst="rect">
            <a:avLst/>
          </a:prstGeom>
          <a:gradFill rotWithShape="0">
            <a:gsLst>
              <a:gs pos="0">
                <a:srgbClr val="435ec5"/>
              </a:gs>
              <a:gs pos="100000">
                <a:srgbClr val="2a3f92"/>
              </a:gs>
            </a:gsLst>
            <a:lin ang="5400000"/>
          </a:gradFill>
          <a:ln w="9360">
            <a:solidFill>
              <a:srgbClr val="4e67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Can you help me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the do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480" y="318960"/>
            <a:ext cx="5352840" cy="40323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11280" y="4351320"/>
            <a:ext cx="7488000" cy="191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-I like to jump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I like to play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I like to do it every da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796000" y="752400"/>
            <a:ext cx="2663640" cy="34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I do not want to help you. I want to play, to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403280" y="260280"/>
            <a:ext cx="4032360" cy="40323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5867280" y="3141720"/>
            <a:ext cx="2880000" cy="2101320"/>
          </a:xfrm>
          <a:prstGeom prst="rect">
            <a:avLst/>
          </a:prstGeom>
          <a:gradFill rotWithShape="0">
            <a:gsLst>
              <a:gs pos="0">
                <a:srgbClr val="435ec5"/>
              </a:gs>
              <a:gs pos="100000">
                <a:srgbClr val="2a3f92"/>
              </a:gs>
            </a:gsLst>
            <a:lin ang="5400000"/>
          </a:gradFill>
          <a:ln w="9360">
            <a:solidFill>
              <a:srgbClr val="4e67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Can you help me, the Duc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84360" y="836640"/>
            <a:ext cx="5076720" cy="33843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643040" y="4721400"/>
            <a:ext cx="6889680" cy="1431000"/>
          </a:xfrm>
          <a:prstGeom prst="rect">
            <a:avLst/>
          </a:prstGeom>
          <a:gradFill rotWithShape="0">
            <a:gsLst>
              <a:gs pos="0">
                <a:srgbClr val="d2f7b5"/>
              </a:gs>
              <a:gs pos="100000">
                <a:srgbClr val="abe67c"/>
              </a:gs>
            </a:gsLst>
            <a:lin ang="5400000"/>
          </a:gradFill>
          <a:ln w="9360">
            <a:solidFill>
              <a:srgbClr val="a7ea5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I do not want to help you. I want to swim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687760" y="330120"/>
            <a:ext cx="6102360" cy="42037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52360" y="476280"/>
            <a:ext cx="2519280" cy="4112280"/>
          </a:xfrm>
          <a:prstGeom prst="rect">
            <a:avLst/>
          </a:prstGeom>
          <a:gradFill rotWithShape="0">
            <a:gsLst>
              <a:gs pos="0">
                <a:srgbClr val="435ec5"/>
              </a:gs>
              <a:gs pos="100000">
                <a:srgbClr val="2a3f92"/>
              </a:gs>
            </a:gsLst>
            <a:lin ang="5400000"/>
          </a:gradFill>
          <a:ln w="9360">
            <a:solidFill>
              <a:srgbClr val="4e67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Can you help me to plant the seeds, my chicke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75120" y="4533840"/>
            <a:ext cx="5324400" cy="760680"/>
          </a:xfrm>
          <a:prstGeom prst="rect">
            <a:avLst/>
          </a:prstGeom>
          <a:solidFill>
            <a:srgbClr val="ffffff"/>
          </a:solidFill>
          <a:ln w="15840">
            <a:solidFill>
              <a:srgbClr val="293d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- Yes, we can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4616280" cy="38163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5435640" y="333360"/>
            <a:ext cx="2952720" cy="6185160"/>
          </a:xfrm>
          <a:prstGeom prst="rect">
            <a:avLst/>
          </a:prstGeom>
          <a:gradFill rotWithShape="0">
            <a:gsLst>
              <a:gs pos="0">
                <a:srgbClr val="435ec5"/>
              </a:gs>
              <a:gs pos="100000">
                <a:srgbClr val="2a3f92"/>
              </a:gs>
            </a:gsLst>
            <a:lin ang="5400000"/>
          </a:gradFill>
          <a:ln w="9360">
            <a:solidFill>
              <a:srgbClr val="4e67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Now I ' ve got many seed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I want to make brea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-Help me to make bread, please, my friend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403280" y="907920"/>
            <a:ext cx="4459320" cy="33591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971640" y="4724280"/>
            <a:ext cx="7343640" cy="130932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I do not want to make bread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I want to pla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900000" y="549360"/>
            <a:ext cx="4241880" cy="42418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5580000" y="2997360"/>
            <a:ext cx="3456000" cy="2771640"/>
          </a:xfrm>
          <a:prstGeom prst="rect">
            <a:avLst/>
          </a:prstGeom>
          <a:gradFill rotWithShape="0">
            <a:gsLst>
              <a:gs pos="0">
                <a:srgbClr val="435ec5"/>
              </a:gs>
              <a:gs pos="100000">
                <a:srgbClr val="2a3f92"/>
              </a:gs>
            </a:gsLst>
            <a:lin ang="5400000"/>
          </a:gradFill>
          <a:ln w="9360">
            <a:solidFill>
              <a:srgbClr val="4e67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Can you help me to make bread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the Dog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281400" y="874800"/>
            <a:ext cx="5494320" cy="41385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96840" y="260280"/>
            <a:ext cx="3203640" cy="61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I do not want to make bread. I want to ru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I am a dog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I like to look for your sock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995640" y="476280"/>
            <a:ext cx="4768920" cy="34797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826920" y="4724280"/>
            <a:ext cx="6624720" cy="1431000"/>
          </a:xfrm>
          <a:prstGeom prst="rect">
            <a:avLst/>
          </a:prstGeom>
          <a:gradFill rotWithShape="0">
            <a:gsLst>
              <a:gs pos="0">
                <a:srgbClr val="435ec5"/>
              </a:gs>
              <a:gs pos="100000">
                <a:srgbClr val="2a3f92"/>
              </a:gs>
            </a:gsLst>
            <a:lin ang="5400000"/>
          </a:gradFill>
          <a:ln w="9360">
            <a:solidFill>
              <a:srgbClr val="4e67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Can you help me to make bread, the Duc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85840" y="395280"/>
            <a:ext cx="8572320" cy="60674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901880" y="5824440"/>
            <a:ext cx="304920" cy="3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788000" y="476280"/>
            <a:ext cx="4103640" cy="54007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61920" y="1422360"/>
            <a:ext cx="4535640" cy="2101320"/>
          </a:xfrm>
          <a:prstGeom prst="rect">
            <a:avLst/>
          </a:prstGeom>
          <a:gradFill rotWithShape="0">
            <a:gsLst>
              <a:gs pos="0">
                <a:srgbClr val="d2f7b5"/>
              </a:gs>
              <a:gs pos="100000">
                <a:srgbClr val="abe67c"/>
              </a:gs>
            </a:gsLst>
            <a:lin ang="5400000"/>
          </a:gradFill>
          <a:ln w="9360">
            <a:solidFill>
              <a:srgbClr val="a7ea5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I do not want to make bread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I want to swim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614520"/>
            <a:ext cx="4086360" cy="28144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826920" y="614520"/>
            <a:ext cx="3816360" cy="4112280"/>
          </a:xfrm>
          <a:prstGeom prst="rect">
            <a:avLst/>
          </a:prstGeom>
          <a:gradFill rotWithShape="0">
            <a:gsLst>
              <a:gs pos="0">
                <a:srgbClr val="435ec5"/>
              </a:gs>
              <a:gs pos="100000">
                <a:srgbClr val="2a3f92"/>
              </a:gs>
            </a:gsLst>
            <a:lin ang="5400000"/>
          </a:gradFill>
          <a:ln w="9360">
            <a:solidFill>
              <a:srgbClr val="4e67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What  a pit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- Can you help me to make bread, my chicke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981680" y="3708360"/>
            <a:ext cx="4014720" cy="21013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Of course, we can. With great pleasur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143000" y="549360"/>
            <a:ext cx="3186000" cy="36576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5292720" y="1989000"/>
            <a:ext cx="2352600" cy="17240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395280" y="4307040"/>
            <a:ext cx="8424720" cy="2101320"/>
          </a:xfrm>
          <a:prstGeom prst="rect">
            <a:avLst/>
          </a:prstGeom>
          <a:gradFill rotWithShape="0">
            <a:gsLst>
              <a:gs pos="0">
                <a:srgbClr val="435ec5"/>
              </a:gs>
              <a:gs pos="100000">
                <a:srgbClr val="2a3f92"/>
              </a:gs>
            </a:gsLst>
            <a:lin ang="5400000"/>
          </a:gradFill>
          <a:ln w="9360">
            <a:solidFill>
              <a:srgbClr val="4e67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Now we' ve got brea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-Do you want to eat bread, my friend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31640" y="654120"/>
            <a:ext cx="4818240" cy="3854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662040" y="4940280"/>
            <a:ext cx="2973240" cy="130932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Yes, I 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I am hungry</a:t>
            </a: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651640" y="1123920"/>
            <a:ext cx="3246120" cy="25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Of course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I 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I am very, very hungr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971640" y="476280"/>
            <a:ext cx="5111640" cy="34084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4859280" y="4659480"/>
            <a:ext cx="3888000" cy="1187640"/>
          </a:xfrm>
          <a:prstGeom prst="rect">
            <a:avLst/>
          </a:prstGeom>
          <a:gradFill rotWithShape="0">
            <a:gsLst>
              <a:gs pos="0">
                <a:srgbClr val="d2f7b5"/>
              </a:gs>
              <a:gs pos="100000">
                <a:srgbClr val="abe67c"/>
              </a:gs>
            </a:gsLst>
            <a:lin ang="5400000"/>
          </a:gradFill>
          <a:ln w="9360">
            <a:solidFill>
              <a:srgbClr val="a7ea5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Yes, I do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I am hungry, to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85640" y="2052720"/>
            <a:ext cx="6245280" cy="43020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1779480" y="5734080"/>
            <a:ext cx="409680" cy="4096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11280" y="404640"/>
            <a:ext cx="7993080" cy="760680"/>
          </a:xfrm>
          <a:prstGeom prst="rect">
            <a:avLst/>
          </a:prstGeom>
          <a:gradFill rotWithShape="0">
            <a:gsLst>
              <a:gs pos="0">
                <a:srgbClr val="435ec5"/>
              </a:gs>
              <a:gs pos="100000">
                <a:srgbClr val="2a3f92"/>
              </a:gs>
            </a:gsLst>
            <a:lin ang="5400000"/>
          </a:gradFill>
          <a:ln w="9360">
            <a:solidFill>
              <a:srgbClr val="4e67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Let' s drink tea and sing a son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116000" y="1444680"/>
            <a:ext cx="6985080" cy="41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Литература: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Верещагина И.Н.,  Притыкина Т. А. Английский язык: Учеб. для II кл. шк. с углубл. изуч. англ. яз., лицеев, гимназий, колледжей.- 7-е изд.- М.: Просвещение, 1999.- 239 с.: и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Чистякова Т.А. Чернушенко Е.М.,  Солина Г.И. Обучение иностранным языкам в детских садах.- М.: Просвещение, 19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www.free.abcsongs.com/oldmacdonald (песня)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://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images.yandex.ru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картинк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308320" y="1898640"/>
            <a:ext cx="4265640" cy="42656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93720" y="757080"/>
            <a:ext cx="8064360" cy="760680"/>
          </a:xfrm>
          <a:prstGeom prst="rect">
            <a:avLst/>
          </a:prstGeom>
          <a:gradFill rotWithShape="0">
            <a:gsLst>
              <a:gs pos="0">
                <a:srgbClr val="435ec5"/>
              </a:gs>
              <a:gs pos="100000">
                <a:srgbClr val="2a3f9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I am a Hen. My name is J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708360" y="711360"/>
            <a:ext cx="451332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143000" y="1130400"/>
            <a:ext cx="3346560" cy="26780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997520" y="731880"/>
            <a:ext cx="2639880" cy="34750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114560" y="4365720"/>
            <a:ext cx="6840360" cy="1431000"/>
          </a:xfrm>
          <a:prstGeom prst="rect">
            <a:avLst/>
          </a:prstGeom>
          <a:gradFill rotWithShape="0">
            <a:gsLst>
              <a:gs pos="0">
                <a:srgbClr val="435ec5"/>
              </a:gs>
              <a:gs pos="100000">
                <a:srgbClr val="2a3f92"/>
              </a:gs>
            </a:gsLst>
            <a:lin ang="5400000"/>
          </a:gradFill>
          <a:ln w="9360">
            <a:solidFill>
              <a:srgbClr val="4e67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I' ve got 3 friends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a  Cat, a Dog and a Duck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77800" y="476280"/>
            <a:ext cx="7161120" cy="4932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2716200" y="5518080"/>
            <a:ext cx="5040360" cy="760680"/>
          </a:xfrm>
          <a:prstGeom prst="rect">
            <a:avLst/>
          </a:prstGeom>
          <a:gradFill rotWithShape="0">
            <a:gsLst>
              <a:gs pos="0">
                <a:srgbClr val="435ec5"/>
              </a:gs>
              <a:gs pos="100000">
                <a:srgbClr val="2a3f9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I  have chicken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908000" y="426960"/>
            <a:ext cx="5977080" cy="573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908000" y="1123920"/>
            <a:ext cx="6480360" cy="2771640"/>
          </a:xfrm>
          <a:prstGeom prst="rect">
            <a:avLst/>
          </a:prstGeom>
          <a:solidFill>
            <a:srgbClr val="ffffff"/>
          </a:solidFill>
          <a:ln w="15840">
            <a:solidFill>
              <a:srgbClr val="1998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I' ve got a mother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I' ve got a father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I' ve got a sister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I’ve got a broth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835280" y="260280"/>
            <a:ext cx="5103720" cy="34369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468360" y="3573360"/>
            <a:ext cx="7488360" cy="2771640"/>
          </a:xfrm>
          <a:prstGeom prst="rect">
            <a:avLst/>
          </a:prstGeom>
          <a:gradFill rotWithShape="0">
            <a:gsLst>
              <a:gs pos="0">
                <a:srgbClr val="435ec5"/>
              </a:gs>
              <a:gs pos="100000">
                <a:srgbClr val="2a3f9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I  have got seeds. I want to plant the seed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- Help me to plant the seeds, my friend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203640" y="476280"/>
            <a:ext cx="5456160" cy="39290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79400" y="318960"/>
            <a:ext cx="2232000" cy="411228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-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I do not want to help you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I want to dance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5-02T21:08:42Z</dcterms:modified>
  <cp:revision>1</cp:revision>
  <dc:subject/>
  <dc:title>Слайд 1</dc:title>
</cp:coreProperties>
</file>