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0250-BFAC-4C16-AA4B-853946FF93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2FBD-66FB-411B-8CFA-301B685F7C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16F-BD4F-4069-858E-78B7384B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F3F5-EBF5-4914-8DD8-23A3753A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243-7C56-4788-A7F4-0EFFFA6D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61A-218F-4D65-A8A5-3F4CAAF7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2DA9-1A27-466A-AC49-E580D3DD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F7E-4FE9-4C1C-A1A8-C9F485CD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DA99-CE4C-4CF5-BCD2-70BA089A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E61-3C7C-40F0-BA06-FDB4736C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644-874E-44F6-BE0D-DC557FE6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38F8-305E-4E0A-A8C1-11DC34ED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6D9-4816-4B57-B959-8086AC8C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C085-59DD-4378-B373-58DDDB88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5916-5C7D-42FA-B6F1-65FA6F548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7772400" cy="257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Министерство образования и науки Российской Федерации.</a:t>
            </a:r>
            <a:br>
              <a:rPr sz="1600"/>
            </a:b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МУНИЦИПАЛЬНОЕ  ОБЩЕОБРАЗОВАТЕЛЬНОЕ УЯРЕЖДЕНИЕ ЛИЦЕЙ №1 г.ВОЛГОГРАДА.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шины для сверления.</a:t>
            </a:r>
            <a:br>
              <a:rPr sz="1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43720" y="5143680"/>
            <a:ext cx="3186000" cy="13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Работу подготовил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учитель технологии Нагорный Н.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38-042-28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Изображение 026.jpg"/>
          <p:cNvPicPr/>
          <p:nvPr/>
        </p:nvPicPr>
        <p:blipFill>
          <a:blip r:embed="rId2"/>
          <a:stretch/>
        </p:blipFill>
        <p:spPr>
          <a:xfrm>
            <a:off x="571680" y="3071880"/>
            <a:ext cx="46335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0040" y="5367240"/>
            <a:ext cx="8072640" cy="804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Центровое сверло может иметь два резца для сверления отверстий диаметром до 75 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4" descr=""/>
          <p:cNvPicPr/>
          <p:nvPr/>
        </p:nvPicPr>
        <p:blipFill>
          <a:blip r:embed="rId2"/>
          <a:stretch/>
        </p:blipFill>
        <p:spPr>
          <a:xfrm>
            <a:off x="1857240" y="214200"/>
            <a:ext cx="5486400" cy="496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верло центровочн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mhtml:file://C:\Documents%20and%20Settings\Учитель\Рабочий%20стол\копия%2020.08.10\Рисунки%20сверл%20-%20библиотека%20инструментальщика.mht!images/instrument/sverlo_centr3.jpg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71680" y="4214520"/>
            <a:ext cx="7572240" cy="195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. Режущая кром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 Ленточ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Спиральная канав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Хвостов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Обозначение размера сверла и материа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00040" y="571680"/>
            <a:ext cx="7643880" cy="276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428760" y="642960"/>
            <a:ext cx="8286480" cy="563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13840" y="571320"/>
            <a:ext cx="857268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500040" y="4286160"/>
            <a:ext cx="785808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верла закрепляют в патроне коловорота или дре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 ручной дрели вращение сверла обеспечивается благодаря специальному механизму — зубчатой передаче. С ее помощью вращение ручки дрели передается патрону. Простейшая зубчатая передача состоит из двух зубчатых колес, находящихся в зацеплении друг с другом. Они могут быть одного или разных диаметров, с разным количеством зубьев. Зубчатые колеса, как и винты, гайки и другие детали, используются не только в дрели, но и в других машинах и механизмах. Такие детали называют типов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5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7858080" cy="385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72400" cy="1084320"/>
          </a:xfrm>
          <a:prstGeom prst="rect">
            <a:avLst/>
          </a:prstGeom>
          <a:solidFill>
            <a:srgbClr val="92d050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Технология выполнения свер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785960" y="1500120"/>
            <a:ext cx="6000840" cy="475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6543720" cy="5942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правила  техники безопасности при сверлении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Надежно закреплять сверло, заготовку, подкладную доску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. Не допускать перекоса сверла при сверлении отверстий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. В начале и в конце сверления нажим на упор коловорота (дрели) должен быть небольшим, а вращение — медленным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4. Коловорот или дрель класть на верстак сверлом от себя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5. Нельзя во время сверления придерживать сверло руками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6. Нельзя проверять качество отверстия пальцами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7. Запрещается выдувать стружку из отверстия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Овал 13"/>
          <p:cNvSpPr/>
          <p:nvPr/>
        </p:nvSpPr>
        <p:spPr>
          <a:xfrm>
            <a:off x="7286760" y="2928960"/>
            <a:ext cx="1500120" cy="1000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Виде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561000" y="5162400"/>
            <a:ext cx="2583000" cy="169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291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9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4"/>
          <p:cNvSpPr/>
          <p:nvPr/>
        </p:nvSpPr>
        <p:spPr>
          <a:xfrm>
            <a:off x="500040" y="357120"/>
            <a:ext cx="8286840" cy="594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Н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Выполнить пробное сверление на специальной заготов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Разметить и просверлить отверстие в указ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Произвести окончательную зачистку издел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 Нанести разметку контуров для выжигания и выжечь необходимый рисун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Лакировать изделие акриловым ла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2786040" y="1928880"/>
            <a:ext cx="1704960" cy="1352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3714840" y="4429080"/>
            <a:ext cx="4243320" cy="142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000080" y="1500120"/>
            <a:ext cx="7143840" cy="411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Кто сказал что сверлить скучно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1785960" y="357120"/>
            <a:ext cx="5500800" cy="335772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1944720" y="4952880"/>
            <a:ext cx="54864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Текст 3"/>
          <p:cNvSpPr/>
          <p:nvPr/>
        </p:nvSpPr>
        <p:spPr>
          <a:xfrm>
            <a:off x="1944720" y="5519880"/>
            <a:ext cx="54864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795240" y="4359600"/>
            <a:ext cx="8072640" cy="22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исованные колеса изготовлены из резины. Что­бы колесо Х вращалось в направлении, указанном стрелкой, ведущее колесо(левое), нужно враща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)в направлении 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) в направлении 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) направление не имеет знач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0040" y="4928760"/>
            <a:ext cx="8215200" cy="124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  Какая из шестерен, А или В, вращается медленнее или они вращаются с одинаковой скоростью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) шестерня А— медленнее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) шестерня В — медленнее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) шестерни вращаются одинако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346040" y="612720"/>
            <a:ext cx="637884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643720" y="1999800"/>
            <a:ext cx="3071520" cy="442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дъем в гору на велосипеде тяжелее при передач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)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500040" y="785880"/>
            <a:ext cx="4780080" cy="5537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4240" y="714240"/>
            <a:ext cx="7772400" cy="1928880"/>
          </a:xfrm>
          <a:prstGeom prst="rect">
            <a:avLst/>
          </a:prstGeom>
          <a:solidFill>
            <a:srgbClr val="00b050">
              <a:alpha val="8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верл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2999880"/>
            <a:ext cx="6400800" cy="26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разование отверстия в сплошном материале путем снятия стружки с помощью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сверл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зывается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сверл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rcRect l="-2385" t="18069" r="0" b="0"/>
          <a:stretch/>
        </p:blipFill>
        <p:spPr>
          <a:xfrm>
            <a:off x="1344600" y="1571760"/>
            <a:ext cx="6656400" cy="4768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1000080" y="500040"/>
            <a:ext cx="7572600" cy="7642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ЧТО ТАКОЕ ОТВЕРСТ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5960" y="500040"/>
            <a:ext cx="5486400" cy="642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Виды свер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71360" y="4929120"/>
            <a:ext cx="7065720" cy="357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ЛОЖЕЧНОЕ,     СПИРАЛЬНОЕ,    ЦЕНРОВОЕ (ПЕРЬЕВОЕ),     ВИНТОВОЕ ( ШНЕКОВО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642960" y="1571760"/>
            <a:ext cx="8077320" cy="310176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1143000" y="5429160"/>
            <a:ext cx="714384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ложеч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 – винтовое  (шнеково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- центровое  (перьево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 - спираль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8400" y="5214960"/>
            <a:ext cx="8358120" cy="1643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верло для шурупов с потайной головкой высверливает сразу отверстия трёх диаметров: для резьбы, стержня и головки шуруп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4" descr=""/>
          <p:cNvPicPr/>
          <p:nvPr/>
        </p:nvPicPr>
        <p:blipFill>
          <a:blip r:embed="rId2"/>
          <a:srcRect l="0" t="2821" r="0" b="2821"/>
          <a:stretch/>
        </p:blipFill>
        <p:spPr>
          <a:xfrm>
            <a:off x="1785960" y="428760"/>
            <a:ext cx="5486400" cy="477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85840" y="5000400"/>
            <a:ext cx="8572320" cy="150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енкером только расширяют края просверливаемого отверстия, чтобы плоская головка шурупа легла вплотную с поверхностью издел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"/>
          <p:cNvPicPr/>
          <p:nvPr/>
        </p:nvPicPr>
        <p:blipFill>
          <a:blip r:embed="rId2"/>
          <a:stretch/>
        </p:blipFill>
        <p:spPr>
          <a:xfrm>
            <a:off x="1792440" y="214200"/>
            <a:ext cx="5486400" cy="4643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8:49:45Z</dcterms:created>
  <dc:creator>Гость</dc:creator>
  <dc:description/>
  <dc:language>en-US</dc:language>
  <cp:lastModifiedBy>User</cp:lastModifiedBy>
  <dcterms:modified xsi:type="dcterms:W3CDTF">2012-05-22T06:26:15Z</dcterms:modified>
  <cp:revision>171</cp:revision>
  <dc:subject/>
  <dc:title>Машины для сверления</dc:title>
</cp:coreProperties>
</file>