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png" ContentType="image/png"/>
  <Override PartName="/ppt/media/image46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4.png" ContentType="image/pn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8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38.jpeg" ContentType="image/jpeg"/>
  <Override PartName="/ppt/media/image20.jpeg" ContentType="image/jpeg"/>
  <Override PartName="/ppt/media/image17.jpeg" ContentType="image/jpeg"/>
  <Override PartName="/ppt/media/image61.jpeg" ContentType="image/jpeg"/>
  <Override PartName="/ppt/media/image16.jpeg" ContentType="image/jpeg"/>
  <Override PartName="/ppt/media/image51.jpeg" ContentType="image/jpeg"/>
  <Override PartName="/ppt/media/image25.jpeg" ContentType="image/jpeg"/>
  <Override PartName="/ppt/media/image32.png" ContentType="image/png"/>
  <Override PartName="/ppt/media/image63.jpeg" ContentType="image/jpeg"/>
  <Override PartName="/ppt/media/image6.jpeg" ContentType="image/jpeg"/>
  <Override PartName="/ppt/media/image19.jpeg" ContentType="image/jpeg"/>
  <Override PartName="/ppt/media/image5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0922-C3B9-470D-86F5-96A45835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745E-F346-4D07-B53C-C562D745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A409-1D52-4D3B-AE87-67E51C494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892C-FFFA-4A87-B7F4-7C7905685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BDB7-E11A-4519-92DC-38964746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9BE7-9D03-4318-AFB9-53C76C7D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8E65-FF32-4B60-98B9-7A5DACB4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3E54-E0FA-4EEF-A355-3F6117CA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8964-EE63-43B4-8DB7-41C410AF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4B86-1DC5-44DE-9BB4-CD9D2E58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FDD3-AE6D-4C8C-97D7-D6660C1C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B5B0-E932-46C9-91F3-6354D8F5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8D71-95E2-45B1-AC39-6AE83DD8D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image" Target="../media/image63.jpeg"/><Relationship Id="rId8" Type="http://schemas.openxmlformats.org/officeDocument/2006/relationships/image" Target="../media/image64.jpeg"/><Relationship Id="rId9" Type="http://schemas.openxmlformats.org/officeDocument/2006/relationships/image" Target="../media/image65.jpeg"/><Relationship Id="rId10" Type="http://schemas.openxmlformats.org/officeDocument/2006/relationships/image" Target="../media/image66.jpeg"/><Relationship Id="rId11" Type="http://schemas.openxmlformats.org/officeDocument/2006/relationships/image" Target="../media/image67.jpeg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5120" y="5664240"/>
            <a:ext cx="6627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Georgia"/>
              </a:rPr>
              <a:t>Воспитатель группы продленного дня</a:t>
            </a:r>
            <a:br>
              <a:rPr sz="2800"/>
            </a:br>
            <a:r>
              <a:rPr b="1" i="1" lang="en-US" sz="2800" spc="-1" strike="noStrike">
                <a:solidFill>
                  <a:srgbClr val="99cc00"/>
                </a:solidFill>
                <a:latin typeface="Georgia"/>
              </a:rPr>
              <a:t>Самарина Марина Ива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19280" y="2779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cc00"/>
                </a:solidFill>
                <a:latin typeface="Georgia"/>
              </a:rPr>
              <a:t>Муниципальное общеобразовательное учреждение – лицей № 18 г.Ор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812960" y="1249200"/>
            <a:ext cx="5400720" cy="4213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87400" y="223920"/>
            <a:ext cx="7343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cc00"/>
                </a:solidFill>
                <a:latin typeface="Georgia"/>
              </a:rPr>
              <a:t>Чем знаменит наш Орловский кра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333440" y="1330200"/>
            <a:ext cx="6469200" cy="4515120"/>
            <a:chOff x="1333440" y="1330200"/>
            <a:chExt cx="6469200" cy="451512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1333440" y="1330200"/>
              <a:ext cx="3386160" cy="451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4718160" y="1330200"/>
              <a:ext cx="3084480" cy="449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1763640" y="61675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Georgia"/>
              </a:rPr>
              <a:t>Орловский</a:t>
            </a:r>
            <a:r>
              <a:rPr b="1" i="1" lang="en-US" sz="2400" spc="-1" strike="noStrike">
                <a:solidFill>
                  <a:srgbClr val="ffff66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ffff66"/>
                </a:solidFill>
                <a:latin typeface="Georgia"/>
              </a:rPr>
              <a:t> народный костю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00000" y="127080"/>
            <a:ext cx="73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cc00"/>
                </a:solidFill>
                <a:latin typeface="Georgia"/>
              </a:rPr>
              <a:t>Чем знаменит наш Орловский кра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403280" y="1155600"/>
            <a:ext cx="6323040" cy="5353200"/>
            <a:chOff x="1403280" y="1155600"/>
            <a:chExt cx="6323040" cy="535320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 rot="5400000">
              <a:off x="4272120" y="3060000"/>
              <a:ext cx="3743280" cy="31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1403280" y="1166760"/>
              <a:ext cx="3147840" cy="23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4541760" y="1155600"/>
              <a:ext cx="3184560" cy="330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5"/>
            <a:srcRect l="1462" t="18812" r="0" b="11249"/>
            <a:stretch/>
          </p:blipFill>
          <p:spPr>
            <a:xfrm>
              <a:off x="1403280" y="3470400"/>
              <a:ext cx="3168720" cy="3038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187280" y="1320840"/>
            <a:ext cx="6796080" cy="5095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979640" y="587700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Georgia"/>
              </a:rPr>
              <a:t>Вышивка «Орловский спи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00000" y="127080"/>
            <a:ext cx="73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cc00"/>
                </a:solidFill>
                <a:latin typeface="Georgia"/>
              </a:rPr>
              <a:t>Чем знаменит наш Орловский кра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225440" y="1457280"/>
            <a:ext cx="6677280" cy="4759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00000" y="127080"/>
            <a:ext cx="73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cc00"/>
                </a:solidFill>
                <a:latin typeface="Georgia"/>
              </a:rPr>
              <a:t>Чем знаменит наш Орловский кра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8920" y="5979960"/>
            <a:ext cx="392040" cy="381240"/>
          </a:xfrm>
          <a:custGeom>
            <a:avLst/>
            <a:gdLst>
              <a:gd name="textAreaLeft" fmla="*/ 24480 w 392040"/>
              <a:gd name="textAreaRight" fmla="*/ 367560 w 3920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2211" h="21600">
                <a:moveTo>
                  <a:pt x="0" y="0"/>
                </a:moveTo>
                <a:lnTo>
                  <a:pt x="22211" y="0"/>
                </a:lnTo>
                <a:lnTo>
                  <a:pt x="22211" y="21600"/>
                </a:lnTo>
                <a:lnTo>
                  <a:pt x="0" y="21600"/>
                </a:lnTo>
                <a:close/>
              </a:path>
              <a:path fill="lightenLess" w="22211" h="21600">
                <a:moveTo>
                  <a:pt x="0" y="0"/>
                </a:moveTo>
                <a:lnTo>
                  <a:pt x="22211" y="0"/>
                </a:lnTo>
                <a:lnTo>
                  <a:pt x="20811" y="1400"/>
                </a:lnTo>
                <a:lnTo>
                  <a:pt x="1400" y="1400"/>
                </a:lnTo>
                <a:close/>
              </a:path>
              <a:path fill="darken" w="22211" h="21600">
                <a:moveTo>
                  <a:pt x="22211" y="0"/>
                </a:moveTo>
                <a:lnTo>
                  <a:pt x="22211" y="21600"/>
                </a:lnTo>
                <a:lnTo>
                  <a:pt x="20811" y="20200"/>
                </a:lnTo>
                <a:lnTo>
                  <a:pt x="20811" y="1400"/>
                </a:lnTo>
                <a:close/>
              </a:path>
              <a:path fill="darkenLess" w="22211" h="21600">
                <a:moveTo>
                  <a:pt x="222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11" y="20200"/>
                </a:lnTo>
                <a:close/>
              </a:path>
              <a:path fill="lighten" w="222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11" h="21600">
                <a:moveTo>
                  <a:pt x="4099" y="7301"/>
                </a:moveTo>
                <a:lnTo>
                  <a:pt x="5013" y="7301"/>
                </a:lnTo>
                <a:lnTo>
                  <a:pt x="5396" y="7667"/>
                </a:lnTo>
                <a:lnTo>
                  <a:pt x="14605" y="7667"/>
                </a:lnTo>
                <a:lnTo>
                  <a:pt x="15162" y="8224"/>
                </a:lnTo>
                <a:lnTo>
                  <a:pt x="15162" y="8772"/>
                </a:lnTo>
                <a:lnTo>
                  <a:pt x="17007" y="8772"/>
                </a:lnTo>
                <a:lnTo>
                  <a:pt x="17372" y="8224"/>
                </a:lnTo>
                <a:lnTo>
                  <a:pt x="18112" y="8224"/>
                </a:lnTo>
                <a:lnTo>
                  <a:pt x="18112" y="13376"/>
                </a:lnTo>
                <a:lnTo>
                  <a:pt x="17372" y="13376"/>
                </a:lnTo>
                <a:lnTo>
                  <a:pt x="17007" y="12828"/>
                </a:lnTo>
                <a:lnTo>
                  <a:pt x="15162" y="12828"/>
                </a:lnTo>
                <a:lnTo>
                  <a:pt x="15162" y="14107"/>
                </a:lnTo>
                <a:lnTo>
                  <a:pt x="5579" y="14107"/>
                </a:lnTo>
                <a:lnTo>
                  <a:pt x="5579" y="9877"/>
                </a:lnTo>
                <a:lnTo>
                  <a:pt x="5396" y="9877"/>
                </a:lnTo>
                <a:lnTo>
                  <a:pt x="5013" y="10243"/>
                </a:lnTo>
                <a:lnTo>
                  <a:pt x="4099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00000" y="127080"/>
            <a:ext cx="73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cc00"/>
                </a:solidFill>
                <a:latin typeface="Georgia"/>
              </a:rPr>
              <a:t>Чем знаменит наш Орловский кра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49400" y="1284120"/>
            <a:ext cx="7048440" cy="5266080"/>
            <a:chOff x="1049400" y="1284120"/>
            <a:chExt cx="7048440" cy="5266080"/>
          </a:xfrm>
        </p:grpSpPr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1049400" y="1284120"/>
              <a:ext cx="4519440" cy="301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3"/>
            <a:stretch/>
          </p:blipFill>
          <p:spPr>
            <a:xfrm>
              <a:off x="3475080" y="3643200"/>
              <a:ext cx="4622760" cy="290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" name=""/>
          <p:cNvGrpSpPr/>
          <p:nvPr/>
        </p:nvGrpSpPr>
        <p:grpSpPr>
          <a:xfrm>
            <a:off x="1390680" y="1328760"/>
            <a:ext cx="6926400" cy="5272560"/>
            <a:chOff x="1390680" y="1328760"/>
            <a:chExt cx="6926400" cy="5272560"/>
          </a:xfrm>
        </p:grpSpPr>
        <p:sp>
          <p:nvSpPr>
            <p:cNvPr id="99" name=""/>
            <p:cNvSpPr/>
            <p:nvPr/>
          </p:nvSpPr>
          <p:spPr>
            <a:xfrm>
              <a:off x="5122800" y="1328760"/>
              <a:ext cx="319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99cc00"/>
                  </a:solidFill>
                  <a:latin typeface="Georgia"/>
                </a:rPr>
                <a:t>Мценские круже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90680" y="6202440"/>
              <a:ext cx="32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99cc00"/>
                  </a:solidFill>
                  <a:latin typeface="Georgia"/>
                </a:rPr>
                <a:t>Ливенская гармош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ver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00000" y="139680"/>
            <a:ext cx="73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cc00"/>
                </a:solidFill>
                <a:latin typeface="Georgia"/>
              </a:rPr>
              <a:t>Чем знаменит наш Орловский кра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116000" y="1533600"/>
            <a:ext cx="6888240" cy="4682520"/>
            <a:chOff x="1116000" y="1533600"/>
            <a:chExt cx="6888240" cy="468252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1116000" y="1533600"/>
              <a:ext cx="3390840" cy="46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3"/>
            <a:stretch/>
          </p:blipFill>
          <p:spPr>
            <a:xfrm>
              <a:off x="4498920" y="1542960"/>
              <a:ext cx="3505320" cy="4673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over dir="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11160" y="200160"/>
            <a:ext cx="73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cc00"/>
                </a:solidFill>
                <a:latin typeface="Georgia"/>
              </a:rPr>
              <a:t>Чем знаменит наш Орловский кра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41280" y="1359000"/>
            <a:ext cx="6667560" cy="50004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11160" y="200160"/>
            <a:ext cx="73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cc00"/>
                </a:solidFill>
                <a:latin typeface="Georgia"/>
              </a:rPr>
              <a:t>Чем знаменит наш Орловский кра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16000" y="148428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65200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6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Georgia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34920" y="1600200"/>
            <a:ext cx="532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Georgia"/>
              </a:rPr>
              <a:t>Дружно встали – раз, два, т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Georgia"/>
              </a:rPr>
              <a:t>Мы теперь богаты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Georgia"/>
              </a:rPr>
              <a:t>Мы ладонь к глазам пристави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Georgia"/>
              </a:rPr>
              <a:t>Ноги крепкие расстави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Georgia"/>
              </a:rPr>
              <a:t>Оборачиваясь вправ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Georgia"/>
              </a:rPr>
              <a:t>Оглянитесь велича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Georgia"/>
              </a:rPr>
              <a:t>И налево надо то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Georgia"/>
              </a:rPr>
              <a:t>Поглядеть из-под ладоше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Georgia"/>
              </a:rPr>
              <a:t>И направо, и ещ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Georgia"/>
              </a:rPr>
              <a:t>Через левое плеч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Georgia"/>
              </a:rPr>
              <a:t>Буквой «Л» расставим ног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Georgia"/>
              </a:rPr>
              <a:t>Точно в танце руки в бо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Georgia"/>
              </a:rPr>
              <a:t>Наклонились влево, вправо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Georgia"/>
              </a:rPr>
              <a:t>Получается на слав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12680" y="6127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40"/>
                            </p:stCondLst>
                            <p:childTnLst>
                              <p:par>
                                <p:cTn id="2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760"/>
                            </p:stCondLst>
                            <p:childTnLst>
                              <p:par>
                                <p:cTn id="2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800"/>
                            </p:stCondLst>
                            <p:childTnLst>
                              <p:par>
                                <p:cTn id="2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680"/>
                            </p:stCondLst>
                            <p:childTnLst>
                              <p:par>
                                <p:cTn id="3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480"/>
                            </p:stCondLst>
                            <p:childTnLst>
                              <p:par>
                                <p:cTn id="3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280"/>
                            </p:stCondLst>
                            <p:childTnLst>
                              <p:par>
                                <p:cTn id="3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920"/>
                            </p:stCondLst>
                            <p:childTnLst>
                              <p:par>
                                <p:cTn id="3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880"/>
                            </p:stCondLst>
                            <p:childTnLst>
                              <p:par>
                                <p:cTn id="3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7440"/>
                            </p:stCondLst>
                            <p:childTnLst>
                              <p:par>
                                <p:cTn id="3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8119"/>
                            </p:stCondLst>
                            <p:childTnLst>
                              <p:par>
                                <p:cTn id="3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9080"/>
                            </p:stCondLst>
                            <p:childTnLst>
                              <p:par>
                                <p:cTn id="3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9960"/>
                            </p:stCondLst>
                            <p:childTnLst>
                              <p:par>
                                <p:cTn id="3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960"/>
                            </p:stCondLst>
                            <p:childTnLst>
                              <p:par>
                                <p:cTn id="3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1720"/>
                            </p:stCondLst>
                            <p:childTnLst>
                              <p:par>
                                <p:cTn id="3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15736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00000" y="176040"/>
            <a:ext cx="73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cc00"/>
                </a:solidFill>
                <a:latin typeface="Georgia"/>
              </a:rPr>
              <a:t>Чем знаменит наш Орловский кра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094440" y="3513240"/>
            <a:ext cx="2052720" cy="2840040"/>
            <a:chOff x="6094440" y="3513240"/>
            <a:chExt cx="2052720" cy="2840040"/>
          </a:xfrm>
        </p:grpSpPr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6094440" y="3513240"/>
              <a:ext cx="2052720" cy="28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189840" y="5786640"/>
              <a:ext cx="15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66"/>
                  </a:solidFill>
                  <a:latin typeface="Georgia"/>
                </a:rPr>
                <a:t>А.А.Ф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438800" y="1425600"/>
            <a:ext cx="2241360" cy="2842920"/>
            <a:chOff x="4438800" y="1425600"/>
            <a:chExt cx="2241360" cy="2842920"/>
          </a:xfrm>
        </p:grpSpPr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4438800" y="1425600"/>
              <a:ext cx="2241360" cy="28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726080" y="3835080"/>
              <a:ext cx="187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66"/>
                  </a:solidFill>
                  <a:latin typeface="Georgia"/>
                </a:rPr>
                <a:t>Н.С.Леск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567160" y="3586320"/>
            <a:ext cx="2233080" cy="2879280"/>
            <a:chOff x="2567160" y="3586320"/>
            <a:chExt cx="2233080" cy="2879280"/>
          </a:xfrm>
        </p:grpSpPr>
        <p:pic>
          <p:nvPicPr>
            <p:cNvPr id="120" name="" descr=""/>
            <p:cNvPicPr/>
            <p:nvPr/>
          </p:nvPicPr>
          <p:blipFill>
            <a:blip r:embed="rId4"/>
            <a:stretch/>
          </p:blipFill>
          <p:spPr>
            <a:xfrm>
              <a:off x="2567160" y="3586320"/>
              <a:ext cx="2233080" cy="28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2796840" y="5970600"/>
              <a:ext cx="179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66"/>
                  </a:solidFill>
                  <a:latin typeface="Georgia"/>
                </a:rPr>
                <a:t>И.А.Буни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054080" y="1353960"/>
            <a:ext cx="2158920" cy="2827440"/>
            <a:chOff x="1054080" y="1353960"/>
            <a:chExt cx="2158920" cy="2827440"/>
          </a:xfrm>
        </p:grpSpPr>
        <p:pic>
          <p:nvPicPr>
            <p:cNvPr id="123" name="Picture 4" descr="Turgenev_by_Repin"/>
            <p:cNvPicPr/>
            <p:nvPr/>
          </p:nvPicPr>
          <p:blipFill>
            <a:blip r:embed="rId5"/>
            <a:stretch/>
          </p:blipFill>
          <p:spPr>
            <a:xfrm>
              <a:off x="1054080" y="1353960"/>
              <a:ext cx="2158920" cy="282744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124" name=""/>
            <p:cNvSpPr/>
            <p:nvPr/>
          </p:nvSpPr>
          <p:spPr>
            <a:xfrm>
              <a:off x="1123920" y="3708360"/>
              <a:ext cx="199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66"/>
                  </a:solidFill>
                  <a:latin typeface="Georgia"/>
                </a:rPr>
                <a:t>И.С.Тургене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ver dir="d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8" dur="250" autoRev="1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3" dur="25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71640" y="15840"/>
            <a:ext cx="7200720" cy="6829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58680" y="3986280"/>
            <a:ext cx="7272360" cy="25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00"/>
                </a:solidFill>
                <a:latin typeface="Georgia"/>
              </a:rPr>
              <a:t>Благословенная моя земл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00"/>
                </a:solidFill>
                <a:latin typeface="Georgia"/>
              </a:rPr>
              <a:t>Родной Орёл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00"/>
                </a:solidFill>
                <a:latin typeface="Georgia"/>
              </a:rPr>
              <a:t>Орловщина моя!</a:t>
            </a:r>
            <a:r>
              <a:rPr b="0" lang="ru-RU" sz="4000" spc="-1" strike="noStrike">
                <a:solidFill>
                  <a:srgbClr val="336600"/>
                </a:solidFill>
                <a:latin typeface="Elepha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40732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00000" y="163440"/>
            <a:ext cx="73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cc00"/>
                </a:solidFill>
                <a:latin typeface="Georgia"/>
              </a:rPr>
              <a:t>Чем знаменит наш Орловский кра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120680" y="3295800"/>
            <a:ext cx="2592360" cy="3311280"/>
            <a:chOff x="1120680" y="3295800"/>
            <a:chExt cx="2592360" cy="3311280"/>
          </a:xfrm>
        </p:grpSpPr>
        <p:pic>
          <p:nvPicPr>
            <p:cNvPr id="127" name="Picture 10" descr="Denisdavydov"/>
            <p:cNvPicPr/>
            <p:nvPr/>
          </p:nvPicPr>
          <p:blipFill>
            <a:blip r:embed="rId2"/>
            <a:stretch/>
          </p:blipFill>
          <p:spPr>
            <a:xfrm>
              <a:off x="1257120" y="3295800"/>
              <a:ext cx="2278080" cy="331128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sp>
          <p:nvSpPr>
            <p:cNvPr id="128" name=""/>
            <p:cNvSpPr/>
            <p:nvPr/>
          </p:nvSpPr>
          <p:spPr>
            <a:xfrm>
              <a:off x="1120680" y="6200640"/>
              <a:ext cx="25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66"/>
                  </a:solidFill>
                  <a:latin typeface="Georgia"/>
                </a:rPr>
                <a:t>Денис Давыд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675400" y="3333600"/>
            <a:ext cx="2520720" cy="3240000"/>
            <a:chOff x="5675400" y="3333600"/>
            <a:chExt cx="2520720" cy="3240000"/>
          </a:xfrm>
        </p:grpSpPr>
        <p:pic>
          <p:nvPicPr>
            <p:cNvPr id="130" name="Picture 9" descr="Alexei-jermolov"/>
            <p:cNvPicPr/>
            <p:nvPr/>
          </p:nvPicPr>
          <p:blipFill>
            <a:blip r:embed="rId3"/>
            <a:stretch/>
          </p:blipFill>
          <p:spPr>
            <a:xfrm>
              <a:off x="5759280" y="3333600"/>
              <a:ext cx="2312640" cy="324000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sp>
          <p:nvSpPr>
            <p:cNvPr id="131" name=""/>
            <p:cNvSpPr/>
            <p:nvPr/>
          </p:nvSpPr>
          <p:spPr>
            <a:xfrm>
              <a:off x="5675400" y="6167160"/>
              <a:ext cx="25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66"/>
                  </a:solidFill>
                  <a:latin typeface="Georgia"/>
                </a:rPr>
                <a:t>Алексей Ермо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468600" y="1341360"/>
            <a:ext cx="2400480" cy="3240000"/>
            <a:chOff x="3468600" y="1341360"/>
            <a:chExt cx="2400480" cy="3240000"/>
          </a:xfrm>
        </p:grpSpPr>
        <p:pic>
          <p:nvPicPr>
            <p:cNvPr id="133" name="" descr=""/>
            <p:cNvPicPr/>
            <p:nvPr/>
          </p:nvPicPr>
          <p:blipFill>
            <a:blip r:embed="rId4"/>
            <a:stretch/>
          </p:blipFill>
          <p:spPr>
            <a:xfrm>
              <a:off x="3468600" y="1341360"/>
              <a:ext cx="2400480" cy="32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468600" y="407664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66"/>
                  </a:solidFill>
                  <a:latin typeface="Georgia"/>
                </a:rPr>
                <a:t>В.С.Калинник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ver dir="d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00000" y="225360"/>
            <a:ext cx="73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cc00"/>
                </a:solidFill>
                <a:latin typeface="Georgia"/>
              </a:rPr>
              <a:t>Чем знаменит наш Орловский кра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042920" y="1484280"/>
            <a:ext cx="4229280" cy="3171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932360" y="1773360"/>
            <a:ext cx="3137040" cy="4698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116000" y="5313240"/>
            <a:ext cx="3600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Georgia"/>
              </a:rPr>
              <a:t>Город Первого Салюта и город Воинской Славы</a:t>
            </a:r>
            <a:r>
              <a:rPr b="1" i="1" lang="en-US" sz="1800" spc="-1" strike="noStrike">
                <a:solidFill>
                  <a:srgbClr val="ffff66"/>
                </a:solidFill>
                <a:latin typeface="Georgia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00000" y="225360"/>
            <a:ext cx="73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cc00"/>
                </a:solidFill>
                <a:latin typeface="Georgia"/>
              </a:rPr>
              <a:t>Чем знаменит наш Орловский кра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179360" y="127476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3" dur="236480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8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947880" y="1052640"/>
            <a:ext cx="2141280" cy="2923920"/>
            <a:chOff x="947880" y="1052640"/>
            <a:chExt cx="2141280" cy="2923920"/>
          </a:xfrm>
        </p:grpSpPr>
        <p:pic>
          <p:nvPicPr>
            <p:cNvPr id="142" name="Picture 4" descr="еще-Гуртьев"/>
            <p:cNvPicPr/>
            <p:nvPr/>
          </p:nvPicPr>
          <p:blipFill>
            <a:blip r:embed="rId2"/>
            <a:stretch/>
          </p:blipFill>
          <p:spPr>
            <a:xfrm>
              <a:off x="1031760" y="1052640"/>
              <a:ext cx="2057400" cy="292392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sp>
          <p:nvSpPr>
            <p:cNvPr id="143" name=""/>
            <p:cNvSpPr/>
            <p:nvPr/>
          </p:nvSpPr>
          <p:spPr>
            <a:xfrm>
              <a:off x="947880" y="3500280"/>
              <a:ext cx="18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66"/>
                  </a:solidFill>
                  <a:latin typeface="Georgia"/>
                </a:rPr>
                <a:t>Л.Н.Гуртье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900000" y="200160"/>
            <a:ext cx="73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cc00"/>
                </a:solidFill>
                <a:latin typeface="Georgia"/>
              </a:rPr>
              <a:t>Чем знаменит наш Орловский кра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822400" y="3500280"/>
            <a:ext cx="2270160" cy="3095640"/>
            <a:chOff x="2822400" y="3500280"/>
            <a:chExt cx="2270160" cy="3095640"/>
          </a:xfrm>
        </p:grpSpPr>
        <p:pic>
          <p:nvPicPr>
            <p:cNvPr id="146" name="Picture 3" descr="panchuk001"/>
            <p:cNvPicPr/>
            <p:nvPr/>
          </p:nvPicPr>
          <p:blipFill>
            <a:blip r:embed="rId3"/>
            <a:stretch/>
          </p:blipFill>
          <p:spPr>
            <a:xfrm>
              <a:off x="2822400" y="3500280"/>
              <a:ext cx="2270160" cy="309564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sp>
          <p:nvSpPr>
            <p:cNvPr id="147" name=""/>
            <p:cNvSpPr/>
            <p:nvPr/>
          </p:nvSpPr>
          <p:spPr>
            <a:xfrm>
              <a:off x="3059280" y="6093000"/>
              <a:ext cx="187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66"/>
                  </a:solidFill>
                  <a:latin typeface="Georgia"/>
                </a:rPr>
                <a:t>И.В.Панчу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880240" y="3465360"/>
            <a:ext cx="2336400" cy="3122280"/>
            <a:chOff x="5880240" y="3465360"/>
            <a:chExt cx="2336400" cy="3122280"/>
          </a:xfrm>
        </p:grpSpPr>
        <p:pic>
          <p:nvPicPr>
            <p:cNvPr id="149" name="Picture 2" descr="1kkk"/>
            <p:cNvPicPr/>
            <p:nvPr/>
          </p:nvPicPr>
          <p:blipFill>
            <a:blip r:embed="rId4"/>
            <a:stretch/>
          </p:blipFill>
          <p:spPr>
            <a:xfrm>
              <a:off x="5880240" y="3465360"/>
              <a:ext cx="2266920" cy="312228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sp>
          <p:nvSpPr>
            <p:cNvPr id="150" name=""/>
            <p:cNvSpPr/>
            <p:nvPr/>
          </p:nvSpPr>
          <p:spPr>
            <a:xfrm>
              <a:off x="5881680" y="6154200"/>
              <a:ext cx="233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66"/>
                  </a:solidFill>
                  <a:latin typeface="Georgia"/>
                </a:rPr>
                <a:t>П.Т.Михалицы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048200" y="1268280"/>
            <a:ext cx="2431800" cy="3097440"/>
            <a:chOff x="4048200" y="1268280"/>
            <a:chExt cx="2431800" cy="3097440"/>
          </a:xfrm>
        </p:grpSpPr>
        <p:pic>
          <p:nvPicPr>
            <p:cNvPr id="152" name="Picture 5" descr="КУСТОВ"/>
            <p:cNvPicPr/>
            <p:nvPr/>
          </p:nvPicPr>
          <p:blipFill>
            <a:blip r:embed="rId5"/>
            <a:stretch/>
          </p:blipFill>
          <p:spPr>
            <a:xfrm>
              <a:off x="4392720" y="1268280"/>
              <a:ext cx="2087280" cy="309744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sp>
          <p:nvSpPr>
            <p:cNvPr id="153" name=""/>
            <p:cNvSpPr/>
            <p:nvPr/>
          </p:nvSpPr>
          <p:spPr>
            <a:xfrm>
              <a:off x="4048200" y="373392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66"/>
                  </a:solidFill>
                  <a:latin typeface="Georgia"/>
                </a:rPr>
                <a:t>А.Ф.Куст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ver dir="d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50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00000" y="620640"/>
            <a:ext cx="7344000" cy="55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ff66"/>
                </a:solidFill>
                <a:latin typeface="Georgia"/>
              </a:rPr>
              <a:t>Город первого салюта –</a:t>
            </a:r>
            <a:r>
              <a:rPr b="1" i="1" lang="en-US" sz="3000" spc="-1" strike="noStrike">
                <a:solidFill>
                  <a:srgbClr val="ffff66"/>
                </a:solidFill>
                <a:latin typeface="Georgi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Georgia"/>
              </a:rPr>
              <a:t>Наш Ор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ff66"/>
                </a:solidFill>
                <a:latin typeface="Georgia"/>
              </a:rPr>
              <a:t>Город-птица, взмывший круто, –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Georgia"/>
              </a:rPr>
              <a:t>Наш Ор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ff66"/>
                </a:solidFill>
                <a:latin typeface="Georgia"/>
              </a:rPr>
              <a:t>Город древний и могучий –</a:t>
            </a:r>
            <a:r>
              <a:rPr b="1" i="1" lang="en-US" sz="3000" spc="-1" strike="noStrike">
                <a:solidFill>
                  <a:srgbClr val="ffff66"/>
                </a:solidFill>
                <a:latin typeface="Georgi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Georgia"/>
              </a:rPr>
              <a:t>Наш Ор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ff66"/>
                </a:solidFill>
                <a:latin typeface="Georgia"/>
              </a:rPr>
              <a:t>Город в мире самый лучший –</a:t>
            </a:r>
            <a:r>
              <a:rPr b="1" i="1" lang="en-US" sz="3000" spc="-1" strike="noStrike">
                <a:solidFill>
                  <a:srgbClr val="ffff66"/>
                </a:solidFill>
                <a:latin typeface="Georgi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Georgia"/>
              </a:rPr>
              <a:t>Наш Ор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Georgia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16200" y="2368440"/>
            <a:ext cx="549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1484280"/>
            <a:ext cx="719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Georgia"/>
              </a:rPr>
              <a:t>Как называется славянское племя, жившее на территории Орловского края в древние време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19640" y="407664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Georgia"/>
              </a:rPr>
              <a:t>Вяти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187280" y="2492280"/>
            <a:ext cx="3721320" cy="4130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Georgia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148428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Georgia"/>
              </a:rPr>
              <a:t>Илья Муромец победил соловья-разбойника у речки  Смородинки недалеко от села… Как называется это сел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64000" y="414972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Georgia"/>
              </a:rPr>
              <a:t>Девять дуб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211400" y="2575080"/>
            <a:ext cx="3713040" cy="4068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Georgia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76360" y="1484280"/>
            <a:ext cx="61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Georgia"/>
              </a:rPr>
              <a:t>Почему наш город Орлом называет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999473b3ef41"/>
          <p:cNvPicPr/>
          <p:nvPr/>
        </p:nvPicPr>
        <p:blipFill>
          <a:blip r:embed="rId2"/>
          <a:stretch/>
        </p:blipFill>
        <p:spPr>
          <a:xfrm>
            <a:off x="1116000" y="2581200"/>
            <a:ext cx="3995640" cy="3654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5511960" y="3287880"/>
            <a:ext cx="2516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Georgia"/>
              </a:rPr>
              <a:t>Согласно легенде во время возведения  крепости на Оке с дуба вспорхнул орё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Georgia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6360" y="162864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Georgia"/>
              </a:rPr>
              <a:t>Назовите год основания города Ор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51640" y="4149720"/>
            <a:ext cx="24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Georgia"/>
              </a:rPr>
              <a:t>1566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116000" y="2349360"/>
            <a:ext cx="4319640" cy="4186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Georgia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557360"/>
            <a:ext cx="65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Georgia"/>
              </a:rPr>
              <a:t>По указу какого царя была построена Орловская крепос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350028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Georgia"/>
              </a:rPr>
              <a:t>Иван Гроз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photo76"/>
          <p:cNvPicPr/>
          <p:nvPr/>
        </p:nvPicPr>
        <p:blipFill>
          <a:blip r:embed="rId2"/>
          <a:stretch/>
        </p:blipFill>
        <p:spPr>
          <a:xfrm>
            <a:off x="1523880" y="2563920"/>
            <a:ext cx="3081600" cy="3860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2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0_ec74_c4345f11_XL"/>
          <p:cNvPicPr/>
          <p:nvPr/>
        </p:nvPicPr>
        <p:blipFill>
          <a:blip r:embed="rId2"/>
          <a:stretch/>
        </p:blipFill>
        <p:spPr>
          <a:xfrm>
            <a:off x="1116000" y="260280"/>
            <a:ext cx="6840720" cy="6284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67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Пойдем в мой к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В поля, луга Орловщ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Нигде я лучше края не встреч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Я тут на «т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С любым ручьём и роще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Тут для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Начало всех нача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5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5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5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5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Georgia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68360" y="1484280"/>
            <a:ext cx="576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cc00"/>
                </a:solidFill>
                <a:latin typeface="Georgia"/>
              </a:rPr>
              <a:t>Расскажите-ка, друзь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cc00"/>
                </a:solidFill>
                <a:latin typeface="Georgia"/>
              </a:rPr>
              <a:t>Что за вышивка бы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cc00"/>
                </a:solidFill>
                <a:latin typeface="Georgia"/>
              </a:rPr>
              <a:t>Характерна для Ор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cc00"/>
                </a:solidFill>
                <a:latin typeface="Georgia"/>
              </a:rPr>
              <a:t>В стародавни време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76720" y="472428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cc00"/>
                </a:solidFill>
                <a:latin typeface="Georgia"/>
              </a:rPr>
              <a:t>Орловский сп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rcRect l="1462" t="18812" r="0" b="11249"/>
          <a:stretch/>
        </p:blipFill>
        <p:spPr>
          <a:xfrm>
            <a:off x="1258920" y="3213000"/>
            <a:ext cx="3457440" cy="3316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880"/>
                            </p:stCondLst>
                            <p:childTnLst>
                              <p:par>
                                <p:cTn id="6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560"/>
                            </p:stCondLst>
                            <p:childTnLst>
                              <p:par>
                                <p:cTn id="6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9" dur="8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280"/>
                            </p:stCondLst>
                            <p:childTnLst>
                              <p:par>
                                <p:cTn id="6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Georgia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58920" y="155736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cc00"/>
                </a:solidFill>
                <a:latin typeface="Georgia"/>
              </a:rPr>
              <a:t>С какими народными промыслами Орловщины вы сегодня познакомилис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3274920"/>
            <a:ext cx="2519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cc00"/>
                </a:solidFill>
                <a:latin typeface="Georgia"/>
              </a:rPr>
              <a:t>Плешковская и Чернышенская игрушки, Орловская народная кукла, мценские кружева, ливенские гармо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330200" y="2602080"/>
            <a:ext cx="3673440" cy="3887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Georgia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08000" y="1484280"/>
            <a:ext cx="58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cc00"/>
                </a:solidFill>
                <a:latin typeface="Georgia"/>
              </a:rPr>
              <a:t>Зубр, медведь и заяц рус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cc00"/>
                </a:solidFill>
                <a:latin typeface="Georgia"/>
              </a:rPr>
              <a:t>Все живут семьей од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cc00"/>
                </a:solidFill>
                <a:latin typeface="Georgia"/>
              </a:rPr>
              <a:t>Как зовётся это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cc00"/>
                </a:solidFill>
                <a:latin typeface="Georgia"/>
              </a:rPr>
              <a:t>На Орловщине родн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03640" y="436572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Georgia"/>
              </a:rPr>
              <a:t>Орловское полес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111320" y="3481560"/>
            <a:ext cx="3738600" cy="27572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920"/>
                            </p:stCondLst>
                            <p:childTnLst>
                              <p:par>
                                <p:cTn id="7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3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760"/>
                            </p:stCondLst>
                            <p:childTnLst>
                              <p:par>
                                <p:cTn id="7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520"/>
                            </p:stCondLst>
                            <p:childTnLst>
                              <p:par>
                                <p:cTn id="7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3" dur="8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8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0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1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2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Georgia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03280" y="1628640"/>
            <a:ext cx="64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Georgia"/>
              </a:rPr>
              <a:t>С городом Орлом связано творчество известных русских писателей. Назовите их и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89440" y="4292640"/>
            <a:ext cx="251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Georgia"/>
              </a:rPr>
              <a:t>Тургенев, Фет, Бунин, Лес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074600" y="2975040"/>
            <a:ext cx="4411800" cy="333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6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1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3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Georgia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03280" y="1557360"/>
            <a:ext cx="63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Georgia"/>
              </a:rPr>
              <a:t>Кого из известных людей Орловского края вы узна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2360" y="414972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Georgia"/>
              </a:rPr>
              <a:t>Калинников, Давыдов, Ермо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306440" y="2468520"/>
            <a:ext cx="3035520" cy="4048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5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6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7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3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4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03280" y="161784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Georgia"/>
              </a:rPr>
              <a:t>В каком году наш город был освобожден от немецко-фашистских захватчик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6360" y="400536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Georgia"/>
              </a:rPr>
              <a:t>5 августа 1943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3030313kjj"/>
          <p:cNvPicPr/>
          <p:nvPr/>
        </p:nvPicPr>
        <p:blipFill>
          <a:blip r:embed="rId2"/>
          <a:stretch/>
        </p:blipFill>
        <p:spPr>
          <a:xfrm>
            <a:off x="1619280" y="2530440"/>
            <a:ext cx="2706480" cy="40338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med">
    <p:cover dir="d"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3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4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5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Georgia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58920" y="1617840"/>
            <a:ext cx="66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Georgia"/>
              </a:rPr>
              <a:t>Какие почетные звания, связанные с Победой в Великой Отечественной войне, имеет наш родной город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59280" y="400536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Georgia"/>
              </a:rPr>
              <a:t>ГОРОД ПЕРВОГО САЛЮТА, ГОРОД ВОИНСКОЙ СЛАВ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500120" y="2765520"/>
            <a:ext cx="2651040" cy="3785760"/>
            <a:chOff x="1500120" y="2765520"/>
            <a:chExt cx="2651040" cy="3785760"/>
          </a:xfrm>
        </p:grpSpPr>
        <p:pic>
          <p:nvPicPr>
            <p:cNvPr id="204" name="" descr=""/>
            <p:cNvPicPr/>
            <p:nvPr/>
          </p:nvPicPr>
          <p:blipFill>
            <a:blip r:embed="rId2"/>
            <a:stretch/>
          </p:blipFill>
          <p:spPr>
            <a:xfrm>
              <a:off x="1500120" y="2765520"/>
              <a:ext cx="2651040" cy="181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3"/>
            <a:stretch/>
          </p:blipFill>
          <p:spPr>
            <a:xfrm>
              <a:off x="1507680" y="4519080"/>
              <a:ext cx="2631240" cy="2032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over dir="d"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7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8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9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5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100160" y="339840"/>
            <a:ext cx="6934320" cy="60800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643280" y="620640"/>
            <a:ext cx="32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Орлов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47600" y="6140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1181160" y="1076400"/>
            <a:ext cx="6738840" cy="50544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1181160" y="1076400"/>
            <a:ext cx="6786360" cy="50893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1179360" y="1058760"/>
            <a:ext cx="6789960" cy="5085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1195560" y="1063800"/>
            <a:ext cx="6777000" cy="50828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1182600" y="1042920"/>
            <a:ext cx="6837480" cy="51278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1173240" y="1046160"/>
            <a:ext cx="6838920" cy="51339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9"/>
          <a:stretch/>
        </p:blipFill>
        <p:spPr>
          <a:xfrm>
            <a:off x="1177920" y="1038240"/>
            <a:ext cx="6829560" cy="5153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0"/>
          <a:stretch/>
        </p:blipFill>
        <p:spPr>
          <a:xfrm>
            <a:off x="1165320" y="1042920"/>
            <a:ext cx="6840360" cy="5130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1"/>
          <a:stretch/>
        </p:blipFill>
        <p:spPr>
          <a:xfrm>
            <a:off x="1150920" y="1039680"/>
            <a:ext cx="6919920" cy="5158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2000"/>
                            </p:stCondLst>
                            <p:childTnLst>
                              <p:par>
                                <p:cTn id="8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5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7000"/>
                            </p:stCondLst>
                            <p:childTnLst>
                              <p:par>
                                <p:cTn id="8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7000"/>
                            </p:stCondLst>
                            <p:childTnLst>
                              <p:par>
                                <p:cTn id="8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22000"/>
                            </p:stCondLst>
                            <p:childTnLst>
                              <p:par>
                                <p:cTn id="8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7000"/>
                            </p:stCondLst>
                            <p:childTnLst>
                              <p:par>
                                <p:cTn id="8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5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32000"/>
                            </p:stCondLst>
                            <p:childTnLst>
                              <p:par>
                                <p:cTn id="9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5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37000"/>
                            </p:stCondLst>
                            <p:childTnLst>
                              <p:par>
                                <p:cTn id="9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42000"/>
                            </p:stCondLst>
                            <p:childTnLst>
                              <p:par>
                                <p:cTn id="9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6" dur="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00000" y="247680"/>
            <a:ext cx="73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cc00"/>
                </a:solidFill>
                <a:latin typeface="Georgia"/>
              </a:rPr>
              <a:t>Чем знаменит наш Орловский кра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390760" y="1427040"/>
            <a:ext cx="4484880" cy="5079960"/>
            <a:chOff x="2390760" y="1427040"/>
            <a:chExt cx="4484880" cy="5079960"/>
          </a:xfrm>
        </p:grpSpPr>
        <p:pic>
          <p:nvPicPr>
            <p:cNvPr id="53" name="Picture 2" descr="ВЯТКО"/>
            <p:cNvPicPr/>
            <p:nvPr/>
          </p:nvPicPr>
          <p:blipFill>
            <a:blip r:embed="rId2"/>
            <a:stretch/>
          </p:blipFill>
          <p:spPr>
            <a:xfrm>
              <a:off x="2390760" y="1427040"/>
              <a:ext cx="4484880" cy="50799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sp>
          <p:nvSpPr>
            <p:cNvPr id="54" name=""/>
            <p:cNvSpPr/>
            <p:nvPr/>
          </p:nvSpPr>
          <p:spPr>
            <a:xfrm>
              <a:off x="2957400" y="5603760"/>
              <a:ext cx="352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Bradley Hand ITC"/>
                </a:rPr>
                <a:t>Вятк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5280" y="616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9783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00000" y="404640"/>
            <a:ext cx="73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cc00"/>
                </a:solidFill>
                <a:latin typeface="Georgia"/>
              </a:rPr>
              <a:t>Чем знаменит наш Орловский кра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84240" y="1833480"/>
            <a:ext cx="7174080" cy="4035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00000" y="176040"/>
            <a:ext cx="73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cc00"/>
                </a:solidFill>
                <a:latin typeface="Georgia"/>
              </a:rPr>
              <a:t>Чем знаменит наш Орловский кра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photo76"/>
          <p:cNvPicPr/>
          <p:nvPr/>
        </p:nvPicPr>
        <p:blipFill>
          <a:blip r:embed="rId2"/>
          <a:stretch/>
        </p:blipFill>
        <p:spPr>
          <a:xfrm>
            <a:off x="2443320" y="1359000"/>
            <a:ext cx="3894120" cy="4878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normal_Орловский_кремль-04"/>
          <p:cNvPicPr/>
          <p:nvPr/>
        </p:nvPicPr>
        <p:blipFill>
          <a:blip r:embed="rId3"/>
          <a:stretch/>
        </p:blipFill>
        <p:spPr>
          <a:xfrm>
            <a:off x="1403280" y="1700280"/>
            <a:ext cx="6335640" cy="4125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73299"/>
          <p:cNvPicPr/>
          <p:nvPr/>
        </p:nvPicPr>
        <p:blipFill>
          <a:blip r:embed="rId4"/>
          <a:stretch/>
        </p:blipFill>
        <p:spPr>
          <a:xfrm>
            <a:off x="1330200" y="1360440"/>
            <a:ext cx="6475680" cy="4967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4356000" y="177336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Город Орёл был основан в 1566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403280" y="4508640"/>
            <a:ext cx="2016360" cy="1307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112680" y="6080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44077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afisha_kreml"/>
          <p:cNvPicPr/>
          <p:nvPr/>
        </p:nvPicPr>
        <p:blipFill>
          <a:blip r:embed="rId2"/>
          <a:stretch/>
        </p:blipFill>
        <p:spPr>
          <a:xfrm>
            <a:off x="1316160" y="1467000"/>
            <a:ext cx="6480000" cy="4860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911160" y="176040"/>
            <a:ext cx="73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cc00"/>
                </a:solidFill>
                <a:latin typeface="Georgia"/>
              </a:rPr>
              <a:t>Чем знаменит наш Орловский кра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260360" y="1386000"/>
            <a:ext cx="6656400" cy="4992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00000" y="404640"/>
            <a:ext cx="73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cc00"/>
                </a:solidFill>
                <a:latin typeface="Georgia"/>
              </a:rPr>
              <a:t>Чем знаменит наш Орловский кра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6858000"/>
            <a:ext cx="6048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cc00"/>
                </a:solidFill>
                <a:latin typeface="Georgia"/>
              </a:rPr>
              <a:t>Пойдем в мой к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cc00"/>
                </a:solidFill>
                <a:latin typeface="Georgia"/>
              </a:rPr>
              <a:t>Где первоцветы веш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cc00"/>
                </a:solidFill>
                <a:latin typeface="Georgia"/>
              </a:rPr>
              <a:t>Весною по-особому цвет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cc00"/>
                </a:solidFill>
                <a:latin typeface="Georgia"/>
              </a:rPr>
              <a:t>Тут сказки ты узна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cc00"/>
                </a:solidFill>
                <a:latin typeface="Georgia"/>
              </a:rPr>
              <a:t>Только здеш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cc00"/>
                </a:solidFill>
                <a:latin typeface="Georgia"/>
              </a:rPr>
              <a:t>«Матаню» нашу встрет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cc00"/>
                </a:solidFill>
                <a:latin typeface="Georgia"/>
              </a:rPr>
              <a:t>Только т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0.34838 L -1.38889E-006 -0.68171 E">
                                      <p:cBhvr>
                                        <p:cTn id="139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00000" y="223920"/>
            <a:ext cx="73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cc00"/>
                </a:solidFill>
                <a:latin typeface="Georgia"/>
              </a:rPr>
              <a:t>Чем знаменит наш Орловский кра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1862888"/>
          <p:cNvPicPr/>
          <p:nvPr/>
        </p:nvPicPr>
        <p:blipFill>
          <a:blip r:embed="rId2"/>
          <a:stretch/>
        </p:blipFill>
        <p:spPr>
          <a:xfrm>
            <a:off x="1355760" y="1712880"/>
            <a:ext cx="6480000" cy="4321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292400" y="1527120"/>
            <a:ext cx="6583320" cy="4768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13"/>
          <p:cNvPicPr/>
          <p:nvPr/>
        </p:nvPicPr>
        <p:blipFill>
          <a:blip r:embed="rId4"/>
          <a:stretch/>
        </p:blipFill>
        <p:spPr>
          <a:xfrm>
            <a:off x="1314360" y="1527120"/>
            <a:ext cx="6543720" cy="4680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265400" y="1438200"/>
            <a:ext cx="6611760" cy="4959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1222200" y="1454040"/>
            <a:ext cx="6623280" cy="4962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119160" y="6130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51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8500"/>
                            </p:stCondLst>
                            <p:childTnLst>
                              <p:par>
                                <p:cTn id="160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61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0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71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75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80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81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35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47239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08:30:23Z</dcterms:created>
  <dc:creator>OEMUser</dc:creator>
  <dc:description/>
  <dc:language>en-US</dc:language>
  <cp:lastModifiedBy>надежда</cp:lastModifiedBy>
  <dcterms:modified xsi:type="dcterms:W3CDTF">2012-03-25T10:50:39Z</dcterms:modified>
  <cp:revision>11</cp:revision>
  <dc:subject/>
  <dc:title>Слайд 1</dc:title>
</cp:coreProperties>
</file>