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8.jpeg" ContentType="image/jpeg"/>
  <Override PartName="/ppt/media/image72.png" ContentType="image/pn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8.jpeg" ContentType="image/jpe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media/image16.jpeg" ContentType="image/jpeg"/>
  <Override PartName="/ppt/media/image37.jpeg" ContentType="image/jpeg"/>
  <Override PartName="/ppt/media/image75.jpeg" ContentType="image/jpeg"/>
  <Override PartName="/ppt/media/image74.jpeg" ContentType="image/jpeg"/>
  <Override PartName="/ppt/media/image71.jpeg" ContentType="image/jpeg"/>
  <Override PartName="/ppt/media/image76.png" ContentType="image/png"/>
  <Override PartName="/ppt/media/image30.jpeg" ContentType="image/jpeg"/>
  <Override PartName="/ppt/media/image66.jpeg" ContentType="image/jpeg"/>
  <Override PartName="/ppt/media/image9.jpeg" ContentType="image/jpeg"/>
  <Override PartName="/ppt/media/image60.jpeg" ContentType="image/jpeg"/>
  <Override PartName="/ppt/media/image77.jpeg" ContentType="image/jpeg"/>
  <Override PartName="/ppt/media/image70.png" ContentType="image/png"/>
  <Override PartName="/ppt/media/image64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68.jpeg" ContentType="image/jpeg"/>
  <Override PartName="/ppt/media/image69.png" ContentType="image/png"/>
  <Override PartName="/ppt/media/image67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4.png" ContentType="image/pn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8.jpeg" ContentType="image/jpeg"/>
  <Override PartName="/ppt/media/image11.jpeg" ContentType="image/jpeg"/>
  <Override PartName="/ppt/media/image21.png" ContentType="image/png"/>
  <Override PartName="/ppt/media/image1.jpeg" ContentType="image/jpeg"/>
  <Override PartName="/ppt/media/image35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3B2B5-96E6-4BF2-A886-658600A2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95EEB-402F-41D5-8207-CCBDA269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2DFCE-E6E8-4343-9339-6A787E0A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59C4-390B-4F68-A05F-56B672C7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6537-F590-4BEA-BFF7-9B8429B8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2D60-9047-42C2-BDA1-C9B3E6E3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AD17-BB5F-4E89-A55A-2DD638ED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1E40-6A59-487F-A757-427F354D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6395-DD98-469F-A67B-04D5B73F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7733-FC38-415C-9BB9-5E87D84C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E754-53E1-4552-87BC-1074CD08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2160F-E8E7-4B5E-8A49-82FD6748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B168-5D02-49DD-AAE3-38B240FF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88A5-C68C-463B-ACF6-A757EF6C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D2E8-133E-4F75-9C29-34C81513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A072-7466-47A4-8455-04B59E45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DBD1-A481-4F51-8E09-5613FE25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CAEEC-9662-4534-901E-3075155A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A3383-0C38-4EA1-8C32-0EBDF898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06E0E-D2E7-48F7-935A-F55E3A57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49BD-3961-42A0-8B3D-D2F9F9E9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A659D-0509-49D3-9EC1-425CB203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DDA0D-D86E-4F3A-8E03-B2544311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C838-4A1A-42ED-A150-37C3FFFF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CBB3-732B-4F4E-BBDF-97F2707D5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E531-3673-4CD1-A105-BB193ABC8F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jpe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74.ru/_i/sites/74.ru/forum/files/i_5775044_1251951337_70283.jpg" TargetMode="External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png"/><Relationship Id="rId6" Type="http://schemas.openxmlformats.org/officeDocument/2006/relationships/image" Target="../media/image77.jpe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2" descr="C:\Documents and Settings\Администратор\Рабочий стол\96.jpg"/>
          <p:cNvPicPr/>
          <p:nvPr/>
        </p:nvPicPr>
        <p:blipFill>
          <a:blip r:embed="rId1"/>
          <a:stretch/>
        </p:blipFill>
        <p:spPr>
          <a:xfrm>
            <a:off x="2000160" y="285840"/>
            <a:ext cx="4786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Младшие школьники 50 – 60 х годо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5" descr="60-е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11280" y="1052640"/>
            <a:ext cx="3186000" cy="5257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3" name="Picture 8" descr="185px-%D0%9F%D0%B8%D0%BE%D0%BD%D0%B5%D1%80%D1%8B_1950"/>
          <p:cNvPicPr/>
          <p:nvPr/>
        </p:nvPicPr>
        <p:blipFill>
          <a:blip r:embed="rId2"/>
          <a:stretch/>
        </p:blipFill>
        <p:spPr>
          <a:xfrm>
            <a:off x="4500720" y="981000"/>
            <a:ext cx="374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Украшения школьной форм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Picture 7" descr="pic103"/>
          <p:cNvPicPr/>
          <p:nvPr/>
        </p:nvPicPr>
        <p:blipFill>
          <a:blip r:embed="rId1"/>
          <a:stretch/>
        </p:blipFill>
        <p:spPr>
          <a:xfrm>
            <a:off x="395280" y="981000"/>
            <a:ext cx="3672000" cy="2016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6" name="Picture 8" descr="worotnik2"/>
          <p:cNvPicPr/>
          <p:nvPr/>
        </p:nvPicPr>
        <p:blipFill>
          <a:blip r:embed="rId2"/>
          <a:stretch/>
        </p:blipFill>
        <p:spPr>
          <a:xfrm>
            <a:off x="4284720" y="981000"/>
            <a:ext cx="4535280" cy="1994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7" name="Picture 9" descr="185px-2_%D0%BA%D0%BB%D0%B0%D1%81%D1%81_A[1]"/>
          <p:cNvPicPr/>
          <p:nvPr/>
        </p:nvPicPr>
        <p:blipFill>
          <a:blip r:embed="rId3"/>
          <a:stretch/>
        </p:blipFill>
        <p:spPr>
          <a:xfrm>
            <a:off x="1763640" y="3141720"/>
            <a:ext cx="2525760" cy="3502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8" name="Picture 10" descr="_15610_11436_small"/>
          <p:cNvPicPr/>
          <p:nvPr/>
        </p:nvPicPr>
        <p:blipFill>
          <a:blip r:embed="rId4"/>
          <a:stretch/>
        </p:blipFill>
        <p:spPr>
          <a:xfrm>
            <a:off x="4716360" y="3141720"/>
            <a:ext cx="2754360" cy="3500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826920" y="40464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971640" y="33336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              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Школьники 70 – 80 х г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8" descr="0809ea2486439553c519f979531f0dd1"/>
          <p:cNvPicPr/>
          <p:nvPr/>
        </p:nvPicPr>
        <p:blipFill>
          <a:blip r:embed="rId1"/>
          <a:stretch/>
        </p:blipFill>
        <p:spPr>
          <a:xfrm>
            <a:off x="2411280" y="981000"/>
            <a:ext cx="4105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300px-Milovice_soviet_pupils[1]"/>
          <p:cNvPicPr/>
          <p:nvPr/>
        </p:nvPicPr>
        <p:blipFill>
          <a:blip r:embed="rId1"/>
          <a:stretch/>
        </p:blipFill>
        <p:spPr>
          <a:xfrm>
            <a:off x="468360" y="1052640"/>
            <a:ext cx="4751280" cy="369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7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Форма мальчиков 80-х - 90-х год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2286000" y="-94186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SovietShulemblems[1]"/>
          <p:cNvPicPr/>
          <p:nvPr/>
        </p:nvPicPr>
        <p:blipFill>
          <a:blip r:embed="rId2"/>
          <a:stretch/>
        </p:blipFill>
        <p:spPr>
          <a:xfrm>
            <a:off x="5580000" y="1341360"/>
            <a:ext cx="3240000" cy="182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8" name="Picture 11" descr="Рисунок2"/>
          <p:cNvPicPr/>
          <p:nvPr/>
        </p:nvPicPr>
        <p:blipFill>
          <a:blip r:embed="rId3"/>
          <a:stretch/>
        </p:blipFill>
        <p:spPr>
          <a:xfrm>
            <a:off x="6156360" y="3500280"/>
            <a:ext cx="2665440" cy="186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9" name="Picture 13" descr="Рисунок4"/>
          <p:cNvPicPr/>
          <p:nvPr/>
        </p:nvPicPr>
        <p:blipFill>
          <a:blip r:embed="rId4"/>
          <a:stretch/>
        </p:blipFill>
        <p:spPr>
          <a:xfrm>
            <a:off x="4284720" y="4941720"/>
            <a:ext cx="1616040" cy="1657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таршеклассницы 80-90-х год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1" name="Picture 4" descr="1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79640" y="1268280"/>
            <a:ext cx="5159520" cy="518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15levanova_class"/>
          <p:cNvPicPr/>
          <p:nvPr/>
        </p:nvPicPr>
        <p:blipFill>
          <a:blip r:embed="rId1"/>
          <a:stretch/>
        </p:blipFill>
        <p:spPr>
          <a:xfrm>
            <a:off x="2195640" y="1557360"/>
            <a:ext cx="4824360" cy="3052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3" name="Picture 11" descr="117484"/>
          <p:cNvPicPr/>
          <p:nvPr/>
        </p:nvPicPr>
        <p:blipFill>
          <a:blip r:embed="rId2"/>
          <a:stretch/>
        </p:blipFill>
        <p:spPr>
          <a:xfrm>
            <a:off x="5292720" y="189000"/>
            <a:ext cx="2879640" cy="576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4" name="Picture 10" descr="group_65"/>
          <p:cNvPicPr/>
          <p:nvPr/>
        </p:nvPicPr>
        <p:blipFill>
          <a:blip r:embed="rId3"/>
          <a:stretch/>
        </p:blipFill>
        <p:spPr>
          <a:xfrm>
            <a:off x="720720" y="189000"/>
            <a:ext cx="2940120" cy="576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5" name="Picture 8" descr="school_uniform[1]"/>
          <p:cNvPicPr/>
          <p:nvPr/>
        </p:nvPicPr>
        <p:blipFill>
          <a:blip r:embed="rId4"/>
          <a:stretch/>
        </p:blipFill>
        <p:spPr>
          <a:xfrm>
            <a:off x="2124000" y="1341360"/>
            <a:ext cx="5004000" cy="3336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6" name="Text Box 12"/>
          <p:cNvSpPr/>
          <p:nvPr/>
        </p:nvSpPr>
        <p:spPr>
          <a:xfrm>
            <a:off x="1258920" y="5661000"/>
            <a:ext cx="59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Так было . . 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2411280" y="580536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Так стало . . 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mph" presetID="6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xit" presetID="2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2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9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0" nodeType="afterEffect" fill="hold" presetClass="emph" presetID="3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1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set>
                                      <p:cBhvr>
                                        <p:cTn id="243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6" nodeType="afterEffect" fill="hold" presetClass="emph" presetID="3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7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animClr clrSpc="rgb">
                                      <p:cBhvr>
                                        <p:cTn id="258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set>
                                      <p:cBhvr>
                                        <p:cTn id="259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6" nodeType="afterEffect" fill="hold" presetClass="exit" presetID="2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6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2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27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3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500"/>
                            </p:stCondLst>
                            <p:childTnLst>
                              <p:par>
                                <p:cTn id="280" nodeType="afterEffect" fill="hold" presetClass="emph" presetID="6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81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50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84" dur="50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0)"/>
                                      </p:to>
                                    </p:set>
                                    <p:set>
                                      <p:cBhvr>
                                        <p:cTn id="285" dur="50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8000"/>
                            </p:stCondLst>
                            <p:childTnLst>
                              <p:par>
                                <p:cTn id="287" nodeType="afterEffect" fill="hold" presetClass="exit" presetID="2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p142_p2142057"/>
          <p:cNvPicPr/>
          <p:nvPr/>
        </p:nvPicPr>
        <p:blipFill>
          <a:blip r:embed="rId1"/>
          <a:stretch/>
        </p:blipFill>
        <p:spPr>
          <a:xfrm>
            <a:off x="900000" y="620640"/>
            <a:ext cx="7272360" cy="5932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9" name="Picture 6" descr="dresss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259240" y="1268280"/>
            <a:ext cx="2963880" cy="4321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60" name="Picture 7" descr="423_1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981000" y="1268280"/>
            <a:ext cx="2727360" cy="4248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xit" presetID="29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4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2" nodeType="afterEffect" fill="hold" presetClass="exit" presetID="29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2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Школьная форма:  г. Москва «Гимназии № 144», г. Санкт-Петербург «Лицей № 8»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2" name="Picture 4" descr="3570916"/>
          <p:cNvPicPr/>
          <p:nvPr/>
        </p:nvPicPr>
        <p:blipFill>
          <a:blip r:embed="rId1"/>
          <a:stretch/>
        </p:blipFill>
        <p:spPr>
          <a:xfrm>
            <a:off x="250920" y="1341360"/>
            <a:ext cx="3736800" cy="525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Fo2"/>
          <p:cNvPicPr/>
          <p:nvPr/>
        </p:nvPicPr>
        <p:blipFill>
          <a:blip r:embed="rId2"/>
          <a:stretch/>
        </p:blipFill>
        <p:spPr>
          <a:xfrm>
            <a:off x="4211640" y="1341360"/>
            <a:ext cx="460692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Школьная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форма г Дзержинск «Гимназия №38»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5" name="Picture 6" descr="F:\Фото девочек\DSCN3903.jpg"/>
          <p:cNvPicPr/>
          <p:nvPr/>
        </p:nvPicPr>
        <p:blipFill>
          <a:blip r:embed="rId1"/>
          <a:stretch/>
        </p:blipFill>
        <p:spPr>
          <a:xfrm>
            <a:off x="714240" y="1000080"/>
            <a:ext cx="3329280" cy="5327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F:\Фото девочек\DSCN3908.jpg"/>
          <p:cNvPicPr/>
          <p:nvPr/>
        </p:nvPicPr>
        <p:blipFill>
          <a:blip r:embed="rId2"/>
          <a:stretch/>
        </p:blipFill>
        <p:spPr>
          <a:xfrm>
            <a:off x="2643120" y="1143000"/>
            <a:ext cx="3524400" cy="5305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F:\От Ди)\кушилидит тирро 184.jpg"/>
          <p:cNvPicPr/>
          <p:nvPr/>
        </p:nvPicPr>
        <p:blipFill>
          <a:blip r:embed="rId3"/>
          <a:stretch/>
        </p:blipFill>
        <p:spPr>
          <a:xfrm>
            <a:off x="4286160" y="1357200"/>
            <a:ext cx="348300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Школьная форма в других странах: Великобритании, в Японии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9" name="Picture 6" descr="forma_gb4"/>
          <p:cNvPicPr/>
          <p:nvPr/>
        </p:nvPicPr>
        <p:blipFill>
          <a:blip r:embed="rId1"/>
          <a:stretch/>
        </p:blipFill>
        <p:spPr>
          <a:xfrm>
            <a:off x="250920" y="1052640"/>
            <a:ext cx="2914560" cy="4835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1221752618_school_uniform"/>
          <p:cNvPicPr/>
          <p:nvPr/>
        </p:nvPicPr>
        <p:blipFill>
          <a:blip r:embed="rId2"/>
          <a:stretch/>
        </p:blipFill>
        <p:spPr>
          <a:xfrm>
            <a:off x="3348000" y="1052640"/>
            <a:ext cx="2514600" cy="4824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school_girls06"/>
          <p:cNvPicPr/>
          <p:nvPr/>
        </p:nvPicPr>
        <p:blipFill>
          <a:blip r:embed="rId3"/>
          <a:stretch/>
        </p:blipFill>
        <p:spPr>
          <a:xfrm>
            <a:off x="6012000" y="1052640"/>
            <a:ext cx="28130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школьный приговор052 (3) (1) (3) (2).avi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1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Школьная форма: на Кубе, в Ази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3" name="Picture 5" descr="Cuba_025"/>
          <p:cNvPicPr/>
          <p:nvPr/>
        </p:nvPicPr>
        <p:blipFill>
          <a:blip r:embed="rId1"/>
          <a:stretch/>
        </p:blipFill>
        <p:spPr>
          <a:xfrm>
            <a:off x="468360" y="1557360"/>
            <a:ext cx="4643280" cy="310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uz_5066"/>
          <p:cNvPicPr/>
          <p:nvPr/>
        </p:nvPicPr>
        <p:blipFill>
          <a:blip r:embed="rId2"/>
          <a:stretch/>
        </p:blipFill>
        <p:spPr>
          <a:xfrm>
            <a:off x="5292720" y="1268280"/>
            <a:ext cx="335592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Школьная форма в Англи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6" name="Picture 6" descr="784534375"/>
          <p:cNvPicPr/>
          <p:nvPr/>
        </p:nvPicPr>
        <p:blipFill>
          <a:blip r:embed="rId1"/>
          <a:stretch/>
        </p:blipFill>
        <p:spPr>
          <a:xfrm>
            <a:off x="4211640" y="981000"/>
            <a:ext cx="4392720" cy="5616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girl%20blazer%20trousers%20condensed"/>
          <p:cNvPicPr/>
          <p:nvPr/>
        </p:nvPicPr>
        <p:blipFill>
          <a:blip r:embed="rId2"/>
          <a:stretch/>
        </p:blipFill>
        <p:spPr>
          <a:xfrm>
            <a:off x="395280" y="1052640"/>
            <a:ext cx="3527280" cy="5111640"/>
          </a:xfrm>
          <a:prstGeom prst="rect">
            <a:avLst/>
          </a:prstGeom>
          <a:ln w="38160">
            <a:solidFill>
              <a:srgbClr val="a886e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Школьную форму можно сшить своими руками на уроках технологи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9" name="Picture 2" descr="C:\Documents and Settings\Администратор\Рабочий стол\костюм\Изображение 060.jpg"/>
          <p:cNvPicPr/>
          <p:nvPr/>
        </p:nvPicPr>
        <p:blipFill>
          <a:blip r:embed="rId1"/>
          <a:stretch/>
        </p:blipFill>
        <p:spPr>
          <a:xfrm>
            <a:off x="755640" y="1484280"/>
            <a:ext cx="3394080" cy="4599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:\Documents and Settings\Администратор\Рабочий стол\костюм\Изображение 007.jpg"/>
          <p:cNvPicPr/>
          <p:nvPr/>
        </p:nvPicPr>
        <p:blipFill>
          <a:blip r:embed="rId2"/>
          <a:stretch/>
        </p:blipFill>
        <p:spPr>
          <a:xfrm>
            <a:off x="5076720" y="1484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C:\Documents and Settings\Администратор\Рабочий стол\костюм\Изображение 005.jpg"/>
          <p:cNvPicPr/>
          <p:nvPr/>
        </p:nvPicPr>
        <p:blipFill>
          <a:blip r:embed="rId1"/>
          <a:stretch/>
        </p:blipFill>
        <p:spPr>
          <a:xfrm>
            <a:off x="2214720" y="642960"/>
            <a:ext cx="4230360" cy="5640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C:\Documents and Settings\Администратор\Рабочий стол\костюм\Изображение 018.jpg"/>
          <p:cNvPicPr/>
          <p:nvPr/>
        </p:nvPicPr>
        <p:blipFill>
          <a:blip r:embed="rId2"/>
          <a:stretch/>
        </p:blipFill>
        <p:spPr>
          <a:xfrm>
            <a:off x="2286000" y="642960"/>
            <a:ext cx="4087800" cy="5450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C:\Documents and Settings\Администратор\Рабочий стол\костюм\Изображение 024.jpg"/>
          <p:cNvPicPr/>
          <p:nvPr/>
        </p:nvPicPr>
        <p:blipFill>
          <a:blip r:embed="rId3"/>
          <a:stretch/>
        </p:blipFill>
        <p:spPr>
          <a:xfrm>
            <a:off x="2214720" y="642960"/>
            <a:ext cx="4179600" cy="5572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C:\Documents and Settings\Администратор\Рабочий стол\костюм\Изображение 031.jpg"/>
          <p:cNvPicPr/>
          <p:nvPr/>
        </p:nvPicPr>
        <p:blipFill>
          <a:blip r:embed="rId4"/>
          <a:stretch/>
        </p:blipFill>
        <p:spPr>
          <a:xfrm>
            <a:off x="2286000" y="571680"/>
            <a:ext cx="4230720" cy="5640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C:\Documents and Settings\Администратор\Рабочий стол\костюм\Изображение 042.jpg"/>
          <p:cNvPicPr/>
          <p:nvPr/>
        </p:nvPicPr>
        <p:blipFill>
          <a:blip r:embed="rId5"/>
          <a:stretch/>
        </p:blipFill>
        <p:spPr>
          <a:xfrm>
            <a:off x="2357280" y="738360"/>
            <a:ext cx="4087800" cy="5449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C:\Documents and Settings\Администратор\Рабочий стол\костюм\Изображение 030.jpg"/>
          <p:cNvPicPr/>
          <p:nvPr/>
        </p:nvPicPr>
        <p:blipFill>
          <a:blip r:embed="rId6"/>
          <a:stretch/>
        </p:blipFill>
        <p:spPr>
          <a:xfrm>
            <a:off x="2214720" y="571680"/>
            <a:ext cx="43192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Содержимое 5" descr=""/>
          <p:cNvPicPr/>
          <p:nvPr/>
        </p:nvPicPr>
        <p:blipFill>
          <a:blip r:embed="rId1"/>
          <a:stretch/>
        </p:blipFill>
        <p:spPr>
          <a:xfrm>
            <a:off x="457200" y="857160"/>
            <a:ext cx="822960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Школьная форма для девочек и для мальчиков имеет преимуществ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81640" indent="-4744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глаживает социальное неравенство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81640" indent="-4744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оспитывает  в ребенке дисциплину и хороший вкус к элегантному деловому стилю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81640" indent="-4744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формирует чувства сплоченности с классом, школ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Школьная форма должна быть удобной, практичной, качественной, модной, и главное – она должна нравится самим школьника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 учебных заведениях, не имеющих школьной формы, существуют  правила ношения одежды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700"/>
                            </p:stCondLst>
                            <p:childTnLst>
                              <p:par>
                                <p:cTn id="50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52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240"/>
                            </p:stCondLst>
                            <p:childTnLst>
                              <p:par>
                                <p:cTn id="516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2540"/>
                            </p:stCondLst>
                            <p:childTnLst>
                              <p:par>
                                <p:cTn id="522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8240"/>
                            </p:stCondLst>
                            <p:childTnLst>
                              <p:par>
                                <p:cTn id="528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2" descr="C:\Documents and Settings\Администратор\Рабочий стол\96.jpg"/>
          <p:cNvPicPr/>
          <p:nvPr/>
        </p:nvPicPr>
        <p:blipFill>
          <a:blip r:embed="rId1"/>
          <a:stretch/>
        </p:blipFill>
        <p:spPr>
          <a:xfrm>
            <a:off x="2000160" y="285840"/>
            <a:ext cx="4786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Только хорошо одетая женщина чувствует себя уверенно и комфортн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сновные требования к внешнему облику деловой женщины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(business casual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6" name="Рисунок 3" descr="начало;-) хуй.jpg"/>
          <p:cNvPicPr/>
          <p:nvPr/>
        </p:nvPicPr>
        <p:blipFill>
          <a:blip r:embed="rId1"/>
          <a:stretch/>
        </p:blipFill>
        <p:spPr>
          <a:xfrm>
            <a:off x="457200" y="2666880"/>
            <a:ext cx="5477040" cy="37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уществует ряд ошибок, которые женщины допускают в одежде, предназначенной для рабо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зволение индустрии моды целиком определять выбор своего костюм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клонность преувеличивать значение собственной привлекательности (открытые и обтягивающие вещи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резмерная парадность в обыденной обстановке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дежда из прозрачных тканей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лоупотребление атрибутами мужской одежды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резмерная верность указаниям сезонной мод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*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кже необходимо помнить, что деловой этикет не рекомендует приходить на работу в одном и том же костюме два дня подряд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шиб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школьный приговор049 (1) (1) (5).avi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0034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ледует носить только то, что идёт лично женщин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риемлемая длина юбки – чуть выше колен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Костюм делового стиля должен быть в гардеробе каждой женщин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еловой костюм,  состоящий  из  юбки  и  пиджака – днем. Брюки и  пиджак  - вечеро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укава должны прикрывать плечи всегда!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епременное правило - наличие колгот телесного цвета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в любую погод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Туфли  могут быть классических цвет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еловая одежда должна быть удобной и функциональной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еловой костю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1" name="Рисунок 4" descr="1.jpg"/>
          <p:cNvPicPr/>
          <p:nvPr/>
        </p:nvPicPr>
        <p:blipFill>
          <a:blip r:embed="rId1"/>
          <a:stretch/>
        </p:blipFill>
        <p:spPr>
          <a:xfrm>
            <a:off x="2895480" y="2133720"/>
            <a:ext cx="3048120" cy="43956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5" descr="2.jpg"/>
          <p:cNvPicPr/>
          <p:nvPr/>
        </p:nvPicPr>
        <p:blipFill>
          <a:blip r:embed="rId2"/>
          <a:stretch/>
        </p:blipFill>
        <p:spPr>
          <a:xfrm>
            <a:off x="2133720" y="2514600"/>
            <a:ext cx="4419360" cy="37558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6" descr="3.jpg"/>
          <p:cNvPicPr/>
          <p:nvPr/>
        </p:nvPicPr>
        <p:blipFill>
          <a:blip r:embed="rId3"/>
          <a:stretch/>
        </p:blipFill>
        <p:spPr>
          <a:xfrm>
            <a:off x="3124080" y="2741760"/>
            <a:ext cx="2133720" cy="41162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7" descr="4а.jpg"/>
          <p:cNvPicPr/>
          <p:nvPr/>
        </p:nvPicPr>
        <p:blipFill>
          <a:blip r:embed="rId4"/>
          <a:stretch/>
        </p:blipFill>
        <p:spPr>
          <a:xfrm>
            <a:off x="6324480" y="3352680"/>
            <a:ext cx="2438640" cy="32529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8" descr="4б.jpg"/>
          <p:cNvPicPr/>
          <p:nvPr/>
        </p:nvPicPr>
        <p:blipFill>
          <a:blip r:embed="rId5"/>
          <a:stretch/>
        </p:blipFill>
        <p:spPr>
          <a:xfrm>
            <a:off x="3809880" y="3581280"/>
            <a:ext cx="1927440" cy="32767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9" descr="5.jpg"/>
          <p:cNvPicPr/>
          <p:nvPr/>
        </p:nvPicPr>
        <p:blipFill>
          <a:blip r:embed="rId6"/>
          <a:stretch/>
        </p:blipFill>
        <p:spPr>
          <a:xfrm>
            <a:off x="5638680" y="1295280"/>
            <a:ext cx="3505320" cy="505944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0" descr="6.jpg"/>
          <p:cNvPicPr/>
          <p:nvPr/>
        </p:nvPicPr>
        <p:blipFill>
          <a:blip r:embed="rId7"/>
          <a:stretch/>
        </p:blipFill>
        <p:spPr>
          <a:xfrm>
            <a:off x="457200" y="0"/>
            <a:ext cx="2676600" cy="373392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1" descr="7а.jpg"/>
          <p:cNvPicPr/>
          <p:nvPr/>
        </p:nvPicPr>
        <p:blipFill>
          <a:blip r:embed="rId8"/>
          <a:stretch/>
        </p:blipFill>
        <p:spPr>
          <a:xfrm>
            <a:off x="228600" y="1447920"/>
            <a:ext cx="3321000" cy="274320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2" descr="7б.jpg"/>
          <p:cNvPicPr/>
          <p:nvPr/>
        </p:nvPicPr>
        <p:blipFill>
          <a:blip r:embed="rId9"/>
          <a:stretch/>
        </p:blipFill>
        <p:spPr>
          <a:xfrm>
            <a:off x="4952880" y="175248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13" descr="7в.jpg"/>
          <p:cNvPicPr/>
          <p:nvPr/>
        </p:nvPicPr>
        <p:blipFill>
          <a:blip r:embed="rId10"/>
          <a:stretch/>
        </p:blipFill>
        <p:spPr>
          <a:xfrm>
            <a:off x="2209680" y="5181480"/>
            <a:ext cx="1970280" cy="167652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4" descr="8.jpg"/>
          <p:cNvPicPr/>
          <p:nvPr/>
        </p:nvPicPr>
        <p:blipFill>
          <a:blip r:embed="rId11"/>
          <a:stretch/>
        </p:blipFill>
        <p:spPr>
          <a:xfrm>
            <a:off x="3352680" y="0"/>
            <a:ext cx="2590920" cy="49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0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7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6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0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1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5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9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928440"/>
            <a:ext cx="3400560" cy="57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Главное во внешнем облике деловой женщины — ухоженность, чувство меры, элегантность и целесообразность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Удачно подобранный деловой гардероб поможет своей обладательнице производить благоприятное впечатление, подчеркнет её профессиональность и личные качества, станет верным помощником в продвижении по карьерной лестнице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3" name="Рисунок 3" descr="заключение.jpg"/>
          <p:cNvPicPr/>
          <p:nvPr/>
        </p:nvPicPr>
        <p:blipFill>
          <a:blip r:embed="rId1"/>
          <a:stretch/>
        </p:blipFill>
        <p:spPr>
          <a:xfrm>
            <a:off x="4000680" y="642960"/>
            <a:ext cx="4840200" cy="59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70772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Garamond"/>
              </a:rPr>
              <a:t>Деловой стиль мужчины.</a:t>
            </a:r>
            <a:endParaRPr b="1" lang="en-US" sz="4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1"/>
          <p:cNvPicPr/>
          <p:nvPr/>
        </p:nvPicPr>
        <p:blipFill>
          <a:blip r:embed="rId1"/>
          <a:stretch/>
        </p:blipFill>
        <p:spPr>
          <a:xfrm>
            <a:off x="250920" y="304920"/>
            <a:ext cx="2720880" cy="4495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49973"/>
          <p:cNvPicPr/>
          <p:nvPr/>
        </p:nvPicPr>
        <p:blipFill>
          <a:blip r:embed="rId2"/>
          <a:stretch/>
        </p:blipFill>
        <p:spPr>
          <a:xfrm rot="666000">
            <a:off x="5143320" y="847440"/>
            <a:ext cx="3652560" cy="39704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Основные тенденции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костюма в ХХ веке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96000" y="3429000"/>
            <a:ext cx="4248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f03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0f034"/>
                </a:solidFill>
                <a:latin typeface="Times New Roman"/>
              </a:rPr>
              <a:t>Во все времена мужской костюм являлся зеркалом эпохи, отражением своего време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6" descr="img_backtoyou_5"/>
          <p:cNvPicPr/>
          <p:nvPr/>
        </p:nvPicPr>
        <p:blipFill>
          <a:blip r:embed="rId3"/>
          <a:stretch/>
        </p:blipFill>
        <p:spPr>
          <a:xfrm>
            <a:off x="2057400" y="2057400"/>
            <a:ext cx="3048120" cy="44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3000"/>
                            </p:stCondLst>
                            <p:childTnLst>
                              <p:par>
                                <p:cTn id="7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0"/>
                            </p:stCondLst>
                            <p:childTnLst>
                              <p:par>
                                <p:cTn id="7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486400" y="533520"/>
            <a:ext cx="3200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В настоящее время подавляющее большинство костюмов состоит из двух предметов (костюм-двойка).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Пиджак и брюки всегда сшиты из одного материала, для делового костюма чаще всего шерсть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2957400" cy="3840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2214720" y="1905120"/>
            <a:ext cx="3348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24000" y="380880"/>
            <a:ext cx="4248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чество, сдержанность, элегантность - именно эти качества характеризуют набор аксессуаров делового мужчины, будь то элементы одежды, украшения или канцелярские принадлежности. Сегодня набор украшений является признаком вкуса, а не благосостоян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4" name="Picture 3" descr="Картинка 266 из 8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7800" y="642960"/>
            <a:ext cx="44035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Аксессуа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1990800" cy="1990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"/>
          <p:cNvPicPr/>
          <p:nvPr/>
        </p:nvPicPr>
        <p:blipFill>
          <a:blip r:embed="rId2"/>
          <a:stretch/>
        </p:blipFill>
        <p:spPr>
          <a:xfrm>
            <a:off x="2133720" y="3276720"/>
            <a:ext cx="2065320" cy="2065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3657600" y="152388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галстук"/>
          <p:cNvPicPr/>
          <p:nvPr/>
        </p:nvPicPr>
        <p:blipFill>
          <a:blip r:embed="rId4"/>
          <a:stretch/>
        </p:blipFill>
        <p:spPr>
          <a:xfrm>
            <a:off x="5029200" y="3124080"/>
            <a:ext cx="2143080" cy="3368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"/>
          <p:cNvPicPr/>
          <p:nvPr/>
        </p:nvPicPr>
        <p:blipFill>
          <a:blip r:embed="rId5"/>
          <a:stretch/>
        </p:blipFill>
        <p:spPr>
          <a:xfrm>
            <a:off x="609480" y="4648320"/>
            <a:ext cx="2076480" cy="1841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портфель2"/>
          <p:cNvPicPr/>
          <p:nvPr/>
        </p:nvPicPr>
        <p:blipFill>
          <a:blip r:embed="rId6"/>
          <a:stretch/>
        </p:blipFill>
        <p:spPr>
          <a:xfrm>
            <a:off x="6400800" y="114300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4" name="Picture 2" descr="C:\Documents and Settings\Администратор\Рабочий стол\96.jpg"/>
          <p:cNvPicPr/>
          <p:nvPr/>
        </p:nvPicPr>
        <p:blipFill>
          <a:blip r:embed="rId1"/>
          <a:stretch/>
        </p:blipFill>
        <p:spPr>
          <a:xfrm>
            <a:off x="2000160" y="285840"/>
            <a:ext cx="4786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2" descr="C:\Documents and Settings\Администратор\Рабочий стол\96.jpg"/>
          <p:cNvPicPr/>
          <p:nvPr/>
        </p:nvPicPr>
        <p:blipFill>
          <a:blip r:embed="rId1"/>
          <a:stretch/>
        </p:blipFill>
        <p:spPr>
          <a:xfrm>
            <a:off x="2000160" y="285840"/>
            <a:ext cx="4786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mt00013_012"/>
          <p:cNvPicPr/>
          <p:nvPr/>
        </p:nvPicPr>
        <p:blipFill>
          <a:blip r:embed="rId1"/>
          <a:stretch/>
        </p:blipFill>
        <p:spPr>
          <a:xfrm>
            <a:off x="2916360" y="2133720"/>
            <a:ext cx="3368520" cy="4465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803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Школьная форма: история и современность.</a:t>
            </a:r>
            <a:r>
              <a:rPr b="1" lang="en-US" sz="8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140000" y="4652640"/>
            <a:ext cx="48258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Picture 3" descr="okno_globyc_kniga[1]"/>
          <p:cNvPicPr/>
          <p:nvPr/>
        </p:nvPicPr>
        <p:blipFill>
          <a:blip r:embed="rId1">
            <a:lum contrast="-4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nicolai1"/>
          <p:cNvPicPr/>
          <p:nvPr/>
        </p:nvPicPr>
        <p:blipFill>
          <a:blip r:embed="rId2"/>
          <a:stretch/>
        </p:blipFill>
        <p:spPr>
          <a:xfrm>
            <a:off x="539640" y="260280"/>
            <a:ext cx="6408720" cy="5980320"/>
          </a:xfrm>
          <a:prstGeom prst="rect">
            <a:avLst/>
          </a:prstGeom>
          <a:ln w="0">
            <a:noFill/>
          </a:ln>
        </p:spPr>
      </p:pic>
      <p:sp>
        <p:nvSpPr>
          <p:cNvPr id="117" name="WordArt 5"/>
          <p:cNvSpPr txBox="1"/>
          <p:nvPr/>
        </p:nvSpPr>
        <p:spPr>
          <a:xfrm>
            <a:off x="4419720" y="907920"/>
            <a:ext cx="4545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мператор  Николай1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5219640" y="1844640"/>
            <a:ext cx="280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здал  закон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4284720" y="2997360"/>
            <a:ext cx="4448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  введении первой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1979640" y="4005360"/>
            <a:ext cx="662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школьной  форм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2700360" y="5229360"/>
            <a:ext cx="532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1834 год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upload0"/>
          <p:cNvPicPr/>
          <p:nvPr/>
        </p:nvPicPr>
        <p:blipFill>
          <a:blip r:embed="rId1"/>
          <a:stretch/>
        </p:blipFill>
        <p:spPr>
          <a:xfrm>
            <a:off x="324000" y="1484280"/>
            <a:ext cx="4679640" cy="2643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3" name="Picture 9" descr="t1_1"/>
          <p:cNvPicPr/>
          <p:nvPr/>
        </p:nvPicPr>
        <p:blipFill>
          <a:blip r:embed="rId2"/>
          <a:stretch/>
        </p:blipFill>
        <p:spPr>
          <a:xfrm>
            <a:off x="5219640" y="1268280"/>
            <a:ext cx="3600360" cy="518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093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Форма гимназистов (1916 год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755640" y="443700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мольный институт  благородных  девиц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20-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03040" y="189000"/>
            <a:ext cx="4368960" cy="648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7" name="Picture 10" descr="20594689_kadetuy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886280" y="189000"/>
            <a:ext cx="4133880" cy="647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5640" y="-153720"/>
            <a:ext cx="31683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569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13" descr="school"/>
          <p:cNvPicPr/>
          <p:nvPr/>
        </p:nvPicPr>
        <p:blipFill>
          <a:blip r:embed="rId1"/>
          <a:stretch/>
        </p:blipFill>
        <p:spPr>
          <a:xfrm>
            <a:off x="2050920" y="189000"/>
            <a:ext cx="47768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8:53:25Z</dcterms:created>
  <dc:creator>Анжела</dc:creator>
  <dc:description/>
  <dc:language>en-US</dc:language>
  <cp:lastModifiedBy>надежда</cp:lastModifiedBy>
  <dcterms:modified xsi:type="dcterms:W3CDTF">2012-04-21T08:49:53Z</dcterms:modified>
  <cp:revision>63</cp:revision>
  <dc:subject/>
  <dc:title>Школьная одежд</dc:title>
</cp:coreProperties>
</file>