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4825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9721-D804-470B-828E-3B609960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B301-1D47-451D-BABD-FB0B447F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9438-9368-46BE-8319-166D8829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FA93-9542-45B0-AB65-3CE96725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5AC3-E4D4-46D8-8FFD-7CF164BC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D6FD-A1BD-4504-8DE1-C162D9D7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08B7-0C4D-4B82-BAA2-56B4FDA4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D48C-3ABF-408B-BDE1-86BB1A7C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FFAA-C00F-40A7-98E4-B0C1D63F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715C-582C-48C4-A701-26894963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C566-3858-4006-A1DD-CE38FDD5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F14B-E5F5-4F47-9AD0-9F731D87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624B-E341-427D-9397-B0D47887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BDEB-736F-48A1-A14A-595D44EF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455C-DF67-4046-968D-1C2F44C5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AFAD-7BB5-4D1C-B69B-FDC18ECA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1B9D-4396-4A02-8C69-275E78EC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F5F-1C66-429B-93A5-07DBD94A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9B54-57AF-44AE-96E2-06810582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7B3-ADB7-494B-89F2-A6ABB930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74F3-86F1-4480-8769-D1E86283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07B1-08F9-49DD-A9FA-CD249BA3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1E3-0278-41D1-8671-0DB1FB5F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497E-0B4F-4EB7-8F8C-33C0F8C8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AD97-402F-4862-81F7-F21EA87C2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6715-F918-4EC0-9215-31AAA797D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7752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письмо матери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88714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клен_0001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66912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береза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06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5552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548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собаке_0001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66455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05:15:53Z</dcterms:created>
  <dc:creator>1363</dc:creator>
  <dc:description/>
  <dc:language>en-US</dc:language>
  <cp:lastModifiedBy>1363</cp:lastModifiedBy>
  <dcterms:modified xsi:type="dcterms:W3CDTF">2011-12-26T11:24:05Z</dcterms:modified>
  <cp:revision>11</cp:revision>
  <dc:subject/>
  <dc:title>Слайд 1</dc:title>
</cp:coreProperties>
</file>