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0.png" ContentType="image/png"/>
  <Override PartName="/ppt/media/image23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364F-38E4-495D-A943-F1C2B65BF5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Млечный Путь : Спиральная Галактик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/ Sb / </a:t>
            </a:r>
            <a:br>
              <a:rPr sz="1200"/>
            </a:br>
            <a:r>
              <a:rPr b="0" lang="ru-RU" sz="1200" spc="-1" strike="noStrike">
                <a:solidFill>
                  <a:srgbClr val="ff0080"/>
                </a:solidFill>
                <a:latin typeface="Times New Roman"/>
              </a:rPr>
              <a:t>Гигантская Звёздная Система 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80"/>
                </a:solidFill>
                <a:latin typeface="Times New Roman"/>
              </a:rPr>
              <a:t>~</a:t>
            </a:r>
            <a:r>
              <a:rPr b="0" lang="ru-RU" sz="1200" spc="-1" strike="noStrike">
                <a:solidFill>
                  <a:srgbClr val="ff0080"/>
                </a:solidFill>
                <a:latin typeface="Times New Roman"/>
              </a:rPr>
              <a:t> 200 млр. звёзд</a:t>
            </a:r>
            <a:r>
              <a:rPr b="1" lang="ru-RU" sz="1200" spc="-1" strike="noStrike">
                <a:solidFill>
                  <a:srgbClr val="ff0080"/>
                </a:solidFill>
                <a:latin typeface="Times New Roman"/>
              </a:rPr>
              <a:t> 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D9C1-DC3C-498F-874C-A59FAA80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8F8-0B6B-45DF-A243-1380BBF8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9D4-751E-4D7C-B615-B4E295BF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6482-B01E-4757-BA06-7015B896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8D80-D695-490C-B4B2-D62062AB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812A-F5E9-42E0-B0F5-EB925961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249D-ED59-4211-A5EB-A5D32A31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540D-BDC7-4D1B-BBCC-B716E328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02FA-1C5C-4F30-A8B5-086231D3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DFD9-79BA-4FED-9369-0CD62016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F354-FA9A-4005-9100-D0B52AD8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408E-B8C1-44F2-9AC3-C44BA39D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EBC0-3E75-4AC8-A488-D5B2711C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9A49-3CA4-4465-BC3F-48F4A758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8927-A825-44D8-B232-3D480D0D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6625-B08B-4B6F-88A0-6F3FC047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5328-6B8F-4141-B28E-A264DDE4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38E-211F-439E-8FC7-0164FD18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2451-9EDD-4DD3-B025-7061E543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4A6-9E22-4F56-9CAC-3BE2F2FC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36A8-BF39-4A89-ACA7-FDEBBBEA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DBE2-A4EE-473D-AEE1-704ABAA4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CC9-A7C7-4541-8DA3-84FDBF81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07B-2D11-4AEA-9FF0-C3BA9F6C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4915-575E-4B04-9B00-C3688E0162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2313-E9A1-4DCE-A1D9-BF1D004109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9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e941c"/>
                </a:solidFill>
                <a:latin typeface="Arial"/>
              </a:rPr>
              <a:t>Путешествие в космос</a:t>
            </a:r>
            <a:br>
              <a:rPr sz="6600"/>
            </a:b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3213000"/>
            <a:ext cx="820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Интегрированное занятие в подготовительной групп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4365720"/>
            <a:ext cx="7128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Выполнили</a:t>
            </a: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учитель-логопед Воробьёва О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воспитатель Заколяпина И.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МАДОУ № 31</a:t>
            </a: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 г. Снежинс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09840" y="228600"/>
            <a:ext cx="3701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Коме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743280" cy="234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54936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Times New Roman"/>
              </a:rPr>
              <a:t>Спутни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148360" y="1557360"/>
            <a:ext cx="3276360" cy="32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E:\From I-net\Mikl\Мишкино\Естественные науки\Астрономия\исследователи космоса\voy06старт1.jpg"/>
          <p:cNvPicPr/>
          <p:nvPr/>
        </p:nvPicPr>
        <p:blipFill>
          <a:blip r:embed="rId2"/>
          <a:stretch/>
        </p:blipFill>
        <p:spPr>
          <a:xfrm>
            <a:off x="1219320" y="76320"/>
            <a:ext cx="6705360" cy="67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рвые космонав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539640" y="2440080"/>
            <a:ext cx="4103640" cy="3076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3"/>
          <a:stretch/>
        </p:blipFill>
        <p:spPr>
          <a:xfrm>
            <a:off x="4932360" y="1989000"/>
            <a:ext cx="36003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811320" cy="511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3"/>
          <a:stretch/>
        </p:blipFill>
        <p:spPr>
          <a:xfrm>
            <a:off x="4643280" y="836640"/>
            <a:ext cx="3786480" cy="5164200"/>
          </a:xfrm>
          <a:prstGeom prst="rect">
            <a:avLst/>
          </a:prstGeom>
          <a:ln w="0">
            <a:noFill/>
          </a:ln>
        </p:spPr>
      </p:pic>
      <p:sp>
        <p:nvSpPr>
          <p:cNvPr id="120" name="Заголовок 3"/>
          <p:cNvSpPr/>
          <p:nvPr/>
        </p:nvSpPr>
        <p:spPr>
          <a:xfrm>
            <a:off x="468360" y="18900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Первый космонавт - человек </a:t>
            </a:r>
            <a:br>
              <a:rPr sz="3200"/>
            </a:b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 Юрий Гагар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6035760"/>
            <a:ext cx="81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смонавт – это человек, который испытывает космическую технику и работает на ней в косм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-252360" y="-1440"/>
            <a:ext cx="9577440" cy="687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050920" y="189000"/>
            <a:ext cx="48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 Black"/>
              </a:rPr>
              <a:t>Земл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627280" y="2133720"/>
            <a:ext cx="3382920" cy="292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3880" y="51814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 Black"/>
              </a:rPr>
              <a:t>МЕРКУРИ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63640" y="404640"/>
            <a:ext cx="53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260280"/>
            <a:ext cx="57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 Black"/>
              </a:rPr>
              <a:t>Венер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916360" y="2205000"/>
            <a:ext cx="3456000" cy="31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743200" y="525780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 Black"/>
              </a:rPr>
              <a:t>МАРС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258920" y="1341360"/>
            <a:ext cx="2449440" cy="2449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505480" y="1341360"/>
            <a:ext cx="244296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1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09680" y="51814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 Black"/>
              </a:rPr>
              <a:t>ЮПИТЕР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135760" cy="32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4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-1116000" y="-369720"/>
            <a:ext cx="10260000" cy="72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518148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 Black"/>
              </a:rPr>
              <a:t>САТУРН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124000" y="981000"/>
            <a:ext cx="5437440" cy="33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24080" y="51814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 Black"/>
              </a:rPr>
              <a:t>УРАН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340000" y="981000"/>
            <a:ext cx="4824360" cy="301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1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09680" y="51814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 Black"/>
              </a:rPr>
              <a:t>НЕПТУН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771640" y="1322280"/>
            <a:ext cx="4105440" cy="30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2" dur="2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09680" y="51814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 Black"/>
              </a:rPr>
              <a:t>ПЛУТОН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0" y="140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Pluto"/>
          <p:cNvPicPr/>
          <p:nvPr/>
        </p:nvPicPr>
        <p:blipFill>
          <a:blip r:embed="rId2"/>
          <a:stretch/>
        </p:blipFill>
        <p:spPr>
          <a:xfrm>
            <a:off x="2843280" y="907920"/>
            <a:ext cx="3349440" cy="33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3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Kozuka Gothic Pro B"/>
              </a:rPr>
              <a:t>Виктори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4581360"/>
            <a:ext cx="525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Какое слово не подходи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осмо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космически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космонавт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осмат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105264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лько планет в солнечной систем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184464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ое слово лишне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турн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Мар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Венер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Солнц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278136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ем похожи и отличаются лампа и Солнце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3573360"/>
            <a:ext cx="49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364500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вый человек-космонав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олетевший в космо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4932360" y="476280"/>
            <a:ext cx="3743280" cy="2232000"/>
            <a:chOff x="4932360" y="476280"/>
            <a:chExt cx="3743280" cy="2232000"/>
          </a:xfrm>
        </p:grpSpPr>
        <p:sp>
          <p:nvSpPr>
            <p:cNvPr id="155" name=""/>
            <p:cNvSpPr/>
            <p:nvPr/>
          </p:nvSpPr>
          <p:spPr>
            <a:xfrm>
              <a:off x="4932360" y="476280"/>
              <a:ext cx="3743280" cy="2232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08720" y="981000"/>
              <a:ext cx="230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 как может выглядеть 10 планета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908000" y="278136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258325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375840"/>
            <a:ext cx="788832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99"/>
                </a:solidFill>
                <a:latin typeface="Kozuka Gothic Pro B"/>
              </a:rPr>
              <a:t>МОЛОДЦЫ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Our Galaxy Milky Way "/>
          <p:cNvPicPr/>
          <p:nvPr/>
        </p:nvPicPr>
        <p:blipFill>
          <a:blip r:embed="rId2"/>
          <a:stretch/>
        </p:blipFill>
        <p:spPr>
          <a:xfrm>
            <a:off x="1523880" y="519120"/>
            <a:ext cx="6096240" cy="59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6920" y="836280"/>
            <a:ext cx="460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Современный самый большой Альт - Азимутальный телескоп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780000" y="2205000"/>
            <a:ext cx="5106960" cy="3511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0920" y="2133720"/>
            <a:ext cx="3316320" cy="3633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5280" y="141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e7ff"/>
                </a:solidFill>
                <a:latin typeface="Times New Roman"/>
              </a:rPr>
              <a:t>До наших дн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99"/>
                </a:solidFill>
                <a:latin typeface="Blackoak Std"/>
              </a:rPr>
              <a:t>телескоп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02800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-171360"/>
            <a:ext cx="9325080" cy="7461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77080" y="1484280"/>
            <a:ext cx="20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338040"/>
            <a:ext cx="2820960" cy="3136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Вселенна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– </a:t>
            </a: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это необъятный мир за пределами Зем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Вселенная образовалась в результате так называемого большого взрыва 15 млрд. лет назад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Times New Roman"/>
              </a:rPr>
              <a:t>Из материи, которая понемногу охлаждалась, образовались планеты, звёзды, галактики, кометы и другие небесные те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-252360" y="-1440"/>
            <a:ext cx="9396360" cy="7048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940360" y="0"/>
            <a:ext cx="3203640" cy="1465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 вселенной миллиарды галактик. Галактики – это гигантские скопления звёзд, газа и пыли, удерживаемые вместе силой притя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5084640"/>
            <a:ext cx="8424720" cy="1310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вёзды, сияющие в ночном небе – тела из раскалённого газ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вёзды изучают яркий свет, потому что их температура достигает 10 млн. градус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Цвет звёзд зависит от их величины и температуры. Самые большие и горячие излучают голубоватый свет, а маленькие бывают белыми, желтыми, оранжевыми или красноваты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Чем ближе к нам звезда, тем ярче она каже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5565600" cy="619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27640" y="1197000"/>
            <a:ext cx="2737080" cy="4117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ая близкая к Земле звезда – это Солнц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лнце – это гигантский шар из раскалённых газ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лнце это центр Солнечной системы, частью которой является и Земл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51280" y="620640"/>
            <a:ext cx="489744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Солнечная система – это солнце с большими и маленькими планет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3:56:45Z</dcterms:created>
  <dc:creator/>
  <dc:description/>
  <dc:language>en-US</dc:language>
  <cp:lastModifiedBy>надежда</cp:lastModifiedBy>
  <dcterms:modified xsi:type="dcterms:W3CDTF">2012-02-26T11:42:26Z</dcterms:modified>
  <cp:revision>21</cp:revision>
  <dc:subject/>
  <dc:title>Презентация PowerPoint</dc:title>
</cp:coreProperties>
</file>