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62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19.jpeg" ContentType="image/jpeg"/>
  <Override PartName="/ppt/media/image24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162-BD83-4E3E-B0AE-C20D2D20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B74-4839-49F3-8CFD-4A2227E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E3F-A525-45DE-941C-2E84D83B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EF9-6B80-41D6-A8DD-A154D828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BF75-8586-4C78-95E4-E1CD4108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57A7-E7A4-43B5-B896-26A15167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66DF-8F6F-4495-AB4D-C317A8DB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C33A-EA1E-4FB4-B742-3EAD00F2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581D-2696-4509-B935-853A821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624D-80DF-444A-A242-025C8EA1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39AF-6F23-4C27-9DC5-6121707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11C-A165-4FF9-8D44-EDA18739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A89F-F020-4C60-932D-4982E6C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D068-6AB9-41C9-A392-19E813C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26C-4B6A-4E78-88A4-ED7945A2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E63C-8BD9-409A-86BE-D3CBC74C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8FAD-6B69-4467-85FB-174463A5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6A8-00C9-42E4-AD97-FFAF8FDE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E73-5917-4B17-AF95-E4C0CB03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68D-AEA1-42C8-8468-845B4C4B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774-4CD5-4D3E-AE49-BDFED756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3A3-E504-471E-8092-95FA1D02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8F2-8FDC-4722-B6C3-8178570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100-39D1-49E4-B24E-AFCAF9D2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cifair_INSIDE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CB31-573A-4CB5-99F2-7CCE7466F124}" type="slidenum">
              <a:rPr b="0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cifair_front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FC3C-FB3E-419E-9095-3DFAE7D203EE}" type="slidenum">
              <a:rPr b="0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geriona.com.ua/galereya/svadebnie_kolca/svadebnie_kolca_24.jpg" TargetMode="External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skepsis.nl/acupunctuur2.jpg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megadoski.ru/s_images/12342955732506.jpg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uzy.ru/uploads/images/d/7/3/c/2/84195e52d1.jpg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hyperlink" Target="http://shop.umbrella-group.ru/published/publicdata/UMBRELLAINTELLISHOP/attachments/SC/products_pictures/gold%2815330%29%20&#1047;&#1054;&#1051;&#1054;&#1058;&#1054;%2096&#1055;&#1056;._enl.jpg" TargetMode="External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105/2495105/f_13783502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arshruty.ru/PhotoFiles/6/1/0/6/6106e35506bb44428735f02d55428d2b/large/60%20&#1087;&#1088;&#1086;&#1094;&#1077;&#1085;&#1090;&#1086;&#1074;%20&#1088;&#1072;&#1089;&#1093;&#1086;&#1076;&#1072;%20&#1080;&#1089;&#1090;&#1086;&#1095;&#1085;&#1080;&#1082;&#1072;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hyperlink" Target="http://img0.liveinternet.ru/images/attach/b/2/51/6/51006432_1257868952_pic016big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kazakh.ru/photo/nature/033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www.pro-volgograd.ru/attachments/krov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81440" y="259920"/>
            <a:ext cx="9325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нтегрированный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урок химии и математ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08360" y="2060280"/>
            <a:ext cx="51832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Решение задач с использованием понятий «доля», «процентная концентрация» на  уроках химии и математик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6137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Челябинск, 2010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2224080" cy="2919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95640" y="4365720"/>
            <a:ext cx="4753080" cy="1224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читель химии высшей категории МОУ-61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Г.А. Хрущева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читель математики высшей категории МОУ-61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.В. Гарник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92360" y="259920"/>
            <a:ext cx="58327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АО «Мечел»- предприятие специализирующиеся на производстве специальных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лей и сплавов. Производит прокат и поковки из углеродистой, конструкционной, инструментальной, электротехнической и коррозионно-стойкой  стал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396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90808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2341440" cy="2108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473640" cy="2604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588000" y="3429000"/>
            <a:ext cx="2084400" cy="310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635280" y="1844640"/>
            <a:ext cx="23353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24000" y="2637000"/>
            <a:ext cx="3141360" cy="2355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80000" y="475920"/>
            <a:ext cx="53640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АО «Мечел»– предприятие, специализирующееся на производстве специальных сталей и сплавов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56360" y="227664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227640" y="458136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2 из 257"/>
          <p:cNvPicPr/>
          <p:nvPr/>
        </p:nvPicPr>
        <p:blipFill>
          <a:blip r:embed="rId3"/>
          <a:stretch/>
        </p:blipFill>
        <p:spPr>
          <a:xfrm>
            <a:off x="684360" y="260280"/>
            <a:ext cx="2447640" cy="1741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4000" y="2708280"/>
            <a:ext cx="576072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3: Определите массу никеля и хром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ловых приборах, выпускаемых  на ОАО «Мечел»,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массовая доля никеля составляет 10 %, хрома 18%.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приборов представлен в таблице: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3933720"/>
          <a:ext cx="5689440" cy="2544840"/>
        </p:xfrm>
        <a:graphic>
          <a:graphicData uri="http://schemas.openxmlformats.org/drawingml/2006/table">
            <a:tbl>
              <a:tblPr/>
              <a:tblGrid>
                <a:gridCol w="379440"/>
                <a:gridCol w="1898640"/>
                <a:gridCol w="1135080"/>
                <a:gridCol w="1138320"/>
                <a:gridCol w="1137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рибор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никеля 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хром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ная ложк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овая ложк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ж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лк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35280" y="333360"/>
            <a:ext cx="55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МК- современное металлургическое предприятие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ходящие в число 20 крупнейших сталелитейных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мпаний мир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160720" cy="2054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032000" cy="293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kis"/>
          <p:cNvPicPr/>
          <p:nvPr/>
        </p:nvPicPr>
        <p:blipFill>
          <a:blip r:embed="rId3"/>
          <a:stretch/>
        </p:blipFill>
        <p:spPr>
          <a:xfrm>
            <a:off x="250920" y="189000"/>
            <a:ext cx="3381120" cy="2381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292720" y="35733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47640" y="2060640"/>
            <a:ext cx="4751640" cy="12970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ММ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 самый широкий,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, сортамент металлопродукции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предприятий Российской Федерации и стран СНГ.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64000" y="404640"/>
            <a:ext cx="518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МК : Агрегат непрерывного горячего цинкования мощность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00 тыс.тон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13080" cy="2209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376720" cy="223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2565360"/>
            <a:ext cx="4967280" cy="20876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4: Кузов отечественного автомобил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весит 1 тонну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итано, что цинк составляет в нем  15 кг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детали из цинка и  оцинкованной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).  Определите массовую долю цинка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втомобиле?</a:t>
            </a:r>
            <a:br>
              <a:rPr sz="1600"/>
            </a:b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340000" y="4365720"/>
            <a:ext cx="3386160" cy="227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24000" y="259920"/>
            <a:ext cx="52196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ыштымский медеэлектролитный комбинат производит медь, серебро, селен, порошкообразную платину, медный купорос, сульфат нике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240000" cy="2840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3281400" cy="2823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900000" y="2997360"/>
            <a:ext cx="4040280" cy="2881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427640" y="1916280"/>
            <a:ext cx="2160360" cy="576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ь-катанка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5734080"/>
            <a:ext cx="2305080" cy="6476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ный купорос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6021360"/>
            <a:ext cx="3168720" cy="432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в меди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итки золота массой 11-13,3 кг –продукция Кыштымского Медеэлектролитного комбин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i-main-pic" descr="Картинка 13 из 58"/>
          <p:cNvPicPr/>
          <p:nvPr/>
        </p:nvPicPr>
        <p:blipFill>
          <a:blip r:embed="rId1"/>
          <a:stretch/>
        </p:blipFill>
        <p:spPr>
          <a:xfrm>
            <a:off x="755640" y="2205000"/>
            <a:ext cx="3232080" cy="335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00720" y="2349360"/>
            <a:ext cx="4103640" cy="338472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 5:Для изготовления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велирной продукции используют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в золота с медью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роцентно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(массовую долю)золота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лаве, полученном из 1 кг золота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715г меди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4" name="" descr="Картинка 16 из 344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724280"/>
            <a:ext cx="1873080" cy="1737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50920" y="1700280"/>
            <a:ext cx="1800000" cy="136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рка зада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ло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7956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H)= 2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 х 0,95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 (Fe) 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2,2г:5г=0,44(44%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, w (Al) 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,25г:5г=0,05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w (Zn) 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кг: 1000кг=0,015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5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w (Au) 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кг: 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71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кг 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58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8,3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2781360"/>
          <a:ext cx="5256000" cy="1630440"/>
        </p:xfrm>
        <a:graphic>
          <a:graphicData uri="http://schemas.openxmlformats.org/drawingml/2006/table">
            <a:tbl>
              <a:tblPr/>
              <a:tblGrid>
                <a:gridCol w="350640"/>
                <a:gridCol w="1755720"/>
                <a:gridCol w="1047960"/>
                <a:gridCol w="1049400"/>
                <a:gridCol w="10522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рибор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никеля 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хром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ная ложк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овая ложк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ж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лка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г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8920" y="2133360"/>
            <a:ext cx="6913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(компонент) определенной масс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(A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+ ( смесь№1 определенной масс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с известной массовой долей компонента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(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= смесь №2. Определить массовую долю компонен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в полученной сме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горитм реш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(A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(A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149720"/>
            <a:ext cx="2087280" cy="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2440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лив серебра на Кыштымском медеплавильном комбинат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асса слитка 28-32 кг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176280" cy="3353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716360" y="2492280"/>
            <a:ext cx="4176720" cy="30974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№6: Для получения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ва, используемого дл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я игл в иглотерапии,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г серебра сплавили  с 200 г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ово-серебряного сплава,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щего 20 % платины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роцентное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серебра в полученном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це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" descr="Картинка 11 из 1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4149720"/>
            <a:ext cx="3384360" cy="223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онзы- сплавы на основе мед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1989000"/>
            <a:ext cx="3888000" cy="21592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7:  К 200 г оловян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зы, содержащей 3% олова,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ли 50г олова. Определите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лова в сплаве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87640" y="3284640"/>
            <a:ext cx="3779640" cy="273672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а №8. Алюминиевые бронзы используются для чеканки монет. Как увеличится процент алюминия в сплаве, если к 20 кг  бронзы, содержащего 4% алюминия, добавили 2 к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48000" y="4724280"/>
            <a:ext cx="1441440" cy="1435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1 из 3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628640"/>
            <a:ext cx="2181240" cy="1555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26920" y="4292640"/>
            <a:ext cx="2376720" cy="121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Цель урока: Формирование у учащихся навыков решения расчетных задач с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использованием понятия «доля»(химия), «процентная концентрация»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(математи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2666880"/>
            <a:ext cx="8064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дачи уро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Обобщить знания учащихся по теме «Расчетные задачи с использованием понятий «доля», «процентная концентрац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Развивать умения решать расчетные задачи, используя методы, применяемые в химии и математике( алгебраический метод, квадрат Пирсона) сокращая временные промежутки, отводимые на решения подобных задач на зачетах(экзаменах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Расширять кругозор учащихся, воспитывать гордость за свой регион, за счет привлечения материалов национально-регионального компонен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рка зада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)=(2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8+3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/5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0,9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9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n) = (2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3+5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/25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0,224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2,4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l) = (2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4+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/2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0,127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2,72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571680"/>
            <a:ext cx="72867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лока: «Смешивание раствор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лгебраический спосо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400" y="3141360"/>
            <a:ext cx="8429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.Выбор неизвестной(или неизвестных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.Выбор чистого веществ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.Переход к доля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.Отслеживание состояния смес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.Составление уравнения 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рекомендуем ввести следующую таблицу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760" y="3214800"/>
          <a:ext cx="8463960" cy="2286000"/>
        </p:xfrm>
        <a:graphic>
          <a:graphicData uri="http://schemas.openxmlformats.org/drawingml/2006/table">
            <a:tbl>
              <a:tblPr/>
              <a:tblGrid>
                <a:gridCol w="2170800"/>
                <a:gridCol w="2133000"/>
                <a:gridCol w="2062440"/>
                <a:gridCol w="2097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Tahoma"/>
                          <a:ea typeface="Times New Roman"/>
                        </a:rPr>
                        <a:t>Состояние смеси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6666"/>
                          </a:solidFill>
                          <a:latin typeface="Tahoma"/>
                          <a:ea typeface="Times New Roman"/>
                        </a:rPr>
                        <a:t>Количество чистого в-ва(</a:t>
                      </a: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Tahoma"/>
                          <a:ea typeface="Times New Roman"/>
                        </a:rPr>
                        <a:t>m)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Tahoma"/>
                          <a:ea typeface="Times New Roman"/>
                        </a:rPr>
                        <a:t>Общее количество смеси(М)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Tahoma"/>
                          <a:ea typeface="Times New Roman"/>
                        </a:rPr>
                        <a:t>Доля(а)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Итоговое </a:t>
                      </a: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состояние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</a:tbl>
          </a:graphicData>
        </a:graphic>
      </p:graphicFrame>
      <p:sp>
        <p:nvSpPr>
          <p:cNvPr id="187" name="Rectangle 3"/>
          <p:cNvSpPr/>
          <p:nvPr/>
        </p:nvSpPr>
        <p:spPr>
          <a:xfrm>
            <a:off x="428760" y="1500120"/>
            <a:ext cx="8429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бор неизвестной(или неизвестных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бор чистого веществ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ереход к долям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тслеживание состояния смес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оставление уравн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 ввести следующую таблицу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28760" y="1500120"/>
            <a:ext cx="84294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бор неизвестной(или неизвестных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бор чистого веществ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ереход к долям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тслеживание состояния смес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оставление уравн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 ввести следующую таблицу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Решение уравнения(или системы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Формирование отве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ение задач с использованием правила «креста»(Квадрата Пирсон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9640" y="1700280"/>
          <a:ext cx="8207640" cy="2160360"/>
        </p:xfrm>
        <a:graphic>
          <a:graphicData uri="http://schemas.openxmlformats.org/drawingml/2006/table">
            <a:tbl>
              <a:tblPr/>
              <a:tblGrid>
                <a:gridCol w="1368360"/>
                <a:gridCol w="863640"/>
                <a:gridCol w="1008360"/>
                <a:gridCol w="2273040"/>
                <a:gridCol w="26942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 30%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г  30% раствор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: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г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асти: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г : 4=150г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 10%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г 10% раствор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619280" y="1989000"/>
            <a:ext cx="288720" cy="36036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2708280"/>
            <a:ext cx="431640" cy="50472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907640" y="2781360"/>
            <a:ext cx="287640" cy="43164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771640" y="1989000"/>
            <a:ext cx="144720" cy="36036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АО «Мечел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560680" cy="1920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04000" y="1341360"/>
            <a:ext cx="2016000" cy="1481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2440080" cy="3255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643280" y="3716280"/>
            <a:ext cx="4249800" cy="295272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9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лучения 4т нержавеющей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, содержащей 20% хрома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вили два сорта стали,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щие соответственно 30%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0% хрома. Определить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ы каждой марки стали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1873080" cy="2565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ЧМК. Производство"/>
          <p:cNvPicPr/>
          <p:nvPr/>
        </p:nvPicPr>
        <p:blipFill>
          <a:blip r:embed="rId5"/>
          <a:stretch/>
        </p:blipFill>
        <p:spPr>
          <a:xfrm>
            <a:off x="6588000" y="260280"/>
            <a:ext cx="180036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ЧМК. Производство"/>
          <p:cNvPicPr/>
          <p:nvPr/>
        </p:nvPicPr>
        <p:blipFill>
          <a:blip r:embed="rId6"/>
          <a:stretch/>
        </p:blipFill>
        <p:spPr>
          <a:xfrm>
            <a:off x="4211640" y="1484280"/>
            <a:ext cx="2376360" cy="190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6000" y="838080"/>
            <a:ext cx="712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елябинский электролитны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нковый комбин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i-main-pic" descr="Картинка 2 из 190"/>
          <p:cNvPicPr/>
          <p:nvPr/>
        </p:nvPicPr>
        <p:blipFill>
          <a:blip r:embed="rId1"/>
          <a:stretch/>
        </p:blipFill>
        <p:spPr>
          <a:xfrm>
            <a:off x="395280" y="333360"/>
            <a:ext cx="3025800" cy="2319480"/>
          </a:xfrm>
          <a:prstGeom prst="rect">
            <a:avLst/>
          </a:prstGeom>
          <a:ln w="0">
            <a:noFill/>
          </a:ln>
        </p:spPr>
      </p:pic>
      <p:pic>
        <p:nvPicPr>
          <p:cNvPr id="205" name="image" descr="Электролиз. Цинк на карусели"/>
          <p:cNvPicPr/>
          <p:nvPr/>
        </p:nvPicPr>
        <p:blipFill>
          <a:blip r:embed="rId2"/>
          <a:stretch/>
        </p:blipFill>
        <p:spPr>
          <a:xfrm>
            <a:off x="5940360" y="1413000"/>
            <a:ext cx="2486160" cy="1906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92360" y="1773360"/>
            <a:ext cx="2232000" cy="14904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ция: цинк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мий, индий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ная кислота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т цинка 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3500280"/>
            <a:ext cx="7416720" cy="28814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10: Определите концентрацию раствора серной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, образующейся при сливании 200г 40% и 300г 50%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в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11: Как приготовить 25% раствор сульфата цинка из 76%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5% растворов? Сколько граммов каждого раствора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уется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12: В лаборатории имеется 72% раствор серной кислоты.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 этого и 9% растворов приготовить 630 г 36% раствора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732720" y="189000"/>
            <a:ext cx="2232000" cy="155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95640" cy="2276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564000" y="333360"/>
            <a:ext cx="4895640" cy="19432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инский химический завод является     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ейшим производителем пищевой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ой кислоты в России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 обеспечивает кислотой весь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й регион, республику Казахстан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ую часть России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" descr="Картинка 2 из 26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565360"/>
            <a:ext cx="1871640" cy="1409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84360" y="2852640"/>
            <a:ext cx="6335640" cy="37450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13: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ли 70% и 10% растворы уксусной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было получено 600 г 30%  раствора. Сколько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взято  исходных растворов?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14: Уксусная эссенция, выпускаемая на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инском химическом заводе содержит  80% уксусной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.  Как приготовить 160г 5% раствора уксусной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 для  приправы?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15:Как приготовить 12% раствор уксусной кислоты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30% и 3% растворов? Определите массы исходных растворов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ля художественного литья приготовили два слитка серебра с медью. В первом слитке 360г серебра и 40г меди, во втором слитке 450г серебра и 150г меди. Сколько взяли от каждого, если масса нового слитка 200г, и в нем содержится 81% серебр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376360" cy="1982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635640" cy="2857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241440" cy="2694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1371600" cy="1508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6659640" y="4076640"/>
            <a:ext cx="2216160" cy="2427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2700360" y="2060640"/>
            <a:ext cx="1714320" cy="145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072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17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Для художественного литья приготовили два слитка: в первом содержится 230 г золота и 20г меди, во втором 240г золота и 60г меди. От каждого слитка взяли по  кусочку и получили 300г сплава, в котором содержится 84% золота. Определить массу кусочка, взятого от первого сли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492360" y="1773360"/>
            <a:ext cx="1922760" cy="2887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283440" y="1916280"/>
            <a:ext cx="1714320" cy="2736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95280" y="1771560"/>
            <a:ext cx="2232000" cy="1562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012000" y="4724280"/>
            <a:ext cx="2293920" cy="1720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Картинка 15 из 4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08360" y="5084640"/>
            <a:ext cx="1657440" cy="105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 задач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579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9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2т 30% и 2т 10% хромированной ст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484360" y="2276640"/>
          <a:ext cx="4175280" cy="1657080"/>
        </p:xfrm>
        <a:graphic>
          <a:graphicData uri="http://schemas.openxmlformats.org/drawingml/2006/table">
            <a:tbl>
              <a:tblPr/>
              <a:tblGrid>
                <a:gridCol w="627120"/>
                <a:gridCol w="682560"/>
                <a:gridCol w="409680"/>
                <a:gridCol w="1501920"/>
                <a:gridCol w="95400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т 3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т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ти;4т:2=2т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т1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84360" y="4149720"/>
          <a:ext cx="4292640" cy="1639800"/>
        </p:xfrm>
        <a:graphic>
          <a:graphicData uri="http://schemas.openxmlformats.org/drawingml/2006/table">
            <a:tbl>
              <a:tblPr/>
              <a:tblGrid>
                <a:gridCol w="1073160"/>
                <a:gridCol w="1073160"/>
                <a:gridCol w="1165320"/>
                <a:gridCol w="9810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меси (сплава)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меси (сплава) 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ещества(%) 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 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х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-х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(4000-х)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состояние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487960" y="6091920"/>
            <a:ext cx="336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х+0,1(4000-х)=800. Х=2000кг,4000-х=2000к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2492280"/>
            <a:ext cx="1942920" cy="432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рт Пирсона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724280"/>
            <a:ext cx="1800360" cy="5050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ический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838080"/>
            <a:ext cx="8101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№10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химии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=(20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4+ 30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5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%=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математик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08000" y="3573360"/>
          <a:ext cx="6767640" cy="18288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0560"/>
                <a:gridCol w="169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меси (сплава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меси (сплава)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ещества(%)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состояни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2045160" y="586152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(230:500)*100=46%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202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си  - это однородные и неоднородны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системы, состоящие  из двух боле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компон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родные (гомогенные) системы  - раств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дкие ( растворы кислот, оснований, соле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азообразные( смеси газов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вердые ( сплав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292640"/>
            <a:ext cx="4248360" cy="2376360"/>
          </a:xfrm>
          <a:prstGeom prst="ellipse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4724280"/>
            <a:ext cx="698400" cy="5763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56360" y="3645000"/>
            <a:ext cx="2627280" cy="792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(С) цел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4941720"/>
            <a:ext cx="3060720" cy="17272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,В,Д - составные част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компоненты системы 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5445000"/>
            <a:ext cx="720720" cy="648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734080"/>
            <a:ext cx="720720" cy="6969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258920" y="4581000"/>
            <a:ext cx="3168720" cy="151164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5300640"/>
            <a:ext cx="1079640" cy="122400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787640" y="4076640"/>
            <a:ext cx="1368360" cy="72072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№ 1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348000" y="2060640"/>
          <a:ext cx="4895640" cy="1657080"/>
        </p:xfrm>
        <a:graphic>
          <a:graphicData uri="http://schemas.openxmlformats.org/drawingml/2006/table">
            <a:tbl>
              <a:tblPr/>
              <a:tblGrid>
                <a:gridCol w="1149840"/>
                <a:gridCol w="1052280"/>
                <a:gridCol w="944280"/>
                <a:gridCol w="1749240"/>
              </a:tblGrid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г 76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г 15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203640" y="4076640"/>
          <a:ext cx="5499000" cy="1850760"/>
        </p:xfrm>
        <a:graphic>
          <a:graphicData uri="http://schemas.openxmlformats.org/drawingml/2006/table">
            <a:tbl>
              <a:tblPr/>
              <a:tblGrid>
                <a:gridCol w="1374840"/>
                <a:gridCol w="1374840"/>
                <a:gridCol w="1374480"/>
                <a:gridCol w="1374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меси (сплава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меси (сплава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ещества(%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у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состояние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+у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(х+у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39640" y="2133720"/>
            <a:ext cx="2138400" cy="5745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рт Пирсона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4653000"/>
            <a:ext cx="2160360" cy="5763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ический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48720" y="6092640"/>
            <a:ext cx="31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6х+0,15у=0,25(х+у), х:у=10:51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№12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340000" y="1916280"/>
          <a:ext cx="6624720" cy="1390320"/>
        </p:xfrm>
        <a:graphic>
          <a:graphicData uri="http://schemas.openxmlformats.org/drawingml/2006/table">
            <a:tbl>
              <a:tblPr/>
              <a:tblGrid>
                <a:gridCol w="768240"/>
                <a:gridCol w="836640"/>
                <a:gridCol w="503280"/>
                <a:gridCol w="2341440"/>
                <a:gridCol w="21751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х3=270г 72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астей,630г :7=90г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х4=360г 9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340000" y="3573360"/>
          <a:ext cx="6588000" cy="2089080"/>
        </p:xfrm>
        <a:graphic>
          <a:graphicData uri="http://schemas.openxmlformats.org/drawingml/2006/table">
            <a:tbl>
              <a:tblPr/>
              <a:tblGrid>
                <a:gridCol w="1648080"/>
                <a:gridCol w="1646280"/>
                <a:gridCol w="1647000"/>
                <a:gridCol w="1646640"/>
              </a:tblGrid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меси (сплава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меси (сплава)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ещества(%)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х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-х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2(630-х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состояни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,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539640" y="2708280"/>
            <a:ext cx="1706760" cy="50472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рт Пирсона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724280"/>
            <a:ext cx="1873080" cy="5763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ический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5876640"/>
            <a:ext cx="409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9х+0,72(630-х)=226,8. Х=360г,630-х=270г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838080"/>
            <a:ext cx="8459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№ 13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771640" y="2060640"/>
          <a:ext cx="5111640" cy="1654200"/>
        </p:xfrm>
        <a:graphic>
          <a:graphicData uri="http://schemas.openxmlformats.org/drawingml/2006/table">
            <a:tbl>
              <a:tblPr/>
              <a:tblGrid>
                <a:gridCol w="593640"/>
                <a:gridCol w="646200"/>
                <a:gridCol w="387360"/>
                <a:gridCol w="1806480"/>
                <a:gridCol w="1677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г 7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ти.   600:3=200г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г 1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700360" y="4005360"/>
          <a:ext cx="5688000" cy="185076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0920"/>
                <a:gridCol w="1422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меси (сплава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меси (сплава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ещества(%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(600-х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состояние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2689560" y="6091920"/>
            <a:ext cx="33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х+0,1(600-х)=180. Х=200г,600-х=400г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3141720"/>
            <a:ext cx="1706760" cy="5032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рт Пирсона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4869000"/>
            <a:ext cx="1800360" cy="5032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ический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838080"/>
            <a:ext cx="82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а №14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276720" y="1916280"/>
          <a:ext cx="5356080" cy="1947600"/>
        </p:xfrm>
        <a:graphic>
          <a:graphicData uri="http://schemas.openxmlformats.org/drawingml/2006/table">
            <a:tbl>
              <a:tblPr/>
              <a:tblGrid>
                <a:gridCol w="620640"/>
                <a:gridCol w="677880"/>
                <a:gridCol w="406440"/>
                <a:gridCol w="1892160"/>
                <a:gridCol w="17589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г 80% раствор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г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частей.160:16=10г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г воды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700360" y="4149720"/>
          <a:ext cx="5975280" cy="1554120"/>
        </p:xfrm>
        <a:graphic>
          <a:graphicData uri="http://schemas.openxmlformats.org/drawingml/2006/table">
            <a:tbl>
              <a:tblPr/>
              <a:tblGrid>
                <a:gridCol w="1494000"/>
                <a:gridCol w="1494360"/>
                <a:gridCol w="1492560"/>
                <a:gridCol w="1494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меси (сплава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меси (сплава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ещества(%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состояние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2846160" y="5949720"/>
            <a:ext cx="32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х=8,х=10г кислоты, 150 г воды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" y="1916280"/>
            <a:ext cx="2303280" cy="576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рт Пирсона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4149720"/>
            <a:ext cx="1944720" cy="5763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ический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92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№15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24360" y="1989000"/>
          <a:ext cx="4419720" cy="1109880"/>
        </p:xfrm>
        <a:graphic>
          <a:graphicData uri="http://schemas.openxmlformats.org/drawingml/2006/table">
            <a:tbl>
              <a:tblPr/>
              <a:tblGrid>
                <a:gridCol w="763560"/>
                <a:gridCol w="831960"/>
                <a:gridCol w="498240"/>
                <a:gridCol w="2325960"/>
              </a:tblGrid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ть 30% раствора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ти 3% раствора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916360" y="3645000"/>
          <a:ext cx="5499000" cy="1984320"/>
        </p:xfrm>
        <a:graphic>
          <a:graphicData uri="http://schemas.openxmlformats.org/drawingml/2006/table">
            <a:tbl>
              <a:tblPr/>
              <a:tblGrid>
                <a:gridCol w="1374480"/>
                <a:gridCol w="1374840"/>
                <a:gridCol w="1374840"/>
                <a:gridCol w="1374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меси (сплава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меси (сплава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ещества(%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у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состояние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+у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(0,3х+0,03у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971640" y="5804280"/>
            <a:ext cx="792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уравнение: 0,3х+0,03у=0,12(0,3х+0,03у у=2х. Значит, второй смеси нужно взять в два раза больше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2060640"/>
            <a:ext cx="1944720" cy="5763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рт Пирсон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4292640"/>
            <a:ext cx="1944720" cy="6490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ический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84872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художественного литья приготовили два слитка серебра с оловом.В первом слитке 360г серебра и 40г меди, во втором слитке 450г серебра и 150г меди.Сколько взяли от каждого, если масса нового слитка 200г, и в нем содержится 81% сереб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1914840"/>
            <a:ext cx="482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литок: 360+40=400г,  серебро(360:400)*100=90%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литок:450+150=600г, серебро(450:600)*100=75%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нового слитка 200г, масса серебра 200*0,81=162г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00000" y="2852640"/>
          <a:ext cx="5689440" cy="254448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2360"/>
                <a:gridCol w="1422360"/>
              </a:tblGrid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меси (сплава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меси (сплава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ещества(%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(200-х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состояние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886680" y="5588640"/>
            <a:ext cx="505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уравнение: 0,9х+0,75(200-х)=162. х=80г, 200-х=120г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06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17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Для художественного литья приготовили два слитка: в первом содержится 230 г золота и 20г меди, во втором 240г золота и 60г меди. От каждого слитка взяли по  кусочку и получили 300г сплава, в котором содержится 84% золота. Определить массу кусочка, взятого от первого слит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1806480"/>
            <a:ext cx="518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1 слиток: 230+20=250г, золота (230:250)*100=92%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литок: 240+60=300г, золота (240:300)*100=80%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нового слитка 300г, золота 300*0,84=252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187280" y="2852640"/>
          <a:ext cx="5473440" cy="223164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360"/>
                <a:gridCol w="1368360"/>
              </a:tblGrid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меси (сплава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меси (сплава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ещества(%)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 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-х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(300-х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состояние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1191240" y="5445000"/>
            <a:ext cx="675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уравнение: 0,92х+0,8(300-х)=252. Решив его, получим х=100г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четная работ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11200" y="2636640"/>
            <a:ext cx="7732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а – 3 ба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 – 5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лока -8 балл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еночная шка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 баллов-  «3» удовлетворительн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1 балл – «4» хорош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2 балла – «5» отлич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ространение смесе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2666880"/>
            <a:ext cx="874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атмосф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гидросф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литосф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биосистем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дуктах, производимых челове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Картинка 11 из 1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997360"/>
            <a:ext cx="2160360" cy="1699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22 из 11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476280"/>
            <a:ext cx="2089080" cy="1481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5157720"/>
            <a:ext cx="1714680" cy="1292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5219640" y="4508640"/>
            <a:ext cx="898560" cy="1431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2 из 59389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1280" y="1773360"/>
            <a:ext cx="2254320" cy="147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4 из 1170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16360" y="1989000"/>
            <a:ext cx="2022480" cy="1686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4 из 106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27640" y="3429000"/>
            <a:ext cx="2232000" cy="167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07920"/>
            <a:ext cx="5184720" cy="62712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ДОЛ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349360"/>
            <a:ext cx="3313080" cy="20876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ная дол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образного компонент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истеме С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=V(A) /V(C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349360"/>
            <a:ext cx="3097080" cy="20876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ая дол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истеме С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)=m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/m(C)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71280" y="1557360"/>
            <a:ext cx="1513080" cy="79200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1557360"/>
            <a:ext cx="1512720" cy="79200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5010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есь состоит из «чистого вещества» и «примес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ей(а)чистого вещества в смеси называется отношение количества чистого вещества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меси к общему количеству(М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еси при условии, что они измерены одной и той же единицей массы или объема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=m/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метим, чт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иду того что, 0 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учай а=0 соответствует отсутствию выбранного чистого вещества в рассматриваемой смеси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случай а=1 соответствует тому, что рассматриваемая смесь состоит только из чистого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M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Понятие доли чистого вещества в смеси можно вводить следующей условной запись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чистого вещества в смеси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ичество чистого вещества в сме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сме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508720" y="393372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27280" y="620640"/>
            <a:ext cx="5400720" cy="14176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1 : Спиртовка заправлена 20г 95%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а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раммов чистого спирта содержит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овка?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149720"/>
            <a:ext cx="4608360" cy="15620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 2: На изготовление одной бенгальской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чи расходуется 5 г смеси, содержащей 2,2 г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а и 0,25 г алюминия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роцентное содержание железа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люминия в одной свече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1911240" cy="255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72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204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7:58:40Z</dcterms:created>
  <dc:creator>marina</dc:creator>
  <dc:description/>
  <cp:keywords/>
  <dc:language>en-US</dc:language>
  <cp:lastModifiedBy>Adel</cp:lastModifiedBy>
  <dcterms:modified xsi:type="dcterms:W3CDTF">2012-05-06T13:08:39Z</dcterms:modified>
  <cp:revision>83</cp:revision>
  <dc:subject/>
  <dc:title>Проект для научной выста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49</vt:lpwstr>
  </property>
</Properties>
</file>