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6.gif" ContentType="image/gif"/>
  <Override PartName="/ppt/media/image21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7.gif" ContentType="image/gif"/>
  <Override PartName="/ppt/media/image28.jpeg" ContentType="image/jpeg"/>
  <Override PartName="/ppt/media/image5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png" ContentType="image/png"/>
  <Override PartName="/ppt/media/image3.png" ContentType="image/png"/>
  <Override PartName="/ppt/media/image33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37.jpeg" ContentType="image/jpeg"/>
  <Override PartName="/ppt/media/image48.png" ContentType="image/png"/>
  <Override PartName="/ppt/media/image50.png" ContentType="image/png"/>
  <Override PartName="/ppt/media/image4.png" ContentType="image/png"/>
  <Override PartName="/ppt/media/image12.jpeg" ContentType="image/jpeg"/>
  <Override PartName="/ppt/media/image42.png" ContentType="image/png"/>
  <Override PartName="/ppt/media/image43.png" ContentType="image/png"/>
  <Override PartName="/ppt/media/image44.jpeg" ContentType="image/jpeg"/>
  <Override PartName="/ppt/media/image4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49.jpeg" ContentType="image/jpeg"/>
  <Override PartName="/ppt/media/image31.png" ContentType="image/png"/>
  <Override PartName="/ppt/media/image6.png" ContentType="image/png"/>
  <Override PartName="/ppt/media/image3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8.png" ContentType="image/png"/>
  <Override PartName="/ppt/media/image25.gif" ContentType="image/gif"/>
  <Override PartName="/ppt/media/image9.png" ContentType="image/png"/>
  <Override PartName="/ppt/media/image39.png" ContentType="image/png"/>
  <Override PartName="/ppt/media/image40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с метод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678E-2A4E-4D33-81A3-CFD70B8DF6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84DF-8DD4-4A79-B7A4-A19884C17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с метод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с метод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6F8A-DCA3-4C5A-8A5A-3216843CB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F85-2BFD-4E82-83E7-066A2A68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5E6-083B-482E-B125-3B53B9C1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FE9-8700-4ABB-BC17-0001900E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A5D-964F-4A89-88D2-D3A6977F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8E6-9994-4B93-91B7-64760D71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ECF-D152-461D-AF58-7B8718CF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90B-BFE7-4A44-B203-658FDF0B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66E-FD9D-4282-8BB5-A24A0D58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1EF-821F-4A0C-8BA3-736A1E50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A3B-ACAE-41A2-8F39-9E6D3602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C48-3F51-4280-98C7-73D50603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753-80D1-4FC0-8DDC-9BECE27B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8992-FD41-4EF3-BDBA-D1C273636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11.jpe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11.jpe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1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Jungle Background 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979640" y="765000"/>
            <a:ext cx="540072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  измерения   длины.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нтиметр.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УЖАСНО интер.mp3" descr=""/>
          <p:cNvPicPr/>
          <p:nvPr/>
        </p:nvPicPr>
        <p:blipFill>
          <a:blip r:embed="rId2"/>
          <a:stretch/>
        </p:blipFill>
        <p:spPr>
          <a:xfrm>
            <a:off x="831708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Jungle Background Images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Бабушка удава - Игрушки - Аватарки на Колючке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108000" y="4476600"/>
            <a:ext cx="3171600" cy="23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Разбила копилку, оплатила долг в десятки тысяч рублей - Северная неделя"/>
          <p:cNvPicPr/>
          <p:nvPr/>
        </p:nvPicPr>
        <p:blipFill>
          <a:blip r:embed="rId3"/>
          <a:stretch/>
        </p:blipFill>
        <p:spPr>
          <a:xfrm>
            <a:off x="3851280" y="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Разбила копилку, оплатила долг в десятки тысяч рублей - Северная неделя"/>
          <p:cNvPicPr/>
          <p:nvPr/>
        </p:nvPicPr>
        <p:blipFill>
          <a:blip r:embed="rId4"/>
          <a:stretch/>
        </p:blipFill>
        <p:spPr>
          <a:xfrm>
            <a:off x="3851280" y="2060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Разбила копилку, оплатила долг в десятки тысяч рублей - Северная неделя"/>
          <p:cNvPicPr/>
          <p:nvPr/>
        </p:nvPicPr>
        <p:blipFill>
          <a:blip r:embed="rId5"/>
          <a:stretch/>
        </p:blipFill>
        <p:spPr>
          <a:xfrm>
            <a:off x="6084720" y="115920"/>
            <a:ext cx="19432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Разбила копилку, оплатила долг в десятки тысяч рублей - Северная неделя"/>
          <p:cNvPicPr/>
          <p:nvPr/>
        </p:nvPicPr>
        <p:blipFill>
          <a:blip r:embed="rId6"/>
          <a:stretch/>
        </p:blipFill>
        <p:spPr>
          <a:xfrm>
            <a:off x="6156360" y="2060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Монета 2 рубля &quot;Генерал-лейтенант Д.В. Давыдов&quot; предлагаем купить в интернет-магазине ИскателИ"/>
          <p:cNvPicPr/>
          <p:nvPr/>
        </p:nvPicPr>
        <p:blipFill>
          <a:blip r:embed="rId7"/>
          <a:stretch/>
        </p:blipFill>
        <p:spPr>
          <a:xfrm>
            <a:off x="1619280" y="1052640"/>
            <a:ext cx="1974960" cy="19699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1"/>
          <p:cNvSpPr/>
          <p:nvPr/>
        </p:nvSpPr>
        <p:spPr>
          <a:xfrm>
            <a:off x="4500720" y="3500280"/>
            <a:ext cx="28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Jungle Background Images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1116000" y="189000"/>
            <a:ext cx="75614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теперь мы дружно встанем,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Прямоугольник 18"/>
          <p:cNvSpPr/>
          <p:nvPr/>
        </p:nvSpPr>
        <p:spPr>
          <a:xfrm>
            <a:off x="1285920" y="5716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изминутку провед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38-popugaev-Zaryadka(muzofon.com).mp3" descr=""/>
          <p:cNvPicPr/>
          <p:nvPr/>
        </p:nvPicPr>
        <p:blipFill>
          <a:blip r:embed="rId2"/>
          <a:stretch/>
        </p:blipFill>
        <p:spPr>
          <a:xfrm>
            <a:off x="500040" y="15001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C:\Users\BOSS\Desktop\6469765.gif"/>
          <p:cNvPicPr/>
          <p:nvPr/>
        </p:nvPicPr>
        <p:blipFill>
          <a:blip r:embed="rId3"/>
          <a:stretch/>
        </p:blipFill>
        <p:spPr>
          <a:xfrm>
            <a:off x="0" y="3071880"/>
            <a:ext cx="3357720" cy="3357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C:\Users\BOSS\Desktop\a69501a073078c290fd4e3cc507d16cf.gif"/>
          <p:cNvPicPr/>
          <p:nvPr/>
        </p:nvPicPr>
        <p:blipFill>
          <a:blip r:embed="rId4"/>
          <a:stretch/>
        </p:blipFill>
        <p:spPr>
          <a:xfrm>
            <a:off x="6500880" y="1500120"/>
            <a:ext cx="1909800" cy="281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C:\Users\BOSS\Desktop\100853681_large_wp4b913800.gif"/>
          <p:cNvPicPr/>
          <p:nvPr/>
        </p:nvPicPr>
        <p:blipFill>
          <a:blip r:embed="rId5"/>
          <a:stretch/>
        </p:blipFill>
        <p:spPr>
          <a:xfrm>
            <a:off x="1643040" y="1214280"/>
            <a:ext cx="5000760" cy="312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:\Users\BOSS\Desktop\elephant.gif"/>
          <p:cNvPicPr/>
          <p:nvPr/>
        </p:nvPicPr>
        <p:blipFill>
          <a:blip r:embed="rId6"/>
          <a:stretch/>
        </p:blipFill>
        <p:spPr>
          <a:xfrm>
            <a:off x="4214880" y="3714840"/>
            <a:ext cx="2728800" cy="2728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Стена ВКонтак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 flipV="1">
            <a:off x="357120" y="4357080"/>
            <a:ext cx="2928960" cy="28548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5"/>
          <p:cNvSpPr/>
          <p:nvPr/>
        </p:nvSpPr>
        <p:spPr>
          <a:xfrm rot="3518400">
            <a:off x="4806720" y="2665080"/>
            <a:ext cx="5357880" cy="21456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285840" y="1785960"/>
            <a:ext cx="1928880" cy="285840"/>
          </a:xfrm>
          <a:prstGeom prst="rect">
            <a:avLst/>
          </a:prstGeom>
          <a:solidFill>
            <a:srgbClr val="00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Скачать фильм 38 попугаев. Как лечить удава. (1977) DVDRi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357120" y="4929120"/>
            <a:ext cx="7000920" cy="428760"/>
          </a:xfrm>
          <a:prstGeom prst="rect">
            <a:avLst/>
          </a:prstGeom>
          <a:solidFill>
            <a:srgbClr val="00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357120" y="4929120"/>
            <a:ext cx="5857920" cy="428760"/>
          </a:xfrm>
          <a:prstGeom prst="rect">
            <a:avLst/>
          </a:prstGeom>
          <a:solidFill>
            <a:srgbClr val="c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357120" y="4929120"/>
            <a:ext cx="4500720" cy="42876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Смотрим онлайн Получится ли Кипр из Дальнего Востока. - Статусы, картинки, приколы, видео и многое другое!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clip_image017"/>
          <p:cNvPicPr/>
          <p:nvPr/>
        </p:nvPicPr>
        <p:blipFill>
          <a:blip r:embed="rId2"/>
          <a:stretch/>
        </p:blipFill>
        <p:spPr>
          <a:xfrm>
            <a:off x="5072040" y="1428840"/>
            <a:ext cx="44290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А из нашего окна. - Страница 14 - ОТВЛЕЧЕННАЯ ТЕМА - ФОРУМ ПЕРЕДЕЛ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4214880" y="428760"/>
            <a:ext cx="3165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ряд   -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 ряд   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 ряд   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96360" y="333360"/>
            <a:ext cx="1368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250920" y="3573360"/>
            <a:ext cx="208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8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fdb2cd94f6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6"/>
          <p:cNvSpPr/>
          <p:nvPr/>
        </p:nvSpPr>
        <p:spPr>
          <a:xfrm rot="10800000">
            <a:off x="4500360" y="2714400"/>
            <a:ext cx="3600360" cy="1511280"/>
          </a:xfrm>
          <a:prstGeom prst="wedgeEllipseCallout">
            <a:avLst>
              <a:gd name="adj1" fmla="val -8291"/>
              <a:gd name="adj2" fmla="val 6788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4859280" y="321300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й длинный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AutoShape 10"/>
          <p:cNvSpPr/>
          <p:nvPr/>
        </p:nvSpPr>
        <p:spPr>
          <a:xfrm rot="10800000">
            <a:off x="755280" y="5300640"/>
            <a:ext cx="7489800" cy="1557360"/>
          </a:xfrm>
          <a:prstGeom prst="wedgeEllipseCallout">
            <a:avLst>
              <a:gd name="adj1" fmla="val 12333"/>
              <a:gd name="adj2" fmla="val 13582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11"/>
          <p:cNvSpPr txBox="1"/>
          <p:nvPr/>
        </p:nvSpPr>
        <p:spPr>
          <a:xfrm>
            <a:off x="1476360" y="5373720"/>
            <a:ext cx="5975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а-это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тяженность линии или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тояние между её концами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38 попугаев (Бабушка удава) - rusmultik.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428760" y="500040"/>
            <a:ext cx="7572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38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попугае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мартыше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слонён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6072120" y="1857240"/>
            <a:ext cx="278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0" spc="-1" strike="noStrike">
                <a:solidFill>
                  <a:srgbClr val="6600cc"/>
                </a:solidFill>
                <a:latin typeface="Arial"/>
              </a:rPr>
              <a:t>?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Кадр из мультфильма 38 ПОПУГАЕВ. КУДА ИДЕТ СЛОНЕНОК 2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14200" y="35712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ВЫВОД: РАЗНАЯ МЕРКА – РАЗНАЯ Д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Картинка 100 из 725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3"/>
          <p:cNvSpPr/>
          <p:nvPr/>
        </p:nvSpPr>
        <p:spPr>
          <a:xfrm rot="21322200">
            <a:off x="-7920" y="4941720"/>
            <a:ext cx="7020000" cy="1727280"/>
          </a:xfrm>
          <a:prstGeom prst="wedgeEllipseCallout">
            <a:avLst>
              <a:gd name="adj1" fmla="val 25833"/>
              <a:gd name="adj2" fmla="val -12535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5"/>
          <p:cNvSpPr/>
          <p:nvPr/>
        </p:nvSpPr>
        <p:spPr>
          <a:xfrm>
            <a:off x="928800" y="500076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Эталоны мер дл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6"/>
          <p:cNvSpPr/>
          <p:nvPr/>
        </p:nvSpPr>
        <p:spPr>
          <a:xfrm>
            <a:off x="214200" y="285840"/>
            <a:ext cx="3643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 милли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 санти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 деци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 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 кило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Jungle Background Images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Популярные товары. Детям, Интернет магазин Атлант купить выписать заказать"/>
          <p:cNvPicPr/>
          <p:nvPr/>
        </p:nvPicPr>
        <p:blipFill>
          <a:blip r:embed="rId2"/>
          <a:stretch/>
        </p:blipFill>
        <p:spPr>
          <a:xfrm>
            <a:off x="6435720" y="0"/>
            <a:ext cx="2708280" cy="270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Слоненок. Мягкая говорящая игрушка, 28 см - цена Слоненок. Мягкая говорящая игрушка, 28 см, купить Слоненок. Мягкая говорящая иг"/>
          <p:cNvPicPr/>
          <p:nvPr/>
        </p:nvPicPr>
        <p:blipFill>
          <a:blip r:embed="rId3"/>
          <a:stretch/>
        </p:blipFill>
        <p:spPr>
          <a:xfrm>
            <a:off x="0" y="408636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12 - продажа Мягкая игрушка Мармелад Пром, Мульти-пульти онлайн в интернет магазине E96.ru (Саратов) - сравнение цен и прайс-лис"/>
          <p:cNvPicPr/>
          <p:nvPr/>
        </p:nvPicPr>
        <p:blipFill>
          <a:blip r:embed="rId4"/>
          <a:stretch/>
        </p:blipFill>
        <p:spPr>
          <a:xfrm>
            <a:off x="0" y="0"/>
            <a:ext cx="2662200" cy="292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Мягк. игр. - УДАВ (лиц. &quot;Союзмультфильм&quot;, озвуч., 100 см) /Код 14696/- Bertoni - Все для маленьких героев"/>
          <p:cNvPicPr/>
          <p:nvPr/>
        </p:nvPicPr>
        <p:blipFill>
          <a:blip r:embed="rId5"/>
          <a:stretch/>
        </p:blipFill>
        <p:spPr>
          <a:xfrm>
            <a:off x="6372360" y="408636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Григорий Остер и МЧС России напишут пособие по ОБЖ"/>
          <p:cNvPicPr/>
          <p:nvPr/>
        </p:nvPicPr>
        <p:blipFill>
          <a:blip r:embed="rId6"/>
          <a:stretch/>
        </p:blipFill>
        <p:spPr>
          <a:xfrm>
            <a:off x="2340000" y="765000"/>
            <a:ext cx="43196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Картинка 100 из 725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9"/>
          <p:cNvSpPr/>
          <p:nvPr/>
        </p:nvSpPr>
        <p:spPr>
          <a:xfrm>
            <a:off x="250920" y="285840"/>
            <a:ext cx="180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1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1"/>
          <p:cNvSpPr/>
          <p:nvPr/>
        </p:nvSpPr>
        <p:spPr>
          <a:xfrm>
            <a:off x="900000" y="1643040"/>
            <a:ext cx="743040" cy="7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1908000" y="571680"/>
            <a:ext cx="66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диница измерения дл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8"/>
          <p:cNvGrpSpPr/>
          <p:nvPr/>
        </p:nvGrpSpPr>
        <p:grpSpPr>
          <a:xfrm>
            <a:off x="684360" y="3915000"/>
            <a:ext cx="6947640" cy="1429200"/>
            <a:chOff x="684360" y="3915000"/>
            <a:chExt cx="6947640" cy="1429200"/>
          </a:xfrm>
        </p:grpSpPr>
        <p:sp>
          <p:nvSpPr>
            <p:cNvPr id="179" name="Freeform 49"/>
            <p:cNvSpPr/>
            <p:nvPr/>
          </p:nvSpPr>
          <p:spPr>
            <a:xfrm>
              <a:off x="768960" y="4055040"/>
              <a:ext cx="6829920" cy="1289160"/>
            </a:xfrm>
            <a:custGeom>
              <a:avLst/>
              <a:gdLst>
                <a:gd name="textAreaLeft" fmla="*/ 0 w 6829920"/>
                <a:gd name="textAreaRight" fmla="*/ 6830280 w 68299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50"/>
            <p:cNvSpPr/>
            <p:nvPr/>
          </p:nvSpPr>
          <p:spPr>
            <a:xfrm rot="17576400">
              <a:off x="991440" y="4626720"/>
              <a:ext cx="3438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 rot="10800000">
              <a:off x="757800" y="3914640"/>
              <a:ext cx="6874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52"/>
            <p:cNvSpPr/>
            <p:nvPr/>
          </p:nvSpPr>
          <p:spPr>
            <a:xfrm>
              <a:off x="684360" y="4390920"/>
              <a:ext cx="687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Картинка 343 из 7416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орех"/>
          <p:cNvPicPr/>
          <p:nvPr/>
        </p:nvPicPr>
        <p:blipFill>
          <a:blip r:embed="rId2"/>
          <a:stretch/>
        </p:blipFill>
        <p:spPr>
          <a:xfrm>
            <a:off x="1979640" y="3284640"/>
            <a:ext cx="1468440" cy="1368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орех"/>
          <p:cNvPicPr/>
          <p:nvPr/>
        </p:nvPicPr>
        <p:blipFill>
          <a:blip r:embed="rId3"/>
          <a:stretch/>
        </p:blipFill>
        <p:spPr>
          <a:xfrm>
            <a:off x="7308720" y="3573360"/>
            <a:ext cx="1440000" cy="1341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орех"/>
          <p:cNvPicPr/>
          <p:nvPr/>
        </p:nvPicPr>
        <p:blipFill>
          <a:blip r:embed="rId4"/>
          <a:stretch/>
        </p:blipFill>
        <p:spPr>
          <a:xfrm>
            <a:off x="0" y="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орех"/>
          <p:cNvPicPr/>
          <p:nvPr/>
        </p:nvPicPr>
        <p:blipFill>
          <a:blip r:embed="rId5"/>
          <a:stretch/>
        </p:blipFill>
        <p:spPr>
          <a:xfrm>
            <a:off x="7704000" y="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орех"/>
          <p:cNvPicPr/>
          <p:nvPr/>
        </p:nvPicPr>
        <p:blipFill>
          <a:blip r:embed="rId6"/>
          <a:stretch/>
        </p:blipFill>
        <p:spPr>
          <a:xfrm>
            <a:off x="1979640" y="328464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орех"/>
          <p:cNvPicPr/>
          <p:nvPr/>
        </p:nvPicPr>
        <p:blipFill>
          <a:blip r:embed="rId7"/>
          <a:stretch/>
        </p:blipFill>
        <p:spPr>
          <a:xfrm>
            <a:off x="7308720" y="3500280"/>
            <a:ext cx="1440000" cy="1341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орех"/>
          <p:cNvPicPr/>
          <p:nvPr/>
        </p:nvPicPr>
        <p:blipFill>
          <a:blip r:embed="rId8"/>
          <a:stretch/>
        </p:blipFill>
        <p:spPr>
          <a:xfrm>
            <a:off x="1979640" y="328464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орех"/>
          <p:cNvPicPr/>
          <p:nvPr/>
        </p:nvPicPr>
        <p:blipFill>
          <a:blip r:embed="rId9"/>
          <a:stretch/>
        </p:blipFill>
        <p:spPr>
          <a:xfrm>
            <a:off x="7308720" y="3500280"/>
            <a:ext cx="1440000" cy="1341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орех"/>
          <p:cNvPicPr/>
          <p:nvPr/>
        </p:nvPicPr>
        <p:blipFill>
          <a:blip r:embed="rId10"/>
          <a:stretch/>
        </p:blipFill>
        <p:spPr>
          <a:xfrm>
            <a:off x="-252360" y="5661000"/>
            <a:ext cx="1439640" cy="1341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орех"/>
          <p:cNvPicPr/>
          <p:nvPr/>
        </p:nvPicPr>
        <p:blipFill>
          <a:blip r:embed="rId11"/>
          <a:stretch/>
        </p:blipFill>
        <p:spPr>
          <a:xfrm>
            <a:off x="7885080" y="5661000"/>
            <a:ext cx="1440000" cy="13413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0"/>
          <p:cNvSpPr/>
          <p:nvPr/>
        </p:nvSpPr>
        <p:spPr>
          <a:xfrm rot="21322200">
            <a:off x="325440" y="4768560"/>
            <a:ext cx="4697280" cy="1225440"/>
          </a:xfrm>
          <a:prstGeom prst="wedgeEllipseCallout">
            <a:avLst>
              <a:gd name="adj1" fmla="val 40990"/>
              <a:gd name="adj2" fmla="val -79861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8"/>
          <p:cNvSpPr/>
          <p:nvPr/>
        </p:nvSpPr>
        <p:spPr>
          <a:xfrm>
            <a:off x="324000" y="486900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Ребята, берег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з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9"/>
          <p:cNvSpPr/>
          <p:nvPr/>
        </p:nvSpPr>
        <p:spPr>
          <a:xfrm>
            <a:off x="1619280" y="189000"/>
            <a:ext cx="59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имнастика для гл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минус.mp3" descr=""/>
          <p:cNvPicPr/>
          <p:nvPr/>
        </p:nvPicPr>
        <p:blipFill>
          <a:blip r:embed="rId13"/>
          <a:stretch/>
        </p:blipFill>
        <p:spPr>
          <a:xfrm>
            <a:off x="7596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10502E-006 L 0.00955 -0.68725 E">
                                      <p:cBhvr>
                                        <p:cTn id="327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84551E-007 L 0.00799 -0.78978 E">
                                      <p:cBhvr>
                                        <p:cTn id="33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0.00301 L 0.79931 0.51006 E">
                                      <p:cBhvr>
                                        <p:cTn id="341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5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5717E-006 L -0.60642 0.48266 E">
                                      <p:cBhvr>
                                        <p:cTn id="34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500"/>
                            </p:stCondLst>
                            <p:childTnLst>
                              <p:par>
                                <p:cTn id="35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4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48439E-006 C -0.01996 0.01064 -0.04236 0.02128 -0.05226 0.0347 C -0.06215 0.04927 -0.06736 0.06662 -0.07222 0.08397 C -0.07726 0.10132 -0.07222 0.11589 -0.06736 0.13186 C -0.06215 0.14666 -0.05486 0.16262 -0.03715 0.17581 C -0.02257 0.18922 0.00261 0.19986 0.02969 0.20796 C 0.05486 0.21582 0.08455 0.22115 0.11441 0.22392 C 0.14427 0.22647 0.17396 0.22647 0.20156 0.22392 C 0.23142 0.22115 0.25868 0.21444 0.28108 0.2038 C 0.30347 0.19454 0.32344 0.18251 0.33333 0.16794 C 0.34583 0.15452 0.3507 0.13602 0.3507 0.12121 C 0.3533 0.10664 0.3507 0.08929 0.33802 0.07472 C 0.32604 0.0613 0.30347 0.05066 0.27379 0.04534 C 0.24358 0.04141 0.21372 0.04673 0.19392 0.05598 C 0.17656 0.06523 0.16406 0.08004 0.16146 0.09716 C 0.16146 0.11451 0.16406 0.13047 0.17656 0.14388 C 0.18906 0.1573 0.18646 0.15985 0.23611 0.17719 C 0.28108 0.19593 0.32604 0.19061 0.3533 0.19177 C 0.38038 0.19177 0.40295 0.18645 0.43004 0.18113 C 0.46024 0.17465 0.4849 0.16262 0.50261 0.15198 C 0.51997 0.14134 0.52726 0.12792 0.53715 0.10664 C 0.54462 0.08536 0.54462 0.07472 0.54462 0.05853 C 0.54462 0.04257 0.54462 0.0266 0.54462 0.01064 E">
                                      <p:cBhvr>
                                        <p:cTn id="36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4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6809E-006 C 0.02031 0.01063 0.0434 0.02127 0.05364 0.03469 C 0.06371 0.04926 0.0691 0.0666 0.07396 0.08395 C 0.07934 0.10129 0.07396 0.11586 0.0691 0.13182 C 0.06371 0.14662 0.05625 0.16258 0.03802 0.17576 C 0.02309 0.18917 -0.00261 0.19981 -0.03056 0.2079 C -0.05625 0.21577 -0.08663 0.22109 -0.11719 0.22386 C -0.14775 0.22641 -0.1783 0.22641 -0.2066 0.22386 C -0.23715 0.22109 -0.26511 0.21438 -0.28802 0.20374 C -0.31111 0.19449 -0.33143 0.18247 -0.34167 0.1679 C -0.35452 0.15448 -0.35938 0.13598 -0.35938 0.12118 C -0.36198 0.10661 -0.35938 0.08926 -0.34653 0.07469 C -0.3342 0.06128 -0.31111 0.05064 -0.28056 0.04532 C -0.24965 0.04139 -0.2191 0.04671 -0.19861 0.05596 C -0.1809 0.06521 -0.16823 0.08001 -0.16545 0.09713 C -0.16545 0.11447 -0.16823 0.13043 -0.1809 0.14384 C -0.19375 0.15726 -0.19115 0.1598 -0.24202 0.17715 C -0.28802 0.19588 -0.3342 0.19056 -0.36198 0.19172 C -0.38993 0.19172 -0.41285 0.1864 -0.4408 0.18108 C -0.4717 0.1746 -0.49705 0.16258 -0.51511 0.15194 C -0.53281 0.1413 -0.54045 0.12789 -0.55052 0.10661 C -0.55799 0.08533 -0.55799 0.07469 -0.55799 0.05851 C -0.55799 0.04255 -0.55799 0.02659 -0.55799 0.01063 E">
                                      <p:cBhvr>
                                        <p:cTn id="375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83 0.04209 L 0.17743 -0.37974 C 0.20972 -0.47502 0.25764 -0.52752 0.30781 -0.52752 C 0.36458 -0.52752 0.41024 -0.47502 0.44271 -0.37974 L 0.59601 0.04209 E">
                                      <p:cBhvr>
                                        <p:cTn id="387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389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00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25463 C 0.01215 -0.3439 -0.1118 -0.42114 -0.2776 -0.42646 C -0.43594 -0.43316 -0.5842 -0.37327 -0.59392 -0.28654 C -0.60625 -0.20675 -0.50243 -0.13205 -0.35399 -0.12674 C -0.21823 -0.1228 -0.08941 -0.17206 -0.07951 -0.24653 C -0.06979 -0.31452 -0.15642 -0.37859 -0.28212 -0.3839 C -0.39844 -0.38784 -0.50781 -0.34644 -0.5151 -0.284 C -0.52239 -0.22803 -0.4533 -0.17345 -0.3493 -0.17068 C -0.25521 -0.16674 -0.16632 -0.19866 -0.15851 -0.24931 C -0.15399 -0.29464 -0.20573 -0.33881 -0.28732 -0.34112 C -0.35903 -0.3439 -0.4309 -0.31984 -0.43594 -0.28122 C -0.44062 -0.24792 -0.40382 -0.216 -0.34392 -0.21323 C -0.29462 -0.21069 -0.24271 -0.22549 -0.2401 -0.25185 C -0.23542 -0.27336 -0.25521 -0.29602 -0.29219 -0.29857 C -0.32205 -0.29857 -0.35173 -0.29325 -0.3566 -0.27868 C -0.35903 -0.2692 -0.35399 -0.25995 -0.33941 -0.25601 C -0.33212 -0.25463 -0.32691 -0.25463 -0.31962 -0.25601 E">
                                      <p:cBhvr>
                                        <p:cTn id="40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40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2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4209 L 0.82691 -0.30411 E">
                                      <p:cBhvr>
                                        <p:cTn id="41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-0.01897 L -0.64427 -0.34413 E">
                                      <p:cBhvr>
                                        <p:cTn id="420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7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obezyan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5"/>
          <p:cNvSpPr/>
          <p:nvPr/>
        </p:nvSpPr>
        <p:spPr>
          <a:xfrm>
            <a:off x="1311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6"/>
          <p:cNvSpPr txBox="1"/>
          <p:nvPr/>
        </p:nvSpPr>
        <p:spPr>
          <a:xfrm>
            <a:off x="1332000" y="5084640"/>
            <a:ext cx="69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ва длина отрезка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04" name="Group 18"/>
          <p:cNvGrpSpPr/>
          <p:nvPr/>
        </p:nvGrpSpPr>
        <p:grpSpPr>
          <a:xfrm>
            <a:off x="1143000" y="795240"/>
            <a:ext cx="6947640" cy="1183680"/>
            <a:chOff x="1143000" y="795240"/>
            <a:chExt cx="6947640" cy="1183680"/>
          </a:xfrm>
        </p:grpSpPr>
        <p:sp>
          <p:nvSpPr>
            <p:cNvPr id="205" name="Freeform 19"/>
            <p:cNvSpPr/>
            <p:nvPr/>
          </p:nvSpPr>
          <p:spPr>
            <a:xfrm>
              <a:off x="1227600" y="1108440"/>
              <a:ext cx="6829920" cy="870480"/>
            </a:xfrm>
            <a:custGeom>
              <a:avLst/>
              <a:gdLst>
                <a:gd name="textAreaLeft" fmla="*/ 0 w 6829920"/>
                <a:gd name="textAreaRight" fmla="*/ 6830280 w 6829920"/>
                <a:gd name="textAreaTop" fmla="*/ 0 h 870480"/>
                <a:gd name="textAreaBottom" fmla="*/ 870840 h 87048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"/>
            <p:cNvSpPr/>
            <p:nvPr/>
          </p:nvSpPr>
          <p:spPr>
            <a:xfrm rot="17576400">
              <a:off x="1506240" y="1468800"/>
              <a:ext cx="2322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1"/>
            <p:cNvSpPr/>
            <p:nvPr/>
          </p:nvSpPr>
          <p:spPr>
            <a:xfrm rot="10800000">
              <a:off x="1216440" y="794880"/>
              <a:ext cx="6874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2"/>
            <p:cNvSpPr/>
            <p:nvPr/>
          </p:nvSpPr>
          <p:spPr>
            <a:xfrm>
              <a:off x="1143000" y="1335240"/>
              <a:ext cx="687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24"/>
          <p:cNvSpPr/>
          <p:nvPr/>
        </p:nvSpPr>
        <p:spPr>
          <a:xfrm>
            <a:off x="1332000" y="765000"/>
            <a:ext cx="4319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1332000" y="765000"/>
            <a:ext cx="216036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1332000" y="765000"/>
            <a:ext cx="540072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1332000" y="765000"/>
            <a:ext cx="3313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Стена ВКонтакте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6429240" y="571680"/>
            <a:ext cx="2143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Отвёртка 2 в 1 Ермак жёлтая 3 х 50 (+/-) купить ТД Ассорти"/>
          <p:cNvPicPr/>
          <p:nvPr/>
        </p:nvPicPr>
        <p:blipFill>
          <a:blip r:embed="rId2"/>
          <a:stretch/>
        </p:blipFill>
        <p:spPr>
          <a:xfrm rot="2145000">
            <a:off x="4882680" y="560520"/>
            <a:ext cx="1785960" cy="2620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Шуруп с полукруглой головкой ГОСТ 1144-80 / Служба Снабжения"/>
          <p:cNvPicPr/>
          <p:nvPr/>
        </p:nvPicPr>
        <p:blipFill>
          <a:blip r:embed="rId3"/>
          <a:stretch/>
        </p:blipFill>
        <p:spPr>
          <a:xfrm>
            <a:off x="5072040" y="4048200"/>
            <a:ext cx="1628640" cy="25956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"/>
          <p:cNvSpPr/>
          <p:nvPr/>
        </p:nvSpPr>
        <p:spPr>
          <a:xfrm>
            <a:off x="6929280" y="4143240"/>
            <a:ext cx="20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fee17e28bcb8657e7b4e27ce3fd1c7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6"/>
          <p:cNvGrpSpPr/>
          <p:nvPr/>
        </p:nvGrpSpPr>
        <p:grpSpPr>
          <a:xfrm>
            <a:off x="0" y="5072040"/>
            <a:ext cx="4285800" cy="999720"/>
            <a:chOff x="0" y="5072040"/>
            <a:chExt cx="4285800" cy="999720"/>
          </a:xfrm>
        </p:grpSpPr>
        <p:sp>
          <p:nvSpPr>
            <p:cNvPr id="222" name="Freeform 7"/>
            <p:cNvSpPr/>
            <p:nvPr/>
          </p:nvSpPr>
          <p:spPr>
            <a:xfrm>
              <a:off x="0" y="5072040"/>
              <a:ext cx="4217040" cy="999720"/>
            </a:xfrm>
            <a:custGeom>
              <a:avLst/>
              <a:gdLst>
                <a:gd name="textAreaLeft" fmla="*/ 0 w 4217040"/>
                <a:gd name="textAreaRight" fmla="*/ 4217400 w 4217040"/>
                <a:gd name="textAreaTop" fmla="*/ 0 h 999720"/>
                <a:gd name="textAreaBottom" fmla="*/ 1000080 h 99972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 rot="17576400">
              <a:off x="367560" y="5572080"/>
              <a:ext cx="266400" cy="91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 rot="10800000">
              <a:off x="264600" y="5128200"/>
              <a:ext cx="402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0"/>
            <p:cNvSpPr/>
            <p:nvPr/>
          </p:nvSpPr>
          <p:spPr>
            <a:xfrm>
              <a:off x="220320" y="5374440"/>
              <a:ext cx="402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1"/>
          <p:cNvGrpSpPr/>
          <p:nvPr/>
        </p:nvGrpSpPr>
        <p:grpSpPr>
          <a:xfrm>
            <a:off x="4714920" y="5044320"/>
            <a:ext cx="4174560" cy="1027440"/>
            <a:chOff x="4714920" y="5044320"/>
            <a:chExt cx="4174560" cy="1027440"/>
          </a:xfrm>
        </p:grpSpPr>
        <p:sp>
          <p:nvSpPr>
            <p:cNvPr id="227" name="Freeform 12"/>
            <p:cNvSpPr/>
            <p:nvPr/>
          </p:nvSpPr>
          <p:spPr>
            <a:xfrm>
              <a:off x="4765680" y="5044320"/>
              <a:ext cx="4104000" cy="1027440"/>
            </a:xfrm>
            <a:custGeom>
              <a:avLst/>
              <a:gdLst>
                <a:gd name="textAreaLeft" fmla="*/ 0 w 4104000"/>
                <a:gd name="textAreaRight" fmla="*/ 4104360 w 41040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 rot="17576400">
              <a:off x="4865400" y="5514480"/>
              <a:ext cx="27396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 rot="10800000">
              <a:off x="4760280" y="5069880"/>
              <a:ext cx="412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5"/>
            <p:cNvSpPr/>
            <p:nvPr/>
          </p:nvSpPr>
          <p:spPr>
            <a:xfrm>
              <a:off x="4714920" y="5311440"/>
              <a:ext cx="412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WordArt 16"/>
          <p:cNvSpPr txBox="1"/>
          <p:nvPr/>
        </p:nvSpPr>
        <p:spPr>
          <a:xfrm>
            <a:off x="1258920" y="6021360"/>
            <a:ext cx="69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ертите отрезки в тетрадях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642960" y="4786200"/>
            <a:ext cx="1928880" cy="2145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 flipV="1">
            <a:off x="5219640" y="4723560"/>
            <a:ext cx="2592360" cy="2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9"/>
          <p:cNvSpPr/>
          <p:nvPr/>
        </p:nvSpPr>
        <p:spPr>
          <a:xfrm rot="21322200">
            <a:off x="6407280" y="3212640"/>
            <a:ext cx="2736720" cy="709560"/>
          </a:xfrm>
          <a:prstGeom prst="wedgeEllipseCallout">
            <a:avLst>
              <a:gd name="adj1" fmla="val -59384"/>
              <a:gd name="adj2" fmla="val 14568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0"/>
          <p:cNvSpPr/>
          <p:nvPr/>
        </p:nvSpPr>
        <p:spPr>
          <a:xfrm rot="21322200">
            <a:off x="2484360" y="4005000"/>
            <a:ext cx="2737080" cy="709560"/>
          </a:xfrm>
          <a:prstGeom prst="wedgeEllipseCallout">
            <a:avLst>
              <a:gd name="adj1" fmla="val -76268"/>
              <a:gd name="adj2" fmla="val -7877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21"/>
          <p:cNvSpPr txBox="1"/>
          <p:nvPr/>
        </p:nvSpPr>
        <p:spPr>
          <a:xfrm>
            <a:off x="2987640" y="414972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сантиметр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WordArt 22"/>
          <p:cNvSpPr txBox="1"/>
          <p:nvPr/>
        </p:nvSpPr>
        <p:spPr>
          <a:xfrm>
            <a:off x="6804000" y="342900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сантиметр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Отечественные мультфильмы и фильмы. - 23 May 2013 - Blog - Pc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fa1bcbeb57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6"/>
          <p:cNvSpPr/>
          <p:nvPr/>
        </p:nvSpPr>
        <p:spPr>
          <a:xfrm rot="21315000">
            <a:off x="5553000" y="1728720"/>
            <a:ext cx="3283200" cy="1687680"/>
          </a:xfrm>
          <a:prstGeom prst="wedgeEllipseCallout">
            <a:avLst>
              <a:gd name="adj1" fmla="val -91981"/>
              <a:gd name="adj2" fmla="val 5943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7"/>
          <p:cNvSpPr txBox="1"/>
          <p:nvPr/>
        </p:nvSpPr>
        <p:spPr>
          <a:xfrm>
            <a:off x="5724360" y="2205000"/>
            <a:ext cx="29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цени свою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у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WordArt 13"/>
          <p:cNvSpPr txBox="1"/>
          <p:nvPr/>
        </p:nvSpPr>
        <p:spPr>
          <a:xfrm>
            <a:off x="4932360" y="3860640"/>
            <a:ext cx="38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о интересно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WordArt 15"/>
          <p:cNvSpPr txBox="1"/>
          <p:nvPr/>
        </p:nvSpPr>
        <p:spPr>
          <a:xfrm>
            <a:off x="5076720" y="573408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и трудност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6" name="Рисунок 12" descr="http://static.kinokopilka.tv/system/images/users/avatars/001/298/788/X-Plosion_original.jpg"/>
          <p:cNvPicPr/>
          <p:nvPr/>
        </p:nvPicPr>
        <p:blipFill>
          <a:blip r:embed="rId3"/>
          <a:stretch/>
        </p:blipFill>
        <p:spPr>
          <a:xfrm>
            <a:off x="3492360" y="3789360"/>
            <a:ext cx="1224000" cy="1236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3" descr="http://www.miabonyunk.hu/images/sad_smiley.jpg"/>
          <p:cNvPicPr/>
          <p:nvPr/>
        </p:nvPicPr>
        <p:blipFill>
          <a:blip r:embed="rId4"/>
          <a:stretch/>
        </p:blipFill>
        <p:spPr>
          <a:xfrm>
            <a:off x="3492360" y="5373720"/>
            <a:ext cx="1231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3932337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/>
          <p:cNvSpPr/>
          <p:nvPr/>
        </p:nvSpPr>
        <p:spPr>
          <a:xfrm rot="21407400">
            <a:off x="1612440" y="4797000"/>
            <a:ext cx="6415200" cy="1511280"/>
          </a:xfrm>
          <a:prstGeom prst="wedgeEllipseCallout">
            <a:avLst>
              <a:gd name="adj1" fmla="val -6648"/>
              <a:gd name="adj2" fmla="val -9726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7"/>
          <p:cNvSpPr txBox="1"/>
          <p:nvPr/>
        </p:nvSpPr>
        <p:spPr>
          <a:xfrm rot="21220800">
            <a:off x="2700360" y="5157360"/>
            <a:ext cx="410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им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урок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3" name="УЖАСНО интер.mp3" descr=""/>
          <p:cNvPicPr/>
          <p:nvPr/>
        </p:nvPicPr>
        <p:blipFill>
          <a:blip r:embed="rId3"/>
          <a:stretch/>
        </p:blipFill>
        <p:spPr>
          <a:xfrm>
            <a:off x="7524720" y="6210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95076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Картинка 13 из 6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5" descr=""/>
          <p:cNvPicPr/>
          <p:nvPr/>
        </p:nvPicPr>
        <p:blipFill>
          <a:blip r:embed="rId2"/>
          <a:stretch/>
        </p:blipFill>
        <p:spPr>
          <a:xfrm>
            <a:off x="1341360" y="4651200"/>
            <a:ext cx="66754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43aaf03f7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>
            <a:off x="1979640" y="189000"/>
            <a:ext cx="4492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изменилось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284720" y="4437000"/>
            <a:ext cx="2520720" cy="2303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284720" y="4437000"/>
            <a:ext cx="2519280" cy="2303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4211640" y="4076640"/>
            <a:ext cx="2665440" cy="2665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0"/>
          <p:cNvSpPr/>
          <p:nvPr/>
        </p:nvSpPr>
        <p:spPr>
          <a:xfrm>
            <a:off x="4643280" y="4941720"/>
            <a:ext cx="1872000" cy="1730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4716360" y="5013360"/>
            <a:ext cx="1730520" cy="15843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2916360" y="2997360"/>
            <a:ext cx="5113080" cy="1369800"/>
          </a:xfrm>
          <a:prstGeom prst="wedgeEllipseCallout">
            <a:avLst>
              <a:gd name="adj1" fmla="val -49976"/>
              <a:gd name="adj2" fmla="val -9822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14"/>
          <p:cNvSpPr txBox="1"/>
          <p:nvPr/>
        </p:nvSpPr>
        <p:spPr>
          <a:xfrm>
            <a:off x="3924360" y="3429000"/>
            <a:ext cx="3166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8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2050920" y="11592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е следующее число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Oval 7"/>
          <p:cNvSpPr/>
          <p:nvPr/>
        </p:nvSpPr>
        <p:spPr>
          <a:xfrm>
            <a:off x="539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2124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3780000" y="4076640"/>
            <a:ext cx="136656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7020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5435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5727960" y="4076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7383960" y="4076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2"/>
          <p:cNvSpPr/>
          <p:nvPr/>
        </p:nvSpPr>
        <p:spPr>
          <a:xfrm rot="10800000">
            <a:off x="178920" y="2349000"/>
            <a:ext cx="3024360" cy="1150920"/>
          </a:xfrm>
          <a:prstGeom prst="wedgeEllipseCallout">
            <a:avLst>
              <a:gd name="adj1" fmla="val -87064"/>
              <a:gd name="adj2" fmla="val -618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3"/>
          <p:cNvSpPr txBox="1"/>
          <p:nvPr/>
        </p:nvSpPr>
        <p:spPr>
          <a:xfrm>
            <a:off x="468360" y="2637000"/>
            <a:ext cx="24494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ечательно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38 попугаев. А вдруг получится!.. смотреть онлайн без регистрации и скачать бесплатно с торрента :: К :: Мультфильмы :: Все о д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6" descr=""/>
          <p:cNvPicPr/>
          <p:nvPr/>
        </p:nvPicPr>
        <p:blipFill>
          <a:blip r:embed="rId2"/>
          <a:stretch/>
        </p:blipFill>
        <p:spPr>
          <a:xfrm>
            <a:off x="103320" y="79200"/>
            <a:ext cx="89182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1794644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611280" y="189000"/>
            <a:ext cx="54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что здесь получится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468360" y="1700280"/>
            <a:ext cx="100944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1476360" y="2205000"/>
            <a:ext cx="20160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1909440" y="126828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 flipH="1">
            <a:off x="2842920" y="2637000"/>
            <a:ext cx="865080" cy="863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3"/>
          <p:cNvSpPr/>
          <p:nvPr/>
        </p:nvSpPr>
        <p:spPr>
          <a:xfrm flipH="1">
            <a:off x="1258560" y="4221000"/>
            <a:ext cx="865080" cy="863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1547640" y="5516640"/>
            <a:ext cx="2016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4572000" y="5516640"/>
            <a:ext cx="1800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3133440" y="278136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901440" y="371628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2"/>
          <p:cNvSpPr/>
          <p:nvPr/>
        </p:nvSpPr>
        <p:spPr>
          <a:xfrm>
            <a:off x="1909440" y="537372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4717800" y="537372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5"/>
          <p:cNvSpPr/>
          <p:nvPr/>
        </p:nvSpPr>
        <p:spPr>
          <a:xfrm rot="10800000">
            <a:off x="2916000" y="3933720"/>
            <a:ext cx="5832360" cy="1008000"/>
          </a:xfrm>
          <a:prstGeom prst="wedgeEllipseCallout">
            <a:avLst>
              <a:gd name="adj1" fmla="val -16777"/>
              <a:gd name="adj2" fmla="val 6462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6"/>
          <p:cNvSpPr txBox="1"/>
          <p:nvPr/>
        </p:nvSpPr>
        <p:spPr>
          <a:xfrm>
            <a:off x="3635280" y="414972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, ребята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6518520" y="4724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8"/>
          <p:cNvSpPr/>
          <p:nvPr/>
        </p:nvSpPr>
        <p:spPr>
          <a:xfrm>
            <a:off x="6443640" y="4941720"/>
            <a:ext cx="100980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1"/>
          <p:cNvSpPr/>
          <p:nvPr/>
        </p:nvSpPr>
        <p:spPr>
          <a:xfrm>
            <a:off x="3636360" y="155592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2"/>
          <p:cNvSpPr/>
          <p:nvPr/>
        </p:nvSpPr>
        <p:spPr>
          <a:xfrm>
            <a:off x="3492360" y="1700280"/>
            <a:ext cx="100980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2125080" y="3213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1979640" y="3357720"/>
            <a:ext cx="100980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7"/>
          <p:cNvSpPr/>
          <p:nvPr/>
        </p:nvSpPr>
        <p:spPr>
          <a:xfrm>
            <a:off x="756720" y="486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3636360" y="486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0"/>
          <p:cNvSpPr/>
          <p:nvPr/>
        </p:nvSpPr>
        <p:spPr>
          <a:xfrm>
            <a:off x="539640" y="5084640"/>
            <a:ext cx="100980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2"/>
          <p:cNvSpPr/>
          <p:nvPr/>
        </p:nvSpPr>
        <p:spPr>
          <a:xfrm>
            <a:off x="3564000" y="5084640"/>
            <a:ext cx="100944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Купить 38 попугаев (мультфильм) (CD Виде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4"/>
          <p:cNvSpPr txBox="1"/>
          <p:nvPr/>
        </p:nvSpPr>
        <p:spPr>
          <a:xfrm>
            <a:off x="468360" y="189000"/>
            <a:ext cx="84232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ите задач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Jungle Background Images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Слоненок. Мягкая говорящая игрушка, 28 см - цена Слоненок. Мягкая говорящая игрушка, 28 см, купить Слоненок. Мягкая говорящая иг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108000" y="4589640"/>
            <a:ext cx="2266920" cy="226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Funzug.com A Banana a Day Keeps all Doctors Away Banana, Bananas, Help, Blood, Make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1116000" y="1052640"/>
            <a:ext cx="1712880" cy="178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unzug.com A Banana a Day Keeps all Doctors Away Banana, Bananas, Help, Blood, Make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2679840" y="1052640"/>
            <a:ext cx="1662120" cy="1728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Funzug.com A Banana a Day Keeps all Doctors Away Banana, Bananas, Help, Blood, Make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4427640" y="1052640"/>
            <a:ext cx="1592280" cy="165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unzug.com A Banana a Day Keeps all Doctors Away Banana, Bananas, Help, Blood, Make"/>
          <p:cNvPicPr/>
          <p:nvPr/>
        </p:nvPicPr>
        <p:blipFill>
          <a:blip r:embed="rId6">
            <a:lum contrast="40000"/>
          </a:blip>
          <a:stretch/>
        </p:blipFill>
        <p:spPr>
          <a:xfrm>
            <a:off x="5940360" y="1052640"/>
            <a:ext cx="1654200" cy="1720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pple could take 5% of HDTV market TG Daily"/>
          <p:cNvPicPr/>
          <p:nvPr/>
        </p:nvPicPr>
        <p:blipFill>
          <a:blip r:embed="rId7">
            <a:lum contrast="40000"/>
          </a:blip>
          <a:stretch/>
        </p:blipFill>
        <p:spPr>
          <a:xfrm>
            <a:off x="3132000" y="2708280"/>
            <a:ext cx="2735280" cy="2736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>
            <a:off x="5796000" y="3687840"/>
            <a:ext cx="29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16:34Z</dcterms:created>
  <dc:creator>User</dc:creator>
  <dc:description/>
  <dc:language>en-US</dc:language>
  <cp:lastModifiedBy>ser</cp:lastModifiedBy>
  <dcterms:modified xsi:type="dcterms:W3CDTF">2014-11-24T04:54:26Z</dcterms:modified>
  <cp:revision>114</cp:revision>
  <dc:subject/>
  <dc:title>Слайд 1</dc:title>
</cp:coreProperties>
</file>