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AFC-3EE9-4A26-89A6-37803FCC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9D0-4D5E-428D-B98D-AB9C2561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812-E720-48BA-95BE-DA2FD7F9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FBC-AB23-40C0-A486-DCA42C76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3D89-29BA-4636-A235-EF701A09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6B4B-BC39-4C2B-B245-B551F0C2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AE03-A594-47F8-B8F5-40E412E5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E978-68D0-4C5F-B2D1-4C0A4733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0B22-54A0-463D-9A13-91FD8B04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1227-5655-4F8B-AA5E-8176A971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5B52-624C-4BFE-A861-365DA24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5B4-43FE-4522-A291-28EB598F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4ACA-1F89-44FC-A429-EFAACC32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1E42-ACEE-4AD3-AC03-9503593F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2DE-8F56-42D1-A3FD-1B89BF10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5855-48B7-48E8-8A7A-8F053604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EE39-77E9-4BA7-990A-822C797E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BD7B-9A5D-4BB7-BF31-4AFB0BA6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7C5F-77BD-4A72-B075-DC7939E9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3580-0760-4361-A8CA-5F41C0E1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A22A-0236-441E-95E7-7E6D5FD4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300D-2A11-4616-9FC9-66A05065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010-39D2-4D15-B8CB-14612372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CE9C-5E2B-43C8-8A3E-C04742F7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4189-E993-429F-8D26-D134F938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8B5F-956E-4E4F-BAE1-BAC6FD12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92FA-F191-4E6D-B287-802AEA5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A241D-9F9A-4094-9716-D0386E76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D5E0-E0E5-4E8D-9903-A8FAE761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C711-735F-43AC-9A38-6E13E48A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1363-DB4C-4A2D-B4AD-D91E17B9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D0D5-F046-40FF-BAAF-571085AF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9B83-76EE-4337-8391-E861647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CDC-77BD-4F2D-B31B-3F9BFCF4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B6099-E1FF-496A-BD30-17F1AE49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D0B76-4B01-412B-9561-EFB96A1C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6E92-8945-43C9-B5C7-3982017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32ED-D472-4400-9FF7-129823F4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2C59-1F09-46C2-AF12-4E00D390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F58A-5535-46F1-A427-4064D0B4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5B5FD-9C37-472D-AF22-255B1831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C2F1-02DE-4573-8086-057B6DFC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CC7B1-8F40-4AA3-974E-63DB921C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74A-9E7A-4A2A-8347-2AAA45CF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730-4A1F-4645-9A0D-8E24A830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2B3-2AC6-4A51-9308-9B608E6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76C-8957-40A1-B879-D00EA7F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D10-DC11-450D-A6BC-3A8CD55A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9C32DA-067A-43A8-A80D-0E3B847E0237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uk-UA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C4CF52-A37C-4792-84D1-CD4DDAC0DDF2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232631-1679-462A-86FF-72045F477A0C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uk-UA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A41D80-181A-4BE9-8BFA-54BC239D49D9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E:/&#1086;&#1090;&#1082;&#1088;&#1099;&#1090;&#1099;&#1081;%20&#1091;&#1088;&#1086;&#1082;/&#1050;&#1072;&#1082;%20&#1089;&#1086;&#1079;&#1076;&#1072;&#1074;&#1072;&#1090;&#1100;%20&#1076;&#1077;&#1083;&#1086;&#1074;&#1086;&#1081;%20&#1089;&#1090;&#1080;&#1083;&#1100;.%20%20&#1044;&#1077;&#1083;&#1086;&#1074;&#1086;&#1081;%20&#1101;&#1090;&#1080;&#1082;&#1077;&#1090;.%20(&#1048;&#1088;&#1080;&#1085;&#1072;%20&#1044;&#1077;&#1083;&#1100;&#1092;&#1077;&#1081;).mp4" TargetMode="External"/><Relationship Id="rId2" Type="http://schemas.microsoft.com/office/2007/relationships/media" Target="file:///E:/&#1086;&#1090;&#1082;&#1088;&#1099;&#1090;&#1099;&#1081;%20&#1091;&#1088;&#1086;&#1082;/&#1050;&#1072;&#1082;%20&#1089;&#1086;&#1079;&#1076;&#1072;&#1074;&#1072;&#1090;&#1100;%20&#1076;&#1077;&#1083;&#1086;&#1074;&#1086;&#1081;%20&#1089;&#1090;&#1080;&#1083;&#1100;.%20%20&#1044;&#1077;&#1083;&#1086;&#1074;&#1086;&#1081;%20&#1101;&#1090;&#1080;&#1082;&#1077;&#1090;.%20(&#1048;&#1088;&#1080;&#1085;&#1072;%20&#1044;&#1077;&#1083;&#1100;&#1092;&#1077;&#1081;).mp4" TargetMode="External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E:/&#1054;&#1090;&#1082;&#1088;&#1099;&#1090;&#1099;&#1081;%20&#1091;&#1088;&#1086;&#1082;%20&#1058;.&#1040;/&#1086;&#1090;&#1087;&#1088;&#1072;&#1074;&#1080;&#1090;&#1100;/&#1040;&#1083;&#1077;&#1085;&#1072;%20&#1043;&#1080;&#1083;&#1100;%20&#1086;%20&#1074;&#1072;&#1078;&#1085;&#1086;&#1089;&#1090;&#1080;%20&#1076;&#1077;&#1083;&#1086;&#1074;&#1086;&#1075;&#1086;%20&#1101;&#1090;&#1080;&#1082;&#1077;&#1090;&#1072;%20&#1074;%20&#1073;&#1080;&#1079;&#1085;&#1077;&#1089;&#1077;..mp4" TargetMode="External"/><Relationship Id="rId2" Type="http://schemas.microsoft.com/office/2007/relationships/media" Target="file:///E:/&#1054;&#1090;&#1082;&#1088;&#1099;&#1090;&#1099;&#1081;%20&#1091;&#1088;&#1086;&#1082;%20&#1058;.&#1040;/&#1086;&#1090;&#1087;&#1088;&#1072;&#1074;&#1080;&#1090;&#1100;/&#1040;&#1083;&#1077;&#1085;&#1072;%20&#1043;&#1080;&#1083;&#1100;%20&#1086;%20&#1074;&#1072;&#1078;&#1085;&#1086;&#1089;&#1090;&#1080;%20&#1076;&#1077;&#1083;&#1086;&#1074;&#1086;&#1075;&#1086;%20&#1101;&#1090;&#1080;&#1082;&#1077;&#1090;&#1072;%20&#1074;%20&#1073;&#1080;&#1079;&#1085;&#1077;&#1089;&#1077;..mp4" TargetMode="External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475360" y="360720"/>
            <a:ext cx="3980520" cy="11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Эт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делового общения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icture 20"/>
          <p:cNvSpPr/>
          <p:nvPr/>
        </p:nvSpPr>
        <p:spPr>
          <a:xfrm>
            <a:off x="6080760" y="4583880"/>
            <a:ext cx="3047760" cy="2285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1" descr="Рисунок3"/>
          <p:cNvPicPr/>
          <p:nvPr/>
        </p:nvPicPr>
        <p:blipFill>
          <a:blip r:embed="rId2"/>
          <a:stretch/>
        </p:blipFill>
        <p:spPr>
          <a:xfrm>
            <a:off x="6602040" y="1678680"/>
            <a:ext cx="2397240" cy="30488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  <p:sp>
        <p:nvSpPr>
          <p:cNvPr id="172" name="Picture 22"/>
          <p:cNvSpPr/>
          <p:nvPr/>
        </p:nvSpPr>
        <p:spPr>
          <a:xfrm>
            <a:off x="-15840" y="4682880"/>
            <a:ext cx="2817720" cy="22251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CACLI7OH"/>
          <p:cNvPicPr/>
          <p:nvPr/>
        </p:nvPicPr>
        <p:blipFill>
          <a:blip r:embed="rId4"/>
          <a:stretch/>
        </p:blipFill>
        <p:spPr>
          <a:xfrm>
            <a:off x="-27000" y="1890720"/>
            <a:ext cx="2502000" cy="279180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sp>
        <p:nvSpPr>
          <p:cNvPr id="174" name="Picture 18"/>
          <p:cNvSpPr/>
          <p:nvPr/>
        </p:nvSpPr>
        <p:spPr>
          <a:xfrm>
            <a:off x="37080" y="36360"/>
            <a:ext cx="2403000" cy="1828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icture 5"/>
          <p:cNvSpPr/>
          <p:nvPr/>
        </p:nvSpPr>
        <p:spPr>
          <a:xfrm>
            <a:off x="6588360" y="36360"/>
            <a:ext cx="2540160" cy="1695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icture 2"/>
          <p:cNvSpPr/>
          <p:nvPr/>
        </p:nvSpPr>
        <p:spPr>
          <a:xfrm>
            <a:off x="2829960" y="4590000"/>
            <a:ext cx="3222360" cy="22860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icture 6"/>
          <p:cNvSpPr/>
          <p:nvPr/>
        </p:nvSpPr>
        <p:spPr>
          <a:xfrm>
            <a:off x="2321640" y="1872000"/>
            <a:ext cx="4494600" cy="27111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21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239"/>
                </p:tgtEl>
              </p:cMediaNode>
            </p:vide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27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240"/>
                </p:tgtEl>
              </p:cMediaNode>
            </p:vide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108360" y="274680"/>
            <a:ext cx="92520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сновные правил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                     речевого этикета</a:t>
            </a:r>
            <a:endParaRPr b="0" lang="uk-UA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640" y="1600200"/>
            <a:ext cx="8712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 Нельзя, чтобы речь была засорена жаргонными словами. 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Обращение на «ты» и «вы».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 Умение слушать.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В компании не шепчутся.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Приветствие.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Правильное использование жестов, мимики, пантомимики. 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icture 1"/>
          <p:cNvSpPr/>
          <p:nvPr/>
        </p:nvSpPr>
        <p:spPr>
          <a:xfrm>
            <a:off x="5950080" y="3647160"/>
            <a:ext cx="2755440" cy="1846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icture 2"/>
          <p:cNvSpPr/>
          <p:nvPr/>
        </p:nvSpPr>
        <p:spPr>
          <a:xfrm>
            <a:off x="6616800" y="2188440"/>
            <a:ext cx="2044440" cy="14799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рмы речевого этикета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icture 2"/>
          <p:cNvSpPr/>
          <p:nvPr/>
        </p:nvSpPr>
        <p:spPr>
          <a:xfrm>
            <a:off x="1089000" y="1556640"/>
            <a:ext cx="6965640" cy="5030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знаки хорошей речи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640" y="1052640"/>
            <a:ext cx="82292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равильность речи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Точность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Ясность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Уместность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Логичность речи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Простота речи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Чистота речи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. Живость речи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. Благозвучие речи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icture 1"/>
          <p:cNvSpPr/>
          <p:nvPr/>
        </p:nvSpPr>
        <p:spPr>
          <a:xfrm>
            <a:off x="4794120" y="1251000"/>
            <a:ext cx="3955680" cy="494460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640" y="108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убличное выступление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icture 5"/>
          <p:cNvSpPr/>
          <p:nvPr/>
        </p:nvSpPr>
        <p:spPr>
          <a:xfrm rot="21372000">
            <a:off x="6056280" y="1002960"/>
            <a:ext cx="2967840" cy="3698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icture 6"/>
          <p:cNvSpPr/>
          <p:nvPr/>
        </p:nvSpPr>
        <p:spPr>
          <a:xfrm>
            <a:off x="2319120" y="3069000"/>
            <a:ext cx="4772880" cy="386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icture 4"/>
          <p:cNvSpPr/>
          <p:nvPr/>
        </p:nvSpPr>
        <p:spPr>
          <a:xfrm>
            <a:off x="26640" y="1072080"/>
            <a:ext cx="3124800" cy="3896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4240" y="47664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чества воспитанного человека</a:t>
            </a:r>
            <a:br>
              <a:rPr sz="4400"/>
            </a:b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9200" y="1117440"/>
            <a:ext cx="84452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30800" indent="-730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звать качества 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  <a:p>
            <a:pPr marL="730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оспитанного, вежливого человека 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  <a:p>
            <a:pPr marL="730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букву “С”……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2. Назвать качества воспитанного, 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ежливого человека 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букву “Д”…….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1" descr="C:\Users\Katya\Desktop\images.jpg"/>
          <p:cNvPicPr/>
          <p:nvPr/>
        </p:nvPicPr>
        <p:blipFill>
          <a:blip r:embed="rId1"/>
          <a:stretch/>
        </p:blipFill>
        <p:spPr>
          <a:xfrm>
            <a:off x="4172040" y="3651120"/>
            <a:ext cx="4749480" cy="28443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640" y="1600200"/>
            <a:ext cx="89640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 научился….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 узнал….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 был удивлен тем, что…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не понравилось (не понравилось)…</a:t>
            </a:r>
            <a:endParaRPr b="0" lang="uk-UA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icture 1"/>
          <p:cNvSpPr/>
          <p:nvPr/>
        </p:nvSpPr>
        <p:spPr>
          <a:xfrm>
            <a:off x="4172040" y="1295280"/>
            <a:ext cx="4133520" cy="2755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Объект 6" descr="http://zazdoc.ru/tw_files2/urls_28/1697/d-1696118/1696118_html_m47db306d.jpg"/>
          <p:cNvPicPr/>
          <p:nvPr/>
        </p:nvPicPr>
        <p:blipFill>
          <a:blip r:embed="rId1"/>
          <a:stretch/>
        </p:blipFill>
        <p:spPr>
          <a:xfrm>
            <a:off x="0" y="1162080"/>
            <a:ext cx="3347640" cy="3572640"/>
          </a:xfrm>
          <a:prstGeom prst="rect">
            <a:avLst/>
          </a:prstGeom>
          <a:ln w="9525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344760" y="404640"/>
            <a:ext cx="5723640" cy="590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ак, друзья мои, пора нам оценить самих себя, 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также в целом весь урок.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б это сделать каждый смог, 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портрете важную деталь дорисовать необходимо.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 не понравился урок,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лыбка – прочь, рот на замок!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 удался урок на диво,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сть умник улыбнется нам  красиво. Спасибо за урок!</a:t>
            </a:r>
            <a:endParaRPr b="0" lang="uk-UA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Рисунок 3"/>
          <p:cNvSpPr/>
          <p:nvPr/>
        </p:nvSpPr>
        <p:spPr>
          <a:xfrm>
            <a:off x="1727280" y="1606680"/>
            <a:ext cx="5511600" cy="4006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3840" y="332640"/>
            <a:ext cx="8570520" cy="19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тикет – установленный, принятый порядок поведения, форм обхождения. 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жегов С.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Овал 29"/>
          <p:cNvSpPr/>
          <p:nvPr/>
        </p:nvSpPr>
        <p:spPr>
          <a:xfrm>
            <a:off x="3060720" y="1562040"/>
            <a:ext cx="2933280" cy="25333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27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иды  этик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Двойная волна 39"/>
          <p:cNvSpPr/>
          <p:nvPr/>
        </p:nvSpPr>
        <p:spPr>
          <a:xfrm>
            <a:off x="1187640" y="237600"/>
            <a:ext cx="203292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рисут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войная волна 40"/>
          <p:cNvSpPr/>
          <p:nvPr/>
        </p:nvSpPr>
        <p:spPr>
          <a:xfrm>
            <a:off x="3885840" y="4381560"/>
            <a:ext cx="203292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де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войная волна 41"/>
          <p:cNvSpPr/>
          <p:nvPr/>
        </p:nvSpPr>
        <p:spPr>
          <a:xfrm>
            <a:off x="1043640" y="4413240"/>
            <a:ext cx="203292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войная волна 42"/>
          <p:cNvSpPr/>
          <p:nvPr/>
        </p:nvSpPr>
        <p:spPr>
          <a:xfrm>
            <a:off x="378720" y="2961360"/>
            <a:ext cx="203292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пор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Двойная волна 43"/>
          <p:cNvSpPr/>
          <p:nvPr/>
        </p:nvSpPr>
        <p:spPr>
          <a:xfrm>
            <a:off x="375840" y="1564200"/>
            <a:ext cx="205848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бщегражд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Двойная волна 44"/>
          <p:cNvSpPr/>
          <p:nvPr/>
        </p:nvSpPr>
        <p:spPr>
          <a:xfrm>
            <a:off x="6366240" y="4432320"/>
            <a:ext cx="203292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этикет путеше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войная волна 45"/>
          <p:cNvSpPr/>
          <p:nvPr/>
        </p:nvSpPr>
        <p:spPr>
          <a:xfrm>
            <a:off x="6804360" y="3022560"/>
            <a:ext cx="203292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еч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войная волна 46"/>
          <p:cNvSpPr/>
          <p:nvPr/>
        </p:nvSpPr>
        <p:spPr>
          <a:xfrm>
            <a:off x="6804360" y="1641240"/>
            <a:ext cx="203292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религи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войная волна 47"/>
          <p:cNvSpPr/>
          <p:nvPr/>
        </p:nvSpPr>
        <p:spPr>
          <a:xfrm>
            <a:off x="6156000" y="259560"/>
            <a:ext cx="203292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емей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войная волна 48"/>
          <p:cNvSpPr/>
          <p:nvPr/>
        </p:nvSpPr>
        <p:spPr>
          <a:xfrm>
            <a:off x="3672000" y="244800"/>
            <a:ext cx="2032920" cy="914040"/>
          </a:xfrm>
          <a:prstGeom prst="doubleWave">
            <a:avLst>
              <a:gd name="adj1" fmla="val 6250"/>
              <a:gd name="adj2" fmla="val 0"/>
            </a:avLst>
          </a:prstGeom>
          <a:gradFill rotWithShape="0">
            <a:gsLst>
              <a:gs pos="0">
                <a:srgbClr val="ffd2bc"/>
              </a:gs>
              <a:gs pos="100000">
                <a:srgbClr val="ffded0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б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ашивка 18"/>
          <p:cNvSpPr/>
          <p:nvPr/>
        </p:nvSpPr>
        <p:spPr>
          <a:xfrm rot="14134800">
            <a:off x="3359520" y="1379520"/>
            <a:ext cx="565920" cy="48420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873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ашивка 20"/>
          <p:cNvSpPr/>
          <p:nvPr/>
        </p:nvSpPr>
        <p:spPr>
          <a:xfrm rot="18824400">
            <a:off x="5326200" y="1469520"/>
            <a:ext cx="565920" cy="48420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2622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ашивка 21"/>
          <p:cNvSpPr/>
          <p:nvPr/>
        </p:nvSpPr>
        <p:spPr>
          <a:xfrm rot="2596200">
            <a:off x="5328000" y="3690000"/>
            <a:ext cx="565920" cy="48420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7992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ашивка 22"/>
          <p:cNvSpPr/>
          <p:nvPr/>
        </p:nvSpPr>
        <p:spPr>
          <a:xfrm rot="5151600">
            <a:off x="4329000" y="3975480"/>
            <a:ext cx="565920" cy="48420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10548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ашивка 23"/>
          <p:cNvSpPr/>
          <p:nvPr/>
        </p:nvSpPr>
        <p:spPr>
          <a:xfrm rot="1194600">
            <a:off x="5793480" y="3066120"/>
            <a:ext cx="565920" cy="48420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6594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ашивка 24"/>
          <p:cNvSpPr/>
          <p:nvPr/>
        </p:nvSpPr>
        <p:spPr>
          <a:xfrm rot="21126000">
            <a:off x="5846760" y="2220840"/>
            <a:ext cx="565920" cy="48420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492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ашивка 25"/>
          <p:cNvSpPr/>
          <p:nvPr/>
        </p:nvSpPr>
        <p:spPr>
          <a:xfrm rot="9886800">
            <a:off x="2670480" y="2961360"/>
            <a:ext cx="565920" cy="48420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15282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ашивка 26"/>
          <p:cNvSpPr/>
          <p:nvPr/>
        </p:nvSpPr>
        <p:spPr>
          <a:xfrm rot="12410400">
            <a:off x="2695320" y="1975320"/>
            <a:ext cx="565920" cy="484200"/>
          </a:xfrm>
          <a:prstGeom prst="chevron">
            <a:avLst>
              <a:gd name="adj" fmla="val 33087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17808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ашивка 27"/>
          <p:cNvSpPr/>
          <p:nvPr/>
        </p:nvSpPr>
        <p:spPr>
          <a:xfrm rot="16200000">
            <a:off x="4266360" y="1200960"/>
            <a:ext cx="565920" cy="48852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ашивка 28"/>
          <p:cNvSpPr/>
          <p:nvPr/>
        </p:nvSpPr>
        <p:spPr>
          <a:xfrm rot="7644600">
            <a:off x="3142440" y="3692160"/>
            <a:ext cx="565920" cy="48420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ff3399"/>
              </a:gs>
              <a:gs pos="100000">
                <a:srgbClr val="ff6633"/>
              </a:gs>
            </a:gsLst>
            <a:lin ang="13044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7640" y="495360"/>
            <a:ext cx="8434800" cy="61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гражданский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сутственный 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лигиозный 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icture 2"/>
          <p:cNvSpPr/>
          <p:nvPr/>
        </p:nvSpPr>
        <p:spPr>
          <a:xfrm>
            <a:off x="4038480" y="317520"/>
            <a:ext cx="2318040" cy="1638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icture 3"/>
          <p:cNvSpPr/>
          <p:nvPr/>
        </p:nvSpPr>
        <p:spPr>
          <a:xfrm>
            <a:off x="6616800" y="450720"/>
            <a:ext cx="1999800" cy="158652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icture 5"/>
          <p:cNvSpPr/>
          <p:nvPr/>
        </p:nvSpPr>
        <p:spPr>
          <a:xfrm>
            <a:off x="3327480" y="2228760"/>
            <a:ext cx="2399760" cy="159984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icture 7"/>
          <p:cNvSpPr/>
          <p:nvPr/>
        </p:nvSpPr>
        <p:spPr>
          <a:xfrm>
            <a:off x="304920" y="2228760"/>
            <a:ext cx="2878200" cy="16189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icture 8"/>
          <p:cNvSpPr/>
          <p:nvPr/>
        </p:nvSpPr>
        <p:spPr>
          <a:xfrm>
            <a:off x="3282840" y="4495680"/>
            <a:ext cx="2466720" cy="1847520"/>
          </a:xfrm>
          <a:prstGeom prst="roundRect">
            <a:avLst>
              <a:gd name="adj" fmla="val 8594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icture 9"/>
          <p:cNvSpPr/>
          <p:nvPr/>
        </p:nvSpPr>
        <p:spPr>
          <a:xfrm>
            <a:off x="6527880" y="3873600"/>
            <a:ext cx="1733040" cy="2647440"/>
          </a:xfrm>
          <a:prstGeom prst="roundRect">
            <a:avLst>
              <a:gd name="adj" fmla="val 8594"/>
            </a:avLst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361800"/>
            <a:ext cx="8229240" cy="63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ru-RU" sz="9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ru-RU" sz="9000" spc="-1" strike="noStrike">
                <a:solidFill>
                  <a:srgbClr val="000000"/>
                </a:solidFill>
                <a:latin typeface="Calibri"/>
              </a:rPr>
              <a:t>Брачный </a:t>
            </a:r>
            <a:endParaRPr b="0" lang="uk-UA" sz="9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ru-RU" sz="9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endParaRPr b="0" lang="uk-UA" sz="9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ru-RU" sz="9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9000" spc="-1" strike="noStrike">
                <a:solidFill>
                  <a:srgbClr val="000000"/>
                </a:solidFill>
                <a:latin typeface="Calibri"/>
              </a:rPr>
              <a:t>Семейный </a:t>
            </a:r>
            <a:endParaRPr b="0" lang="uk-UA" sz="9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uk-UA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uk-UA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uk-UA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uk-UA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uk-UA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uk-UA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uk-UA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95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8900" spc="-1" strike="noStrike">
                <a:solidFill>
                  <a:srgbClr val="000000"/>
                </a:solidFill>
                <a:latin typeface="Calibri"/>
              </a:rPr>
              <a:t>Печальный</a:t>
            </a:r>
            <a:r>
              <a:rPr b="1" lang="ru-RU" sz="9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uk-UA" sz="9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marL="316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icture 2"/>
          <p:cNvSpPr/>
          <p:nvPr/>
        </p:nvSpPr>
        <p:spPr>
          <a:xfrm>
            <a:off x="660240" y="450720"/>
            <a:ext cx="2533320" cy="1809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icture 4"/>
          <p:cNvSpPr/>
          <p:nvPr/>
        </p:nvSpPr>
        <p:spPr>
          <a:xfrm>
            <a:off x="3594240" y="4184640"/>
            <a:ext cx="1821960" cy="22413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icture 6"/>
          <p:cNvSpPr/>
          <p:nvPr/>
        </p:nvSpPr>
        <p:spPr>
          <a:xfrm>
            <a:off x="571680" y="2673360"/>
            <a:ext cx="2628720" cy="174276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icture 7"/>
          <p:cNvSpPr/>
          <p:nvPr/>
        </p:nvSpPr>
        <p:spPr>
          <a:xfrm>
            <a:off x="5549760" y="584280"/>
            <a:ext cx="2977920" cy="186660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icture 8"/>
          <p:cNvSpPr/>
          <p:nvPr/>
        </p:nvSpPr>
        <p:spPr>
          <a:xfrm>
            <a:off x="5594400" y="2673360"/>
            <a:ext cx="2876040" cy="1797840"/>
          </a:xfrm>
          <a:prstGeom prst="roundRect">
            <a:avLst>
              <a:gd name="adj" fmla="val 8594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icture 2"/>
          <p:cNvSpPr/>
          <p:nvPr/>
        </p:nvSpPr>
        <p:spPr>
          <a:xfrm>
            <a:off x="5683320" y="3429000"/>
            <a:ext cx="2539800" cy="19555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icture 4"/>
          <p:cNvSpPr/>
          <p:nvPr/>
        </p:nvSpPr>
        <p:spPr>
          <a:xfrm>
            <a:off x="615960" y="3615840"/>
            <a:ext cx="2711160" cy="19461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icture 5"/>
          <p:cNvSpPr/>
          <p:nvPr/>
        </p:nvSpPr>
        <p:spPr>
          <a:xfrm>
            <a:off x="704880" y="406440"/>
            <a:ext cx="2844360" cy="176184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icture 6"/>
          <p:cNvSpPr/>
          <p:nvPr/>
        </p:nvSpPr>
        <p:spPr>
          <a:xfrm>
            <a:off x="5594400" y="450720"/>
            <a:ext cx="2844360" cy="173304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6313680" y="5607000"/>
            <a:ext cx="1449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ет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1386720" y="5695920"/>
            <a:ext cx="282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икет путеше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3638520" y="984240"/>
            <a:ext cx="1955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ртив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icture 3"/>
          <p:cNvSpPr/>
          <p:nvPr/>
        </p:nvSpPr>
        <p:spPr>
          <a:xfrm>
            <a:off x="2438280" y="2829240"/>
            <a:ext cx="2355480" cy="1954440"/>
          </a:xfrm>
          <a:prstGeom prst="roundRect">
            <a:avLst>
              <a:gd name="adj" fmla="val 8594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920" y="317520"/>
            <a:ext cx="8578440" cy="58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ловой этикет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ключает правила проведения </a:t>
            </a:r>
            <a:endParaRPr b="0" lang="uk-UA" sz="2800" spc="-1" strike="noStrike">
              <a:solidFill>
                <a:srgbClr val="000000"/>
              </a:solidFill>
              <a:latin typeface="Calibri"/>
            </a:endParaRPr>
          </a:p>
          <a:p>
            <a:pPr marL="180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ловых встреч, презентаций, приёмов, правила </a:t>
            </a:r>
            <a:endParaRPr b="0" lang="uk-UA" sz="2800" spc="-1" strike="noStrike">
              <a:solidFill>
                <a:srgbClr val="000000"/>
              </a:solidFill>
              <a:latin typeface="Calibri"/>
            </a:endParaRPr>
          </a:p>
          <a:p>
            <a:pPr marL="180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ьзования визитными карточками, правила </a:t>
            </a:r>
            <a:endParaRPr b="0" lang="uk-UA" sz="2800" spc="-1" strike="noStrike">
              <a:solidFill>
                <a:srgbClr val="000000"/>
              </a:solidFill>
              <a:latin typeface="Calibri"/>
            </a:endParaRPr>
          </a:p>
          <a:p>
            <a:pPr marL="180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ловой переписки, правила телефонных </a:t>
            </a:r>
            <a:endParaRPr b="0" lang="uk-UA" sz="2800" spc="-1" strike="noStrike">
              <a:solidFill>
                <a:srgbClr val="000000"/>
              </a:solidFill>
              <a:latin typeface="Calibri"/>
            </a:endParaRPr>
          </a:p>
          <a:p>
            <a:pPr marL="180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говоров и т.д.</a:t>
            </a:r>
            <a:endParaRPr b="0" lang="uk-UA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icture 2"/>
          <p:cNvSpPr/>
          <p:nvPr/>
        </p:nvSpPr>
        <p:spPr>
          <a:xfrm>
            <a:off x="393840" y="3117960"/>
            <a:ext cx="3807000" cy="25333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icture 3"/>
          <p:cNvSpPr/>
          <p:nvPr/>
        </p:nvSpPr>
        <p:spPr>
          <a:xfrm>
            <a:off x="4483080" y="3117960"/>
            <a:ext cx="4131360" cy="253332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изкультминутка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Типы  профессий»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3840" y="3606840"/>
            <a:ext cx="8445240" cy="29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-Т – топнуть ногой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-П – руки поднять вверх, пальцы раздвинуть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-Ч – пожать друг другу руки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-Хо – похлопать в ладоши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-З – встать – сесть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icture 3"/>
          <p:cNvSpPr/>
          <p:nvPr/>
        </p:nvSpPr>
        <p:spPr>
          <a:xfrm>
            <a:off x="6039000" y="4673520"/>
            <a:ext cx="2360160" cy="1968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icture 5"/>
          <p:cNvSpPr/>
          <p:nvPr/>
        </p:nvSpPr>
        <p:spPr>
          <a:xfrm>
            <a:off x="527040" y="1606680"/>
            <a:ext cx="2607480" cy="195552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icture 6"/>
          <p:cNvSpPr/>
          <p:nvPr/>
        </p:nvSpPr>
        <p:spPr>
          <a:xfrm>
            <a:off x="4660920" y="1650960"/>
            <a:ext cx="3288960" cy="247032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5280" y="2878560"/>
            <a:ext cx="9143640" cy="121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миджмейкер –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о дизайнер личност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icture 5"/>
          <p:cNvSpPr/>
          <p:nvPr/>
        </p:nvSpPr>
        <p:spPr>
          <a:xfrm>
            <a:off x="2882880" y="184320"/>
            <a:ext cx="3220560" cy="2387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ветеринар"/>
          <p:cNvPicPr/>
          <p:nvPr/>
        </p:nvPicPr>
        <p:blipFill>
          <a:blip r:embed="rId2"/>
          <a:stretch/>
        </p:blipFill>
        <p:spPr>
          <a:xfrm rot="547200">
            <a:off x="6140520" y="268920"/>
            <a:ext cx="2895120" cy="257220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  <p:pic>
        <p:nvPicPr>
          <p:cNvPr id="235" name="Picture 11" descr="рабочий"/>
          <p:cNvPicPr/>
          <p:nvPr/>
        </p:nvPicPr>
        <p:blipFill>
          <a:blip r:embed="rId3"/>
          <a:stretch/>
        </p:blipFill>
        <p:spPr>
          <a:xfrm>
            <a:off x="304920" y="184320"/>
            <a:ext cx="2217960" cy="285192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236" name="Picture 1" descr="C:\Users\Katya\Desktop\5804705_stock-photo-businessman-making-presentation-on-flipchart.jpg"/>
          <p:cNvPicPr/>
          <p:nvPr/>
        </p:nvPicPr>
        <p:blipFill>
          <a:blip r:embed="rId4"/>
          <a:stretch/>
        </p:blipFill>
        <p:spPr>
          <a:xfrm>
            <a:off x="349200" y="4140360"/>
            <a:ext cx="2652120" cy="252756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237" name="Picture 2" descr="C:\Users\Katya\Desktop\ya_1.jpg"/>
          <p:cNvPicPr/>
          <p:nvPr/>
        </p:nvPicPr>
        <p:blipFill>
          <a:blip r:embed="rId5"/>
          <a:stretch/>
        </p:blipFill>
        <p:spPr>
          <a:xfrm>
            <a:off x="5950080" y="4273560"/>
            <a:ext cx="2889000" cy="23205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  <p:pic>
        <p:nvPicPr>
          <p:cNvPr id="238" name="Picture 3" descr="C:\Users\Katya\Desktop\Без названия.jpg"/>
          <p:cNvPicPr/>
          <p:nvPr/>
        </p:nvPicPr>
        <p:blipFill>
          <a:blip r:embed="rId6"/>
          <a:stretch/>
        </p:blipFill>
        <p:spPr>
          <a:xfrm>
            <a:off x="2971800" y="4184640"/>
            <a:ext cx="3086640" cy="236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  <Words>308</Words>
  <Paragraphs>108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Katya</cp:lastModifiedBy>
  <dcterms:modified xsi:type="dcterms:W3CDTF">2018-04-10T08:17:03Z</dcterms:modified>
  <cp:revision>73</cp:revision>
  <dc:subject/>
  <dc:title>Название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