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11.png" ContentType="image/png"/>
  <Override PartName="/ppt/media/image3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10.jpeg" ContentType="image/jpeg"/>
  <Override PartName="/ppt/media/image7.png" ContentType="image/pn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F081-DC99-4434-A792-84142A30D2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4AED-4D7B-4E9C-821F-9FF1913180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3DB8-84B2-43F1-BE32-999A1C59BB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8E7E-381F-48EF-9864-9BD581D78E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69DD-08D7-44F8-BF22-82336565B5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41A8-86F1-4F37-A129-C2C14C4328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512B-9AFB-4F57-B661-19234442D7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4759-BE7B-409F-B904-4B5C08B9D2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FBFE-3728-46FC-8882-DA81B25545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ED7-EBF6-430D-BFED-432EFB1D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35E2-91AE-41A2-9CF4-3D498407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A3A-A85B-4689-A954-3BB0C96A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4631-E324-4E8A-BC0F-01AF99E5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C047-03E0-4E32-8808-981D8083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A6D3-4133-42CE-B497-3A6DFD27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001F-8E92-414C-9EFA-4364FA37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636D-4682-481A-A5F3-ADE2F3F8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2D45-7C3B-48FD-B5B7-241C58E7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0BF4-A63A-4D37-A974-D2F42AB6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1AD2-96C4-48BB-B6D7-B3CBECFE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32D1-F35F-4009-84A9-1496A999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389E-7E77-4A25-B30E-D22875A6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244D-DF99-48DE-BDFB-B44AF9C3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F53E-C63E-41EF-9EE6-399EB592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EB7A-5F17-48B3-8654-01296F09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1A86-C720-4B54-8660-7F7F084D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4406A-CD36-4E0A-9FC8-CF27C342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1CE0B-61E6-4CE7-A2AB-23A7595F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9A6D7-6D33-4165-9DB7-8A587910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B4361-808A-4E59-9F4D-B92022B7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E6E1-28B8-4A2A-9A0D-A4B71C1D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DF0-C694-4745-8450-0AA13973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EA41C-F086-4BB2-805B-020AFEEF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17E98-B416-49F3-8B3A-79C5F06E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C9853-94F1-40DE-98B7-59F814BF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D2F09-1E09-491E-A4CB-1B316958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8DAA5-F272-495B-9629-19C26D74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2BC68-F73E-473E-8FDB-E21D55CD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6BD31-53AC-4FB0-88F9-9C8DF3C6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8925-B9A7-4773-9BE1-7D355FBE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5F4B-5F03-4CB6-9BAF-D9C61FD8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2D55-616A-4748-B5CC-1E1B4520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4F7F-2BE8-41F7-86A9-DD8B5867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738-1B15-4F7C-A7AD-1A638D06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2135-BFCA-4C36-88DD-8AF216FA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00E2-0767-4F4B-B14B-BD9EEF3A189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7F93-BF9D-4EDC-86D5-30597CF69D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7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4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6915-D052-4F88-8991-AD01D921FFC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4.gif"/><Relationship Id="rId7" Type="http://schemas.openxmlformats.org/officeDocument/2006/relationships/image" Target="../media/image7.png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554508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Arial"/>
              </a:rPr>
              <a:t>Классный  час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5" name="Picture 5" descr="49r1"/>
          <p:cNvPicPr/>
          <p:nvPr/>
        </p:nvPicPr>
        <p:blipFill>
          <a:blip r:embed="rId1"/>
          <a:stretch/>
        </p:blipFill>
        <p:spPr>
          <a:xfrm>
            <a:off x="4211640" y="1557360"/>
            <a:ext cx="4524480" cy="424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56r4"/>
          <p:cNvPicPr/>
          <p:nvPr/>
        </p:nvPicPr>
        <p:blipFill>
          <a:blip r:embed="rId2"/>
          <a:stretch/>
        </p:blipFill>
        <p:spPr>
          <a:xfrm>
            <a:off x="4211640" y="3716280"/>
            <a:ext cx="2087640" cy="2033640"/>
          </a:xfrm>
          <a:prstGeom prst="rect">
            <a:avLst/>
          </a:prstGeom>
          <a:ln w="0">
            <a:noFill/>
          </a:ln>
        </p:spPr>
      </p:pic>
      <p:sp>
        <p:nvSpPr>
          <p:cNvPr id="207" name="WordArt 7"/>
          <p:cNvSpPr txBox="1"/>
          <p:nvPr/>
        </p:nvSpPr>
        <p:spPr>
          <a:xfrm>
            <a:off x="611280" y="2565360"/>
            <a:ext cx="3384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емля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WordArt 8"/>
          <p:cNvSpPr txBox="1"/>
          <p:nvPr/>
        </p:nvSpPr>
        <p:spPr>
          <a:xfrm>
            <a:off x="1692360" y="4724280"/>
            <a:ext cx="1079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-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WordArt 9"/>
          <p:cNvSpPr txBox="1"/>
          <p:nvPr/>
        </p:nvSpPr>
        <p:spPr>
          <a:xfrm>
            <a:off x="468360" y="5661000"/>
            <a:ext cx="21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WordArt 10"/>
          <p:cNvSpPr txBox="1"/>
          <p:nvPr/>
        </p:nvSpPr>
        <p:spPr>
          <a:xfrm>
            <a:off x="3059280" y="5589720"/>
            <a:ext cx="5688000" cy="94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бщий   дом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"/>
          <p:cNvSpPr/>
          <p:nvPr/>
        </p:nvSpPr>
        <p:spPr>
          <a:xfrm>
            <a:off x="3564000" y="260280"/>
            <a:ext cx="2160360" cy="1008000"/>
          </a:xfrm>
          <a:prstGeom prst="cloudCallout">
            <a:avLst>
              <a:gd name="adj1" fmla="val -23620"/>
              <a:gd name="adj2" fmla="val -259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6227640" y="333360"/>
            <a:ext cx="2592360" cy="1295280"/>
          </a:xfrm>
          <a:prstGeom prst="cloudCallout">
            <a:avLst>
              <a:gd name="adj1" fmla="val -44671"/>
              <a:gd name="adj2" fmla="val 355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Picture 6" descr="004_146"/>
          <p:cNvPicPr/>
          <p:nvPr/>
        </p:nvPicPr>
        <p:blipFill>
          <a:blip r:embed="rId1"/>
          <a:srcRect l="0" t="76894" r="-209" b="0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6f7d849564189ad3d9e690cdc244ebf5"/>
          <p:cNvPicPr/>
          <p:nvPr/>
        </p:nvPicPr>
        <p:blipFill>
          <a:blip r:embed="rId2"/>
          <a:stretch/>
        </p:blipFill>
        <p:spPr>
          <a:xfrm flipH="1">
            <a:off x="7343280" y="5191200"/>
            <a:ext cx="1800360" cy="1666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flowers32"/>
          <p:cNvPicPr/>
          <p:nvPr/>
        </p:nvPicPr>
        <p:blipFill>
          <a:blip r:embed="rId3"/>
          <a:stretch/>
        </p:blipFill>
        <p:spPr>
          <a:xfrm>
            <a:off x="3851280" y="4986360"/>
            <a:ext cx="1800360" cy="1871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flowers32"/>
          <p:cNvPicPr/>
          <p:nvPr/>
        </p:nvPicPr>
        <p:blipFill>
          <a:blip r:embed="rId4"/>
          <a:stretch/>
        </p:blipFill>
        <p:spPr>
          <a:xfrm>
            <a:off x="6300720" y="3933720"/>
            <a:ext cx="1452600" cy="1511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C:\Program Files\Microsoft Office\Media\CntCD1\Animated\j0189253.gif"/>
          <p:cNvPicPr/>
          <p:nvPr/>
        </p:nvPicPr>
        <p:blipFill>
          <a:blip r:embed="rId5"/>
          <a:stretch/>
        </p:blipFill>
        <p:spPr>
          <a:xfrm flipH="1">
            <a:off x="1331640" y="1916280"/>
            <a:ext cx="1439640" cy="3025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6f7d849564189ad3d9e690cdc244ebf5"/>
          <p:cNvPicPr/>
          <p:nvPr/>
        </p:nvPicPr>
        <p:blipFill>
          <a:blip r:embed="rId6"/>
          <a:stretch/>
        </p:blipFill>
        <p:spPr>
          <a:xfrm>
            <a:off x="2340000" y="3573360"/>
            <a:ext cx="2016000" cy="1666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43009025_121258759033345"/>
          <p:cNvPicPr/>
          <p:nvPr/>
        </p:nvPicPr>
        <p:blipFill>
          <a:blip r:embed="rId7"/>
          <a:srcRect l="0" t="0" r="3238" b="5342"/>
          <a:stretch/>
        </p:blipFill>
        <p:spPr>
          <a:xfrm>
            <a:off x="179280" y="0"/>
            <a:ext cx="3097440" cy="2478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flowers32"/>
          <p:cNvPicPr/>
          <p:nvPr/>
        </p:nvPicPr>
        <p:blipFill>
          <a:blip r:embed="rId8"/>
          <a:stretch/>
        </p:blipFill>
        <p:spPr>
          <a:xfrm>
            <a:off x="457200" y="3860640"/>
            <a:ext cx="1378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Экологические проблемы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76360" y="2349000"/>
            <a:ext cx="6913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SzPct val="6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загрязнение воды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SzPct val="6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уничтожение лесов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6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загрязнение воздух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ecff"/>
                </a:solidFill>
                <a:latin typeface="Arial"/>
              </a:rPr>
              <a:t>ЭКОЛОГИЯ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826920" y="3141720"/>
            <a:ext cx="273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Verdana"/>
              </a:rPr>
              <a:t>«ОЙКОС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5940360" y="3141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Verdana"/>
              </a:rPr>
              <a:t>«ЛОГОС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971640" y="4437000"/>
            <a:ext cx="26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Verdana"/>
              </a:rPr>
              <a:t>ДОМ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5076720" y="4508640"/>
            <a:ext cx="388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Verdana"/>
              </a:rPr>
              <a:t>УЧЕНИЕ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Line 10"/>
          <p:cNvSpPr/>
          <p:nvPr/>
        </p:nvSpPr>
        <p:spPr>
          <a:xfrm flipH="1">
            <a:off x="2123640" y="1413000"/>
            <a:ext cx="2303640" cy="172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4572000" y="1413000"/>
            <a:ext cx="2521080" cy="172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2124000" y="3716280"/>
            <a:ext cx="0" cy="865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13"/>
          <p:cNvSpPr/>
          <p:nvPr/>
        </p:nvSpPr>
        <p:spPr>
          <a:xfrm>
            <a:off x="7093080" y="3716280"/>
            <a:ext cx="0" cy="865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3132000" y="4941720"/>
            <a:ext cx="19447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6" descr="56r4"/>
          <p:cNvPicPr/>
          <p:nvPr/>
        </p:nvPicPr>
        <p:blipFill>
          <a:blip r:embed="rId1"/>
          <a:stretch/>
        </p:blipFill>
        <p:spPr>
          <a:xfrm>
            <a:off x="3203640" y="2637000"/>
            <a:ext cx="2592360" cy="2527200"/>
          </a:xfrm>
          <a:prstGeom prst="rect">
            <a:avLst/>
          </a:prstGeom>
          <a:ln w="0">
            <a:noFill/>
          </a:ln>
        </p:spPr>
      </p:pic>
      <p:sp>
        <p:nvSpPr>
          <p:cNvPr id="234" name="WordArt 12"/>
          <p:cNvSpPr txBox="1"/>
          <p:nvPr/>
        </p:nvSpPr>
        <p:spPr>
          <a:xfrm>
            <a:off x="611280" y="3429000"/>
            <a:ext cx="8137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22 апреля - День Земли</a:t>
            </a:r>
            <a:endParaRPr b="1" lang="en-US" sz="6000" spc="1" strike="noStrike">
              <a:ln w="9360">
                <a:solidFill>
                  <a:srgbClr val="ff00ff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250920" y="3333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Verdana"/>
              </a:rPr>
              <a:t>22 марта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250920" y="1268280"/>
            <a:ext cx="8785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179280" y="1700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Verdana"/>
              </a:rPr>
              <a:t>1 апреля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WordArt 17"/>
          <p:cNvSpPr txBox="1"/>
          <p:nvPr/>
        </p:nvSpPr>
        <p:spPr>
          <a:xfrm>
            <a:off x="3057480" y="1916280"/>
            <a:ext cx="60865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Международный день </a:t>
            </a:r>
            <a:endParaRPr b="0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тиц</a:t>
            </a:r>
            <a:endParaRPr b="0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468360" y="508464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Verdana"/>
              </a:rPr>
              <a:t>5 июн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WordArt 19"/>
          <p:cNvSpPr txBox="1"/>
          <p:nvPr/>
        </p:nvSpPr>
        <p:spPr>
          <a:xfrm>
            <a:off x="2843280" y="5300640"/>
            <a:ext cx="5689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Всемирный день </a:t>
            </a:r>
            <a:endParaRPr b="0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ружающей среды</a:t>
            </a:r>
            <a:endParaRPr b="0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1" name="WordArt 20"/>
          <p:cNvSpPr txBox="1"/>
          <p:nvPr/>
        </p:nvSpPr>
        <p:spPr>
          <a:xfrm>
            <a:off x="3348000" y="476280"/>
            <a:ext cx="504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Всемирный день</a:t>
            </a:r>
            <a:endParaRPr b="0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ды</a:t>
            </a:r>
            <a:endParaRPr b="0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8"/>
          <p:cNvSpPr/>
          <p:nvPr/>
        </p:nvSpPr>
        <p:spPr>
          <a:xfrm>
            <a:off x="1258920" y="333360"/>
            <a:ext cx="8785080" cy="72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чего на свете лучше нету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ем спасти от гибели планету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удет лес любимый свеж и зелен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ту радость мы с тобой разделим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усть вода в реке всегда струится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усть всегда поют над нами птиц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природе сами мы поможе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ту радость мы с тобой умножим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реги ты всё живое рядо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на всё смотри хозяйским взглядом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нают даже маленькие дети 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лжен быть порядок на планете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3" name="Приложение 1" descr=""/>
          <p:cNvPicPr/>
          <p:nvPr/>
        </p:nvPicPr>
        <p:blipFill>
          <a:blip r:embed="rId1"/>
          <a:stretch/>
        </p:blipFill>
        <p:spPr>
          <a:xfrm>
            <a:off x="324000" y="58053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98377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0"/>
          <p:cNvSpPr/>
          <p:nvPr/>
        </p:nvSpPr>
        <p:spPr>
          <a:xfrm>
            <a:off x="971640" y="1557360"/>
            <a:ext cx="770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Возьмёмся за руки, друзья,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 жизнью будем дорожить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од знаком безопасност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олжна планета жить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Line 25"/>
          <p:cNvSpPr/>
          <p:nvPr/>
        </p:nvSpPr>
        <p:spPr>
          <a:xfrm>
            <a:off x="826920" y="1413000"/>
            <a:ext cx="0" cy="3960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Line 26"/>
          <p:cNvSpPr/>
          <p:nvPr/>
        </p:nvSpPr>
        <p:spPr>
          <a:xfrm>
            <a:off x="826920" y="5373720"/>
            <a:ext cx="74901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Line 27"/>
          <p:cNvSpPr/>
          <p:nvPr/>
        </p:nvSpPr>
        <p:spPr>
          <a:xfrm>
            <a:off x="900000" y="1413000"/>
            <a:ext cx="76327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Line 28"/>
          <p:cNvSpPr/>
          <p:nvPr/>
        </p:nvSpPr>
        <p:spPr>
          <a:xfrm>
            <a:off x="8532720" y="1413000"/>
            <a:ext cx="0" cy="3744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5" descr="colombe_blanche01"/>
          <p:cNvPicPr/>
          <p:nvPr/>
        </p:nvPicPr>
        <p:blipFill>
          <a:blip r:embed="rId1"/>
          <a:stretch/>
        </p:blipFill>
        <p:spPr>
          <a:xfrm>
            <a:off x="0" y="0"/>
            <a:ext cx="1717560" cy="1800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" descr="colombe_blanche01"/>
          <p:cNvPicPr/>
          <p:nvPr/>
        </p:nvPicPr>
        <p:blipFill>
          <a:blip r:embed="rId2"/>
          <a:stretch/>
        </p:blipFill>
        <p:spPr>
          <a:xfrm flipH="1">
            <a:off x="6811560" y="4437000"/>
            <a:ext cx="2189160" cy="2232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3" descr="0_6414_929dfa15_XL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8"/>
          <p:cNvSpPr/>
          <p:nvPr/>
        </p:nvSpPr>
        <p:spPr>
          <a:xfrm>
            <a:off x="0" y="333360"/>
            <a:ext cx="88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«Я сорвал цветок -  и он завял, я поймал жука – и он умер у меня на ладони. Я посадил птицу в клетку – и она погибла в неволе. И тогда я понял, что прикоснуться к красоте можно только сердцем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"/>
          <p:cNvPicPr/>
          <p:nvPr/>
        </p:nvPicPr>
        <p:blipFill>
          <a:blip r:embed="rId1"/>
          <a:srcRect l="0" t="0" r="1639" b="0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WordArt 5"/>
          <p:cNvSpPr txBox="1"/>
          <p:nvPr/>
        </p:nvSpPr>
        <p:spPr>
          <a:xfrm>
            <a:off x="2050920" y="2060640"/>
            <a:ext cx="6697800" cy="18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сибо за встречу!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48:40Z</dcterms:created>
  <dc:creator>Л.И. Цехместер</dc:creator>
  <dc:description/>
  <dc:language>en-US</dc:language>
  <cp:lastModifiedBy>Teacher</cp:lastModifiedBy>
  <dcterms:modified xsi:type="dcterms:W3CDTF">2016-12-26T11:31:45Z</dcterms:modified>
  <cp:revision>33</cp:revision>
  <dc:subject/>
  <dc:title>Земля - наш общий дом</dc:title>
</cp:coreProperties>
</file>