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165-AEE5-4356-940C-8B107A3B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6BF-2339-4BD3-8D6F-FD4D086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EAB-28DF-419E-A11D-648EBD08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EAD-1480-4204-A5CF-F3129421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CCF5-1E39-41B3-82D2-A64FA09D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0F56-744B-4639-88E6-06DF8A1D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0D1-6835-4FC2-8FDD-3A82A98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EC7-937B-4814-A174-D6A67B35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AA5-C0D2-4BE2-A521-284363A9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88AF-22C7-459C-B090-E1F23659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4421-A135-42AC-9EA8-24B844E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5F1-8DA1-4C0A-B7F6-44A1DF2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F529-6B10-4DF9-BF00-78203A85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4CD5-BBE1-4221-88DB-07175AC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A13-F177-4B1F-8995-DF5C702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29C-1BCF-4DFC-BFA5-16500F8D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3CB3-6780-4689-8B24-3A3DF021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AA76-B629-480D-8BBC-4666E5A9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98F3-95C1-4050-B322-87A2395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BD51-5A63-42E1-8F24-3EDAFA9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C6BB-5F80-4C3C-B038-5325A69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6139-4F57-4A2F-A8FC-65211CB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57E-AC79-473A-AFF4-6EB538D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F95D-BE5E-4B44-B30A-189000D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39E3-F41D-4D7E-92A3-6E89F8C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C09F-F127-48AA-9FCF-ECFB91A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7995-B873-42EE-A349-4BB8EE0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E397-1CD1-4BDC-A91E-EDCE4F35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3D79-D0B7-4920-81CA-59C53A06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14C5-C461-4007-98BD-D32ED1B7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AB58-519A-4EC2-B822-E74116D3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0702-EC04-4885-9C83-C5BF4F4F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E14A-1D30-4A95-BA5C-1C9CA2B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124-573F-405E-9765-C2F8BD4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7FD4-A433-4ABC-8A68-72B656CA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E2CE-1FAB-4654-89FD-319B0F3D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C5A5-B3F9-4EC3-8DEE-9B288E8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4D5A-8B08-43CE-9A84-AD841B64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978E-CF46-4BAB-B8EE-F3101D6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FE74-8CE3-406F-B28F-96A939A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8B0F-01B3-4DF5-9632-4BAE3E9E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AEC3-75FE-47E8-A6EF-1A7DE823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FCB1-63C4-46BC-A796-922BA65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BF328-AA90-4C56-8580-A4761115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743-10B5-4166-8BBA-0DF8107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BB46-A83B-4464-B302-64B2F11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95C7-2EFA-495F-8D5A-F613D20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088C-35FB-493F-B44E-996A0AF5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120B-E0F0-4842-9F0C-F69F4FE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72B3-D696-4FDC-8F72-D6445264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DC7F-B141-4FE6-B242-436F850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E6C0-B82D-4C28-BA50-A1A9396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5397-C863-475A-8C9C-93ED1FC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BB93-7E08-4AF3-994D-D0BCAAA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E380-3CE1-460F-9AB3-C94F71E2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CF4-F397-49CF-B485-B7B69D47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6A0B-D908-458D-BE54-3EDC20DD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3647-8A11-43D7-A5DA-2C564E0D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BC0E-B4BB-4D37-8600-6674F68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6A1C-CDB0-44ED-B0AF-86D7244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CC4B-6709-45E9-9162-A2A96F6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386A-D013-4D45-88E9-AB7C508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1FCF-9F91-48EF-BE0E-983D45E9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1F0A-A9E3-4DDB-B3FA-3990C03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31A4-A44B-407B-B48E-16816F5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99C2-A6D9-4FDB-82D8-845431B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3D5-C3B2-449A-B3D5-1223BA4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9E5E-B559-4ADD-9445-826B2E2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C522-4971-4DC2-B0E4-293A7C46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27B2-007B-4CAE-B11F-70EE2ED2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B33CE-A50D-4884-AEB5-DF0BD5DC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2B06-C421-410F-A01D-AD9E99D3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32243-EB95-4272-98E1-DFD8AF9F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6795B-8E2D-4F40-9B63-2E508FF7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3CECB-F09F-437B-A3B0-0CCEB55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A320-23DE-4870-862E-83451D9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6330-FB7D-4CF2-AFB7-94D40C1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4A8-AC54-4AF2-AD92-52D33AB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76F6-5D4A-4944-8452-BA91EF3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599E-9B6C-423E-A5C6-F9E4518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1D41-046B-47FF-9AF7-DA785B3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D34B-2914-4441-A6AB-25150FC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6648-6E1D-425A-8EEF-EC8DD6A5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4355-5DB9-46D9-85B5-C83C76A2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C5EC-046E-4E5E-99DB-90B06832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57574-0CE2-41D8-83AB-C8D1A6B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2800-EC71-49F7-A7DB-87EEFAF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4E92-6F07-4B42-99DB-02E925F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AB7-3266-408C-8D8B-B9A2EEAB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B520F-1D6C-46B4-93D7-C63F371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1D0D-98DD-4197-92DD-E8A8EF1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ED28-E1EB-486A-B8DC-93D8B80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D791-208C-4267-B622-15EC7BA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7FBC-C80E-416B-AC20-7A018E3A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EEAD-E571-4899-8388-78B4833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0D70-347B-4816-9A41-CAE41BF6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FA5F-BAC2-4F7C-9EB0-CC58275293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F21-E4DF-49D8-992F-4C71BD832B0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C42A-A113-4251-98B7-63D247649E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275-A040-49D5-A6FD-CB64DA2298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2A3-4B59-4BBF-9BE9-F932E8556E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E87-514D-4F55-A90C-2DC3382FA3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991-3CF3-4B9E-A951-227487331C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5B0E-0CF5-4B54-A958-F97A609430A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images.yandex.ru/yandsearch?rpt=simage&amp;ed=1&amp;text=&#1089;&#1084;&#1072;&#1081;&#1083;&#1080;&#1082;&#1080;%20&#1087;&#1083;&#1072;&#1095;&#1077;&#1090;&amp;p=6&amp;img_url=pelagiaa.files.wordpress.com/2010/03/crying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-360" y="1484280"/>
            <a:ext cx="889308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109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Lucida Sans Unicode"/>
              </a:rPr>
              <a:t>Умен ты или глуп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Lucida Sans Unicode"/>
              </a:rPr>
              <a:t>Велик ты или мал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Lucida Sans Unicode"/>
              </a:rPr>
              <a:t>Не знаем мы, по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Lucida Sans Unicode"/>
              </a:rPr>
              <a:t>Ты слово не сказал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                                                        </a:t>
            </a:r>
            <a:r>
              <a:rPr b="1" i="1" lang="en-US" sz="1200" spc="-1" strike="noStrike">
                <a:solidFill>
                  <a:srgbClr val="ff0000"/>
                </a:solidFill>
                <a:latin typeface="Lucida Sans Unicode"/>
              </a:rPr>
              <a:t>Персидский поэт и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Lucida Sans Unicode"/>
              </a:rPr>
              <a:t>                                    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ff0000"/>
                </a:solidFill>
                <a:latin typeface="Lucida Sans Unicode"/>
              </a:rPr>
              <a:t>мыслитель XIII в. Саади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171360" y="122400"/>
            <a:ext cx="8869320" cy="1341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319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90600" y="1189080"/>
            <a:ext cx="8076960" cy="2176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371600" y="667512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5" name="Picture 2" descr="http://im7-tub.yandex.ru/i?id=154821381-60-72"/>
          <p:cNvPicPr/>
          <p:nvPr/>
        </p:nvPicPr>
        <p:blipFill>
          <a:blip r:embed="rId2"/>
          <a:stretch/>
        </p:blipFill>
        <p:spPr>
          <a:xfrm>
            <a:off x="5867280" y="1125360"/>
            <a:ext cx="3492720" cy="3598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ttp://im8-tub-ru.yandex.net/i?id=204400073-62-72"/>
          <p:cNvPicPr/>
          <p:nvPr/>
        </p:nvPicPr>
        <p:blipFill>
          <a:blip r:embed="rId3"/>
          <a:stretch/>
        </p:blipFill>
        <p:spPr>
          <a:xfrm>
            <a:off x="-324000" y="3689280"/>
            <a:ext cx="4104000" cy="31687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7"/>
          <p:cNvSpPr/>
          <p:nvPr/>
        </p:nvSpPr>
        <p:spPr>
          <a:xfrm>
            <a:off x="395280" y="26028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Слова, выражающие отношение к предметам, признакам, действиям называются эмоционально окрашенным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8" descr="http://im8-tub-ru.yandex.net/i?id=34958711-44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1989000"/>
            <a:ext cx="2209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6320" y="-191880"/>
            <a:ext cx="87980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048280" y="1322280"/>
            <a:ext cx="4103640" cy="41227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0"/>
          <p:cNvSpPr/>
          <p:nvPr/>
        </p:nvSpPr>
        <p:spPr>
          <a:xfrm rot="1109400">
            <a:off x="3765960" y="106992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Спокойный, добрый, отличный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http://im2-tub-ru.yandex.net/i?id=290424315-60-72"/>
          <p:cNvPicPr/>
          <p:nvPr/>
        </p:nvPicPr>
        <p:blipFill>
          <a:blip r:embed="rId2"/>
          <a:stretch/>
        </p:blipFill>
        <p:spPr>
          <a:xfrm>
            <a:off x="1400040" y="3541680"/>
            <a:ext cx="3024360" cy="3095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12"/>
          <p:cNvSpPr/>
          <p:nvPr/>
        </p:nvSpPr>
        <p:spPr>
          <a:xfrm flipV="1" rot="10168200">
            <a:off x="572400" y="2867040"/>
            <a:ext cx="49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Счастливый, веселый, любимец взрослых и детей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лок-схема: память с посл. доступом 15"/>
          <p:cNvSpPr/>
          <p:nvPr/>
        </p:nvSpPr>
        <p:spPr>
          <a:xfrm>
            <a:off x="0" y="0"/>
            <a:ext cx="3059280" cy="2521080"/>
          </a:xfrm>
          <a:prstGeom prst="flowChartMagneticTape">
            <a:avLst/>
          </a:prstGeom>
          <a:solidFill>
            <a:srgbClr val="92d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0" y="333360"/>
            <a:ext cx="2987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Слова, которы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характеризуют предмет, явление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с положительной или с     отрицательной    ст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2354D762.mp3" descr=""/>
          <p:cNvPicPr/>
          <p:nvPr/>
        </p:nvPicPr>
        <p:blipFill>
          <a:blip r:embed="rId3"/>
          <a:stretch/>
        </p:blipFill>
        <p:spPr>
          <a:xfrm>
            <a:off x="4643280" y="3843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87" name="Cpokojstvie.mp3" descr=""/>
          <p:cNvPicPr/>
          <p:nvPr/>
        </p:nvPicPr>
        <p:blipFill>
          <a:blip r:embed="rId4"/>
          <a:stretch/>
        </p:blipFill>
        <p:spPr>
          <a:xfrm>
            <a:off x="8459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99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09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http://im5-tub-ru.yandex.net/i?id=7380339-46-72"/>
          <p:cNvPicPr/>
          <p:nvPr/>
        </p:nvPicPr>
        <p:blipFill>
          <a:blip r:embed="rId1"/>
          <a:stretch/>
        </p:blipFill>
        <p:spPr>
          <a:xfrm rot="21130200">
            <a:off x="137880" y="263160"/>
            <a:ext cx="4222800" cy="4970520"/>
          </a:xfrm>
          <a:prstGeom prst="rect">
            <a:avLst/>
          </a:prstGeom>
          <a:ln w="0">
            <a:noFill/>
          </a:ln>
        </p:spPr>
      </p:pic>
      <p:pic>
        <p:nvPicPr>
          <p:cNvPr id="390" name="9129B2BF.mp3" descr=""/>
          <p:cNvPicPr/>
          <p:nvPr/>
        </p:nvPicPr>
        <p:blipFill>
          <a:blip r:embed="rId2"/>
          <a:stretch/>
        </p:blipFill>
        <p:spPr>
          <a:xfrm>
            <a:off x="111600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3"/>
          <a:stretch/>
        </p:blipFill>
        <p:spPr>
          <a:xfrm rot="602400">
            <a:off x="4173120" y="1179000"/>
            <a:ext cx="4576680" cy="4768920"/>
          </a:xfrm>
          <a:prstGeom prst="rect">
            <a:avLst/>
          </a:prstGeom>
          <a:ln w="0">
            <a:noFill/>
          </a:ln>
        </p:spPr>
      </p:pic>
      <p:pic>
        <p:nvPicPr>
          <p:cNvPr id="392" name="287B0130.mp3" descr=""/>
          <p:cNvPicPr/>
          <p:nvPr/>
        </p:nvPicPr>
        <p:blipFill>
          <a:blip r:embed="rId4"/>
          <a:stretch/>
        </p:blipFill>
        <p:spPr>
          <a:xfrm>
            <a:off x="7740720" y="141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88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6389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95200" y="3390480"/>
            <a:ext cx="5611680" cy="3467520"/>
          </a:xfrm>
          <a:prstGeom prst="rect">
            <a:avLst/>
          </a:prstGeom>
          <a:solidFill>
            <a:srgbClr val="def5fa"/>
          </a:solidFill>
          <a:ln w="55080">
            <a:solidFill>
              <a:srgbClr val="1e768c"/>
            </a:solidFill>
            <a:miter/>
          </a:ln>
        </p:spPr>
        <p:txBody>
          <a:bodyPr anchor="ctr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особыми суффиксами и приставками эмоциональной оценк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Нога –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Крыло –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Добрый –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5766"/>
                </a:solidFill>
                <a:latin typeface="Lucida Sans Unicode"/>
              </a:rPr>
              <a:t>Слон 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Блок-схема: память с посл. доступом 3"/>
          <p:cNvSpPr/>
          <p:nvPr/>
        </p:nvSpPr>
        <p:spPr>
          <a:xfrm>
            <a:off x="-181080" y="0"/>
            <a:ext cx="4321440" cy="3068640"/>
          </a:xfrm>
          <a:prstGeom prst="flowChartMagneticTape">
            <a:avLst/>
          </a:prstGeom>
          <a:solidFill>
            <a:srgbClr val="ffff66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a1f28"/>
                </a:solidFill>
                <a:latin typeface="Lucida Sans Unicode"/>
              </a:rPr>
              <a:t>  </a:t>
            </a:r>
            <a:r>
              <a:rPr b="1" i="1" lang="en-US" sz="3200" spc="-1" strike="noStrike">
                <a:solidFill>
                  <a:srgbClr val="da1f28"/>
                </a:solidFill>
                <a:latin typeface="Lucida Sans Unicode"/>
              </a:rPr>
              <a:t>2 </a:t>
            </a:r>
            <a:r>
              <a:rPr b="1" i="1" lang="en-US" sz="2400" spc="-1" strike="noStrike">
                <a:solidFill>
                  <a:srgbClr val="a3171e"/>
                </a:solidFill>
                <a:latin typeface="Lucida Sans Unicode"/>
              </a:rPr>
              <a:t>Слова, в которых эмоциональное отношение к предмету или явлению   выражается             грамматичес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 rot="20754600">
            <a:off x="5001840" y="371160"/>
            <a:ext cx="1739880" cy="1968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 rot="646800">
            <a:off x="6751440" y="2338560"/>
            <a:ext cx="1596960" cy="189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6750000" y="4641840"/>
            <a:ext cx="1579680" cy="1695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4"/>
          <a:stretch/>
        </p:blipFill>
        <p:spPr>
          <a:xfrm rot="1718400">
            <a:off x="7494480" y="2635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AF089A55.MP3" descr=""/>
          <p:cNvPicPr/>
          <p:nvPr/>
        </p:nvPicPr>
        <p:blipFill>
          <a:blip r:embed="rId5"/>
          <a:stretch/>
        </p:blipFill>
        <p:spPr>
          <a:xfrm>
            <a:off x="8501040" y="4336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02239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44440" y="-73080"/>
            <a:ext cx="8240760" cy="914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Из корзиночк… показалась мордочка с черненьким носиком, любопытными гл..зенками и стоячими ушками. Это был барсуч…н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Мордочка у зверька была очень забавная. От носа к ушам т…нулись широкие черные полосы. Барсуч…нок выбрался из корзинки на диван. Какой же он был занятный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79280" y="4292640"/>
          <a:ext cx="8785440" cy="222552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Lucida Sans Unicode"/>
                          <a:ea typeface="Arial"/>
                        </a:rPr>
                        <a:t>Слова с суффиксами эмоциональной окрас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9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Lucida Sans Unicode"/>
                          <a:ea typeface="Arial"/>
                        </a:rPr>
                        <a:t>Эмоционально окрашенные слова, которые выражают отношение к  предмет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5e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-262080" y="-92160"/>
            <a:ext cx="9704520" cy="1519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tretch/>
        </p:blipFill>
        <p:spPr>
          <a:xfrm>
            <a:off x="324000" y="145728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- Какие слова называются эмоционально окрашенными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- Чем они отличаются от нейтральных слов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- На какие 2 группы делятся эмоционально окрашенные слова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4:18:12Z</dcterms:created>
  <dc:creator>User</dc:creator>
  <dc:description/>
  <dc:language>en-US</dc:language>
  <cp:lastModifiedBy>Vlad</cp:lastModifiedBy>
  <dcterms:modified xsi:type="dcterms:W3CDTF">2012-03-28T23:38:11Z</dcterms:modified>
  <cp:revision>73</cp:revision>
  <dc:subject/>
  <dc:title>Слайд 1</dc:title>
</cp:coreProperties>
</file>