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4.jpeg" ContentType="image/jpeg"/>
  <Override PartName="/ppt/media/image53.png" ContentType="image/png"/>
  <Override PartName="/ppt/media/image58.jpeg" ContentType="image/jpeg"/>
  <Override PartName="/ppt/media/image49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36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19.jpeg" ContentType="image/jpeg"/>
  <Override PartName="/ppt/media/image4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2D51-97E6-47A6-8222-4DC01EEC5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817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eb80a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1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5360"/>
            <a:ext cx="8681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B53E-3A64-41B0-A5AC-08CE9A179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817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eb80a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64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3440" y="1553760"/>
            <a:ext cx="42364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5360"/>
            <a:ext cx="42364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3440" y="3915360"/>
            <a:ext cx="42364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0A5E-661A-4B1E-B02E-D441E0AC0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817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eb80a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54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4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6160" y="1553760"/>
            <a:ext cx="27954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5360"/>
            <a:ext cx="27954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0360" y="3915360"/>
            <a:ext cx="27954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6160" y="3915360"/>
            <a:ext cx="27954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6CB6-F88B-4860-85AF-23AD4E74A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DF953-EB62-468D-BB98-919E6E38B9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817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eb80a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176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94053-109F-4F8B-8976-ED5426DA0A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817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eb80a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17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5E092-682F-4E0A-9C6E-49D45C67F0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817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eb80a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64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3440" y="1553760"/>
            <a:ext cx="42364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F8A48-9748-4824-9245-6A56A5FD20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817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eb80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39249-DA2B-4C28-A476-1AAE1F7E97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277560"/>
            <a:ext cx="86817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77622-B392-4B88-8CBF-BDD0981C3B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817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eb80a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64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3440" y="1553760"/>
            <a:ext cx="42364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15360"/>
            <a:ext cx="42364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84840-3FFA-417F-B8F5-C91CA7634C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817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eb80a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176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2171-1B9C-48CC-A4EA-BD210788A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817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eb80a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64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3440" y="1553760"/>
            <a:ext cx="42364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3440" y="3915360"/>
            <a:ext cx="42364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20230-5211-43A1-8DAD-99E40D5D04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817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eb80a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64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3440" y="1553760"/>
            <a:ext cx="42364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15360"/>
            <a:ext cx="8681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A39AE-F40E-4C14-B80C-27D6B5347D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817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eb80a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1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15360"/>
            <a:ext cx="8681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8DC39-2267-4AE2-A1C6-35BE89D156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817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eb80a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64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3440" y="1553760"/>
            <a:ext cx="42364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5360"/>
            <a:ext cx="42364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3440" y="3915360"/>
            <a:ext cx="42364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896F3-8AA7-4E71-8E90-F63FF6CB15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817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eb80a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54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4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6160" y="1553760"/>
            <a:ext cx="27954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15360"/>
            <a:ext cx="27954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0360" y="3915360"/>
            <a:ext cx="27954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6160" y="3915360"/>
            <a:ext cx="27954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1B122-5AE6-4265-81FC-770503B778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817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eb80a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17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DDD3-E0F8-4CA0-897F-1A3497F13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817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eb80a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64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3440" y="1553760"/>
            <a:ext cx="42364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26F4-CBEC-46BC-9BD1-9B7E5A1D5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817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eb80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1329-654C-400D-B292-D9CDCBC16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277560"/>
            <a:ext cx="86817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CC19-0459-49DB-8655-CF1DA78584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817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eb80a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64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3440" y="1553760"/>
            <a:ext cx="42364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5360"/>
            <a:ext cx="42364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655C-E28E-402F-A9C3-A17955850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817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eb80a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64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3440" y="1553760"/>
            <a:ext cx="42364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3440" y="3915360"/>
            <a:ext cx="42364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682C-8606-43F6-89C4-8BE323BDE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817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eb80a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64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3440" y="1553760"/>
            <a:ext cx="42364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5360"/>
            <a:ext cx="8681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FC8F-C99D-4878-A34E-2F5776448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506520" y="3432240"/>
            <a:ext cx="8640720" cy="20520"/>
            <a:chOff x="506520" y="3432240"/>
            <a:chExt cx="8640720" cy="2052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080" y="3442320"/>
              <a:ext cx="10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17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eb80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eb80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eb80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eb80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eb80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eb80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eb80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817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eb80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eb80a"/>
              </a:solidFill>
              <a:latin typeface="Franklin Gothic Medium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477120" y="76320"/>
            <a:ext cx="25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229240" y="6477120"/>
            <a:ext cx="757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BC951-E287-4306-9098-9F0AD3D30E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17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eb80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eb80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eb80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eb80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eb80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eb80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eb80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eb80a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817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eb80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eb80a"/>
              </a:solidFill>
              <a:latin typeface="Franklin Gothic Medium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6477120" y="76320"/>
            <a:ext cx="2511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229240" y="647676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307f9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79086DF-051C-4130-943A-931FFEE153D0}" type="slidenum">
              <a:rPr b="0" lang="en-US" sz="1200" spc="-1" strike="noStrike">
                <a:solidFill>
                  <a:srgbClr val="307f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285840" y="0"/>
            <a:ext cx="84582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191966"/>
                </a:solidFill>
                <a:latin typeface="Times New Roman"/>
              </a:rPr>
              <a:t>Департамент образования города Моск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191966"/>
                </a:solidFill>
                <a:latin typeface="Times New Roman"/>
              </a:rPr>
              <a:t>Юго-Восточное окружное управление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191966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191966"/>
                </a:solidFill>
                <a:latin typeface="Times New Roman"/>
              </a:rPr>
              <a:t>Средняя общеобразовательная школа №4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285840" y="1500120"/>
            <a:ext cx="86072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Book Antiqua"/>
                <a:ea typeface="DejaVu Sans"/>
              </a:rPr>
              <a:t>Мини энциклопед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Book Antiqua"/>
                <a:ea typeface="DejaVu Sans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Book Antiqua"/>
                <a:ea typeface="DejaVu Sans"/>
              </a:rPr>
              <a:t>по правилам  безопасного поведения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91966"/>
                </a:solidFill>
                <a:latin typeface="Book Antiqua"/>
                <a:ea typeface="DejaVu San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91966"/>
                </a:solidFill>
                <a:latin typeface="Book Antiqua"/>
                <a:ea typeface="DejaVu Sans"/>
              </a:rPr>
              <a:t>                                                                                                                </a:t>
            </a:r>
            <a:r>
              <a:rPr b="1" i="1" lang="ru-RU" sz="1600" spc="-1" strike="noStrike">
                <a:solidFill>
                  <a:srgbClr val="191966"/>
                </a:solidFill>
                <a:latin typeface="Book Antiqua"/>
                <a:ea typeface="DejaVu Sans"/>
              </a:rPr>
              <a:t>Выполнили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91966"/>
                </a:solidFill>
                <a:latin typeface="Book Antiqua"/>
                <a:ea typeface="DejaVu Sans"/>
              </a:rPr>
              <a:t>                                                                                                      </a:t>
            </a:r>
            <a:r>
              <a:rPr b="1" i="1" lang="ru-RU" sz="1600" spc="-1" strike="noStrike">
                <a:solidFill>
                  <a:srgbClr val="191966"/>
                </a:solidFill>
                <a:latin typeface="Book Antiqua"/>
                <a:ea typeface="DejaVu Sans"/>
              </a:rPr>
              <a:t>ученики 10 «А» кла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91966"/>
                </a:solidFill>
                <a:latin typeface="Book Antiqua"/>
                <a:ea typeface="DejaVu Sans"/>
              </a:rPr>
              <a:t>                                                                                                      </a:t>
            </a:r>
            <a:r>
              <a:rPr b="1" i="1" lang="ru-RU" sz="1600" spc="-1" strike="noStrike">
                <a:solidFill>
                  <a:srgbClr val="191966"/>
                </a:solidFill>
                <a:latin typeface="Book Antiqua"/>
                <a:ea typeface="DejaVu Sans"/>
              </a:rPr>
              <a:t>ГОУ СОШ № 4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91966"/>
                </a:solidFill>
                <a:latin typeface="Book Antiqua"/>
                <a:ea typeface="DejaVu Sans"/>
              </a:rPr>
              <a:t>                                                                                                      </a:t>
            </a:r>
            <a:r>
              <a:rPr b="1" i="1" lang="ru-RU" sz="1600" spc="-1" strike="noStrike">
                <a:solidFill>
                  <a:srgbClr val="191966"/>
                </a:solidFill>
                <a:latin typeface="Book Antiqua"/>
                <a:ea typeface="DejaVu Sans"/>
              </a:rPr>
              <a:t>Тулина Виктор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91966"/>
                </a:solidFill>
                <a:latin typeface="Book Antiqua"/>
                <a:ea typeface="DejaVu Sans"/>
              </a:rPr>
              <a:t>                                                                                                      </a:t>
            </a:r>
            <a:r>
              <a:rPr b="1" i="1" lang="ru-RU" sz="1600" spc="-1" strike="noStrike">
                <a:solidFill>
                  <a:srgbClr val="191966"/>
                </a:solidFill>
                <a:latin typeface="Book Antiqua"/>
                <a:ea typeface="DejaVu Sans"/>
              </a:rPr>
              <a:t>Недосеко Ром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191966"/>
                </a:solidFill>
                <a:latin typeface="Book Antiqua"/>
                <a:ea typeface="DejaVu Sans"/>
              </a:rPr>
              <a:t>                                                                                       </a:t>
            </a:r>
            <a:r>
              <a:rPr b="1" i="1" lang="ru-RU" sz="1600" spc="-1" strike="noStrike">
                <a:solidFill>
                  <a:srgbClr val="191966"/>
                </a:solidFill>
                <a:latin typeface="Book Antiqua"/>
                <a:ea typeface="DejaVu Sans"/>
              </a:rPr>
              <a:t>   </a:t>
            </a:r>
            <a:r>
              <a:rPr b="1" i="1" lang="ru-RU" sz="1600" spc="-1" strike="noStrike">
                <a:solidFill>
                  <a:srgbClr val="191966"/>
                </a:solidFill>
                <a:latin typeface="Book Antiqua"/>
                <a:ea typeface="DejaVu Sans"/>
              </a:rPr>
              <a:t>Руководители: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91966"/>
                </a:solidFill>
                <a:latin typeface="Book Antiqua"/>
                <a:ea typeface="DejaVu Sans"/>
              </a:rPr>
              <a:t>                                                                                                  </a:t>
            </a:r>
            <a:r>
              <a:rPr b="1" i="1" lang="ru-RU" sz="1600" spc="-1" strike="noStrike">
                <a:solidFill>
                  <a:srgbClr val="191966"/>
                </a:solidFill>
                <a:latin typeface="Book Antiqua"/>
                <a:ea typeface="DejaVu Sans"/>
              </a:rPr>
              <a:t>Шамрина Елена Анатолье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91966"/>
                </a:solidFill>
                <a:latin typeface="Book Antiqua"/>
                <a:ea typeface="DejaVu Sans"/>
              </a:rPr>
              <a:t>                                                                                                       </a:t>
            </a:r>
            <a:r>
              <a:rPr b="1" i="1" lang="ru-RU" sz="1600" spc="-1" strike="noStrike">
                <a:solidFill>
                  <a:srgbClr val="191966"/>
                </a:solidFill>
                <a:latin typeface="Book Antiqua"/>
                <a:ea typeface="DejaVu Sans"/>
              </a:rPr>
              <a:t>Недосеко Светлана Николаевна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191966"/>
                </a:solidFill>
                <a:latin typeface="Book Antiqua"/>
                <a:ea typeface="DejaVu Sans"/>
              </a:rPr>
              <a:t>                </a:t>
            </a:r>
            <a:r>
              <a:rPr b="1" i="1" lang="ru-RU" sz="1800" spc="-1" strike="noStrike">
                <a:solidFill>
                  <a:srgbClr val="191966"/>
                </a:solidFill>
                <a:latin typeface="Book Antiqua"/>
                <a:ea typeface="DejaVu Sans"/>
              </a:rPr>
              <a:t>Москва,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81040" y="2924280"/>
            <a:ext cx="355608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304920" y="279360"/>
            <a:ext cx="8683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600" spc="-1" strike="noStrike">
                <a:solidFill>
                  <a:srgbClr val="ff3333"/>
                </a:solidFill>
                <a:latin typeface="Arial Black"/>
              </a:rPr>
              <a:t>Ё </a:t>
            </a:r>
            <a:r>
              <a:rPr b="0" lang="ru-RU" sz="3600" spc="-1" strike="noStrike">
                <a:solidFill>
                  <a:srgbClr val="2c6e34"/>
                </a:solidFill>
                <a:latin typeface="Franklin Gothic Medium"/>
              </a:rPr>
              <a:t>                     </a:t>
            </a:r>
            <a:r>
              <a:rPr b="0" lang="ru-RU" sz="3600" spc="-1" strike="noStrike">
                <a:solidFill>
                  <a:srgbClr val="5c8526"/>
                </a:solidFill>
                <a:latin typeface="Franklin Gothic Medium"/>
              </a:rPr>
              <a:t> </a:t>
            </a:r>
            <a:r>
              <a:rPr b="1" i="1" lang="ru-RU" sz="4400" spc="-1" strike="noStrike">
                <a:solidFill>
                  <a:srgbClr val="5c8526"/>
                </a:solidFill>
                <a:latin typeface="Lucida Sans"/>
              </a:rPr>
              <a:t>Ё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4429080" y="1554120"/>
            <a:ext cx="45594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62699"/>
                </a:solidFill>
                <a:latin typeface="Franklin Gothic Book"/>
              </a:rPr>
              <a:t>	</a:t>
            </a:r>
            <a:r>
              <a:rPr b="1" i="1" lang="ru-RU" sz="3200" spc="-1" strike="noStrike">
                <a:solidFill>
                  <a:srgbClr val="262699"/>
                </a:solidFill>
                <a:latin typeface="Franklin Gothic Book"/>
              </a:rPr>
              <a:t>Если ты случайно укололся иголкой ежа</a:t>
            </a:r>
            <a:r>
              <a:rPr b="1" i="1" lang="en-US" sz="3200" spc="-1" strike="noStrike">
                <a:solidFill>
                  <a:srgbClr val="262699"/>
                </a:solidFill>
                <a:latin typeface="Franklin Gothic Book"/>
              </a:rPr>
              <a:t>: </a:t>
            </a:r>
            <a:r>
              <a:rPr b="1" i="1" lang="ru-RU" sz="3200" spc="-1" strike="noStrike">
                <a:solidFill>
                  <a:srgbClr val="262699"/>
                </a:solidFill>
                <a:latin typeface="Franklin Gothic Book"/>
              </a:rPr>
              <a:t>-сдави кров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62699"/>
                </a:solidFill>
                <a:latin typeface="Franklin Gothic Book"/>
              </a:rPr>
              <a:t>	</a:t>
            </a:r>
            <a:r>
              <a:rPr b="1" i="1" lang="ru-RU" sz="3200" spc="-1" strike="noStrike">
                <a:solidFill>
                  <a:srgbClr val="262699"/>
                </a:solidFill>
                <a:latin typeface="Franklin Gothic Book"/>
              </a:rPr>
              <a:t>-обработай ран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62699"/>
                </a:solidFill>
                <a:latin typeface="Franklin Gothic Book"/>
              </a:rPr>
              <a:t>	</a:t>
            </a:r>
            <a:r>
              <a:rPr b="1" i="1" lang="ru-RU" sz="3200" spc="-1" strike="noStrike">
                <a:solidFill>
                  <a:srgbClr val="262699"/>
                </a:solidFill>
                <a:latin typeface="Franklin Gothic Book"/>
              </a:rPr>
              <a:t>-наложи повяз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857160" y="2000160"/>
            <a:ext cx="3152880" cy="235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I:\Безымянный.jpg"/>
          <p:cNvPicPr/>
          <p:nvPr/>
        </p:nvPicPr>
        <p:blipFill>
          <a:blip r:embed="rId3"/>
          <a:stretch/>
        </p:blipFill>
        <p:spPr>
          <a:xfrm>
            <a:off x="7072200" y="4357800"/>
            <a:ext cx="154800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360360" y="333360"/>
            <a:ext cx="8096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3333"/>
                </a:solidFill>
                <a:latin typeface="Arial Black"/>
                <a:ea typeface="DejaVu Sans"/>
              </a:rPr>
              <a:t>Ж </a:t>
            </a:r>
            <a:r>
              <a:rPr b="1" i="1" lang="ru-RU" sz="4000" spc="-1" strike="noStrike">
                <a:solidFill>
                  <a:srgbClr val="5c8526"/>
                </a:solidFill>
                <a:latin typeface="Lucida Sans"/>
                <a:ea typeface="DejaVu Sans"/>
              </a:rPr>
              <a:t>      ЖЕЛЕЗНАЯ ДОРОГ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4357800" y="1643040"/>
            <a:ext cx="4319640" cy="37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91966"/>
                </a:solidFill>
                <a:latin typeface="Book Antiqua"/>
                <a:ea typeface="DejaVu Sans"/>
              </a:rPr>
              <a:t>Никогда не перебегайте через рельсовые  пути перед близко идущим поез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91966"/>
                </a:solidFill>
                <a:latin typeface="Book Antiqua"/>
                <a:ea typeface="DejaVu Sans"/>
              </a:rPr>
              <a:t>Не подлезайте под вагон стоящего поез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857160" y="1357200"/>
            <a:ext cx="2392560" cy="2703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http://vneuroka.ru/okrmir/pct/l25189.jpg"/>
          <p:cNvPicPr/>
          <p:nvPr/>
        </p:nvPicPr>
        <p:blipFill>
          <a:blip r:embed="rId3"/>
          <a:stretch/>
        </p:blipFill>
        <p:spPr>
          <a:xfrm>
            <a:off x="642960" y="4429080"/>
            <a:ext cx="27622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360360" y="3780000"/>
            <a:ext cx="3683160" cy="28796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"/>
          <p:cNvSpPr/>
          <p:nvPr/>
        </p:nvSpPr>
        <p:spPr>
          <a:xfrm>
            <a:off x="539640" y="0"/>
            <a:ext cx="7988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3333"/>
                </a:solidFill>
                <a:latin typeface="Arial Black"/>
                <a:ea typeface="DejaVu Sans"/>
              </a:rPr>
              <a:t>З </a:t>
            </a:r>
            <a:r>
              <a:rPr b="1" i="1" lang="ru-RU" sz="4000" spc="-1" strike="noStrike">
                <a:solidFill>
                  <a:srgbClr val="5c8526"/>
                </a:solidFill>
                <a:latin typeface="Lucida Sans"/>
                <a:ea typeface="DejaVu Sans"/>
              </a:rPr>
              <a:t>             </a:t>
            </a:r>
            <a:r>
              <a:rPr b="1" i="1" lang="ru-RU" sz="4400" spc="-1" strike="noStrike">
                <a:solidFill>
                  <a:srgbClr val="5c8526"/>
                </a:solidFill>
                <a:latin typeface="Lucida Sans"/>
                <a:ea typeface="DejaVu Sans"/>
              </a:rPr>
              <a:t>ЗНА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755640" y="1052640"/>
            <a:ext cx="777240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Book Antiqua"/>
                <a:ea typeface="DejaVu Sans"/>
              </a:rPr>
              <a:t>Дети должны быть знакомы с дорожными знака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Book Antiqua"/>
                <a:ea typeface="DejaVu Sans"/>
              </a:rPr>
              <a:t>предупреждающи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Book Antiqua"/>
                <a:ea typeface="DejaVu Sans"/>
              </a:rPr>
              <a:t>запрещающи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Book Antiqua"/>
                <a:ea typeface="DejaVu Sans"/>
              </a:rPr>
              <a:t>предписывающи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Book Antiqua"/>
                <a:ea typeface="DejaVu Sans"/>
              </a:rPr>
              <a:t>информационно- указательны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3"/>
          <a:stretch/>
        </p:blipFill>
        <p:spPr>
          <a:xfrm>
            <a:off x="4680000" y="3798720"/>
            <a:ext cx="3492360" cy="28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395280" y="0"/>
            <a:ext cx="7772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3333"/>
                </a:solidFill>
                <a:latin typeface="Arial Black"/>
                <a:ea typeface="DejaVu Sans"/>
              </a:rPr>
              <a:t>И</a:t>
            </a:r>
            <a:r>
              <a:rPr b="1" i="1" lang="ru-RU" sz="4000" spc="-1" strike="noStrike">
                <a:solidFill>
                  <a:srgbClr val="5c8526"/>
                </a:solidFill>
                <a:latin typeface="Lucida Sans"/>
                <a:ea typeface="DejaVu Sans"/>
              </a:rPr>
              <a:t>           ИГРЫ ВО ДВО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4143240" y="357120"/>
            <a:ext cx="485640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191966"/>
                </a:solidFill>
                <a:uFillTx/>
                <a:latin typeface="Book Antiqua"/>
                <a:ea typeface="DejaVu Sans"/>
              </a:rPr>
              <a:t>Нельзя игра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9196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91966"/>
                </a:solidFill>
                <a:latin typeface="Book Antiqua"/>
                <a:ea typeface="DejaVu Sans"/>
              </a:rPr>
              <a:t>у проезжей част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91966"/>
                </a:solidFill>
                <a:latin typeface="Book Antiqua"/>
                <a:ea typeface="DejaVu Sans"/>
              </a:rPr>
              <a:t>на стройплощадка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91966"/>
                </a:solidFill>
                <a:latin typeface="Book Antiqua"/>
                <a:ea typeface="DejaVu Sans"/>
              </a:rPr>
              <a:t>на свалка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91966"/>
                </a:solidFill>
                <a:latin typeface="Book Antiqua"/>
                <a:ea typeface="DejaVu Sans"/>
              </a:rPr>
              <a:t>в тёмных места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91966"/>
                </a:solidFill>
                <a:latin typeface="Book Antiqua"/>
                <a:ea typeface="DejaVu Sans"/>
              </a:rPr>
              <a:t>возле открытых люков или вставать на крышку лю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91966"/>
                </a:solidFill>
                <a:latin typeface="Book Antiqua"/>
                <a:ea typeface="DejaVu Sans"/>
              </a:rPr>
              <a:t>у гаражей.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http://si34.ru/wp-content/uploads/2011/10/%D0%B4%D0%B5%D1%82%D0%B81.jpg"/>
          <p:cNvPicPr/>
          <p:nvPr/>
        </p:nvPicPr>
        <p:blipFill>
          <a:blip r:embed="rId2"/>
          <a:stretch/>
        </p:blipFill>
        <p:spPr>
          <a:xfrm>
            <a:off x="428760" y="2357280"/>
            <a:ext cx="3429000" cy="26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250920" y="0"/>
            <a:ext cx="77724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3333"/>
                </a:solidFill>
                <a:latin typeface="Arial Black"/>
                <a:ea typeface="DejaVu Sans"/>
              </a:rPr>
              <a:t>К</a:t>
            </a:r>
            <a:r>
              <a:rPr b="1" i="1" lang="ru-RU" sz="4000" spc="-1" strike="noStrike">
                <a:solidFill>
                  <a:srgbClr val="5c8526"/>
                </a:solidFill>
                <a:latin typeface="Lucida Sans"/>
                <a:ea typeface="DejaVu Sans"/>
              </a:rPr>
              <a:t>              </a:t>
            </a:r>
            <a:r>
              <a:rPr b="1" i="1" lang="ru-RU" sz="4400" spc="-1" strike="noStrike">
                <a:solidFill>
                  <a:srgbClr val="5c8526"/>
                </a:solidFill>
                <a:latin typeface="Lucida Sans"/>
                <a:ea typeface="DejaVu Sans"/>
              </a:rPr>
              <a:t>КАЧ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4284720" y="2349360"/>
            <a:ext cx="45352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91966"/>
                </a:solidFill>
                <a:latin typeface="Book Antiqua"/>
                <a:ea typeface="DejaVu Sans"/>
              </a:rPr>
              <a:t>Около качелей лучше не играть,     а  когда качаешься сам - смотр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91966"/>
                </a:solidFill>
                <a:latin typeface="Book Antiqua"/>
                <a:ea typeface="DejaVu Sans"/>
              </a:rPr>
              <a:t>чтобы никого  не ударить,  предупреждай других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714240" y="1643040"/>
            <a:ext cx="325944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539640" y="-15840"/>
            <a:ext cx="82803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3333"/>
                </a:solidFill>
                <a:latin typeface="Arial Black"/>
              </a:rPr>
              <a:t>Л </a:t>
            </a:r>
            <a:r>
              <a:rPr b="1" i="1" lang="ru-RU" sz="4400" spc="-1" strike="noStrike">
                <a:solidFill>
                  <a:srgbClr val="008000"/>
                </a:solidFill>
                <a:latin typeface="Lucida Sans"/>
              </a:rPr>
              <a:t>           </a:t>
            </a:r>
            <a:r>
              <a:rPr b="1" i="1" lang="ru-RU" sz="4400" spc="-1" strike="noStrike">
                <a:solidFill>
                  <a:srgbClr val="5c8526"/>
                </a:solidFill>
                <a:latin typeface="Lucida Sans"/>
              </a:rPr>
              <a:t>ЛЁД НА РЕК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http://kanonerk.narod.ru/images/001.JPG"/>
          <p:cNvPicPr/>
          <p:nvPr/>
        </p:nvPicPr>
        <p:blipFill>
          <a:blip r:embed="rId2"/>
          <a:stretch/>
        </p:blipFill>
        <p:spPr>
          <a:xfrm>
            <a:off x="285840" y="1214280"/>
            <a:ext cx="3619440" cy="27147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3"/>
          <p:cNvSpPr/>
          <p:nvPr/>
        </p:nvSpPr>
        <p:spPr>
          <a:xfrm>
            <a:off x="4071960" y="9288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 u="sng">
                <a:solidFill>
                  <a:srgbClr val="262699"/>
                </a:solidFill>
                <a:uFillTx/>
                <a:latin typeface="Times New Roman"/>
                <a:ea typeface="Times New Roman"/>
              </a:rPr>
              <a:t>Это нужно зн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безопасным для человека считается лед толщиной не менее 10 см в пресной и 15 см в соленой вод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- прочность льда можно определить визуально: лед голубого цвета прочный, прочность белого в два раза меньше, с желтоватым оттенком лед ненадеж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6" descr="http://khabarovskonline.com/khv_media/photologue/photos/cache/stopled_first_foto.jpg"/>
          <p:cNvPicPr/>
          <p:nvPr/>
        </p:nvPicPr>
        <p:blipFill>
          <a:blip r:embed="rId3"/>
          <a:stretch/>
        </p:blipFill>
        <p:spPr>
          <a:xfrm>
            <a:off x="357120" y="400068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539640" y="179280"/>
            <a:ext cx="7772400" cy="11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3333"/>
                </a:solidFill>
                <a:latin typeface="Arial Black"/>
                <a:ea typeface="DejaVu Sans"/>
              </a:rPr>
              <a:t>М </a:t>
            </a:r>
            <a:r>
              <a:rPr b="1" i="1" lang="ru-RU" sz="4000" spc="-1" strike="noStrike">
                <a:solidFill>
                  <a:srgbClr val="5c8526"/>
                </a:solidFill>
                <a:latin typeface="Lucida Sans"/>
                <a:ea typeface="DejaVu Sans"/>
              </a:rPr>
              <a:t>      МЕТРОПОЛИТЕ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3995640" y="1440000"/>
            <a:ext cx="4824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191966"/>
                </a:solidFill>
                <a:uFillTx/>
                <a:latin typeface="Book Antiqua"/>
                <a:ea typeface="DejaVu Sans"/>
              </a:rPr>
              <a:t>Запрещ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100" spc="-1" strike="noStrike">
                <a:solidFill>
                  <a:srgbClr val="191966"/>
                </a:solidFill>
                <a:latin typeface="Book Antiqua"/>
                <a:ea typeface="DejaVu Sans"/>
              </a:rPr>
              <a:t> </a:t>
            </a:r>
            <a:r>
              <a:rPr b="1" i="1" lang="ru-RU" sz="2100" spc="-1" strike="noStrike">
                <a:solidFill>
                  <a:srgbClr val="191966"/>
                </a:solidFill>
                <a:latin typeface="Book Antiqua"/>
                <a:ea typeface="DejaVu Sans"/>
              </a:rPr>
              <a:t>бегать, ставить вещи на поручень, садиться на ступеньки эскалатора, браться руками за не движущиеся  части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100" spc="-1" strike="noStrike">
                <a:solidFill>
                  <a:srgbClr val="191966"/>
                </a:solidFill>
                <a:latin typeface="Book Antiqua"/>
                <a:ea typeface="DejaVu Sans"/>
              </a:rPr>
              <a:t>Нельзя заходить за ограничительную линию у края платформы, подходить к поезду можно только после его полной остановки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179280" y="1440000"/>
            <a:ext cx="3672000" cy="43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140360" y="1571760"/>
            <a:ext cx="485928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Franklin Gothic Book"/>
              </a:rPr>
              <a:t>Осуществляется</a:t>
            </a:r>
            <a:r>
              <a:rPr b="1" i="1" lang="en-US" sz="2400" spc="-1" strike="noStrike">
                <a:solidFill>
                  <a:srgbClr val="002060"/>
                </a:solidFill>
                <a:latin typeface="Franklin Gothic Book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Franklin Gothic Book"/>
              </a:rPr>
              <a:t>сигналами светоф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Franklin Gothic Book"/>
              </a:rPr>
              <a:t>сигналами регулировщ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Franklin Gothic Book"/>
              </a:rPr>
              <a:t>дорожными знак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Franklin Gothic Book"/>
              </a:rPr>
              <a:t>дорожной разметк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539640" y="3959280"/>
            <a:ext cx="1590840" cy="2197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3"/>
          <a:stretch/>
        </p:blipFill>
        <p:spPr>
          <a:xfrm>
            <a:off x="571680" y="1643040"/>
            <a:ext cx="3571560" cy="17146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0" y="0"/>
            <a:ext cx="899964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c8526"/>
                </a:solidFill>
                <a:latin typeface="Arial"/>
              </a:rPr>
              <a:t> </a:t>
            </a:r>
            <a:r>
              <a:rPr b="1" i="1" lang="ru-RU" sz="6600" spc="-1" strike="noStrike">
                <a:solidFill>
                  <a:srgbClr val="ff3333"/>
                </a:solidFill>
                <a:latin typeface="Arial Black"/>
              </a:rPr>
              <a:t>Н  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5c8526"/>
                </a:solidFill>
                <a:latin typeface="Lucida Sans"/>
              </a:rPr>
              <a:t>НАПРАВЛЕНИЕ ДВИ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9" descr="http://t2.gstatic.com/images?q=tbn:ANd9GcQbz294jCWRvSxFgV5q_a3nedAkqNM6G48ELCZ4WHDgXvx3628kiw"/>
          <p:cNvPicPr/>
          <p:nvPr/>
        </p:nvPicPr>
        <p:blipFill>
          <a:blip r:embed="rId4"/>
          <a:stretch/>
        </p:blipFill>
        <p:spPr>
          <a:xfrm>
            <a:off x="5429160" y="1714680"/>
            <a:ext cx="2619360" cy="174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0" y="0"/>
            <a:ext cx="914400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3333"/>
                </a:solidFill>
                <a:latin typeface="Arial Black"/>
                <a:ea typeface="DejaVu Sans"/>
              </a:rPr>
              <a:t> </a:t>
            </a:r>
            <a:r>
              <a:rPr b="1" i="1" lang="ru-RU" sz="6600" spc="-1" strike="noStrike">
                <a:solidFill>
                  <a:srgbClr val="ff3333"/>
                </a:solidFill>
                <a:latin typeface="Arial Black"/>
                <a:ea typeface="DejaVu Sans"/>
              </a:rPr>
              <a:t>О </a:t>
            </a:r>
            <a:r>
              <a:rPr b="1" i="1" lang="ru-RU" sz="3600" spc="-1" strike="noStrike">
                <a:solidFill>
                  <a:srgbClr val="5c8526"/>
                </a:solidFill>
                <a:latin typeface="Lucida Sans"/>
                <a:ea typeface="DejaVu Sans"/>
              </a:rPr>
              <a:t>    </a:t>
            </a:r>
            <a:r>
              <a:rPr b="1" i="1" lang="ru-RU" sz="3200" spc="-1" strike="noStrike">
                <a:solidFill>
                  <a:srgbClr val="5c8526"/>
                </a:solidFill>
                <a:latin typeface="Lucida Sans"/>
                <a:ea typeface="DejaVu Sans"/>
              </a:rPr>
              <a:t>ОБЩЕСТВЕННЫЙ ТРАН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3851280" y="1260360"/>
            <a:ext cx="5006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191966"/>
                </a:solidFill>
                <a:latin typeface="Book Antiqua"/>
                <a:ea typeface="DejaVu Sans"/>
              </a:rPr>
              <a:t>Оплачивайте проезд! Будьте вежливы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191966"/>
                </a:solidFill>
                <a:latin typeface="Book Antiqua"/>
                <a:ea typeface="DejaVu Sans"/>
              </a:rPr>
              <a:t>Крепко держитесь за поручен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191966"/>
                </a:solidFill>
                <a:latin typeface="Book Antiqua"/>
                <a:ea typeface="DejaVu Sans"/>
              </a:rPr>
              <a:t>Не высовывайте голову и руки из окн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191966"/>
                </a:solidFill>
                <a:latin typeface="Book Antiqua"/>
                <a:ea typeface="DejaVu Sans"/>
              </a:rPr>
              <a:t>В салоне надо вести себя спокойно, не кричать, не мешать проходу пассажиров к дверям и в середину салон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191966"/>
                </a:solidFill>
                <a:latin typeface="Book Antiqua"/>
                <a:ea typeface="DejaVu Sans"/>
              </a:rPr>
              <a:t>Чтобы перейти на другую сторону дороги, подождите, когда транспорт отъедет от останов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3214440" cy="3000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ttp://t2.gstatic.com/images?q=tbn:ANd9GcTjPw2KSuvfphXqSEhRRHMInwq9qbFy0z0ji61EeSS3d8BoCPhw6g"/>
          <p:cNvPicPr/>
          <p:nvPr/>
        </p:nvPicPr>
        <p:blipFill>
          <a:blip r:embed="rId3"/>
          <a:stretch/>
        </p:blipFill>
        <p:spPr>
          <a:xfrm>
            <a:off x="1357200" y="4786200"/>
            <a:ext cx="1785960" cy="18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457200" y="0"/>
            <a:ext cx="8229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3333"/>
                </a:solidFill>
                <a:latin typeface="Arial Black"/>
                <a:ea typeface="DejaVu Sans"/>
              </a:rPr>
              <a:t>П </a:t>
            </a:r>
            <a:r>
              <a:rPr b="1" i="1" lang="ru-RU" sz="4100" spc="-1" strike="noStrike">
                <a:solidFill>
                  <a:srgbClr val="5c8526"/>
                </a:solidFill>
                <a:latin typeface="Lucida Sans"/>
                <a:ea typeface="DejaVu Sans"/>
              </a:rPr>
              <a:t>            ПЕРЕХОД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645080" y="1557360"/>
            <a:ext cx="40417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91966"/>
                </a:solidFill>
                <a:latin typeface="Book Antiqua"/>
                <a:ea typeface="DejaVu Sans"/>
              </a:rPr>
              <a:t>Чтобы безопасно перейти дорогу нужно пользоваться пешеходным переходом (подземным или наземны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413160" cy="2592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3"/>
          <a:stretch/>
        </p:blipFill>
        <p:spPr>
          <a:xfrm>
            <a:off x="7596360" y="4292640"/>
            <a:ext cx="1368360" cy="2232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4"/>
          <a:stretch/>
        </p:blipFill>
        <p:spPr>
          <a:xfrm>
            <a:off x="468360" y="4076640"/>
            <a:ext cx="327024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272880"/>
            <a:ext cx="83628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425519"/>
                </a:solidFill>
                <a:latin typeface="Book Antiqua"/>
                <a:ea typeface="DejaVu Sans"/>
              </a:rPr>
              <a:t> </a:t>
            </a:r>
            <a:r>
              <a:rPr b="1" i="1" lang="ru-RU" sz="2800" spc="-1" strike="noStrike">
                <a:solidFill>
                  <a:srgbClr val="5c8526"/>
                </a:solidFill>
                <a:latin typeface="Book Antiqua"/>
                <a:ea typeface="DejaVu Sans"/>
              </a:rPr>
              <a:t>Цель:</a:t>
            </a:r>
            <a:r>
              <a:rPr b="1" i="1" lang="ru-RU" sz="2800" spc="-1" strike="noStrike">
                <a:solidFill>
                  <a:srgbClr val="00ff00"/>
                </a:solidFill>
                <a:latin typeface="Book Antiqua"/>
                <a:ea typeface="DejaVu Sans"/>
              </a:rPr>
              <a:t> </a:t>
            </a:r>
            <a:r>
              <a:rPr b="1" i="1" lang="ru-RU" sz="2800" spc="-1" strike="noStrike">
                <a:solidFill>
                  <a:srgbClr val="191966"/>
                </a:solidFill>
                <a:latin typeface="Book Antiqua"/>
                <a:ea typeface="DejaVu Sans"/>
              </a:rPr>
              <a:t>формирование у младших школьников устойчивых знаний и навыков безопасного поведения на дорогах и улиц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5c8526"/>
                </a:solidFill>
                <a:latin typeface="Book Antiqua"/>
                <a:ea typeface="DejaVu Sans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91966"/>
                </a:solidFill>
                <a:latin typeface="Book Antiqua"/>
                <a:ea typeface="DejaVu Sans"/>
              </a:rPr>
              <a:t>обучение и воспитание грамотных участников дорожного движ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91966"/>
                </a:solidFill>
                <a:latin typeface="Book Antiqua"/>
                <a:ea typeface="DejaVu Sans"/>
              </a:rPr>
              <a:t>повышение уровня готовности школьников к действиям в опасной ситуации на улиц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91966"/>
                </a:solidFill>
                <a:latin typeface="Book Antiqua"/>
                <a:ea typeface="DejaVu Sans"/>
              </a:rPr>
              <a:t>формирование у родителей обучающихся устойчивого интереса к безопасности и здоровью детей как участников дорожного дви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687240" y="25704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5c8526"/>
                </a:solidFill>
                <a:latin typeface="Lucida Sans"/>
                <a:ea typeface="DejaVu Sans"/>
              </a:rPr>
              <a:t>ПЕШЕХОДНЫЙ ПЕРЕХ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722160" y="2571840"/>
            <a:ext cx="777240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191966"/>
                </a:solidFill>
                <a:latin typeface="Book Antiqua"/>
                <a:ea typeface="DejaVu Sans"/>
              </a:rPr>
              <a:t>            </a:t>
            </a:r>
            <a:r>
              <a:rPr b="1" i="1" lang="ru-RU" sz="2400" spc="-1" strike="noStrike">
                <a:solidFill>
                  <a:srgbClr val="191966"/>
                </a:solidFill>
                <a:latin typeface="Book Antiqua"/>
                <a:ea typeface="DejaVu Sans"/>
              </a:rPr>
              <a:t>Переходи дорогу только в положенном  месте и только на зелёный свет. Прежде, чем перейти дорогу, посмотри налево, дойдя до середины дороги– направо, убедись в отсутствии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5715000" y="1285920"/>
            <a:ext cx="2921040" cy="2286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250920" y="1260360"/>
            <a:ext cx="3321000" cy="2382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http://t1.gstatic.com/images?q=tbn:ANd9GcQz3gAmusG680GBtNMrnOBXhFubG94pxl0CiepJpINDv65R80IRVw"/>
          <p:cNvPicPr/>
          <p:nvPr/>
        </p:nvPicPr>
        <p:blipFill>
          <a:blip r:embed="rId4"/>
          <a:stretch/>
        </p:blipFill>
        <p:spPr>
          <a:xfrm>
            <a:off x="3714840" y="2428920"/>
            <a:ext cx="192888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0" y="142920"/>
            <a:ext cx="777240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5c8526"/>
                </a:solidFill>
                <a:latin typeface="Lucida Sans"/>
                <a:ea typeface="DejaVu Sans"/>
              </a:rPr>
              <a:t>	</a:t>
            </a:r>
            <a:r>
              <a:rPr b="1" i="1" lang="ru-RU" sz="4000" spc="-1" strike="noStrike">
                <a:solidFill>
                  <a:srgbClr val="ff3333"/>
                </a:solidFill>
                <a:latin typeface="Arial Black"/>
              </a:rPr>
              <a:t> </a:t>
            </a:r>
            <a:r>
              <a:rPr b="1" i="1" lang="ru-RU" sz="6600" spc="-1" strike="noStrike">
                <a:solidFill>
                  <a:srgbClr val="ff3333"/>
                </a:solidFill>
                <a:latin typeface="Arial Black"/>
              </a:rPr>
              <a:t>Р</a:t>
            </a:r>
            <a:r>
              <a:rPr b="1" i="1" lang="ru-RU" sz="6600" spc="-1" strike="noStrike">
                <a:solidFill>
                  <a:srgbClr val="5c8526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5c8526"/>
                </a:solidFill>
                <a:latin typeface="Lucida Sans"/>
                <a:ea typeface="DejaVu Sans"/>
              </a:rPr>
              <a:t>	</a:t>
            </a:r>
            <a:r>
              <a:rPr b="1" i="1" lang="ru-RU" sz="4000" spc="-1" strike="noStrike">
                <a:solidFill>
                  <a:srgbClr val="5c8526"/>
                </a:solidFill>
                <a:latin typeface="Lucida Sans"/>
                <a:ea typeface="DejaVu Sans"/>
              </a:rPr>
              <a:t>РОЛИКОВЫЕ КОНЬ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3780000" y="1357200"/>
            <a:ext cx="471456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6165d"/>
                </a:solidFill>
                <a:latin typeface="Book Antiqua"/>
                <a:ea typeface="DejaVu Sans"/>
              </a:rPr>
              <a:t>Всегда надевайте защиту на колени, локти и кисти рук. Детям также рекомендуется шл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6165d"/>
                </a:solidFill>
                <a:latin typeface="Book Antiqua"/>
                <a:ea typeface="DejaVu Sans"/>
              </a:rPr>
              <a:t>Избегайте спуска с горок, лестниц, движения по плохому асфальту или при большом скоплении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714240" y="1898640"/>
            <a:ext cx="2919600" cy="39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3419640" y="2205000"/>
            <a:ext cx="50749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191966"/>
                </a:solidFill>
                <a:latin typeface="Lucida Sans"/>
                <a:ea typeface="DejaVu Sans"/>
              </a:rPr>
              <a:t>СВЕТОФОР - БОЛЬШОЙ ПОМОЩНИК,</a:t>
            </a:r>
            <a:br>
              <a:rPr sz="2200"/>
            </a:br>
            <a:r>
              <a:rPr b="1" i="1" lang="ru-RU" sz="2200" spc="-1" strike="noStrike">
                <a:solidFill>
                  <a:srgbClr val="191966"/>
                </a:solidFill>
                <a:latin typeface="Lucida Sans"/>
                <a:ea typeface="DejaVu Sans"/>
              </a:rPr>
              <a:t>ЛУЧШИЙ ДРУГ ДЛЯ ВСЕХ  В ПУТИ,</a:t>
            </a:r>
            <a:br>
              <a:rPr sz="2200"/>
            </a:br>
            <a:r>
              <a:rPr b="1" i="1" lang="ru-RU" sz="2200" spc="-1" strike="noStrike">
                <a:solidFill>
                  <a:srgbClr val="191966"/>
                </a:solidFill>
                <a:latin typeface="Lucida Sans"/>
                <a:ea typeface="DejaVu Sans"/>
              </a:rPr>
              <a:t>ОН ВСЕГДА ПРЕДУПРЕЖДАЕТ</a:t>
            </a:r>
            <a:br>
              <a:rPr sz="2200"/>
            </a:br>
            <a:r>
              <a:rPr b="1" i="1" lang="ru-RU" sz="2200" spc="-1" strike="noStrike">
                <a:solidFill>
                  <a:srgbClr val="1c4853"/>
                </a:solidFill>
                <a:latin typeface="Lucida Sans"/>
                <a:ea typeface="DejaVu Sans"/>
              </a:rPr>
              <a:t>ЦВЕТОМ</a:t>
            </a:r>
            <a:r>
              <a:rPr b="1" i="1" lang="ru-RU" sz="2200" spc="-1" strike="noStrike">
                <a:solidFill>
                  <a:srgbClr val="191966"/>
                </a:solidFill>
                <a:latin typeface="Lucida Sans"/>
                <a:ea typeface="DejaVu Sans"/>
              </a:rPr>
              <a:t>, </a:t>
            </a:r>
            <a:br>
              <a:rPr sz="2200"/>
            </a:br>
            <a:r>
              <a:rPr b="1" i="1" lang="ru-RU" sz="2200" spc="-1" strike="noStrike">
                <a:solidFill>
                  <a:srgbClr val="191966"/>
                </a:solidFill>
                <a:latin typeface="Lucida Sans"/>
                <a:ea typeface="DejaVu Sans"/>
              </a:rPr>
              <a:t>МОЖНО ДАЛЬШЕ ЛИ ИДТИ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785880" y="285840"/>
            <a:ext cx="77724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3333"/>
                </a:solidFill>
                <a:latin typeface="Arial Black"/>
                <a:ea typeface="DejaVu Sans"/>
              </a:rPr>
              <a:t>С</a:t>
            </a:r>
            <a:r>
              <a:rPr b="1" i="1" lang="ru-RU" sz="4000" spc="-1" strike="noStrike">
                <a:solidFill>
                  <a:srgbClr val="5c8526"/>
                </a:solidFill>
                <a:latin typeface="Book Antiqua"/>
                <a:ea typeface="DejaVu Sans"/>
              </a:rPr>
              <a:t>          СВЕТОФ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http://t0.gstatic.com/images?q=tbn:ANd9GcR5SK0YnTiP16qg1tTGBTJROKK2Ro_-1poT2hZrWY7M2xx4F4mDEA"/>
          <p:cNvPicPr/>
          <p:nvPr/>
        </p:nvPicPr>
        <p:blipFill>
          <a:blip r:embed="rId2"/>
          <a:stretch/>
        </p:blipFill>
        <p:spPr>
          <a:xfrm>
            <a:off x="500040" y="200016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395280" y="179280"/>
            <a:ext cx="7772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3333"/>
                </a:solidFill>
                <a:latin typeface="Arial Black"/>
                <a:ea typeface="DejaVu Sans"/>
              </a:rPr>
              <a:t> </a:t>
            </a:r>
            <a:r>
              <a:rPr b="1" i="1" lang="ru-RU" sz="4000" spc="-1" strike="noStrike">
                <a:solidFill>
                  <a:srgbClr val="5c8526"/>
                </a:solidFill>
                <a:latin typeface="Lucida Sans"/>
                <a:ea typeface="DejaVu Sans"/>
              </a:rPr>
              <a:t>                 </a:t>
            </a:r>
            <a:r>
              <a:rPr b="1" i="1" lang="ru-RU" sz="4000" spc="-1" strike="noStrike">
                <a:solidFill>
                  <a:srgbClr val="5c8526"/>
                </a:solidFill>
                <a:latin typeface="Lucida Sans"/>
                <a:ea typeface="DejaVu Sans"/>
              </a:rPr>
              <a:t>СОБА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4356000" y="1500120"/>
            <a:ext cx="46436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Book Antiqua"/>
                <a:ea typeface="DejaVu Sans"/>
              </a:rPr>
              <a:t>Нельз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Book Antiqua"/>
                <a:ea typeface="DejaVu Sans"/>
              </a:rPr>
              <a:t> </a:t>
            </a:r>
            <a:r>
              <a:rPr b="1" i="1" lang="ru-RU" sz="2400" spc="-1" strike="noStrike">
                <a:solidFill>
                  <a:srgbClr val="191966"/>
                </a:solidFill>
                <a:latin typeface="Book Antiqua"/>
                <a:ea typeface="DejaVu Sans"/>
              </a:rPr>
              <a:t>подходить к незнакомому животному, трогать его или пытаться  поглади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Book Antiqua"/>
                <a:ea typeface="DejaVu Sans"/>
              </a:rPr>
              <a:t>подходить к животному, когда у него появились детёныш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Book Antiqua"/>
                <a:ea typeface="DejaVu Sans"/>
              </a:rPr>
              <a:t>дразнить живот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360360" y="1979640"/>
            <a:ext cx="2782800" cy="252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http://t1.gstatic.com/images?q=tbn:ANd9GcSTdlT0TW1OWgvFspuShdKRxwCzYPmJxrnDGUoZFTjcYDqrF7xn"/>
          <p:cNvPicPr/>
          <p:nvPr/>
        </p:nvPicPr>
        <p:blipFill>
          <a:blip r:embed="rId3"/>
          <a:stretch/>
        </p:blipFill>
        <p:spPr>
          <a:xfrm>
            <a:off x="7500960" y="5286240"/>
            <a:ext cx="1285920" cy="13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3959280" y="1214280"/>
            <a:ext cx="48988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32d47"/>
                </a:solidFill>
                <a:latin typeface="Franklin Gothic Book"/>
              </a:rPr>
              <a:t>Обходи толпу стороной!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32d47"/>
                </a:solidFill>
                <a:latin typeface="Franklin Gothic Book"/>
              </a:rPr>
              <a:t>Любыми способами старайтесь удержаться на ногах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32d47"/>
                </a:solidFill>
                <a:latin typeface="Franklin Gothic Book"/>
              </a:rPr>
              <a:t>Если что-то уронили, ни в коем случае не наклоняйтесь, чтобы поднять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785880" y="1785960"/>
            <a:ext cx="3138480" cy="3429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360360" y="179280"/>
            <a:ext cx="648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3333"/>
                </a:solidFill>
                <a:latin typeface="Arial Black"/>
              </a:rPr>
              <a:t>Т </a:t>
            </a:r>
            <a:r>
              <a:rPr b="1" i="1" lang="ru-RU" sz="4400" spc="-1" strike="noStrike">
                <a:solidFill>
                  <a:srgbClr val="5c8526"/>
                </a:solidFill>
                <a:latin typeface="Arial"/>
              </a:rPr>
              <a:t>               ТОЛП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4500720" y="1619280"/>
            <a:ext cx="44290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Franklin Gothic Book"/>
              </a:rPr>
              <a:t>Участники дорожного движения</a:t>
            </a:r>
            <a:r>
              <a:rPr b="1" i="1" lang="en-US" sz="2400" spc="-1" strike="noStrike">
                <a:solidFill>
                  <a:srgbClr val="002060"/>
                </a:solidFill>
                <a:latin typeface="Franklin Gothic Boo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Franklin Gothic Book"/>
              </a:rPr>
              <a:t>водит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Franklin Gothic Book"/>
              </a:rPr>
              <a:t>пассажи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Franklin Gothic Book"/>
              </a:rPr>
              <a:t>пеше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720720" y="1979640"/>
            <a:ext cx="2717640" cy="2340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3"/>
          <a:stretch/>
        </p:blipFill>
        <p:spPr>
          <a:xfrm>
            <a:off x="5429160" y="1357200"/>
            <a:ext cx="3143520" cy="20894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0" y="179280"/>
            <a:ext cx="89996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c8526"/>
                </a:solidFill>
                <a:latin typeface="Arial"/>
              </a:rPr>
              <a:t> </a:t>
            </a:r>
            <a:r>
              <a:rPr b="1" i="1" lang="ru-RU" sz="6600" spc="-1" strike="noStrike">
                <a:solidFill>
                  <a:srgbClr val="ff3333"/>
                </a:solidFill>
                <a:latin typeface="Arial Black"/>
              </a:rPr>
              <a:t>У </a:t>
            </a:r>
            <a:r>
              <a:rPr b="1" i="1" lang="ru-RU" sz="3600" spc="-1" strike="noStrike">
                <a:solidFill>
                  <a:srgbClr val="5c852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5c8526"/>
                </a:solidFill>
                <a:latin typeface="Arial"/>
              </a:rPr>
              <a:t>УЧАСТНИКИ ДОРОЖНОГО ДВИ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8" descr="http://t2.gstatic.com/images?q=tbn:ANd9GcQblVcb5K4GurhaHxGJ_UPgGCnTmx76csW50oo7jmKDbenoE7Lj"/>
          <p:cNvPicPr/>
          <p:nvPr/>
        </p:nvPicPr>
        <p:blipFill>
          <a:blip r:embed="rId4"/>
          <a:stretch/>
        </p:blipFill>
        <p:spPr>
          <a:xfrm>
            <a:off x="1343160" y="4714920"/>
            <a:ext cx="179064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179280" y="179280"/>
            <a:ext cx="8640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3333"/>
                </a:solidFill>
                <a:latin typeface="Arial Black"/>
              </a:rPr>
              <a:t>Ф</a:t>
            </a:r>
            <a:r>
              <a:rPr b="0" lang="ru-RU" sz="1800" spc="-1" strike="noStrike">
                <a:solidFill>
                  <a:srgbClr val="ff33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4000" spc="-1" strike="noStrike">
                <a:solidFill>
                  <a:srgbClr val="008000"/>
                </a:solidFill>
                <a:latin typeface="Lucida Sans"/>
              </a:rPr>
              <a:t>         </a:t>
            </a:r>
            <a:r>
              <a:rPr b="1" i="1" lang="ru-RU" sz="4000" spc="-1" strike="noStrike">
                <a:solidFill>
                  <a:srgbClr val="5c8526"/>
                </a:solidFill>
                <a:latin typeface="Lucida Sans"/>
              </a:rPr>
              <a:t>ФЕЙЕРВЕР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4" descr="http://t3.gstatic.com/images?q=tbn:ANd9GcQmZiovDHmbGjoGREzY-ltMw_f4iArxLaKRXo9vL6v_n5SbwZv_mw"/>
          <p:cNvPicPr/>
          <p:nvPr/>
        </p:nvPicPr>
        <p:blipFill>
          <a:blip r:embed="rId2"/>
          <a:stretch/>
        </p:blipFill>
        <p:spPr>
          <a:xfrm>
            <a:off x="571680" y="1643040"/>
            <a:ext cx="3333600" cy="30718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8764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000" spc="-1" strike="noStrike">
              <a:solidFill>
                <a:srgbClr val="feb80a"/>
              </a:solidFill>
              <a:latin typeface="Franklin Gothic Medium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3280" y="1500120"/>
            <a:ext cx="397224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262699"/>
                </a:solidFill>
                <a:latin typeface="Franklin Gothic Book"/>
              </a:rPr>
              <a:t>Внимательно прочтите инструкцию и соблюдайте ее!</a:t>
            </a:r>
            <a:endParaRPr b="0" lang="en-US" sz="2400" spc="-1" strike="noStrike">
              <a:solidFill>
                <a:srgbClr val="feb80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262699"/>
                </a:solidFill>
                <a:latin typeface="Franklin Gothic Book"/>
              </a:rPr>
              <a:t>Не запускайте фейерверк с рук!</a:t>
            </a:r>
            <a:endParaRPr b="0" lang="en-US" sz="2400" spc="-1" strike="noStrike">
              <a:solidFill>
                <a:srgbClr val="feb80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262699"/>
                </a:solidFill>
                <a:latin typeface="Franklin Gothic Book"/>
              </a:rPr>
              <a:t>Не наклоняйтесь над фейерверком!</a:t>
            </a:r>
            <a:endParaRPr b="0" lang="en-US" sz="2400" spc="-1" strike="noStrike">
              <a:solidFill>
                <a:srgbClr val="feb80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262699"/>
                </a:solidFill>
                <a:latin typeface="Franklin Gothic Book"/>
              </a:rPr>
              <a:t>Не направляйте фейерверк в людей!</a:t>
            </a:r>
            <a:endParaRPr b="0" lang="en-US" sz="2400" spc="-1" strike="noStrike">
              <a:solidFill>
                <a:srgbClr val="feb80a"/>
              </a:solidFill>
              <a:latin typeface="Franklin Gothic Boo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720720" y="360360"/>
            <a:ext cx="79200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3333"/>
                </a:solidFill>
                <a:latin typeface="Arial Black"/>
              </a:rPr>
              <a:t>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i="1" lang="ru-RU" sz="4000" spc="-1" strike="noStrike">
                <a:solidFill>
                  <a:srgbClr val="5c8526"/>
                </a:solidFill>
                <a:latin typeface="Lucida Sans"/>
              </a:rPr>
              <a:t>ХОЛ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http://sekret-zdoroviya.ru/wp-content/uploads/kartinka277.jpg"/>
          <p:cNvPicPr/>
          <p:nvPr/>
        </p:nvPicPr>
        <p:blipFill>
          <a:blip r:embed="rId2"/>
          <a:stretch/>
        </p:blipFill>
        <p:spPr>
          <a:xfrm>
            <a:off x="357120" y="2286000"/>
            <a:ext cx="3786120" cy="26668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00720" y="1500120"/>
            <a:ext cx="3993840" cy="35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262699"/>
                </a:solidFill>
                <a:latin typeface="Franklin Gothic Book"/>
              </a:rPr>
              <a:t>При обморожении нельзя растирать поврежденные участки тела снегом, потому что велика вероятность повредить сосуды. </a:t>
            </a:r>
            <a:br>
              <a:rPr sz="2400"/>
            </a:br>
            <a:r>
              <a:rPr b="1" i="1" lang="ru-RU" sz="2400" spc="-1" strike="noStrike">
                <a:solidFill>
                  <a:srgbClr val="262699"/>
                </a:solidFill>
                <a:latin typeface="Franklin Gothic Book"/>
              </a:rPr>
              <a:t>Нельзя также растирать обмороженные места маслами, кремами.</a:t>
            </a:r>
            <a:endParaRPr b="0" lang="en-US" sz="2400" spc="-1" strike="noStrike">
              <a:solidFill>
                <a:srgbClr val="feb80a"/>
              </a:solidFill>
              <a:latin typeface="Franklin Gothic Book"/>
            </a:endParaRPr>
          </a:p>
        </p:txBody>
      </p:sp>
      <p:pic>
        <p:nvPicPr>
          <p:cNvPr id="186" name="Picture 6" descr="http://t0.gstatic.com/images?q=tbn:ANd9GcTX_zVlOX3RAQAg4z9zDU9tU0e3y6G429fSmlSxDdL70PA1rLMUeQ"/>
          <p:cNvPicPr/>
          <p:nvPr/>
        </p:nvPicPr>
        <p:blipFill>
          <a:blip r:embed="rId3"/>
          <a:stretch/>
        </p:blipFill>
        <p:spPr>
          <a:xfrm>
            <a:off x="6929280" y="5214960"/>
            <a:ext cx="15764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539640" y="179280"/>
            <a:ext cx="82803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3333"/>
                </a:solidFill>
                <a:latin typeface="Arial Black"/>
              </a:rPr>
              <a:t>Ц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ru-RU" sz="4000" spc="-1" strike="noStrike">
                <a:solidFill>
                  <a:srgbClr val="5c8526"/>
                </a:solidFill>
                <a:latin typeface="Lucida Sans"/>
              </a:rPr>
              <a:t>ЦИТРУСОВ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http://med-apte4ka.ru/uploads/posts/2011-04/1303318194_allergiya.jpg"/>
          <p:cNvPicPr/>
          <p:nvPr/>
        </p:nvPicPr>
        <p:blipFill>
          <a:blip r:embed="rId2"/>
          <a:stretch/>
        </p:blipFill>
        <p:spPr>
          <a:xfrm>
            <a:off x="357120" y="1714680"/>
            <a:ext cx="4500720" cy="3682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428800" y="1714680"/>
            <a:ext cx="3065400" cy="40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262699"/>
                </a:solidFill>
                <a:latin typeface="Franklin Gothic Medium"/>
              </a:rPr>
              <a:t>АПЕЛЬСИНЫ И МАНДАРИНЫ МОГУТ  СТАТЬ ПРИЧИНОЙ ПИЩЕВОЙ АЛЛЕРГИИ.</a:t>
            </a:r>
            <a:r>
              <a:rPr b="0" lang="ru-RU" sz="1800" spc="-1" strike="noStrike">
                <a:solidFill>
                  <a:srgbClr val="262699"/>
                </a:solidFill>
                <a:latin typeface="Franklin Gothic Medium"/>
              </a:rPr>
              <a:t> </a:t>
            </a:r>
            <a:br>
              <a:rPr sz="1800"/>
            </a:br>
            <a:r>
              <a:rPr b="1" i="1" lang="ru-RU" sz="1800" spc="-1" strike="noStrike">
                <a:solidFill>
                  <a:srgbClr val="262699"/>
                </a:solidFill>
                <a:latin typeface="Franklin Gothic Medium"/>
              </a:rPr>
              <a:t>ВИТАМИНЫ И РАЗЛИЧНЫЕ ПОЛЕЗНЫЕ МИНЕРАЛЬНЫЕ ВЕЩЕСТВА МОЖНО ПОЛУЧИТЬ В ДОСТАТОЧНОМ КОЛИЧЕСТВЕ С ЯБЛОКАМИ, СВЕЖЕЙ И КВАШЕНОЙ КАПУСТОЙ, ДРУГИМИ ФРУКТАМИ И ОВОЩАМИ.</a:t>
            </a:r>
            <a:endParaRPr b="0" lang="en-US" sz="1800" spc="-1" strike="noStrike">
              <a:solidFill>
                <a:srgbClr val="feb80a"/>
              </a:solidFill>
              <a:latin typeface="Franklin Gothic Medium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3708360" y="1071720"/>
            <a:ext cx="518472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191966"/>
                </a:solidFill>
                <a:latin typeface="Book Antiqua"/>
                <a:ea typeface="DejaVu Sans"/>
              </a:rPr>
              <a:t>Никогда не бер</a:t>
            </a:r>
            <a:r>
              <a:rPr b="0" i="1" lang="ru-RU" sz="2600" spc="-1" strike="noStrike">
                <a:solidFill>
                  <a:srgbClr val="191966"/>
                </a:solidFill>
                <a:latin typeface="Book Antiqua"/>
                <a:ea typeface="DejaVu Sans"/>
              </a:rPr>
              <a:t>и</a:t>
            </a:r>
            <a:r>
              <a:rPr b="1" i="1" lang="ru-RU" sz="2600" spc="-1" strike="noStrike">
                <a:solidFill>
                  <a:srgbClr val="191966"/>
                </a:solidFill>
                <a:latin typeface="Book Antiqua"/>
                <a:ea typeface="DejaVu Sans"/>
              </a:rPr>
              <a:t> никакие предметы и угощения от незнакомых людей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Book Antiqua"/>
                <a:ea typeface="DejaVu Sans"/>
              </a:rPr>
              <a:t>Если напали и тянут т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Book Antiqua"/>
                <a:ea typeface="DejaVu Sans"/>
              </a:rPr>
              <a:t>Совсем незнакомые люд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Book Antiqua"/>
                <a:ea typeface="DejaVu Sans"/>
              </a:rPr>
              <a:t>Ты громко кричи, на помощь зов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Book Antiqua"/>
                <a:ea typeface="DejaVu Sans"/>
              </a:rPr>
              <a:t>Толк от этого будет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428760" y="2000160"/>
            <a:ext cx="2714400" cy="34592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179280" y="179280"/>
            <a:ext cx="8820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5c8526"/>
                </a:solidFill>
                <a:latin typeface="Arial"/>
              </a:rPr>
              <a:t> </a:t>
            </a:r>
            <a:r>
              <a:rPr b="1" i="1" lang="ru-RU" sz="6600" spc="-1" strike="noStrike">
                <a:solidFill>
                  <a:srgbClr val="ff3333"/>
                </a:solidFill>
                <a:latin typeface="Arial Black"/>
              </a:rPr>
              <a:t>Ч</a:t>
            </a:r>
            <a:r>
              <a:rPr b="1" i="1" lang="ru-RU" sz="4000" spc="-1" strike="noStrike">
                <a:solidFill>
                  <a:srgbClr val="5c8526"/>
                </a:solidFill>
                <a:latin typeface="Arial"/>
              </a:rPr>
              <a:t>                  ЧУЖ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4714920" cy="6165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5184720" y="1857240"/>
            <a:ext cx="395928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 выполнен в виде азбуки по обеспечению безопасности от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А»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179280" y="360360"/>
            <a:ext cx="88203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6600" spc="-1" strike="noStrike">
                <a:solidFill>
                  <a:srgbClr val="ff3333"/>
                </a:solidFill>
                <a:latin typeface="Arial Black"/>
              </a:rPr>
              <a:t>Ш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i="1" lang="ru-RU" sz="4000" spc="-1" strike="noStrike">
                <a:solidFill>
                  <a:srgbClr val="5c8526"/>
                </a:solidFill>
                <a:latin typeface="Lucida Sans"/>
              </a:rPr>
              <a:t>ШОСС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286240" y="2214360"/>
            <a:ext cx="320832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262699"/>
                </a:solidFill>
                <a:latin typeface="Franklin Gothic Medium"/>
              </a:rPr>
              <a:t>НЕ  ПЕРЕБЕГАЙ ЧЕРЕЗ  ДОРОГУ  В НЕПОЛОЖЕННОМ МЕСТЕ!</a:t>
            </a:r>
            <a:endParaRPr b="0" lang="en-US" sz="2800" spc="-1" strike="noStrike">
              <a:solidFill>
                <a:srgbClr val="feb80a"/>
              </a:solidFill>
              <a:latin typeface="Franklin Gothic Medium"/>
            </a:endParaRPr>
          </a:p>
        </p:txBody>
      </p:sp>
      <p:pic>
        <p:nvPicPr>
          <p:cNvPr id="197" name="Picture 10" descr="http://transport.grouptechno.ru/netcat_files/Image/Znaki_Varshavskoe-shosse_56.jpg"/>
          <p:cNvPicPr/>
          <p:nvPr/>
        </p:nvPicPr>
        <p:blipFill>
          <a:blip r:embed="rId2"/>
          <a:stretch/>
        </p:blipFill>
        <p:spPr>
          <a:xfrm>
            <a:off x="428760" y="2286000"/>
            <a:ext cx="464328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179280" y="179280"/>
            <a:ext cx="80996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3333"/>
                </a:solidFill>
                <a:latin typeface="Arial Black"/>
              </a:rPr>
              <a:t> </a:t>
            </a:r>
            <a:r>
              <a:rPr b="1" i="1" lang="ru-RU" sz="6600" spc="-1" strike="noStrike">
                <a:solidFill>
                  <a:srgbClr val="ff3333"/>
                </a:solidFill>
                <a:latin typeface="Arial Black"/>
              </a:rPr>
              <a:t>Э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ru-RU" sz="4400" spc="-1" strike="noStrike">
                <a:solidFill>
                  <a:srgbClr val="5c8526"/>
                </a:solidFill>
                <a:latin typeface="Lucida Sans"/>
              </a:rPr>
              <a:t>ЭКСКУРС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428720" y="1000080"/>
            <a:ext cx="399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262699"/>
                </a:solidFill>
                <a:latin typeface="Franklin Gothic Book"/>
              </a:rPr>
              <a:t>Во время  экскурсии необходимо строго придерживаться группы, слушать руководителя, не трогать ничего без разрешения во избежание травмы (попадания в движущиеся механизмы машин, ожог и т.д.)</a:t>
            </a:r>
            <a:endParaRPr b="0" lang="en-US" sz="2400" spc="-1" strike="noStrike">
              <a:solidFill>
                <a:srgbClr val="feb80a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eb80a"/>
              </a:solidFill>
              <a:latin typeface="Franklin Gothic Book"/>
            </a:endParaRPr>
          </a:p>
        </p:txBody>
      </p:sp>
      <p:pic>
        <p:nvPicPr>
          <p:cNvPr id="200" name="Picture 4" descr="http://t3.gstatic.com/images?q=tbn:ANd9GcTx-y6nubXlI2YR8JbqaG0yknXMa81tP-gD8CfyjHFNXwp7RNy2Cg"/>
          <p:cNvPicPr/>
          <p:nvPr/>
        </p:nvPicPr>
        <p:blipFill>
          <a:blip r:embed="rId2"/>
          <a:stretch/>
        </p:blipFill>
        <p:spPr>
          <a:xfrm>
            <a:off x="571680" y="1357200"/>
            <a:ext cx="2833560" cy="2428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http://corelx4.ru/wp-content/uploads/2011/01/deti.jpg"/>
          <p:cNvPicPr/>
          <p:nvPr/>
        </p:nvPicPr>
        <p:blipFill>
          <a:blip r:embed="rId3"/>
          <a:stretch/>
        </p:blipFill>
        <p:spPr>
          <a:xfrm>
            <a:off x="642960" y="392904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360360" y="179280"/>
            <a:ext cx="87836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3333"/>
                </a:solidFill>
                <a:latin typeface="Arial Black"/>
              </a:rPr>
              <a:t>Ю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5c8526"/>
                </a:solidFill>
                <a:latin typeface="Lucida Sans"/>
              </a:rPr>
              <a:t>ЮНЫЕ ИНСПЕКТОРА ДВИ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000680" y="2786040"/>
            <a:ext cx="5000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262699"/>
                </a:solidFill>
                <a:latin typeface="Franklin Gothic Book"/>
              </a:rPr>
              <a:t>Мы - инспектора движения,</a:t>
            </a:r>
            <a:endParaRPr b="0" lang="en-US" sz="2800" spc="-1" strike="noStrike">
              <a:solidFill>
                <a:srgbClr val="feb80a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262699"/>
                </a:solidFill>
                <a:latin typeface="Franklin Gothic Book"/>
              </a:rPr>
              <a:t>Мы знаем положения,</a:t>
            </a:r>
            <a:endParaRPr b="0" lang="en-US" sz="2800" spc="-1" strike="noStrike">
              <a:solidFill>
                <a:srgbClr val="feb80a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262699"/>
                </a:solidFill>
                <a:latin typeface="Franklin Gothic Book"/>
              </a:rPr>
              <a:t>Тот в беду не попадет,</a:t>
            </a:r>
            <a:endParaRPr b="0" lang="en-US" sz="2800" spc="-1" strike="noStrike">
              <a:solidFill>
                <a:srgbClr val="feb80a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262699"/>
                </a:solidFill>
                <a:latin typeface="Franklin Gothic Book"/>
              </a:rPr>
              <a:t>Кто с нами дружбу заведет!</a:t>
            </a:r>
            <a:endParaRPr b="0" lang="en-US" sz="2800" spc="-1" strike="noStrike">
              <a:solidFill>
                <a:srgbClr val="feb80a"/>
              </a:solidFill>
              <a:latin typeface="Franklin Gothic Book"/>
            </a:endParaRPr>
          </a:p>
        </p:txBody>
      </p:sp>
      <p:pic>
        <p:nvPicPr>
          <p:cNvPr id="204" name="Picture 6" descr="http://www.muravlenko.com/uploads/posts/2008-09/1222319886_image001.png"/>
          <p:cNvPicPr/>
          <p:nvPr/>
        </p:nvPicPr>
        <p:blipFill>
          <a:blip r:embed="rId2"/>
          <a:stretch/>
        </p:blipFill>
        <p:spPr>
          <a:xfrm>
            <a:off x="428760" y="1857240"/>
            <a:ext cx="3286080" cy="41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539640" y="179280"/>
            <a:ext cx="84600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3333"/>
                </a:solidFill>
                <a:latin typeface="Arial Black"/>
              </a:rPr>
              <a:t>Я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4000" spc="-1" strike="noStrike">
                <a:solidFill>
                  <a:srgbClr val="5c8526"/>
                </a:solidFill>
                <a:latin typeface="Lucida Sans"/>
              </a:rPr>
              <a:t>ЯДОВИТЫЕ ВЕЩЕСТ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000760" y="214272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262699"/>
                </a:solidFill>
                <a:latin typeface="Franklin Gothic Book"/>
              </a:rPr>
              <a:t>Будь осторожен с незнакомыми веществами и живыми организмами! При отравлении ядовитыми веществами – немедленно обратись к врачу.</a:t>
            </a:r>
            <a:endParaRPr b="0" lang="en-US" sz="2000" spc="-1" strike="noStrike">
              <a:solidFill>
                <a:srgbClr val="feb80a"/>
              </a:solidFill>
              <a:latin typeface="Franklin Gothic Book"/>
            </a:endParaRPr>
          </a:p>
        </p:txBody>
      </p:sp>
      <p:pic>
        <p:nvPicPr>
          <p:cNvPr id="207" name="Picture 4" descr="http://www.ufachildren.ru/images/pravila_bezopasnosti/jadovitie_veshestva.jpeg"/>
          <p:cNvPicPr/>
          <p:nvPr/>
        </p:nvPicPr>
        <p:blipFill>
          <a:blip r:embed="rId2"/>
          <a:stretch/>
        </p:blipFill>
        <p:spPr>
          <a:xfrm>
            <a:off x="2428920" y="3143160"/>
            <a:ext cx="2071800" cy="1792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http://www.phytology.ru/images/stories/Ogorod/Rasteniya/opasnyeyagody/1.jpg"/>
          <p:cNvPicPr/>
          <p:nvPr/>
        </p:nvPicPr>
        <p:blipFill>
          <a:blip r:embed="rId3"/>
          <a:stretch/>
        </p:blipFill>
        <p:spPr>
          <a:xfrm>
            <a:off x="2643120" y="1285920"/>
            <a:ext cx="1762200" cy="1320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http://doctoram.net/wp-content/uploads/2011/10/th_LozWeightInfomercial.jpg"/>
          <p:cNvPicPr/>
          <p:nvPr/>
        </p:nvPicPr>
        <p:blipFill>
          <a:blip r:embed="rId4"/>
          <a:stretch/>
        </p:blipFill>
        <p:spPr>
          <a:xfrm>
            <a:off x="500040" y="5214960"/>
            <a:ext cx="1571760" cy="128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http://gribic.ru/img/cont/im_38.jpg"/>
          <p:cNvPicPr/>
          <p:nvPr/>
        </p:nvPicPr>
        <p:blipFill>
          <a:blip r:embed="rId5"/>
          <a:stretch/>
        </p:blipFill>
        <p:spPr>
          <a:xfrm>
            <a:off x="285840" y="1928880"/>
            <a:ext cx="1643040" cy="1231920"/>
          </a:xfrm>
          <a:prstGeom prst="rect">
            <a:avLst/>
          </a:prstGeom>
          <a:ln w="0">
            <a:noFill/>
          </a:ln>
        </p:spPr>
      </p:pic>
      <p:sp>
        <p:nvSpPr>
          <p:cNvPr id="211" name="Стрелка вверх 9"/>
          <p:cNvSpPr/>
          <p:nvPr/>
        </p:nvSpPr>
        <p:spPr>
          <a:xfrm rot="12000000">
            <a:off x="2208240" y="5036760"/>
            <a:ext cx="285840" cy="428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Стрелка вверх 10"/>
          <p:cNvSpPr/>
          <p:nvPr/>
        </p:nvSpPr>
        <p:spPr>
          <a:xfrm rot="16800000">
            <a:off x="1950840" y="3035160"/>
            <a:ext cx="285840" cy="428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Стрелка вверх 11"/>
          <p:cNvSpPr/>
          <p:nvPr/>
        </p:nvSpPr>
        <p:spPr>
          <a:xfrm>
            <a:off x="3357720" y="2643120"/>
            <a:ext cx="285480" cy="428760"/>
          </a:xfrm>
          <a:prstGeom prst="upArrow">
            <a:avLst>
              <a:gd name="adj1" fmla="val 50000"/>
              <a:gd name="adj2" fmla="val 5006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4" descr="http://v.foto.radikal.ru/0705/b7/9e2a2038025c.jpg"/>
          <p:cNvPicPr/>
          <p:nvPr/>
        </p:nvPicPr>
        <p:blipFill>
          <a:blip r:embed="rId6"/>
          <a:stretch/>
        </p:blipFill>
        <p:spPr>
          <a:xfrm>
            <a:off x="5214960" y="4572000"/>
            <a:ext cx="2286000" cy="1525680"/>
          </a:xfrm>
          <a:prstGeom prst="rect">
            <a:avLst/>
          </a:prstGeom>
          <a:ln w="0">
            <a:noFill/>
          </a:ln>
        </p:spPr>
      </p:pic>
      <p:sp>
        <p:nvSpPr>
          <p:cNvPr id="215" name="Стрелка вверх 13"/>
          <p:cNvSpPr/>
          <p:nvPr/>
        </p:nvSpPr>
        <p:spPr>
          <a:xfrm rot="5400000">
            <a:off x="4714200" y="4571640"/>
            <a:ext cx="285840" cy="428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428760" y="1143000"/>
            <a:ext cx="84582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c8526"/>
                </a:solidFill>
                <a:latin typeface="Times New Roman"/>
                <a:ea typeface="Times New Roman"/>
              </a:rPr>
              <a:t>Ребята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c8526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5c8526"/>
                </a:solidFill>
                <a:latin typeface="Times New Roman"/>
                <a:ea typeface="Times New Roman"/>
              </a:rPr>
              <a:t>Город, в котором с тобою живём, </a:t>
            </a:r>
            <a:br>
              <a:rPr sz="3600"/>
            </a:br>
            <a:r>
              <a:rPr b="1" i="1" lang="ru-RU" sz="3600" spc="-1" strike="noStrike">
                <a:solidFill>
                  <a:srgbClr val="5c8526"/>
                </a:solidFill>
                <a:latin typeface="Times New Roman"/>
                <a:ea typeface="Times New Roman"/>
              </a:rPr>
              <a:t>Можно по праву сравнить с букварём. </a:t>
            </a:r>
            <a:br>
              <a:rPr sz="3600"/>
            </a:br>
            <a:r>
              <a:rPr b="1" i="1" lang="ru-RU" sz="3600" spc="-1" strike="noStrike">
                <a:solidFill>
                  <a:srgbClr val="5c8526"/>
                </a:solidFill>
                <a:latin typeface="Times New Roman"/>
                <a:ea typeface="Times New Roman"/>
              </a:rPr>
              <a:t>Азбука улиц, проспектов, дорог, – </a:t>
            </a:r>
            <a:br>
              <a:rPr sz="3600"/>
            </a:br>
            <a:r>
              <a:rPr b="1" i="1" lang="ru-RU" sz="3600" spc="-1" strike="noStrike">
                <a:solidFill>
                  <a:srgbClr val="5c8526"/>
                </a:solidFill>
                <a:latin typeface="Times New Roman"/>
                <a:ea typeface="Times New Roman"/>
              </a:rPr>
              <a:t>Город всё время даёт нам урок. </a:t>
            </a:r>
            <a:br>
              <a:rPr sz="3600"/>
            </a:br>
            <a:r>
              <a:rPr b="1" i="1" lang="ru-RU" sz="3600" spc="-1" strike="noStrike">
                <a:solidFill>
                  <a:srgbClr val="5c8526"/>
                </a:solidFill>
                <a:latin typeface="Times New Roman"/>
                <a:ea typeface="Times New Roman"/>
              </a:rPr>
              <a:t>Вот она азбука перед тобой, – </a:t>
            </a:r>
            <a:br>
              <a:rPr sz="3600"/>
            </a:br>
            <a:r>
              <a:rPr b="1" i="1" lang="ru-RU" sz="3600" spc="-1" strike="noStrike">
                <a:solidFill>
                  <a:srgbClr val="5c8526"/>
                </a:solidFill>
                <a:latin typeface="Times New Roman"/>
                <a:ea typeface="Times New Roman"/>
              </a:rPr>
              <a:t>Знаки развешаны над головой. </a:t>
            </a:r>
            <a:br>
              <a:rPr sz="3600"/>
            </a:br>
            <a:r>
              <a:rPr b="1" i="1" lang="ru-RU" sz="3600" spc="-1" strike="noStrike">
                <a:solidFill>
                  <a:srgbClr val="5c8526"/>
                </a:solidFill>
                <a:latin typeface="Times New Roman"/>
                <a:ea typeface="Times New Roman"/>
              </a:rPr>
              <a:t>Ты эту азбуку помни всегда, </a:t>
            </a:r>
            <a:br>
              <a:rPr sz="3600"/>
            </a:br>
            <a:r>
              <a:rPr b="1" i="1" lang="ru-RU" sz="3600" spc="-1" strike="noStrike">
                <a:solidFill>
                  <a:srgbClr val="5c8526"/>
                </a:solidFill>
                <a:latin typeface="Times New Roman"/>
                <a:ea typeface="Times New Roman"/>
              </a:rPr>
              <a:t>Чтоб не случилась с тобою бе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0" y="285840"/>
            <a:ext cx="899964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5c8526"/>
                </a:solidFill>
                <a:latin typeface="Lucida Sans"/>
                <a:ea typeface="DejaVu Sans"/>
              </a:rPr>
              <a:t>  </a:t>
            </a:r>
            <a:r>
              <a:rPr b="1" i="1" lang="ru-RU" sz="6600" spc="-1" strike="noStrike">
                <a:solidFill>
                  <a:srgbClr val="ff3333"/>
                </a:solidFill>
                <a:latin typeface="Arial Black"/>
                <a:ea typeface="DejaVu Sans"/>
              </a:rPr>
              <a:t>А</a:t>
            </a:r>
            <a:r>
              <a:rPr b="1" i="1" lang="ru-RU" sz="6600" spc="-1" strike="noStrike">
                <a:solidFill>
                  <a:srgbClr val="5c8526"/>
                </a:solidFill>
                <a:latin typeface="Arial Black"/>
                <a:ea typeface="DejaVu Sans"/>
              </a:rPr>
              <a:t> </a:t>
            </a:r>
            <a:r>
              <a:rPr b="1" i="1" lang="ru-RU" sz="4000" spc="-1" strike="noStrike">
                <a:solidFill>
                  <a:srgbClr val="5c8526"/>
                </a:solidFill>
                <a:latin typeface="Lucida Sans"/>
                <a:ea typeface="DejaVu Sans"/>
              </a:rPr>
              <a:t>  </a:t>
            </a:r>
            <a:r>
              <a:rPr b="1" i="1" lang="ru-RU" sz="3600" spc="-1" strike="noStrike">
                <a:solidFill>
                  <a:srgbClr val="5c8526"/>
                </a:solidFill>
                <a:latin typeface="Lucida Sans"/>
                <a:ea typeface="DejaVu Sans"/>
              </a:rPr>
              <a:t>АВТОМОБИЛЬ    АВТОБУС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5400720" y="1619280"/>
            <a:ext cx="341928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1079640" y="1619280"/>
            <a:ext cx="3857400" cy="23572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5286240" y="1428840"/>
            <a:ext cx="3571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62699"/>
                </a:solidFill>
                <a:latin typeface="Arial"/>
              </a:rPr>
              <a:t>Пассажиры обязаны производить посадку и высадку только после полной остановки транспортного сред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00040" y="4357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62699"/>
                </a:solidFill>
                <a:latin typeface="Arial"/>
              </a:rPr>
              <a:t> </a:t>
            </a:r>
            <a:r>
              <a:rPr b="1" i="1" lang="ru-RU" sz="2800" spc="-1" strike="noStrike">
                <a:solidFill>
                  <a:srgbClr val="262699"/>
                </a:solidFill>
                <a:latin typeface="Arial"/>
              </a:rPr>
              <a:t>Не   выходи  на  дорогу    перед   идущим   транспорто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9" descr="http://t3.gstatic.com/images?q=tbn:ANd9GcTgoWf-G0O1OhPrMhMv59JfoSyuJgC09XfT0DCRZrtPqMQDWvFg1g"/>
          <p:cNvPicPr/>
          <p:nvPr/>
        </p:nvPicPr>
        <p:blipFill>
          <a:blip r:embed="rId3"/>
          <a:stretch/>
        </p:blipFill>
        <p:spPr>
          <a:xfrm>
            <a:off x="6858000" y="4214880"/>
            <a:ext cx="1847880" cy="22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539640" y="357120"/>
            <a:ext cx="795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3333"/>
                </a:solidFill>
                <a:latin typeface="Arial Black"/>
              </a:rPr>
              <a:t>Б</a:t>
            </a:r>
            <a:r>
              <a:rPr b="1" i="1" lang="ru-RU" sz="6600" spc="-1" strike="noStrike">
                <a:solidFill>
                  <a:srgbClr val="2c6e34"/>
                </a:solidFill>
                <a:latin typeface="Franklin Gothic Medium"/>
              </a:rPr>
              <a:t> </a:t>
            </a:r>
            <a:r>
              <a:rPr b="1" i="1" lang="ru-RU" sz="4000" spc="-1" strike="noStrike">
                <a:solidFill>
                  <a:srgbClr val="2c6e34"/>
                </a:solidFill>
                <a:latin typeface="Franklin Gothic Medium"/>
              </a:rPr>
              <a:t>       </a:t>
            </a:r>
            <a:r>
              <a:rPr b="1" i="1" lang="ru-RU" sz="4000" spc="-1" strike="noStrike">
                <a:solidFill>
                  <a:srgbClr val="5c8526"/>
                </a:solidFill>
                <a:latin typeface="Franklin Gothic Medium"/>
              </a:rPr>
              <a:t> БЕЗОПАС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57120" y="285768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62699"/>
                </a:solidFill>
                <a:latin typeface="Arial"/>
                <a:ea typeface="Times New Roman"/>
              </a:rPr>
              <a:t>Помни, каждый учени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62699"/>
                </a:solidFill>
                <a:latin typeface="Arial"/>
                <a:ea typeface="Times New Roman"/>
              </a:rPr>
              <a:t>Знай, любая кроха</a:t>
            </a:r>
            <a:r>
              <a:rPr b="1" i="1" lang="en-US" sz="3200" spc="-1" strike="noStrike">
                <a:solidFill>
                  <a:srgbClr val="262699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62699"/>
                </a:solidFill>
                <a:latin typeface="Arial"/>
                <a:ea typeface="Times New Roman"/>
              </a:rPr>
              <a:t>Безопасность – хорош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62699"/>
                </a:solidFill>
                <a:latin typeface="Arial"/>
                <a:ea typeface="Times New Roman"/>
              </a:rPr>
              <a:t>А халатность – плох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http://uvd-izh.ru/files/images/sobitie/2011.03/%D0%BA%D0%B0%D0%BD%D0%B8%D0%BA%D1%83%D0%BB%D1%8B.jpg"/>
          <p:cNvPicPr/>
          <p:nvPr/>
        </p:nvPicPr>
        <p:blipFill>
          <a:blip r:embed="rId2"/>
          <a:stretch/>
        </p:blipFill>
        <p:spPr>
          <a:xfrm>
            <a:off x="5572080" y="20001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61128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3333"/>
                </a:solidFill>
                <a:latin typeface="Arial Black"/>
                <a:ea typeface="DejaVu Sans"/>
              </a:rPr>
              <a:t>В </a:t>
            </a:r>
            <a:r>
              <a:rPr b="1" i="1" lang="ru-RU" sz="4000" spc="-1" strike="noStrike">
                <a:solidFill>
                  <a:srgbClr val="5c8526"/>
                </a:solidFill>
                <a:latin typeface="Lucida Sans"/>
                <a:ea typeface="DejaVu Sans"/>
              </a:rPr>
              <a:t>              ВЕЛОСИПЕ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4103640" y="1571760"/>
            <a:ext cx="5040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428760" y="1928880"/>
            <a:ext cx="3600360" cy="298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6000840" y="5286240"/>
            <a:ext cx="2286000" cy="1143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4643280" y="1571760"/>
            <a:ext cx="407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62699"/>
                </a:solidFill>
                <a:latin typeface="Arial"/>
              </a:rPr>
              <a:t>Водителям велосипеда запреща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4429080" y="2643120"/>
            <a:ext cx="392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62699"/>
                </a:solidFill>
                <a:latin typeface="Arial"/>
              </a:rPr>
              <a:t>ездить, не держась за руль хотя бы одной рук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62699"/>
                </a:solidFill>
                <a:latin typeface="Arial"/>
              </a:rPr>
              <a:t>двигаться по дороге при наличии рядом велосипедной дорож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539640" y="179280"/>
            <a:ext cx="777240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3333"/>
                </a:solidFill>
                <a:latin typeface="Arial Black"/>
                <a:ea typeface="DejaVu Sans"/>
              </a:rPr>
              <a:t>Г </a:t>
            </a:r>
            <a:r>
              <a:rPr b="1" i="1" lang="ru-RU" sz="4000" spc="-1" strike="noStrike">
                <a:solidFill>
                  <a:srgbClr val="5c8526"/>
                </a:solidFill>
                <a:latin typeface="Lucida Sans"/>
                <a:ea typeface="DejaVu Sans"/>
              </a:rPr>
              <a:t>               ГОЛОЛЁ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4680000" y="1800360"/>
            <a:ext cx="41400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16165d"/>
                </a:solidFill>
                <a:latin typeface="Book Antiqua"/>
                <a:ea typeface="DejaVu Sans"/>
              </a:rPr>
              <a:t>                         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16165d"/>
                </a:solidFill>
                <a:latin typeface="Book Antiqua"/>
                <a:ea typeface="DejaVu Sans"/>
              </a:rPr>
              <a:t>Будь осторожен в гололед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16165d"/>
                </a:solidFill>
                <a:latin typeface="Book Antiqua"/>
                <a:ea typeface="DejaVu Sans"/>
              </a:rPr>
              <a:t>По покрытому льдом тротуару ходи  медленно, не спеша!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179280" y="2000160"/>
            <a:ext cx="4140360" cy="4119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6300720" y="4500720"/>
            <a:ext cx="2071800" cy="16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95280" y="289080"/>
            <a:ext cx="82296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3333"/>
                </a:solidFill>
                <a:latin typeface="Arial Black"/>
                <a:ea typeface="DejaVu Sans"/>
              </a:rPr>
              <a:t>Д</a:t>
            </a:r>
            <a:r>
              <a:rPr b="1" i="1" lang="ru-RU" sz="4400" spc="-1" strike="noStrike">
                <a:solidFill>
                  <a:srgbClr val="2c6e34"/>
                </a:solidFill>
                <a:latin typeface="Lucida Sans"/>
                <a:ea typeface="DejaVu Sans"/>
              </a:rPr>
              <a:t>           </a:t>
            </a:r>
            <a:r>
              <a:rPr b="1" i="1" lang="ru-RU" sz="4400" spc="-1" strike="noStrike">
                <a:solidFill>
                  <a:srgbClr val="5c8526"/>
                </a:solidFill>
                <a:latin typeface="Lucida Sans"/>
                <a:ea typeface="DejaVu Sans"/>
              </a:rPr>
              <a:t>ДОРОГА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286160" y="2071800"/>
            <a:ext cx="4400640" cy="43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191966"/>
                </a:solidFill>
                <a:latin typeface="Book Antiqua"/>
                <a:ea typeface="DejaVu Sans"/>
              </a:rPr>
              <a:t>Помните и стар и млад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191966"/>
                </a:solidFill>
                <a:latin typeface="Book Antiqua"/>
                <a:ea typeface="DejaVu Sans"/>
              </a:rPr>
              <a:t>Выполняйте строго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191966"/>
                </a:solidFill>
                <a:latin typeface="Book Antiqua"/>
                <a:ea typeface="DejaVu Sans"/>
              </a:rPr>
              <a:t>Пешеходу  - тротуар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191966"/>
                </a:solidFill>
                <a:latin typeface="Book Antiqua"/>
                <a:ea typeface="DejaVu Sans"/>
              </a:rPr>
              <a:t>Транспорту – дорога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8" descr="I:\Безымянный2.jpg"/>
          <p:cNvPicPr/>
          <p:nvPr/>
        </p:nvPicPr>
        <p:blipFill>
          <a:blip r:embed="rId2"/>
          <a:stretch/>
        </p:blipFill>
        <p:spPr>
          <a:xfrm>
            <a:off x="6572160" y="785880"/>
            <a:ext cx="1768680" cy="1768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http://t0.gstatic.com/images?q=tbn:ANd9GcSvgFjxWkEtohDGnOC8Ym0hGNhzRBR1r5qp6zHUVt5faMqPtUvB"/>
          <p:cNvPicPr/>
          <p:nvPr/>
        </p:nvPicPr>
        <p:blipFill>
          <a:blip r:embed="rId3"/>
          <a:stretch/>
        </p:blipFill>
        <p:spPr>
          <a:xfrm>
            <a:off x="642960" y="2500200"/>
            <a:ext cx="30718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5000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3333"/>
                </a:solidFill>
                <a:latin typeface="Arial Black"/>
              </a:rPr>
              <a:t>Е </a:t>
            </a:r>
            <a:r>
              <a:rPr b="1" i="1" lang="ru-RU" sz="4400" spc="-1" strike="noStrike">
                <a:solidFill>
                  <a:srgbClr val="2c6e34"/>
                </a:solidFill>
                <a:latin typeface="Lucida Sans"/>
              </a:rPr>
              <a:t>                </a:t>
            </a:r>
            <a:r>
              <a:rPr b="1" i="1" lang="ru-RU" sz="4400" spc="-1" strike="noStrike">
                <a:solidFill>
                  <a:srgbClr val="5c8526"/>
                </a:solidFill>
                <a:latin typeface="Lucida Sans"/>
              </a:rPr>
              <a:t>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4140360" y="1655640"/>
            <a:ext cx="428436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62699"/>
                </a:solidFill>
                <a:latin typeface="Franklin Gothic Book"/>
              </a:rPr>
              <a:t>Нельзя разводить огонь под сухими елями и  другими сухими деревь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1071720" y="1857240"/>
            <a:ext cx="2046240" cy="308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астасия</dc:creator>
  <dc:description/>
  <dc:language>en-US</dc:language>
  <cp:lastModifiedBy>ольга</cp:lastModifiedBy>
  <dcterms:modified xsi:type="dcterms:W3CDTF">2012-01-12T15:37:09Z</dcterms:modified>
  <cp:revision>223</cp:revision>
  <dc:subject/>
  <dc:title>Департамент образования города Москвы Юго-Восточное окружное управление образования Государственное образовательное учреждение Средняя общеобразовательная школа №499</dc:title>
</cp:coreProperties>
</file>