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64B-C106-4740-933C-C5CFDC31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C48-DAF6-4437-B92E-79160E60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883-6F67-468C-B0B7-002BD98E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B66-CA33-4962-A6F0-86C9678E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382C-56A1-4EED-8203-8CBEEFBF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CA36-84DA-418D-B621-A230F072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820B-A2B3-406C-AA7C-C53FDA2A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CBDF-B1BD-4B4B-B7AC-D4FB5BA5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56203-E03B-4155-AFD2-83155064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AA9A-0388-4833-845A-544B7DF4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BDC4-EA5D-49DD-829E-B6E95F0C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E8D-98DA-4101-9D1F-E13A684F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CDE8-9899-4A7B-91CC-AD6FEA6D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F7EB-6A7A-45FB-8380-269DEFAF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DD31-FD1D-4B01-9AA7-606EB502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51DE-027F-4BFC-AFF1-3F52E161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EF3B-0D8E-4EA9-BA3E-EF743B76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6F3D-76AD-4B63-9C3F-7FA4BFC3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FAD-2D23-4652-AA80-7458AB6E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859-058E-4685-9929-9A193389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D7C1-82FB-4C00-9C8B-27B8546E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E07-3F49-4AD9-8119-896BFB6B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94C-BB50-49B7-A82F-C3351058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D09-17F3-48B6-93E8-EBCBCBDD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CB7F-4830-4378-A416-ADD0830D3B1E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" name="Picture 7" descr="фон 1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C709-B454-41D5-9A9C-AA81E15AC8DF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фон 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050920" y="2637000"/>
            <a:ext cx="5113440" cy="11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b66d"/>
                    </a:gs>
                  </a:gsLst>
                  <a:lin ang="5400000"/>
                </a:gradFill>
                <a:latin typeface="Comic Sans MS"/>
              </a:rPr>
              <a:t>Macromedia Flash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cc3300"/>
                  </a:gs>
                  <a:gs pos="100000">
                    <a:srgbClr val="ffb66d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1056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Анти-реклам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2060640"/>
            <a:ext cx="20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Ролик №1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1096920" cy="2016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08000" y="2708280"/>
            <a:ext cx="20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Ролик №2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4360" y="3573360"/>
            <a:ext cx="20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Ролик №3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3640" y="4292640"/>
            <a:ext cx="20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Ролик №4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5084640"/>
            <a:ext cx="20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Ролик №5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788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50872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348000" y="5229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08720" y="5157720"/>
            <a:ext cx="20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Ролик №6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759636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4264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Что нам скажут эксперты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1866960" cy="216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20:44:24Z</dcterms:created>
  <dc:creator>Арзамасцева Людмила</dc:creator>
  <dc:description/>
  <dc:language>en-US</dc:language>
  <cp:lastModifiedBy>Учитель</cp:lastModifiedBy>
  <dcterms:modified xsi:type="dcterms:W3CDTF">2008-12-06T11:33:10Z</dcterms:modified>
  <cp:revision>38</cp:revision>
  <dc:subject/>
  <dc:title>Пищевые добавки жевательных резинок</dc:title>
</cp:coreProperties>
</file>