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C534-6B6F-44A5-BC99-D6324AF85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781B-DFF4-4786-8DFA-007768E36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FF58-ECD9-44B8-B600-6EDC606CD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8778-0A3D-4BFB-ACB0-02C15072A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BC3E1-A9AA-47BA-A684-5BA736B4D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A14A7-D658-4FB3-ADCC-B20AE56A7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572D8-73D5-4750-9B62-66B2378EF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63DBA-DBA3-446C-9272-12C84C259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BA3E9-3DAF-46D7-95A9-CD2E92CC9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8EBCD-FBEE-47AC-AB57-60FD00487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1EE03-3556-4F83-8BC0-58FF96180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6830-6CFC-4BED-8F54-7AEBD1BF1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F49E7-4D8E-458E-B95B-527C55E76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79F2E-B8CF-4CEA-A280-F7EB779E0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55383-3314-4978-81D3-E51432E6A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C899E-AE38-4D43-A3AC-8D7C60FBE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7F9C9-1A12-4A8E-BA2A-BE19540C6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02E1-BC6B-4D72-9D35-3B0B80F20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AE5F-3ED5-447D-AB77-A362C0990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5529-CC5D-46A8-B474-50EDD56EE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8754-0720-4477-B1D6-20B9C1864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F9AD-DCBE-4C27-B919-B3065412B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4CD2-FF88-455F-9E16-E426D33C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73E3-7759-4EBB-9F2E-72DBB99B8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BF247-B3C9-4BBA-BF41-AF1F2F9C0F4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17991-393D-4A14-BABC-E4442E9DF16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ПЕТР ВЕЛИКИЙ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Царь-работни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сю жизнь учился и заставлял учиться своих подданны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нал множество ремесе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Говорил на нескольких иностранных языка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ог управлять корабле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ыл великим полководцем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500"/>
                            </p:stCondLst>
                            <p:childTnLst>
                              <p:par>
                                <p:cTn id="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МЕЧТЫ ПЕТРА 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ЧТОБЫ В РОССИИ РАЗВИВАЛИСЬ НАУКА И ИСКУССТ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ИГЛАШАЛ ИЗ-ЗА ГРАНИЦЫ УЧЕНЫХ, ХУДОЖНИКОВ, ИНЖЕНЕР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НОСТРАНЦЫ ЗНАКОМИЛИ РОССИЯН С ЕВРОПЕЙСКОЙ КУЛЬТУРОЙ, НАУЧНЫМИ ОТКРЫТИЯМИ И ТЕХНИЧЕСКИМИ НОВИНКА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0" lang="en-US" sz="3600" spc="-1" strike="noStrike">
                <a:solidFill>
                  <a:srgbClr val="ff0066"/>
                </a:solidFill>
                <a:latin typeface="Tahoma"/>
              </a:rPr>
              <a:t>1725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ГОДУ ИМПЕРАТОР ОСНОВАЛ В САНКТ-ПЕТЕРБУРГЕ </a:t>
            </a:r>
            <a:r>
              <a:rPr b="0" lang="en-US" sz="3600" spc="-1" strike="noStrike">
                <a:solidFill>
                  <a:srgbClr val="ff0066"/>
                </a:solidFill>
                <a:latin typeface="Tahoma"/>
              </a:rPr>
              <a:t>АКАДЕМИЮ НАУК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000"/>
                            </p:stCondLst>
                            <p:childTnLst>
                              <p:par>
                                <p:cTn id="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ВЫВОД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БЛАГОДАРЯ ПРЕОБРАЗОВАНИЯМ ПЕТРА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РОССИЯ ПРЕВРАТИЛАСЬ В ОДНО ИЗ СИЛЬНЕЙШИХ ГОСУДАРСТВ ЕВРОП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 rot="20831400">
            <a:off x="468360" y="465300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66"/>
                </a:solidFill>
                <a:latin typeface="Tahoma"/>
              </a:rPr>
              <a:t>ИМПЕР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391200">
            <a:off x="4355640" y="4724280"/>
            <a:ext cx="50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66"/>
                </a:solidFill>
                <a:latin typeface="Tahoma"/>
              </a:rPr>
              <a:t>САНКТ-ПЕТЕРБУР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050920" y="580536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66"/>
                </a:solidFill>
                <a:latin typeface="Tahoma"/>
              </a:rPr>
              <a:t>АКАДЕМИЯ НАУ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700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200"/>
                            </p:stCondLst>
                            <p:childTnLst>
                              <p:par>
                                <p:cTn id="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700"/>
                            </p:stCondLst>
                            <p:childTnLst>
                              <p:par>
                                <p:cTn id="1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200"/>
                            </p:stCondLst>
                            <p:childTnLst>
                              <p:par>
                                <p:cTn id="1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7T09:11:33Z</dcterms:created>
  <dc:creator>Администратор</dc:creator>
  <dc:description/>
  <dc:language>en-US</dc:language>
  <cp:lastModifiedBy>Марина</cp:lastModifiedBy>
  <dcterms:modified xsi:type="dcterms:W3CDTF">2007-12-17T16:50:53Z</dcterms:modified>
  <cp:revision>2</cp:revision>
  <dc:subject/>
  <dc:title>ПЕТР ВЕЛИКИЙ</dc:title>
</cp:coreProperties>
</file>