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AFD-BA65-433A-A481-5BD8CA0D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1A9-3EFB-407E-A6BD-087E38C0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40D-934B-4601-80DD-A0FDDB3E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725-46FF-44C3-B25C-82C88FAF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2179-D214-48ED-A7C1-4268257A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D1C9-5AF3-45BC-9D1A-FB210231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271C-0EA6-4113-8768-7276CD42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47CF-8281-40DD-A10B-1C477BC7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2E41-FA75-4C2C-8B31-063DBC4D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677E-2991-4DDC-87C3-B43BE9CB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6DFB-1BCF-46AD-9ACC-5B4D4B42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C5A-D7C5-462F-BDF9-8D571033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7F4F-C49E-49F6-993E-CD4621C2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EE84-2655-4818-ADDE-A0E35E73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86C1-1997-4713-B554-F0B7E188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4B20-5B16-48C6-A043-32E480FB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1AFB-7037-452E-8F3D-16FF424E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1B1-028C-4F2C-85A6-A0BA0A6A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16E-40A7-4AD4-9F1A-4C29B95C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B38-6AE0-4F97-83A7-A610D251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855-9D7A-4060-BAB8-1F3DBCEA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B93-89F4-4BE5-8F18-610AEE3F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20C-A00C-4A70-BF2D-279A491D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531-7F7E-4BCD-838F-B55372B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BD5E-5B39-4C46-B6E1-7BE318D36C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35F1-267B-42CF-8A3D-B81EC751EF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чему события начала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VII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века называются Смутным временем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853800">
            <a:off x="4932360" y="2349360"/>
            <a:ext cx="3816360" cy="360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20457000">
            <a:off x="582120" y="2112840"/>
            <a:ext cx="4038840" cy="36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ЧЕМУ МИНИН И ПОЖАРСКИЙ СТАЛИ НАРОДНЫМИ ГЕРОЯМИ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820872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В 1613 году руководители народного ополчения собрали в Москве Земский собор. Какой вопрос решался на соборе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21260400">
            <a:off x="537840" y="2844720"/>
            <a:ext cx="4248000" cy="338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699600">
            <a:off x="5726160" y="2940120"/>
            <a:ext cx="301788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09:03:15Z</dcterms:created>
  <dc:creator>Администратор</dc:creator>
  <dc:description/>
  <dc:language>en-US</dc:language>
  <cp:lastModifiedBy>Марина</cp:lastModifiedBy>
  <dcterms:modified xsi:type="dcterms:W3CDTF">2007-12-17T17:02:32Z</dcterms:modified>
  <cp:revision>4</cp:revision>
  <dc:subject/>
  <dc:title>повторение</dc:title>
</cp:coreProperties>
</file>