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A4C-BC98-4FC9-A17B-D8981CB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A95-EDBA-4654-B947-E2A6B38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F6F-F86E-4E70-839E-31DCA62D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78C-DBED-4F3E-9702-FD53D42F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764-92F6-4B26-8D78-DA8C6722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EDC-25F5-4F9D-8862-D3F9B0E0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2FD-C168-45EB-A069-4854F912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3152-F1FD-4558-9863-3948E82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13BB-0EE6-4C80-8392-2563499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828-4378-4935-91F5-665ED3E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21A0-47CF-43AE-A520-1D36C41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163-66C5-4290-AE73-D2EC969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241C-3162-4B64-8730-2AF8965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582-1266-43D2-9935-ECF29D2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7147-4E1A-49A4-B768-09C75849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1F81-3201-4D29-9901-8EF70484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ABA-4E33-4653-BC24-215E2A69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756-19C8-4D6C-8556-B3C688A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C38-4A0D-4D38-9F34-0DAFF7F3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6E0-52EB-4E07-8C26-707D821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FCC-EF51-4868-ADC0-921E798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568-C7E5-4C80-A93D-EEF2CFA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5C6-DBE6-439E-842F-600ED15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398-35CD-4086-93EC-1243D31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A93-B65B-4DB5-AB8A-9060F8741C5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156F-0CEB-4FAE-B9D0-F573C47CD9B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2960" y="1828440"/>
            <a:ext cx="5272200" cy="119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Юность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3213000"/>
            <a:ext cx="60325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Петра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57340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ченица 3-к класса МОУ школы №92 Коренная Нас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3772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Ещё с детства Пётр отличался своими способностями. Он был подвижный и смышлёный мальчик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 все дети, царевич очень любил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грать. Его любимой игрой была       игра в войну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11280" y="981000"/>
          <a:ext cx="345600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34560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3772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Царевичу на потеху собрал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одходящих по возрасту детей 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тали обучать как настоящих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олдат. С утра до вечера царевич проводил время со своим войском, которое называлось «потешным»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671640" cy="46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3772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За всякое интересное для нег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дело Пётр брался с удовольствием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И учился тоже с большой охотой. Очень полюбилась Петру История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Он хотел знать, как жили люд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раньше, подробно разбирал военны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аталии (сражения) прошлых лет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размышляя, каким образом можн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ыло одержать победу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219640" y="620640"/>
            <a:ext cx="34927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 вот пролетели годы детства, и Пётр превратился в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юношу высокого роста, с горделиво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осанкой и горящим взглядо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сю свою жизнь Петр был необычайно усерден и трудолюбив, отличался необыкновенным умом и сильным характеро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620640"/>
          <a:ext cx="43182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43182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84360" y="333360"/>
            <a:ext cx="3741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060280"/>
            <a:ext cx="6400800" cy="1724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0" lang="en-US" sz="8000" spc="-1" strike="noStrike">
                <a:solidFill>
                  <a:srgbClr val="0066ff"/>
                </a:solidFill>
                <a:latin typeface="Comic Sans MS"/>
              </a:rPr>
              <a:t>О</a:t>
            </a: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Н</a:t>
            </a:r>
            <a:r>
              <a:rPr b="0" lang="en-US" sz="8000" spc="-1" strike="noStrike">
                <a:solidFill>
                  <a:srgbClr val="0066ff"/>
                </a:solidFill>
                <a:latin typeface="Comic Sans MS"/>
              </a:rPr>
              <a:t>Е</a:t>
            </a: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Ц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4:03:04Z</dcterms:created>
  <dc:creator>Юра</dc:creator>
  <dc:description/>
  <dc:language>en-US</dc:language>
  <cp:lastModifiedBy>Марина</cp:lastModifiedBy>
  <dcterms:modified xsi:type="dcterms:W3CDTF">2007-12-17T16:50:03Z</dcterms:modified>
  <cp:revision>6</cp:revision>
  <dc:subject/>
  <dc:title>Юность </dc:title>
</cp:coreProperties>
</file>