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155-9BAF-44C6-8C58-1719103E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15A-3604-4FFD-A17B-61186F4B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7B7-75A6-4347-88E1-F7F957ED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F8A-47DA-489A-88E0-B269B3D5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58EB-678A-44D8-AFBF-A6D71955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7853-B115-4F95-87FB-BB447B6B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ACA8-976E-4B7C-839E-E656A7F1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852E-7501-4AE8-8C17-B393E806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0FC9-045B-438E-B1C7-D52E66E1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DDC5-F420-48A3-922A-7529A154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C45B-F792-4221-8249-507C7803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C3A-6BF0-4C79-998A-9FEFBC02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8D43-B12D-4EAB-B717-836D43EF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FD13-F5DE-49F4-BD44-B08BCE48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7345-C0FB-456E-9F04-7BB02DF9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A4C9-8D16-4BB1-BD73-73B1FA58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6D08-5444-49DB-BDAE-8856AFA4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C01-09BB-4B0C-BDE2-2C8459CD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528-7BF4-4954-A9C0-28D2BE57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B05-113A-481E-8534-4D2E9E32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1F8-6DB5-4858-9C57-2CDC392D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0ED-5482-414D-AA8C-AA50D0D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066-E604-4CA3-98C4-80A05756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CDE-94DA-4A08-9696-C8297A1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C495-226B-4C40-96F6-F200307545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A112-15E2-41EA-AC51-B133F57CAF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08000" y="549000"/>
            <a:ext cx="543564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ДНЫЙ ВСАДНИК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памятник Петру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48000" y="5084280"/>
            <a:ext cx="3416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ченик 3-к класса МОУ школы № 9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усинов Макси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21191400">
            <a:off x="395280" y="765000"/>
            <a:ext cx="3240000" cy="530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Медный всадни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 столетию со дня рождения Петра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мператрица Екатерин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I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думала воздвигнуть памятник великому царю и пригласила из Франции знаменитого парижского скульптора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Этьена Мориса Фалькон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альконе приехал в Петербург вместе со своей молодой ученицей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Мари Анн Кол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454800">
            <a:off x="5292360" y="1989000"/>
            <a:ext cx="316692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988"/>
                            </p:stCondLst>
                            <p:childTnLst>
                              <p:par>
                                <p:cTn id="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98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988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Эскиз памят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есто выбрали на берегу Невы, близко от Адмиралтей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Фальконе сделал много рисунков великого царя, но все они ему не нравились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Эскиз головы Петра, который удовлетворил мэтра, выполнила за одну ночь его учениц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награду Екатерина сделала девушку членом Российской академии художест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442200">
            <a:off x="5292720" y="1557000"/>
            <a:ext cx="302436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4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4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44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94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60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Гром – камен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388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постамента памятника была выбрана огромная скала, которую нашли в 12 верстах от города в окрестностях Лахты. Когда-то в неё ударила молния, поэтому её назвали «Гром-камень»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тарые люди рассказывали, что с этого камня и сам Пётр не ра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матривал окрест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Вид Гром-камня во время перевозки. Худ. Я. ван Шлей, 1770-е"/>
          <p:cNvPicPr/>
          <p:nvPr/>
        </p:nvPicPr>
        <p:blipFill>
          <a:blip r:embed="rId1"/>
          <a:stretch/>
        </p:blipFill>
        <p:spPr>
          <a:xfrm>
            <a:off x="4067280" y="1341360"/>
            <a:ext cx="507672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728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728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Доставка скал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ставка скалы в Петербург было делом крайне трудоёмким и заняла два год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дно только её перемещение до залива заняло около четырёх месяце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тобы погрузить на него скалу, корабль пришлось сначала затопить, а потом уже вместе с камнем поднимать, откачивая вод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се это было крайне опасно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10508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43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6 сентября 1770 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мень благополучно выгрузили с корабля в Санкт-Петербург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честь такого события императрица приказала  выбить  медаль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  одной стороне был изображен «Гром-камень», на другой – надпись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«Дерзновению подобно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48320" y="1052640"/>
          <a:ext cx="449568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052640"/>
                    <a:ext cx="449568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РАБОТА НАД СКУЛЬПТУРОЙ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632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Теперь Фальконе мог приступить к работ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над скульптурой 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День за днём ему позировал наездник из государевой конюшн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Эскиз памятника был готов и получил высшее одобр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кульптора опиралась только на две точки - задние ноги коня. Чтобы она надёжно держалась, Фальконе придумал змея, которого конь попирает ногами. Этот змей стал третей опоро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Сенатская (Петровская) площадь и памятник Петру I. Худ. Б. Патерсен. 1799 г."/>
          <p:cNvPicPr/>
          <p:nvPr/>
        </p:nvPicPr>
        <p:blipFill>
          <a:blip r:embed="rId1"/>
          <a:stretch/>
        </p:blipFill>
        <p:spPr>
          <a:xfrm>
            <a:off x="2050920" y="3860640"/>
            <a:ext cx="504036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8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3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8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3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80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425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стал торжественный день открытия –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9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7 августа 1782 год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9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овно сто лет назад Пётр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вступил на престо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9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9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91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Санкт-Петербург Медный всадник"/>
          <p:cNvPicPr/>
          <p:nvPr/>
        </p:nvPicPr>
        <p:blipFill>
          <a:blip r:embed="rId1"/>
          <a:stretch/>
        </p:blipFill>
        <p:spPr>
          <a:xfrm>
            <a:off x="2124000" y="1413000"/>
            <a:ext cx="518472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1169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69"/>
                            </p:stCondLst>
                            <p:childTnLst>
                              <p:par>
                                <p:cTn id="1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169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169"/>
                            </p:stCondLst>
                            <p:childTnLst>
                              <p:par>
                                <p:cTn id="1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15:17:15Z</dcterms:created>
  <dc:creator>maks</dc:creator>
  <dc:description/>
  <dc:language>en-US</dc:language>
  <cp:lastModifiedBy>Марина</cp:lastModifiedBy>
  <dcterms:modified xsi:type="dcterms:W3CDTF">2007-12-17T16:52:13Z</dcterms:modified>
  <cp:revision>9</cp:revision>
  <dc:subject/>
  <dc:title>ПАМЯТНИК</dc:title>
</cp:coreProperties>
</file>