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335-712F-487C-B5B2-21756ACE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6D6-30C2-4E26-B121-D7713E18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92D-10C1-4CE7-979B-9DEB53DB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51A-739B-4CE1-80D6-14CA1255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879C-B2EE-4558-913D-A940C80B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6421-6CE1-4180-9867-07FA6502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61CE-6D21-44CB-B18C-27B35734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3358-D237-4792-BD2D-6A9F95E0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BD6F-7537-4EBA-A93F-2630A973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3179-71D8-492A-9C2F-104F256F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D66B-51AD-4BE4-BC9D-F8F60A0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DFE-D036-4CFF-B102-B2131A5E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3A11-CE0C-4E7F-81B4-FF7A45A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1DDE-59F7-4B5F-8349-11960D2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F691-C4C7-4931-8E27-822CA302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56D6-419E-4C0E-A0D6-9C689F9C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2C9F-71F3-4BDE-8AD2-C49D88C5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1E9-5AAD-4CA3-9B62-6774E2B9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A22-02AD-4C06-AA57-42EB994D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48B-71DA-4D8A-A0AD-D1F2A8DB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FD9-DA04-472A-AF20-F282F604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0E9-A396-4AFD-9AEC-1C124B7A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50D-4C58-4A0D-98AC-8202F0F3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9FD-D856-480A-8F63-3DDDE87C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2467-1C31-4780-B542-FA8F7A8508A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426A-F9CF-4D9C-9A0A-7924ECE9D06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ЧТО УЗНАЛ НОВОГО НА УРОКЕ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ЧТО ЗАПОМНИЛОСЬ БОЛЬШЕ ВСЕГ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КАК РАБОТАЛОСЬ СЕГОДНЯ КАЖДОМУ ИЗ ВАС? ЧТО МЕШАЛО? ЧТО ПОМОГАЛ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 КАКИМ НАСТРОЕНИЕМ ЗАКАНЧИВАЕТЕ УРОК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09:14:52Z</dcterms:created>
  <dc:creator>Администратор</dc:creator>
  <dc:description/>
  <dc:language>en-US</dc:language>
  <cp:lastModifiedBy>Марина</cp:lastModifiedBy>
  <dcterms:modified xsi:type="dcterms:W3CDTF">2007-12-17T17:00:50Z</dcterms:modified>
  <cp:revision>3</cp:revision>
  <dc:subject/>
  <dc:title>РЕФЛЕКСИЯ</dc:title>
</cp:coreProperties>
</file>