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748-6FB2-4352-AB2F-7F7C9FC9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C52-4D37-4F22-8B7B-5203785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567-54E8-4B88-AEA8-74B6155B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419-9B4C-451F-B606-75EF10AC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E6F-7729-4669-A58B-98B3B7A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25B-A75D-4E99-8681-56D14F2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097-AFD3-438E-8333-29E0004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3C8-700C-4F0F-9D52-A48F057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31B-D036-4013-8485-207E6FD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F17-5411-4E39-B700-3FF619C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738-39F0-4272-921A-1815203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2C6-79EE-41D4-8CD0-070A26A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A12-1894-4DC8-9A02-79BD8122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7:03:48Z</dcterms:created>
  <dc:creator>Администратор</dc:creator>
  <dc:description/>
  <dc:language>en-US</dc:language>
  <cp:lastModifiedBy>Администратор</cp:lastModifiedBy>
  <dcterms:modified xsi:type="dcterms:W3CDTF">2004-03-10T17:03:48Z</dcterms:modified>
  <cp:revision>1</cp:revision>
  <dc:subject/>
  <dc:title>Слайд 1</dc:title>
</cp:coreProperties>
</file>