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6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0.jpeg" ContentType="image/jpeg"/>
  <Override PartName="/ppt/media/image17.jpeg" ContentType="image/jpeg"/>
  <Override PartName="/ppt/media/image4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23.jpeg" ContentType="image/jpeg"/>
  <Override PartName="/ppt/media/image82.jpeg" ContentType="image/jpeg"/>
  <Override PartName="/ppt/media/image76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7.jpeg" ContentType="image/jpeg"/>
  <Override PartName="/ppt/media/image64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7.jpeg" ContentType="image/jpeg"/>
  <Override PartName="/ppt/media/image81.png" ContentType="image/png"/>
  <Override PartName="/ppt/media/image1.jpeg" ContentType="image/jpeg"/>
  <Override PartName="/ppt/media/image35.jpeg" ContentType="image/jpeg"/>
  <Override PartName="/ppt/media/image24.jpeg" ContentType="image/jpeg"/>
  <Override PartName="/ppt/media/image25.jpeg" ContentType="image/jpeg"/>
  <Override PartName="/ppt/media/image2.png" ContentType="image/png"/>
  <Override PartName="/ppt/media/image72.jpeg" ContentType="image/jpeg"/>
  <Override PartName="/ppt/media/image26.jpeg" ContentType="image/jpeg"/>
  <Override PartName="/ppt/media/image50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C428-91D5-4716-A715-01C038A07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2582-18FD-4BCC-A76B-D714D70B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A32D-141F-46E7-B222-6A835126F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D0C6-2793-4744-A057-652D812D7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ED6CC7-3EC1-417B-8778-8C37CDF9E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9DC0B-C088-4D0F-9776-127474CF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3C8F2D-D631-41B7-8A62-FE0D0AA2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588DB-7166-48C8-BF89-BC8461B3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66FF9-BBEC-4634-969B-E424D61F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C0893-3838-4340-9CDB-3BA7C5DA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F9331-0092-4BFD-95D1-0E61CB00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C295-FAC0-49E0-B211-462F9CEE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A57AD2-2689-4E34-9B77-2D4EB64A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8F0CD2-1451-4EB9-8B38-E4DD6194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55FE3D-C260-499F-A0F9-B210025A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A6E0D-21E4-4E83-A13B-47F247497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9CC61-7AB1-45EE-943A-36D9AABF0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D740-750A-4E8D-B47A-EDDB4A48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B607-2A06-4388-9436-26BE5C2A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7557-DB21-49EC-86E2-9EECB528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7375-5EF0-467C-928B-AA327D5C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E6E1-6A0F-4565-BA93-9C58FAFB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4C30-4CD3-4F25-8E25-BB79A273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4A6E-B0F8-4AEF-AD48-E5925E74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338E-A969-496C-B529-B85C323CA7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4B56-77DD-46AF-8D6F-C914D7B131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image" Target="../media/image39.jpeg"/><Relationship Id="rId11" Type="http://schemas.openxmlformats.org/officeDocument/2006/relationships/image" Target="../media/image40.jpeg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image" Target="../media/image45.jpeg"/><Relationship Id="rId7" Type="http://schemas.openxmlformats.org/officeDocument/2006/relationships/image" Target="../media/image46.jpeg"/><Relationship Id="rId8" Type="http://schemas.openxmlformats.org/officeDocument/2006/relationships/image" Target="../media/image47.jpeg"/><Relationship Id="rId9" Type="http://schemas.openxmlformats.org/officeDocument/2006/relationships/image" Target="../media/image48.jpe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image" Target="../media/image58.jpe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image" Target="../media/image59.jpeg"/><Relationship Id="rId7" Type="http://schemas.openxmlformats.org/officeDocument/2006/relationships/image" Target="../media/image60.jpeg"/><Relationship Id="rId8" Type="http://schemas.openxmlformats.org/officeDocument/2006/relationships/image" Target="../media/image62.jpeg"/><Relationship Id="rId9" Type="http://schemas.openxmlformats.org/officeDocument/2006/relationships/image" Target="../media/image63.jpeg"/><Relationship Id="rId10" Type="http://schemas.openxmlformats.org/officeDocument/2006/relationships/image" Target="../media/image61.jpe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image" Target="../media/image67.jpeg"/><Relationship Id="rId6" Type="http://schemas.openxmlformats.org/officeDocument/2006/relationships/image" Target="../media/image68.jpeg"/><Relationship Id="rId7" Type="http://schemas.openxmlformats.org/officeDocument/2006/relationships/image" Target="../media/image69.jpeg"/><Relationship Id="rId8" Type="http://schemas.openxmlformats.org/officeDocument/2006/relationships/image" Target="../media/image70.jpeg"/><Relationship Id="rId9" Type="http://schemas.openxmlformats.org/officeDocument/2006/relationships/image" Target="../media/image71.jpe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image" Target="../media/image78.jpe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1.png"/><Relationship Id="rId3" Type="http://schemas.openxmlformats.org/officeDocument/2006/relationships/image" Target="../media/image81.png"/><Relationship Id="rId4" Type="http://schemas.openxmlformats.org/officeDocument/2006/relationships/image" Target="../media/image81.png"/><Relationship Id="rId5" Type="http://schemas.openxmlformats.org/officeDocument/2006/relationships/image" Target="../media/image81.png"/><Relationship Id="rId6" Type="http://schemas.openxmlformats.org/officeDocument/2006/relationships/image" Target="../media/image82.jpe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Урок мировой художественной культуры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11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1067040" y="6021360"/>
            <a:ext cx="750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презентации звучит музыка композиторов – импрессионис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лода Дебюсси и Мориса Раве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583480" y="6251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20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79560" y="189000"/>
            <a:ext cx="714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Художников –импрессионистов объединял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субъективное переживание света, цвета, тени, отражений 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поверхности предме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195640" y="549360"/>
            <a:ext cx="4711680" cy="58258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326680" y="6332400"/>
            <a:ext cx="30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Клод Моне. Цветущий сад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2268360" y="549360"/>
            <a:ext cx="4596120" cy="59054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190600" y="549360"/>
            <a:ext cx="28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Эдуард Мане. Сирен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2484360" y="318960"/>
            <a:ext cx="4213440" cy="62056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559600" y="0"/>
            <a:ext cx="279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Клод Моне. Руанский собо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958680" y="888840"/>
            <a:ext cx="7226640" cy="50803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990000" y="932040"/>
            <a:ext cx="29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Камиль Писсарро. Мороз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1116000" y="1268280"/>
            <a:ext cx="6767640" cy="53118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943920" y="765000"/>
            <a:ext cx="504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Камиль Писсарро. Бульвар Монмартр в Париж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8604360" y="5589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7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7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7000"/>
                            </p:stCondLst>
                            <p:childTnLst>
                              <p:par>
                                <p:cTn id="267" nodeType="afterEffect" fill="hold" presetClass="exit" presetID="4" presetSubtype="16">
                                  <p:stCondLst>
                                    <p:cond delay="5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49068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8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8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8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8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8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8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8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8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8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8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8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8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8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8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8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8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8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8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8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8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8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8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8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8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8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8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8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8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66320" y="333360"/>
            <a:ext cx="922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Tahoma"/>
              </a:rPr>
              <a:t>Подвижность и изменчивость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мира становятся главной целью изображ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С помощью света и цвета художники пытались запечатлеть «мимолет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видения», поэтому они наносили краски на холст быстрыми мазкам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заботясь только об общем впечатлении от увиденно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419640" y="1628640"/>
            <a:ext cx="5308560" cy="46706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88560" y="2157480"/>
            <a:ext cx="331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Клод Мон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Здание парламента в Лондон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250920" y="1646280"/>
            <a:ext cx="5257800" cy="4619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671480" y="6251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0"/>
                            </p:stCondLst>
                            <p:childTnLst>
                              <p:par>
                                <p:cTn id="329" nodeType="afterEffect" fill="hold" presetClass="exit" presetID="55">
                                  <p:stCondLst>
                                    <p:cond delay="6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0" dur="3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2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79191E-006 L 0.57656 0.00648 E">
                                      <p:cBhvr>
                                        <p:cTn id="336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600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95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5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887640" cy="35114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70960" y="4029120"/>
            <a:ext cx="31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33"/>
                </a:solidFill>
                <a:latin typeface="Tahoma"/>
              </a:rPr>
              <a:t>Клод Моне. Парламент. Зака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4572000" y="2509920"/>
            <a:ext cx="4176720" cy="36655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003640" y="155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34120" y="1916280"/>
            <a:ext cx="44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33"/>
                </a:solidFill>
                <a:latin typeface="Tahoma"/>
              </a:rPr>
              <a:t>Клод Моне. Парламент. Чайки. Река Темз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1692360" y="1198440"/>
            <a:ext cx="5400720" cy="43545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016000" y="5734080"/>
            <a:ext cx="392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33"/>
                </a:solidFill>
                <a:latin typeface="Tahoma"/>
              </a:rPr>
              <a:t>Фото. Здание парламента в Лондон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67120" y="6035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0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4000"/>
                            </p:stCondLst>
                            <p:childTnLst>
                              <p:par>
                                <p:cTn id="35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6200"/>
                            </p:stCondLst>
                            <p:childTnLst>
                              <p:par>
                                <p:cTn id="359" nodeType="after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1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4200"/>
                            </p:stCondLst>
                            <p:childTnLst>
                              <p:par>
                                <p:cTn id="363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7900"/>
                            </p:stCondLst>
                            <p:childTnLst>
                              <p:par>
                                <p:cTn id="370" nodeType="afterEffect" fill="hold" presetClass="exit" presetID="8" presetSubtype="16">
                                  <p:stCondLst>
                                    <p:cond delay="5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7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8" presetSubtype="16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37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8" presetSubtype="16">
                                  <p:stCondLst>
                                    <p:cond delay="5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7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8" presetSubtype="16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38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4900"/>
                            </p:stCondLst>
                            <p:childTnLst>
                              <p:par>
                                <p:cTn id="38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69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7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-566640" y="260280"/>
            <a:ext cx="1015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Интересные находки были сделаны импрессионистами в техник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передачи света, который у них различен по интенсивности, чистоте, прозрачност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С его помощью можно передать изменчивость и быстротечность жиз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3467160" cy="46119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5553000" y="2797200"/>
            <a:ext cx="2795760" cy="431640"/>
          </a:xfrm>
          <a:prstGeom prst="borderCallout1">
            <a:avLst>
              <a:gd name="adj1" fmla="val 18750"/>
              <a:gd name="adj2" fmla="val -8333"/>
              <a:gd name="adj3" fmla="val 279046"/>
              <a:gd name="adj4" fmla="val -51675"/>
            </a:avLst>
          </a:prstGeom>
          <a:solidFill>
            <a:srgbClr val="00cc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ahoma"/>
              </a:rPr>
              <a:t>Огюст Ренуар. Каче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1403280" y="1557360"/>
            <a:ext cx="6429600" cy="46767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623240" y="6332400"/>
            <a:ext cx="540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Tahoma"/>
              </a:rPr>
              <a:t>Альфред Сислей. Город Вильнев на берегу Сен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1332000" y="1557360"/>
            <a:ext cx="6568920" cy="49147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003200" y="162864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ahoma"/>
              </a:rPr>
              <a:t>Клод Моне. Осень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440560" y="6180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8532720" y="5877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8459640" y="3860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7" dur="1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2" dur="19764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3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5">
                                  <p:stCondLst>
                                    <p:cond delay="19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9">
                                  <p:stCondLst>
                                    <p:cond delay="19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3">
                                  <p:stCondLst>
                                    <p:cond delay="20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55">
                                  <p:stCondLst>
                                    <p:cond delay="26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3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3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9">
                                  <p:stCondLst>
                                    <p:cond delay="26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3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9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55">
                                  <p:stCondLst>
                                    <p:cond delay="3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6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9">
                                  <p:stCondLst>
                                    <p:cond delay="3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1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-70560" y="243000"/>
            <a:ext cx="89103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Tahoma"/>
              </a:rPr>
              <a:t>Огромные возможности в использовании цвета открывала </a:t>
            </a:r>
            <a:r>
              <a:rPr b="0" i="1" lang="ru-RU" sz="2000" spc="-1" strike="noStrike">
                <a:solidFill>
                  <a:srgbClr val="6600ff"/>
                </a:solidFill>
                <a:latin typeface="Times New Roman"/>
              </a:rPr>
              <a:t>техника пастел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ff"/>
                </a:solidFill>
                <a:latin typeface="Times New Roman"/>
              </a:rPr>
              <a:t>(фр. </a:t>
            </a:r>
            <a:r>
              <a:rPr b="0" i="1" lang="en-US" sz="2000" spc="-1" strike="noStrike">
                <a:solidFill>
                  <a:srgbClr val="6600ff"/>
                </a:solidFill>
                <a:latin typeface="Times New Roman"/>
              </a:rPr>
              <a:t>pastel)</a:t>
            </a:r>
            <a:r>
              <a:rPr b="0" i="1" lang="ru-RU" sz="2000" spc="-1" strike="noStrike">
                <a:solidFill>
                  <a:srgbClr val="6600ff"/>
                </a:solidFill>
                <a:latin typeface="Times New Roman"/>
              </a:rPr>
              <a:t> – живописи цветными карандашами или красочным порошк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Tahoma"/>
              </a:rPr>
              <a:t>Фактура пастели бархатиста, она способна передать вибрацию цвет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Tahoma"/>
              </a:rPr>
              <a:t>который кажется как бы светящимся изнутр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30120" y="1557360"/>
            <a:ext cx="14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Эдгар Де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050920" y="1628640"/>
            <a:ext cx="4946760" cy="4849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327400" y="6521400"/>
            <a:ext cx="213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Голубые танцовщиц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1979640" y="1557360"/>
            <a:ext cx="6622920" cy="50529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28320" y="3716280"/>
            <a:ext cx="134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Танцовщиц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на поклона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1908000" y="1484280"/>
            <a:ext cx="4098960" cy="50673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013800" y="3645000"/>
            <a:ext cx="2026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Times New Roman"/>
              </a:rPr>
              <a:t>Танцовщицы в зал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Times New Roman"/>
              </a:rPr>
              <a:t>для занят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35120" y="6180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468360" y="5013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6"/>
          <a:stretch/>
        </p:blipFill>
        <p:spPr>
          <a:xfrm>
            <a:off x="8459640" y="1052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8" dur="19656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1" dur="15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" dur="15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15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6775"/>
                            </p:stCondLst>
                            <p:childTnLst>
                              <p:par>
                                <p:cTn id="4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8175"/>
                            </p:stCondLst>
                            <p:childTnLst>
                              <p:par>
                                <p:cTn id="47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3" dur="30672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4" presetSubtype="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20">
                                  <p:stCondLst>
                                    <p:cond delay="1350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481" dur="3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9">
                                  <p:stCondLst>
                                    <p:cond delay="1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4" presetSubtype="5">
                                  <p:stCondLst>
                                    <p:cond delay="145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88" dur="3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0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0">
                                  <p:stCondLst>
                                    <p:cond delay="155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20">
                                  <p:stCondLst>
                                    <p:cond delay="2450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496" dur="3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xit" presetID="9">
                                  <p:stCondLst>
                                    <p:cond delay="2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9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9">
                                  <p:stCondLst>
                                    <p:cond delay="2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2" dur="2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4" presetSubtype="5">
                                  <p:stCondLst>
                                    <p:cond delay="26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06" dur="3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0">
                                  <p:stCondLst>
                                    <p:cond delay="275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847"/>
                            </p:stCondLst>
                            <p:childTnLst>
                              <p:par>
                                <p:cTn id="511" nodeType="afterEffect" fill="hold" presetClass="entr" presetID="1">
                                  <p:stCondLst>
                                    <p:cond delay="4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956600" y="623880"/>
            <a:ext cx="5313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Говоря о творчеств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импрессионистов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нельз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не отметить их поис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в области живопис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композиц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Эти художники во мног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обнови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принципы их построени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отказавшись от академически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требова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неподвижност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симметри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rebuchet MS"/>
              </a:rPr>
              <a:t>порядка и четк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008920" y="6180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4211640" y="333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584000" cy="12765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250920" y="2030400"/>
            <a:ext cx="1833480" cy="13111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395280" y="3716280"/>
            <a:ext cx="1536840" cy="13716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2627280" y="4653000"/>
            <a:ext cx="1576440" cy="1463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4859280" y="4653000"/>
            <a:ext cx="1778040" cy="14112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8"/>
          <a:stretch/>
        </p:blipFill>
        <p:spPr>
          <a:xfrm>
            <a:off x="7093080" y="1989000"/>
            <a:ext cx="1806480" cy="12747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9"/>
          <a:stretch/>
        </p:blipFill>
        <p:spPr>
          <a:xfrm>
            <a:off x="7308720" y="3645000"/>
            <a:ext cx="1511280" cy="14032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10"/>
          <a:stretch/>
        </p:blipFill>
        <p:spPr>
          <a:xfrm>
            <a:off x="7093080" y="333360"/>
            <a:ext cx="1711080" cy="12794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-99360" y="1628640"/>
            <a:ext cx="245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66"/>
                </a:solidFill>
                <a:latin typeface="Tahoma"/>
              </a:rPr>
              <a:t>К.Моне. Тюльпаны Голланд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1"/>
          <a:stretch/>
        </p:blipFill>
        <p:spPr>
          <a:xfrm>
            <a:off x="3780000" y="1484280"/>
            <a:ext cx="1377720" cy="19875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2040" y="5157720"/>
            <a:ext cx="225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66"/>
                </a:solidFill>
                <a:latin typeface="Tahoma"/>
              </a:rPr>
              <a:t>К.Моне. Пруд в Монжерон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9720" y="3357720"/>
            <a:ext cx="198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66"/>
                </a:solidFill>
                <a:latin typeface="Tahoma"/>
              </a:rPr>
              <a:t>К.Моне. Мост Ватерло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85360" y="162864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66"/>
                </a:solidFill>
                <a:latin typeface="Tahoma"/>
              </a:rPr>
              <a:t>О.Ренуар. Лодки на Сен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63480" y="6165720"/>
            <a:ext cx="186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66"/>
                </a:solidFill>
                <a:latin typeface="Tahoma"/>
              </a:rPr>
              <a:t>К.Моне. Эртрет. Зака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407840" y="6165720"/>
            <a:ext cx="272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66"/>
                </a:solidFill>
                <a:latin typeface="Tahoma"/>
              </a:rPr>
              <a:t>Э.Мане. Скачки в Булонском лес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35200" y="3573360"/>
            <a:ext cx="187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66"/>
                </a:solidFill>
                <a:latin typeface="Tahoma"/>
              </a:rPr>
              <a:t>Э.Мане. Весна.(Жанна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981480" y="5084640"/>
            <a:ext cx="221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66"/>
                </a:solidFill>
                <a:latin typeface="Tahoma"/>
              </a:rPr>
              <a:t>А.Сислей. Лужайки весно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267680" y="3213000"/>
            <a:ext cx="146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66"/>
                </a:solidFill>
                <a:latin typeface="Tahoma"/>
              </a:rPr>
              <a:t>А.Сислей. Регат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20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2" dur="21936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1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0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0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4" presetSubtype="16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4" presetSubtype="16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7" presetSubtype="4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7" presetSubtype="4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7" presetSubtype="4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3" presetSubtype="16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3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3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xit" presetID="10">
                                  <p:stCondLst>
                                    <p:cond delay="2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2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042920" y="692280"/>
            <a:ext cx="6848640" cy="51051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2373480" y="6066000"/>
            <a:ext cx="441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33"/>
                </a:solidFill>
                <a:latin typeface="Times New Roman"/>
              </a:rPr>
              <a:t>Клод Моне. Бульвар Капуцинок в маслениц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539640" y="836640"/>
            <a:ext cx="7910640" cy="53323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71480" y="290520"/>
            <a:ext cx="32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Клод Моне. Кувшинки. (Облака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187280" y="765000"/>
            <a:ext cx="6577200" cy="48816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425680" y="6308640"/>
            <a:ext cx="378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Ренуар. Бал в Мулен де ла Галет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1692360" y="620640"/>
            <a:ext cx="5421240" cy="60483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501720" y="260280"/>
            <a:ext cx="204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ff"/>
                </a:solidFill>
                <a:latin typeface="Tahoma"/>
              </a:rPr>
              <a:t>Дега. Урок танц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008920" y="6180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6"/>
          <a:stretch/>
        </p:blipFill>
        <p:spPr>
          <a:xfrm>
            <a:off x="8604360" y="260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7"/>
          <a:stretch/>
        </p:blipFill>
        <p:spPr>
          <a:xfrm>
            <a:off x="39528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8"/>
          <a:stretch/>
        </p:blipFill>
        <p:spPr>
          <a:xfrm>
            <a:off x="179280" y="5516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9"/>
          <a:stretch/>
        </p:blipFill>
        <p:spPr>
          <a:xfrm>
            <a:off x="0" y="4724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5" dur="7380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xit" presetID="5" presetSubtype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60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4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9000"/>
                            </p:stCondLst>
                            <p:childTnLst>
                              <p:par>
                                <p:cTn id="6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8" dur="9180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619" nodeType="afterEffect" fill="hold" presetClass="exit" presetID="5" presetSubtype="5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down)" transition="out">
                                      <p:cBhvr additive="repl">
                                        <p:cTn id="620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9000"/>
                            </p:stCondLst>
                            <p:childTnLst>
                              <p:par>
                                <p:cTn id="6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7" dur="5472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3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3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3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23500"/>
                            </p:stCondLst>
                            <p:childTnLst>
                              <p:par>
                                <p:cTn id="637" nodeType="afterEffect" fill="hold" presetClass="exit" presetID="5" presetSubtype="10">
                                  <p:stCondLst>
                                    <p:cond delay="4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38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xit" presetID="9">
                                  <p:stCondLst>
                                    <p:cond delay="4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29500"/>
                            </p:stCondLst>
                            <p:childTnLst>
                              <p:par>
                                <p:cTn id="6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3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4" dur="6660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33500"/>
                            </p:stCondLst>
                            <p:childTnLst>
                              <p:par>
                                <p:cTn id="656" nodeType="afterEffect" fill="hold" presetClass="entr" presetID="1">
                                  <p:stCondLst>
                                    <p:cond delay="10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878200" y="163440"/>
            <a:ext cx="33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Пейзажи впечат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9080" y="620640"/>
            <a:ext cx="807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Реалистическим пейзажам художники – импрессионисты предпоч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пейзажи впечатления.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Любящими, заинтересованными глазами он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наблюдали за малейшими изменениями в состоянии природ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пытаясь запечатлеть ее «душу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1908000" y="2119320"/>
            <a:ext cx="5321520" cy="43434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1547640" y="1916280"/>
            <a:ext cx="6048720" cy="45273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1547640" y="2133720"/>
            <a:ext cx="5977080" cy="43574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5"/>
          <a:stretch/>
        </p:blipFill>
        <p:spPr>
          <a:xfrm>
            <a:off x="1979640" y="1844640"/>
            <a:ext cx="5329080" cy="47592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6"/>
          <a:stretch/>
        </p:blipFill>
        <p:spPr>
          <a:xfrm>
            <a:off x="468360" y="1844640"/>
            <a:ext cx="2297160" cy="18748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7"/>
          <a:stretch/>
        </p:blipFill>
        <p:spPr>
          <a:xfrm>
            <a:off x="3203640" y="1989000"/>
            <a:ext cx="2476440" cy="18543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8"/>
          <a:stretch/>
        </p:blipFill>
        <p:spPr>
          <a:xfrm>
            <a:off x="6156360" y="1844640"/>
            <a:ext cx="2544840" cy="18558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9"/>
          <a:stretch/>
        </p:blipFill>
        <p:spPr>
          <a:xfrm>
            <a:off x="3276720" y="4581360"/>
            <a:ext cx="2376360" cy="20242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365200" y="3933720"/>
            <a:ext cx="421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Клод Моне. Вокзал Сен-Лаза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63480" y="6108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0"/>
          <a:stretch/>
        </p:blipFill>
        <p:spPr>
          <a:xfrm>
            <a:off x="8459640" y="580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11"/>
          <a:stretch/>
        </p:blipFill>
        <p:spPr>
          <a:xfrm>
            <a:off x="468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3" dur="1" fill="hold"/>
                                        <p:tgtEl>
                                          <p:spTgt spid="2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1" dur="1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2" dur="1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3" dur="1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mediacall" presetID="1">
                                  <p:stCondLst>
                                    <p:cond delay="19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5" dur="61056" fill="hold"/>
                                        <p:tgtEl>
                                          <p:spTgt spid="2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0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3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xit" presetID="8" presetSubtype="32">
                                  <p:stCondLst>
                                    <p:cond delay="41000"/>
                                  </p:stCondLst>
                                  <p:childTnLst>
                                    <p:animEffect filter="diamond(out)" transition="out">
                                      <p:cBhvr additive="repl">
                                        <p:cTn id="680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" presetSubtype="3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xit" presetID="2" presetSubtype="12">
                                  <p:stCondLst>
                                    <p:cond delay="53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7" dur="2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2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" presetSubtype="9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xit" presetID="2" presetSubtype="6">
                                  <p:stCondLst>
                                    <p:cond delay="6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5" dur="2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2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53">
                                  <p:stCondLst>
                                    <p:cond delay="635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3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55">
                                  <p:stCondLst>
                                    <p:cond delay="69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4" dur="2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6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53">
                                  <p:stCondLst>
                                    <p:cond delay="705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5">
                                  <p:stCondLst>
                                    <p:cond delay="74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5">
                                  <p:stCondLst>
                                    <p:cond delay="780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5">
                                  <p:stCondLst>
                                    <p:cond delay="820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5">
                                  <p:stCondLst>
                                    <p:cond delay="860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894200" cy="35989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1979640" y="1557360"/>
            <a:ext cx="5184720" cy="36100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3995640" y="3068640"/>
            <a:ext cx="4942080" cy="35812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590400" y="189000"/>
            <a:ext cx="28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ahoma"/>
              </a:rPr>
              <a:t>Берег Сены у Буживал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081680" y="3141720"/>
            <a:ext cx="33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ahoma"/>
              </a:rPr>
              <a:t>Мост в Марэ ранним утр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53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2" dur="17064" fill="hold"/>
                                        <p:tgtEl>
                                          <p:spTgt spid="2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3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3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0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3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47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2124000" y="1341360"/>
            <a:ext cx="4824360" cy="44798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025080" y="609912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660033"/>
                </a:solidFill>
                <a:latin typeface="Times New Roman"/>
              </a:rPr>
              <a:t>Оперный проезд в Париж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268000" y="6308640"/>
            <a:ext cx="449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Набережная Малаке в солнечную пого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971640" y="765000"/>
            <a:ext cx="7200720" cy="53913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1042920" y="620640"/>
            <a:ext cx="7056360" cy="56149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2725560" y="765000"/>
            <a:ext cx="332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Бульвар Монмартр в Париж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6200" y="5819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0920" y="189000"/>
            <a:ext cx="263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ahoma"/>
              </a:rPr>
              <a:t>Камиль Писсарр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5"/>
          <a:stretch/>
        </p:blipFill>
        <p:spPr>
          <a:xfrm>
            <a:off x="8604360" y="5516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0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7" dur="50868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2" dur="3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5" dur="5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xit" presetID="55">
                                  <p:stCondLst>
                                    <p:cond delay="19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0" dur="5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2" dur="5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xit" presetID="9">
                                  <p:stCondLst>
                                    <p:cond delay="19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5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0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9" dur="5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0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55">
                                  <p:stCondLst>
                                    <p:cond delay="3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4" dur="5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6" dur="5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xit" presetID="9">
                                  <p:stCondLst>
                                    <p:cond delay="3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9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0">
                                  <p:stCondLst>
                                    <p:cond delay="3350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3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0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xit" presetID="10">
                                  <p:stCondLst>
                                    <p:cond delay="4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8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xit" presetID="10">
                                  <p:stCondLst>
                                    <p:cond delay="5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1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5960" y="256536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Times New Roman"/>
              </a:rPr>
              <a:t>« Живописцы</a:t>
            </a:r>
            <a:r>
              <a:rPr b="1" i="1" lang="en-US" sz="5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66"/>
                </a:solidFill>
                <a:latin typeface="Times New Roman"/>
              </a:rPr>
              <a:t>счастья» – художники -импрессионист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64008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6021360"/>
            <a:ext cx="44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67120" y="52196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64200" y="1116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55840" y="6180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38836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179280" y="431640"/>
            <a:ext cx="8713800" cy="55152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5364000" y="476280"/>
            <a:ext cx="2880000" cy="56167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826920" y="476280"/>
            <a:ext cx="2940120" cy="55436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1042920" y="907920"/>
            <a:ext cx="6697800" cy="49071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2298960" y="6041880"/>
            <a:ext cx="42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Times New Roman"/>
              </a:rPr>
              <a:t>Эдуард Мане. Музыка в саду Тюильр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98120" y="6165720"/>
            <a:ext cx="306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33"/>
                </a:solidFill>
                <a:latin typeface="Times New Roman"/>
              </a:rPr>
              <a:t>Огюст Ренуар. Танцы в город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48640" y="6138720"/>
            <a:ext cx="331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imes New Roman"/>
              </a:rPr>
              <a:t>Огюст Ренуар. Танец в Буживал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48080" y="522360"/>
            <a:ext cx="334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imes New Roman"/>
              </a:rPr>
              <a:t>Эдуард Мане. Бар в Фоли Берже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6"/>
          <a:stretch/>
        </p:blipFill>
        <p:spPr>
          <a:xfrm>
            <a:off x="867564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7"/>
          <a:stretch/>
        </p:blipFill>
        <p:spPr>
          <a:xfrm>
            <a:off x="543564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0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8" dur="1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0" dur="30168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6" presetSubtype="3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23" dur="3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xit" presetID="8" presetSubtype="16">
                                  <p:stCondLst>
                                    <p:cond delay="9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28" dur="3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7" presetSubtype="8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7" presetSubtype="2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xit" presetID="12" presetSubtype="2">
                                  <p:stCondLst>
                                    <p:cond delay="1900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848" dur="3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xit" presetID="12" presetSubtype="8">
                                  <p:stCondLst>
                                    <p:cond delay="1900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851" dur="3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0">
                                  <p:stCondLst>
                                    <p:cond delay="19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xit" presetID="10">
                                  <p:stCondLst>
                                    <p:cond delay="19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7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7" presetSubtype="4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xit" presetID="23" presetSubtype="32">
                                  <p:stCondLst>
                                    <p:cond delay="26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7" dur="3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3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xit" presetID="9">
                                  <p:stCondLst>
                                    <p:cond delay="26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3095640" cy="50403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5940360" y="836640"/>
            <a:ext cx="2984400" cy="51433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1258920" y="1052640"/>
            <a:ext cx="4067280" cy="50180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5"/>
          <a:stretch/>
        </p:blipFill>
        <p:spPr>
          <a:xfrm>
            <a:off x="2340000" y="404640"/>
            <a:ext cx="4248000" cy="60836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3247200" y="-648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Огюст Ренуа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580000" y="981000"/>
            <a:ext cx="26240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ahoma"/>
              </a:rPr>
              <a:t>«Ренуар превосходе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ahoma"/>
              </a:rPr>
              <a:t>в портретах. Он н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ahoma"/>
              </a:rPr>
              <a:t>только схватыва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ahoma"/>
              </a:rPr>
              <a:t>внешние черты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ahoma"/>
              </a:rPr>
              <a:t>но и детальн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ahoma"/>
              </a:rPr>
              <a:t>воссоздает и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ahoma"/>
              </a:rPr>
              <a:t>характер и внутренн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ahoma"/>
              </a:rPr>
              <a:t>мир. Я сомневаюсь, что какой-либо художник может передать образ женщины в более соблазнительн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ahoma"/>
              </a:rPr>
              <a:t>манере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ahoma"/>
              </a:rPr>
              <a:t>Теодор Дюр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20360" y="589284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Прогул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357600" y="5987880"/>
            <a:ext cx="26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Tahoma"/>
              </a:rPr>
              <a:t>Портрет Жанны Самар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17920" y="649116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Дама с веер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5076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904040" y="6237360"/>
            <a:ext cx="25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Спящая купальщи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6"/>
          <a:stretch/>
        </p:blipFill>
        <p:spPr>
          <a:xfrm>
            <a:off x="423720" y="620640"/>
            <a:ext cx="1244880" cy="202428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7"/>
          <a:stretch/>
        </p:blipFill>
        <p:spPr>
          <a:xfrm>
            <a:off x="1908000" y="476280"/>
            <a:ext cx="1671840" cy="28814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8"/>
          <a:stretch/>
        </p:blipFill>
        <p:spPr>
          <a:xfrm>
            <a:off x="3851280" y="765000"/>
            <a:ext cx="1368360" cy="187200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9"/>
          <a:stretch/>
        </p:blipFill>
        <p:spPr>
          <a:xfrm>
            <a:off x="900000" y="3573360"/>
            <a:ext cx="1451160" cy="18446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10"/>
          <a:stretch/>
        </p:blipFill>
        <p:spPr>
          <a:xfrm>
            <a:off x="3075120" y="3573360"/>
            <a:ext cx="1436400" cy="177336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7359480" y="6396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1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12"/>
          <a:stretch/>
        </p:blipFill>
        <p:spPr>
          <a:xfrm>
            <a:off x="8028000" y="189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0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8" dur="1" fill="hold"/>
                                        <p:tgtEl>
                                          <p:spTgt spid="3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0" dur="40644" fill="hold"/>
                                        <p:tgtEl>
                                          <p:spTgt spid="3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3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8" presetSubtype="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8" dur="5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1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xit" presetID="18" presetSubtype="6">
                                  <p:stCondLst>
                                    <p:cond delay="1200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893" dur="5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xit" presetID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8" presetSubtype="9">
                                  <p:stCondLst>
                                    <p:cond delay="1250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99" dur="5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2" presetSubtype="4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2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9">
                                  <p:stCondLst>
                                    <p:cond delay="2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4" dur="3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xit" presetID="1">
                                  <p:stCondLst>
                                    <p:cond delay="2350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53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3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22" presetSubtype="4">
                                  <p:stCondLst>
                                    <p:cond delay="245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xit" presetID="23" presetSubtype="32">
                                  <p:stCondLst>
                                    <p:cond delay="3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7" dur="3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3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0" nodeType="withEffect" fill="hold" presetClass="exit" presetID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53">
                                  <p:stCondLst>
                                    <p:cond delay="3250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" dur="3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0">
                                  <p:stCondLst>
                                    <p:cond delay="3250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xit" presetID="10">
                                  <p:stCondLst>
                                    <p:cond delay="4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1" dur="3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3" nodeType="withEffect" fill="hold" presetClass="exit" presetID="9">
                                  <p:stCondLst>
                                    <p:cond delay="40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2" presetSubtype="1">
                                  <p:stCondLst>
                                    <p:cond delay="405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8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55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3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55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55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55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55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51100"/>
                            </p:stCondLst>
                            <p:childTnLst>
                              <p:par>
                                <p:cTn id="965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611280" y="2060640"/>
            <a:ext cx="1898640" cy="23763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254520" y="1557360"/>
            <a:ext cx="293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Times New Roman"/>
              </a:rPr>
              <a:t>Винсент Ван Гог. Подсолнух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441760" y="1557360"/>
            <a:ext cx="340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Поль Гоген.Таитянские женщин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462840" y="16344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Жорж Сера. Цир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353760" y="3573360"/>
            <a:ext cx="220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Поль Сезанн. Пейзаж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711960" y="299736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Франц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39640" y="1989000"/>
            <a:ext cx="1852560" cy="23209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398520" y="4437000"/>
            <a:ext cx="21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Times New Roman"/>
              </a:rPr>
              <a:t>Терраса кафе ночь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4"/>
          <a:stretch/>
        </p:blipFill>
        <p:spPr>
          <a:xfrm>
            <a:off x="6156360" y="2060640"/>
            <a:ext cx="1847880" cy="23749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6519240" y="4581360"/>
            <a:ext cx="198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imes New Roman"/>
              </a:rPr>
              <a:t>Вид на Мартиник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5"/>
          <a:stretch/>
        </p:blipFill>
        <p:spPr>
          <a:xfrm>
            <a:off x="6516720" y="1989000"/>
            <a:ext cx="1959120" cy="25196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6"/>
          <a:stretch/>
        </p:blipFill>
        <p:spPr>
          <a:xfrm>
            <a:off x="3492360" y="549360"/>
            <a:ext cx="1901880" cy="23763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7"/>
          <a:stretch/>
        </p:blipFill>
        <p:spPr>
          <a:xfrm>
            <a:off x="3276720" y="476280"/>
            <a:ext cx="2279520" cy="192708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3614400" y="2492280"/>
            <a:ext cx="161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Times New Roman"/>
              </a:rPr>
              <a:t>Берег Ба-бюте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8"/>
          <a:stretch/>
        </p:blipFill>
        <p:spPr>
          <a:xfrm>
            <a:off x="3276720" y="4005360"/>
            <a:ext cx="2332080" cy="192888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3323880" y="6308640"/>
            <a:ext cx="198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Times New Roman"/>
              </a:rPr>
              <a:t>Дорога в Шантий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9"/>
          <a:stretch/>
        </p:blipFill>
        <p:spPr>
          <a:xfrm>
            <a:off x="3492360" y="3860640"/>
            <a:ext cx="1895760" cy="24480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663480" y="5676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14880" y="98100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Голланд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0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11"/>
          <a:stretch/>
        </p:blipFill>
        <p:spPr>
          <a:xfrm>
            <a:off x="8388360" y="26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0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4" dur="1" fill="hold"/>
                                        <p:tgtEl>
                                          <p:spTgt spid="3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75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6" dur="24444" fill="hold"/>
                                        <p:tgtEl>
                                          <p:spTgt spid="3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2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3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xit" presetID="10">
                                  <p:stCondLst>
                                    <p:cond delay="10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6" dur="3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exit" presetID="9">
                                  <p:stCondLst>
                                    <p:cond delay="10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25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0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3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53">
                                  <p:stCondLst>
                                    <p:cond delay="1650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3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3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8" dur="3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53">
                                  <p:stCondLst>
                                    <p:cond delay="1750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3" dur="3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10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xit" presetID="10">
                                  <p:stCondLst>
                                    <p:cond delay="2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8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0" nodeType="withEffect" fill="hold" presetClass="exit" presetID="9">
                                  <p:stCondLst>
                                    <p:cond delay="2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25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0">
                                  <p:stCondLst>
                                    <p:cond delay="2450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31">
                                  <p:stCondLst>
                                    <p:cond delay="29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10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xit" presetID="10">
                                  <p:stCondLst>
                                    <p:cond delay="3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56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8" nodeType="withEffect" fill="hold" presetClass="exit" presetID="9">
                                  <p:stCondLst>
                                    <p:cond delay="35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31">
                                  <p:stCondLst>
                                    <p:cond delay="360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3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3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3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3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10">
                                  <p:stCondLst>
                                    <p:cond delay="3650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9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31">
                                  <p:stCondLst>
                                    <p:cond delay="410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3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3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3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5" dur="3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10">
                                  <p:stCondLst>
                                    <p:cond delay="4150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xit" presetID="10">
                                  <p:stCondLst>
                                    <p:cond delay="46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80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2" nodeType="withEffect" fill="hold" presetClass="exit" presetID="9">
                                  <p:stCondLst>
                                    <p:cond delay="47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3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31">
                                  <p:stCondLst>
                                    <p:cond delay="47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0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10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29">
                                  <p:stCondLst>
                                    <p:cond delay="54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8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3638880" y="0"/>
            <a:ext cx="187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Герм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01440" y="18900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Андерс Цор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2627280" y="620640"/>
            <a:ext cx="3813120" cy="57596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3484080" y="6308640"/>
            <a:ext cx="24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Волны Лапланд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3"/>
          <a:stretch/>
        </p:blipFill>
        <p:spPr>
          <a:xfrm>
            <a:off x="826920" y="765000"/>
            <a:ext cx="7786800" cy="528012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6630840" y="907920"/>
            <a:ext cx="172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Tahoma"/>
              </a:rPr>
              <a:t>Купание у ска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fill="hold">
                      <p:stCondLst>
                        <p:cond delay="0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3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3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4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3" dur="5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xit" presetID="42">
                                  <p:stCondLst>
                                    <p:cond delay="1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8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9" dur="20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20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nodeType="withEffect" fill="hold" presetClass="exit" presetID="9">
                                  <p:stCondLst>
                                    <p:cond delay="1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4" presetSubtype="32">
                                  <p:stCondLst>
                                    <p:cond delay="1250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7" dur="3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29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2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3" nodeType="withEffect" fill="hold" presetClass="exit" presetID="9">
                                  <p:stCondLst>
                                    <p:cond delay="19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2556000" y="404640"/>
            <a:ext cx="3944880" cy="602172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1042920" y="1052640"/>
            <a:ext cx="7205760" cy="398916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3395520" y="2322360"/>
            <a:ext cx="171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Росс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278880" y="2924280"/>
            <a:ext cx="18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Игорь Грабар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132000" y="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133800" y="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Февральская лазур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674520" y="515772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Баллюстра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945840" y="266760"/>
            <a:ext cx="14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Констант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Корови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4"/>
          <a:stretch/>
        </p:blipFill>
        <p:spPr>
          <a:xfrm>
            <a:off x="2411280" y="549360"/>
            <a:ext cx="4365720" cy="58323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1122480" y="321300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Вес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5"/>
          <a:stretch/>
        </p:blipFill>
        <p:spPr>
          <a:xfrm>
            <a:off x="2124000" y="333360"/>
            <a:ext cx="4921200" cy="597528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3222360" y="6308640"/>
            <a:ext cx="24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Париж после дожд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6"/>
          <a:stretch/>
        </p:blipFill>
        <p:spPr>
          <a:xfrm>
            <a:off x="1476360" y="620640"/>
            <a:ext cx="6265800" cy="487224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5293440" y="5589720"/>
            <a:ext cx="24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Бульвар Капуцин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fill="hold">
                      <p:stCondLst>
                        <p:cond delay="0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3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3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4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5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1" nodeType="withEffect" fill="hold" presetClass="exit" presetID="9">
                                  <p:stCondLst>
                                    <p:cond delay="6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2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22" presetSubtype="1">
                                  <p:stCondLst>
                                    <p:cond delay="6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6" dur="5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xit" presetID="31">
                                  <p:stCondLst>
                                    <p:cond delay="130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61" dur="30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30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30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4" dur="3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6" nodeType="withEffect" fill="hold" presetClass="exit" presetID="9">
                                  <p:stCondLst>
                                    <p:cond delay="1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16" presetSubtype="37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71" dur="3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10">
                                  <p:stCondLst>
                                    <p:cond delay="1450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xit" presetID="23" presetSubtype="32">
                                  <p:stCondLst>
                                    <p:cond delay="19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6" dur="20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20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9" nodeType="withEffect" fill="hold" presetClass="exit" presetID="9">
                                  <p:stCondLst>
                                    <p:cond delay="19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0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7" presetSubtype="2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7" presetSubtype="2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0" nodeType="withEffect" fill="hold" presetClass="path" presetID="0">
                                  <p:stCondLst>
                                    <p:cond delay="20500"/>
                                  </p:stCondLst>
                                  <p:childTnLst>
                                    <p:animMotion origin="layout" path="M 0.13473 -0.02751 L -0.69201 0.78012 E">
                                      <p:cBhvr>
                                        <p:cTn id="1191" dur="2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2" nodeType="withEffect" fill="hold" presetClass="path" presetID="0">
                                  <p:stCondLst>
                                    <p:cond delay="20500"/>
                                  </p:stCondLst>
                                  <p:childTnLst>
                                    <p:animMotion origin="layout" path="M 0.13473 -0.02751 L -0.69201 0.78012 E">
                                      <p:cBhvr>
                                        <p:cTn id="1193" dur="2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7" presetSubtype="2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10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nodeType="withEffect" fill="hold" presetClass="exit" presetID="7" presetSubtype="8">
                                  <p:stCondLst>
                                    <p:cond delay="25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2" dur="5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nodeType="withEffect" fill="hold" presetClass="exit" presetID="9">
                                  <p:stCondLst>
                                    <p:cond delay="25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6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47">
                                  <p:stCondLst>
                                    <p:cond delay="2650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0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10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5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xit" presetID="9">
                                  <p:stCondLst>
                                    <p:cond delay="3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7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9" nodeType="withEffect" fill="hold" presetClass="exit" presetID="42">
                                  <p:stCondLst>
                                    <p:cond delay="3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0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1" dur="1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1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16" presetSubtype="42">
                                  <p:stCondLst>
                                    <p:cond delay="3250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26" dur="3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10">
                                  <p:stCondLst>
                                    <p:cond delay="3250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9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xit" presetID="10">
                                  <p:stCondLst>
                                    <p:cond delay="37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1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4128840" cy="453708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4859280" y="836640"/>
            <a:ext cx="3390840" cy="4822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757800" y="33336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Валентин Сер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33040" y="567684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Девочка с персик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811760" y="5661000"/>
            <a:ext cx="34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Портрет Зинаиды Юсупов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0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6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3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6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6" presetSubtype="16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9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xit" presetID="10">
                                  <p:stCondLst>
                                    <p:cond delay="1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4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6" nodeType="withEffect" fill="hold" presetClass="exit" presetID="6" presetSubtype="16">
                                  <p:stCondLst>
                                    <p:cond delay="150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257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9" nodeType="withEffect" fill="hold" presetClass="exit" presetID="6" presetSubtype="16">
                                  <p:stCondLst>
                                    <p:cond delay="150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260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2" nodeType="withEffect" fill="hold" presetClass="exit" presetID="9">
                                  <p:stCondLst>
                                    <p:cond delay="1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5" nodeType="withEffect" fill="hold" presetClass="exit" presetID="10">
                                  <p:stCondLst>
                                    <p:cond delay="1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6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2700360" y="836640"/>
            <a:ext cx="3767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Times New Roman"/>
              </a:rPr>
              <a:t>…</a:t>
            </a:r>
            <a:r>
              <a:rPr b="0" i="1" lang="en-US" sz="2400" spc="-1" strike="noStrike">
                <a:solidFill>
                  <a:srgbClr val="0000cc"/>
                </a:solidFill>
                <a:latin typeface="Times New Roman"/>
              </a:rPr>
              <a:t>На деревьях рождаются листь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Times New Roman"/>
              </a:rPr>
              <a:t>Из щетины рождаются кист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Times New Roman"/>
              </a:rPr>
              <a:t>Холст растрескивается с хрусто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Times New Roman"/>
              </a:rPr>
              <a:t>И смывается всякая плесень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Times New Roman"/>
              </a:rPr>
              <a:t>Дело пахнет искусств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Times New Roman"/>
              </a:rPr>
              <a:t>Человечеству хочется песен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Times New Roman"/>
              </a:rPr>
              <a:t>              </a:t>
            </a:r>
            <a:r>
              <a:rPr b="0" i="1" lang="en-US" sz="2400" spc="-1" strike="noStrike">
                <a:solidFill>
                  <a:srgbClr val="0000cc"/>
                </a:solidFill>
                <a:latin typeface="Times New Roman"/>
              </a:rPr>
              <a:t>Леонид Мартын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432560" y="560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867564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1268" dur="indefinite" restart="never" nodeType="tmRoot">
          <p:childTnLst>
            <p:seq>
              <p:cTn id="1269" dur="indefinite" nodeType="mainSeq">
                <p:childTnLst>
                  <p:par>
                    <p:cTn id="1270" fill="hold">
                      <p:stCondLst>
                        <p:cond delay="0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15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15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6" nodeType="withEffect" fill="hold" presetClass="mediacall" presetID="1">
                                  <p:stCondLst>
                                    <p:cond delay="1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7" dur="26244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29">
                                  <p:stCondLst>
                                    <p:cond delay="5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2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419640" y="260280"/>
            <a:ext cx="18000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0000ff">
                        <a:alpha val="54117"/>
                      </a:srgbClr>
                    </a:gs>
                    <a:gs pos="100000">
                      <a:srgbClr val="000075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втор проекта: 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0000ff">
                      <a:alpha val="54117"/>
                    </a:srgbClr>
                  </a:gs>
                  <a:gs pos="100000">
                    <a:srgbClr val="000075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979640" y="1557360"/>
            <a:ext cx="482436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итель русского языка,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тературы и  МХК 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763640" y="2276640"/>
            <a:ext cx="563904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Физико-математического лицея № 38 г.Ульяновска"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6"/>
          <a:stretch/>
        </p:blipFill>
        <p:spPr>
          <a:xfrm>
            <a:off x="3203640" y="2781360"/>
            <a:ext cx="2268360" cy="30240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463320" y="5805360"/>
            <a:ext cx="8457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Автор выражает благодарность учителю математики ФМЛ № 3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Алейниковой Т.В.</a:t>
            </a: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 за оказанную помощь в создании презент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575480" y="4595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692360" y="692280"/>
            <a:ext cx="5724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ноградова Ирина Васильевна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4000">
    <p:fade/>
  </p:transition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fill="hold">
                      <p:stCondLst>
                        <p:cond delay="0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9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1" nodeType="after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93" dur="3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23" presetSubtype="52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2" dur="3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3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3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3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0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1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7" presetSubtype="4">
                                  <p:stCondLst>
                                    <p:cond delay="8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5" dur="5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6" dur="5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510840" y="189000"/>
            <a:ext cx="78037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В презентации использованы следующие материал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Музы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лод Дебюсси «Маленькая сюита. В лодке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лод Дебюсси «Струнный квартет. Andantino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Морис Равель «Болеро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лод Дебюсси «Прелюдия к полуденному отдыху фавна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лод Дебюсси «Разговор ветра с морем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лод Дебюсси «Лунный свет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лод Дебюсси «Маленькая сюита. Cortege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Стих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О. Мандельшта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П. Верле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Репродукции картин художнико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Э.Мане, К.Моне, О. Ренуара, А. Сислея, К. Писсарро, Э. Дег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В. Ван Гога, П. Сезанна, Ж. Сера, А. Цорна, И. Грабаря, К. Коровин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В. Серо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296200" y="6180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0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10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10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26" nodeType="afterEffect" fill="hold" presetClass="entr" presetID="29">
                                  <p:stCondLst>
                                    <p:cond delay="5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0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cc33"/>
                </a:solidFill>
                <a:latin typeface="Times New Roman"/>
              </a:rPr>
              <a:t>Творческое задани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"/>
          <p:cNvSpPr/>
          <p:nvPr/>
        </p:nvSpPr>
        <p:spPr>
          <a:xfrm>
            <a:off x="39528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Опишите в мини - сочинении свои впечатления и чувственные переживания, навеянные картиной Альфреда  Сисле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«Дорога на опушке леса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692360" y="2060640"/>
            <a:ext cx="5761080" cy="45147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0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5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1" dur="3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3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5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48" nodeType="afterEffect" fill="hold" presetClass="exit" presetID="10">
                                  <p:stCondLst>
                                    <p:cond delay="6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9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46120" y="491760"/>
            <a:ext cx="42526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80"/>
                </a:solidFill>
                <a:latin typeface="Times New Roman"/>
              </a:rPr>
              <a:t>Художник нам изобрази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1" i="1" lang="ru-RU" sz="2000" spc="-1" strike="noStrike">
                <a:solidFill>
                  <a:srgbClr val="800080"/>
                </a:solidFill>
                <a:latin typeface="Times New Roman"/>
              </a:rPr>
              <a:t>Глубокий обморок сирен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80"/>
                </a:solidFill>
                <a:latin typeface="Times New Roman"/>
              </a:rPr>
              <a:t>   </a:t>
            </a:r>
            <a:r>
              <a:rPr b="1" i="1" lang="ru-RU" sz="2000" spc="-1" strike="noStrike">
                <a:solidFill>
                  <a:srgbClr val="800080"/>
                </a:solidFill>
                <a:latin typeface="Times New Roman"/>
              </a:rPr>
              <a:t>И красок звучные ступе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80"/>
                </a:solidFill>
                <a:latin typeface="Times New Roman"/>
              </a:rPr>
              <a:t>На холст, как струпья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80"/>
                </a:solidFill>
                <a:latin typeface="Times New Roman"/>
              </a:rPr>
              <a:t>                                  </a:t>
            </a:r>
            <a:r>
              <a:rPr b="1" i="1" lang="ru-RU" sz="2000" spc="-1" strike="noStrike">
                <a:solidFill>
                  <a:srgbClr val="800080"/>
                </a:solidFill>
                <a:latin typeface="Times New Roman"/>
              </a:rPr>
              <a:t>положи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80"/>
                </a:solidFill>
                <a:latin typeface="Times New Roman"/>
              </a:rPr>
              <a:t>       </a:t>
            </a:r>
            <a:r>
              <a:rPr b="1" i="1" lang="ru-RU" sz="2000" spc="-1" strike="noStrike">
                <a:solidFill>
                  <a:srgbClr val="800080"/>
                </a:solidFill>
                <a:latin typeface="Times New Roman"/>
              </a:rPr>
              <a:t>Он понял масла густоту –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80"/>
                </a:solidFill>
                <a:latin typeface="Times New Roman"/>
              </a:rPr>
              <a:t>Его запекшееся лет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80"/>
                </a:solidFill>
                <a:latin typeface="Times New Roman"/>
              </a:rPr>
              <a:t>     </a:t>
            </a:r>
            <a:r>
              <a:rPr b="1" i="1" lang="ru-RU" sz="2000" spc="-1" strike="noStrike">
                <a:solidFill>
                  <a:srgbClr val="800080"/>
                </a:solidFill>
                <a:latin typeface="Times New Roman"/>
              </a:rPr>
              <a:t>Лиловым мозгом разогрето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80"/>
                </a:solidFill>
                <a:latin typeface="Times New Roman"/>
              </a:rPr>
              <a:t>     </a:t>
            </a:r>
            <a:r>
              <a:rPr b="1" i="1" lang="ru-RU" sz="2000" spc="-1" strike="noStrike">
                <a:solidFill>
                  <a:srgbClr val="800080"/>
                </a:solidFill>
                <a:latin typeface="Times New Roman"/>
              </a:rPr>
              <a:t>Расширенное в духот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80"/>
                </a:solidFill>
                <a:latin typeface="Times New Roman"/>
              </a:rPr>
              <a:t>     </a:t>
            </a:r>
            <a:r>
              <a:rPr b="1" i="1" lang="ru-RU" sz="2000" spc="-1" strike="noStrike">
                <a:solidFill>
                  <a:srgbClr val="800080"/>
                </a:solidFill>
                <a:latin typeface="Times New Roman"/>
              </a:rPr>
              <a:t>А тень-то, тень все лиловей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80"/>
                </a:solidFill>
                <a:latin typeface="Times New Roman"/>
              </a:rPr>
              <a:t>     </a:t>
            </a:r>
            <a:r>
              <a:rPr b="1" i="1" lang="ru-RU" sz="2000" spc="-1" strike="noStrike">
                <a:solidFill>
                  <a:srgbClr val="800080"/>
                </a:solidFill>
                <a:latin typeface="Times New Roman"/>
              </a:rPr>
              <a:t>Свисток иль хлыст, как спичк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80"/>
                </a:solidFill>
                <a:latin typeface="Times New Roman"/>
              </a:rPr>
              <a:t>                                        </a:t>
            </a:r>
            <a:r>
              <a:rPr b="1" i="1" lang="ru-RU" sz="2000" spc="-1" strike="noStrike">
                <a:solidFill>
                  <a:srgbClr val="800080"/>
                </a:solidFill>
                <a:latin typeface="Times New Roman"/>
              </a:rPr>
              <a:t>тухнет, -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80"/>
                </a:solidFill>
                <a:latin typeface="Times New Roman"/>
              </a:rPr>
              <a:t>     </a:t>
            </a:r>
            <a:r>
              <a:rPr b="1" i="1" lang="ru-RU" sz="2000" spc="-1" strike="noStrike">
                <a:solidFill>
                  <a:srgbClr val="800080"/>
                </a:solidFill>
                <a:latin typeface="Times New Roman"/>
              </a:rPr>
              <a:t>Ты скажешь: повара на кухн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80"/>
                </a:solidFill>
                <a:latin typeface="Times New Roman"/>
              </a:rPr>
              <a:t>     </a:t>
            </a:r>
            <a:r>
              <a:rPr b="1" i="1" lang="ru-RU" sz="2000" spc="-1" strike="noStrike">
                <a:solidFill>
                  <a:srgbClr val="800080"/>
                </a:solidFill>
                <a:latin typeface="Times New Roman"/>
              </a:rPr>
              <a:t>Готовят жирных голубе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80"/>
                </a:solidFill>
                <a:latin typeface="Times New Roman"/>
              </a:rPr>
              <a:t>     </a:t>
            </a:r>
            <a:r>
              <a:rPr b="1" i="1" lang="ru-RU" sz="2000" spc="-1" strike="noStrike">
                <a:solidFill>
                  <a:srgbClr val="800080"/>
                </a:solidFill>
                <a:latin typeface="Times New Roman"/>
              </a:rPr>
              <a:t>Угадывается качель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80"/>
                </a:solidFill>
                <a:latin typeface="Times New Roman"/>
              </a:rPr>
              <a:t>     </a:t>
            </a:r>
            <a:r>
              <a:rPr b="1" i="1" lang="ru-RU" sz="2000" spc="-1" strike="noStrike">
                <a:solidFill>
                  <a:srgbClr val="800080"/>
                </a:solidFill>
                <a:latin typeface="Times New Roman"/>
              </a:rPr>
              <a:t>Недомалеваны вуал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80"/>
                </a:solidFill>
                <a:latin typeface="Times New Roman"/>
              </a:rPr>
              <a:t>     </a:t>
            </a:r>
            <a:r>
              <a:rPr b="1" i="1" lang="ru-RU" sz="2000" spc="-1" strike="noStrike">
                <a:solidFill>
                  <a:srgbClr val="800080"/>
                </a:solidFill>
                <a:latin typeface="Times New Roman"/>
              </a:rPr>
              <a:t>И в этом солнечном развал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80"/>
                </a:solidFill>
                <a:latin typeface="Times New Roman"/>
              </a:rPr>
              <a:t>     </a:t>
            </a:r>
            <a:r>
              <a:rPr b="1" i="1" lang="ru-RU" sz="2000" spc="-1" strike="noStrike">
                <a:solidFill>
                  <a:srgbClr val="800080"/>
                </a:solidFill>
                <a:latin typeface="Times New Roman"/>
              </a:rPr>
              <a:t>Уже хозяйничает шмел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7560" y="630864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80"/>
                </a:solidFill>
                <a:latin typeface="Times New Roman"/>
              </a:rPr>
              <a:t>Осип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800080"/>
                </a:solidFill>
                <a:latin typeface="Times New Roman"/>
              </a:rPr>
              <a:t>Мандельшт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912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08200" y="6251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50920" y="189000"/>
            <a:ext cx="8620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В конце 19 века во французском искусстве появилось новое направление-импрессионизм. Красивое слово, загадочное. С французского </a:t>
            </a:r>
            <a:r>
              <a:rPr b="1" i="1" lang="en-US" sz="1800" spc="-1" strike="noStrike">
                <a:solidFill>
                  <a:srgbClr val="008080"/>
                </a:solidFill>
                <a:latin typeface="Times New Roman"/>
              </a:rPr>
              <a:t>impression-впечатление…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Своим названием он обязан картине Клода Моне, впервые представленной на выставке отверженных художников в 1874 год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Она называлась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«Впечатление. Восход солнца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5975280" cy="4732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508720" y="2421000"/>
            <a:ext cx="3384360" cy="2376360"/>
          </a:xfrm>
          <a:prstGeom prst="horizontalScroll">
            <a:avLst>
              <a:gd name="adj" fmla="val 12500"/>
            </a:avLst>
          </a:prstGeom>
          <a:solidFill>
            <a:srgbClr val="6666ff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Зарождение импрессионизм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было радостно, как ранняя весн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Первые импрессионисты вышл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на свет из темной комнаты 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по-детски радовались свету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краскам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Максимилиан Волошин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59120" y="6108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8388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8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1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5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350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.0)">
                                      <p:cBhvr>
                                        <p:cTn id="58" dur="44864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8364"/>
                            </p:stCondLst>
                            <p:childTnLst>
                              <p:par>
                                <p:cTn id="6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3364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1632600" y="1335240"/>
            <a:ext cx="5461200" cy="5343840"/>
            <a:chOff x="1632600" y="1335240"/>
            <a:chExt cx="5461200" cy="5343840"/>
          </a:xfrm>
        </p:grpSpPr>
        <p:cxnSp>
          <p:nvCxnSpPr>
            <p:cNvPr id="105" name="_s51206"/>
            <p:cNvCxnSpPr>
              <a:stCxn id="106" idx="1"/>
              <a:endCxn id="107" idx="2"/>
            </p:cNvCxnSpPr>
            <p:nvPr/>
          </p:nvCxnSpPr>
          <p:spPr>
            <a:xfrm rot="10800000">
              <a:off x="4363920" y="2373480"/>
              <a:ext cx="362520" cy="3785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8" name="_s51207"/>
            <p:cNvCxnSpPr>
              <a:stCxn id="109" idx="3"/>
              <a:endCxn id="107" idx="2"/>
            </p:cNvCxnSpPr>
            <p:nvPr/>
          </p:nvCxnSpPr>
          <p:spPr>
            <a:xfrm flipV="1">
              <a:off x="4001400" y="2373840"/>
              <a:ext cx="362520" cy="3785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0" name="_s51208"/>
            <p:cNvCxnSpPr>
              <a:stCxn id="111" idx="1"/>
              <a:endCxn id="107" idx="2"/>
            </p:cNvCxnSpPr>
            <p:nvPr/>
          </p:nvCxnSpPr>
          <p:spPr>
            <a:xfrm rot="10800000">
              <a:off x="4363920" y="2373480"/>
              <a:ext cx="362520" cy="2351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2" name="_s51209"/>
            <p:cNvCxnSpPr>
              <a:stCxn id="113" idx="3"/>
              <a:endCxn id="107" idx="2"/>
            </p:cNvCxnSpPr>
            <p:nvPr/>
          </p:nvCxnSpPr>
          <p:spPr>
            <a:xfrm flipV="1">
              <a:off x="4001400" y="2373480"/>
              <a:ext cx="362520" cy="2351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4" name="_s51210"/>
            <p:cNvCxnSpPr>
              <a:stCxn id="115" idx="1"/>
              <a:endCxn id="107" idx="2"/>
            </p:cNvCxnSpPr>
            <p:nvPr/>
          </p:nvCxnSpPr>
          <p:spPr>
            <a:xfrm rot="10800000">
              <a:off x="4363920" y="2373480"/>
              <a:ext cx="362520" cy="916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6" name="_s51211"/>
            <p:cNvCxnSpPr>
              <a:stCxn id="117" idx="3"/>
              <a:endCxn id="107" idx="2"/>
            </p:cNvCxnSpPr>
            <p:nvPr/>
          </p:nvCxnSpPr>
          <p:spPr>
            <a:xfrm flipV="1">
              <a:off x="4001400" y="2373480"/>
              <a:ext cx="362520" cy="916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7" name="_s51212"/>
            <p:cNvSpPr/>
            <p:nvPr/>
          </p:nvSpPr>
          <p:spPr>
            <a:xfrm>
              <a:off x="2795400" y="1335240"/>
              <a:ext cx="3135960" cy="1038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200" rIns="115200" tIns="57600" bIns="57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00"/>
                  </a:solidFill>
                  <a:latin typeface="Tahoma"/>
                </a:rPr>
                <a:t>Франц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00"/>
                  </a:solidFill>
                  <a:latin typeface="Tahoma"/>
                </a:rPr>
                <a:t>70-80-е годы 19 в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00"/>
                  </a:solidFill>
                  <a:latin typeface="Tahoma"/>
                </a:rPr>
                <a:t>«Салон Отверженных»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51213"/>
            <p:cNvSpPr/>
            <p:nvPr/>
          </p:nvSpPr>
          <p:spPr>
            <a:xfrm>
              <a:off x="1632600" y="2770200"/>
              <a:ext cx="2368440" cy="1038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200" rIns="115200" tIns="57600" bIns="57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00"/>
                  </a:solidFill>
                  <a:latin typeface="Tahoma"/>
                </a:rPr>
                <a:t>Камиль Писсарр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00"/>
                  </a:solidFill>
                  <a:latin typeface="Tahoma"/>
                </a:rPr>
                <a:t>1830-19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51214"/>
            <p:cNvSpPr/>
            <p:nvPr/>
          </p:nvSpPr>
          <p:spPr>
            <a:xfrm>
              <a:off x="4726080" y="2770200"/>
              <a:ext cx="2367720" cy="1038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200" rIns="115200" tIns="57600" bIns="57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ahoma"/>
                </a:rPr>
                <a:t>Эдуард Ман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ahoma"/>
                </a:rPr>
                <a:t>1832-188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_s51215"/>
            <p:cNvSpPr/>
            <p:nvPr/>
          </p:nvSpPr>
          <p:spPr>
            <a:xfrm>
              <a:off x="1632600" y="4205160"/>
              <a:ext cx="2368440" cy="1038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200" rIns="115200" tIns="57600" bIns="57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ahoma"/>
                </a:rPr>
                <a:t>Клод Оскар Мон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ahoma"/>
                </a:rPr>
                <a:t>1840-192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51216"/>
            <p:cNvSpPr/>
            <p:nvPr/>
          </p:nvSpPr>
          <p:spPr>
            <a:xfrm>
              <a:off x="4726080" y="4205160"/>
              <a:ext cx="2367720" cy="1038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200" rIns="115200" tIns="57600" bIns="57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ahoma"/>
                </a:rPr>
                <a:t>Пьер Огюст Ренуар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ahoma"/>
                </a:rPr>
                <a:t>1841-191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_s51217"/>
            <p:cNvSpPr/>
            <p:nvPr/>
          </p:nvSpPr>
          <p:spPr>
            <a:xfrm>
              <a:off x="1632600" y="5640120"/>
              <a:ext cx="2368440" cy="1038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200" rIns="115200" tIns="57600" bIns="57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ahoma"/>
                </a:rPr>
                <a:t>Эдгар Дег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ahoma"/>
                </a:rPr>
                <a:t>1834-19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_s51218"/>
            <p:cNvSpPr/>
            <p:nvPr/>
          </p:nvSpPr>
          <p:spPr>
            <a:xfrm>
              <a:off x="4726080" y="5640120"/>
              <a:ext cx="2367720" cy="1038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4920" rIns="124920" tIns="62640" bIns="6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00"/>
                  </a:solidFill>
                  <a:latin typeface="Tahoma"/>
                </a:rPr>
                <a:t>Альфред Сисле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00"/>
                  </a:solidFill>
                  <a:latin typeface="Tahoma"/>
                </a:rPr>
                <a:t>1839-189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2552760" y="476280"/>
            <a:ext cx="366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80"/>
                </a:solidFill>
                <a:latin typeface="Tahoma"/>
              </a:rPr>
              <a:t>Художники - импрессионис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95280" y="3284640"/>
            <a:ext cx="1081080" cy="1385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7308720" y="3213000"/>
            <a:ext cx="1087560" cy="1422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395280" y="4941720"/>
            <a:ext cx="1054080" cy="1729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6227640" y="1052640"/>
            <a:ext cx="1168560" cy="16635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1403280" y="1125360"/>
            <a:ext cx="1150920" cy="1582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7236000" y="5013360"/>
            <a:ext cx="1214280" cy="1655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801280" y="6251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64200" y="632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8"/>
          <a:stretch/>
        </p:blipFill>
        <p:spPr>
          <a:xfrm>
            <a:off x="8532720" y="2421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7" presetSubtype="8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7" presetSubtype="2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2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16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«Салон Отверженных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663480" y="1284120"/>
            <a:ext cx="79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00880" y="1095120"/>
            <a:ext cx="6420240" cy="5388840"/>
          </a:xfrm>
          <a:prstGeom prst="foldedCorner">
            <a:avLst>
              <a:gd name="adj" fmla="val 12500"/>
            </a:avLst>
          </a:prstGeom>
          <a:solidFill>
            <a:srgbClr val="99ccff">
              <a:alpha val="2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Париж, 1863 год, Дворец промышленности…Жюр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знаменитого Салона отклоняет около 70%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представленных работ. В разразившийся сканда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вмешался Наполеон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III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, который милостиво разреши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представить полотна в другой части Двор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промышленности. Так 15 мая 1863 год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была открыта выставк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получившая выразительное название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66"/>
                </a:solidFill>
                <a:latin typeface="Tahoma"/>
              </a:rPr>
              <a:t>«Салон Отверженных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66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Годами приученная к официальном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академическому искусству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публика пребывает в полном недоумении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Взрыв хохота вызывает «неприличная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артина Эдуарда Мане</a:t>
            </a:r>
            <a:r>
              <a:rPr b="0" lang="ru-RU" sz="1800" spc="-1" strike="noStrike">
                <a:solidFill>
                  <a:srgbClr val="cc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66"/>
                </a:solidFill>
                <a:latin typeface="Tahoma"/>
              </a:rPr>
              <a:t>«Завтрак на трав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864560" y="5819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1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187280" y="1125360"/>
            <a:ext cx="6831360" cy="53294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65640" y="42552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Times New Roman"/>
              </a:rPr>
              <a:t>Завтрак на трав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11280" y="907920"/>
            <a:ext cx="7883280" cy="52959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882360" y="625788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Times New Roman"/>
              </a:rPr>
              <a:t>Олимп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21040" y="85680"/>
            <a:ext cx="229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Эдуард Ма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836640"/>
            <a:ext cx="3168720" cy="3384360"/>
          </a:xfrm>
          <a:prstGeom prst="wedgeRoundRectCallout">
            <a:avLst>
              <a:gd name="adj1" fmla="val 92032"/>
              <a:gd name="adj2" fmla="val 29782"/>
              <a:gd name="adj3" fmla="val 16667"/>
            </a:avLst>
          </a:prstGeom>
          <a:solidFill>
            <a:srgbClr val="99cc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66"/>
                </a:solidFill>
                <a:latin typeface="Times New Roman"/>
              </a:rPr>
              <a:t>«Он познакомил нас с Олимпией, девушкой наших дней, которую он встречает на тротуарах, кутающей свои худые плечи в холодную полинявшую шаль…Место господину Мане в Лувре уже обеспечено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12000" y="630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5219640" y="1700280"/>
            <a:ext cx="3103560" cy="4184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853272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9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2" nodeType="afterEffect" fill="hold" presetClass="exit" presetID="8" presetSubtype="16">
                                  <p:stCondLst>
                                    <p:cond delay="4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3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6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2000"/>
                            </p:stCondLst>
                            <p:childTnLst>
                              <p:par>
                                <p:cTn id="14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60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2000"/>
                            </p:stCondLst>
                            <p:childTnLst>
                              <p:par>
                                <p:cTn id="1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2000"/>
                            </p:stCondLst>
                            <p:childTnLst>
                              <p:par>
                                <p:cTn id="163" nodeType="afterEffect" fill="hold" presetClass="exit" presetID="9">
                                  <p:stCondLst>
                                    <p:cond delay="27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7" dur="3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2000"/>
                            </p:stCondLst>
                            <p:childTnLst>
                              <p:par>
                                <p:cTn id="170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1" dur="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700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71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17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Sylfaen"/>
              </a:rPr>
              <a:t>Особенности живописного языка импрессионисто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42320" y="1994040"/>
            <a:ext cx="7661520" cy="4594680"/>
            <a:chOff x="742320" y="1994040"/>
            <a:chExt cx="7661520" cy="4594680"/>
          </a:xfrm>
        </p:grpSpPr>
        <p:sp>
          <p:nvSpPr>
            <p:cNvPr id="143" name="_s70722"/>
            <p:cNvSpPr/>
            <p:nvPr/>
          </p:nvSpPr>
          <p:spPr>
            <a:xfrm flipH="1" flipV="1">
              <a:off x="2728080" y="3717720"/>
              <a:ext cx="920880" cy="286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_s70721"/>
            <p:cNvSpPr/>
            <p:nvPr/>
          </p:nvSpPr>
          <p:spPr>
            <a:xfrm>
              <a:off x="742320" y="2854080"/>
              <a:ext cx="2129760" cy="1149120"/>
            </a:xfrm>
            <a:prstGeom prst="ellipse">
              <a:avLst/>
            </a:prstGeom>
            <a:solidFill>
              <a:srgbClr val="008080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3200" rIns="133200" tIns="66600" bIns="66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Техника</a:t>
              </a:r>
              <a:r>
                <a:rPr b="1" i="1" lang="en-US" sz="1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пастели</a:t>
              </a:r>
              <a:r>
                <a:rPr b="1" i="1" lang="en-US" sz="1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_s70719"/>
            <p:cNvSpPr/>
            <p:nvPr/>
          </p:nvSpPr>
          <p:spPr>
            <a:xfrm flipH="1">
              <a:off x="2731680" y="4579560"/>
              <a:ext cx="920160" cy="287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_s70718"/>
            <p:cNvSpPr/>
            <p:nvPr/>
          </p:nvSpPr>
          <p:spPr>
            <a:xfrm>
              <a:off x="742320" y="4578120"/>
              <a:ext cx="2129760" cy="114912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3200" rIns="133200" tIns="66600" bIns="66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Tahoma"/>
                </a:rPr>
                <a:t>Чувственное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Tahoma"/>
                </a:rPr>
                <a:t>восприятие,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Tahoma"/>
                </a:rPr>
                <a:t>впечатление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_s70726"/>
            <p:cNvSpPr/>
            <p:nvPr/>
          </p:nvSpPr>
          <p:spPr>
            <a:xfrm>
              <a:off x="4577040" y="4867200"/>
              <a:ext cx="0" cy="572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_s70725"/>
            <p:cNvSpPr/>
            <p:nvPr/>
          </p:nvSpPr>
          <p:spPr>
            <a:xfrm>
              <a:off x="3508560" y="5439960"/>
              <a:ext cx="2129040" cy="1148760"/>
            </a:xfrm>
            <a:prstGeom prst="ellipse">
              <a:avLst/>
            </a:prstGeom>
            <a:solidFill>
              <a:srgbClr val="3366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3200" rIns="133200" tIns="66600" bIns="66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66"/>
                  </a:solidFill>
                  <a:latin typeface="Tahoma"/>
                </a:rPr>
                <a:t>Живая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66"/>
                  </a:solidFill>
                  <a:latin typeface="Tahoma"/>
                </a:rPr>
                <a:t>подвижна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66"/>
                  </a:solidFill>
                  <a:latin typeface="Tahoma"/>
                </a:rPr>
                <a:t>композици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_s70724"/>
            <p:cNvSpPr/>
            <p:nvPr/>
          </p:nvSpPr>
          <p:spPr>
            <a:xfrm>
              <a:off x="5497200" y="4578120"/>
              <a:ext cx="920880" cy="285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_s70723"/>
            <p:cNvSpPr/>
            <p:nvPr/>
          </p:nvSpPr>
          <p:spPr>
            <a:xfrm>
              <a:off x="6274080" y="4578120"/>
              <a:ext cx="2129760" cy="1149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3200" rIns="133200" tIns="66600" bIns="66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66"/>
                  </a:solidFill>
                  <a:latin typeface="Tahoma"/>
                </a:rPr>
                <a:t>Восприятие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66"/>
                  </a:solidFill>
                  <a:latin typeface="Tahoma"/>
                </a:rPr>
                <a:t>цвета на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66"/>
                  </a:solidFill>
                  <a:latin typeface="Tahoma"/>
                </a:rPr>
                <a:t>расстояни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_s70717"/>
            <p:cNvSpPr/>
            <p:nvPr/>
          </p:nvSpPr>
          <p:spPr>
            <a:xfrm flipV="1">
              <a:off x="5494320" y="3715920"/>
              <a:ext cx="920160" cy="286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_s70716"/>
            <p:cNvSpPr/>
            <p:nvPr/>
          </p:nvSpPr>
          <p:spPr>
            <a:xfrm>
              <a:off x="6274080" y="2854080"/>
              <a:ext cx="2129760" cy="1149120"/>
            </a:xfrm>
            <a:prstGeom prst="ellipse">
              <a:avLst/>
            </a:prstGeom>
            <a:solidFill>
              <a:srgbClr val="ff3399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3200" rIns="133200" tIns="66600" bIns="66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Tahoma"/>
                </a:rPr>
                <a:t>Изобразить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Tahoma"/>
                </a:rPr>
                <a:t>подвижност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Tahoma"/>
                </a:rPr>
                <a:t>и изменчивост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Tahoma"/>
                </a:rPr>
                <a:t>мир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_s70715"/>
            <p:cNvSpPr/>
            <p:nvPr/>
          </p:nvSpPr>
          <p:spPr>
            <a:xfrm flipV="1">
              <a:off x="4573080" y="3143160"/>
              <a:ext cx="0" cy="574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_s70714"/>
            <p:cNvSpPr/>
            <p:nvPr/>
          </p:nvSpPr>
          <p:spPr>
            <a:xfrm>
              <a:off x="3508560" y="1994040"/>
              <a:ext cx="2129040" cy="1149120"/>
            </a:xfrm>
            <a:prstGeom prst="ellipse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3200" rIns="133200" tIns="66600" bIns="66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66"/>
                  </a:solidFill>
                  <a:latin typeface="Tahoma"/>
                </a:rPr>
                <a:t>Работа н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66"/>
                  </a:solidFill>
                  <a:latin typeface="Tahoma"/>
                </a:rPr>
                <a:t>пленэр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_s70713"/>
            <p:cNvSpPr/>
            <p:nvPr/>
          </p:nvSpPr>
          <p:spPr>
            <a:xfrm>
              <a:off x="3508560" y="3718080"/>
              <a:ext cx="2129040" cy="114912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3200" rIns="133200" tIns="66600" bIns="66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Общие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принцип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567480" y="6180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1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21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5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8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10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96920" y="189000"/>
            <a:ext cx="812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80"/>
                </a:solidFill>
                <a:latin typeface="Tahoma"/>
              </a:rPr>
              <a:t>Впервые художники – импрессионисты вышли из темных мастерски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80"/>
                </a:solidFill>
                <a:latin typeface="Tahoma"/>
              </a:rPr>
              <a:t>на </a:t>
            </a:r>
            <a:r>
              <a:rPr b="1" i="1" lang="ru-RU" sz="1800" spc="-1" strike="noStrike">
                <a:solidFill>
                  <a:srgbClr val="008080"/>
                </a:solidFill>
                <a:latin typeface="Tahoma"/>
              </a:rPr>
              <a:t>пленэр (фр. </a:t>
            </a:r>
            <a:r>
              <a:rPr b="1" i="1" lang="en-US" sz="1800" spc="-1" strike="noStrike">
                <a:solidFill>
                  <a:srgbClr val="008080"/>
                </a:solidFill>
                <a:latin typeface="Tahoma"/>
              </a:rPr>
              <a:t>plein air</a:t>
            </a:r>
            <a:r>
              <a:rPr b="0" lang="en-US" sz="1800" spc="-1" strike="noStrike">
                <a:solidFill>
                  <a:srgbClr val="008080"/>
                </a:solidFill>
                <a:latin typeface="Tahoma"/>
              </a:rPr>
              <a:t> – </a:t>
            </a:r>
            <a:r>
              <a:rPr b="0" lang="ru-RU" sz="1800" spc="-1" strike="noStrike">
                <a:solidFill>
                  <a:srgbClr val="008080"/>
                </a:solidFill>
                <a:latin typeface="Tahoma"/>
              </a:rPr>
              <a:t>вольный воздух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547640" y="2133720"/>
            <a:ext cx="5810400" cy="43369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698480" y="1413000"/>
            <a:ext cx="44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Альфред Сислей. Дорога на опушке леса</a:t>
            </a: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1979640" y="1484280"/>
            <a:ext cx="4991040" cy="50799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125080" y="981000"/>
            <a:ext cx="38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Times New Roman"/>
              </a:rPr>
              <a:t>Камиль Писсарро. Весна в Эрань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2484360" y="1700280"/>
            <a:ext cx="6461280" cy="46497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0480" y="3357720"/>
            <a:ext cx="138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Клод Мон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Ма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2200" y="5819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845964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723600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8101080" y="98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26460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2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2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2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6460"/>
                            </p:stCondLst>
                            <p:childTnLst>
                              <p:par>
                                <p:cTn id="21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146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5" dur="10764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2224"/>
                            </p:stCondLst>
                            <p:childTnLst>
                              <p:par>
                                <p:cTn id="237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8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9">
                                  <p:stCondLst>
                                    <p:cond delay="7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1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2224"/>
                            </p:stCondLst>
                            <p:childTnLst>
                              <p:par>
                                <p:cTn id="244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5" dur="11124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13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13:00:37Z</dcterms:created>
  <dc:creator>User</dc:creator>
  <dc:description/>
  <dc:language>en-US</dc:language>
  <cp:lastModifiedBy>надежда</cp:lastModifiedBy>
  <dcterms:modified xsi:type="dcterms:W3CDTF">2008-05-03T17:59:18Z</dcterms:modified>
  <cp:revision>52</cp:revision>
  <dc:subject/>
  <dc:title>« Живописцы счастья» – художники -импрессионисты</dc:title>
</cp:coreProperties>
</file>