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905-5D23-43A2-BD57-B24113E0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CC1-FA33-417C-A33E-74E702A5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5C5-7479-4EF6-850B-560282CE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668-212B-4140-91A0-62F42E9E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5EB-FE6D-4BB1-8293-066E823D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F80-B915-49F1-A68D-DFCB8E0A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866-747F-4036-9B65-D39D23FA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A44-55F4-4873-A015-40B5A481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F0E-45BB-4C25-91B0-7696F609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161-8B8A-4C21-9795-CCC9E28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3CC-B85C-413C-B1D5-76C2BA5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51D-3EE3-4D3A-B493-74937E9E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77A0-B4EA-4EC4-ACF0-8A3CDDE94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важаемые коллег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чу предложить вашему вниманию свое видение технологии обучения литературному чтению в начальных классах. Буду рада узнать ваше мнение по предложенному уро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aeva_svetlana@mai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3cc33"/>
                </a:solidFill>
                <a:latin typeface="Arial"/>
              </a:rPr>
              <a:t>за-хлеб-ну-лась</a:t>
            </a:r>
            <a:br>
              <a:rPr sz="7200"/>
            </a:br>
            <a:r>
              <a:rPr b="0" lang="ru-RU" sz="7200" spc="-1" strike="noStrike">
                <a:solidFill>
                  <a:srgbClr val="33cc33"/>
                </a:solidFill>
                <a:latin typeface="Arial"/>
              </a:rPr>
              <a:t>бес-по-мощ-на-я</a:t>
            </a:r>
            <a:br>
              <a:rPr sz="7200"/>
            </a:br>
            <a:r>
              <a:rPr b="0" lang="ru-RU" sz="7200" spc="-1" strike="noStrike">
                <a:solidFill>
                  <a:srgbClr val="33cc33"/>
                </a:solidFill>
                <a:latin typeface="Arial"/>
              </a:rPr>
              <a:t>стре-ми-лась</a:t>
            </a:r>
            <a:br>
              <a:rPr sz="7200"/>
            </a:br>
            <a:r>
              <a:rPr b="0" lang="ru-RU" sz="7200" spc="-1" strike="noStrike">
                <a:solidFill>
                  <a:srgbClr val="33cc33"/>
                </a:solidFill>
                <a:latin typeface="Arial"/>
              </a:rPr>
              <a:t>под-пра-ви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435640" y="98100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431640" cy="36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16360" y="3213000"/>
            <a:ext cx="432000" cy="362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003640" y="4292640"/>
            <a:ext cx="43200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692280"/>
          <a:ext cx="2518920" cy="5544720"/>
        </p:xfrm>
        <a:graphic>
          <a:graphicData uri="http://schemas.openxmlformats.org/drawingml/2006/table">
            <a:tbl>
              <a:tblPr/>
              <a:tblGrid>
                <a:gridCol w="2518920"/>
              </a:tblGrid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ЛА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ЛЁС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ЕР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ИЗ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ОРМ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БОМЛЕ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987640" y="692280"/>
          <a:ext cx="5977080" cy="86508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а стесанных бревна, перекинутых с одного берега на другой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987640" y="1557360"/>
          <a:ext cx="5977080" cy="9349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окий участок реки;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987640" y="2492280"/>
          <a:ext cx="5977080" cy="9367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етеная рыболовная снасть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987640" y="3429000"/>
          <a:ext cx="5977080" cy="95256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менное место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987640" y="4365720"/>
          <a:ext cx="5977080" cy="9349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бый и пустой человек, бездельник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987640" y="5300640"/>
          <a:ext cx="5977080" cy="9367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пенел, ослабел от неожиданности, об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6081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ВОДА»- желтый ряд, колонка под квадра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427800" cy="4991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516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РЕКА» - синий ряд, колонка под квадр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5516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СОБАКА»- синий ряд, колонка под треуголь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ст 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Малька стремилась на тот бере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Малька, видимо, изо всех сил плыла на перерез струям, но ее несло все 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Малька испугалась широкой быстрой реки и холодной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Малька, выбиваясь из сил, с головой окунулась в в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46520" cy="2604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1197000"/>
            <a:ext cx="5400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«…Я с волнением гляд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что будет дальше?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2349360"/>
            <a:ext cx="4608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-А что дальше?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ам погибай, а товарища выручай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Храбрый не тот, кто страха не знает, а кто узнал и навстречу ему ид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лебалась-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з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лебнулас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р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алил –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р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ы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вил-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овил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о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жала –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пр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ежал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ваясь –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в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иваяс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2637000"/>
            <a:ext cx="4259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аб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ботли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аск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сач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уп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3141360"/>
            <a:ext cx="4038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б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л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уп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ду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ботл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н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олюб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ж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аб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736720" cy="288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64000" y="260280"/>
            <a:ext cx="295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997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Верный и Мал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292428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Про баран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308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Галки и о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6308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«Кот Рыж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73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051440" cy="273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816360" cy="266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788000" y="3573360"/>
            <a:ext cx="3995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212640"/>
            <a:ext cx="9144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ак все беды навалятся разом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Об одном лишь молитву шепчу: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Не утратить бы совесть и разум,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А иначе я жить не хоч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6081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Тема. В.И. Белов.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«Про Мальку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08000" y="4221000"/>
            <a:ext cx="4978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. Башкортостан, Стерлитамакский р-н, МОУ СОШ д. Дергачевка, учитель начальных классов Панаева С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4000" y="476280"/>
            <a:ext cx="3456000" cy="228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Arial"/>
              </a:rPr>
              <a:t>Василий Иванович  Бел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29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4076640"/>
            <a:ext cx="287280" cy="358920"/>
          </a:xfrm>
          <a:prstGeom prst="upArrow">
            <a:avLst>
              <a:gd name="adj1" fmla="val 50000"/>
              <a:gd name="adj2" fmla="val 3123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44000" y="4076640"/>
            <a:ext cx="288720" cy="358920"/>
          </a:xfrm>
          <a:prstGeom prst="downArrow">
            <a:avLst>
              <a:gd name="adj1" fmla="val 50000"/>
              <a:gd name="adj2" fmla="val 310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437000"/>
            <a:ext cx="8353440" cy="2043720"/>
          </a:xfrm>
          <a:prstGeom prst="rect">
            <a:avLst/>
          </a:prstGeom>
          <a:solidFill>
            <a:srgbClr val="33cc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Есть ли край милей и глуше?</a:t>
            </a:r>
            <a:br>
              <a:rPr sz="3200"/>
            </a:b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Сосны, камни-валуны…</a:t>
            </a:r>
            <a:br>
              <a:rPr sz="3200"/>
            </a:b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Сердцу дорог клочок суши</a:t>
            </a:r>
            <a:br>
              <a:rPr sz="3200"/>
            </a:b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К ней вернулся блудный с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55640" y="2349360"/>
          <a:ext cx="792000" cy="3168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47640" y="1628640"/>
          <a:ext cx="792360" cy="388800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340000" y="1628640"/>
          <a:ext cx="792000" cy="4608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55640" y="5516640"/>
          <a:ext cx="1584360" cy="72072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55640" y="1628640"/>
          <a:ext cx="792000" cy="720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132000" y="1628640"/>
          <a:ext cx="792360" cy="460872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924360" y="1628640"/>
          <a:ext cx="792000" cy="388800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24360" y="5516640"/>
          <a:ext cx="792000" cy="720720"/>
        </p:xfrm>
        <a:graphic>
          <a:graphicData uri="http://schemas.openxmlformats.org/drawingml/2006/table">
            <a:tbl>
              <a:tblPr/>
              <a:tblGrid>
                <a:gridCol w="792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250920" y="321300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516640"/>
            <a:ext cx="287280" cy="649080"/>
          </a:xfrm>
          <a:prstGeom prst="upArrow">
            <a:avLst>
              <a:gd name="adj1" fmla="val 50000"/>
              <a:gd name="adj2" fmla="val 5648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213000"/>
            <a:ext cx="289080" cy="647640"/>
          </a:xfrm>
          <a:prstGeom prst="downArrow">
            <a:avLst>
              <a:gd name="adj1" fmla="val 50000"/>
              <a:gd name="adj2" fmla="val 5600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5516640"/>
            <a:ext cx="287280" cy="720720"/>
          </a:xfrm>
          <a:prstGeom prst="downArrow">
            <a:avLst>
              <a:gd name="adj1" fmla="val 50000"/>
              <a:gd name="adj2" fmla="val 62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324000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" dur="1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5760" y="160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5040" y="35233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2880" y="5437440"/>
            <a:ext cx="63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6480" y="7679160"/>
            <a:ext cx="93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00" y="9698400"/>
            <a:ext cx="68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5300640"/>
            <a:ext cx="86421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-Сиди! – осадила ее Лидия. – Сиди, никто не возьмет твоих шаромыжников! Кому они нужны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4105080" cy="3889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508720" y="692280"/>
            <a:ext cx="3130560" cy="374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580000" y="692280"/>
            <a:ext cx="3046320" cy="3744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508720" y="765000"/>
            <a:ext cx="3024000" cy="3714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5364000" y="692280"/>
            <a:ext cx="3240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580000" y="3789360"/>
            <a:ext cx="3240000" cy="2808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9810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прос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да это Малька каждый день бег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2276640"/>
            <a:ext cx="79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ыбрать правильный 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30686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Провожает автора кататься на лы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414972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Кормить свое дитят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49417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Встречать хозяйку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140360" y="981000"/>
            <a:ext cx="44654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дыв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ви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жа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ну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Arial"/>
              </a:rPr>
              <a:t>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981000"/>
            <a:ext cx="3995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приг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по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под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взг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Arial"/>
              </a:rPr>
              <a:t>св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8T05:43:41Z</dcterms:created>
  <dc:creator>sda</dc:creator>
  <dc:description/>
  <dc:language>en-US</dc:language>
  <cp:lastModifiedBy>учитель</cp:lastModifiedBy>
  <dcterms:modified xsi:type="dcterms:W3CDTF">2007-09-16T10:33:14Z</dcterms:modified>
  <cp:revision>22</cp:revision>
  <dc:subject/>
  <dc:title>Уважаемые коллеги,</dc:title>
</cp:coreProperties>
</file>