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5D2-ACCD-4293-9E5B-AFE6B73E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61B-85AE-49E5-825D-8F07D0A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71C-661E-43E3-831E-BD6127A3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7BC-A06E-4EE8-BD10-12609FE4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BBC-900F-46E5-89B8-E8FC39D9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4644-97FE-4E65-A0F5-7880741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7E1E-0C73-4C50-8C40-391F455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57C6-B27F-411E-9E6C-7E82E09F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E6D0-86B0-4273-A54A-61672EC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5183-DA30-41D1-9458-AE1401AE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2FA7-E178-4447-A9E6-9D62370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171-DC6F-4995-99A8-A104690F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28D1-1EEF-4116-90EC-8FB1372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3EF-52F7-43F2-A5BD-958968A5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4FB-18B7-4EFC-91C3-1B1CC33B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1BA8-AA78-4099-AB93-37FA522D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53E-AD6D-40F3-BA01-DCB81E1A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08F-64B3-4190-B957-4A0EA30E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C17-8A68-4815-A34F-DD1C672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EE9-B56D-47E0-BB2E-9BCFF5D4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99D-09DE-42B4-9B52-65454CC8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6FF-F1C1-4620-9572-7B3A165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895-75BD-4AA9-9FCE-467E881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DA4-2B9D-4FC5-A1E8-C382848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4F27-2D1B-49C1-8206-55ECBCA93BA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DA3D-54DC-4831-B281-44755737ED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unin.niv.ru/images/bunin/bunin_0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unin.niv.ru/images/bunin/bunin_3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webplus.info/getres.php?imgWPIcard=c_890_05c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Иван Алексеевич Бунин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(1870-1953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Рисунок 3" descr="И.А. Буни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28960" y="2214720"/>
            <a:ext cx="3071880" cy="4214520"/>
          </a:xfrm>
          <a:prstGeom prst="rect">
            <a:avLst/>
          </a:prstGeom>
          <a:ln w="0">
            <a:noFill/>
          </a:ln>
        </p:spPr>
      </p:pic>
      <p:pic>
        <p:nvPicPr>
          <p:cNvPr id="107" name="14 Дорожка 14.wma" descr=""/>
          <p:cNvPicPr/>
          <p:nvPr/>
        </p:nvPicPr>
        <p:blipFill>
          <a:blip r:embed="rId4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5910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«Тело нашли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nstantia"/>
              </a:rPr>
              <a:t>в двух шагах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от хутора» – гипербол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Эта деталь удваивает трагизм гибели Нефеда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ербола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средство художественного изображения, основанное на чрезмерном преувеличении;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ное выражение, заключающееся в непомерном преувеличении событий, чувств, силы, значения, размера изображаемого явления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3" name="Picture 2" descr="http://im6-tub.yandex.net/i?id=36944004&amp;tov=6"/>
          <p:cNvPicPr/>
          <p:nvPr/>
        </p:nvPicPr>
        <p:blipFill>
          <a:blip r:embed="rId2"/>
          <a:stretch/>
        </p:blipFill>
        <p:spPr>
          <a:xfrm>
            <a:off x="3000240" y="4143240"/>
            <a:ext cx="3714840" cy="244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Бунин поставил образ Нефеда над всеми персонажами его рассказа, превознося его человеческую сущность, его чистую верную душу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лько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фед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автор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ал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бственное в рассказе. Хозяйка до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звана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рыней,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терью, хозяин –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ужем,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у ребенк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казан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угие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слуги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означены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только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голом  «решили»:  «Решили,  что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чит, ночевать остался, если Бог донес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6" name="Picture 2" descr="http://im3-tub.yandex.net/i?id=81054052&amp;tov=3"/>
          <p:cNvPicPr/>
          <p:nvPr/>
        </p:nvPicPr>
        <p:blipFill>
          <a:blip r:embed="rId2"/>
          <a:stretch/>
        </p:blipFill>
        <p:spPr>
          <a:xfrm>
            <a:off x="7072200" y="2071800"/>
            <a:ext cx="159552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500"/>
                            </p:stCondLst>
                            <p:childTnLst>
                              <p:par>
                                <p:cTn id="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В идейном содержании произведения </a:t>
            </a:r>
            <a:br>
              <a:rPr sz="2800"/>
            </a:br>
            <a:r>
              <a:rPr b="1" lang="en-US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часто имеет значение его название. </a:t>
            </a:r>
            <a:br>
              <a:rPr sz="2800"/>
            </a:br>
            <a:r>
              <a:rPr b="1" lang="en-US" sz="28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Данное название символично. </a:t>
            </a:r>
            <a:br>
              <a:rPr sz="2800"/>
            </a:br>
            <a:r>
              <a:rPr b="1" lang="en-US" sz="2800" spc="-1" strike="noStrike" u="sng">
                <a:solidFill>
                  <a:srgbClr val="dbf5f9"/>
                </a:solidFill>
                <a:uFillTx/>
                <a:latin typeface="Times New Roman"/>
                <a:ea typeface="Times New Roman"/>
              </a:rPr>
              <a:t>Оно символизирует: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714400"/>
            <a:ext cx="8229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Тяжелую болезнь ребен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Надежду на выздоровлени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Желание помоч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Способность к самопожертвова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Горечь смер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Уважение автора к крепостным людя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0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000"/>
                            </p:stCondLst>
                            <p:childTnLst>
                              <p:par>
                                <p:cTn id="3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Кроме сказанного в рассказе «Лапти» И.А.Бунин открывает нам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Между помещиками и слугами могли быть почти родственные отнош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  Не социальное положение ценно, а человеческое содержани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Художественное мастерство И.А.Бунина в рассказе «Лапти»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1) Напряженность сюже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) Выразительность язы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3) Недоговореннос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3" name="Picture 2" descr="http://im4-tub.yandex.net/i?id=33271911&amp;tov=4"/>
          <p:cNvPicPr/>
          <p:nvPr/>
        </p:nvPicPr>
        <p:blipFill>
          <a:blip r:embed="rId2"/>
          <a:stretch/>
        </p:blipFill>
        <p:spPr>
          <a:xfrm>
            <a:off x="5019840" y="3772080"/>
            <a:ext cx="3695400" cy="276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3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0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) В рассказе «Лапти» Бунин раскрыл одну из особенностей русского характера – способность к самопожертвова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казал доброе, уважительное отношение к человеку независимо от его социального полож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вознес чистую, верную душу своего геро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9000"/>
                            </p:stCondLst>
                            <p:childTnLst>
                              <p:par>
                                <p:cTn id="5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Дать письменные ответы на вопросы(по выбору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Бунин дает Нефеду портрет без глаз, без взгляда: «Шапка, борода, старый полушубок, разбитые валенки…» Почем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Почему Бунин не говорит, выздоровел ли ребенок, ради которого погиб Нефед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сать мини-сочинение на тему: «В жизни всегда есть место подвигам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9" name="Picture 2" descr="http://im2-tub.yandex.net/i?id=37523376&amp;tov=2"/>
          <p:cNvPicPr/>
          <p:nvPr/>
        </p:nvPicPr>
        <p:blipFill>
          <a:blip r:embed="rId2"/>
          <a:stretch/>
        </p:blipFill>
        <p:spPr>
          <a:xfrm>
            <a:off x="2214720" y="642960"/>
            <a:ext cx="4232160" cy="5643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im5-tub.yandex.net/i?id=15090582&amp;tov=5"/>
          <p:cNvPicPr/>
          <p:nvPr/>
        </p:nvPicPr>
        <p:blipFill>
          <a:blip r:embed="rId3"/>
          <a:stretch/>
        </p:blipFill>
        <p:spPr>
          <a:xfrm>
            <a:off x="208080" y="-219240"/>
            <a:ext cx="3443040" cy="461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im2-tub.yandex.net/i?id=5885824&amp;tov=2"/>
          <p:cNvPicPr/>
          <p:nvPr/>
        </p:nvPicPr>
        <p:blipFill>
          <a:blip r:embed="rId4"/>
          <a:stretch/>
        </p:blipFill>
        <p:spPr>
          <a:xfrm>
            <a:off x="4968720" y="3578400"/>
            <a:ext cx="418176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7232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00040" y="1285920"/>
            <a:ext cx="82152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Содержимое 4" descr="И.А. Буни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1500120"/>
            <a:ext cx="3214440" cy="4071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4000680" y="1143000"/>
            <a:ext cx="485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нин - прекрасный знаток русского сло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стиль красив, как матовое серебро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Горьки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1285560"/>
            <a:ext cx="82580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Тема урока: </a:t>
            </a:r>
            <a:br>
              <a:rPr sz="3200"/>
            </a:b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«Русский характер в изображении И.А.Бунина. Рассказ «Лапти».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568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nstantia"/>
              </a:rPr>
              <a:t>Цели урока: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. Познакомиться с биографией и творчеством И.А.Бунин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. Выявить жанровые признаки рассказа «Лапти», существенные черты образа главного героя, идейное содержание произведения и особенности художественного мастерства писател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. Развивать умение выделять идейно-значимые подробности текс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. Формировать мировозренческую позицию о ценностях лич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Рассказ как жанр литератур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nstantia"/>
              </a:rPr>
              <a:t>Рассказ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это прозаическое произве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лого объема с динамическим развитием сюжета. Рассказ отличается кратковременностью изображаемого и небольшим количеством действующих лиц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5000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роизведение И.А.Бунина «Лапти» – рассказ</a:t>
            </a:r>
            <a:endParaRPr b="0" lang="en-US" sz="3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писано в свободной реч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лый объем – 2 страниц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намическое развитие сюжета: несколько событий, быстро сменяющих друг друг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атковременность изображаемого: менее сут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большое количество действующих лиц: барыня, ребенок, Нефед, новосельские мужики, бар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 spokes="1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Лапти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– крестьянская обувь, сплетенная из лыка, охватывающая только стопу.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(Словарь С.И.Ожегова)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9" name="Picture 2" descr="14"/>
          <p:cNvPicPr/>
          <p:nvPr/>
        </p:nvPicPr>
        <p:blipFill>
          <a:blip r:embed="rId2"/>
          <a:stretch/>
        </p:blipFill>
        <p:spPr>
          <a:xfrm>
            <a:off x="1214280" y="2106720"/>
            <a:ext cx="2928960" cy="436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ttp://im6-tub.yandex.net/i?id=39188848&amp;tov=6"/>
          <p:cNvPicPr/>
          <p:nvPr/>
        </p:nvPicPr>
        <p:blipFill>
          <a:blip r:embed="rId3"/>
          <a:stretch/>
        </p:blipFill>
        <p:spPr>
          <a:xfrm>
            <a:off x="4929120" y="3143160"/>
            <a:ext cx="387684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лан рассказа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2856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Болезнь ребенк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 лаптями в Новосел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очь ожидан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ловещий стук в окн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Picture 2" descr="http://im2-tub.yandex.net/i?id=96270076&amp;tov=2"/>
          <p:cNvPicPr/>
          <p:nvPr/>
        </p:nvPicPr>
        <p:blipFill>
          <a:blip r:embed="rId2"/>
          <a:stretch/>
        </p:blipFill>
        <p:spPr>
          <a:xfrm>
            <a:off x="5715000" y="1571760"/>
            <a:ext cx="3125880" cy="4771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158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Краткое изложение сюжета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хуторском доме болен ребенок. В бреду он просит красные лапти. За окном не прекращающаяся пять суток буря. Лавка, где можно купить лапти, за шесть верст, в Новоселках. Нефед решается идти. Барыня напряженно ждет возвращения Нефеда. В тревоге и волнении проходит ночь. Наутро новосельские мужики привозят тело замерзшего в степи Нефед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ull dir="l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Кнут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– большая плеть. Веревочный кнут. Пастуший кнут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ловарь С.И.Ожегова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http://im6-tub.yandex.net/i?id=52755839&amp;tov=6"/>
          <p:cNvPicPr/>
          <p:nvPr/>
        </p:nvPicPr>
        <p:blipFill>
          <a:blip r:embed="rId2"/>
          <a:stretch/>
        </p:blipFill>
        <p:spPr>
          <a:xfrm>
            <a:off x="6143760" y="2928960"/>
            <a:ext cx="2840040" cy="30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im2-tub.yandex.net/i?id=56583950&amp;tov=2"/>
          <p:cNvPicPr/>
          <p:nvPr/>
        </p:nvPicPr>
        <p:blipFill>
          <a:blip r:embed="rId3"/>
          <a:stretch/>
        </p:blipFill>
        <p:spPr>
          <a:xfrm>
            <a:off x="4286160" y="3714840"/>
            <a:ext cx="1857600" cy="279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Картинка 40 из 1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2643120"/>
            <a:ext cx="4257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2:28:30Z</dcterms:created>
  <dc:creator>Admin</dc:creator>
  <dc:description/>
  <dc:language>en-US</dc:language>
  <cp:lastModifiedBy>nastya.cherepneva</cp:lastModifiedBy>
  <dcterms:modified xsi:type="dcterms:W3CDTF">2013-01-18T09:44:37Z</dcterms:modified>
  <cp:revision>60</cp:revision>
  <dc:subject/>
  <dc:title>Слайд 1</dc:title>
</cp:coreProperties>
</file>