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E0D-C361-44F5-BE33-F11FA074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351-8669-403A-8DE7-11027CE7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066-65C1-4C26-B01A-D5BCA136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E37-1D74-4A03-9B13-376793A8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816-D8C1-4C30-B344-C76AB77B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FE9-61C1-4DB1-8668-AB612EA8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0ED-80AC-49EF-99AB-3B1C107F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9144-701A-4E3A-BEC9-34928298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B4F-8AFF-4034-BC44-1FA14C47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46A-D07A-4E1B-A6A9-F8324576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760-40C3-4416-85F2-4229671B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723C-961D-46A3-92D8-FD266D71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53E5-A952-495F-8304-C17A9361A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280" y="2204640"/>
            <a:ext cx="572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Химические свойства одноосновных предельных карбоновых кисло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92720" y="5444640"/>
            <a:ext cx="3456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Подготов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Матвеева Людмила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МОУ лицей №9 г. Волгогр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                          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210-919-3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Ц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актуализировать знания о свойствах кислот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сравнить свойства органических и неорганических кислот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продолжить формировать умения составлять уравнения реакций с участием органических вещест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570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§ 34, стр. 206 – 2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записи в тетрад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составьте уравнения реакций, характеризующие свойств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1 вариант - пропановой кислоты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2 вариант – муравьиной кисл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000" spc="-1" strike="noStrike">
                <a:solidFill>
                  <a:srgbClr val="003366"/>
                </a:solidFill>
                <a:latin typeface="Times New Roman"/>
              </a:rPr>
              <a:t>Среди предложенных веществ выберите формулу предельной одноосновной кислоты</a:t>
            </a:r>
            <a:r>
              <a:rPr b="1" lang="ru-RU" sz="30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= CH – CO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HOOC – CH</a:t>
            </a:r>
            <a:r>
              <a:rPr b="1" lang="en-US" sz="30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– CO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– CH</a:t>
            </a:r>
            <a:r>
              <a:rPr b="1" lang="en-US" sz="30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– CO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1" lang="en-US" sz="3000" spc="-1" strike="noStrike" baseline="-25000">
                <a:solidFill>
                  <a:srgbClr val="003366"/>
                </a:solidFill>
                <a:latin typeface="Times New Roman"/>
              </a:rPr>
              <a:t>6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1" lang="en-US" sz="3000" spc="-1" strike="noStrike" baseline="-25000">
                <a:solidFill>
                  <a:srgbClr val="003366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– CH</a:t>
            </a:r>
            <a:r>
              <a:rPr b="1" lang="en-US" sz="30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– COOH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айте название кислотам по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UP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3366"/>
                </a:solidFill>
                <a:latin typeface="Times New Roman"/>
              </a:rPr>
              <a:t>3 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- CH – CO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|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– CH</a:t>
            </a:r>
            <a:r>
              <a:rPr b="1" lang="en-US" sz="30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– CH</a:t>
            </a:r>
            <a:r>
              <a:rPr b="1" lang="en-US" sz="30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– CO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– CH – CH – COOH</a:t>
            </a:r>
            <a:r>
              <a:rPr b="1" lang="ru-RU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|         |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   C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CH</a:t>
            </a:r>
            <a:r>
              <a:rPr b="1" lang="ru-RU" sz="30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– CO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войства неорганических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диссоци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Ме (ак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основный окси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амфотерный окси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щелоч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нерастворимое осн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амфотерный гидрокси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со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83760" y="476280"/>
            <a:ext cx="7859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актическая рабо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i="1" lang="en-US" sz="3000" spc="-1" strike="noStrike">
                <a:solidFill>
                  <a:srgbClr val="003366"/>
                </a:solidFill>
                <a:latin typeface="Times New Roman"/>
              </a:rPr>
              <a:t>Тема: Свойства карбоновых кислот</a:t>
            </a: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(общие с неорганическими кислотам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Выполнение практической работы – 5-6 ми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3-4 мин – вынести результаты на дос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3-4 мин – обсуждение результа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3-4 мин – дополнить записи в тетрад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Вывод по работ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ыбер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000" spc="-1" strike="noStrike">
                <a:solidFill>
                  <a:srgbClr val="003366"/>
                </a:solidFill>
                <a:latin typeface="Times New Roman"/>
              </a:rPr>
              <a:t>С какими из перечисленных веществ реагирует муравьиная кислота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гидроксид лития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оксид натрия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калий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бром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нитрат натрия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сульфид натрия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трихлорид фосфора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06:23:02Z</dcterms:created>
  <dc:creator>Tarantino</dc:creator>
  <dc:description/>
  <dc:language>en-US</dc:language>
  <cp:lastModifiedBy>Tarantino</cp:lastModifiedBy>
  <dcterms:modified xsi:type="dcterms:W3CDTF">2012-12-04T07:45:41Z</dcterms:modified>
  <cp:revision>14</cp:revision>
  <dc:subject/>
  <dc:title>Слайд 1</dc:title>
</cp:coreProperties>
</file>