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15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33.jpeg" ContentType="image/jpeg"/>
  <Override PartName="/ppt/media/image34.jpeg" ContentType="image/jpeg"/>
  <Override PartName="/ppt/media/image18.png" ContentType="image/png"/>
  <Override PartName="/ppt/media/image40.jpeg" ContentType="image/jpeg"/>
  <Override PartName="/ppt/media/image44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30.jpeg" ContentType="image/jpeg"/>
  <Override PartName="/ppt/media/image47.gif" ContentType="image/gif"/>
  <Override PartName="/ppt/media/image53.jpeg" ContentType="image/jpeg"/>
  <Override PartName="/ppt/media/image48.gif" ContentType="image/gif"/>
  <Override PartName="/ppt/media/image46.jpeg" ContentType="image/jpeg"/>
  <Override PartName="/ppt/media/image51.jpeg" ContentType="image/jpeg"/>
  <Override PartName="/ppt/media/image52.jpeg" ContentType="image/jpeg"/>
  <Override PartName="/ppt/media/image31.jpeg" ContentType="image/jpeg"/>
  <Override PartName="/ppt/media/image13.png" ContentType="image/png"/>
  <Override PartName="/ppt/media/image12.png" ContentType="image/png"/>
  <Override PartName="/ppt/media/image20.jpeg" ContentType="image/jpeg"/>
  <Override PartName="/ppt/media/image39.jpeg" ContentType="image/jpeg"/>
  <Override PartName="/ppt/media/image8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42.jpeg" ContentType="image/jpeg"/>
  <Override PartName="/ppt/media/image19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F864-1635-4828-853A-038EA695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B1C-33D0-4C2B-AD7A-A9B1D392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DBCA-7E20-43E5-87EB-7E8D3817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87A-A0AB-4345-9484-468AF442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61A-E032-4B2C-ACA7-7DFE7131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08B-71F0-4632-A8AE-E9BD2B58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262-CDCE-46D6-82BB-98D46855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47B2-CA78-41F7-BA1A-07C282D4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CB7-90CD-4540-9ECE-ABD31E74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2A3-1852-45EC-959C-71930D8E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BA5-5ADF-4FFD-8F23-0D8BDA3A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220-445C-4A6D-BB36-8D0AFC1C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A3AA-3A8D-45B5-91C0-AD506CF67F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987480" y="1627200"/>
            <a:ext cx="6986520" cy="28526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250920" y="4797360"/>
            <a:ext cx="5975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Урок окружающего мира во 2 клас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(УМК «Гармония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втор: Дробаха О.В.,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БОУ гимназии №4 г. Мурма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4" descr="http://screenshots.etvnet.com/000/134/048/s06.jpg"/>
          <p:cNvPicPr/>
          <p:nvPr/>
        </p:nvPicPr>
        <p:blipFill>
          <a:blip r:embed="rId1"/>
          <a:stretch/>
        </p:blipFill>
        <p:spPr>
          <a:xfrm>
            <a:off x="3851280" y="2692440"/>
            <a:ext cx="1690560" cy="1246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" descr="C:\Users\DK\Desktop\облака\18d335716a90de7810fa0932ce51b5.jpg"/>
          <p:cNvPicPr/>
          <p:nvPr/>
        </p:nvPicPr>
        <p:blipFill>
          <a:blip r:embed="rId2"/>
          <a:stretch/>
        </p:blipFill>
        <p:spPr>
          <a:xfrm>
            <a:off x="423720" y="201600"/>
            <a:ext cx="3592800" cy="2697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wallbox.ru/wallpapers/preview/201142/multfilmy-e7273359304d.jpg"/>
          <p:cNvPicPr/>
          <p:nvPr/>
        </p:nvPicPr>
        <p:blipFill>
          <a:blip r:embed="rId3"/>
          <a:stretch/>
        </p:blipFill>
        <p:spPr>
          <a:xfrm>
            <a:off x="5118120" y="352440"/>
            <a:ext cx="3782880" cy="236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http://static.kinokopilka.tv/system/images/screenshots/images/000/069/409/69409_original.jpg"/>
          <p:cNvPicPr/>
          <p:nvPr/>
        </p:nvPicPr>
        <p:blipFill>
          <a:blip r:embed="rId4"/>
          <a:stretch/>
        </p:blipFill>
        <p:spPr>
          <a:xfrm>
            <a:off x="465120" y="3659040"/>
            <a:ext cx="3519360" cy="2776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http://sumno.com/media/images/galleries/2010/07/12/pik5/mumi2.jpg"/>
          <p:cNvPicPr/>
          <p:nvPr/>
        </p:nvPicPr>
        <p:blipFill>
          <a:blip r:embed="rId5"/>
          <a:stretch/>
        </p:blipFill>
        <p:spPr>
          <a:xfrm>
            <a:off x="5253120" y="3619440"/>
            <a:ext cx="3647880" cy="2772000"/>
          </a:xfrm>
          <a:prstGeom prst="rect">
            <a:avLst/>
          </a:prstGeom>
          <a:ln w="0">
            <a:noFill/>
          </a:ln>
        </p:spPr>
      </p:pic>
      <p:pic>
        <p:nvPicPr>
          <p:cNvPr id="101" name="По дороге с облаками.mp3" descr=""/>
          <p:cNvPicPr/>
          <p:nvPr/>
        </p:nvPicPr>
        <p:blipFill>
          <a:blip r:embed="rId6"/>
          <a:stretch/>
        </p:blipFill>
        <p:spPr>
          <a:xfrm>
            <a:off x="4267080" y="11253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52195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357120" y="2276640"/>
            <a:ext cx="878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лака состоят из … Подскажите,      , почему из облаков 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"/>
          <p:cNvSpPr/>
          <p:nvPr/>
        </p:nvSpPr>
        <p:spPr>
          <a:xfrm>
            <a:off x="7812000" y="2373480"/>
            <a:ext cx="647640" cy="7189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http://s46.radikal.ru/i111/0902/d6/2560cdb494ac.jpg"/>
          <p:cNvPicPr/>
          <p:nvPr/>
        </p:nvPicPr>
        <p:blipFill>
          <a:blip r:embed="rId1"/>
          <a:stretch/>
        </p:blipFill>
        <p:spPr>
          <a:xfrm>
            <a:off x="3419640" y="2421000"/>
            <a:ext cx="2928600" cy="4241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http://www.rulez-t.info/uploads/posts/2011-05/1304610416_fog_04.jpg"/>
          <p:cNvPicPr/>
          <p:nvPr/>
        </p:nvPicPr>
        <p:blipFill>
          <a:blip r:embed="rId2"/>
          <a:stretch/>
        </p:blipFill>
        <p:spPr>
          <a:xfrm>
            <a:off x="5003640" y="190440"/>
            <a:ext cx="3934080" cy="2951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http://artsytime.com/img/artwork/fog/fog_24.jpg"/>
          <p:cNvPicPr/>
          <p:nvPr/>
        </p:nvPicPr>
        <p:blipFill>
          <a:blip r:embed="rId3"/>
          <a:stretch/>
        </p:blipFill>
        <p:spPr>
          <a:xfrm>
            <a:off x="179280" y="190440"/>
            <a:ext cx="44229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galereika.net/_ph/218/2/918256112.jpg"/>
          <p:cNvPicPr/>
          <p:nvPr/>
        </p:nvPicPr>
        <p:blipFill>
          <a:blip r:embed="rId1"/>
          <a:stretch/>
        </p:blipFill>
        <p:spPr>
          <a:xfrm>
            <a:off x="4643280" y="557280"/>
            <a:ext cx="3897360" cy="2595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://im2-tub-ru.yandex.net/i?id=121805365-03-72&amp;n=21"/>
          <p:cNvPicPr/>
          <p:nvPr/>
        </p:nvPicPr>
        <p:blipFill>
          <a:blip r:embed="rId2"/>
          <a:stretch/>
        </p:blipFill>
        <p:spPr>
          <a:xfrm>
            <a:off x="1116000" y="3446640"/>
            <a:ext cx="2031840" cy="2849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66"/>
          <p:cNvPicPr/>
          <p:nvPr/>
        </p:nvPicPr>
        <p:blipFill>
          <a:blip r:embed="rId3"/>
          <a:stretch/>
        </p:blipFill>
        <p:spPr>
          <a:xfrm>
            <a:off x="5003640" y="3881520"/>
            <a:ext cx="172908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coffee"/>
          <p:cNvPicPr/>
          <p:nvPr/>
        </p:nvPicPr>
        <p:blipFill>
          <a:blip r:embed="rId4"/>
          <a:stretch/>
        </p:blipFill>
        <p:spPr>
          <a:xfrm>
            <a:off x="7283520" y="4290840"/>
            <a:ext cx="693720" cy="909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http://vsyako-razno.ru/uploads/posts/2010-01/1263137056_hiop.ru_podborka-100.jpg"/>
          <p:cNvPicPr/>
          <p:nvPr/>
        </p:nvPicPr>
        <p:blipFill>
          <a:blip r:embed="rId5"/>
          <a:stretch/>
        </p:blipFill>
        <p:spPr>
          <a:xfrm>
            <a:off x="525600" y="804960"/>
            <a:ext cx="29289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468360" y="1628640"/>
            <a:ext cx="8567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облака есть брат - … Есть ли ..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177840" y="404640"/>
            <a:ext cx="878688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знаю, что форма облаков … Я видел … Скажите,      , а вы видели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лака делятся на 3 основных вида: …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скажите, какие еще…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лака состоят из … Подскажите,      , почему из облаков 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облака есть брат … Есть ли ..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скажите,      ,как предсказать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1"/>
          <p:cNvSpPr/>
          <p:nvPr/>
        </p:nvSpPr>
        <p:spPr>
          <a:xfrm>
            <a:off x="2867040" y="981000"/>
            <a:ext cx="647640" cy="7192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3"/>
          <p:cNvSpPr/>
          <p:nvPr/>
        </p:nvSpPr>
        <p:spPr>
          <a:xfrm>
            <a:off x="324000" y="2492280"/>
            <a:ext cx="647640" cy="7207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4"/>
          <p:cNvSpPr/>
          <p:nvPr/>
        </p:nvSpPr>
        <p:spPr>
          <a:xfrm>
            <a:off x="7647120" y="3494160"/>
            <a:ext cx="647640" cy="71892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5"/>
          <p:cNvSpPr/>
          <p:nvPr/>
        </p:nvSpPr>
        <p:spPr>
          <a:xfrm>
            <a:off x="2890800" y="5805360"/>
            <a:ext cx="647640" cy="7192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 flipH="1">
            <a:off x="6492600" y="1908000"/>
            <a:ext cx="7308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1258920" y="1628640"/>
            <a:ext cx="720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было легко на уро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показалось сложны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то произвело особое впечатл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www.proza.ru/pics/2011/03/26/1802.jpg"/>
          <p:cNvPicPr/>
          <p:nvPr/>
        </p:nvPicPr>
        <p:blipFill>
          <a:blip r:embed="rId1"/>
          <a:stretch/>
        </p:blipFill>
        <p:spPr>
          <a:xfrm>
            <a:off x="324000" y="40464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://img-fotki.yandex.ru/get/3714/vkus-yablok.1d/0_45bc3_cd0397e3_XL.jpg"/>
          <p:cNvPicPr/>
          <p:nvPr/>
        </p:nvPicPr>
        <p:blipFill>
          <a:blip r:embed="rId2"/>
          <a:stretch/>
        </p:blipFill>
        <p:spPr>
          <a:xfrm>
            <a:off x="5651640" y="419040"/>
            <a:ext cx="3149640" cy="4388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ttp://selena.kiev.ua/wp-content/uploads/2010/03/6791ae0cf4f81d4406.jpg"/>
          <p:cNvPicPr/>
          <p:nvPr/>
        </p:nvPicPr>
        <p:blipFill>
          <a:blip r:embed="rId3"/>
          <a:stretch/>
        </p:blipFill>
        <p:spPr>
          <a:xfrm>
            <a:off x="311040" y="4076640"/>
            <a:ext cx="2556000" cy="2436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http://photobucket.com/albums/l130/electrelane/ivan/P1030759.jpg"/>
          <p:cNvPicPr/>
          <p:nvPr/>
        </p:nvPicPr>
        <p:blipFill>
          <a:blip r:embed="rId4"/>
          <a:stretch/>
        </p:blipFill>
        <p:spPr>
          <a:xfrm>
            <a:off x="3087720" y="4052880"/>
            <a:ext cx="345744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633240" y="1662120"/>
            <a:ext cx="2521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геогра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5"/>
          <p:cNvSpPr/>
          <p:nvPr/>
        </p:nvSpPr>
        <p:spPr>
          <a:xfrm>
            <a:off x="662040" y="2700360"/>
            <a:ext cx="23302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биол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6"/>
          <p:cNvSpPr/>
          <p:nvPr/>
        </p:nvSpPr>
        <p:spPr>
          <a:xfrm>
            <a:off x="663480" y="4006800"/>
            <a:ext cx="2776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астро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7"/>
          <p:cNvSpPr/>
          <p:nvPr/>
        </p:nvSpPr>
        <p:spPr>
          <a:xfrm>
            <a:off x="4067280" y="2637000"/>
            <a:ext cx="2511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косм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8"/>
          <p:cNvSpPr/>
          <p:nvPr/>
        </p:nvSpPr>
        <p:spPr>
          <a:xfrm>
            <a:off x="4067280" y="1662120"/>
            <a:ext cx="3936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живую прир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9"/>
          <p:cNvSpPr/>
          <p:nvPr/>
        </p:nvSpPr>
        <p:spPr>
          <a:xfrm>
            <a:off x="403200" y="5113440"/>
            <a:ext cx="2981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метеорол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949120" y="333360"/>
            <a:ext cx="2012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изуч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3954600" y="3589200"/>
            <a:ext cx="51829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погодные явления, предсказывает по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3924360" y="5130720"/>
            <a:ext cx="4968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поверхность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2"/>
          <p:cNvCxnSpPr/>
          <p:nvPr/>
        </p:nvCxnSpPr>
        <p:spPr>
          <a:xfrm>
            <a:off x="2700000" y="2061720"/>
            <a:ext cx="1585080" cy="33836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3" name="Прямая со стрелкой 12"/>
          <p:cNvCxnSpPr/>
          <p:nvPr/>
        </p:nvCxnSpPr>
        <p:spPr>
          <a:xfrm flipV="1">
            <a:off x="2527200" y="2204280"/>
            <a:ext cx="1540800" cy="89604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4" name="Прямая со стрелкой 14"/>
          <p:cNvCxnSpPr/>
          <p:nvPr/>
        </p:nvCxnSpPr>
        <p:spPr>
          <a:xfrm flipV="1">
            <a:off x="3103560" y="3099960"/>
            <a:ext cx="1037520" cy="1278720"/>
          </a:xfrm>
          <a:prstGeom prst="straightConnector1">
            <a:avLst/>
          </a:prstGeom>
          <a:ln w="38160">
            <a:solidFill>
              <a:srgbClr val="00cc00"/>
            </a:solidFill>
            <a:miter/>
            <a:tailEnd len="med" type="arrow" w="med"/>
          </a:ln>
        </p:spPr>
      </p:cxnSp>
      <p:cxnSp>
        <p:nvCxnSpPr>
          <p:cNvPr id="55" name="Прямая со стрелкой 16"/>
          <p:cNvCxnSpPr/>
          <p:nvPr/>
        </p:nvCxnSpPr>
        <p:spPr>
          <a:xfrm flipV="1">
            <a:off x="3296880" y="4292280"/>
            <a:ext cx="770760" cy="11527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DK\Desktop\облака\форма\кораблик.jpg"/>
          <p:cNvPicPr/>
          <p:nvPr/>
        </p:nvPicPr>
        <p:blipFill>
          <a:blip r:embed="rId1"/>
          <a:stretch/>
        </p:blipFill>
        <p:spPr>
          <a:xfrm>
            <a:off x="4643280" y="115920"/>
            <a:ext cx="4378320" cy="656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DK\Desktop\облака\форма\корабль.jpg"/>
          <p:cNvPicPr/>
          <p:nvPr/>
        </p:nvPicPr>
        <p:blipFill>
          <a:blip r:embed="rId2"/>
          <a:stretch/>
        </p:blipFill>
        <p:spPr>
          <a:xfrm>
            <a:off x="395280" y="1195560"/>
            <a:ext cx="4100400" cy="5467320"/>
          </a:xfrm>
          <a:prstGeom prst="rect">
            <a:avLst/>
          </a:prstGeom>
          <a:ln w="0">
            <a:noFill/>
          </a:ln>
        </p:spPr>
      </p:pic>
      <p:pic>
        <p:nvPicPr>
          <p:cNvPr id="58" name="Белые кораблики1.mp3" descr=""/>
          <p:cNvPicPr/>
          <p:nvPr/>
        </p:nvPicPr>
        <p:blipFill>
          <a:blip r:embed="rId3"/>
          <a:stretch/>
        </p:blipFill>
        <p:spPr>
          <a:xfrm>
            <a:off x="2050920" y="3333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095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Мой фильм.mp4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268280" y="404640"/>
            <a:ext cx="698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знаю, что форма облаков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видел(а) … Скажите,       , а вы видели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"/>
          <p:cNvSpPr/>
          <p:nvPr/>
        </p:nvSpPr>
        <p:spPr>
          <a:xfrm>
            <a:off x="6443640" y="1414440"/>
            <a:ext cx="647640" cy="7174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Users\DK\Desktop\облака\форма\человечек.jpg"/>
          <p:cNvPicPr/>
          <p:nvPr/>
        </p:nvPicPr>
        <p:blipFill>
          <a:blip r:embed="rId1"/>
          <a:stretch/>
        </p:blipFill>
        <p:spPr>
          <a:xfrm>
            <a:off x="2916360" y="3032280"/>
            <a:ext cx="33336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C:\Users\DK\Desktop\облака\Luke_Howard.jpg"/>
          <p:cNvPicPr/>
          <p:nvPr/>
        </p:nvPicPr>
        <p:blipFill>
          <a:blip r:embed="rId1"/>
          <a:stretch/>
        </p:blipFill>
        <p:spPr>
          <a:xfrm>
            <a:off x="7236000" y="115920"/>
            <a:ext cx="1593720" cy="194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2843280" y="2057400"/>
          <a:ext cx="4392720" cy="2560680"/>
        </p:xfrm>
        <a:graphic>
          <a:graphicData uri="http://schemas.openxmlformats.org/drawingml/2006/table">
            <a:tbl>
              <a:tblPr/>
              <a:tblGrid>
                <a:gridCol w="1800000"/>
                <a:gridCol w="2592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ы обла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де располагаю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9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4" descr="SCENE383"/>
          <p:cNvPicPr/>
          <p:nvPr/>
        </p:nvPicPr>
        <p:blipFill>
          <a:blip r:embed="rId2"/>
          <a:stretch/>
        </p:blipFill>
        <p:spPr>
          <a:xfrm>
            <a:off x="123840" y="84240"/>
            <a:ext cx="3224160" cy="2128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upload.wikimedia.org/wikipedia/commons/thumb/3/3c/GoldenMedows.jpg/800px-GoldenMedows.jpg"/>
          <p:cNvPicPr/>
          <p:nvPr/>
        </p:nvPicPr>
        <p:blipFill>
          <a:blip r:embed="rId3"/>
          <a:stretch/>
        </p:blipFill>
        <p:spPr>
          <a:xfrm>
            <a:off x="104760" y="4489560"/>
            <a:ext cx="3027240" cy="226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http://900igr.net/datai/astronomija/Oblaka/0004-002-Oni-obrazujutsja-blizko-ot-zemnoj-poverkhnosti-i-predstavljajut-soboj.png"/>
          <p:cNvPicPr/>
          <p:nvPr/>
        </p:nvPicPr>
        <p:blipFill>
          <a:blip r:embed="rId4"/>
          <a:stretch/>
        </p:blipFill>
        <p:spPr>
          <a:xfrm>
            <a:off x="6227640" y="4545000"/>
            <a:ext cx="2810160" cy="221292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8" descr=""/>
          <p:cNvPicPr/>
          <p:nvPr/>
        </p:nvPicPr>
        <p:blipFill>
          <a:blip r:embed="rId5"/>
          <a:stretch/>
        </p:blipFill>
        <p:spPr>
          <a:xfrm>
            <a:off x="2835360" y="2736720"/>
            <a:ext cx="1743120" cy="57312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9" descr=""/>
          <p:cNvPicPr/>
          <p:nvPr/>
        </p:nvPicPr>
        <p:blipFill>
          <a:blip r:embed="rId6"/>
          <a:stretch/>
        </p:blipFill>
        <p:spPr>
          <a:xfrm>
            <a:off x="2852640" y="3408480"/>
            <a:ext cx="1603440" cy="57312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10" descr=""/>
          <p:cNvPicPr/>
          <p:nvPr/>
        </p:nvPicPr>
        <p:blipFill>
          <a:blip r:embed="rId7"/>
          <a:stretch/>
        </p:blipFill>
        <p:spPr>
          <a:xfrm>
            <a:off x="2859120" y="4035600"/>
            <a:ext cx="1749240" cy="5727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13" descr=""/>
          <p:cNvPicPr/>
          <p:nvPr/>
        </p:nvPicPr>
        <p:blipFill>
          <a:blip r:embed="rId8"/>
          <a:stretch/>
        </p:blipFill>
        <p:spPr>
          <a:xfrm>
            <a:off x="4608360" y="2603520"/>
            <a:ext cx="2590920" cy="87156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14" descr=""/>
          <p:cNvPicPr/>
          <p:nvPr/>
        </p:nvPicPr>
        <p:blipFill>
          <a:blip r:embed="rId9"/>
          <a:stretch/>
        </p:blipFill>
        <p:spPr>
          <a:xfrm>
            <a:off x="4638600" y="3408480"/>
            <a:ext cx="2597400" cy="57312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5" descr=""/>
          <p:cNvPicPr/>
          <p:nvPr/>
        </p:nvPicPr>
        <p:blipFill>
          <a:blip r:embed="rId10"/>
          <a:stretch/>
        </p:blipFill>
        <p:spPr>
          <a:xfrm>
            <a:off x="4614840" y="4017960"/>
            <a:ext cx="2590920" cy="56664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5" descr=""/>
          <p:cNvPicPr/>
          <p:nvPr/>
        </p:nvPicPr>
        <p:blipFill>
          <a:blip r:embed="rId11"/>
          <a:stretch/>
        </p:blipFill>
        <p:spPr>
          <a:xfrm>
            <a:off x="5364000" y="517680"/>
            <a:ext cx="218304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6" descr="http://oldpak.ru/wp-content/uploads/2012/04/sloistye.jpg"/>
          <p:cNvPicPr/>
          <p:nvPr/>
        </p:nvPicPr>
        <p:blipFill>
          <a:blip r:embed="rId1"/>
          <a:stretch/>
        </p:blipFill>
        <p:spPr>
          <a:xfrm>
            <a:off x="298440" y="4356000"/>
            <a:ext cx="2544840" cy="1665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static.freepik.com/darmowe-zdjecie/chmury-cumulus_2812503.jpg"/>
          <p:cNvPicPr/>
          <p:nvPr/>
        </p:nvPicPr>
        <p:blipFill>
          <a:blip r:embed="rId2"/>
          <a:stretch/>
        </p:blipFill>
        <p:spPr>
          <a:xfrm>
            <a:off x="1996920" y="2498760"/>
            <a:ext cx="2417760" cy="1611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C:\Users\DK\Desktop\пер.jpg"/>
          <p:cNvPicPr/>
          <p:nvPr/>
        </p:nvPicPr>
        <p:blipFill>
          <a:blip r:embed="rId3"/>
          <a:stretch/>
        </p:blipFill>
        <p:spPr>
          <a:xfrm>
            <a:off x="3110040" y="210960"/>
            <a:ext cx="2541600" cy="190836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" descr=""/>
          <p:cNvPicPr/>
          <p:nvPr/>
        </p:nvPicPr>
        <p:blipFill>
          <a:blip r:embed="rId4"/>
          <a:stretch/>
        </p:blipFill>
        <p:spPr>
          <a:xfrm>
            <a:off x="2835360" y="615960"/>
            <a:ext cx="3114720" cy="112716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" descr=""/>
          <p:cNvPicPr/>
          <p:nvPr/>
        </p:nvPicPr>
        <p:blipFill>
          <a:blip r:embed="rId5"/>
          <a:stretch/>
        </p:blipFill>
        <p:spPr>
          <a:xfrm>
            <a:off x="1785960" y="3067200"/>
            <a:ext cx="2798640" cy="11268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3" descr=""/>
          <p:cNvPicPr/>
          <p:nvPr/>
        </p:nvPicPr>
        <p:blipFill>
          <a:blip r:embed="rId6"/>
          <a:stretch/>
        </p:blipFill>
        <p:spPr>
          <a:xfrm>
            <a:off x="0" y="4803840"/>
            <a:ext cx="3127320" cy="1127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DK\Desktop\сам.jpg"/>
          <p:cNvPicPr/>
          <p:nvPr/>
        </p:nvPicPr>
        <p:blipFill>
          <a:blip r:embed="rId7"/>
          <a:stretch/>
        </p:blipFill>
        <p:spPr>
          <a:xfrm>
            <a:off x="5651640" y="142920"/>
            <a:ext cx="2795400" cy="2085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Users\DK\Desktop\дельт.jpg"/>
          <p:cNvPicPr/>
          <p:nvPr/>
        </p:nvPicPr>
        <p:blipFill>
          <a:blip r:embed="rId8"/>
          <a:stretch/>
        </p:blipFill>
        <p:spPr>
          <a:xfrm>
            <a:off x="4392720" y="2278080"/>
            <a:ext cx="2577960" cy="1959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http://img-2007-05.photosight.ru/19/2098146.jpg"/>
          <p:cNvPicPr/>
          <p:nvPr/>
        </p:nvPicPr>
        <p:blipFill>
          <a:blip r:embed="rId9"/>
          <a:stretch/>
        </p:blipFill>
        <p:spPr>
          <a:xfrm>
            <a:off x="2813040" y="4356000"/>
            <a:ext cx="3102120" cy="216864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4" descr=""/>
          <p:cNvPicPr/>
          <p:nvPr/>
        </p:nvPicPr>
        <p:blipFill>
          <a:blip r:embed="rId10"/>
          <a:stretch/>
        </p:blipFill>
        <p:spPr>
          <a:xfrm>
            <a:off x="-324000" y="-6480"/>
            <a:ext cx="3164040" cy="194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http://www.winpocket.ru/documents/_______.png"/>
          <p:cNvPicPr/>
          <p:nvPr/>
        </p:nvPicPr>
        <p:blipFill>
          <a:blip r:embed="rId11"/>
          <a:stretch/>
        </p:blipFill>
        <p:spPr>
          <a:xfrm>
            <a:off x="8524800" y="1341360"/>
            <a:ext cx="5508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C:\Users\DK\Desktop\облака\виды\пер1.jpg"/>
          <p:cNvPicPr/>
          <p:nvPr/>
        </p:nvPicPr>
        <p:blipFill>
          <a:blip r:embed="rId1"/>
          <a:stretch/>
        </p:blipFill>
        <p:spPr>
          <a:xfrm>
            <a:off x="1065240" y="1197000"/>
            <a:ext cx="7076880" cy="4317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C:\Users\DK\Desktop\облака\виды\сл.jpg"/>
          <p:cNvPicPr/>
          <p:nvPr/>
        </p:nvPicPr>
        <p:blipFill>
          <a:blip r:embed="rId2"/>
          <a:stretch/>
        </p:blipFill>
        <p:spPr>
          <a:xfrm>
            <a:off x="1484280" y="1209600"/>
            <a:ext cx="6134040" cy="4027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C:\Users\DK\Desktop\облака\виды\пер.jpg"/>
          <p:cNvPicPr/>
          <p:nvPr/>
        </p:nvPicPr>
        <p:blipFill>
          <a:blip r:embed="rId3"/>
          <a:stretch/>
        </p:blipFill>
        <p:spPr>
          <a:xfrm>
            <a:off x="1287360" y="1236600"/>
            <a:ext cx="6764400" cy="368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C:\Users\DK\Desktop\облака\виды\куч2.jpg"/>
          <p:cNvPicPr/>
          <p:nvPr/>
        </p:nvPicPr>
        <p:blipFill>
          <a:blip r:embed="rId4"/>
          <a:stretch/>
        </p:blipFill>
        <p:spPr>
          <a:xfrm>
            <a:off x="2335320" y="1511280"/>
            <a:ext cx="4537080" cy="3398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C:\Users\DK\Desktop\облака\виды\сл1.jpg"/>
          <p:cNvPicPr/>
          <p:nvPr/>
        </p:nvPicPr>
        <p:blipFill>
          <a:blip r:embed="rId5"/>
          <a:stretch/>
        </p:blipFill>
        <p:spPr>
          <a:xfrm>
            <a:off x="1230480" y="1494000"/>
            <a:ext cx="6796080" cy="3387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C:\Users\DK\Desktop\облака\10.jpg"/>
          <p:cNvPicPr/>
          <p:nvPr/>
        </p:nvPicPr>
        <p:blipFill>
          <a:blip r:embed="rId6"/>
          <a:stretch/>
        </p:blipFill>
        <p:spPr>
          <a:xfrm>
            <a:off x="2305080" y="1711440"/>
            <a:ext cx="4491000" cy="33703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image"/>
          <p:cNvPicPr/>
          <p:nvPr/>
        </p:nvPicPr>
        <p:blipFill>
          <a:blip r:embed="rId7"/>
          <a:stretch/>
        </p:blipFill>
        <p:spPr>
          <a:xfrm>
            <a:off x="1477800" y="1236600"/>
            <a:ext cx="63820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9" dur="7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9259E-006 C -0.04913 -0.06667 -0.09722 -0.13472 -0.14722 -0.20023 C -0.15069 -0.20486 -0.1651 -0.20903 -0.17031 -0.20972 C -0.18003 -0.21204 -0.17535 -0.21111 -0.18437 -0.2125 C -0.19496 -0.21574 -0.18993 -0.21459 -0.2 -0.21574 C -0.21319 -0.21991 -0.22778 -0.21667 -0.24097 -0.21412 C -0.24774 -0.21135 -0.25729 -0.21111 -0.26406 -0.21065 C -0.26979 -0.20625 -0.26302 -0.21088 -0.27674 -0.2081 C -0.27795 -0.20787 -0.27865 -0.20648 -0.27969 -0.20625 C -0.2816 -0.20579 -0.28559 -0.20556 -0.28559 -0.20533 E">
                                      <p:cBhvr>
                                        <p:cTn id="144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C 0.181 0 0.25 0.069 0.25 0.125 L 0.25 0.25 E">
                                      <p:cBhvr>
                                        <p:cTn id="15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1258920" y="1452600"/>
            <a:ext cx="6986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лака делятся на 3 основных вида: … .        , скажите, какие ещё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2"/>
          <p:cNvSpPr/>
          <p:nvPr/>
        </p:nvSpPr>
        <p:spPr>
          <a:xfrm>
            <a:off x="3598920" y="2492280"/>
            <a:ext cx="647640" cy="71928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3"/>
          <p:cNvSpPr/>
          <p:nvPr/>
        </p:nvSpPr>
        <p:spPr>
          <a:xfrm flipH="1">
            <a:off x="7596360" y="1557360"/>
            <a:ext cx="7272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05:32:06Z</dcterms:created>
  <dc:creator>Елена</dc:creator>
  <dc:description/>
  <dc:language>en-US</dc:language>
  <cp:lastModifiedBy>Оля</cp:lastModifiedBy>
  <dcterms:modified xsi:type="dcterms:W3CDTF">2012-12-16T07:47:12Z</dcterms:modified>
  <cp:revision>178</cp:revision>
  <dc:subject/>
  <dc:title>Слайд 1</dc:title>
</cp:coreProperties>
</file>