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0CB-A1D8-4F43-B132-E28042A5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155-1025-44BA-818C-49B7436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E75-6AE9-457B-9983-BA838473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918-20DC-4490-9EA8-BDF53FE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460-BA9D-40EF-80F1-5C659290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375-ACEF-4894-8F42-4661432C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8E1-2669-423C-920D-4C04F10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284-965A-4991-9A23-5D842377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A6-B9E3-4092-8B82-3428C8A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170-8160-4FD1-83DF-A64B689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DFF-CBCE-4BBB-9745-3E263BF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B76-AC44-45DC-9C6B-51E831E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6C87-4A1E-4B4B-B160-D7F3391711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Александр Сергеевич </a:t>
            </a:r>
            <a:br>
              <a:rPr sz="4400"/>
            </a:b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Пушк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«Зимнее утр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резентация подготовлена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учителем начальных классов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МБОУ ООШ № 17 г-к Анапа Росляковой Л.А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«Зимнее утро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Содержимое 4" descr="6.jpg"/>
          <p:cNvPicPr/>
          <p:nvPr/>
        </p:nvPicPr>
        <p:blipFill>
          <a:blip r:embed="rId2"/>
          <a:stretch/>
        </p:blipFill>
        <p:spPr>
          <a:xfrm>
            <a:off x="2057400" y="205740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Рисунок3.png"/>
          <p:cNvPicPr/>
          <p:nvPr/>
        </p:nvPicPr>
        <p:blipFill>
          <a:blip r:embed="rId3"/>
          <a:stretch/>
        </p:blipFill>
        <p:spPr>
          <a:xfrm>
            <a:off x="2392200" y="2852640"/>
            <a:ext cx="435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приложени1.wmv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0704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9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Взоры 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Сомкнуты -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Нега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Аврора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Вечор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Мгла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Нынче 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Лежанка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Предадимся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бегу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95320" y="380880"/>
            <a:ext cx="541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гла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закры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блаженство (со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утренняя звез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вч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тьма, мр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сегод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выступ у русской печ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ahoma"/>
              </a:rPr>
              <a:t>помчим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752480" y="-15228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Словарная работа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Подготовка к выразительному чтению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1 строфа-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осторженность, призы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2 строфа-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тревожность, тоска, печал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последняя строка- радостное уди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3 строфа-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осторг, радость, чувство любования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картинами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4 строфа-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чувство спокойствия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удовлетворения, мечта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5 строфа-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предвкушение удовольствия,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приятных впечат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Содержимое 7" descr="0908aa4cb77a8434967d1be5ca7dcb5f.jpeg"/>
          <p:cNvPicPr/>
          <p:nvPr/>
        </p:nvPicPr>
        <p:blipFill>
          <a:blip r:embed="rId2"/>
          <a:stretch/>
        </p:blipFill>
        <p:spPr>
          <a:xfrm>
            <a:off x="1219320" y="533520"/>
            <a:ext cx="7086600" cy="5614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Рисунок3.png"/>
          <p:cNvPicPr/>
          <p:nvPr/>
        </p:nvPicPr>
        <p:blipFill>
          <a:blip r:embed="rId3"/>
          <a:stretch/>
        </p:blipFill>
        <p:spPr>
          <a:xfrm>
            <a:off x="2392200" y="2852640"/>
            <a:ext cx="435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иложени2.wmv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83288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460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Содержимое 4" descr="Рисунок1.png"/>
          <p:cNvPicPr/>
          <p:nvPr/>
        </p:nvPicPr>
        <p:blipFill>
          <a:blip r:embed="rId2"/>
          <a:stretch/>
        </p:blipFill>
        <p:spPr>
          <a:xfrm>
            <a:off x="1116000" y="3481560"/>
            <a:ext cx="69120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пушкин"/>
          <p:cNvPicPr/>
          <p:nvPr/>
        </p:nvPicPr>
        <p:blipFill>
          <a:blip r:embed="rId2"/>
          <a:stretch/>
        </p:blipFill>
        <p:spPr>
          <a:xfrm>
            <a:off x="304920" y="609480"/>
            <a:ext cx="4647960" cy="5683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6000" spc="-1" strike="noStrike">
                <a:solidFill>
                  <a:srgbClr val="ffc000"/>
                </a:solidFill>
                <a:latin typeface="Monotype Corsiva"/>
              </a:rPr>
              <a:t>Александ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000"/>
                </a:solidFill>
                <a:latin typeface="Monotype Corsiva"/>
              </a:rPr>
              <a:t>Сергеевич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000"/>
                </a:solidFill>
                <a:latin typeface="Monotype Corsiva"/>
              </a:rPr>
              <a:t>Пушки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Monotype Corsiva"/>
              </a:rPr>
              <a:t>(</a:t>
            </a:r>
            <a:r>
              <a:rPr b="1" i="1" lang="en-US" sz="6000" spc="-1" strike="noStrike">
                <a:solidFill>
                  <a:srgbClr val="ffc000"/>
                </a:solidFill>
                <a:latin typeface="Monotype Corsiva"/>
              </a:rPr>
              <a:t>1799-1837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543800" cy="22860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Кому посвящены такие строки Пушки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«Ты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,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 детскую качая колыбель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Мой юный слух напевами пленила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И меж пелён оставила свирель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,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Которую сама заворожи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Картинка 7 из 444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80880" y="4495680"/>
            <a:ext cx="4800600" cy="60984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Няня   Арина Родионовна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38080" y="1066680"/>
            <a:ext cx="7620120" cy="83844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Кто из женщин, кроме няни, прививал любовь к родному языку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28600" y="4191120"/>
            <a:ext cx="525780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Бабушка Мария Алексеевна Ганнибал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Картинка 1 из 1406"/>
          <p:cNvPicPr/>
          <p:nvPr/>
        </p:nvPicPr>
        <p:blipFill>
          <a:blip r:embed="rId2"/>
          <a:stretch/>
        </p:blipFill>
        <p:spPr>
          <a:xfrm>
            <a:off x="5649840" y="2362320"/>
            <a:ext cx="349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457200" y="51055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38080" y="5257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3520" y="990720"/>
            <a:ext cx="7696080" cy="53316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В каком учебном заведении обучался поэт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4038480"/>
            <a:ext cx="3353040" cy="99072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В Царскосельском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лицее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licejuje"/>
          <p:cNvPicPr/>
          <p:nvPr/>
        </p:nvPicPr>
        <p:blipFill>
          <a:blip r:embed="rId2"/>
          <a:stretch/>
        </p:blipFill>
        <p:spPr>
          <a:xfrm>
            <a:off x="3505320" y="1905120"/>
            <a:ext cx="5705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9"/>
          <p:cNvSpPr/>
          <p:nvPr/>
        </p:nvSpPr>
        <p:spPr>
          <a:xfrm>
            <a:off x="457200" y="51055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838080" y="5257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3520" y="990720"/>
            <a:ext cx="7696080" cy="53316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Как звали жену поэта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52280" y="4038480"/>
            <a:ext cx="3886200" cy="99072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Гончарова Наталья  Николаевна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381560" y="1905120"/>
            <a:ext cx="4762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457200" y="51055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838080" y="5257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520" y="990720"/>
            <a:ext cx="8305560" cy="53316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Какие произведения А.С. Пушкина вы знаете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28600" y="2286000"/>
            <a:ext cx="243828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000"/>
                </a:solidFill>
                <a:latin typeface="Tahoma"/>
              </a:rPr>
              <a:t>Сказка о рыбаке и рыбке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5" descr="30407613581207072686_skazka_o_mjortvojj_carevne_2"/>
          <p:cNvPicPr/>
          <p:nvPr/>
        </p:nvPicPr>
        <p:blipFill>
          <a:blip r:embed="rId2"/>
          <a:stretch/>
        </p:blipFill>
        <p:spPr>
          <a:xfrm>
            <a:off x="2133720" y="3962520"/>
            <a:ext cx="1828800" cy="235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000004"/>
          <p:cNvPicPr/>
          <p:nvPr/>
        </p:nvPicPr>
        <p:blipFill>
          <a:blip r:embed="rId3"/>
          <a:stretch/>
        </p:blipFill>
        <p:spPr>
          <a:xfrm>
            <a:off x="4952880" y="3962520"/>
            <a:ext cx="1828800" cy="23508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6019920" y="2286000"/>
            <a:ext cx="251460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000"/>
                </a:solidFill>
                <a:latin typeface="Tahoma"/>
              </a:rPr>
              <a:t>Сказка о попе и работнике его Балде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00400" y="2286000"/>
            <a:ext cx="251460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000"/>
                </a:solidFill>
                <a:latin typeface="Tahoma"/>
              </a:rPr>
              <a:t>Сказка о царе  Салтане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828800" y="3962520"/>
            <a:ext cx="251460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000"/>
                </a:solidFill>
                <a:latin typeface="Tahoma"/>
              </a:rPr>
              <a:t>Сказка о мёртвой царевне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572000" y="3962520"/>
            <a:ext cx="2514600" cy="9144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000"/>
                </a:solidFill>
                <a:latin typeface="Tahoma"/>
              </a:rPr>
              <a:t>Сказка о золотом петушке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14" descr="f2cbdee6ca261df900ecdb81fb3"/>
          <p:cNvPicPr/>
          <p:nvPr/>
        </p:nvPicPr>
        <p:blipFill>
          <a:blip r:embed="rId4"/>
          <a:stretch/>
        </p:blipFill>
        <p:spPr>
          <a:xfrm>
            <a:off x="3581280" y="1523880"/>
            <a:ext cx="1828800" cy="235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f24a7ff2acb6"/>
          <p:cNvPicPr/>
          <p:nvPr/>
        </p:nvPicPr>
        <p:blipFill>
          <a:blip r:embed="rId5"/>
          <a:stretch/>
        </p:blipFill>
        <p:spPr>
          <a:xfrm>
            <a:off x="6400800" y="1523880"/>
            <a:ext cx="1828800" cy="229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0_583f2_2e43fa2_L"/>
          <p:cNvPicPr/>
          <p:nvPr/>
        </p:nvPicPr>
        <p:blipFill>
          <a:blip r:embed="rId6"/>
          <a:stretch/>
        </p:blipFill>
        <p:spPr>
          <a:xfrm>
            <a:off x="609480" y="1523880"/>
            <a:ext cx="18288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457200" y="51055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38080" y="5257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33520" y="990720"/>
            <a:ext cx="7696080" cy="53316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Как погиб поэт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4038480"/>
            <a:ext cx="3733920" cy="53352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На дуэли с Дантесом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733920" y="2162160"/>
            <a:ext cx="5410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457200" y="51055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838080" y="5257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33520" y="990720"/>
            <a:ext cx="7696080" cy="53316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Где похоронен поэт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3581280"/>
            <a:ext cx="4648320" cy="1600200"/>
          </a:xfrm>
          <a:prstGeom prst="rect">
            <a:avLst/>
          </a:prstGeom>
          <a:solidFill>
            <a:srgbClr val="7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На кладбище Святогорского монастыря, в пяти верстах от села Михайловско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Вспомним биографию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257800" y="1662120"/>
            <a:ext cx="38862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3-03-02T17:50:5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r8>1</vt:r8>
  </property>
</Properties>
</file>