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13.gif" ContentType="image/gif"/>
  <Override PartName="/ppt/media/image8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3.png" ContentType="image/png"/>
  <Override PartName="/ppt/media/image23.gif" ContentType="image/gif"/>
  <Override PartName="/ppt/media/image4.jpeg" ContentType="image/jpeg"/>
  <Override PartName="/ppt/media/image22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8AD-208F-458D-A36B-CF64B619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DCA9-CA2D-4992-8AE9-BE080861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F1F-F497-4B6F-9A50-97E70F7A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3F1-6B62-467C-BA5F-BA406C44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17C9-A721-4ED5-ADD4-3AD8C319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AD87-B364-4EE6-808B-7A7DFC4C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83C7-4E65-4290-ABE4-A252E13B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9AC2-5ABF-4A6A-BEC9-344A32C0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686B-7496-4F5C-AF37-667CC889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29F2-A0BF-4481-BA44-B4E5D400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9AB3-A89E-4099-B186-D9D8C69F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716-B51A-4657-93D7-A0A5920F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484E-5C16-47BE-A6B5-B04EDFC9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0B46-17A2-43F3-8BF1-F0C0EDE5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5A4E-0A98-45B9-BAA8-207ADE70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0D34-DAAA-44D7-8968-2B0AF689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CD33-F1F7-4063-A2F2-08F570D0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F4C08-E7C1-42F2-9FFA-98421250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8B17-4539-47FB-8C8C-CEE67872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C15F-E068-4707-B7CB-7D045D03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77DA-AECF-46D1-BB43-1F0D7430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182F6-5F19-4FEE-B6A1-38A3D3FB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2BD-FA2E-4B71-88D0-95F65014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F5D36-1C7D-4280-8F06-858043D6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68C53-AB5A-477D-B068-2401C780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55A48-6781-4F39-9141-F4F4CB15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36E5-2694-4BF1-B094-1E337A36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B78A-62FE-4D7A-9D7B-C62D3DF2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0EF6D-1F4D-4F80-8F6E-84AA12CF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F0FCA-3047-4463-84A7-ED99B54D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C7B79-9BC2-4613-8411-05360F79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8E339-5BB7-4EA2-88AB-6900F61C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959E3-6069-499A-A953-7E784ABC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716-B6D5-475D-8058-EE8DC490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7AE4D-358F-4AD4-8BBF-A7BA2353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D1258-9EAA-47E1-A6E3-6C9C5615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4B7D4-99B7-41E1-9490-988AFBD8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5FE75-20EA-45A1-9516-12DA8BD3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22661-7834-46A4-A4E3-04BA54E1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55B66-ABC5-4E48-8895-BD4354D2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D4D80-47C4-497F-8E9E-93C8F999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6616E-359C-4A2E-BA87-2CFE2EC9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9A7D9-F815-49CB-B9BF-E9CD63D7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6141F-EAFC-44B4-8D8D-0E0185FF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B4F-F605-4E91-9CA0-C8AE1AC8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B2F64-1778-4472-AFA3-B6A27ED4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84FFD-3991-4973-B390-8249C7C8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B4AEB-5600-4F35-A335-4B4B7B51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74992-EF90-405B-BB57-389F5C2E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1CA88-EE7C-4729-A680-B318E69D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B21FB-DDBD-4255-935F-9F9A9D48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CBB92-E050-438C-A228-85854822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D8F4A-FA87-4AC8-B3A0-56539933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6E61E-6468-44BD-9C84-CDADC791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E0ADC-0375-4F57-BE8D-6C427C3C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603-2446-4E68-A330-91E1ACDE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8DE41-81C7-4E2A-8E13-BF02183C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0D9-F2F6-419C-AC4B-6E7A23DB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514-0C99-416F-978E-017F59CC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64F-5B32-4D19-94F8-368BF6A9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1992-0B17-4689-B246-4E92231556A7}" type="slidenum">
              <a:rPr b="0" lang="en-US" sz="1100" spc="-1" strike="noStrike">
                <a:solidFill>
                  <a:srgbClr val="b13f9a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A936-5693-46D4-BBAF-F4568B6AC8FA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CBE9-9776-4039-BDD1-1EAD2A383DA0}" type="slidenum">
              <a:rPr b="0" lang="en-US" sz="1100" spc="-1" strike="noStrike">
                <a:solidFill>
                  <a:srgbClr val="b13f9a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B716-DCB5-4602-9E0C-1D42AF61EA76}" type="slidenum">
              <a:rPr b="0" lang="en-US" sz="1100" spc="-1" strike="noStrike">
                <a:solidFill>
                  <a:srgbClr val="f4e7ed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EC9C-0860-4774-B395-F78DD4119822}" type="slidenum">
              <a:rPr b="0" lang="en-US" sz="1100" spc="-1" strike="noStrike">
                <a:solidFill>
                  <a:srgbClr val="b13f9a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http://animashky.ru/flist/3djivotnie/3/12.gif"/>
          <p:cNvPicPr/>
          <p:nvPr/>
        </p:nvPicPr>
        <p:blipFill>
          <a:blip r:embed="rId1"/>
          <a:stretch/>
        </p:blipFill>
        <p:spPr>
          <a:xfrm>
            <a:off x="0" y="0"/>
            <a:ext cx="7742160" cy="5791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http://animashky.ru/flist/3djivotnie/3/12.gif"/>
          <p:cNvPicPr/>
          <p:nvPr/>
        </p:nvPicPr>
        <p:blipFill>
          <a:blip r:embed="rId2"/>
          <a:stretch/>
        </p:blipFill>
        <p:spPr>
          <a:xfrm>
            <a:off x="1752480" y="5076720"/>
            <a:ext cx="2381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http://animashky.ru/flist/3djivotnie/2/30.gif"/>
          <p:cNvPicPr/>
          <p:nvPr/>
        </p:nvPicPr>
        <p:blipFill>
          <a:blip r:embed="rId1"/>
          <a:stretch/>
        </p:blipFill>
        <p:spPr>
          <a:xfrm>
            <a:off x="2819520" y="152280"/>
            <a:ext cx="4946400" cy="4038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http://animashky.ru/flist/3djivotnie/2/79.gif"/>
          <p:cNvPicPr/>
          <p:nvPr/>
        </p:nvPicPr>
        <p:blipFill>
          <a:blip r:embed="rId2"/>
          <a:stretch/>
        </p:blipFill>
        <p:spPr>
          <a:xfrm>
            <a:off x="685800" y="1219320"/>
            <a:ext cx="6324480" cy="58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animashky.ru/flist/3djivotnie/14/45.gif"/>
          <p:cNvPicPr/>
          <p:nvPr/>
        </p:nvPicPr>
        <p:blipFill>
          <a:blip r:embed="rId1"/>
          <a:stretch/>
        </p:blipFill>
        <p:spPr>
          <a:xfrm>
            <a:off x="0" y="-65160"/>
            <a:ext cx="4240080" cy="5246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://animashky.ru/flist/3djivotnie/14/9.gif"/>
          <p:cNvPicPr/>
          <p:nvPr/>
        </p:nvPicPr>
        <p:blipFill>
          <a:blip r:embed="rId2"/>
          <a:stretch/>
        </p:blipFill>
        <p:spPr>
          <a:xfrm>
            <a:off x="4800600" y="1295280"/>
            <a:ext cx="320040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animashky.ru/flist/3dhobbie/13/25.gif"/>
          <p:cNvPicPr/>
          <p:nvPr/>
        </p:nvPicPr>
        <p:blipFill>
          <a:blip r:embed="rId1"/>
          <a:stretch/>
        </p:blipFill>
        <p:spPr>
          <a:xfrm>
            <a:off x="914400" y="274320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http://animashky.ru/flist/3dhobbie/13/23.gif"/>
          <p:cNvPicPr/>
          <p:nvPr/>
        </p:nvPicPr>
        <p:blipFill>
          <a:blip r:embed="rId2"/>
          <a:stretch/>
        </p:blipFill>
        <p:spPr>
          <a:xfrm>
            <a:off x="3886200" y="0"/>
            <a:ext cx="2057400" cy="3349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animashky.ru/flist/3dhobbie/13/9.gif"/>
          <p:cNvPicPr/>
          <p:nvPr/>
        </p:nvPicPr>
        <p:blipFill>
          <a:blip r:embed="rId3"/>
          <a:stretch/>
        </p:blipFill>
        <p:spPr>
          <a:xfrm>
            <a:off x="5638680" y="3352680"/>
            <a:ext cx="243864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Анимации, анимашки Дети"/>
          <p:cNvPicPr/>
          <p:nvPr/>
        </p:nvPicPr>
        <p:blipFill>
          <a:blip r:embed="rId1"/>
          <a:stretch/>
        </p:blipFill>
        <p:spPr>
          <a:xfrm>
            <a:off x="5638680" y="2133720"/>
            <a:ext cx="2590920" cy="4435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Анимашки Дети"/>
          <p:cNvPicPr/>
          <p:nvPr/>
        </p:nvPicPr>
        <p:blipFill>
          <a:blip r:embed="rId2"/>
          <a:stretch/>
        </p:blipFill>
        <p:spPr>
          <a:xfrm>
            <a:off x="762120" y="457200"/>
            <a:ext cx="233208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http://fantasyflash.ru/anime/disney/image/dis31.gif"/>
          <p:cNvPicPr/>
          <p:nvPr/>
        </p:nvPicPr>
        <p:blipFill>
          <a:blip r:embed="rId1"/>
          <a:stretch/>
        </p:blipFill>
        <p:spPr>
          <a:xfrm>
            <a:off x="1981080" y="609480"/>
            <a:ext cx="4953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Двое несут лестницу тема силуэты людей"/>
          <p:cNvPicPr/>
          <p:nvPr/>
        </p:nvPicPr>
        <p:blipFill>
          <a:blip r:embed="rId1"/>
          <a:stretch/>
        </p:blipFill>
        <p:spPr>
          <a:xfrm>
            <a:off x="3962520" y="3657600"/>
            <a:ext cx="3438360" cy="2131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Лестница"/>
          <p:cNvPicPr/>
          <p:nvPr/>
        </p:nvPicPr>
        <p:blipFill>
          <a:blip r:embed="rId2"/>
          <a:stretch/>
        </p:blipFill>
        <p:spPr>
          <a:xfrm>
            <a:off x="685800" y="533520"/>
            <a:ext cx="4210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51526E-007 L -0.51302 -0.91004 E">
                                      <p:cBhvr>
                                        <p:cTn id="6" dur="5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gifportal.ru/data/smiles/detia-774.gif"/>
          <p:cNvPicPr/>
          <p:nvPr/>
        </p:nvPicPr>
        <p:blipFill>
          <a:blip r:embed="rId1"/>
          <a:stretch/>
        </p:blipFill>
        <p:spPr>
          <a:xfrm>
            <a:off x="6324480" y="2590920"/>
            <a:ext cx="1828800" cy="200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gifportal.ru/data/smiles/detia-776.gif"/>
          <p:cNvPicPr/>
          <p:nvPr/>
        </p:nvPicPr>
        <p:blipFill>
          <a:blip r:embed="rId2"/>
          <a:stretch/>
        </p:blipFill>
        <p:spPr>
          <a:xfrm>
            <a:off x="160200" y="533520"/>
            <a:ext cx="2963880" cy="2319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gifportal.ru/data/smiles/detia-794.gif"/>
          <p:cNvPicPr/>
          <p:nvPr/>
        </p:nvPicPr>
        <p:blipFill>
          <a:blip r:embed="rId3"/>
          <a:stretch/>
        </p:blipFill>
        <p:spPr>
          <a:xfrm>
            <a:off x="3581280" y="4724280"/>
            <a:ext cx="1600200" cy="1789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http://gifportal.ru/data/smiles/detia-727.gif"/>
          <p:cNvPicPr/>
          <p:nvPr/>
        </p:nvPicPr>
        <p:blipFill>
          <a:blip r:embed="rId4"/>
          <a:stretch/>
        </p:blipFill>
        <p:spPr>
          <a:xfrm>
            <a:off x="685800" y="2971800"/>
            <a:ext cx="1914480" cy="2765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Анимашки Спорт"/>
          <p:cNvPicPr/>
          <p:nvPr/>
        </p:nvPicPr>
        <p:blipFill>
          <a:blip r:embed="rId5"/>
          <a:stretch/>
        </p:blipFill>
        <p:spPr>
          <a:xfrm>
            <a:off x="3505320" y="457200"/>
            <a:ext cx="24098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23540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4:29:31Z</dcterms:created>
  <dc:creator>User</dc:creator>
  <dc:description/>
  <dc:language>en-US</dc:language>
  <cp:lastModifiedBy>ученик 01</cp:lastModifiedBy>
  <dcterms:modified xsi:type="dcterms:W3CDTF">2012-09-28T08:52:13Z</dcterms:modified>
  <cp:revision>15</cp:revision>
  <dc:subject/>
  <dc:title>Slide 1</dc:title>
</cp:coreProperties>
</file>