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5.wmf" ContentType="image/x-wm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9.gif" ContentType="image/gif"/>
  <Override PartName="/ppt/media/image10.gif" ContentType="image/gi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A035-C0F8-414B-8B16-3D1CCD21D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8D01-94A9-4E84-A410-E9AA233D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68A9-2546-47B7-A17C-E529E5335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3C5A-557E-4090-A6C8-FCCD927A4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5E5D-F105-47DC-B03E-5C766D744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6254E-02CD-4A74-9C03-B07CE3CE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2121-1B3E-4981-9C6B-B0BE7169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F22BC-E138-422F-9BE4-BFB8CD9A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68F5-161B-43B1-B8D3-05BE9AE1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704E-05CC-4B79-A1D3-E58F7ABD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7D5F-AAB8-4CBD-82E7-06ED4275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6F53-775B-4247-AE01-E3544937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8A2E-3CE4-4983-B125-FE743D3F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A65C-539C-45FE-9F75-085E6D41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D5CF-A7AF-4AE7-9E39-ABEC138D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2550-21E8-4190-8E14-916563624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CC04-0911-4C7C-A443-CD5888CB9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69391-5445-4C82-9653-FDC95F57E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EC4CB-F792-49AB-A0E3-863D25F4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1B203-FDB4-45D7-82A1-38F6DAF1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201D3-ABAE-4F89-9F9D-7229FAFE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2DD0D-FA2D-4519-8988-C9F97478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DB46-8F58-4CD0-9EA7-5FCC515E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0619F-9C82-406E-8A55-4BEED414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D9DC5-ABE7-466C-8009-DA98B203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862DE-A6CB-4956-A1E8-B0C35F7A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05F02-D2F3-4C01-AF47-FCF32ECD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DECA0-1B66-4A88-BE3E-65B24A40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4CC0E-3479-421A-9761-91D3B0D9F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58EFD-0855-4BB2-BCCC-9FFA652E5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F694B-0939-4548-8987-342DB11C5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52E2A-57B1-48A5-8774-06A2F051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F0929-84EC-4ECE-9AEA-89FD7E20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6D45-C07F-484E-A919-94BF73BF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7BF57-E6A6-4E64-9D55-AE2415B1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A791F-B860-42A6-9356-4A7A738D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A9F91-6A2D-4516-9AFC-2BA11329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12FF2-D054-4E9A-9496-24C9E31B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4A423-467A-4D42-9075-6501B0E0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F9C88-4B94-4075-996F-98036563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85877-46E2-4960-B0A3-9C7DE19F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1175A-FE33-4804-AC8C-B1BDD3644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DC28D-C022-4C44-92C1-13A1AD260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15AA1-106A-4B70-9DDA-322E8E6F8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6F3F-3FB2-4945-9F91-88CCC536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D924E-1595-4666-8115-C239A9EA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F60E3-BD1F-44D9-ADFC-385A6723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0ABF7-204C-474A-A15E-08F70ECB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8AE77-E823-4DCF-9CB1-DAE06848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CDE3D-DBEF-4C43-9D5A-305AE916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5CA29-CDA7-481B-89D5-33E18912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179BB-A656-406E-919B-AB9108C0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1C168-ACF0-4910-98D3-94B56BDB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3B095-8EA8-4498-8A95-30FD1BA6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6C03D-15E1-4FE5-8D09-D443D6C36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E5EB-FBBE-495F-A67B-43B67825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0D77B-65BE-4E28-A5FE-5E775D6D6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7246-3571-4A72-AF8A-21069990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B68E-0BEA-49F4-9FDE-5B8C74D0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0EAE-DFCE-446D-8220-986FDB1B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0000"/>
                </a:solidFill>
                <a:latin typeface="Comic Sans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A8C9-41F4-4D2C-AFFB-0439B84293C4}" type="slidenum">
              <a:rPr b="0" lang="en-US" sz="1100" spc="-1" strike="noStrike">
                <a:solidFill>
                  <a:srgbClr val="b13f9a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0000"/>
                </a:solidFill>
                <a:latin typeface="Comic Sans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AD2B-CA21-46F2-8A23-6706F75CE523}" type="slidenum"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0000"/>
                </a:solidFill>
                <a:latin typeface="Comic Sans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14A5-8C90-408F-A304-52E26FDC610A}" type="slidenum">
              <a:rPr b="0" lang="en-US" sz="1100" spc="-1" strike="noStrike">
                <a:solidFill>
                  <a:srgbClr val="b13f9a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E3DE-CB3C-4862-B714-2CDF9338EFA9}" type="slidenum">
              <a:rPr b="0" lang="en-US" sz="1100" spc="-1" strike="noStrike">
                <a:solidFill>
                  <a:srgbClr val="f4e7ed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0000"/>
                </a:solidFill>
                <a:latin typeface="Comic Sans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49E2-CF86-4CAC-A229-8F4DDF9CF332}" type="slidenum">
              <a:rPr b="0" lang="en-US" sz="1100" spc="-1" strike="noStrike">
                <a:solidFill>
                  <a:srgbClr val="b13f9a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6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"/>
          <p:cNvPicPr/>
          <p:nvPr/>
        </p:nvPicPr>
        <p:blipFill>
          <a:blip r:embed="rId1"/>
          <a:srcRect l="0" t="0" r="973" b="0"/>
          <a:stretch/>
        </p:blipFill>
        <p:spPr>
          <a:xfrm>
            <a:off x="411120" y="509760"/>
            <a:ext cx="8239320" cy="58467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"/>
          <p:cNvSpPr/>
          <p:nvPr/>
        </p:nvSpPr>
        <p:spPr>
          <a:xfrm>
            <a:off x="1523880" y="434340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7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5029200" y="640080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Copyright © 2005 – 2006 MES-English.com</a:t>
            </a:r>
            <a:endParaRPr b="0" lang="en-US" sz="1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3" descr="http://animashky.ru/flist/3djivotnie/3/12.gif"/>
          <p:cNvPicPr/>
          <p:nvPr/>
        </p:nvPicPr>
        <p:blipFill>
          <a:blip r:embed="rId1"/>
          <a:stretch/>
        </p:blipFill>
        <p:spPr>
          <a:xfrm>
            <a:off x="0" y="0"/>
            <a:ext cx="7742160" cy="57913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http://animashky.ru/flist/3djivotnie/3/12.gif"/>
          <p:cNvPicPr/>
          <p:nvPr/>
        </p:nvPicPr>
        <p:blipFill>
          <a:blip r:embed="rId2"/>
          <a:stretch/>
        </p:blipFill>
        <p:spPr>
          <a:xfrm>
            <a:off x="1752480" y="5076720"/>
            <a:ext cx="2381400" cy="1781280"/>
          </a:xfrm>
          <a:prstGeom prst="rect">
            <a:avLst/>
          </a:prstGeom>
          <a:ln w="0">
            <a:noFill/>
          </a:ln>
        </p:spPr>
      </p:pic>
      <p:sp>
        <p:nvSpPr>
          <p:cNvPr id="225" name="TextBox 3"/>
          <p:cNvSpPr/>
          <p:nvPr/>
        </p:nvSpPr>
        <p:spPr>
          <a:xfrm>
            <a:off x="4478760" y="3581280"/>
            <a:ext cx="159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wim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3" descr="http://animashky.ru/flist/3djivotnie/2/30.gif"/>
          <p:cNvPicPr/>
          <p:nvPr/>
        </p:nvPicPr>
        <p:blipFill>
          <a:blip r:embed="rId1"/>
          <a:stretch/>
        </p:blipFill>
        <p:spPr>
          <a:xfrm>
            <a:off x="2819520" y="152280"/>
            <a:ext cx="4946400" cy="40388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http://animashky.ru/flist/3djivotnie/2/79.gif"/>
          <p:cNvPicPr/>
          <p:nvPr/>
        </p:nvPicPr>
        <p:blipFill>
          <a:blip r:embed="rId2"/>
          <a:stretch/>
        </p:blipFill>
        <p:spPr>
          <a:xfrm>
            <a:off x="685800" y="1219320"/>
            <a:ext cx="6324480" cy="5841720"/>
          </a:xfrm>
          <a:prstGeom prst="rect">
            <a:avLst/>
          </a:prstGeom>
          <a:ln w="0">
            <a:noFill/>
          </a:ln>
        </p:spPr>
      </p:pic>
      <p:sp>
        <p:nvSpPr>
          <p:cNvPr id="228" name="TextBox 3"/>
          <p:cNvSpPr/>
          <p:nvPr/>
        </p:nvSpPr>
        <p:spPr>
          <a:xfrm>
            <a:off x="4609440" y="5105520"/>
            <a:ext cx="9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ly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http://animashky.ru/flist/3djivotnie/14/45.gif"/>
          <p:cNvPicPr/>
          <p:nvPr/>
        </p:nvPicPr>
        <p:blipFill>
          <a:blip r:embed="rId1"/>
          <a:stretch/>
        </p:blipFill>
        <p:spPr>
          <a:xfrm>
            <a:off x="0" y="-65160"/>
            <a:ext cx="4240080" cy="5246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http://animashky.ru/flist/3djivotnie/14/9.gif"/>
          <p:cNvPicPr/>
          <p:nvPr/>
        </p:nvPicPr>
        <p:blipFill>
          <a:blip r:embed="rId2"/>
          <a:stretch/>
        </p:blipFill>
        <p:spPr>
          <a:xfrm>
            <a:off x="4800600" y="1295280"/>
            <a:ext cx="3200400" cy="5162760"/>
          </a:xfrm>
          <a:prstGeom prst="rect">
            <a:avLst/>
          </a:prstGeom>
          <a:ln w="0">
            <a:noFill/>
          </a:ln>
        </p:spPr>
      </p:pic>
      <p:sp>
        <p:nvSpPr>
          <p:cNvPr id="231" name="TextBox 3"/>
          <p:cNvSpPr/>
          <p:nvPr/>
        </p:nvSpPr>
        <p:spPr>
          <a:xfrm>
            <a:off x="4296960" y="838080"/>
            <a:ext cx="122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un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Анимации, анимашки Дети"/>
          <p:cNvPicPr/>
          <p:nvPr/>
        </p:nvPicPr>
        <p:blipFill>
          <a:blip r:embed="rId1"/>
          <a:stretch/>
        </p:blipFill>
        <p:spPr>
          <a:xfrm>
            <a:off x="2590920" y="152280"/>
            <a:ext cx="3657600" cy="6262920"/>
          </a:xfrm>
          <a:prstGeom prst="rect">
            <a:avLst/>
          </a:prstGeom>
          <a:ln w="0">
            <a:noFill/>
          </a:ln>
        </p:spPr>
      </p:pic>
      <p:sp>
        <p:nvSpPr>
          <p:cNvPr id="233" name="TextBox 2"/>
          <p:cNvSpPr/>
          <p:nvPr/>
        </p:nvSpPr>
        <p:spPr>
          <a:xfrm>
            <a:off x="794160" y="5029200"/>
            <a:ext cx="127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kip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http://fantasyflash.ru/anime/disney/image/dis31.gif"/>
          <p:cNvPicPr/>
          <p:nvPr/>
        </p:nvPicPr>
        <p:blipFill>
          <a:blip r:embed="rId1"/>
          <a:stretch/>
        </p:blipFill>
        <p:spPr>
          <a:xfrm>
            <a:off x="1981080" y="609480"/>
            <a:ext cx="4953240" cy="59436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2"/>
          <p:cNvSpPr/>
          <p:nvPr/>
        </p:nvSpPr>
        <p:spPr>
          <a:xfrm>
            <a:off x="997920" y="838080"/>
            <a:ext cx="83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i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1"/>
          <p:cNvSpPr/>
          <p:nvPr/>
        </p:nvSpPr>
        <p:spPr>
          <a:xfrm>
            <a:off x="533520" y="152280"/>
            <a:ext cx="1523880" cy="1371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7" name="Равнобедренный треугольник 2"/>
          <p:cNvSpPr/>
          <p:nvPr/>
        </p:nvSpPr>
        <p:spPr>
          <a:xfrm>
            <a:off x="2743200" y="152280"/>
            <a:ext cx="1600200" cy="13716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8" name="Равнобедренный треугольник 3"/>
          <p:cNvSpPr/>
          <p:nvPr/>
        </p:nvSpPr>
        <p:spPr>
          <a:xfrm>
            <a:off x="5029200" y="152280"/>
            <a:ext cx="1828800" cy="1371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239" name="Picture 5" descr="http://animashky.ru/flist/3djivotnie/2/79.gif"/>
          <p:cNvPicPr/>
          <p:nvPr/>
        </p:nvPicPr>
        <p:blipFill>
          <a:blip r:embed="rId1"/>
          <a:stretch/>
        </p:blipFill>
        <p:spPr>
          <a:xfrm>
            <a:off x="5257800" y="990720"/>
            <a:ext cx="2666880" cy="24638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http://animashky.ru/flist/3djivotnie/14/9.gif"/>
          <p:cNvPicPr/>
          <p:nvPr/>
        </p:nvPicPr>
        <p:blipFill>
          <a:blip r:embed="rId2"/>
          <a:stretch/>
        </p:blipFill>
        <p:spPr>
          <a:xfrm>
            <a:off x="4800600" y="1295280"/>
            <a:ext cx="2314440" cy="3733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Анимации, анимашки Дети"/>
          <p:cNvPicPr/>
          <p:nvPr/>
        </p:nvPicPr>
        <p:blipFill>
          <a:blip r:embed="rId3"/>
          <a:stretch/>
        </p:blipFill>
        <p:spPr>
          <a:xfrm>
            <a:off x="5105520" y="2133720"/>
            <a:ext cx="1523880" cy="2609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http://animashky.ru/flist/3djivotnie/3/12.gif"/>
          <p:cNvPicPr/>
          <p:nvPr/>
        </p:nvPicPr>
        <p:blipFill>
          <a:blip r:embed="rId4"/>
          <a:stretch/>
        </p:blipFill>
        <p:spPr>
          <a:xfrm>
            <a:off x="4648320" y="3124080"/>
            <a:ext cx="2971800" cy="2222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http://fantasyflash.ru/anime/disney/image/dis31.gif"/>
          <p:cNvPicPr/>
          <p:nvPr/>
        </p:nvPicPr>
        <p:blipFill>
          <a:blip r:embed="rId5"/>
          <a:stretch/>
        </p:blipFill>
        <p:spPr>
          <a:xfrm>
            <a:off x="5029200" y="3657600"/>
            <a:ext cx="220968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04:29:31Z</dcterms:created>
  <dc:creator>User</dc:creator>
  <dc:description/>
  <dc:language>en-US</dc:language>
  <cp:lastModifiedBy>123</cp:lastModifiedBy>
  <dcterms:modified xsi:type="dcterms:W3CDTF">2013-01-19T07:39:33Z</dcterms:modified>
  <cp:revision>12</cp:revision>
  <dc:subject/>
  <dc:title>Slide 1</dc:title>
</cp:coreProperties>
</file>