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25.png" ContentType="image/png"/>
  <Override PartName="/ppt/media/image42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50.jpeg" ContentType="image/jpeg"/>
  <Override PartName="/ppt/media/image13.png" ContentType="image/png"/>
  <Override PartName="/ppt/media/image54.jpeg" ContentType="image/jpeg"/>
  <Override PartName="/ppt/media/image53.png" ContentType="image/png"/>
  <Override PartName="/ppt/media/image51.png" ContentType="image/png"/>
  <Override PartName="/ppt/media/image31.jpeg" ContentType="image/jpeg"/>
  <Override PartName="/ppt/media/image4.jpeg" ContentType="image/jpeg"/>
  <Override PartName="/ppt/media/image12.png" ContentType="image/png"/>
  <Override PartName="/ppt/media/image39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6.png" ContentType="image/png"/>
  <Override PartName="/ppt/media/image2.png" ContentType="image/png"/>
  <Override PartName="/ppt/media/image3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47F-0174-4BA8-BDB0-18D50027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BCF1-1D4D-4FE9-A666-E0737B39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617-45F4-4707-BDFB-2A882421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218D-67F8-47D3-9B46-A75156E0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1125-1F5C-4AA4-94FA-7994BAA6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97B2-C531-4403-AD8E-8C7AE9EA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6537-34E9-48D5-A7B1-25CB1D77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56B9-976C-45B2-8686-2C913B72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5A40-1857-481B-B767-5F5DC34C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E3FB-7BD5-496B-AEF9-4DDCEAB4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2775-4A43-4FE9-A3E2-3714BB64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D7E-139F-459A-B0D0-2C9956D7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7ABD-1B57-4FB1-99C6-AF63BFEC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DC3F-E078-4AC6-9421-541210FE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B6D6-F86C-46D5-9E9C-E1D5F06E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E6EA-C740-4836-A223-99F306C6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23E7-AC84-46EC-BB54-0C662021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35DA-5B07-463B-9D64-FA735FFE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763-A547-46C8-8C41-6D6307D2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8FE-2D9B-419B-8491-B6FFF87F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141-2DE0-4EA9-9A65-ED4427A0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4C5-2B52-4CC7-9759-8288B8AB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D8A-1E90-424E-AD35-26651BBF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2E9-2CA5-43D0-8C77-B000CD5E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385F-1735-4996-A09B-27DF76980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03A9-DAC6-497F-A6CA-A849A2142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png"/><Relationship Id="rId6" Type="http://schemas.openxmlformats.org/officeDocument/2006/relationships/image" Target="../media/image52.jpeg"/><Relationship Id="rId7" Type="http://schemas.openxmlformats.org/officeDocument/2006/relationships/image" Target="../media/image53.png"/><Relationship Id="rId8" Type="http://schemas.openxmlformats.org/officeDocument/2006/relationships/image" Target="../media/image54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«Маленькие секреты                       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                           мастерства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68360" y="2707920"/>
            <a:ext cx="6624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Преподаватель технологии Лицея № 103 «Гармония»г. Железногор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Ломакина Галина Николаев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3348000" y="3141720"/>
            <a:ext cx="4908600" cy="3274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87280" y="501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2865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Материалы и инструменты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Ткань (лучше тонкая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руглый шаблон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ожниц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Игол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итки под цвет ткан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Материал для серединки цветка (кружево, бусинки, стразы, и т.п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Застежка (булавка), кле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5" descr="IMG_4151"/>
          <p:cNvPicPr/>
          <p:nvPr/>
        </p:nvPicPr>
        <p:blipFill>
          <a:blip r:embed="rId1"/>
          <a:stretch/>
        </p:blipFill>
        <p:spPr>
          <a:xfrm>
            <a:off x="5102280" y="254160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Правила работы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3273480" cy="2689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008160" cy="26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Ход работы: ШАГ 1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1827360"/>
            <a:ext cx="391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 шаблонам вырезать круги (Для одного пяти-лепесткового цветочка нужно вырезать из ткани пять кругов одинакового размера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6" descr="IMG_4106"/>
          <p:cNvPicPr/>
          <p:nvPr/>
        </p:nvPicPr>
        <p:blipFill>
          <a:blip r:embed="rId1"/>
          <a:stretch/>
        </p:blipFill>
        <p:spPr>
          <a:xfrm>
            <a:off x="5102280" y="254160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Ход работы: ШАГ 2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383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ложить вырезанный кружок пополам, чтобы получился полукруг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8" descr="IMG_4108"/>
          <p:cNvPicPr/>
          <p:nvPr/>
        </p:nvPicPr>
        <p:blipFill>
          <a:blip r:embed="rId1"/>
          <a:stretch/>
        </p:blipFill>
        <p:spPr>
          <a:xfrm>
            <a:off x="5102280" y="254160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Ход работы: ШАГ 3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Еще раз сложить наш полукруг попола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16" descr="IMG_4109"/>
          <p:cNvPicPr/>
          <p:nvPr/>
        </p:nvPicPr>
        <p:blipFill>
          <a:blip r:embed="rId1"/>
          <a:stretch/>
        </p:blipFill>
        <p:spPr>
          <a:xfrm>
            <a:off x="5102280" y="254160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Ход работы: ШАГ 4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о краю (дуге) прометать ниткой, нитку стянуть и закрепит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8" descr="IMG_4118"/>
          <p:cNvPicPr/>
          <p:nvPr/>
        </p:nvPicPr>
        <p:blipFill>
          <a:blip r:embed="rId1"/>
          <a:stretch/>
        </p:blipFill>
        <p:spPr>
          <a:xfrm>
            <a:off x="5102280" y="254160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Ход работы: ШАГ 5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То же самое проделать с четырьмя оставшимися кругами, чтобы получить еще 4 лепестк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Можно стягивать лепестки отдельн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10" descr="IMG_4125"/>
          <p:cNvPicPr/>
          <p:nvPr/>
        </p:nvPicPr>
        <p:blipFill>
          <a:blip r:embed="rId1"/>
          <a:stretch/>
        </p:blipFill>
        <p:spPr>
          <a:xfrm>
            <a:off x="5580000" y="400536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IMG_4122"/>
          <p:cNvPicPr/>
          <p:nvPr/>
        </p:nvPicPr>
        <p:blipFill>
          <a:blip r:embed="rId2"/>
          <a:stretch/>
        </p:blipFill>
        <p:spPr>
          <a:xfrm>
            <a:off x="5580000" y="184464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Ход работы: ШАГ 6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шить получившиеся лепестки по круг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оследний лепесток скрепить с первым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8" descr="IMG_4130"/>
          <p:cNvPicPr/>
          <p:nvPr/>
        </p:nvPicPr>
        <p:blipFill>
          <a:blip r:embed="rId1"/>
          <a:stretch/>
        </p:blipFill>
        <p:spPr>
          <a:xfrm>
            <a:off x="5102280" y="254160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Ход работы: ШАГ 7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(Если Вы хотите получить цветок из нескольких ярусов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делайте тканевые круги разного диамет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32000" y="3141360"/>
            <a:ext cx="35812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з лепестков одного размера соберите цветы-заготовки, а потом сложите их пирамидкой от большего к меньш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13" descr="IMG_4105"/>
          <p:cNvPicPr/>
          <p:nvPr/>
        </p:nvPicPr>
        <p:blipFill>
          <a:blip r:embed="rId1"/>
          <a:stretch/>
        </p:blipFill>
        <p:spPr>
          <a:xfrm>
            <a:off x="5572080" y="182736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IMG_4133"/>
          <p:cNvPicPr/>
          <p:nvPr/>
        </p:nvPicPr>
        <p:blipFill>
          <a:blip r:embed="rId2"/>
          <a:stretch/>
        </p:blipFill>
        <p:spPr>
          <a:xfrm>
            <a:off x="5572080" y="3960720"/>
            <a:ext cx="2641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Ход работы: ШАГ 8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Тесьму или кружево прометать ниткой по краю и собрать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12" descr="IMG_4139"/>
          <p:cNvPicPr/>
          <p:nvPr/>
        </p:nvPicPr>
        <p:blipFill>
          <a:blip r:embed="rId1"/>
          <a:stretch/>
        </p:blipFill>
        <p:spPr>
          <a:xfrm>
            <a:off x="5102280" y="254160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С.Я. Маршак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2636640"/>
            <a:ext cx="7777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 ней поют поэты всех веков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ет в мире ничего нежней и краше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м этот сверток алых лепестков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аскрывшийся благоуханной чашей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ак он прекрасен, холоден и чист, -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Глубокий кубок, полный аромат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ак дружен с ним простой и скромный лист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Темно-зеленый, по краям зубчатый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За лепесток заходит лепесток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 все они своей пурпурной тканью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труят неиссякающий поток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ушистого и свежего дыхань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14" descr=""/>
          <p:cNvPicPr/>
          <p:nvPr/>
        </p:nvPicPr>
        <p:blipFill>
          <a:blip r:embed="rId1"/>
          <a:stretch/>
        </p:blipFill>
        <p:spPr>
          <a:xfrm>
            <a:off x="5148360" y="260280"/>
            <a:ext cx="357984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Ход работы: ШАГ 9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 центре цветка закрепить кружево и пришить бусинку или пуговиц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14" descr="IMG_4142"/>
          <p:cNvPicPr/>
          <p:nvPr/>
        </p:nvPicPr>
        <p:blipFill>
          <a:blip r:embed="rId1"/>
          <a:stretch/>
        </p:blipFill>
        <p:spPr>
          <a:xfrm>
            <a:off x="1370160" y="2541600"/>
            <a:ext cx="357984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Ход работы: ШАГ 10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ырезать из картона кружок нужного диаметра, затем кружок из ткани диаметром чуть побольш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клеить кружок из ткани на кружок из картона, подогнуть края, через небольшие отверстия продеть булавку и приклеить все на заднюю сторону цвет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8" descr="IMG_4147"/>
          <p:cNvPicPr/>
          <p:nvPr/>
        </p:nvPicPr>
        <p:blipFill>
          <a:blip r:embed="rId1"/>
          <a:stretch/>
        </p:blipFill>
        <p:spPr>
          <a:xfrm>
            <a:off x="5572080" y="396072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MG_4145"/>
          <p:cNvPicPr/>
          <p:nvPr/>
        </p:nvPicPr>
        <p:blipFill>
          <a:blip r:embed="rId2"/>
          <a:stretch/>
        </p:blipFill>
        <p:spPr>
          <a:xfrm>
            <a:off x="5572080" y="182736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Цвет, размер, украшение серединки - зависит от вашего желания и фантазии!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Picture 21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2052720" cy="2737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3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"/>
          <p:cNvPicPr/>
          <p:nvPr/>
        </p:nvPicPr>
        <p:blipFill>
          <a:blip r:embed="rId3"/>
          <a:stretch/>
        </p:blipFill>
        <p:spPr>
          <a:xfrm>
            <a:off x="3419640" y="2997360"/>
            <a:ext cx="3024000" cy="2155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6" descr=""/>
          <p:cNvPicPr/>
          <p:nvPr/>
        </p:nvPicPr>
        <p:blipFill>
          <a:blip r:embed="rId4"/>
          <a:stretch/>
        </p:blipFill>
        <p:spPr>
          <a:xfrm>
            <a:off x="4140360" y="5300640"/>
            <a:ext cx="1380960" cy="1428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8" descr=""/>
          <p:cNvPicPr/>
          <p:nvPr/>
        </p:nvPicPr>
        <p:blipFill>
          <a:blip r:embed="rId5"/>
          <a:stretch/>
        </p:blipFill>
        <p:spPr>
          <a:xfrm>
            <a:off x="5003640" y="155736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9" descr=""/>
          <p:cNvPicPr/>
          <p:nvPr/>
        </p:nvPicPr>
        <p:blipFill>
          <a:blip r:embed="rId6"/>
          <a:stretch/>
        </p:blipFill>
        <p:spPr>
          <a:xfrm>
            <a:off x="5580000" y="4797360"/>
            <a:ext cx="2519280" cy="1676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0" descr=""/>
          <p:cNvPicPr/>
          <p:nvPr/>
        </p:nvPicPr>
        <p:blipFill>
          <a:blip r:embed="rId7"/>
          <a:stretch/>
        </p:blipFill>
        <p:spPr>
          <a:xfrm>
            <a:off x="6659640" y="3213000"/>
            <a:ext cx="2160360" cy="1605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1" descr=""/>
          <p:cNvPicPr/>
          <p:nvPr/>
        </p:nvPicPr>
        <p:blipFill>
          <a:blip r:embed="rId8"/>
          <a:stretch/>
        </p:blipFill>
        <p:spPr>
          <a:xfrm>
            <a:off x="2268360" y="4941720"/>
            <a:ext cx="18003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68360" y="985320"/>
            <a:ext cx="641376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Успехов в творчестве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755640" y="3428640"/>
            <a:ext cx="77817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«Полдела сделано – И в этом нет сомненья – Коль ты сумеешь Запастись терпеньем»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И. Гете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Цветы своими рукам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1643040" y="1905120"/>
            <a:ext cx="6143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Цветы из различных материалов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23" descr=""/>
          <p:cNvPicPr/>
          <p:nvPr/>
        </p:nvPicPr>
        <p:blipFill>
          <a:blip r:embed="rId1"/>
          <a:stretch/>
        </p:blipFill>
        <p:spPr>
          <a:xfrm>
            <a:off x="611280" y="4005360"/>
            <a:ext cx="2816280" cy="2490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7" descr=""/>
          <p:cNvPicPr/>
          <p:nvPr/>
        </p:nvPicPr>
        <p:blipFill>
          <a:blip r:embed="rId2"/>
          <a:stretch/>
        </p:blipFill>
        <p:spPr>
          <a:xfrm>
            <a:off x="6156360" y="299736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0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2952720" cy="1652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1" descr=""/>
          <p:cNvPicPr/>
          <p:nvPr/>
        </p:nvPicPr>
        <p:blipFill>
          <a:blip r:embed="rId4"/>
          <a:stretch/>
        </p:blipFill>
        <p:spPr>
          <a:xfrm>
            <a:off x="5796000" y="4724280"/>
            <a:ext cx="2160720" cy="198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5" descr=""/>
          <p:cNvPicPr/>
          <p:nvPr/>
        </p:nvPicPr>
        <p:blipFill>
          <a:blip r:embed="rId5"/>
          <a:stretch/>
        </p:blipFill>
        <p:spPr>
          <a:xfrm>
            <a:off x="971640" y="1628640"/>
            <a:ext cx="2039760" cy="2040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7" descr=""/>
          <p:cNvPicPr/>
          <p:nvPr/>
        </p:nvPicPr>
        <p:blipFill>
          <a:blip r:embed="rId6"/>
          <a:stretch/>
        </p:blipFill>
        <p:spPr>
          <a:xfrm>
            <a:off x="2843280" y="2421000"/>
            <a:ext cx="2071800" cy="2125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9" descr=""/>
          <p:cNvPicPr/>
          <p:nvPr/>
        </p:nvPicPr>
        <p:blipFill>
          <a:blip r:embed="rId7"/>
          <a:stretch/>
        </p:blipFill>
        <p:spPr>
          <a:xfrm>
            <a:off x="3564000" y="4292640"/>
            <a:ext cx="2266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Украсить одежду и сумочку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3240000" cy="2173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5003640" y="4365720"/>
            <a:ext cx="3335400" cy="2120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3"/>
          <a:stretch/>
        </p:blipFill>
        <p:spPr>
          <a:xfrm>
            <a:off x="1116000" y="1700280"/>
            <a:ext cx="3240000" cy="2425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5076720" y="1720800"/>
            <a:ext cx="3240360" cy="2433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"/>
          <p:cNvPicPr/>
          <p:nvPr/>
        </p:nvPicPr>
        <p:blipFill>
          <a:blip r:embed="rId5"/>
          <a:stretch/>
        </p:blipFill>
        <p:spPr>
          <a:xfrm>
            <a:off x="3348000" y="3068640"/>
            <a:ext cx="22320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Изготовить украшения для волос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780000" y="1844640"/>
            <a:ext cx="4572000" cy="4362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1908000" y="1844640"/>
            <a:ext cx="1890720" cy="2521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3"/>
          <a:stretch/>
        </p:blipFill>
        <p:spPr>
          <a:xfrm>
            <a:off x="1908000" y="4292640"/>
            <a:ext cx="1943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Украсить интерьер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3076560" cy="2908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3257640" cy="3257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Создать букет, который никогда не завяне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977080" cy="390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Создание цветов, при помощи специальных инструментов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"/>
          <p:cNvPicPr/>
          <p:nvPr/>
        </p:nvPicPr>
        <p:blipFill>
          <a:blip r:embed="rId2"/>
          <a:stretch/>
        </p:blipFill>
        <p:spPr>
          <a:xfrm>
            <a:off x="468360" y="326088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3"/>
          <a:stretch/>
        </p:blipFill>
        <p:spPr>
          <a:xfrm>
            <a:off x="1187280" y="4869000"/>
            <a:ext cx="2519640" cy="1888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"/>
          <p:cNvPicPr/>
          <p:nvPr/>
        </p:nvPicPr>
        <p:blipFill>
          <a:blip r:embed="rId4"/>
          <a:stretch/>
        </p:blipFill>
        <p:spPr>
          <a:xfrm>
            <a:off x="7093080" y="5013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3" descr=""/>
          <p:cNvPicPr/>
          <p:nvPr/>
        </p:nvPicPr>
        <p:blipFill>
          <a:blip r:embed="rId5"/>
          <a:stretch/>
        </p:blipFill>
        <p:spPr>
          <a:xfrm>
            <a:off x="5076720" y="1700280"/>
            <a:ext cx="2808360" cy="1868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"/>
          <p:cNvPicPr/>
          <p:nvPr/>
        </p:nvPicPr>
        <p:blipFill>
          <a:blip r:embed="rId6"/>
          <a:stretch/>
        </p:blipFill>
        <p:spPr>
          <a:xfrm>
            <a:off x="3059280" y="292428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8" descr=""/>
          <p:cNvPicPr/>
          <p:nvPr/>
        </p:nvPicPr>
        <p:blipFill>
          <a:blip r:embed="rId7"/>
          <a:stretch/>
        </p:blipFill>
        <p:spPr>
          <a:xfrm>
            <a:off x="6372360" y="3068640"/>
            <a:ext cx="2089080" cy="2039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0" descr=""/>
          <p:cNvPicPr/>
          <p:nvPr/>
        </p:nvPicPr>
        <p:blipFill>
          <a:blip r:embed="rId8"/>
          <a:stretch/>
        </p:blipFill>
        <p:spPr>
          <a:xfrm>
            <a:off x="3780000" y="4437000"/>
            <a:ext cx="29718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7:24:34Z</dcterms:created>
  <dc:creator>Иван</dc:creator>
  <dc:description/>
  <dc:language>en-US</dc:language>
  <cp:lastModifiedBy>gia</cp:lastModifiedBy>
  <dcterms:modified xsi:type="dcterms:W3CDTF">2013-11-11T05:57:26Z</dcterms:modified>
  <cp:revision>25</cp:revision>
  <dc:subject/>
  <dc:title>«Мастерилка»</dc:title>
</cp:coreProperties>
</file>