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4ABA-059E-4E8A-B66C-0048B9DE6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8d3e"/>
              </a:solidFill>
              <a:latin typeface="Verdana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B4B0-589F-4525-927A-76C65DACA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8d3e"/>
              </a:solidFill>
              <a:latin typeface="Verdana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934F-E4B3-48F5-8C85-A2CB00CA8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8d3e"/>
              </a:solidFill>
              <a:latin typeface="Verdana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1DD8-60FE-4A0D-A195-0022243F9E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8d3e"/>
              </a:solidFill>
              <a:latin typeface="Verdana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A373-0755-49C2-B607-0E756F200F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8d3e"/>
              </a:solidFill>
              <a:latin typeface="Verdana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58EE-B4E1-4E7F-A4EB-D92AA86DF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8d3e"/>
              </a:solidFill>
              <a:latin typeface="Verdana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3ADBF-2C89-4F39-8D88-E207BD7B8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8d3e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B20A-158E-4F53-8502-04641451F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C8F7-3FF9-4239-9A7A-49CF49178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8d3e"/>
              </a:solidFill>
              <a:latin typeface="Verdana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BB3D-803C-4FC8-824E-68DAB1A06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8d3e"/>
              </a:solidFill>
              <a:latin typeface="Verdana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8081-27A8-43DB-B3A5-D412066ED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8d3e"/>
              </a:solidFill>
              <a:latin typeface="Verdana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3E43-764C-4ABD-8D79-70CB8FFBC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555040" y="6168960"/>
            <a:ext cx="24624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A23CD-626D-4B9B-9054-F71D6AFF4EE1}" type="slidenum">
              <a:rPr b="0" lang="ru-RU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8d3e"/>
                </a:solidFill>
                <a:latin typeface="Verdana Bold"/>
              </a:rPr>
              <a:t>Click to edit the title text format</a:t>
            </a:r>
            <a:endParaRPr b="0" lang="en-US" sz="3600" spc="-1" strike="noStrike">
              <a:solidFill>
                <a:srgbClr val="ff8d3e"/>
              </a:solidFill>
              <a:latin typeface="Verdana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fizminutka.mp3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"/>
          <p:cNvSpPr/>
          <p:nvPr/>
        </p:nvSpPr>
        <p:spPr>
          <a:xfrm>
            <a:off x="8555040" y="623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1A4D8-BCB8-4129-94AA-102657BABE82}" type="slidenum">
              <a:rPr b="0" lang="ru-RU" sz="1000" spc="-1" strike="noStrike">
                <a:solidFill>
                  <a:srgbClr val="a5a298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393" t="524" r="393" b="524"/>
          <a:stretch/>
        </p:blipFill>
        <p:spPr>
          <a:xfrm>
            <a:off x="-52560" y="-27000"/>
            <a:ext cx="9196560" cy="688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549360"/>
            <a:ext cx="64022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400" spc="-1" strike="noStrike">
                <a:solidFill>
                  <a:srgbClr val="001445"/>
                </a:solidFill>
                <a:latin typeface="Arial"/>
              </a:rPr>
              <a:t>Урок русского языка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>
            <a:off x="8555040" y="623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918E5-A7E2-4ED6-B361-5BFF98B147AE}" type="slidenum">
              <a:rPr b="0" lang="ru-RU" sz="1000" spc="-1" strike="noStrike">
                <a:solidFill>
                  <a:srgbClr val="a5a298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4579" t="5901" r="4579" b="6950"/>
          <a:stretch/>
        </p:blipFill>
        <p:spPr>
          <a:xfrm>
            <a:off x="0" y="0"/>
            <a:ext cx="925344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71680" y="0"/>
            <a:ext cx="73404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e20000"/>
                </a:solidFill>
                <a:latin typeface="Arial"/>
              </a:rPr>
              <a:t>Рефлексия деятельности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"/>
          <p:cNvSpPr/>
          <p:nvPr/>
        </p:nvSpPr>
        <p:spPr>
          <a:xfrm>
            <a:off x="855720" y="927000"/>
            <a:ext cx="793728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106720" indent="-2102040">
              <a:lnSpc>
                <a:spcPct val="100000"/>
              </a:lnSpc>
              <a:tabLst>
                <a:tab algn="l" pos="0"/>
                <a:tab algn="l" pos="2106720"/>
                <a:tab algn="l" pos="2554200"/>
                <a:tab algn="l" pos="3003480"/>
                <a:tab algn="l" pos="3452760"/>
                <a:tab algn="l" pos="3902040"/>
                <a:tab algn="l" pos="4351320"/>
                <a:tab algn="l" pos="4800600"/>
                <a:tab algn="l" pos="5249880"/>
                <a:tab algn="l" pos="5699160"/>
                <a:tab algn="l" pos="6148440"/>
                <a:tab algn="l" pos="6597720"/>
                <a:tab algn="l" pos="7047000"/>
                <a:tab algn="l" pos="7496280"/>
                <a:tab algn="l" pos="7945560"/>
                <a:tab algn="l" pos="8394840"/>
                <a:tab algn="l" pos="8844120"/>
                <a:tab algn="l" pos="9293400"/>
                <a:tab algn="l" pos="9742320"/>
                <a:tab algn="l" pos="10191600"/>
                <a:tab algn="l" pos="10640880"/>
                <a:tab algn="l" pos="11090160"/>
              </a:tabLst>
            </a:pPr>
            <a:r>
              <a:rPr b="0" lang="ru-RU" sz="4100" spc="-1" strike="noStrike">
                <a:solidFill>
                  <a:srgbClr val="001f67"/>
                </a:solidFill>
                <a:latin typeface="Arial"/>
              </a:rPr>
              <a:t>Чему учились на уроке?</a:t>
            </a:r>
            <a:endParaRPr b="0" lang="en-US" sz="4100" spc="-1" strike="noStrike">
              <a:solidFill>
                <a:srgbClr val="000000"/>
              </a:solidFill>
              <a:latin typeface="Gill Sans"/>
            </a:endParaRPr>
          </a:p>
          <a:p>
            <a:pPr marL="2106720" indent="-2102040">
              <a:lnSpc>
                <a:spcPct val="100000"/>
              </a:lnSpc>
              <a:tabLst>
                <a:tab algn="l" pos="0"/>
                <a:tab algn="l" pos="2106720"/>
                <a:tab algn="l" pos="2554200"/>
                <a:tab algn="l" pos="3003480"/>
                <a:tab algn="l" pos="3452760"/>
                <a:tab algn="l" pos="3902040"/>
                <a:tab algn="l" pos="4351320"/>
                <a:tab algn="l" pos="4800600"/>
                <a:tab algn="l" pos="5249880"/>
                <a:tab algn="l" pos="5699160"/>
                <a:tab algn="l" pos="6148440"/>
                <a:tab algn="l" pos="6597720"/>
                <a:tab algn="l" pos="7047000"/>
                <a:tab algn="l" pos="7496280"/>
                <a:tab algn="l" pos="7945560"/>
                <a:tab algn="l" pos="8394840"/>
                <a:tab algn="l" pos="8844120"/>
                <a:tab algn="l" pos="9293400"/>
                <a:tab algn="l" pos="9742320"/>
                <a:tab algn="l" pos="10191600"/>
                <a:tab algn="l" pos="10640880"/>
                <a:tab algn="l" pos="11090160"/>
              </a:tabLst>
            </a:pPr>
            <a:r>
              <a:rPr b="0" lang="ru-RU" sz="4100" spc="-1" strike="noStrike">
                <a:solidFill>
                  <a:srgbClr val="d78e03"/>
                </a:solidFill>
                <a:latin typeface="Arial"/>
              </a:rPr>
              <a:t>   </a:t>
            </a:r>
            <a:r>
              <a:rPr b="0" lang="ru-RU" sz="4100" spc="-1" strike="noStrike">
                <a:solidFill>
                  <a:srgbClr val="001f67"/>
                </a:solidFill>
                <a:latin typeface="Arial"/>
              </a:rPr>
              <a:t>Что нового узнали?</a:t>
            </a:r>
            <a:endParaRPr b="0" lang="en-US" sz="4100" spc="-1" strike="noStrike">
              <a:solidFill>
                <a:srgbClr val="000000"/>
              </a:solidFill>
              <a:latin typeface="Gill Sans"/>
            </a:endParaRPr>
          </a:p>
          <a:p>
            <a:pPr marL="2106720" indent="-2102040" algn="ctr">
              <a:lnSpc>
                <a:spcPct val="100000"/>
              </a:lnSpc>
              <a:tabLst>
                <a:tab algn="l" pos="0"/>
                <a:tab algn="l" pos="2106720"/>
                <a:tab algn="l" pos="2554200"/>
                <a:tab algn="l" pos="3003480"/>
                <a:tab algn="l" pos="3452760"/>
                <a:tab algn="l" pos="3902040"/>
                <a:tab algn="l" pos="4351320"/>
                <a:tab algn="l" pos="4800600"/>
                <a:tab algn="l" pos="5249880"/>
                <a:tab algn="l" pos="5699160"/>
                <a:tab algn="l" pos="6148440"/>
                <a:tab algn="l" pos="6597720"/>
                <a:tab algn="l" pos="7047000"/>
                <a:tab algn="l" pos="7496280"/>
                <a:tab algn="l" pos="7945560"/>
                <a:tab algn="l" pos="8394840"/>
                <a:tab algn="l" pos="8844120"/>
                <a:tab algn="l" pos="9293400"/>
                <a:tab algn="l" pos="9742320"/>
                <a:tab algn="l" pos="10191600"/>
                <a:tab algn="l" pos="10640880"/>
                <a:tab algn="l" pos="11090160"/>
              </a:tabLst>
            </a:pPr>
            <a:r>
              <a:rPr b="0" lang="ru-RU" sz="4100" spc="-1" strike="noStrike">
                <a:solidFill>
                  <a:srgbClr val="d78e03"/>
                </a:solidFill>
                <a:latin typeface="Arial"/>
              </a:rPr>
              <a:t> </a:t>
            </a:r>
            <a:r>
              <a:rPr b="0" lang="ru-RU" sz="4100" spc="-1" strike="noStrike">
                <a:solidFill>
                  <a:srgbClr val="001f67"/>
                </a:solidFill>
                <a:latin typeface="Arial"/>
              </a:rPr>
              <a:t>Что интересного запомнили?</a:t>
            </a:r>
            <a:endParaRPr b="0" lang="en-US" sz="4100" spc="-1" strike="noStrike">
              <a:solidFill>
                <a:srgbClr val="000000"/>
              </a:solidFill>
              <a:latin typeface="Gill Sans"/>
            </a:endParaRPr>
          </a:p>
          <a:p>
            <a:pPr marL="2106720" indent="-2102040">
              <a:lnSpc>
                <a:spcPct val="100000"/>
              </a:lnSpc>
              <a:tabLst>
                <a:tab algn="l" pos="0"/>
                <a:tab algn="l" pos="2106720"/>
                <a:tab algn="l" pos="2554200"/>
                <a:tab algn="l" pos="3003480"/>
                <a:tab algn="l" pos="3452760"/>
                <a:tab algn="l" pos="3902040"/>
                <a:tab algn="l" pos="4351320"/>
                <a:tab algn="l" pos="4800600"/>
                <a:tab algn="l" pos="5249880"/>
                <a:tab algn="l" pos="5699160"/>
                <a:tab algn="l" pos="6148440"/>
                <a:tab algn="l" pos="6597720"/>
                <a:tab algn="l" pos="7047000"/>
                <a:tab algn="l" pos="7496280"/>
                <a:tab algn="l" pos="7945560"/>
                <a:tab algn="l" pos="8394840"/>
                <a:tab algn="l" pos="8844120"/>
                <a:tab algn="l" pos="9293400"/>
                <a:tab algn="l" pos="9742320"/>
                <a:tab algn="l" pos="10191600"/>
                <a:tab algn="l" pos="10640880"/>
                <a:tab algn="l" pos="11090160"/>
              </a:tabLst>
            </a:pPr>
            <a:r>
              <a:rPr b="0" lang="ru-RU" sz="4100" spc="-1" strike="noStrike">
                <a:solidFill>
                  <a:srgbClr val="001f67"/>
                </a:solidFill>
                <a:latin typeface="Arial"/>
              </a:rPr>
              <a:t>   </a:t>
            </a:r>
            <a:r>
              <a:rPr b="0" lang="ru-RU" sz="4100" spc="-1" strike="noStrike">
                <a:solidFill>
                  <a:srgbClr val="001f67"/>
                </a:solidFill>
                <a:latin typeface="Arial"/>
              </a:rPr>
              <a:t>Кто достиг цели?</a:t>
            </a:r>
            <a:r>
              <a:rPr b="0" lang="ru-RU" sz="4100" spc="-1" strike="noStrike">
                <a:solidFill>
                  <a:srgbClr val="d78e03"/>
                </a:solidFill>
                <a:latin typeface="Times New Roman Bold Italic"/>
              </a:rPr>
              <a:t>  </a:t>
            </a:r>
            <a:endParaRPr b="0" lang="en-US" sz="4100" spc="-1" strike="noStrike">
              <a:solidFill>
                <a:srgbClr val="000000"/>
              </a:solidFill>
              <a:latin typeface="Gill Sans"/>
            </a:endParaRPr>
          </a:p>
          <a:p>
            <a:pPr marL="2106720" indent="-2102040" algn="ctr">
              <a:lnSpc>
                <a:spcPct val="100000"/>
              </a:lnSpc>
              <a:tabLst>
                <a:tab algn="l" pos="0"/>
                <a:tab algn="l" pos="2106720"/>
                <a:tab algn="l" pos="2554200"/>
                <a:tab algn="l" pos="3003480"/>
                <a:tab algn="l" pos="3452760"/>
                <a:tab algn="l" pos="3902040"/>
                <a:tab algn="l" pos="4351320"/>
                <a:tab algn="l" pos="4800600"/>
                <a:tab algn="l" pos="5249880"/>
                <a:tab algn="l" pos="5699160"/>
                <a:tab algn="l" pos="6148440"/>
                <a:tab algn="l" pos="6597720"/>
                <a:tab algn="l" pos="7047000"/>
                <a:tab algn="l" pos="7496280"/>
                <a:tab algn="l" pos="7945560"/>
                <a:tab algn="l" pos="8394840"/>
                <a:tab algn="l" pos="8844120"/>
                <a:tab algn="l" pos="9293400"/>
                <a:tab algn="l" pos="9742320"/>
                <a:tab algn="l" pos="10191600"/>
                <a:tab algn="l" pos="10640880"/>
                <a:tab algn="l" pos="11090160"/>
              </a:tabLst>
            </a:pPr>
            <a:endParaRPr b="0" lang="en-US" sz="4100" spc="-1" strike="noStrike">
              <a:solidFill>
                <a:srgbClr val="000000"/>
              </a:solidFill>
              <a:latin typeface="Gill Sans"/>
            </a:endParaRPr>
          </a:p>
          <a:p>
            <a:pPr marL="2106720" indent="-2102040" algn="ctr">
              <a:lnSpc>
                <a:spcPct val="100000"/>
              </a:lnSpc>
              <a:tabLst>
                <a:tab algn="l" pos="0"/>
                <a:tab algn="l" pos="2106720"/>
                <a:tab algn="l" pos="2554200"/>
                <a:tab algn="l" pos="3003480"/>
                <a:tab algn="l" pos="3452760"/>
                <a:tab algn="l" pos="3902040"/>
                <a:tab algn="l" pos="4351320"/>
                <a:tab algn="l" pos="4800600"/>
                <a:tab algn="l" pos="5249880"/>
                <a:tab algn="l" pos="5699160"/>
                <a:tab algn="l" pos="6148440"/>
                <a:tab algn="l" pos="6597720"/>
                <a:tab algn="l" pos="7047000"/>
                <a:tab algn="l" pos="7496280"/>
                <a:tab algn="l" pos="7945560"/>
                <a:tab algn="l" pos="8394840"/>
                <a:tab algn="l" pos="8844120"/>
                <a:tab algn="l" pos="9293400"/>
                <a:tab algn="l" pos="9742320"/>
                <a:tab algn="l" pos="10191600"/>
                <a:tab algn="l" pos="10640880"/>
                <a:tab algn="l" pos="11090160"/>
              </a:tabLst>
            </a:pPr>
            <a:r>
              <a:rPr b="0" lang="ru-RU" sz="4100" spc="-1" strike="noStrike">
                <a:solidFill>
                  <a:srgbClr val="001f67"/>
                </a:solidFill>
                <a:latin typeface="Arial"/>
              </a:rPr>
              <a:t>Кто оценил свою работу на «5»</a:t>
            </a:r>
            <a:endParaRPr b="0" lang="en-US" sz="4100" spc="-1" strike="noStrike">
              <a:solidFill>
                <a:srgbClr val="000000"/>
              </a:solidFill>
              <a:latin typeface="Gill Sans"/>
            </a:endParaRPr>
          </a:p>
          <a:p>
            <a:pPr marL="2106720" indent="-2102040" algn="ctr">
              <a:lnSpc>
                <a:spcPct val="100000"/>
              </a:lnSpc>
              <a:tabLst>
                <a:tab algn="l" pos="0"/>
                <a:tab algn="l" pos="2106720"/>
                <a:tab algn="l" pos="2554200"/>
                <a:tab algn="l" pos="3003480"/>
                <a:tab algn="l" pos="3452760"/>
                <a:tab algn="l" pos="3902040"/>
                <a:tab algn="l" pos="4351320"/>
                <a:tab algn="l" pos="4800600"/>
                <a:tab algn="l" pos="5249880"/>
                <a:tab algn="l" pos="5699160"/>
                <a:tab algn="l" pos="6148440"/>
                <a:tab algn="l" pos="6597720"/>
                <a:tab algn="l" pos="7047000"/>
                <a:tab algn="l" pos="7496280"/>
                <a:tab algn="l" pos="7945560"/>
                <a:tab algn="l" pos="8394840"/>
                <a:tab algn="l" pos="8844120"/>
                <a:tab algn="l" pos="9293400"/>
                <a:tab algn="l" pos="9742320"/>
                <a:tab algn="l" pos="10191600"/>
                <a:tab algn="l" pos="10640880"/>
                <a:tab algn="l" pos="11090160"/>
              </a:tabLst>
            </a:pPr>
            <a:r>
              <a:rPr b="0" lang="ru-RU" sz="4100" spc="-1" strike="noStrike">
                <a:solidFill>
                  <a:srgbClr val="001f67"/>
                </a:solidFill>
                <a:latin typeface="Arial"/>
              </a:rPr>
              <a:t>                     </a:t>
            </a:r>
            <a:r>
              <a:rPr b="0" lang="ru-RU" sz="4100" spc="-1" strike="noStrike">
                <a:solidFill>
                  <a:srgbClr val="001f67"/>
                </a:solidFill>
                <a:latin typeface="Arial"/>
              </a:rPr>
              <a:t>на «4»?</a:t>
            </a:r>
            <a:endParaRPr b="0" lang="en-US" sz="4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279360" y="860040"/>
            <a:ext cx="500040" cy="785880"/>
          </a:xfrm>
          <a:prstGeom prst="pie">
            <a:avLst/>
          </a:prstGeom>
          <a:gradFill rotWithShape="0">
            <a:gsLst>
              <a:gs pos="0">
                <a:srgbClr val="fff0e1"/>
              </a:gs>
              <a:gs pos="100000">
                <a:srgbClr val="ff0000">
                  <a:alpha val="3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77880" y="2138040"/>
            <a:ext cx="500040" cy="785880"/>
          </a:xfrm>
          <a:prstGeom prst="pie">
            <a:avLst/>
          </a:prstGeom>
          <a:gradFill rotWithShape="0">
            <a:gsLst>
              <a:gs pos="0">
                <a:srgbClr val="fff0e1"/>
              </a:gs>
              <a:gs pos="100000">
                <a:srgbClr val="ff0000">
                  <a:alpha val="3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31640" y="1522080"/>
            <a:ext cx="500040" cy="785520"/>
          </a:xfrm>
          <a:prstGeom prst="pie">
            <a:avLst/>
          </a:prstGeom>
          <a:gradFill rotWithShape="0">
            <a:gsLst>
              <a:gs pos="0">
                <a:srgbClr val="fff0e1"/>
              </a:gs>
              <a:gs pos="100000">
                <a:srgbClr val="ff0000">
                  <a:alpha val="3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249840" y="4034520"/>
            <a:ext cx="495360" cy="795240"/>
          </a:xfrm>
          <a:prstGeom prst="pie">
            <a:avLst/>
          </a:prstGeom>
          <a:gradFill rotWithShape="0">
            <a:gsLst>
              <a:gs pos="0">
                <a:srgbClr val="fff0e1"/>
              </a:gs>
              <a:gs pos="100000">
                <a:srgbClr val="ff0000">
                  <a:alpha val="3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677880" y="2787120"/>
            <a:ext cx="500040" cy="785880"/>
          </a:xfrm>
          <a:prstGeom prst="pie">
            <a:avLst/>
          </a:prstGeom>
          <a:gradFill rotWithShape="0">
            <a:gsLst>
              <a:gs pos="0">
                <a:srgbClr val="fff0e1"/>
              </a:gs>
              <a:gs pos="100000">
                <a:srgbClr val="ff0000">
                  <a:alpha val="3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0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"/>
          <p:cNvSpPr/>
          <p:nvPr/>
        </p:nvSpPr>
        <p:spPr>
          <a:xfrm>
            <a:off x="8555040" y="623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3E8D5-2A6F-4053-BAF3-90760A89E2F2}" type="slidenum">
              <a:rPr b="0" lang="ru-RU" sz="1000" spc="-1" strike="noStrike">
                <a:solidFill>
                  <a:srgbClr val="a5a298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88840" y="1841400"/>
            <a:ext cx="79758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200" spc="-1" strike="noStrike">
                <a:solidFill>
                  <a:srgbClr val="001445"/>
                </a:solidFill>
                <a:latin typeface="Arial"/>
              </a:rPr>
              <a:t>Стр. 133 прав., упр. 101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"/>
          <p:cNvSpPr/>
          <p:nvPr/>
        </p:nvSpPr>
        <p:spPr>
          <a:xfrm>
            <a:off x="8555040" y="623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FA8FE-1980-4006-8401-BBB702960FAE}" type="slidenum">
              <a:rPr b="0" lang="ru-RU" sz="1000" spc="-1" strike="noStrike">
                <a:solidFill>
                  <a:srgbClr val="a5a298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27000" y="2362320"/>
            <a:ext cx="7480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1445"/>
                </a:solidFill>
                <a:latin typeface="Arial"/>
              </a:rPr>
              <a:t>Разноспрягаемые глаголы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"/>
          <p:cNvSpPr/>
          <p:nvPr/>
        </p:nvSpPr>
        <p:spPr>
          <a:xfrm>
            <a:off x="6204240" y="952560"/>
            <a:ext cx="18964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1445"/>
                </a:solidFill>
                <a:latin typeface="Arial"/>
              </a:rPr>
              <a:t>ТЕМА.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"/>
          <p:cNvSpPr/>
          <p:nvPr/>
        </p:nvSpPr>
        <p:spPr>
          <a:xfrm>
            <a:off x="8555040" y="623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1F39A-C00F-4637-83F0-DF5E0B642B35}" type="slidenum">
              <a:rPr b="0" lang="ru-RU" sz="1000" spc="-1" strike="noStrike">
                <a:solidFill>
                  <a:srgbClr val="a5a298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8720" y="1079640"/>
            <a:ext cx="85852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1445"/>
                </a:solidFill>
                <a:latin typeface="Arial"/>
              </a:rPr>
              <a:t>Разноспрягаемые глаголы.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"/>
          <p:cNvSpPr/>
          <p:nvPr/>
        </p:nvSpPr>
        <p:spPr>
          <a:xfrm>
            <a:off x="1684440" y="3263760"/>
            <a:ext cx="63313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400" spc="-1" strike="noStrike">
                <a:solidFill>
                  <a:srgbClr val="001445"/>
                </a:solidFill>
                <a:latin typeface="Arial"/>
              </a:rPr>
              <a:t>Бежать, хотеть.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"/>
          <p:cNvSpPr/>
          <p:nvPr/>
        </p:nvSpPr>
        <p:spPr>
          <a:xfrm>
            <a:off x="8555040" y="623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9241B-10DF-4142-AE6E-DB3B79FC64EF}" type="slidenum">
              <a:rPr b="0" lang="ru-RU" sz="1000" spc="-1" strike="noStrike">
                <a:solidFill>
                  <a:srgbClr val="a5a298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12800" y="284040"/>
            <a:ext cx="5943600" cy="928800"/>
          </a:xfrm>
          <a:prstGeom prst="rect">
            <a:avLst/>
          </a:prstGeom>
          <a:gradFill rotWithShape="0">
            <a:gsLst>
              <a:gs pos="0">
                <a:srgbClr val="b9ad8d"/>
              </a:gs>
              <a:gs pos="100000">
                <a:srgbClr val="b9ad8d">
                  <a:alpha val="0"/>
                </a:srgbClr>
              </a:gs>
            </a:gsLst>
            <a:lin ang="108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"/>
          <p:cNvSpPr/>
          <p:nvPr/>
        </p:nvSpPr>
        <p:spPr>
          <a:xfrm>
            <a:off x="641520" y="260280"/>
            <a:ext cx="603216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1445"/>
                </a:solidFill>
                <a:latin typeface="Arial"/>
              </a:rPr>
              <a:t>Проверь себя!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616800" y="0"/>
            <a:ext cx="2527200" cy="219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12880" y="1981080"/>
            <a:ext cx="833112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1445"/>
                </a:solidFill>
                <a:latin typeface="Arial"/>
              </a:rPr>
              <a:t>Глаголы образованные от глагола «хотеть» приставочным способом, тоже разноспрягаемые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"/>
          <p:cNvSpPr/>
          <p:nvPr/>
        </p:nvSpPr>
        <p:spPr>
          <a:xfrm>
            <a:off x="8555040" y="623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C58A3-C2F9-4BAF-961B-623EB0C0DA4B}" type="slidenum">
              <a:rPr b="0" lang="ru-RU" sz="1000" spc="-1" strike="noStrike">
                <a:solidFill>
                  <a:srgbClr val="a5a298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28880" y="1071720"/>
            <a:ext cx="5286240" cy="4429080"/>
          </a:xfrm>
          <a:prstGeom prst="pie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10800000"/>
          </a:gradFill>
          <a:ln w="25560">
            <a:solidFill>
              <a:srgbClr val="3a63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42960" y="1214280"/>
            <a:ext cx="6929280" cy="4429440"/>
          </a:xfrm>
          <a:prstGeom prst="pie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10800000"/>
          </a:gradFill>
          <a:ln w="25560">
            <a:solidFill>
              <a:srgbClr val="3a63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"/>
          <p:cNvSpPr/>
          <p:nvPr/>
        </p:nvSpPr>
        <p:spPr>
          <a:xfrm>
            <a:off x="498600" y="998640"/>
            <a:ext cx="8300880" cy="4787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1a78f">
                  <a:alpha val="0"/>
                </a:srgbClr>
              </a:gs>
            </a:gsLst>
            <a:lin ang="10800000"/>
          </a:gradFill>
          <a:ln w="25560">
            <a:solidFill>
              <a:srgbClr val="ffde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86720" y="355680"/>
            <a:ext cx="714240" cy="714240"/>
          </a:xfrm>
          <a:prstGeom prst="pie">
            <a:avLst/>
          </a:prstGeom>
          <a:solidFill>
            <a:srgbClr val="771e1e"/>
          </a:solidFill>
          <a:ln w="475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"/>
          <p:cNvSpPr/>
          <p:nvPr/>
        </p:nvSpPr>
        <p:spPr>
          <a:xfrm>
            <a:off x="355680" y="0"/>
            <a:ext cx="714240" cy="714240"/>
          </a:xfrm>
          <a:prstGeom prst="pie">
            <a:avLst/>
          </a:prstGeom>
          <a:solidFill>
            <a:srgbClr val="92d050"/>
          </a:solidFill>
          <a:ln w="475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>
            <a:off x="4284720" y="0"/>
            <a:ext cx="716040" cy="714240"/>
          </a:xfrm>
          <a:prstGeom prst="pie">
            <a:avLst/>
          </a:prstGeom>
          <a:solidFill>
            <a:srgbClr val="ffc000"/>
          </a:solidFill>
          <a:ln w="475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"/>
          <p:cNvSpPr/>
          <p:nvPr/>
        </p:nvSpPr>
        <p:spPr>
          <a:xfrm>
            <a:off x="2212920" y="284040"/>
            <a:ext cx="714600" cy="714600"/>
          </a:xfrm>
          <a:prstGeom prst="pie">
            <a:avLst/>
          </a:prstGeom>
          <a:solidFill>
            <a:srgbClr val="9f87b7"/>
          </a:solidFill>
          <a:ln w="475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"/>
          <p:cNvSpPr/>
          <p:nvPr/>
        </p:nvSpPr>
        <p:spPr>
          <a:xfrm>
            <a:off x="355680" y="4286160"/>
            <a:ext cx="714240" cy="714600"/>
          </a:xfrm>
          <a:prstGeom prst="pie">
            <a:avLst/>
          </a:prstGeom>
          <a:solidFill>
            <a:srgbClr val="d6d6d6"/>
          </a:solidFill>
          <a:ln w="475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5143680" y="6141960"/>
            <a:ext cx="714240" cy="716040"/>
          </a:xfrm>
          <a:prstGeom prst="pie">
            <a:avLst/>
          </a:prstGeom>
          <a:solidFill>
            <a:srgbClr val="ff0000"/>
          </a:solidFill>
          <a:ln w="475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2070000" y="5357880"/>
            <a:ext cx="714600" cy="714240"/>
          </a:xfrm>
          <a:prstGeom prst="pie">
            <a:avLst/>
          </a:prstGeom>
          <a:solidFill>
            <a:srgbClr val="848484"/>
          </a:solidFill>
          <a:ln w="475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"/>
          <p:cNvSpPr/>
          <p:nvPr/>
        </p:nvSpPr>
        <p:spPr>
          <a:xfrm>
            <a:off x="6572160" y="5429160"/>
            <a:ext cx="714600" cy="714600"/>
          </a:xfrm>
          <a:prstGeom prst="pie">
            <a:avLst/>
          </a:prstGeom>
          <a:solidFill>
            <a:srgbClr val="4e8542"/>
          </a:solidFill>
          <a:ln w="475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"/>
          <p:cNvSpPr/>
          <p:nvPr/>
        </p:nvSpPr>
        <p:spPr>
          <a:xfrm>
            <a:off x="3427560" y="6141960"/>
            <a:ext cx="714240" cy="716040"/>
          </a:xfrm>
          <a:prstGeom prst="pie">
            <a:avLst/>
          </a:prstGeom>
          <a:solidFill>
            <a:srgbClr val="00b050"/>
          </a:solidFill>
          <a:ln w="475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7786800" y="6141960"/>
            <a:ext cx="714240" cy="716040"/>
          </a:xfrm>
          <a:prstGeom prst="pie">
            <a:avLst/>
          </a:prstGeom>
          <a:solidFill>
            <a:srgbClr val="848484"/>
          </a:solidFill>
          <a:ln w="475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rcRect l="7711" t="10403" r="15579" b="7236"/>
          <a:stretch/>
        </p:blipFill>
        <p:spPr>
          <a:xfrm>
            <a:off x="1474920" y="1628640"/>
            <a:ext cx="5616360" cy="37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fill="hold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0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"/>
          <p:cNvSpPr/>
          <p:nvPr/>
        </p:nvSpPr>
        <p:spPr>
          <a:xfrm>
            <a:off x="8555040" y="623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A506C-173F-4A94-9E8E-40ED3FA785AB}" type="slidenum">
              <a:rPr b="0" lang="ru-RU" sz="1000" spc="-1" strike="noStrike">
                <a:solidFill>
                  <a:srgbClr val="a5a298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831960" y="-138240"/>
            <a:ext cx="98618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0720" y="1440000"/>
            <a:ext cx="79200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1445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Понёва - домотканая ш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рстяная ю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б</a:t>
            </a: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ка.Она над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валась п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верх руба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ш</a:t>
            </a: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ки. За р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ботой крестьянки п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дворачив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ли её за по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я</a:t>
            </a: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с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"/>
          <p:cNvSpPr/>
          <p:nvPr/>
        </p:nvSpPr>
        <p:spPr>
          <a:xfrm>
            <a:off x="8555040" y="623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0C71E-D17A-4A2E-830C-C722777F3EC8}" type="slidenum">
              <a:rPr b="0" lang="ru-RU" sz="1000" spc="-1" strike="noStrike">
                <a:solidFill>
                  <a:srgbClr val="a5a298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00280" y="369720"/>
            <a:ext cx="339228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"/>
          <p:cNvSpPr/>
          <p:nvPr/>
        </p:nvSpPr>
        <p:spPr>
          <a:xfrm>
            <a:off x="8555040" y="623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37B71-08A6-4F98-B30A-7C841237A19C}" type="slidenum">
              <a:rPr b="0" lang="ru-RU" sz="1000" spc="-1" strike="noStrike">
                <a:solidFill>
                  <a:srgbClr val="a5a298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-1440000" y="0"/>
            <a:ext cx="102189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9280" y="900000"/>
            <a:ext cx="7948800" cy="26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1445"/>
                </a:solidFill>
                <a:latin typeface="Arial Bold"/>
              </a:rPr>
              <a:t>  </a:t>
            </a:r>
            <a:r>
              <a:rPr b="1" lang="ru-RU" sz="3600" spc="-1" strike="noStrike">
                <a:solidFill>
                  <a:srgbClr val="001445"/>
                </a:solidFill>
                <a:latin typeface="Arial"/>
              </a:rPr>
              <a:t>Если (захотеть-2 л., ед. ч.)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1" lang="ru-RU" sz="3600" spc="-1" strike="noStrike">
                <a:solidFill>
                  <a:srgbClr val="001445"/>
                </a:solidFill>
                <a:latin typeface="Arial"/>
              </a:rPr>
              <a:t> расширить знания о костюме предков, то посети сайт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3060720"/>
            <a:ext cx="7291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1445"/>
                </a:solidFill>
                <a:latin typeface="Arial"/>
                <a:ea typeface="Arial"/>
              </a:rPr>
              <a:t>http://afield.org.ua/mod3/mod65_1.htm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119333" dir="1510411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0b0ae"/>
            </a:solidFill>
            <a:miter/>
          </a:ln>
          <a:effectLst>
            <a:outerShdw dist="119333" dir="1510411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"/>
          <p:cNvSpPr/>
          <p:nvPr/>
        </p:nvSpPr>
        <p:spPr>
          <a:xfrm>
            <a:off x="8555040" y="623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D1DEA-E2E0-4E15-92DF-51C878313983}" type="slidenum">
              <a:rPr b="0" lang="ru-RU" sz="1000" spc="-1" strike="noStrike">
                <a:solidFill>
                  <a:srgbClr val="a5a29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36840" y="952560"/>
            <a:ext cx="70484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1445"/>
                </a:solidFill>
                <a:latin typeface="Arial Bold"/>
              </a:rPr>
              <a:t>  </a:t>
            </a:r>
            <a:r>
              <a:rPr b="1" lang="ru-RU" sz="3600" spc="-1" strike="noStrike">
                <a:solidFill>
                  <a:srgbClr val="001445"/>
                </a:solidFill>
                <a:latin typeface="Arial"/>
              </a:rPr>
              <a:t>Если захоч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600" spc="-1" strike="noStrike">
                <a:solidFill>
                  <a:srgbClr val="001445"/>
                </a:solidFill>
                <a:latin typeface="Arial"/>
              </a:rPr>
              <a:t>шь расширить знания о костюме предков, то посети сайт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"/>
          <p:cNvSpPr/>
          <p:nvPr/>
        </p:nvSpPr>
        <p:spPr>
          <a:xfrm>
            <a:off x="1384200" y="2946240"/>
            <a:ext cx="7291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1445"/>
                </a:solidFill>
                <a:latin typeface="Arial"/>
                <a:ea typeface="Arial"/>
              </a:rPr>
              <a:t>http://afield.org.ua/mod3/mod65_1.html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</cp:lastModifiedBy>
  <dcterms:modified xsi:type="dcterms:W3CDTF">2011-12-04T20:00:17Z</dcterms:modified>
  <cp:revision>2</cp:revision>
  <dc:subject/>
  <dc:title>Слайд 1</dc:title>
</cp:coreProperties>
</file>