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978F-402F-4558-8D8A-8A3EE833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A1C-5C95-4DFB-866A-4A7A6FE8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ECA-63DF-4479-8B89-D444B5FB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53D-3918-4BF7-A1AA-70549763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1723-9E0D-415B-AA3A-7D42404C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4A1A-32E9-48D7-A21A-F0261C9A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B14A-D8CC-42E9-8D4F-E38F01A2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E85E-BEB0-451E-A585-5493B5DB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45AD-5125-433D-99E0-1D4C0BE9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B853-F892-47EE-A715-53D5A161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B0F6-C1B7-4E45-9D37-D76D2173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DE4-8988-41E2-AFF8-8757261F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02B2-9F27-44B6-9025-A174D501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6543-74E8-4DA1-A58F-31061DE3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C0C3-0EBB-4E45-808E-964C881E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78E2-0BFF-44AD-AA1C-842FB018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8B0E-F388-4174-9543-1869D556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007E8-41B9-4563-93C2-59ADB67A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9F316-917E-4718-B657-547C70A6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1329E-73B9-4401-A8D0-C2D2AB27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E65C3-6A50-4C9A-B439-6EAC9BCB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CCAA8-7DE0-4650-B515-5690B251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BD8-1A9F-469E-A99E-3ECD175E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1EB9-1E68-4083-890B-A1ECA058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87288-429E-4339-9279-F7E3733B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9BEAD-2B34-4CBB-B1B8-465592E6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082FB-0E6C-4739-B762-DA69D0B6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D3E89-FFB4-4901-B756-B84FAB8D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D95E8-6311-4E4D-992E-1B107B01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45F77-63A4-4F52-A0A0-99CF02FC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F5D-BFFB-4FDC-9C11-24761210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1D3-4233-47CA-8B53-B79353C0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6B6-53DB-435E-A3E8-2DC9060E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4CF-DA76-46CF-9550-F28A0285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E9B-5130-4D18-8180-D7B49C58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CEB-E019-41E1-AFE4-033C54D8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2AFB-8E37-48F7-8BEA-4BAC92EAE5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C161-C72D-4568-B7FB-3357FDA921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FBFC-DD37-4AF5-83CE-13D4DD60F5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nshb.ru/AKDiL/0005/pic/Image4042.gif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.foto.radikal.ru/0604/7607e05c11a4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kareta.com.ru/netcat_files/Image/Novosti%20/&#1048;&#1085;&#1089;&#1090;&#1088;&#1091;&#1082;&#1094;&#1080;&#1103;%20&#1087;&#1086;%20&#1091;&#1089;&#1080;&#1083;&#1077;&#1085;&#1080;&#1102;%20&#1087;&#1086;&#1074;&#1086;&#1088;&#1086;&#1090;&#1085;&#1086;&#1081;%20&#1086;&#1089;&#1080;/1-obluchok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054.radikal.ru/0811/9e/81798e53f89d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ntent.foto.mail.ru/mail/zira72/2754/i-2790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mjar.ru/muz1812/m_18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395280" y="1413000"/>
            <a:ext cx="806436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усский я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Портрет писателя Владимира Ивановича Даля. 1872 Х. , м. 94х80, 5 ГТГ"/>
          <p:cNvPicPr/>
          <p:nvPr/>
        </p:nvPicPr>
        <p:blipFill>
          <a:blip r:embed="rId1"/>
          <a:stretch/>
        </p:blipFill>
        <p:spPr>
          <a:xfrm>
            <a:off x="0" y="0"/>
            <a:ext cx="58374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5867280" y="476280"/>
            <a:ext cx="302580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ль Владимир Иванови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1-187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-360" y="68760"/>
            <a:ext cx="853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еды,  босоножки,  лапт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оссовки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3283200"/>
            <a:ext cx="8582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Стол, утюг,  коромысл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стрюл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79280" y="1628640"/>
            <a:ext cx="8425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Пальто, плащ, шуба,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фта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50920" y="522936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) Нос, рот, очи, уш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6840" y="7920"/>
            <a:ext cx="91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еды,  босоножки,  лапти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россовк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7020000" y="76500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7" descr="лапти 456.jpg"/>
          <p:cNvPicPr/>
          <p:nvPr/>
        </p:nvPicPr>
        <p:blipFill>
          <a:blip r:embed="rId1"/>
          <a:stretch/>
        </p:blipFill>
        <p:spPr>
          <a:xfrm>
            <a:off x="1403280" y="1844640"/>
            <a:ext cx="638028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50920" y="0"/>
            <a:ext cx="8424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льто, плащ, шуба,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афтан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10" descr="зипун кафтан.jpg"/>
          <p:cNvPicPr/>
          <p:nvPr/>
        </p:nvPicPr>
        <p:blipFill>
          <a:blip r:embed="rId1"/>
          <a:stretch/>
        </p:blipFill>
        <p:spPr>
          <a:xfrm>
            <a:off x="2987640" y="2060640"/>
            <a:ext cx="2733840" cy="46083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8" descr="кафтан.jpg"/>
          <p:cNvPicPr/>
          <p:nvPr/>
        </p:nvPicPr>
        <p:blipFill>
          <a:blip r:embed="rId2"/>
          <a:stretch/>
        </p:blipFill>
        <p:spPr>
          <a:xfrm>
            <a:off x="5892840" y="1197000"/>
            <a:ext cx="3251160" cy="478152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>
            <a:off x="1258920" y="1557360"/>
            <a:ext cx="201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3"/>
          <a:stretch/>
        </p:blipFill>
        <p:spPr>
          <a:xfrm>
            <a:off x="0" y="1773360"/>
            <a:ext cx="2746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324000" y="312840"/>
            <a:ext cx="8582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) Стол, утюг,  коромысло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астрюл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219640" y="1125360"/>
            <a:ext cx="338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Картинка 20 из 12014"/>
          <p:cNvPicPr/>
          <p:nvPr/>
        </p:nvPicPr>
        <p:blipFill>
          <a:blip r:embed="rId1"/>
          <a:stretch/>
        </p:blipFill>
        <p:spPr>
          <a:xfrm>
            <a:off x="179280" y="2951280"/>
            <a:ext cx="3492720" cy="1900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Картинка 82 из 12014"/>
          <p:cNvPicPr/>
          <p:nvPr/>
        </p:nvPicPr>
        <p:blipFill>
          <a:blip r:embed="rId2"/>
          <a:stretch/>
        </p:blipFill>
        <p:spPr>
          <a:xfrm>
            <a:off x="3708360" y="2276640"/>
            <a:ext cx="52563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468360" y="18900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) Нос, рот, очи, уш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4211640" y="98100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258920" y="2781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ОЧИ  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3995640" y="278136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ГЛА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324000" y="259920"/>
            <a:ext cx="86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войско – ра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50920" y="155736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говорить – молви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50920" y="4724280"/>
            <a:ext cx="662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лоб - чел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79280" y="3141720"/>
            <a:ext cx="813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молодой - младо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Картинка 13 из 17924"/>
          <p:cNvPicPr/>
          <p:nvPr/>
        </p:nvPicPr>
        <p:blipFill>
          <a:blip r:embed="rId1"/>
          <a:stretch/>
        </p:blipFill>
        <p:spPr>
          <a:xfrm>
            <a:off x="1643040" y="214200"/>
            <a:ext cx="5024520" cy="49262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4"/>
          <p:cNvSpPr/>
          <p:nvPr/>
        </p:nvSpPr>
        <p:spPr>
          <a:xfrm>
            <a:off x="2071800" y="5500800"/>
            <a:ext cx="485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ЛУКОШ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Картинка 2 из 84000"/>
          <p:cNvPicPr/>
          <p:nvPr/>
        </p:nvPicPr>
        <p:blipFill>
          <a:blip r:embed="rId1"/>
          <a:stretch/>
        </p:blipFill>
        <p:spPr>
          <a:xfrm>
            <a:off x="611280" y="404640"/>
            <a:ext cx="7489800" cy="52689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3143160" y="571500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Е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1" descr="прялка 45.jpg"/>
          <p:cNvPicPr/>
          <p:nvPr/>
        </p:nvPicPr>
        <p:blipFill>
          <a:blip r:embed="rId1"/>
          <a:stretch/>
        </p:blipFill>
        <p:spPr>
          <a:xfrm>
            <a:off x="1714680" y="357120"/>
            <a:ext cx="3744720" cy="63356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5643720" y="2571840"/>
            <a:ext cx="32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РЯ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52920"/>
            <a:ext cx="8964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артовский свет ворвался в тёмную комнату. Он, как фокусник, в одно мгновение преобразил всё вокруг. Комната засверкала, засияла, заблестела. Даже огромный ларь, стоящий в углу,  уже не казался таким мрачны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250920" y="1253160"/>
            <a:ext cx="8107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ыло труд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еня удивил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не захотелос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ё настроение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5"/>
          <p:cNvSpPr/>
          <p:nvPr/>
        </p:nvSpPr>
        <p:spPr>
          <a:xfrm>
            <a:off x="0" y="551664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р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устаревшее) – большой деревянный ящик для хранения чего-нибудь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Мучной лар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Картинка 1465 из 671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822920" cy="3306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4716360" y="333360"/>
            <a:ext cx="41576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Цель уро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4200" y="1341000"/>
            <a:ext cx="8715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Познакомить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с  устаревшими слова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179280" y="-110880"/>
            <a:ext cx="87854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яснить, какие сло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устаревши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знать,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какую рол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игр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старевшие слова  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усском язы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иться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находи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устаревшие слов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 текс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 объяснять их зна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-12420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нега пушистые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зрывая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Летит кибитка удала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Ямщик сидит на облуч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 тулупе, в красн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ушачке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.С.Пушки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2268360" y="2708280"/>
            <a:ext cx="266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0" y="3645000"/>
            <a:ext cx="266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5867280" y="3573360"/>
            <a:ext cx="266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611280" y="4508640"/>
            <a:ext cx="2663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5715000" y="5286240"/>
            <a:ext cx="266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250920" y="4365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ибит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ытая повозка с верхом, телег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для лета) и сани (для зимы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79280" y="57337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блучо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 передняя часть повозки,  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мщ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Картинка 36 из 24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03640" cy="3267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Картинка 3 из 17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197000"/>
            <a:ext cx="3961080" cy="2971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Картинка 37 из 640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6000" y="0"/>
            <a:ext cx="31654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79280" y="4149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Ямщи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естьянин на яму (станции) для перевозки почты, грузов, 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Картинка 1 из 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81080" y="0"/>
            <a:ext cx="3292560" cy="3860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Картинка 6 из 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16360" y="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259560" y="6089040"/>
            <a:ext cx="81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уша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пояс, обычно широкий, матер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5"/>
          <a:stretch/>
        </p:blipFill>
        <p:spPr>
          <a:xfrm>
            <a:off x="5867280" y="1197000"/>
            <a:ext cx="3276720" cy="17510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179280" y="5300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Тулу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меховая шу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500040" y="714240"/>
            <a:ext cx="8429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нега пушистые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зрыва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етит кибитка удал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Ямщик сидит на облуч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 тулупе, в красн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ушачке. А.С.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8:56:52Z</dcterms:created>
  <dc:creator>Admin</dc:creator>
  <dc:description/>
  <dc:language>en-US</dc:language>
  <cp:lastModifiedBy>Adel</cp:lastModifiedBy>
  <dcterms:modified xsi:type="dcterms:W3CDTF">2014-08-03T13:09:53Z</dcterms:modified>
  <cp:revision>26</cp:revision>
  <dc:subject/>
  <dc:title>Слайд 1</dc:title>
</cp:coreProperties>
</file>