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1D23-CC26-400E-B4C9-170CF631D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6980-06B9-4019-B4F3-7C6826455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CBB6-8AFD-478E-B408-ED7F50B27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7049-8810-40D0-9937-C2994CC3E0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D262-A0A6-4F99-B60E-FF3449C62C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3494-2D03-45BD-96F9-49C8BF5C3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CD11-5AE0-447A-B666-C335DC7DA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5E01-143F-458C-9F93-B041B389F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0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EEC9-26ED-4AAA-821D-9AF033334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3FC7-013F-4A58-B092-5D93D0198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02D2-13C6-47B4-9C34-B77349C70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BCFE-BC9B-4962-A830-15F227185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3F0234-1733-4C8E-AA49-2507079D2E7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971640" y="1197000"/>
            <a:ext cx="72579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ahoma"/>
              </a:rPr>
              <a:t>Барометр-анероид. 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ahoma"/>
              </a:rPr>
              <a:t>Атмосферное давление на различных высота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826920" y="1989000"/>
            <a:ext cx="77724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2556000" y="494172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Презентацию подготови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Покотило Сергей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Аминев Артё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826920" y="76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4716360" y="13496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ля научных и житейских целей нужно уметь измерять атмосферное давление. Для этого существуют специальные приборы - барометры. Самый первый прибор для измерения атмосферного давления был изобретен...</a:t>
            </a: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1366920" cy="3960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643040" y="2276640"/>
            <a:ext cx="25718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643040" y="2276640"/>
            <a:ext cx="25718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929120" y="2276640"/>
          <a:ext cx="3605400" cy="4105080"/>
        </p:xfrm>
        <a:graphic>
          <a:graphicData uri="http://schemas.openxmlformats.org/drawingml/2006/table">
            <a:tbl>
              <a:tblPr/>
              <a:tblGrid>
                <a:gridCol w="1803600"/>
                <a:gridCol w="1801800"/>
              </a:tblGrid>
              <a:tr h="1645920"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9160"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Picture 11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1511280" cy="3960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395280" y="5157720"/>
            <a:ext cx="1873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01c01"/>
                </a:solidFill>
                <a:latin typeface="Tahoma"/>
              </a:rPr>
              <a:t>... Торричелли. Его трубка со ртутью была первым барометром</a:t>
            </a:r>
            <a:r>
              <a:rPr b="0" lang="ru-RU" sz="1800" spc="-1" strike="noStrike">
                <a:solidFill>
                  <a:srgbClr val="301c01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195640" y="5157720"/>
            <a:ext cx="2376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01c01"/>
                </a:solidFill>
                <a:latin typeface="Tahoma"/>
              </a:rPr>
              <a:t>Чашечный барометр- усовершенствованный вариант барометра Торричелли</a:t>
            </a:r>
            <a:r>
              <a:rPr b="0" lang="ru-RU" sz="1800" spc="-1" strike="noStrike">
                <a:solidFill>
                  <a:srgbClr val="301c01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4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4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69920"/>
            <a:ext cx="82296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Каких бы размеров ни брали чашку со ртутью, какого бы диаметра ни была трубка, ртуть всегда поднимется на одну и ту же высоту - 760 мм. Барометрической трубке можно придать различную форму, важно лишь одно, один конец трубки должен быть закрыт, чтобы сверху не было воздуха.</a:t>
            </a:r>
            <a:br>
              <a:rPr sz="1600"/>
            </a:b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Можно заполнить трубку кроме ртути любой жидкостью, но нужно помнить о необходимости изменения ее дли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187280" y="1990800"/>
            <a:ext cx="2376720" cy="3308400"/>
            <a:chOff x="1187280" y="1990800"/>
            <a:chExt cx="2376720" cy="3308400"/>
          </a:xfrm>
        </p:grpSpPr>
        <p:pic>
          <p:nvPicPr>
            <p:cNvPr id="53" name="Picture 3" descr=""/>
            <p:cNvPicPr/>
            <p:nvPr/>
          </p:nvPicPr>
          <p:blipFill>
            <a:blip r:embed="rId1"/>
            <a:stretch/>
          </p:blipFill>
          <p:spPr>
            <a:xfrm>
              <a:off x="1187280" y="1990800"/>
              <a:ext cx="2376720" cy="33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4"/>
            <p:cNvSpPr/>
            <p:nvPr/>
          </p:nvSpPr>
          <p:spPr>
            <a:xfrm>
              <a:off x="1187280" y="1990800"/>
              <a:ext cx="2376720" cy="33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2376360" cy="3311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00000" y="5589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1c01"/>
                </a:solidFill>
                <a:latin typeface="Tahoma"/>
              </a:rPr>
              <a:t>Водяные барометры были сооружены Паскалем </a:t>
            </a:r>
            <a:br>
              <a:rPr sz="1800"/>
            </a:br>
            <a:r>
              <a:rPr b="0" lang="ru-RU" sz="1800" spc="-1" strike="noStrike">
                <a:solidFill>
                  <a:srgbClr val="301c01"/>
                </a:solidFill>
                <a:latin typeface="Tahoma"/>
              </a:rPr>
              <a:t>(г. Руан, 1646г.)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5148360" y="5589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1c01"/>
                </a:solidFill>
                <a:latin typeface="Tahoma"/>
              </a:rPr>
              <a:t>... и Отто фон Герике</a:t>
            </a:r>
            <a:br>
              <a:rPr sz="1800"/>
            </a:br>
            <a:r>
              <a:rPr b="0" lang="ru-RU" sz="1800" spc="-1" strike="noStrike">
                <a:solidFill>
                  <a:srgbClr val="301c01"/>
                </a:solidFill>
                <a:latin typeface="Tahoma"/>
              </a:rPr>
              <a:t>(г. Магдебург, 1660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907920"/>
            <a:ext cx="835344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амый большой водяной барометр высотой 12 м был сконструирован в 1987 г. Бертом Болле, хранителем Музея барометров в Мартенсдейке, Нидерланды, где он и установл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тутные барометры дают точные показания, но требуют большой осторожности в обращении с ни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10620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Современный барометр сделан безжидкостным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-19836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. Металлические барометры менее точны, но не столь громоздки и хрупки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900000" y="2492280"/>
            <a:ext cx="5830920" cy="4364280"/>
            <a:chOff x="900000" y="2492280"/>
            <a:chExt cx="5830920" cy="4364280"/>
          </a:xfrm>
        </p:grpSpPr>
        <p:pic>
          <p:nvPicPr>
            <p:cNvPr id="65" name="Picture 3" descr=""/>
            <p:cNvPicPr/>
            <p:nvPr/>
          </p:nvPicPr>
          <p:blipFill>
            <a:blip r:embed="rId1"/>
            <a:stretch/>
          </p:blipFill>
          <p:spPr>
            <a:xfrm>
              <a:off x="900000" y="2492280"/>
              <a:ext cx="5830920" cy="436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4"/>
            <p:cNvSpPr/>
            <p:nvPr/>
          </p:nvSpPr>
          <p:spPr>
            <a:xfrm>
              <a:off x="900000" y="2492280"/>
              <a:ext cx="5830920" cy="43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473040" y="436680"/>
            <a:ext cx="821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Внутреннее устройство анеро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755640" y="89172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.. барометр-анероид – очень чувствительный прибор. Например, поднимаясь на последний этаж 9-ти этажного дома, из-за различия атмосферного давления на различной высоте мы обнаружим уменьшение атмосферного давления на 2-3 мм рт. 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50000">
              <a:srgbClr val="ffcc00"/>
            </a:gs>
            <a:gs pos="100000">
              <a:srgbClr val="7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395280" y="-20664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01c01"/>
                </a:solidFill>
                <a:latin typeface="Verdana"/>
                <a:ea typeface="Times New Roman"/>
              </a:rPr>
              <a:t>Барометр может служить для определения высоты полета самол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52728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539640" y="4026240"/>
            <a:ext cx="36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01c01"/>
                </a:solidFill>
                <a:latin typeface="Verdana"/>
                <a:ea typeface="Times New Roman"/>
              </a:rPr>
              <a:t>Такой барометр называется барометрический высотомер или альтиме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9:44:41Z</dcterms:created>
  <dc:creator>User</dc:creator>
  <dc:description/>
  <dc:language>en-US</dc:language>
  <cp:lastModifiedBy>Tata</cp:lastModifiedBy>
  <dcterms:modified xsi:type="dcterms:W3CDTF">2014-07-19T11:49:51Z</dcterms:modified>
  <cp:revision>22</cp:revision>
  <dc:subject/>
  <dc:title>Атмосферное давление</dc:title>
</cp:coreProperties>
</file>