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F6C-E99C-4B1B-8C67-DEF1245F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43B-CE53-4B59-873A-3000EC8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881-09A2-4B80-A9D5-F7685F34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0AE-34C4-420B-A0BD-38A1DD0C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649C-A342-461F-B986-74002478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1B2E-D939-475F-A658-DCCEA17E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BCA2-6A47-43F7-AA69-9424BA85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38FE-2B82-489A-9BCD-F7BB4D1C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6D7C-15FC-4891-9C7D-9BA115B3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C3A0-A7A8-42F3-BE38-B4787EF3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EDDD-3AA9-43D0-9D3D-E018BA2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F9A-84B0-4C77-BD1A-FE41A24A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1BB1-7326-43D0-947E-002900D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4D1-4FB2-4BB6-BF2E-713DF90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455A-B842-49A6-A948-C54EA9AE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C00C-5E8A-49A7-88C7-3298AF0A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7B8F-A095-4FCA-A08A-504035CB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05B1D-656A-48FD-8AED-1848B1E9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21F5B-F8F3-439E-B664-57F22DA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D3B98-F841-4EBA-96D0-B72DB992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9ED51-0264-4FCD-9C47-65B2091F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27C24-F29C-49D8-9268-E660ED6C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677-4E0A-469F-9153-3AEC145F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A4E40-6E7F-448C-B431-3CDC2248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986C1-F33C-4282-B75E-02214F7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1DD2D-648B-47AA-BEB0-56C22538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40779-6E35-4BAE-9901-6B48142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7B2B1-B52A-4E6C-9C11-3D182367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0441D-417C-4714-A433-F5EDE074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CF842-0B9F-45AF-8369-1B916900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A6C1-677C-4944-8991-8CB1890A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7856-5645-4631-9AD4-61D5866E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FED5-9146-4EA8-BBD9-871E7A70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8FE-D5D8-4B25-880B-954B1F8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2565-9FD2-4F5D-84F5-74B6C2D4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D6BC-1071-40DE-B0E1-14A2E4B3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258D-F2F4-40E7-B358-ED83D2DC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563E-E319-4F4F-BB10-8926855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C0ED-022A-432F-BEF5-39ED172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3897-A3C2-48FC-9EE3-EB52EF5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F14A-C221-4FDB-929E-4737A86C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D781-DC46-4D9B-B400-F90E4291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BF1D-56D6-4A06-878F-08848BFE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29C72-600F-4F45-BD75-E74E8558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F91-ECCA-49AF-B32B-1F2B833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9811D-C701-4AC6-A3EA-46A9B237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E8E7B-D2E1-4F92-AB9E-6407DF4E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01BB6-D932-4808-99EA-EA0C364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FA573-13DC-43A8-93FC-038F8063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755EC-EF9A-4CB4-933B-33B8DB65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A2059-0307-42A5-A133-4AE2A21E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F268E-204E-4927-9D86-02D30F2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DF18E-DD56-4395-94B7-C00BBB4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796A6-259D-4E05-B508-D63A840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2E39E-1F44-4FBE-B7CA-87933E07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30C-1ACD-4300-89D2-5FEFE91D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10A51-D0A4-49B4-8C6F-4B294B74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A045C-A529-46F0-8AD8-96501286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B1E12-D2CF-45F1-B034-7228768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537AC-D7A9-4FB0-BB09-F8F24D8F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8D2E9-C017-4C2F-AF29-7E20F8CE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55D6C-B37D-4847-8AC1-42F38A61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0AFF4-607E-45ED-84DB-17B119ED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FE26B-9494-4D30-ACDD-A363DB0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AA03F-FDA1-4F37-995A-E131BE2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F0C69-35B3-475C-946B-3B07D09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0C1-76C7-43A7-9689-C047D9D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12149-9E0C-4E25-9B58-37A4B789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A339A-4FE2-4F5B-90C4-F31FBADF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5A560-AC88-46D8-A6DC-8AF2990F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0ACFC-8F38-47E5-B939-751B7CC3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847CA-6BCC-438C-B71E-1E8D606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3D9F4-7FCF-4F58-A816-B04A1CA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09B29-F548-48B5-B56C-00B7F783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A8B20-CA92-4A28-8476-CAC2CCB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E0BD0-02CC-448C-AB8E-6FEBBDD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53C24-294C-448E-B657-8C89273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F4B-E44D-42AA-9345-48383BA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D7CDB-1E35-4F9D-A553-FC38997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2CC8B-26C5-41B8-AD8E-ACD61847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0B323-F5CF-41BE-85B1-3621CA7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A8DD8-F17E-4E26-A8BB-41EA88B2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5C01A-4E55-4D71-BBCE-5562ECCA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35A-6A33-450D-8BF9-AD56E37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5D20-6E41-4DC6-B816-27CC84FF2C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e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0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0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ea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ea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ea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27F6-7AF0-4958-A178-3609AB4B4E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074E-FC9D-4CA0-8F3C-84ABE7D95F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e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0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0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ea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ea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ea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beec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beec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eec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EBB-6BEB-45C8-9647-5E308113F0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C188-B3C1-4084-A538-DEDAECF101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4E62-DD97-4FCA-88D7-67B4B54B0C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8e2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ea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fb8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24AA-2B82-4B6B-81FF-6BC6EFE5BF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evicesearch.ru/article/enkodery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evicesearch.ru/article/datchiki-temperatury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99640" y="1428480"/>
            <a:ext cx="74869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4e3b30"/>
                </a:solidFill>
                <a:latin typeface="Century Schoolbook"/>
              </a:rPr>
              <a:t>АНЕМОМЕТРЫ</a:t>
            </a:r>
            <a:endParaRPr b="0" lang="en-US" sz="79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3928680"/>
            <a:ext cx="558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Schoolbook"/>
              </a:rPr>
              <a:t>АНЕМОМЕТР (от анемо... и ...метр), прибор для измерения скорости ветра и газовых потоков (иногда и направления ветра — анеморумбометр) по числу оборотов вращающейся вертуш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тейший анемометр это прибор измеряющий скорость ветра. В настоящий момент скорость ветра это не единственный параметр, который могут измерять эти приборы, они также в состоянии измерить температуру возду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ествует 3 вида анемометр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емометр чашечн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емометр крыльчат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рмоанемомет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0200" y="-360"/>
            <a:ext cx="7467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3b30"/>
                </a:solidFill>
                <a:latin typeface="Century Schoolbook"/>
              </a:rPr>
              <a:t>ЧАШЕЧНЫЙ</a:t>
            </a:r>
            <a:endParaRPr b="0" lang="en-US" sz="5400" spc="-1" strike="noStrike">
              <a:solidFill>
                <a:srgbClr val="4e3b30"/>
              </a:solidFill>
              <a:latin typeface="Century Schoolbook"/>
            </a:endParaRPr>
          </a:p>
        </p:txBody>
      </p:sp>
      <p:pic>
        <p:nvPicPr>
          <p:cNvPr id="356" name="Содержимое 3" descr="anem.jpg"/>
          <p:cNvPicPr/>
          <p:nvPr/>
        </p:nvPicPr>
        <p:blipFill>
          <a:blip r:embed="rId1"/>
          <a:stretch/>
        </p:blipFill>
        <p:spPr>
          <a:xfrm>
            <a:off x="3052800" y="1600200"/>
            <a:ext cx="2590920" cy="4686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Century Schoolbook"/>
              </a:rPr>
              <a:t>ЧАШЕЧНЫЙ АНЕМОМЕТР</a:t>
            </a:r>
            <a:br>
              <a:rPr sz="3000"/>
            </a:b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Чашечный анемометр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Чашечный анемометр хронологически появился раньше всех, он достаточно прост по своему устройству. На изображении показано как он может выглядеть. Название свое получил от формы лопастей полусферической формы похожих на чашки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Скорость ветра данный тип анемометров может измерять в одном направлении, перпендикулярном оси вращения. Ветер вращает чашки, и по скорости их вращения можно измерить скорость ветра (напомним, что угловую скорость можно измерить например с помощью </a:t>
            </a:r>
            <a:r>
              <a:rPr b="0" lang="ru-RU" sz="2500" spc="-1" strike="noStrike" u="sng">
                <a:solidFill>
                  <a:srgbClr val="ad1f1f"/>
                </a:solidFill>
                <a:uFillTx/>
                <a:latin typeface="Century Schoolbook"/>
                <a:hlinkClick r:id="rId1"/>
              </a:rPr>
              <a:t>энкодера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5728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3b30"/>
                </a:solidFill>
                <a:latin typeface="Century Schoolbook"/>
              </a:rPr>
              <a:t>КРЫЛЬЧАТЫЙ</a:t>
            </a:r>
            <a:endParaRPr b="0" lang="en-US" sz="5400" spc="-1" strike="noStrike">
              <a:solidFill>
                <a:srgbClr val="4e3b30"/>
              </a:solidFill>
              <a:latin typeface="Century Schoolbook"/>
            </a:endParaRPr>
          </a:p>
        </p:txBody>
      </p:sp>
      <p:pic>
        <p:nvPicPr>
          <p:cNvPr id="360" name="Содержимое 3" descr="10904_AN200NEWv2.jpg"/>
          <p:cNvPicPr/>
          <p:nvPr/>
        </p:nvPicPr>
        <p:blipFill>
          <a:blip r:embed="rId1"/>
          <a:stretch/>
        </p:blipFill>
        <p:spPr>
          <a:xfrm>
            <a:off x="2241720" y="1600200"/>
            <a:ext cx="389880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Century Schoolbook"/>
              </a:rPr>
              <a:t>КРЫЛЬЧАТЫЙ АНЕМОМЕТР</a:t>
            </a:r>
            <a:br>
              <a:rPr sz="3000"/>
            </a:b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9968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ругое его название лопастной, а по дословному переводу его названия (windmill anemometer) на русский язык также иногда называют мельничным анемометр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лавное отличие этого типа анемометра от прошлого, в том что деталь улавливающая скорость ветра выполнена в форме вентилятора. Ветер, попадая на него вращает лопасти и скорость их вращения измеряетс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своему внешнему виду крыльчатый анемометр может быть также похож на флюгер. По принципу флюгера он меняет свое направление от направления ветра, выстраиваясь вдоль его. А лопасти закрепленные на его конце вращаются со скоростью ветра. Таким образом, кроме скорости, этот прибор определяет также направление ветра, что и является его преимуществ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4e3b30"/>
                </a:solidFill>
                <a:latin typeface="Century Schoolbook"/>
              </a:rPr>
              <a:t>ТЕРМОАНЕМОМЕТР</a:t>
            </a:r>
            <a:br>
              <a:rPr sz="4900"/>
            </a:br>
            <a:endParaRPr b="0" lang="en-US" sz="4900" spc="-1" strike="noStrike">
              <a:solidFill>
                <a:srgbClr val="4e3b30"/>
              </a:solidFill>
              <a:latin typeface="Century Schoolbook"/>
            </a:endParaRPr>
          </a:p>
        </p:txBody>
      </p:sp>
      <p:pic>
        <p:nvPicPr>
          <p:cNvPr id="364" name="Содержимое 3" descr="1253743027_aso.jpg"/>
          <p:cNvPicPr/>
          <p:nvPr/>
        </p:nvPicPr>
        <p:blipFill>
          <a:blip r:embed="rId1"/>
          <a:stretch/>
        </p:blipFill>
        <p:spPr>
          <a:xfrm>
            <a:off x="2714760" y="1571760"/>
            <a:ext cx="375444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Century Schoolbook"/>
              </a:rPr>
              <a:t>ТЕРМОАНЕМОМЕТР              </a:t>
            </a:r>
            <a:br>
              <a:rPr sz="3000"/>
            </a:b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рмоанемометр по своей сути является акустическим прибором, то есть использует определение характеристик звука (а именно скорость звука), а затем эту информацию преобразует в нужный сигнал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рмоанемометр по сравнению с двумя первыми типами гораздо современнее и для систем автоматики чаще всего применяется он. Его уже можно назвать полноценным контрольно измерительным прибор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нцип действия заключается в следующем. Скорость звука меняется в зависимости от того в каком направлении она меряется, то есть можно сказать что скорость звука зависит от направления ветра . Скорость звука и измеряет этот прибор, а затем преобразует ее в скорость ветра. Но термоанемометр не был бы термо- если не определял также температуру ветра, он делает это подобно обычному </a:t>
            </a:r>
            <a:r>
              <a:rPr b="0" lang="ru-RU" sz="2000" spc="-1" strike="noStrike" u="sng">
                <a:solidFill>
                  <a:srgbClr val="ad1f1f"/>
                </a:solidFill>
                <a:uFillTx/>
                <a:latin typeface="Century Schoolbook"/>
                <a:hlinkClick r:id="rId1"/>
              </a:rPr>
              <a:t>акустическому термодатчику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4e3b30"/>
                </a:solidFill>
                <a:latin typeface="Century Schoolbook"/>
              </a:rPr>
              <a:t>СПАСИБО  ЗА ВНИМАНИЕ!</a:t>
            </a:r>
            <a:endParaRPr b="0" lang="en-US" sz="49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езентацию готовили :Нургалина Алина и      Чикунова Кс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Улыбающееся лицо 3"/>
          <p:cNvSpPr/>
          <p:nvPr/>
        </p:nvSpPr>
        <p:spPr>
          <a:xfrm>
            <a:off x="5143680" y="4000680"/>
            <a:ext cx="2071440" cy="18572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8:54:09Z</dcterms:created>
  <dc:creator>1</dc:creator>
  <dc:description/>
  <dc:language>en-US</dc:language>
  <cp:lastModifiedBy>Tata</cp:lastModifiedBy>
  <dcterms:modified xsi:type="dcterms:W3CDTF">2014-07-19T11:49:40Z</dcterms:modified>
  <cp:revision>8</cp:revision>
  <dc:subject/>
  <dc:title>Анемометры</dc:title>
</cp:coreProperties>
</file>