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gif" ContentType="image/gi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0CC-AD3A-45E0-8D53-B7B728CA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609-33CB-4C7B-AC94-73705044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EE7-465A-4375-8A83-435CCFA7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3AC-C3FB-4A9A-9198-A99D224F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59B6-39B2-4F6A-9832-8E6DA5B8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BD00-FF30-4771-9DDB-0C3395A5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D218-7FB7-4D5F-A20F-218A8CEC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B599-B86E-4ED9-AEAB-BDB48409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EBED-A9AB-42F3-8123-2A02015C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91CC-55EC-4BC9-A87F-3028A2A2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C0CA-DE95-4AFC-BA75-8A024D5E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497-BD79-4D77-95AF-38F63B7F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7EF6-9245-4D65-9B80-9D508929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651B-BE7E-469C-A91C-7807F884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2683-5DC1-45A2-8F7C-2DAFC4AD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2571-B723-4702-AB48-1D1599EB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DD00-6A78-4D5C-9892-A707D425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CF0-182E-4DCE-82BB-B8401D29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3B1-7CD0-455B-B0D4-CEB17D9E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736-9BE2-4A7E-9BDF-237AEA75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1CF5-61E4-4187-A9F5-75F7D142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5C3-BFE9-46E2-9291-7D4F0BF6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D15-56A2-4EFC-BE52-72D28020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8BC-0F45-4073-952D-CC58273A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c6ef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e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e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e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6e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6e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6e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0FBC-FA0D-426A-B2AD-BC6FBBFEBC0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AF5B-B088-48DB-B747-8D669D9F73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280" y="63000"/>
              <a:ext cx="3621960" cy="6129720"/>
              <a:chOff x="5408280" y="63000"/>
              <a:chExt cx="362196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584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40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91640"/>
                <a:ext cx="43992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500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840" y="264600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800" y="1244160"/>
                <a:ext cx="19044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1840"/>
                <a:ext cx="523800" cy="32666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6e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c6e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e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6e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6e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c6e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301320"/>
              <a:ext cx="892800" cy="825840"/>
              <a:chOff x="5653800" y="30132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640" y="475920"/>
                <a:ext cx="30528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7160" y="4010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29800"/>
              <a:chOff x="961200" y="5253480"/>
              <a:chExt cx="106236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272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e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2AA9-676D-4E86-AFC2-AC139728B311}" type="datetime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73BE-5376-4930-A1B5-ECE81F485923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791820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«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Использование переменных разных типов</a:t>
            </a: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24360" y="5157360"/>
            <a:ext cx="5000400" cy="14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олкова Вероника Михайловн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Учитель информатики и ИКТ МБОУ «СОШ №276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Тип переменно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раница 120, таблица 4.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6" descr="учебникE"/>
          <p:cNvPicPr/>
          <p:nvPr/>
        </p:nvPicPr>
        <p:blipFill>
          <a:blip r:embed="rId1"/>
          <a:stretch/>
        </p:blipFill>
        <p:spPr>
          <a:xfrm>
            <a:off x="1547640" y="1773360"/>
            <a:ext cx="53308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Типы переменных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4c72"/>
                </a:solidFill>
                <a:uFillTx/>
                <a:latin typeface="Verdana"/>
                <a:hlinkClick r:id="rId1" action="ppaction://hlinksldjump"/>
              </a:rPr>
              <a:t>Целы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ещественны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имвольны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роковы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огическ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8101080" y="5877000"/>
            <a:ext cx="720720" cy="765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26">
                <a:moveTo>
                  <a:pt x="0" y="0"/>
                </a:moveTo>
                <a:lnTo>
                  <a:pt x="21600" y="0"/>
                </a:lnTo>
                <a:lnTo>
                  <a:pt x="21600" y="22926"/>
                </a:lnTo>
                <a:lnTo>
                  <a:pt x="0" y="22926"/>
                </a:lnTo>
                <a:close/>
              </a:path>
              <a:path fill="lightenLess" w="21600" h="22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26">
                <a:moveTo>
                  <a:pt x="21600" y="0"/>
                </a:moveTo>
                <a:lnTo>
                  <a:pt x="21600" y="22926"/>
                </a:lnTo>
                <a:lnTo>
                  <a:pt x="20200" y="21526"/>
                </a:lnTo>
                <a:lnTo>
                  <a:pt x="20200" y="1400"/>
                </a:lnTo>
                <a:close/>
              </a:path>
              <a:path fill="darkenLess" w="21600" h="22926">
                <a:moveTo>
                  <a:pt x="21600" y="22926"/>
                </a:moveTo>
                <a:lnTo>
                  <a:pt x="0" y="22926"/>
                </a:lnTo>
                <a:lnTo>
                  <a:pt x="1400" y="21526"/>
                </a:lnTo>
                <a:lnTo>
                  <a:pt x="20200" y="21526"/>
                </a:lnTo>
                <a:close/>
              </a:path>
              <a:path fill="lighten" w="21600" h="22926">
                <a:moveTo>
                  <a:pt x="0" y="22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26"/>
                </a:lnTo>
                <a:close/>
              </a:path>
              <a:path fill="darken" w="21600" h="22926">
                <a:moveTo>
                  <a:pt x="14299" y="11463"/>
                </a:moveTo>
                <a:lnTo>
                  <a:pt x="3794" y="18470"/>
                </a:lnTo>
                <a:lnTo>
                  <a:pt x="3794" y="4457"/>
                </a:lnTo>
                <a:close/>
              </a:path>
              <a:path fill="darken" w="21600" h="22926">
                <a:moveTo>
                  <a:pt x="16144" y="4457"/>
                </a:moveTo>
                <a:lnTo>
                  <a:pt x="16144" y="18470"/>
                </a:lnTo>
                <a:lnTo>
                  <a:pt x="17806" y="18470"/>
                </a:lnTo>
                <a:lnTo>
                  <a:pt x="17806" y="4457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440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Целые типы переменных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95280" y="1052640"/>
            <a:ext cx="2016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urier New"/>
              </a:rPr>
              <a:t>integ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6516720" y="6021360"/>
            <a:ext cx="2016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a:=10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324000" y="4653000"/>
            <a:ext cx="2016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B:=-30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324000" y="6093000"/>
            <a:ext cx="2232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p:=34521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324000" y="5373720"/>
            <a:ext cx="3456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St:=-12783.40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250920" y="3197160"/>
            <a:ext cx="28083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d1:=2345110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708360" y="4005360"/>
            <a:ext cx="15843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y:=1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419640" y="3284640"/>
            <a:ext cx="2304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x:=-12.6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3780000" y="4653000"/>
            <a:ext cx="2447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z:=230,06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3995640" y="5373720"/>
            <a:ext cx="2232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tr:=-125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4067280" y="6078600"/>
            <a:ext cx="21603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y:=60200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6227640" y="3357720"/>
            <a:ext cx="2376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q:=400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227640" y="4005360"/>
            <a:ext cx="2376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w:=456.04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6443640" y="4653000"/>
            <a:ext cx="23763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e:=-15000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6516720" y="5300640"/>
            <a:ext cx="23763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w:=14.4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250920" y="3860640"/>
            <a:ext cx="23763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v:=</a:t>
            </a:r>
            <a:r>
              <a:rPr b="0" lang="ru-RU" sz="2800" spc="-1" strike="noStrike">
                <a:solidFill>
                  <a:srgbClr val="006699"/>
                </a:solidFill>
                <a:latin typeface="Courier New"/>
              </a:rPr>
              <a:t>555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.4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50920" y="191628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. 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Переменная объявлена как целая, верны ли следующие запис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Правильные ответы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7"/>
          <p:cNvSpPr/>
          <p:nvPr/>
        </p:nvSpPr>
        <p:spPr>
          <a:xfrm>
            <a:off x="6516720" y="4925880"/>
            <a:ext cx="2016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a:=10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395280" y="2997360"/>
            <a:ext cx="2016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B:=-30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324000" y="4724280"/>
            <a:ext cx="2232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p:=34521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324000" y="3716280"/>
            <a:ext cx="3240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St:=-12783.40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250920" y="1700280"/>
            <a:ext cx="28083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d1:=2345110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3708360" y="2909880"/>
            <a:ext cx="15843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y:=1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3419640" y="2189160"/>
            <a:ext cx="2304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x:=-12.6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3780000" y="3557520"/>
            <a:ext cx="2447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z:=230,06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3995640" y="4278240"/>
            <a:ext cx="2232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tr:=-125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4067280" y="4983120"/>
            <a:ext cx="21603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y:=60200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6227640" y="2262240"/>
            <a:ext cx="2376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q:=400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6227640" y="2909880"/>
            <a:ext cx="2376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w:=456.04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6443640" y="3557520"/>
            <a:ext cx="23763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e:=-15000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6516720" y="4205160"/>
            <a:ext cx="23763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w:=14.4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395280" y="2349360"/>
            <a:ext cx="23763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v:=</a:t>
            </a:r>
            <a:r>
              <a:rPr b="0" lang="ru-RU" sz="2800" spc="-1" strike="noStrike">
                <a:solidFill>
                  <a:srgbClr val="006699"/>
                </a:solidFill>
                <a:latin typeface="Courier New"/>
              </a:rPr>
              <a:t>555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.4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Text Box 44"/>
          <p:cNvSpPr/>
          <p:nvPr/>
        </p:nvSpPr>
        <p:spPr>
          <a:xfrm>
            <a:off x="663480" y="868320"/>
            <a:ext cx="18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ерн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6458040" y="83664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Неверн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AutoShape 46"/>
          <p:cNvSpPr/>
          <p:nvPr/>
        </p:nvSpPr>
        <p:spPr>
          <a:xfrm>
            <a:off x="8101080" y="5977080"/>
            <a:ext cx="720720" cy="691920"/>
          </a:xfrm>
          <a:custGeom>
            <a:avLst/>
            <a:gdLst>
              <a:gd name="textAreaLeft" fmla="*/ 44640 w 720720"/>
              <a:gd name="textAreaRight" fmla="*/ 676080 w 720720"/>
              <a:gd name="textAreaTop" fmla="*/ 44640 h 691920"/>
              <a:gd name="textAreaBottom" fmla="*/ 647280 h 691920"/>
            </a:gdLst>
            <a:ahLst/>
            <a:rect l="textAreaLeft" t="textAreaTop" r="textAreaRight" b="textAreaBottom"/>
            <a:pathLst>
              <a:path w="22499" h="21600">
                <a:moveTo>
                  <a:pt x="0" y="0"/>
                </a:moveTo>
                <a:lnTo>
                  <a:pt x="22499" y="0"/>
                </a:lnTo>
                <a:lnTo>
                  <a:pt x="22499" y="21600"/>
                </a:lnTo>
                <a:lnTo>
                  <a:pt x="0" y="21600"/>
                </a:lnTo>
                <a:close/>
              </a:path>
              <a:path fill="lightenLess" w="22499" h="21600">
                <a:moveTo>
                  <a:pt x="0" y="0"/>
                </a:moveTo>
                <a:lnTo>
                  <a:pt x="22499" y="0"/>
                </a:lnTo>
                <a:lnTo>
                  <a:pt x="21099" y="1400"/>
                </a:lnTo>
                <a:lnTo>
                  <a:pt x="1400" y="1400"/>
                </a:lnTo>
                <a:close/>
              </a:path>
              <a:path fill="darken" w="22499" h="21600">
                <a:moveTo>
                  <a:pt x="22499" y="0"/>
                </a:moveTo>
                <a:lnTo>
                  <a:pt x="22499" y="21600"/>
                </a:lnTo>
                <a:lnTo>
                  <a:pt x="21099" y="20200"/>
                </a:lnTo>
                <a:lnTo>
                  <a:pt x="21099" y="1400"/>
                </a:lnTo>
                <a:close/>
              </a:path>
              <a:path fill="darkenLess" w="22499" h="21600">
                <a:moveTo>
                  <a:pt x="224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9" y="20200"/>
                </a:lnTo>
                <a:close/>
              </a:path>
              <a:path fill="lighten" w="224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99" h="21600">
                <a:moveTo>
                  <a:pt x="7750" y="10800"/>
                </a:moveTo>
                <a:lnTo>
                  <a:pt x="18256" y="3794"/>
                </a:lnTo>
                <a:lnTo>
                  <a:pt x="18256" y="17806"/>
                </a:lnTo>
                <a:close/>
              </a:path>
              <a:path fill="darken" w="22499" h="21600">
                <a:moveTo>
                  <a:pt x="4243" y="3794"/>
                </a:moveTo>
                <a:lnTo>
                  <a:pt x="5905" y="3794"/>
                </a:lnTo>
                <a:lnTo>
                  <a:pt x="5905" y="17806"/>
                </a:lnTo>
                <a:lnTo>
                  <a:pt x="424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577 0.00625 C 0.19045 -0.00949 0.19601 -0.02477 0.2007 -0.04051 C 0.19966 -0.05185 0.20018 -0.06343 0.19775 -0.07477 C 0.19462 -0.09005 0.17535 -0.09144 0.16441 -0.0963 C 0.14775 -0.10417 0.13334 -0.11412 0.11632 -0.1213 C 0.10122 -0.12037 0.08559 -0.12153 0.07101 -0.11806 C 0.06736 -0.11736 0.06788 -0.11111 0.06493 -0.1088 C 0.06233 -0.10648 0.05903 -0.10671 0.05591 -0.10579 C 0.0375 -0.08681 0.03854 -0.08542 0.0257 -0.06528 C 0.02223 -0.05486 0.02483 -0.05834 0.01979 -0.05301 E">
                                      <p:cBhvr>
                                        <p:cTn id="182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-2.22222E-006 C 0.04236 -0.00416 0.04549 -0.01435 0.06111 -0.02916 C 0.06354 -0.03148 0.06719 -0.03241 0.06945 -0.03449 C 0.0809 -0.04421 0.09167 -0.05578 0.10261 -0.0662 C 0.10851 -0.07199 0.11511 -0.07731 0.12205 -0.08194 C 0.12448 -0.08356 0.12761 -0.08356 0.13021 -0.08472 C 0.13299 -0.08611 0.13594 -0.08819 0.13854 -0.09004 C 0.15295 -0.1 0.16719 -0.11088 0.18264 -0.11898 C 0.19427 -0.12477 0.20695 -0.12893 0.21875 -0.13472 C 0.23386 -0.1419 0.24636 -0.15185 0.26285 -0.15602 C 0.28247 -0.17014 0.29896 -0.17639 0.32361 -0.17963 C 0.34844 -0.19143 0.36893 -0.19583 0.39549 -0.20069 C 0.39931 -0.20139 0.40278 -0.20208 0.4066 -0.20347 C 0.41042 -0.20486 0.41337 -0.20787 0.41754 -0.20879 C 0.42656 -0.21065 0.43594 -0.21041 0.44531 -0.21134 C 0.46858 -0.21597 0.49132 -0.21921 0.51441 -0.22453 C 0.53195 -0.22291 0.54948 -0.22245 0.56684 -0.21944 C 0.56997 -0.21898 0.57205 -0.21528 0.575 -0.21412 C 0.57934 -0.2125 0.58438 -0.21227 0.58889 -0.21134 C 0.59636 -0.20972 0.60382 -0.20833 0.61111 -0.20602 C 0.61667 -0.20416 0.62761 -0.20069 0.62761 -0.20046 C 0.63924 -0.18379 0.64983 -0.1662 0.64983 -0.14537 E">
                                      <p:cBhvr>
                                        <p:cTn id="184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06019 C 0.01198 -0.07523 0.0191 -0.08635 0.02917 -0.09838 C 0.03733 -0.10834 0.04236 -0.11945 0.0507 -0.12894 C 0.05625 -0.13519 0.06545 -0.13912 0.0724 -0.14422 C 0.09115 -0.15787 0.10729 -0.16968 0.13108 -0.17732 C 0.17344 -0.20533 0.12466 -0.17593 0.15868 -0.18982 C 0.16354 -0.19167 0.16667 -0.19514 0.17118 -0.19746 C 0.17934 -0.20116 0.19584 -0.20764 0.19584 -0.20741 C 0.20834 -0.22269 0.1941 -0.20811 0.21459 -0.22014 C 0.21789 -0.22246 0.22049 -0.22547 0.22344 -0.22801 C 0.23507 -0.23611 0.25573 -0.24445 0.26997 -0.24815 C 0.30417 -0.26968 0.35816 -0.27848 0.39966 -0.28125 C 0.43403 -0.29954 0.52934 -0.28681 0.54497 -0.28635 C 0.56615 -0.28033 0.53976 -0.28704 0.57587 -0.28125 C 0.58976 -0.27894 0.60104 -0.27547 0.6158 -0.27338 C 0.62813 -0.27037 0.64028 -0.26852 0.6533 -0.26852 E">
                                      <p:cBhvr>
                                        <p:cTn id="186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00649 C 0.01493 0.00996 0.06615 0.01667 0.11979 0.02408 C 0.14878 0.0382 0.10503 0.01713 0.14132 0.03287 C 0.15799 0.04028 0.17274 0.04885 0.1901 0.0551 C 0.19913 0.06204 0.21285 0.06575 0.22066 0.07315 C 0.24531 0.09676 0.23194 0.08565 0.26059 0.10649 C 0.26875 0.11227 0.27396 0.12061 0.28194 0.12639 C 0.28698 0.13727 0.29549 0.14746 0.30677 0.15556 C 0.30816 0.16088 0.31146 0.17894 0.31563 0.18218 C 0.3191 0.18496 0.33073 0.1845 0.3217 0.1845 E">
                                      <p:cBhvr>
                                        <p:cTn id="188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6 -0.11991 C -0.0092 -0.12084 -0.02587 -0.12037 -0.04254 -0.12269 C -0.04879 -0.12361 -0.05434 -0.12894 -0.06059 -0.13056 C -0.08386 -0.13681 -0.10695 -0.14306 -0.13056 -0.14676 C -0.16389 -0.16158 -0.2 -0.1507 -0.23455 -0.14676 C -0.27917 -0.13426 -0.29011 -0.13866 -0.35452 -0.13866 E">
                                      <p:cBhvr>
                                        <p:cTn id="190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4861 C -0.02031 0.06134 -0.01319 0.06042 -0.00347 0.06458 C 0.01337 0.07199 0.03004 0.08241 0.04653 0.09121 C 0.06163 0.09931 0.07691 0.10579 0.09045 0.11783 C 0.10712 0.13264 0.11962 0.15486 0.13837 0.16574 C 0.14601 0.17014 0.14879 0.16898 0.15851 0.17107 C 0.18559 0.17662 0.2132 0.17732 0.24045 0.18195 C 0.25087 0.18634 0.24445 0.18449 0.26042 0.18449 E">
                                      <p:cBhvr>
                                        <p:cTn id="192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906 -0.31597 C 0.18541 -0.32013 0.18194 -0.32476 0.17812 -0.32731 C 0.17378 -0.33032 0.1691 -0.32986 0.16475 -0.33333 C 0.16232 -0.33518 0.16059 -0.34213 0.15816 -0.34444 C 0.14982 -0.35347 0.14028 -0.35439 0.13177 -0.36111 C 0.09132 -0.34699 0.05087 -0.33032 0.01024 -0.32199 C -0.02952 -0.28796 -0.08368 -0.29838 -0.12639 -0.29351 C -0.16146 -0.28171 -0.19722 -0.28426 -0.23229 -0.27638 C -0.22882 -0.24074 -0.23004 -0.26157 -0.23004 -0.21412 E">
                                      <p:cBhvr>
                                        <p:cTn id="194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39 -0.29583 C 0.04409 -0.28217 0.03611 -0.28379 0.02534 -0.28264 C -0.00851 -0.27893 -0.04549 -0.27847 -0.07865 -0.27731 C -0.17188 -0.26944 -0.12118 -0.27268 -0.23056 -0.26921 C -0.23386 -0.26829 -0.23785 -0.26898 -0.24063 -0.26643 C -0.26163 -0.24629 -0.23056 -0.2618 -0.25052 -0.25324 C -0.275 -0.23171 -0.30104 -0.23449 -0.33056 -0.23449 E">
                                      <p:cBhvr>
                                        <p:cTn id="19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29 -0.06412 C -0.03073 -0.06944 -0.04966 -0.07153 -0.06927 -0.07754 C -0.08924 -0.07662 -0.10938 -0.07708 -0.12934 -0.07477 C -0.13837 -0.07384 -0.13854 -0.06852 -0.14531 -0.06412 C -0.15608 -0.05694 -0.16771 -0.0493 -0.17934 -0.0456 C -0.19219 -0.03472 -0.21007 -0.02338 -0.22136 -0.0081 C -0.22361 -0.00486 -0.22466 -0.00023 -0.22726 0.00255 C -0.24358 0.02014 -0.26354 0.03542 -0.28143 0.05047 C -0.2915 0.0588 -0.29948 0.07107 -0.30938 0.07986 C -0.32709 0.0956 -0.34861 0.10162 -0.36528 0.11991 C -0.37031 0.12547 -0.38281 0.14028 -0.38733 0.15185 C -0.39167 0.16297 -0.39445 0.17199 -0.40139 0.18102 C -0.40278 0.18727 -0.40365 0.19375 -0.40538 0.19977 C -0.40643 0.20347 -0.40834 0.20672 -0.40938 0.21042 C -0.41111 0.21621 -0.41597 0.23935 -0.41927 0.24769 C -0.42726 0.26736 -0.44011 0.28125 -0.4474 0.30116 C -0.45243 0.31459 -0.45747 0.32338 -0.46337 0.33588 C -0.4691 0.34792 -0.47466 0.35926 -0.48143 0.37037 C -0.48299 0.37292 -0.48351 0.37639 -0.48542 0.37847 C -0.4941 0.3882 -0.50625 0.39121 -0.51528 0.39977 C -0.51754 0.40209 -0.51893 0.40579 -0.52136 0.40787 C -0.53681 0.4206 -0.56841 0.4176 -0.58143 0.41852 C -0.59948 0.42176 -0.5908 0.41898 -0.60729 0.42639 C -0.61632 0.43033 -0.63542 0.43172 -0.63542 0.43195 C -0.64809 0.43773 -0.65955 0.44236 -0.67327 0.44236 E">
                                      <p:cBhvr>
                                        <p:cTn id="198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25 -0.24537 C 0.0092 -0.24699 -0.01181 -0.2463 -0.03264 -0.2544 C -0.07083 -0.25231 -0.10886 -0.25255 -0.14688 -0.24768 C -0.16285 -0.2456 -0.18177 -0.23032 -0.19913 -0.22685 C -0.21215 -0.22014 -0.22396 -0.21574 -0.23785 -0.21296 C -0.24601 -0.20301 -0.24983 -0.20694 -0.25903 -0.20139 C -0.26962 -0.19491 -0.27969 -0.18773 -0.29011 -0.18055 C -0.30347 -0.1713 -0.31563 -0.15856 -0.32865 -0.14838 C -0.33507 -0.14329 -0.3434 -0.14329 -0.35 -0.13889 C -0.3592 -0.13241 -0.36858 -0.12592 -0.37708 -0.11829 C -0.39097 -0.10532 -0.37813 -0.11088 -0.39254 -0.10648 C -0.4092 -0.08704 -0.38663 -0.11204 -0.40608 -0.09514 C -0.40833 -0.09305 -0.40955 -0.08981 -0.41181 -0.08796 C -0.42952 -0.07384 -0.41771 -0.08796 -0.43316 -0.0743 C -0.43524 -0.07222 -0.43681 -0.06921 -0.43906 -0.06713 C -0.44271 -0.06366 -0.45052 -0.05787 -0.45052 -0.05764 C -0.45504 -0.03611 -0.44844 -0.05926 -0.45833 -0.04398 C -0.46285 -0.03704 -0.46458 -0.02731 -0.46997 -0.02106 C -0.47222 -0.01829 -0.47535 -0.0169 -0.47761 -0.01389 C -0.48594 -0.00417 -0.49288 0.00579 -0.50278 0.01366 C -0.5217 0.04421 -0.53594 0.05093 -0.56285 0.0669 C -0.56892 0.07083 -0.57483 0.07477 -0.58212 0.07616 C -0.60938 0.08171 -0.63767 0.08079 -0.66528 0.08079 E">
                                      <p:cBhvr>
                                        <p:cTn id="200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52 0.05903 C 0.03142 0.07963 0.01909 0.09676 0.00902 0.11296 C 0.00156 0.12569 -0.01146 0.14097 -0.02396 0.14676 C -0.02986 0.14954 -0.03646 0.15069 -0.04236 0.15347 C -0.07778 0.16991 -0.11459 0.17778 -0.15313 0.18055 C -0.27292 0.17963 -0.41007 0.24398 -0.51268 0.17592 C -0.52518 0.16782 -0.50625 0.1743 -0.52518 0.16944 C -0.53854 0.15949 -0.52309 0.16944 -0.54966 0.1625 C -0.55278 0.1618 -0.55486 0.15879 -0.55799 0.1581 C -0.5625 0.15671 -0.56754 0.15671 -0.5724 0.15579 C -0.57848 0.15347 -0.59063 0.14907 -0.59063 0.1493 E">
                                      <p:cBhvr>
                                        <p:cTn id="20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Вещественные типы переменных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1.17*10</a:t>
            </a:r>
            <a:r>
              <a:rPr b="0" lang="en-US" sz="3200" spc="-1" strike="noStrike" baseline="30000">
                <a:solidFill>
                  <a:srgbClr val="006699"/>
                </a:solidFill>
                <a:latin typeface="Verdana"/>
              </a:rPr>
              <a:t>8               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1.17E+0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62.05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*10</a:t>
            </a:r>
            <a:r>
              <a:rPr b="0" lang="ru-RU" sz="2800" spc="-1" strike="noStrike" baseline="30000">
                <a:solidFill>
                  <a:srgbClr val="006699"/>
                </a:solidFill>
                <a:latin typeface="Verdana"/>
              </a:rPr>
              <a:t>-2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6.205*10</a:t>
            </a:r>
            <a:r>
              <a:rPr b="0" lang="en-US" sz="2800" spc="-1" strike="noStrike" baseline="30000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*10</a:t>
            </a:r>
            <a:r>
              <a:rPr b="0" lang="ru-RU" sz="2800" spc="-1" strike="noStrike" baseline="30000">
                <a:solidFill>
                  <a:srgbClr val="006699"/>
                </a:solidFill>
                <a:latin typeface="Verdana"/>
              </a:rPr>
              <a:t>-2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6.205E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68360" y="907920"/>
            <a:ext cx="1582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urier New"/>
              </a:rPr>
              <a:t>rea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68360" y="2781360"/>
          <a:ext cx="8280360" cy="2687400"/>
        </p:xfrm>
        <a:graphic>
          <a:graphicData uri="http://schemas.openxmlformats.org/drawingml/2006/table">
            <a:tbl>
              <a:tblPr/>
              <a:tblGrid>
                <a:gridCol w="2070000"/>
                <a:gridCol w="2070000"/>
                <a:gridCol w="2070360"/>
                <a:gridCol w="2070000"/>
              </a:tblGrid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.1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+0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743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нак мантисс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антисс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число от 1 до 10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имвол, заменяющий 1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рядок степени числа 10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со знаком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AutoShape 35"/>
          <p:cNvSpPr/>
          <p:nvPr/>
        </p:nvSpPr>
        <p:spPr>
          <a:xfrm>
            <a:off x="349236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8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Text Box 36"/>
          <p:cNvSpPr/>
          <p:nvPr/>
        </p:nvSpPr>
        <p:spPr>
          <a:xfrm>
            <a:off x="675720" y="1557360"/>
            <a:ext cx="77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Экспоненциальная форма записи вещественного числ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24364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Переведите в</a:t>
            </a: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экспоненциальную форму вещественное число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4560" y="1600200"/>
            <a:ext cx="280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9.1*10</a:t>
            </a:r>
            <a:r>
              <a:rPr b="0" lang="ru-RU" sz="3200" spc="-1" strike="noStrike" baseline="30000">
                <a:solidFill>
                  <a:srgbClr val="006699"/>
                </a:solidFill>
                <a:latin typeface="Verdana"/>
              </a:rPr>
              <a:t>2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0.17*10</a:t>
            </a:r>
            <a:r>
              <a:rPr b="0" lang="ru-RU" sz="32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0.005*10</a:t>
            </a:r>
            <a:r>
              <a:rPr b="0" lang="ru-RU" sz="32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0.022*10</a:t>
            </a:r>
            <a:r>
              <a:rPr b="0" lang="ru-RU" sz="3200" spc="-1" strike="noStrike" baseline="30000">
                <a:solidFill>
                  <a:srgbClr val="006699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4.2*10</a:t>
            </a:r>
            <a:r>
              <a:rPr b="0" lang="ru-RU" sz="3200" spc="-1" strike="noStrike" baseline="30000">
                <a:solidFill>
                  <a:srgbClr val="006699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Объект 2"/>
          <p:cNvSpPr/>
          <p:nvPr/>
        </p:nvSpPr>
        <p:spPr>
          <a:xfrm>
            <a:off x="6443640" y="1484280"/>
            <a:ext cx="2700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9.1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+2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8244000" y="602136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7325" y="10800"/>
                </a:moveTo>
                <a:lnTo>
                  <a:pt x="17830" y="3794"/>
                </a:lnTo>
                <a:lnTo>
                  <a:pt x="17830" y="17806"/>
                </a:lnTo>
                <a:close/>
              </a:path>
              <a:path fill="darken" w="21648" h="21600">
                <a:moveTo>
                  <a:pt x="3818" y="3794"/>
                </a:moveTo>
                <a:lnTo>
                  <a:pt x="5480" y="3794"/>
                </a:lnTo>
                <a:lnTo>
                  <a:pt x="5480" y="17806"/>
                </a:lnTo>
                <a:lnTo>
                  <a:pt x="381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Объект 2"/>
          <p:cNvSpPr/>
          <p:nvPr/>
        </p:nvSpPr>
        <p:spPr>
          <a:xfrm>
            <a:off x="6443640" y="206064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7E+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Объект 2"/>
          <p:cNvSpPr/>
          <p:nvPr/>
        </p:nvSpPr>
        <p:spPr>
          <a:xfrm>
            <a:off x="6443640" y="270828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5E-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Объект 2"/>
          <p:cNvSpPr/>
          <p:nvPr/>
        </p:nvSpPr>
        <p:spPr>
          <a:xfrm>
            <a:off x="6443640" y="3357720"/>
            <a:ext cx="20876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2E+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Объект 2"/>
          <p:cNvSpPr/>
          <p:nvPr/>
        </p:nvSpPr>
        <p:spPr>
          <a:xfrm>
            <a:off x="6515280" y="4005360"/>
            <a:ext cx="230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42E+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782520" y="12682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2771640" y="1484280"/>
            <a:ext cx="0" cy="3168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Line 12"/>
          <p:cNvSpPr/>
          <p:nvPr/>
        </p:nvSpPr>
        <p:spPr>
          <a:xfrm>
            <a:off x="6227640" y="1484280"/>
            <a:ext cx="0" cy="3168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79280" y="4713120"/>
          <a:ext cx="7775640" cy="1957680"/>
        </p:xfrm>
        <a:graphic>
          <a:graphicData uri="http://schemas.openxmlformats.org/drawingml/2006/table">
            <a:tbl>
              <a:tblPr/>
              <a:tblGrid>
                <a:gridCol w="1944720"/>
                <a:gridCol w="1943280"/>
                <a:gridCol w="1944720"/>
                <a:gridCol w="1942920"/>
              </a:tblGrid>
              <a:tr h="582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.1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+0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нак мантисс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антисс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число от 1 до 10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имвол, заменяющий 1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рядок степени числа 10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со знаком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44000" cy="5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Символьный тип переменных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39640" y="1197000"/>
            <a:ext cx="1366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urier New"/>
              </a:rPr>
              <a:t>cha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11280" y="2205000"/>
            <a:ext cx="5688000" cy="2986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begi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a:='И'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b:='К'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с:='Т'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writeln(a,b,c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end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619280" y="5805360"/>
            <a:ext cx="7093080" cy="648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99"/>
                </a:solidFill>
                <a:latin typeface="Arial"/>
              </a:rPr>
              <a:t>Значения для символьных данных 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99"/>
                </a:solidFill>
                <a:latin typeface="Arial"/>
              </a:rPr>
              <a:t>записываются в апострофах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WordArt 7"/>
          <p:cNvSpPr txBox="1"/>
          <p:nvPr/>
        </p:nvSpPr>
        <p:spPr>
          <a:xfrm>
            <a:off x="1692360" y="5805360"/>
            <a:ext cx="180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!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8" name="AutoShape 8"/>
          <p:cNvSpPr/>
          <p:nvPr/>
        </p:nvSpPr>
        <p:spPr>
          <a:xfrm>
            <a:off x="8172360" y="333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8519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6674" y="3794"/>
                </a:lnTo>
                <a:lnTo>
                  <a:pt x="6674" y="17806"/>
                </a:lnTo>
                <a:lnTo>
                  <a:pt x="5012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Строковый тип переменных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468360" y="765000"/>
            <a:ext cx="1800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539640" y="1844640"/>
            <a:ext cx="5688000" cy="3972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begi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a:='</a:t>
            </a:r>
            <a:r>
              <a:rPr b="0" lang="ru-RU" sz="2800" spc="-1" strike="noStrike">
                <a:solidFill>
                  <a:srgbClr val="006699"/>
                </a:solidFill>
                <a:latin typeface="Courier New"/>
              </a:rPr>
              <a:t>Информатика'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c:='</a:t>
            </a:r>
            <a:r>
              <a:rPr b="0" lang="ru-RU" sz="2800" spc="-1" strike="noStrike">
                <a:solidFill>
                  <a:srgbClr val="006699"/>
                </a:solidFill>
                <a:latin typeface="Courier New"/>
              </a:rPr>
              <a:t>и'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b:='</a:t>
            </a:r>
            <a:r>
              <a:rPr b="0" lang="ru-RU" sz="2800" spc="-1" strike="noStrike">
                <a:solidFill>
                  <a:srgbClr val="006699"/>
                </a:solidFill>
                <a:latin typeface="Courier New"/>
              </a:rPr>
              <a:t>ИКТ'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writeln(a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Writeln(c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Writeln(b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end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744280" y="105264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трока символ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5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Распределите на две группы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8360" y="2349360"/>
          <a:ext cx="8229600" cy="4427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har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tring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Text Box 32"/>
          <p:cNvSpPr/>
          <p:nvPr/>
        </p:nvSpPr>
        <p:spPr>
          <a:xfrm>
            <a:off x="329040" y="98100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‘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BC’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Text Box 33"/>
          <p:cNvSpPr/>
          <p:nvPr/>
        </p:nvSpPr>
        <p:spPr>
          <a:xfrm>
            <a:off x="1516680" y="98100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‘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’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Text Box 44"/>
          <p:cNvSpPr/>
          <p:nvPr/>
        </p:nvSpPr>
        <p:spPr>
          <a:xfrm>
            <a:off x="2259000" y="98100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‘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Тип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’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3400920" y="9810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‘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F’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Text Box 46"/>
          <p:cNvSpPr/>
          <p:nvPr/>
        </p:nvSpPr>
        <p:spPr>
          <a:xfrm>
            <a:off x="4194000" y="98100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‘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Dt’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5151600" y="98100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‘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имвол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’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Text Box 48"/>
          <p:cNvSpPr/>
          <p:nvPr/>
        </p:nvSpPr>
        <p:spPr>
          <a:xfrm>
            <a:off x="6906240" y="981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‘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+b’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Text Box 49"/>
          <p:cNvSpPr/>
          <p:nvPr/>
        </p:nvSpPr>
        <p:spPr>
          <a:xfrm>
            <a:off x="826920" y="1700280"/>
            <a:ext cx="6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‘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+’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Text Box 50"/>
          <p:cNvSpPr/>
          <p:nvPr/>
        </p:nvSpPr>
        <p:spPr>
          <a:xfrm>
            <a:off x="2324520" y="162864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‘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ю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’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Text Box 52"/>
          <p:cNvSpPr/>
          <p:nvPr/>
        </p:nvSpPr>
        <p:spPr>
          <a:xfrm>
            <a:off x="5715000" y="162864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‘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*’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Text Box 53"/>
          <p:cNvSpPr/>
          <p:nvPr/>
        </p:nvSpPr>
        <p:spPr>
          <a:xfrm>
            <a:off x="6705720" y="16286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‘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’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3924720" y="16286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‘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har’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AutoShape 57"/>
          <p:cNvSpPr/>
          <p:nvPr/>
        </p:nvSpPr>
        <p:spPr>
          <a:xfrm>
            <a:off x="8280360" y="14292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7301" y="12072"/>
                </a:moveTo>
                <a:lnTo>
                  <a:pt x="17806" y="5065"/>
                </a:lnTo>
                <a:lnTo>
                  <a:pt x="17806" y="19078"/>
                </a:lnTo>
                <a:close/>
              </a:path>
              <a:path fill="darken" w="21600" h="24144">
                <a:moveTo>
                  <a:pt x="3794" y="5065"/>
                </a:moveTo>
                <a:lnTo>
                  <a:pt x="5456" y="5065"/>
                </a:lnTo>
                <a:lnTo>
                  <a:pt x="5456" y="19078"/>
                </a:lnTo>
                <a:lnTo>
                  <a:pt x="3794" y="19078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11111E-006 L 0.79167 0.30255 E">
                                      <p:cBhvr>
                                        <p:cTn id="235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0.27188 0.31319 E">
                                      <p:cBhvr>
                                        <p:cTn id="237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11111E-006 L 0.57361 0.38657 E">
                                      <p:cBhvr>
                                        <p:cTn id="239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1111E-006 L 0.0625 0.39722 E">
                                      <p:cBhvr>
                                        <p:cTn id="241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111E-006 L 0.38264 0.48102 E">
                                      <p:cBhvr>
                                        <p:cTn id="243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0.19983 0.57569 E">
                                      <p:cBhvr>
                                        <p:cTn id="245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0.08351 0.68055 E">
                                      <p:cBhvr>
                                        <p:cTn id="247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 L 0.33455 0.38681 E">
                                      <p:cBhvr>
                                        <p:cTn id="249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0.17483 0.48125 E">
                                      <p:cBhvr>
                                        <p:cTn id="251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40261 0.65973 E">
                                      <p:cBhvr>
                                        <p:cTn id="253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-0.19045 0.5757 E">
                                      <p:cBhvr>
                                        <p:cTn id="255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-0.29496 0.67014 E">
                                      <p:cBhvr>
                                        <p:cTn id="257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Логический тип переменных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ли 0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‘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а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’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или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‘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ет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’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rue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ли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ls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39640" y="1052640"/>
            <a:ext cx="2160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urier New"/>
              </a:rPr>
              <a:t>boolea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8172360" y="587700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  <a:path fill="darken" w="21600" h="24036">
                <a:moveTo>
                  <a:pt x="7301" y="12018"/>
                </a:moveTo>
                <a:lnTo>
                  <a:pt x="17806" y="5012"/>
                </a:lnTo>
                <a:lnTo>
                  <a:pt x="17806" y="19024"/>
                </a:lnTo>
                <a:close/>
              </a:path>
              <a:path fill="darken" w="21600" h="24036">
                <a:moveTo>
                  <a:pt x="3794" y="5012"/>
                </a:moveTo>
                <a:lnTo>
                  <a:pt x="5456" y="5012"/>
                </a:lnTo>
                <a:lnTo>
                  <a:pt x="5456" y="19024"/>
                </a:lnTo>
                <a:lnTo>
                  <a:pt x="3794" y="19024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95280" y="4005360"/>
            <a:ext cx="568800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begi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d:=4&gt;7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Writeln(d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end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7236000" y="45086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FAL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AutoShape 9"/>
          <p:cNvSpPr/>
          <p:nvPr/>
        </p:nvSpPr>
        <p:spPr>
          <a:xfrm>
            <a:off x="6227640" y="4653000"/>
            <a:ext cx="863640" cy="288720"/>
          </a:xfrm>
          <a:prstGeom prst="rightArrow">
            <a:avLst>
              <a:gd name="adj1" fmla="val 50000"/>
              <a:gd name="adj2" fmla="val 74782"/>
            </a:avLst>
          </a:prstGeom>
          <a:solidFill>
            <a:srgbClr val="008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24364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Повторение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такое алгоритм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ими свойствами он обладает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ие алгоритмические структуры вы знает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Значение переменной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начение переменной – это то, что хранится в ней в данный момен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начение переменной не зависит от имени переменной, а тип переменной зависит от ее значения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826920" y="5229360"/>
            <a:ext cx="20163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d:=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4.3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AutoShape 11"/>
          <p:cNvSpPr/>
          <p:nvPr/>
        </p:nvSpPr>
        <p:spPr>
          <a:xfrm>
            <a:off x="3132000" y="5300640"/>
            <a:ext cx="1079640" cy="360360"/>
          </a:xfrm>
          <a:prstGeom prst="rightArrow">
            <a:avLst>
              <a:gd name="adj1" fmla="val 50000"/>
              <a:gd name="adj2" fmla="val 74900"/>
            </a:avLst>
          </a:prstGeom>
          <a:solidFill>
            <a:srgbClr val="008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4208040" y="5264280"/>
            <a:ext cx="46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Переменная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d </a:t>
            </a: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 вещественного тип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Описание переменных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Можно описывать несколько переменных одного типа в одной строке. Например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684360" y="836640"/>
            <a:ext cx="7920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Var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имя переменной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: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тип переменной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611280" y="2414520"/>
            <a:ext cx="5688000" cy="4466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program qq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urier New"/>
              </a:rPr>
              <a:t>Var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Courier New"/>
              </a:rPr>
              <a:t>i,j,k:integer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6699"/>
                </a:solidFill>
                <a:latin typeface="Courier New"/>
              </a:rPr>
              <a:t>x,y,z:real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6699"/>
                </a:solidFill>
                <a:latin typeface="Courier New"/>
              </a:rPr>
              <a:t>a,b:string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6699"/>
                </a:solidFill>
                <a:latin typeface="Courier New"/>
              </a:rPr>
              <a:t>c:char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6699"/>
                </a:solidFill>
                <a:latin typeface="Courier New"/>
              </a:rPr>
              <a:t>d:boolean;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begi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end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Овал 1"/>
          <p:cNvSpPr/>
          <p:nvPr/>
        </p:nvSpPr>
        <p:spPr>
          <a:xfrm>
            <a:off x="8820000" y="6597720"/>
            <a:ext cx="216000" cy="216000"/>
          </a:xfrm>
          <a:prstGeom prst="ellipse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565164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Физкультминутк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7" name="Picture 4" descr="img-20140115184645-784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1874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наклоны3"/>
          <p:cNvPicPr/>
          <p:nvPr/>
        </p:nvPicPr>
        <p:blipFill>
          <a:blip r:embed="rId2"/>
          <a:stretch/>
        </p:blipFill>
        <p:spPr>
          <a:xfrm>
            <a:off x="468360" y="1557360"/>
            <a:ext cx="3384360" cy="479736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1"/>
          <p:cNvSpPr/>
          <p:nvPr/>
        </p:nvSpPr>
        <p:spPr>
          <a:xfrm>
            <a:off x="3995640" y="2133720"/>
            <a:ext cx="514836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делаем зарядку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для шейно-плечевого отдела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аклоны головы влево-вправ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повороты головы в сторон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аклоны головы вперед-назад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ращение головой по часовой стрелк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ращение головой против часовой стрелк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0" name="давай россия.wma" descr=""/>
          <p:cNvPicPr/>
          <p:nvPr/>
        </p:nvPicPr>
        <p:blipFill>
          <a:blip r:embed="rId3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28142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0" y="333360"/>
            <a:ext cx="56516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Физкультминутк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2" name="Picture 5" descr="img-20140115184645-784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1874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глаза"/>
          <p:cNvPicPr/>
          <p:nvPr/>
        </p:nvPicPr>
        <p:blipFill>
          <a:blip r:embed="rId2"/>
          <a:stretch/>
        </p:blipFill>
        <p:spPr>
          <a:xfrm>
            <a:off x="539640" y="1557360"/>
            <a:ext cx="3435480" cy="4869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4246560" y="2133720"/>
            <a:ext cx="48974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делаем зарядку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для глаз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право-влев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верх-вниз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 носу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зажмурьтес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посмотрите вдал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5" name="Нас не догонят.wma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8199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440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Практическая работа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Цель: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научиться составлять задачи, содержащие линейный алгоритм, на языке программирования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Pascal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с использованием переменных разных тип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Задачи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нимательно изучите описание практической работы (Лист №2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ыполните задание 1-3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Запустите программу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Program1 (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Рабочий стол/9класс/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Program1.pas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оанализируйте работу программ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Найдите недочет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пишите в пропуски нужные типы переменных и (или) необходимые служебные слов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Запустите программу на выполнение, нажав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Заполните пропуски в Листе №2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ставьте листы практической работы на компьютерных столах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ТБ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Будьте внимательны, дисциплинированны и осторожн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Не трогайте провода и разъемы соединительных кабеле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Не прикасайтесь к экрану монитор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Не покидайте рабочее место без разрешения учител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 неполадках в работе компьютера немедленно сообщайте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учителю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Равнобедренный треугольник 1"/>
          <p:cNvSpPr/>
          <p:nvPr/>
        </p:nvSpPr>
        <p:spPr>
          <a:xfrm rot="5400000">
            <a:off x="5795640" y="3716280"/>
            <a:ext cx="289080" cy="28872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Тест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Цель: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ценить полученные на уроке зна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Задачи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Запустите тест (файл с тестом находится на рабочем столе и имеет имя ТестТипыПеременных.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mtx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ажмите на кнопку «Начать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ведите свою фамилию и имя, клас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тветьте на 5 вопросов тест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ообщите учителю о завершении работ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1" name="Рисунок 1" descr=""/>
          <p:cNvPicPr/>
          <p:nvPr/>
        </p:nvPicPr>
        <p:blipFill>
          <a:blip r:embed="rId1"/>
          <a:stretch/>
        </p:blipFill>
        <p:spPr>
          <a:xfrm>
            <a:off x="6391440" y="3890880"/>
            <a:ext cx="2241360" cy="2706840"/>
          </a:xfrm>
          <a:prstGeom prst="rect">
            <a:avLst/>
          </a:prstGeom>
          <a:ln w="0">
            <a:noFill/>
          </a:ln>
        </p:spPr>
      </p:pic>
      <p:sp>
        <p:nvSpPr>
          <p:cNvPr id="342" name="Двойная стрелка влево/вправо 2"/>
          <p:cNvSpPr/>
          <p:nvPr/>
        </p:nvSpPr>
        <p:spPr>
          <a:xfrm>
            <a:off x="7182000" y="4292640"/>
            <a:ext cx="660240" cy="73080"/>
          </a:xfrm>
          <a:prstGeom prst="leftRightArrow">
            <a:avLst>
              <a:gd name="adj1" fmla="val 50000"/>
              <a:gd name="adj2" fmla="val 49941"/>
            </a:avLst>
          </a:prstGeom>
          <a:solidFill>
            <a:srgbClr val="006699"/>
          </a:solidFill>
          <a:ln w="25560">
            <a:solidFill>
              <a:srgbClr val="004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7051320" y="36972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50-70 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Двойная стрелка вверх/вниз 4"/>
          <p:cNvSpPr/>
          <p:nvPr/>
        </p:nvSpPr>
        <p:spPr>
          <a:xfrm>
            <a:off x="6507000" y="4149720"/>
            <a:ext cx="81000" cy="1511280"/>
          </a:xfrm>
          <a:prstGeom prst="upDownArrow">
            <a:avLst>
              <a:gd name="adj1" fmla="val 50000"/>
              <a:gd name="adj2" fmla="val 50013"/>
            </a:avLst>
          </a:prstGeom>
          <a:solidFill>
            <a:srgbClr val="006699"/>
          </a:solidFill>
          <a:ln w="25560">
            <a:solidFill>
              <a:srgbClr val="004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тоги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вы узнал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ему научились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было интересно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было трудно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 попробую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вы считаете тема «Использование переменных разных типов» вами усвоена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Домашнее зада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§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4.3, контрольные вопро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https://docs.google.com/forms/d/1X1Pv8TKdoP__4ye3dg3PQ-4DC-yjUtG4ofwHerMUyTM/viewfor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9" name="Picture 4" descr="Безымянный12"/>
          <p:cNvPicPr/>
          <p:nvPr/>
        </p:nvPicPr>
        <p:blipFill>
          <a:blip r:embed="rId1"/>
          <a:stretch/>
        </p:blipFill>
        <p:spPr>
          <a:xfrm>
            <a:off x="1619280" y="2852640"/>
            <a:ext cx="59436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Спасибо за урок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Исполнитель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72" name="Group 55"/>
          <p:cNvGrpSpPr/>
          <p:nvPr/>
        </p:nvGrpSpPr>
        <p:grpSpPr>
          <a:xfrm>
            <a:off x="611280" y="1557360"/>
            <a:ext cx="7776000" cy="1117800"/>
            <a:chOff x="611280" y="1557360"/>
            <a:chExt cx="7776000" cy="1117800"/>
          </a:xfrm>
        </p:grpSpPr>
        <p:sp>
          <p:nvSpPr>
            <p:cNvPr id="173" name="Text Box 56"/>
            <p:cNvSpPr/>
            <p:nvPr/>
          </p:nvSpPr>
          <p:spPr>
            <a:xfrm>
              <a:off x="1816560" y="1728000"/>
              <a:ext cx="6570720" cy="9471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6699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006699"/>
                  </a:solidFill>
                  <a:latin typeface="Arial"/>
                </a:rPr>
                <a:t>Кто или что может выступать в роли исполнителя?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4" name="Oval 57"/>
            <p:cNvSpPr/>
            <p:nvPr/>
          </p:nvSpPr>
          <p:spPr>
            <a:xfrm>
              <a:off x="611280" y="1557360"/>
              <a:ext cx="1676880" cy="10663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5" name="Group 55"/>
          <p:cNvGrpSpPr/>
          <p:nvPr/>
        </p:nvGrpSpPr>
        <p:grpSpPr>
          <a:xfrm>
            <a:off x="611280" y="3090960"/>
            <a:ext cx="7847280" cy="1117800"/>
            <a:chOff x="611280" y="3090960"/>
            <a:chExt cx="7847280" cy="1117800"/>
          </a:xfrm>
        </p:grpSpPr>
        <p:sp>
          <p:nvSpPr>
            <p:cNvPr id="176" name="Text Box 56"/>
            <p:cNvSpPr/>
            <p:nvPr/>
          </p:nvSpPr>
          <p:spPr>
            <a:xfrm>
              <a:off x="1827720" y="3261600"/>
              <a:ext cx="6630840" cy="9471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6699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006699"/>
                  </a:solidFill>
                  <a:latin typeface="Arial"/>
                </a:rPr>
                <a:t>А на уроке</a:t>
              </a:r>
              <a:r>
                <a:rPr b="1" lang="en-US" sz="2800" spc="-1" strike="noStrike">
                  <a:solidFill>
                    <a:srgbClr val="006699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6699"/>
                  </a:solidFill>
                  <a:latin typeface="Arial"/>
                </a:rPr>
                <a:t>информатики что является исполнителем?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7" name="Oval 57"/>
            <p:cNvSpPr/>
            <p:nvPr/>
          </p:nvSpPr>
          <p:spPr>
            <a:xfrm>
              <a:off x="611280" y="3090960"/>
              <a:ext cx="1692000" cy="10659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8" name="Group 55"/>
          <p:cNvGrpSpPr/>
          <p:nvPr/>
        </p:nvGrpSpPr>
        <p:grpSpPr>
          <a:xfrm>
            <a:off x="684360" y="4581360"/>
            <a:ext cx="7776000" cy="1117800"/>
            <a:chOff x="684360" y="4581360"/>
            <a:chExt cx="7776000" cy="1117800"/>
          </a:xfrm>
        </p:grpSpPr>
        <p:sp>
          <p:nvSpPr>
            <p:cNvPr id="179" name="Text Box 56"/>
            <p:cNvSpPr/>
            <p:nvPr/>
          </p:nvSpPr>
          <p:spPr>
            <a:xfrm>
              <a:off x="1889640" y="4752000"/>
              <a:ext cx="6570720" cy="9471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6699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006699"/>
                  </a:solidFill>
                  <a:latin typeface="Arial"/>
                </a:rPr>
                <a:t>А как компьютер исполняет команды?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0" name="Oval 57"/>
            <p:cNvSpPr/>
            <p:nvPr/>
          </p:nvSpPr>
          <p:spPr>
            <a:xfrm>
              <a:off x="684360" y="4581360"/>
              <a:ext cx="1676880" cy="10663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99"/>
                </a:solidFill>
                <a:latin typeface="Arial"/>
              </a:rPr>
              <a:t>Сложение двух чисел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69720" y="738360"/>
            <a:ext cx="85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. 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Найти сумму 5+3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20840" y="1271520"/>
            <a:ext cx="48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Простейшее решени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24000" y="1916280"/>
            <a:ext cx="568800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program qq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begi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writeln ( '5+3=',5+3</a:t>
            </a:r>
            <a:r>
              <a:rPr b="0" lang="ru-RU" sz="2800" spc="-1" strike="noStrike">
                <a:solidFill>
                  <a:srgbClr val="006699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end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5" name="Group 55"/>
          <p:cNvGrpSpPr/>
          <p:nvPr/>
        </p:nvGrpSpPr>
        <p:grpSpPr>
          <a:xfrm>
            <a:off x="3378240" y="5621400"/>
            <a:ext cx="5585760" cy="947160"/>
            <a:chOff x="3378240" y="5621400"/>
            <a:chExt cx="5585760" cy="947160"/>
          </a:xfrm>
        </p:grpSpPr>
        <p:sp>
          <p:nvSpPr>
            <p:cNvPr id="186" name="Text Box 56"/>
            <p:cNvSpPr/>
            <p:nvPr/>
          </p:nvSpPr>
          <p:spPr>
            <a:xfrm>
              <a:off x="3853080" y="5621400"/>
              <a:ext cx="5110920" cy="9471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6699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006699"/>
                  </a:solidFill>
                  <a:latin typeface="Arial"/>
                </a:rPr>
                <a:t>Как написать программу для всех таких сумм?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7" name="Oval 57"/>
            <p:cNvSpPr/>
            <p:nvPr/>
          </p:nvSpPr>
          <p:spPr>
            <a:xfrm>
              <a:off x="3378240" y="5774400"/>
              <a:ext cx="950040" cy="6523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8" name="Group 55"/>
          <p:cNvGrpSpPr/>
          <p:nvPr/>
        </p:nvGrpSpPr>
        <p:grpSpPr>
          <a:xfrm>
            <a:off x="297000" y="4041720"/>
            <a:ext cx="5964480" cy="1008720"/>
            <a:chOff x="297000" y="4041720"/>
            <a:chExt cx="5964480" cy="1008720"/>
          </a:xfrm>
        </p:grpSpPr>
        <p:sp>
          <p:nvSpPr>
            <p:cNvPr id="189" name="Text Box 56"/>
            <p:cNvSpPr/>
            <p:nvPr/>
          </p:nvSpPr>
          <p:spPr>
            <a:xfrm>
              <a:off x="620640" y="4041720"/>
              <a:ext cx="5640840" cy="1008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99"/>
                  </a:solidFill>
                  <a:latin typeface="Arial"/>
                </a:rPr>
                <a:t>Какое свойство алгоритмов 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 marL="533520" indent="-35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99"/>
                  </a:solidFill>
                  <a:latin typeface="Arial"/>
                </a:rPr>
                <a:t>НЕ выполняется в приведенной программе?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0" name="Oval 57"/>
            <p:cNvSpPr/>
            <p:nvPr/>
          </p:nvSpPr>
          <p:spPr>
            <a:xfrm>
              <a:off x="297000" y="4187880"/>
              <a:ext cx="647640" cy="7732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91" name="Rectangle 12"/>
          <p:cNvSpPr/>
          <p:nvPr/>
        </p:nvSpPr>
        <p:spPr>
          <a:xfrm>
            <a:off x="6372360" y="738360"/>
            <a:ext cx="2520720" cy="4537080"/>
          </a:xfrm>
          <a:prstGeom prst="rect">
            <a:avLst/>
          </a:prstGeom>
          <a:solidFill>
            <a:srgbClr val="edfad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5+3=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4+8=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17+20=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9+21=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50+60=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100+30=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300+100=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500+120=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1200+301=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1400+300=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b=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-9324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692360" y="260280"/>
            <a:ext cx="547200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program qq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begi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writeln ( '5+3=',5+3</a:t>
            </a:r>
            <a:r>
              <a:rPr b="0" lang="ru-RU" sz="2800" spc="-1" strike="noStrike">
                <a:solidFill>
                  <a:srgbClr val="006699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end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692360" y="3141720"/>
            <a:ext cx="5688000" cy="3479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program qq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begi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a:=5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b:=3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writeln ( ‘a+b=‘,</a:t>
            </a:r>
            <a:r>
              <a:rPr b="1" lang="en-US" sz="2800" spc="-1" strike="noStrike">
                <a:solidFill>
                  <a:srgbClr val="006699"/>
                </a:solidFill>
                <a:latin typeface="Courier New"/>
              </a:rPr>
              <a:t>a+b</a:t>
            </a:r>
            <a:r>
              <a:rPr b="0" lang="ru-RU" sz="2800" spc="-1" strike="noStrike">
                <a:solidFill>
                  <a:srgbClr val="006699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end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4140360" y="2205000"/>
            <a:ext cx="718920" cy="1152720"/>
          </a:xfrm>
          <a:prstGeom prst="downArrow">
            <a:avLst>
              <a:gd name="adj1" fmla="val 50000"/>
              <a:gd name="adj2" fmla="val 40085"/>
            </a:avLst>
          </a:prstGeom>
          <a:solidFill>
            <a:srgbClr val="008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30800" y="3625920"/>
            <a:ext cx="58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Необходимо задать переменные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a,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 урока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Познакомиться с понятием «переменная», её типами и закрепить полученные знания на практик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WordArt 6"/>
          <p:cNvSpPr txBox="1"/>
          <p:nvPr/>
        </p:nvSpPr>
        <p:spPr>
          <a:xfrm>
            <a:off x="7596360" y="189000"/>
            <a:ext cx="936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переменна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c72"/>
                </a:solidFill>
                <a:uFillTx/>
                <a:latin typeface="Verdana"/>
                <a:hlinkClick r:id="rId1" action="ppaction://hlinksldjump"/>
              </a:rPr>
              <a:t>имя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c72"/>
                </a:solidFill>
                <a:uFillTx/>
                <a:latin typeface="Verdana"/>
                <a:hlinkClick r:id="rId2" action="ppaction://hlinksldjump"/>
              </a:rPr>
              <a:t>тип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c72"/>
                </a:solidFill>
                <a:uFillTx/>
                <a:latin typeface="Verdana"/>
                <a:hlinkClick r:id="rId3" action="ppaction://hlinksldjump"/>
              </a:rPr>
              <a:t>значение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Имя переменной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95280" y="1052640"/>
            <a:ext cx="8569440" cy="32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ru-RU" sz="2300" spc="-1" strike="noStrike">
                <a:solidFill>
                  <a:srgbClr val="3333ff"/>
                </a:solidFill>
                <a:latin typeface="Arial"/>
              </a:rPr>
              <a:t>В именах МОЖНО использовать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lvl="1" marL="892080" indent="-27144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латинские буквы (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-Z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892080" indent="-27144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892080" indent="-27144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lvl="1" marL="892080" indent="-27144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цифр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892080" indent="-27144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lvl="1" marL="892080" indent="-27144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lvl="1" marL="892080" indent="-271440">
              <a:lnSpc>
                <a:spcPct val="100000"/>
              </a:lnSpc>
              <a:spcBef>
                <a:spcPts val="349"/>
              </a:spcBef>
              <a:buClr>
                <a:srgbClr val="006699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знак подчеркивания _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403280" y="1898640"/>
            <a:ext cx="7345440" cy="647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99"/>
                </a:solidFill>
                <a:latin typeface="Arial"/>
              </a:rPr>
              <a:t>заглавные и строчные буквы не различаются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581360"/>
            <a:ext cx="856944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ru-RU" sz="2300" spc="-1" strike="noStrike">
                <a:solidFill>
                  <a:srgbClr val="3333ff"/>
                </a:solidFill>
                <a:latin typeface="Arial"/>
              </a:rPr>
              <a:t>В именах </a:t>
            </a:r>
            <a:r>
              <a:rPr b="1" lang="ru-RU" sz="23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ru-RU" sz="2300" spc="-1" strike="noStrike">
                <a:solidFill>
                  <a:srgbClr val="3333ff"/>
                </a:solidFill>
                <a:latin typeface="Arial"/>
              </a:rPr>
              <a:t> использовать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lvl="1" marL="892080" indent="-27144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усские букв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892080" indent="-27144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пробел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892080" indent="-27144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скобки, знаки +, =, !,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 и др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03280" y="3122640"/>
            <a:ext cx="7345440" cy="647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имя не может начинаться с цифр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WordArt 8"/>
          <p:cNvSpPr txBox="1"/>
          <p:nvPr/>
        </p:nvSpPr>
        <p:spPr>
          <a:xfrm>
            <a:off x="1692360" y="3141720"/>
            <a:ext cx="123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Какие имена правильные?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74560" y="1700280"/>
            <a:ext cx="856944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ru-RU" sz="23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Xby    R&amp;B    4Wheel    </a:t>
            </a: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Вася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“PesBarbos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AutoShape 5">
            <a:hlinkClick r:id="rId1" action="ppaction://hlinksldjump"/>
          </p:cNvPr>
          <p:cNvSpPr/>
          <p:nvPr/>
        </p:nvSpPr>
        <p:spPr>
          <a:xfrm>
            <a:off x="7956720" y="602136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9971" y="10800"/>
                </a:moveTo>
                <a:lnTo>
                  <a:pt x="20476" y="3794"/>
                </a:lnTo>
                <a:lnTo>
                  <a:pt x="20476" y="17806"/>
                </a:lnTo>
                <a:close/>
              </a:path>
              <a:path fill="darken" w="26939" h="21600">
                <a:moveTo>
                  <a:pt x="6463" y="3794"/>
                </a:moveTo>
                <a:lnTo>
                  <a:pt x="8126" y="3794"/>
                </a:lnTo>
                <a:lnTo>
                  <a:pt x="8126" y="17806"/>
                </a:lnTo>
                <a:lnTo>
                  <a:pt x="646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971640" y="3068640"/>
            <a:ext cx="85690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TU154    [QuQu]     _ABBA    </a:t>
            </a: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+B</a:t>
            </a: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   3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Z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1187280" y="4437000"/>
            <a:ext cx="633744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X    </a:t>
            </a: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B     </a:t>
            </a: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F_45    </a:t>
            </a: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%T</a:t>
            </a: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r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1071720" y="1042920"/>
            <a:ext cx="64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Подчеркните правильные имена переменных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611280" y="2637000"/>
            <a:ext cx="1152360" cy="144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1042920" y="4005360"/>
            <a:ext cx="1152720" cy="144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4356000" y="4005360"/>
            <a:ext cx="1152720" cy="144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826920" y="5373720"/>
            <a:ext cx="1152720" cy="144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3419640" y="5373720"/>
            <a:ext cx="1152360" cy="144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6084720" y="5373720"/>
            <a:ext cx="1152720" cy="144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7:59:39Z</dcterms:created>
  <dc:creator>Admin</dc:creator>
  <dc:description/>
  <dc:language>en-US</dc:language>
  <cp:lastModifiedBy>Учитель</cp:lastModifiedBy>
  <dcterms:modified xsi:type="dcterms:W3CDTF">2014-02-11T10:48:09Z</dcterms:modified>
  <cp:revision>114</cp:revision>
  <dc:subject/>
  <dc:title>ИКТ-сервисы как средство развития творческого мышления на уроках информатики</dc:title>
</cp:coreProperties>
</file>