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DF5-392A-4120-8C5F-AC0B340D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57E-AC10-412F-BED7-137A7B96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F29-4803-4DDA-AC23-F19232EF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82C-46C6-4662-99D1-C0D4387B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9FC-7995-40F7-84A9-FA5ACBCF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3D9-9BD5-460E-ACC6-2DBA96CF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E52-C934-4BD9-B325-7B73100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113-AD04-4B2F-B867-31C68974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544-5CBD-4D8E-AF8B-5387CE9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DC1-03D5-434D-BEE1-B17CD8A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223-2AA1-488A-B2E6-7F37C24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702-A384-495F-8363-1447C6D6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8B4C-C933-4113-9ACD-A567D210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Жаркий ден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Высокая пшениц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Золотое пол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Полевые цвет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ртинная галере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ещение для постоянной выставки кар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3352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скурсовод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Человек, проводящий экскурсию в музее, картинной галерее, по город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трад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нокос, жатва, тяжёл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ревней Ру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─ стараться, добив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иалектное ─ косить сено, собирать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w</cp:lastModifiedBy>
  <dcterms:modified xsi:type="dcterms:W3CDTF">2014-12-18T14:08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