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EB68-9D5B-45BB-9C34-E31C6B30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7F2-9603-482A-8465-9AF18BA4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124-CCD3-4C6F-BE0B-E0DF2313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860-2E85-467B-A6FF-9B3C91E6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FD5E-DD85-4AB3-94E5-58E227D8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DB5E-9234-4561-B979-1BC40EEE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25A3-355E-4676-8DF5-7CDFE682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B499-4FF4-4D97-817A-546CC0F3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23AD-15F6-4207-85A2-32F75B2A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1858-7838-44DF-B7B3-C0E2944E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F95D-6CE9-4495-A072-E4DEF904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2577-A4B4-4E65-B298-A4B5378C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4B4F-20C1-4AA5-9718-6752676B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82FF-B168-4B0D-AEA5-CF9222D4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7975-317D-46DF-8D41-7DF45852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355C-0A04-4628-8076-FEBDFE43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A1C8-F76D-4942-A34E-8869B278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688-9C50-4F9C-B76B-CC530091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A47-863D-4D0C-B25E-A4264BF2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BDF-6D18-4F46-8A33-06ED96AC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E11-EB17-4587-B2AE-C4453CC5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66F-030B-4E55-8A3B-4BA8C1BD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2581-5C17-4F01-A391-D8174C63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EEB7-250B-4078-9F80-2FE53935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B6F8-87ED-4B05-8591-CBA70420F7C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2D4F-9DC0-4F9F-957E-0034339876F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55;&#1089;&#1080;&#1083;&#1086;&#1092;&#1080;&#1090;&#1099;&amp;img_url=http://www.biltek.tubitak.gov.tr/bilgipaket/jeolojik/Fanerozoik/Paleozoik/Devoniyen/rhynia.jpg&amp;pos=3&amp;rpt=simage&amp;lr=57&amp;noreask=1&amp;source=wiz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source=wiz&amp;fp=0&amp;text=&#1055;&#1089;&#1080;&#1083;&#1086;&#1092;&#1080;&#1090;&#1099;&amp;noreask=1&amp;pos=2&amp;lr=57&amp;rpt=simage&amp;uinfo=ww-1263-wh-877-fw-1038-fh-598-pd-1&amp;img_url=http://www.amgpgu.ru/Evolution/Lectures/History/Pictures/Yas/Silur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1&amp;uinfo=ww-1263-wh-877-fw-1038-fh-598-pd-1&amp;p=1&amp;text=&#1057;&#1092;&#1072;&#1075;&#1085;&#1086;&#1074;&#1099;&#1077;%20&#1073;&#1086;&#1083;&#1086;&#1090;&#1072;%20&#1092;&#1086;&#1090;&#1086;&amp;noreask=1&amp;pos=33&amp;rpt=simage&amp;lr=57&amp;img_url=http://mixednews.ru/wp-content/uploads/2012/04/tollund1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&amp;text=&#1090;&#1086;&#1088;&#1092;&amp;fp=3&amp;img_url=http://perm.pulscen.ru/system/images/product/005/233/797_thumb.jpg&amp;pos=111&amp;uinfo=ww-1263-wh-877-fw-1038-fh-598-pd-1&amp;rpt=simage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yandex.ru/yandsearch?p=3&amp;text=&#1090;&#1086;&#1088;&#1092;&amp;fp=3&amp;img_url=http://img.ehowcdn.com/article-new/ehow/images/a06/ur/8p/make-good-potting-soil-800x800.jpg&amp;pos=119&amp;uinfo=ww-1263-wh-877-fw-1038-fh-598-pd-1&amp;rpt=simage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yandex.ru/yandsearch?p=3&amp;text=&#1079;&#1085;&#1072;&#1095;&#1077;&#1085;&#1080;&#1077;%20&#1090;&#1086;&#1088;&#1092;&#1072;&amp;fp=3&amp;img_url=http://img-fotki.yandex.ru/get/4311/elena-sid1.0/0_28ff3_7d50714d_S&amp;pos=102&amp;uinfo=ww-1263-wh-877-fw-1038-fh-598-pd-1&amp;rpt=simage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54;&#1089;&#1091;&#1096;&#1077;&#1085;&#1080;&#1077;%20&#1073;&#1086;&#1083;&#1086;&#1090;%20&#1080;%20&#1080;&#1079;&#1084;&#1077;&#1085;&#1077;&#1085;&#1080;&#1077;%20&#1082;&#1083;&#1080;&#1084;&#1072;&#1090;&#1072;&amp;fp=0&amp;img_url=http://img.tyt.by/n/fotofact/00/e/zhada_mstp86732.jpg&amp;pos=17&amp;uinfo=ww-1263-wh-877-fw-1038-fh-598-pd-1&amp;rpt=simage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text=&#1057;&#1092;&#1072;&#1075;&#1085;&#1086;&#1074;&#1099;&#1077;%20&#1073;&#1086;&#1083;&#1086;&#1090;&#1072;%20&#1092;&#1086;&#1090;&#1086;&amp;noreask=1&amp;pos=7&amp;lr=57&amp;rpt=simage&amp;uinfo=ww-1263-wh-877-fw-1038-fh-598-pd-1&amp;img_url=http://www.proshkolu.ru/content/media/pic/std/3000000/2550000/2549450-bb0a215a365e3e2f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yandex.ru/yandsearch?source=wiz&amp;fp=0&amp;text=&#1057;&#1092;&#1072;&#1075;&#1085;&#1086;&#1074;&#1099;&#1077;%20&#1073;&#1086;&#1083;&#1086;&#1090;&#1072;%20&#1092;&#1086;&#1090;&#1086;&amp;noreask=1&amp;pos=10&amp;lr=57&amp;rpt=simage&amp;uinfo=ww-1263-wh-877-fw-1038-fh-598-pd-1&amp;img_url=http://www.zapoved.ru/photos/8f7b/ff30/b6ba/2728/aa5b/cc2a/4fd7/586d/large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2&amp;uinfo=ww-1263-wh-877-fw-1038-fh-598-pd-1&amp;p=2&amp;text=&#1057;&#1092;&#1072;&#1075;&#1085;&#1086;&#1074;&#1099;&#1077;%20&#1073;&#1086;&#1083;&#1086;&#1090;&#1072;%20&#1092;&#1086;&#1090;&#1086;&amp;noreask=1&amp;pos=63&amp;rpt=simage&amp;lr=57&amp;img_url=http://img1.liveinternet.ru/images/attach/c/4/80/931/80931329_1266_image.jp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52;&#1086;&#1093;%20&#1089;&#1092;&#1072;&#1075;&#1085;&#1091;&#1084;%20&#1074;%20&#1089;&#1090;&#1072;&#1082;&#1072;&#1085;&#1077;%20&#1089;%20&#1074;&#1086;&#1076;&#1086;&#1081;&amp;fp=0&amp;pos=0&amp;uinfo=ww-1263-wh-877-fw-1038-fh-598-pd-1&amp;rpt=simage&amp;img_url=http://s002.radikal.ru/i199/1001/ea/a3b3f8013d18.jpg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http://www.arctoa.ru/ru/photo/pics/min/Anomodon-giraldii-primorsky2008-ignatov-0039-m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pic>
        <p:nvPicPr>
          <p:cNvPr id="96" name="Заголовок 1" descr=""/>
          <p:cNvPicPr/>
          <p:nvPr/>
        </p:nvPicPr>
        <p:blipFill>
          <a:blip r:embed="rId2"/>
          <a:stretch/>
        </p:blipFill>
        <p:spPr>
          <a:xfrm>
            <a:off x="450720" y="1298520"/>
            <a:ext cx="7998120" cy="3522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исхождение мх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Picture 2" descr="http://www.healthyhomegardening.com/images/gardengeek/streptobionta_34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484280"/>
            <a:ext cx="3209760" cy="476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www.amgpgu.ru/Evolution/Lectures/History/Pictures/Yas/Silu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907920"/>
            <a:ext cx="30384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Лабораторная работа «Строение мхов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836640"/>
            <a:ext cx="8229600" cy="54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Цел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Ознакомиться с несколькими видами мхов, найти черты сходства и отлич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Материалы и оборудование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55a839"/>
                </a:solidFill>
                <a:latin typeface="Constantia"/>
              </a:rPr>
              <a:t>гербарные материалы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мхи – кукушкин лен, сфагнум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55a839"/>
                </a:solidFill>
                <a:latin typeface="Constantia"/>
              </a:rPr>
              <a:t>таблицы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Кукушкин лен, сфагну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4" name="Таблица 3" descr=""/>
          <p:cNvPicPr/>
          <p:nvPr/>
        </p:nvPicPr>
        <p:blipFill>
          <a:blip r:embed="rId1"/>
          <a:stretch/>
        </p:blipFill>
        <p:spPr>
          <a:xfrm>
            <a:off x="189000" y="3187800"/>
            <a:ext cx="865656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Значение мхов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днажды при разработке торфа был найден хорошо сохранившейся рыцарь в доспехах. Как это можно объяснить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7" name="Picture 2" descr="http://nakshaat.com/image/images/28112155_451479098245978__t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781360"/>
            <a:ext cx="352908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р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Что такое торф? Как его можно использовать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Почему опасны пожары торфяников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0" name="Picture 4" descr="http://im1-tub-ru.yandex.net/i?id=386291020-6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421000"/>
            <a:ext cx="3456000" cy="2151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http://im4-tub-ru.yandex.net/i?id=352487430-4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19640" y="3573360"/>
            <a:ext cx="3038400" cy="201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http://im0-tub-ru.yandex.net/i?id=332727931-5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12000" y="2708280"/>
            <a:ext cx="31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ервуары пресной вод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4" name="Сфагнум.wmv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14852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ушение покрова болот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7" name="Picture 2" descr="http://im6-tub-ru.yandex.net/i?id=176540661-4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500280"/>
            <a:ext cx="3552840" cy="2665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im5-tub-ru.yandex.net/i?id=15931823-54-72&amp;n=21"/>
          <p:cNvPicPr/>
          <p:nvPr/>
        </p:nvPicPr>
        <p:blipFill>
          <a:blip r:embed="rId3"/>
          <a:stretch/>
        </p:blipFill>
        <p:spPr>
          <a:xfrm>
            <a:off x="2916360" y="1989000"/>
            <a:ext cx="3798720" cy="2532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http://im2-tub-ru.yandex.net/i?id=138514525-42-72&amp;n=21"/>
          <p:cNvPicPr/>
          <p:nvPr/>
        </p:nvPicPr>
        <p:blipFill>
          <a:blip r:embed="rId4"/>
          <a:stretch/>
        </p:blipFill>
        <p:spPr>
          <a:xfrm>
            <a:off x="4991040" y="4143240"/>
            <a:ext cx="41529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чение мхов для человека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Образуют  торф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Торф   применяется как топливо, удобрение и как сырье  для промышлен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Constantia"/>
              </a:rPr>
              <a:t>Из торфа получают  древесный спирт, карболовую кислоту, пластмассы, изоленты, смолу и  многие  другие  ценные  материал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ошибки в очерках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560" y="1699920"/>
            <a:ext cx="850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. Мхи – очень низенькие растеньица. Их слабые корешки не могут всасывать воду с большой глубины, и маленькие размеры помогают ее экономить, поэтому их так много в засушливых районах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ошибки в очерках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560"/>
            <a:ext cx="83628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Самые маленькие растения – мхи. У многих из них нет стеблей и листьев. Маленькими корешками они прочно прикрепляются к различным поверхностям. При этом расти они, могут в самых неблагоприятных условиях – в пустыне, степи, на стенах, на поверхности металла и даже на ледниках и в темных пещера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Домашнее зада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зучить  п. 14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Ответить  на вопросы после  параграф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Чем мох отличается от водоросли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олот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98" name="Picture 2" descr="http://www.proshkolu.ru/content/media/pic/std/3000000/2550000/2549450-bb0a215a365e3e2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557360"/>
            <a:ext cx="4572000" cy="32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www.zapoved.ru/photos/8f7b/ff30/b6ba/2728/aa5b/cc2a/4fd7/586d/lar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00240" y="2857680"/>
            <a:ext cx="4969080" cy="3722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ut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х сфагну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2" name="Picture 2" descr="http://img1.liveinternet.ru/images/attach/c/4/80/931/80931329_1266_imag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62160" y="1487520"/>
            <a:ext cx="6838920" cy="5132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6092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Поместим сфагнум в стакан с водой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5" name="Picture 2" descr="http://s002.radikal.ru/i199/1001/ea/a3b3f8013d1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11120" y="1627200"/>
            <a:ext cx="7004160" cy="69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Систематика растен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Распределите гербарные экземпляры по систематическим группам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. Дополните таблицу группами растений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 Рассмотрите выданные гербарные материалы. Распределите их по отделам растений. Запишите их названия в соответствующие столбц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onstantia"/>
              </a:rPr>
              <a:t>Гербарные материалы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плаун булавовидный, папоротник – орляк, хвощ полевой, мох сфагнум, сосна обыкновенная, клевер полев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9640" y="2924280"/>
          <a:ext cx="7993080" cy="960480"/>
        </p:xfrm>
        <a:graphic>
          <a:graphicData uri="http://schemas.openxmlformats.org/drawingml/2006/table">
            <a:tbl>
              <a:tblPr/>
              <a:tblGrid>
                <a:gridCol w="1224000"/>
                <a:gridCol w="1838520"/>
                <a:gridCol w="933480"/>
                <a:gridCol w="1158840"/>
                <a:gridCol w="1758960"/>
                <a:gridCol w="1079280"/>
              </a:tblGrid>
              <a:tr h="411840">
                <a:tc gridSpan="4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поровые рас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еменные раст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Calibri"/>
                        </a:rPr>
                        <a:t>Плауновид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83763"/>
                          </a:solidFill>
                          <a:latin typeface="Times New Roman"/>
                          <a:ea typeface="Calibri"/>
                        </a:rPr>
                        <a:t>Голосем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Мхи – высшие споровые раст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наличие ткан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наличие орган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образование спор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4286160" y="4071960"/>
            <a:ext cx="442764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468360" y="2492280"/>
          <a:ext cx="8229600" cy="2494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Ткани раст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Органы Цветковых раст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dd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кро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егетативные: корень, побег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стебель, лист, поч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водящ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енеративные: цветок, плод, с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ханиче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разователь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0f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но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ff1"/>
                    </a:solidFill>
                  </a:tcPr>
                </a:tc>
              </a:tr>
            </a:tbl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хи – высшие споровые раст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тканей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Мох сфагнум, погруженный в воду впитывает ее до 20-25 раз больше, собственной массы. Почему? С чем это связано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Задание для групп на карточках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Задание №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Рассмотрите под микроскопом лист сфагнума. Сравните с рисунком 46 в учебнике на странице 68. Найдите клетки запасающие воду. Как они называются? К какому типу тканей относятся? Найдите клетки содержащие хлоропласты, к какому типу тканей они относятся? (при затруднении стр. 68, абз.1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кани мх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7" name="Picture 2" descr="http://files.school-collection.edu.ru/dlrstore/00000371-1000-4ddd-5c68-4e0046bb2fd5/148.jpg"/>
          <p:cNvPicPr/>
          <p:nvPr/>
        </p:nvPicPr>
        <p:blipFill>
          <a:blip r:embed="rId1"/>
          <a:stretch/>
        </p:blipFill>
        <p:spPr>
          <a:xfrm>
            <a:off x="684360" y="1052640"/>
            <a:ext cx="7488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8:04:16Z</dcterms:created>
  <dc:creator>пк</dc:creator>
  <dc:description/>
  <dc:language>en-US</dc:language>
  <cp:lastModifiedBy>adel</cp:lastModifiedBy>
  <dcterms:modified xsi:type="dcterms:W3CDTF">2016-05-15T11:33:36Z</dcterms:modified>
  <cp:revision>42</cp:revision>
  <dc:subject/>
  <dc:title>Мхи – высшие споровые растения</dc:title>
</cp:coreProperties>
</file>