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wmf" ContentType="image/x-wmf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1DC9-CC9A-4CC8-815A-18AEAA0AED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A6FF-C662-4871-A123-64CA12B0F5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AFFC-2D79-4275-9535-C063333A88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1D0D-7E21-4CFA-BF2E-AD342EF709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EACA-A994-467B-B0BB-40216E60B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0C6B-2FCD-47BA-B51D-80879D1BD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74B5-EEB4-4DD3-8093-45F84082E2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EEF9-9E2F-4349-A8AB-CE98B04107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7C93-65F5-4C75-9030-334E9CA8D3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8D5B-857D-4FDB-9C92-6FAB57A38B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58DD-DE82-445D-9EA6-E299E166C3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CBC5-4D2E-4639-BA3B-CAA3923DD4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3256-9AB4-42E6-9CF9-47BD37D87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E014-56D0-4084-BD06-8F89CE3278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но-Алтайский педагогический колледж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ик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о М.И. 2(2),18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ст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3D3B-C0E0-4ACD-9CB0-0E0D29B5A7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0601-31A7-4CFC-9326-4A30FB166D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930D-C6D5-47C3-8BED-B3AC4C142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135D-886C-4EC6-899E-6671BE0B3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2225-EC8B-4CEA-AA65-F601CFA24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E82A-27CB-4B68-9387-E5F5668E21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E3D3-AE52-40BA-8F1A-E9F6D3BDE3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841-8A1B-4268-B418-4A7E6907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470-D624-4C3A-96DC-1E5F4BC9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195-FDC4-44F3-B4D7-0683D49C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E97-DBF8-4AF4-906D-47412836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74B-33DA-445D-AB7E-E3D0AD5B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3EA-55A0-4E04-8005-738C5370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99C-4246-4865-88B0-43E46AC1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D9B-413F-4231-8560-565475A4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62B-D307-4450-9718-FE254A4E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D88-0AED-49FF-BE02-B93000AA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896-FE4A-4FC9-BA11-79593AE9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8DA-2BE3-46A2-A213-94794CFB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D152-AA00-4530-BCD1-9D8C4A5D7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gif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2"/>
          <a:stretch/>
        </p:blipFill>
        <p:spPr>
          <a:xfrm>
            <a:off x="573120" y="865080"/>
            <a:ext cx="8394840" cy="2799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070360" y="380880"/>
            <a:ext cx="442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 Чергин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772520" y="4038480"/>
            <a:ext cx="435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нова Н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200400" y="586728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Чер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2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1" descr=""/>
          <p:cNvPicPr/>
          <p:nvPr/>
        </p:nvPicPr>
        <p:blipFill>
          <a:blip r:embed="rId2"/>
          <a:stretch/>
        </p:blipFill>
        <p:spPr>
          <a:xfrm>
            <a:off x="298440" y="822240"/>
            <a:ext cx="80168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2"/>
          <a:srcRect l="0" t="0" r="29999" b="0"/>
          <a:stretch/>
        </p:blipFill>
        <p:spPr>
          <a:xfrm>
            <a:off x="4267080" y="2133720"/>
            <a:ext cx="3527640" cy="3124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228600" y="371520"/>
            <a:ext cx="8686800" cy="45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ую функцию выполняют данные опорные сигна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228600" y="833400"/>
            <a:ext cx="8686800" cy="45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элемент самоконтроля вам больше понравил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3"/>
          <a:srcRect l="0" t="0" r="29999" b="0"/>
          <a:stretch/>
        </p:blipFill>
        <p:spPr>
          <a:xfrm>
            <a:off x="838080" y="2133720"/>
            <a:ext cx="3527640" cy="3124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2274840" y="2670120"/>
            <a:ext cx="165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3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1843200" y="362124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2873520" y="3390840"/>
            <a:ext cx="8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1699920" y="4341960"/>
            <a:ext cx="201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1"/>
          <p:cNvGrpSpPr/>
          <p:nvPr/>
        </p:nvGrpSpPr>
        <p:grpSpPr>
          <a:xfrm>
            <a:off x="2268360" y="4046400"/>
            <a:ext cx="1908360" cy="1312920"/>
            <a:chOff x="2268360" y="4046400"/>
            <a:chExt cx="1908360" cy="1312920"/>
          </a:xfrm>
        </p:grpSpPr>
        <p:sp>
          <p:nvSpPr>
            <p:cNvPr id="168" name="Text Box 16"/>
            <p:cNvSpPr/>
            <p:nvPr/>
          </p:nvSpPr>
          <p:spPr>
            <a:xfrm>
              <a:off x="2950920" y="4046400"/>
              <a:ext cx="122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ff"/>
                  </a:solidFill>
                  <a:latin typeface="Monotype Corsiva"/>
                </a:rPr>
                <a:t>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7"/>
            <p:cNvSpPr/>
            <p:nvPr/>
          </p:nvSpPr>
          <p:spPr>
            <a:xfrm>
              <a:off x="2268360" y="4046400"/>
              <a:ext cx="72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ff"/>
                  </a:solidFill>
                  <a:latin typeface="Monotype Corsiva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Прямоугольник 42"/>
          <p:cNvSpPr/>
          <p:nvPr/>
        </p:nvSpPr>
        <p:spPr>
          <a:xfrm>
            <a:off x="2471760" y="2459160"/>
            <a:ext cx="43164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Выгнутая вверх стрелка 44"/>
          <p:cNvSpPr/>
          <p:nvPr/>
        </p:nvSpPr>
        <p:spPr>
          <a:xfrm flipH="1">
            <a:off x="6095160" y="2666880"/>
            <a:ext cx="682920" cy="285840"/>
          </a:xfrm>
          <a:custGeom>
            <a:avLst/>
            <a:gdLst>
              <a:gd name="textAreaLeft" fmla="*/ 143640 w 682920"/>
              <a:gd name="textAreaRight" fmla="*/ 502920 w 68292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05" hR="21600" stAng="10800000" swAng="5400000"/>
                <a:lnTo>
                  <a:pt x="11366" y="0"/>
                </a:lnTo>
                <a:arcTo wR="9105" hR="21600" stAng="-5400000" swAng="3510590"/>
                <a:lnTo>
                  <a:pt x="21311" y="16200"/>
                </a:lnTo>
                <a:lnTo>
                  <a:pt x="19340" y="21600"/>
                </a:lnTo>
                <a:lnTo>
                  <a:pt x="16790" y="16200"/>
                </a:lnTo>
                <a:lnTo>
                  <a:pt x="17920" y="16200"/>
                </a:lnTo>
                <a:arcTo wR="9105" hR="21600" stAng="-1889410" swAng="-3329430"/>
                <a:lnTo>
                  <a:pt x="10235" y="167"/>
                </a:lnTo>
                <a:arcTo wR="9105" hR="21600" stAng="-5581160" swAng="-5218840"/>
                <a:close/>
              </a:path>
              <a:path fill="darkenLess" w="21600" h="21600">
                <a:moveTo>
                  <a:pt x="0" y="21600"/>
                </a:moveTo>
                <a:arcTo wR="9105" hR="21600" stAng="10800000" swAng="5400000"/>
                <a:lnTo>
                  <a:pt x="9105" y="0"/>
                </a:lnTo>
                <a:arcTo wR="9105" hR="21600" stAng="-5400000" swAng="181160"/>
                <a:lnTo>
                  <a:pt x="10235" y="167"/>
                </a:lnTo>
                <a:arcTo wR="9105" hR="21600" stAng="-5581160" swAng="-5218840"/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 flipV="1">
            <a:off x="2003400" y="3458880"/>
            <a:ext cx="0" cy="336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791320" y="2666880"/>
            <a:ext cx="165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3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 flipH="1">
            <a:off x="5562720" y="365760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6400800" y="3429000"/>
            <a:ext cx="8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>
            <a:off x="5409720" y="4343400"/>
            <a:ext cx="201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21"/>
          <p:cNvGrpSpPr/>
          <p:nvPr/>
        </p:nvGrpSpPr>
        <p:grpSpPr>
          <a:xfrm>
            <a:off x="5638680" y="4038480"/>
            <a:ext cx="1908360" cy="1312920"/>
            <a:chOff x="5638680" y="4038480"/>
            <a:chExt cx="1908360" cy="1312920"/>
          </a:xfrm>
        </p:grpSpPr>
        <p:sp>
          <p:nvSpPr>
            <p:cNvPr id="178" name="Text Box 16"/>
            <p:cNvSpPr/>
            <p:nvPr/>
          </p:nvSpPr>
          <p:spPr>
            <a:xfrm>
              <a:off x="6321240" y="4038480"/>
              <a:ext cx="122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ff"/>
                  </a:solidFill>
                  <a:latin typeface="Monotype Corsiva"/>
                </a:rPr>
                <a:t>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5638680" y="4038480"/>
              <a:ext cx="72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ff"/>
                  </a:solidFill>
                  <a:latin typeface="Monotype Corsiva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8"/>
          <p:cNvSpPr/>
          <p:nvPr/>
        </p:nvSpPr>
        <p:spPr>
          <a:xfrm flipV="1">
            <a:off x="5715000" y="3504960"/>
            <a:ext cx="0" cy="336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57"/>
          <p:cNvSpPr/>
          <p:nvPr/>
        </p:nvSpPr>
        <p:spPr>
          <a:xfrm>
            <a:off x="2349360" y="2357280"/>
            <a:ext cx="604800" cy="143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"/>
          <p:cNvSpPr/>
          <p:nvPr/>
        </p:nvSpPr>
        <p:spPr>
          <a:xfrm>
            <a:off x="1600200" y="304920"/>
            <a:ext cx="6324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шу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ладываю единицы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 единиц э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ишу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мню …, чтобы не забы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сятков стало …, так как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ю ответ …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2"/>
          <a:srcRect l="0" t="0" r="29999" b="0"/>
          <a:stretch/>
        </p:blipFill>
        <p:spPr>
          <a:xfrm>
            <a:off x="2949480" y="3557520"/>
            <a:ext cx="352764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Выгнутая вверх стрелка 7"/>
          <p:cNvSpPr/>
          <p:nvPr/>
        </p:nvSpPr>
        <p:spPr>
          <a:xfrm flipH="1">
            <a:off x="4030560" y="4048200"/>
            <a:ext cx="682560" cy="285840"/>
          </a:xfrm>
          <a:custGeom>
            <a:avLst/>
            <a:gdLst>
              <a:gd name="textAreaLeft" fmla="*/ 143640 w 682560"/>
              <a:gd name="textAreaRight" fmla="*/ 502920 w 68256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05" hR="21600" stAng="10800000" swAng="5400000"/>
                <a:lnTo>
                  <a:pt x="11366" y="0"/>
                </a:lnTo>
                <a:arcTo wR="9105" hR="21600" stAng="-5400000" swAng="3510590"/>
                <a:lnTo>
                  <a:pt x="21311" y="16200"/>
                </a:lnTo>
                <a:lnTo>
                  <a:pt x="19340" y="21600"/>
                </a:lnTo>
                <a:lnTo>
                  <a:pt x="16790" y="16200"/>
                </a:lnTo>
                <a:lnTo>
                  <a:pt x="17920" y="16200"/>
                </a:lnTo>
                <a:arcTo wR="9105" hR="21600" stAng="-1889410" swAng="-3329430"/>
                <a:lnTo>
                  <a:pt x="10235" y="167"/>
                </a:lnTo>
                <a:arcTo wR="9105" hR="21600" stAng="-5581160" swAng="-5218840"/>
                <a:close/>
              </a:path>
              <a:path fill="darkenLess" w="21600" h="21600">
                <a:moveTo>
                  <a:pt x="0" y="21600"/>
                </a:moveTo>
                <a:arcTo wR="9105" hR="21600" stAng="10800000" swAng="5400000"/>
                <a:lnTo>
                  <a:pt x="9105" y="0"/>
                </a:lnTo>
                <a:arcTo wR="9105" hR="21600" stAng="-5400000" swAng="181160"/>
                <a:lnTo>
                  <a:pt x="10235" y="167"/>
                </a:lnTo>
                <a:arcTo wR="9105" hR="21600" stAng="-5581160" swAng="-5218840"/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3668760" y="4094280"/>
            <a:ext cx="165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3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 flipH="1">
            <a:off x="3236400" y="5045040"/>
            <a:ext cx="287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4267080" y="4815000"/>
            <a:ext cx="8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 flipH="1">
            <a:off x="3094200" y="5765760"/>
            <a:ext cx="2017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1"/>
          <p:cNvGrpSpPr/>
          <p:nvPr/>
        </p:nvGrpSpPr>
        <p:grpSpPr>
          <a:xfrm>
            <a:off x="3662280" y="5470560"/>
            <a:ext cx="1908360" cy="1312920"/>
            <a:chOff x="3662280" y="5470560"/>
            <a:chExt cx="1908360" cy="1312920"/>
          </a:xfrm>
        </p:grpSpPr>
        <p:sp>
          <p:nvSpPr>
            <p:cNvPr id="190" name="Text Box 16"/>
            <p:cNvSpPr/>
            <p:nvPr/>
          </p:nvSpPr>
          <p:spPr>
            <a:xfrm>
              <a:off x="4344840" y="5470560"/>
              <a:ext cx="122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ff"/>
                  </a:solidFill>
                  <a:latin typeface="Monotype Corsiva"/>
                </a:rPr>
                <a:t>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3662280" y="5470560"/>
              <a:ext cx="72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ff"/>
                  </a:solidFill>
                  <a:latin typeface="Monotype Corsiva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Line 8"/>
          <p:cNvSpPr/>
          <p:nvPr/>
        </p:nvSpPr>
        <p:spPr>
          <a:xfrm flipV="1">
            <a:off x="3397320" y="4882680"/>
            <a:ext cx="0" cy="336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5"/>
          <p:cNvSpPr/>
          <p:nvPr/>
        </p:nvSpPr>
        <p:spPr>
          <a:xfrm>
            <a:off x="1338120" y="304920"/>
            <a:ext cx="632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шу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читаю едини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…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10 единиц и  десятков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дпишу над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10 вычту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сятков  оста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ю ответ …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rcRect l="0" t="0" r="29999" b="0"/>
          <a:stretch/>
        </p:blipFill>
        <p:spPr>
          <a:xfrm>
            <a:off x="2949480" y="3557520"/>
            <a:ext cx="352764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3668760" y="4098960"/>
            <a:ext cx="165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4 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 flipH="1">
            <a:off x="3236400" y="5045040"/>
            <a:ext cx="287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4267080" y="4815000"/>
            <a:ext cx="8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4"/>
          <p:cNvSpPr/>
          <p:nvPr/>
        </p:nvSpPr>
        <p:spPr>
          <a:xfrm flipH="1">
            <a:off x="3094200" y="5765760"/>
            <a:ext cx="2017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662280" y="5470560"/>
            <a:ext cx="1908360" cy="1312920"/>
            <a:chOff x="3662280" y="5470560"/>
            <a:chExt cx="1908360" cy="1312920"/>
          </a:xfrm>
        </p:grpSpPr>
        <p:sp>
          <p:nvSpPr>
            <p:cNvPr id="200" name="Text Box 16"/>
            <p:cNvSpPr/>
            <p:nvPr/>
          </p:nvSpPr>
          <p:spPr>
            <a:xfrm>
              <a:off x="4344840" y="5470560"/>
              <a:ext cx="122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ff"/>
                  </a:solidFill>
                  <a:latin typeface="Monotype Corsiva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7"/>
            <p:cNvSpPr/>
            <p:nvPr/>
          </p:nvSpPr>
          <p:spPr>
            <a:xfrm>
              <a:off x="3662280" y="5470560"/>
              <a:ext cx="72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ff"/>
                  </a:solidFill>
                  <a:latin typeface="Monotype Corsiva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Box 16"/>
          <p:cNvSpPr/>
          <p:nvPr/>
        </p:nvSpPr>
        <p:spPr>
          <a:xfrm>
            <a:off x="4473720" y="3807000"/>
            <a:ext cx="63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7"/>
          <p:cNvSpPr/>
          <p:nvPr/>
        </p:nvSpPr>
        <p:spPr>
          <a:xfrm>
            <a:off x="3784680" y="3807000"/>
            <a:ext cx="6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2"/>
          <a:srcRect l="0" t="0" r="29999" b="0"/>
          <a:stretch/>
        </p:blipFill>
        <p:spPr>
          <a:xfrm>
            <a:off x="2276640" y="2133720"/>
            <a:ext cx="2752560" cy="2438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3"/>
          <a:srcRect l="0" t="0" r="38002" b="0"/>
          <a:stretch/>
        </p:blipFill>
        <p:spPr>
          <a:xfrm>
            <a:off x="6553080" y="213372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0" y="152280"/>
            <a:ext cx="8686800" cy="13737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. 18 №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бейте выражения на две группы. По какому принципу осуществили разби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4"/>
          <a:srcRect l="0" t="0" r="29999" b="0"/>
          <a:stretch/>
        </p:blipFill>
        <p:spPr>
          <a:xfrm>
            <a:off x="76320" y="2133720"/>
            <a:ext cx="2752560" cy="24382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717480" y="2565360"/>
            <a:ext cx="104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7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151920" y="3862440"/>
            <a:ext cx="15368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5"/>
          <a:srcRect l="0" t="0" r="29999" b="0"/>
          <a:stretch/>
        </p:blipFill>
        <p:spPr>
          <a:xfrm>
            <a:off x="4343400" y="2133720"/>
            <a:ext cx="2752560" cy="24382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2828880" y="2565360"/>
            <a:ext cx="104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8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962600" y="2565360"/>
            <a:ext cx="104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5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241280" y="3070080"/>
            <a:ext cx="52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351240" y="3073320"/>
            <a:ext cx="52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5486400" y="3073320"/>
            <a:ext cx="52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7620120" y="3073320"/>
            <a:ext cx="52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7126200" y="2565360"/>
            <a:ext cx="104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9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363240" y="3276720"/>
            <a:ext cx="260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 flipH="1">
            <a:off x="2484000" y="3276720"/>
            <a:ext cx="2588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4571640" y="3276720"/>
            <a:ext cx="2588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"/>
          <p:cNvSpPr/>
          <p:nvPr/>
        </p:nvSpPr>
        <p:spPr>
          <a:xfrm flipH="1">
            <a:off x="6705720" y="3276720"/>
            <a:ext cx="2584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4"/>
          <p:cNvSpPr/>
          <p:nvPr/>
        </p:nvSpPr>
        <p:spPr>
          <a:xfrm flipH="1">
            <a:off x="2297160" y="3848040"/>
            <a:ext cx="16891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 flipH="1">
            <a:off x="4419720" y="3862440"/>
            <a:ext cx="1612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4"/>
          <p:cNvSpPr/>
          <p:nvPr/>
        </p:nvSpPr>
        <p:spPr>
          <a:xfrm flipH="1">
            <a:off x="6580080" y="3862440"/>
            <a:ext cx="16891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V="1">
            <a:off x="493560" y="3146040"/>
            <a:ext cx="0" cy="260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 flipV="1">
            <a:off x="4722840" y="3150720"/>
            <a:ext cx="0" cy="258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8"/>
          <p:cNvSpPr/>
          <p:nvPr/>
        </p:nvSpPr>
        <p:spPr>
          <a:xfrm>
            <a:off x="2863800" y="5410080"/>
            <a:ext cx="3716280" cy="45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те значения су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2"/>
          <a:srcRect l="0" t="0" r="29999" b="0"/>
          <a:stretch/>
        </p:blipFill>
        <p:spPr>
          <a:xfrm>
            <a:off x="4191120" y="2133720"/>
            <a:ext cx="3527280" cy="31240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2629080" y="457200"/>
            <a:ext cx="4343400" cy="8254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ди значения выра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3"/>
          <a:srcRect l="0" t="0" r="29999" b="0"/>
          <a:stretch/>
        </p:blipFill>
        <p:spPr>
          <a:xfrm>
            <a:off x="685800" y="2133720"/>
            <a:ext cx="3527280" cy="31240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2274840" y="2670120"/>
            <a:ext cx="165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7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 flipH="1">
            <a:off x="1843200" y="362124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2873520" y="3390840"/>
            <a:ext cx="8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4"/>
          <p:cNvSpPr/>
          <p:nvPr/>
        </p:nvSpPr>
        <p:spPr>
          <a:xfrm flipH="1">
            <a:off x="1699920" y="4341960"/>
            <a:ext cx="201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1"/>
          <p:cNvGrpSpPr/>
          <p:nvPr/>
        </p:nvGrpSpPr>
        <p:grpSpPr>
          <a:xfrm>
            <a:off x="2268360" y="4046400"/>
            <a:ext cx="1908360" cy="1312920"/>
            <a:chOff x="2268360" y="4046400"/>
            <a:chExt cx="1908360" cy="1312920"/>
          </a:xfrm>
        </p:grpSpPr>
        <p:sp>
          <p:nvSpPr>
            <p:cNvPr id="246" name="Text Box 16"/>
            <p:cNvSpPr/>
            <p:nvPr/>
          </p:nvSpPr>
          <p:spPr>
            <a:xfrm>
              <a:off x="2950920" y="4046400"/>
              <a:ext cx="122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ff"/>
                  </a:solidFill>
                  <a:latin typeface="Monotype Corsiva"/>
                </a:rPr>
                <a:t>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7"/>
            <p:cNvSpPr/>
            <p:nvPr/>
          </p:nvSpPr>
          <p:spPr>
            <a:xfrm>
              <a:off x="2268360" y="4046400"/>
              <a:ext cx="72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ff"/>
                  </a:solidFill>
                  <a:latin typeface="Monotype Corsiva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Выгнутая вверх стрелка 44"/>
          <p:cNvSpPr/>
          <p:nvPr/>
        </p:nvSpPr>
        <p:spPr>
          <a:xfrm flipH="1">
            <a:off x="5943600" y="2590920"/>
            <a:ext cx="682560" cy="318960"/>
          </a:xfrm>
          <a:custGeom>
            <a:avLst/>
            <a:gdLst>
              <a:gd name="textAreaLeft" fmla="*/ 140760 w 682560"/>
              <a:gd name="textAreaRight" fmla="*/ 502200 w 682560"/>
              <a:gd name="textAreaTop" fmla="*/ 42480 h 318960"/>
              <a:gd name="textAreaBottom" fmla="*/ 2764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7" hR="21600" stAng="10800000" swAng="5400000"/>
                <a:lnTo>
                  <a:pt x="11431" y="0"/>
                </a:lnTo>
                <a:arcTo wR="8907" hR="21600" stAng="-5400000" swAng="3476842"/>
                <a:lnTo>
                  <a:pt x="21317" y="16200"/>
                </a:lnTo>
                <a:lnTo>
                  <a:pt x="19076" y="21600"/>
                </a:lnTo>
                <a:lnTo>
                  <a:pt x="16269" y="16200"/>
                </a:lnTo>
                <a:lnTo>
                  <a:pt x="17531" y="16200"/>
                </a:lnTo>
                <a:arcTo wR="8907" hR="21600" stAng="-1923158" swAng="-3274176"/>
                <a:lnTo>
                  <a:pt x="10169" y="218"/>
                </a:lnTo>
                <a:arcTo wR="8907" hR="21600" stAng="-5602665" swAng="-5197335"/>
                <a:close/>
              </a:path>
              <a:path fill="darkenLess" w="21600" h="21600">
                <a:moveTo>
                  <a:pt x="0" y="21600"/>
                </a:moveTo>
                <a:arcTo wR="8907" hR="21600" stAng="10800000" swAng="5400000"/>
                <a:lnTo>
                  <a:pt x="8907" y="0"/>
                </a:lnTo>
                <a:arcTo wR="8907" hR="21600" stAng="-5400000" swAng="202665"/>
                <a:lnTo>
                  <a:pt x="10169" y="218"/>
                </a:lnTo>
                <a:arcTo wR="8907" hR="21600" stAng="-5602665" swAng="-5197335"/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 flipV="1">
            <a:off x="2003400" y="3458880"/>
            <a:ext cx="0" cy="336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5562720" y="2743200"/>
            <a:ext cx="165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5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 flipH="1">
            <a:off x="5486400" y="365760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6324480" y="3429000"/>
            <a:ext cx="8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5257440" y="4343400"/>
            <a:ext cx="201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21"/>
          <p:cNvGrpSpPr/>
          <p:nvPr/>
        </p:nvGrpSpPr>
        <p:grpSpPr>
          <a:xfrm>
            <a:off x="5638680" y="4114800"/>
            <a:ext cx="1908360" cy="1312920"/>
            <a:chOff x="5638680" y="4114800"/>
            <a:chExt cx="1908360" cy="1312920"/>
          </a:xfrm>
        </p:grpSpPr>
        <p:sp>
          <p:nvSpPr>
            <p:cNvPr id="255" name="Text Box 16"/>
            <p:cNvSpPr/>
            <p:nvPr/>
          </p:nvSpPr>
          <p:spPr>
            <a:xfrm>
              <a:off x="6321240" y="4114800"/>
              <a:ext cx="122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ff"/>
                  </a:solidFill>
                  <a:latin typeface="Monotype Corsiva"/>
                </a:rPr>
                <a:t>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5638680" y="4114800"/>
              <a:ext cx="72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ff"/>
                  </a:solidFill>
                  <a:latin typeface="Monotype Corsiva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Line 8"/>
          <p:cNvSpPr/>
          <p:nvPr/>
        </p:nvSpPr>
        <p:spPr>
          <a:xfrm flipV="1">
            <a:off x="5638680" y="3504960"/>
            <a:ext cx="0" cy="336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верх стрелка 29"/>
          <p:cNvSpPr/>
          <p:nvPr/>
        </p:nvSpPr>
        <p:spPr>
          <a:xfrm flipH="1">
            <a:off x="2685960" y="2608200"/>
            <a:ext cx="682560" cy="285840"/>
          </a:xfrm>
          <a:custGeom>
            <a:avLst/>
            <a:gdLst>
              <a:gd name="textAreaLeft" fmla="*/ 143640 w 682560"/>
              <a:gd name="textAreaRight" fmla="*/ 502920 w 68256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05" hR="21600" stAng="10800000" swAng="5400000"/>
                <a:lnTo>
                  <a:pt x="11366" y="0"/>
                </a:lnTo>
                <a:arcTo wR="9105" hR="21600" stAng="-5400000" swAng="3510590"/>
                <a:lnTo>
                  <a:pt x="21311" y="16200"/>
                </a:lnTo>
                <a:lnTo>
                  <a:pt x="19340" y="21600"/>
                </a:lnTo>
                <a:lnTo>
                  <a:pt x="16790" y="16200"/>
                </a:lnTo>
                <a:lnTo>
                  <a:pt x="17920" y="16200"/>
                </a:lnTo>
                <a:arcTo wR="9105" hR="21600" stAng="-1889410" swAng="-3329430"/>
                <a:lnTo>
                  <a:pt x="10235" y="167"/>
                </a:lnTo>
                <a:arcTo wR="9105" hR="21600" stAng="-5581160" swAng="-5218840"/>
                <a:close/>
              </a:path>
              <a:path fill="darkenLess" w="21600" h="21600">
                <a:moveTo>
                  <a:pt x="0" y="21600"/>
                </a:moveTo>
                <a:arcTo wR="9105" hR="21600" stAng="10800000" swAng="5400000"/>
                <a:lnTo>
                  <a:pt x="9105" y="0"/>
                </a:lnTo>
                <a:arcTo wR="9105" hR="21600" stAng="-5400000" swAng="181160"/>
                <a:lnTo>
                  <a:pt x="10235" y="167"/>
                </a:lnTo>
                <a:arcTo wR="9105" hR="21600" stAng="-5581160" swAng="-5218840"/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"/>
          <p:cNvPicPr/>
          <p:nvPr/>
        </p:nvPicPr>
        <p:blipFill>
          <a:blip r:embed="rId2"/>
          <a:srcRect l="0" t="0" r="29999" b="0"/>
          <a:stretch/>
        </p:blipFill>
        <p:spPr>
          <a:xfrm>
            <a:off x="2276640" y="2133720"/>
            <a:ext cx="2752560" cy="2438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3"/>
          <a:srcRect l="0" t="0" r="38002" b="0"/>
          <a:stretch/>
        </p:blipFill>
        <p:spPr>
          <a:xfrm>
            <a:off x="6553080" y="213372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4"/>
          <p:cNvSpPr/>
          <p:nvPr/>
        </p:nvSpPr>
        <p:spPr>
          <a:xfrm>
            <a:off x="1981080" y="674640"/>
            <a:ext cx="4432320" cy="8254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дите значения раз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4"/>
          <a:srcRect l="0" t="0" r="29999" b="0"/>
          <a:stretch/>
        </p:blipFill>
        <p:spPr>
          <a:xfrm>
            <a:off x="76320" y="2133720"/>
            <a:ext cx="2752560" cy="24382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>
            <a:off x="717480" y="2565360"/>
            <a:ext cx="104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7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 flipH="1">
            <a:off x="151920" y="3862440"/>
            <a:ext cx="15368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5"/>
          <a:srcRect l="0" t="0" r="29999" b="0"/>
          <a:stretch/>
        </p:blipFill>
        <p:spPr>
          <a:xfrm>
            <a:off x="4343400" y="2133720"/>
            <a:ext cx="2752560" cy="2438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2828880" y="2565360"/>
            <a:ext cx="104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8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4962600" y="2565360"/>
            <a:ext cx="104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5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241280" y="3070080"/>
            <a:ext cx="52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351240" y="3073320"/>
            <a:ext cx="52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5486400" y="3073320"/>
            <a:ext cx="52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7620120" y="3073320"/>
            <a:ext cx="52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7126200" y="2565360"/>
            <a:ext cx="104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9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363240" y="3276720"/>
            <a:ext cx="260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"/>
          <p:cNvSpPr/>
          <p:nvPr/>
        </p:nvSpPr>
        <p:spPr>
          <a:xfrm flipH="1">
            <a:off x="2484000" y="3276720"/>
            <a:ext cx="2588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>
            <a:off x="4571640" y="3276720"/>
            <a:ext cx="2588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"/>
          <p:cNvSpPr/>
          <p:nvPr/>
        </p:nvSpPr>
        <p:spPr>
          <a:xfrm flipH="1">
            <a:off x="6705720" y="3276720"/>
            <a:ext cx="2584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4"/>
          <p:cNvSpPr/>
          <p:nvPr/>
        </p:nvSpPr>
        <p:spPr>
          <a:xfrm flipH="1">
            <a:off x="2297160" y="3848040"/>
            <a:ext cx="16891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 flipH="1">
            <a:off x="4419720" y="3862440"/>
            <a:ext cx="1612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4"/>
          <p:cNvSpPr/>
          <p:nvPr/>
        </p:nvSpPr>
        <p:spPr>
          <a:xfrm flipH="1">
            <a:off x="6580080" y="3862440"/>
            <a:ext cx="16891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493560" y="3146040"/>
            <a:ext cx="0" cy="260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 flipV="1">
            <a:off x="4722840" y="3150720"/>
            <a:ext cx="0" cy="258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717480" y="3632040"/>
            <a:ext cx="104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8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4962600" y="3637080"/>
            <a:ext cx="104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6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2"/>
          <a:srcRect l="0" t="0" r="29999" b="0"/>
          <a:stretch/>
        </p:blipFill>
        <p:spPr>
          <a:xfrm>
            <a:off x="4321080" y="2133720"/>
            <a:ext cx="3527640" cy="31240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"/>
          <p:cNvSpPr/>
          <p:nvPr/>
        </p:nvSpPr>
        <p:spPr>
          <a:xfrm>
            <a:off x="2629080" y="457200"/>
            <a:ext cx="4343400" cy="8254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ди значения выра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3"/>
          <a:srcRect l="0" t="0" r="29999" b="0"/>
          <a:stretch/>
        </p:blipFill>
        <p:spPr>
          <a:xfrm>
            <a:off x="1555920" y="2133720"/>
            <a:ext cx="3527280" cy="312408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6"/>
          <p:cNvSpPr/>
          <p:nvPr/>
        </p:nvSpPr>
        <p:spPr>
          <a:xfrm>
            <a:off x="2274840" y="2670120"/>
            <a:ext cx="165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8 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 flipH="1">
            <a:off x="1843200" y="362124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2873520" y="3390840"/>
            <a:ext cx="8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4"/>
          <p:cNvSpPr/>
          <p:nvPr/>
        </p:nvSpPr>
        <p:spPr>
          <a:xfrm flipH="1">
            <a:off x="1699920" y="4341960"/>
            <a:ext cx="201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21"/>
          <p:cNvGrpSpPr/>
          <p:nvPr/>
        </p:nvGrpSpPr>
        <p:grpSpPr>
          <a:xfrm>
            <a:off x="2268360" y="4046400"/>
            <a:ext cx="1908360" cy="1312920"/>
            <a:chOff x="2268360" y="4046400"/>
            <a:chExt cx="1908360" cy="1312920"/>
          </a:xfrm>
        </p:grpSpPr>
        <p:sp>
          <p:nvSpPr>
            <p:cNvPr id="301" name="Text Box 16"/>
            <p:cNvSpPr/>
            <p:nvPr/>
          </p:nvSpPr>
          <p:spPr>
            <a:xfrm>
              <a:off x="2950920" y="4046400"/>
              <a:ext cx="122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ff"/>
                  </a:solidFill>
                  <a:latin typeface="Monotype Corsiva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7"/>
            <p:cNvSpPr/>
            <p:nvPr/>
          </p:nvSpPr>
          <p:spPr>
            <a:xfrm>
              <a:off x="2268360" y="4046400"/>
              <a:ext cx="72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ff"/>
                  </a:solidFill>
                  <a:latin typeface="Monotype Corsiva"/>
                </a:rPr>
                <a:t>7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6"/>
          <p:cNvSpPr/>
          <p:nvPr/>
        </p:nvSpPr>
        <p:spPr>
          <a:xfrm>
            <a:off x="5040360" y="2670120"/>
            <a:ext cx="165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9 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 flipH="1">
            <a:off x="4608000" y="3621240"/>
            <a:ext cx="287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5638680" y="3390840"/>
            <a:ext cx="8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4465800" y="4341960"/>
            <a:ext cx="2017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1"/>
          <p:cNvGrpSpPr/>
          <p:nvPr/>
        </p:nvGrpSpPr>
        <p:grpSpPr>
          <a:xfrm>
            <a:off x="5033880" y="4046400"/>
            <a:ext cx="1908360" cy="1312920"/>
            <a:chOff x="5033880" y="4046400"/>
            <a:chExt cx="1908360" cy="1312920"/>
          </a:xfrm>
        </p:grpSpPr>
        <p:sp>
          <p:nvSpPr>
            <p:cNvPr id="308" name="Text Box 16"/>
            <p:cNvSpPr/>
            <p:nvPr/>
          </p:nvSpPr>
          <p:spPr>
            <a:xfrm>
              <a:off x="5716440" y="4046400"/>
              <a:ext cx="122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ff"/>
                  </a:solidFill>
                  <a:latin typeface="Monotype Corsiva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7"/>
            <p:cNvSpPr/>
            <p:nvPr/>
          </p:nvSpPr>
          <p:spPr>
            <a:xfrm>
              <a:off x="5033880" y="4046400"/>
              <a:ext cx="72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ff"/>
                  </a:solidFill>
                  <a:latin typeface="Monotype Corsiva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Box 27"/>
          <p:cNvSpPr/>
          <p:nvPr/>
        </p:nvSpPr>
        <p:spPr>
          <a:xfrm>
            <a:off x="3049560" y="2378160"/>
            <a:ext cx="6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8"/>
          <p:cNvSpPr/>
          <p:nvPr/>
        </p:nvSpPr>
        <p:spPr>
          <a:xfrm>
            <a:off x="5845320" y="2378160"/>
            <a:ext cx="63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0"/>
          <p:cNvSpPr/>
          <p:nvPr/>
        </p:nvSpPr>
        <p:spPr>
          <a:xfrm>
            <a:off x="5156280" y="2378160"/>
            <a:ext cx="6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1"/>
          <p:cNvSpPr/>
          <p:nvPr/>
        </p:nvSpPr>
        <p:spPr>
          <a:xfrm>
            <a:off x="2562120" y="237816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685800" y="1066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чи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7081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т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6019920" y="134784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"/>
          <p:cNvSpPr/>
          <p:nvPr/>
        </p:nvSpPr>
        <p:spPr>
          <a:xfrm>
            <a:off x="4114800" y="482760"/>
            <a:ext cx="6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7"/>
          <p:cNvSpPr/>
          <p:nvPr/>
        </p:nvSpPr>
        <p:spPr>
          <a:xfrm>
            <a:off x="5105520" y="16128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6972480" y="1297080"/>
            <a:ext cx="5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2413080" y="3429000"/>
            <a:ext cx="7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3505320" y="3429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3"/>
          <p:cNvSpPr/>
          <p:nvPr/>
        </p:nvSpPr>
        <p:spPr>
          <a:xfrm>
            <a:off x="990720" y="344340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Овал 9"/>
          <p:cNvSpPr/>
          <p:nvPr/>
        </p:nvSpPr>
        <p:spPr>
          <a:xfrm>
            <a:off x="1371600" y="4011480"/>
            <a:ext cx="7632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16"/>
          <p:cNvSpPr/>
          <p:nvPr/>
        </p:nvSpPr>
        <p:spPr>
          <a:xfrm>
            <a:off x="2514600" y="4071960"/>
            <a:ext cx="7632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20"/>
          <p:cNvSpPr/>
          <p:nvPr/>
        </p:nvSpPr>
        <p:spPr>
          <a:xfrm>
            <a:off x="3657600" y="4075200"/>
            <a:ext cx="7632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21"/>
          <p:cNvSpPr/>
          <p:nvPr/>
        </p:nvSpPr>
        <p:spPr>
          <a:xfrm>
            <a:off x="3048120" y="5000760"/>
            <a:ext cx="7596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22"/>
          <p:cNvSpPr/>
          <p:nvPr/>
        </p:nvSpPr>
        <p:spPr>
          <a:xfrm>
            <a:off x="2514600" y="5649840"/>
            <a:ext cx="7632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26"/>
          <p:cNvSpPr/>
          <p:nvPr/>
        </p:nvSpPr>
        <p:spPr>
          <a:xfrm>
            <a:off x="2590920" y="4243320"/>
            <a:ext cx="438120" cy="66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27"/>
          <p:cNvSpPr/>
          <p:nvPr/>
        </p:nvSpPr>
        <p:spPr>
          <a:xfrm flipH="1">
            <a:off x="3176640" y="4255920"/>
            <a:ext cx="480960" cy="66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31"/>
          <p:cNvSpPr/>
          <p:nvPr/>
        </p:nvSpPr>
        <p:spPr>
          <a:xfrm>
            <a:off x="1447920" y="4187880"/>
            <a:ext cx="985680" cy="133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35"/>
          <p:cNvSpPr/>
          <p:nvPr/>
        </p:nvSpPr>
        <p:spPr>
          <a:xfrm flipH="1">
            <a:off x="2624040" y="5156280"/>
            <a:ext cx="424080" cy="46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3"/>
          <p:cNvSpPr/>
          <p:nvPr/>
        </p:nvSpPr>
        <p:spPr>
          <a:xfrm flipH="1">
            <a:off x="2476440" y="470844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3"/>
          <p:cNvSpPr/>
          <p:nvPr/>
        </p:nvSpPr>
        <p:spPr>
          <a:xfrm>
            <a:off x="1943280" y="5419800"/>
            <a:ext cx="4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3"/>
          <p:cNvSpPr/>
          <p:nvPr/>
        </p:nvSpPr>
        <p:spPr>
          <a:xfrm>
            <a:off x="2971800" y="4386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3"/>
          <p:cNvSpPr/>
          <p:nvPr/>
        </p:nvSpPr>
        <p:spPr>
          <a:xfrm>
            <a:off x="2324160" y="5729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3"/>
          <p:cNvSpPr/>
          <p:nvPr/>
        </p:nvSpPr>
        <p:spPr>
          <a:xfrm>
            <a:off x="2362320" y="5133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3"/>
          <p:cNvSpPr/>
          <p:nvPr/>
        </p:nvSpPr>
        <p:spPr>
          <a:xfrm>
            <a:off x="5181480" y="4187880"/>
            <a:ext cx="3657600" cy="13129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) 40-5=35(стр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4"/>
          <p:cNvSpPr/>
          <p:nvPr/>
        </p:nvSpPr>
        <p:spPr>
          <a:xfrm>
            <a:off x="5181480" y="4854600"/>
            <a:ext cx="3657600" cy="19224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) 40+35=75(стр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898720" y="914400"/>
            <a:ext cx="3346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4419720" y="1195560"/>
            <a:ext cx="3657600" cy="8841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2"/>
          <p:cNvSpPr/>
          <p:nvPr/>
        </p:nvSpPr>
        <p:spPr>
          <a:xfrm>
            <a:off x="4724280" y="903240"/>
            <a:ext cx="6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6553080" y="890640"/>
            <a:ext cx="6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4724280" y="182880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6676920" y="18288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6" descr=""/>
          <p:cNvPicPr/>
          <p:nvPr/>
        </p:nvPicPr>
        <p:blipFill>
          <a:blip r:embed="rId3"/>
          <a:stretch/>
        </p:blipFill>
        <p:spPr>
          <a:xfrm>
            <a:off x="1219320" y="846000"/>
            <a:ext cx="1523880" cy="15066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1"/>
          <p:cNvSpPr/>
          <p:nvPr/>
        </p:nvSpPr>
        <p:spPr>
          <a:xfrm>
            <a:off x="1571760" y="234648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Ми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5837400" y="3400560"/>
            <a:ext cx="1679400" cy="2531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□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+□=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□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□=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5"/>
          <p:cNvSpPr/>
          <p:nvPr/>
        </p:nvSpPr>
        <p:spPr>
          <a:xfrm>
            <a:off x="914400" y="3429000"/>
            <a:ext cx="3657600" cy="13129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) 10+50=60(р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914400" y="4095720"/>
            <a:ext cx="3657600" cy="7034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) 60-8=52(р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rcRect l="0" t="0" r="29999" b="0"/>
          <a:stretch/>
        </p:blipFill>
        <p:spPr>
          <a:xfrm>
            <a:off x="2895480" y="1905120"/>
            <a:ext cx="3527640" cy="3124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343400" y="2514600"/>
            <a:ext cx="8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>
            <a:off x="3236400" y="3392640"/>
            <a:ext cx="287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>
            <a:off x="3094200" y="4113360"/>
            <a:ext cx="2017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 flipV="1">
            <a:off x="3397320" y="3230280"/>
            <a:ext cx="0" cy="336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extBox 12" descr=""/>
          <p:cNvPicPr/>
          <p:nvPr/>
        </p:nvPicPr>
        <p:blipFill>
          <a:blip r:embed="rId3"/>
          <a:stretch/>
        </p:blipFill>
        <p:spPr>
          <a:xfrm>
            <a:off x="2803680" y="450720"/>
            <a:ext cx="3298680" cy="1006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660840" y="3162240"/>
            <a:ext cx="8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3657600" y="3857760"/>
            <a:ext cx="8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4365720" y="3857760"/>
            <a:ext cx="8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4606920" y="3552840"/>
            <a:ext cx="4222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4352760" y="3129120"/>
            <a:ext cx="8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809880" y="2666880"/>
            <a:ext cx="4222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3581280" y="2438280"/>
            <a:ext cx="8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228600" y="722160"/>
            <a:ext cx="3657600" cy="884520"/>
          </a:xfrm>
          <a:prstGeom prst="rect">
            <a:avLst/>
          </a:prstGeom>
          <a:ln w="0">
            <a:noFill/>
          </a:ln>
        </p:spPr>
      </p:pic>
      <p:sp>
        <p:nvSpPr>
          <p:cNvPr id="352" name="TextBox 2"/>
          <p:cNvSpPr/>
          <p:nvPr/>
        </p:nvSpPr>
        <p:spPr>
          <a:xfrm>
            <a:off x="506520" y="380880"/>
            <a:ext cx="63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2548080" y="403200"/>
            <a:ext cx="63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457200" y="131436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"/>
          <p:cNvSpPr/>
          <p:nvPr/>
        </p:nvSpPr>
        <p:spPr>
          <a:xfrm>
            <a:off x="2486160" y="129528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3"/>
          <a:stretch/>
        </p:blipFill>
        <p:spPr>
          <a:xfrm>
            <a:off x="7329600" y="2425680"/>
            <a:ext cx="1346040" cy="1457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"/>
          <p:cNvPicPr/>
          <p:nvPr/>
        </p:nvPicPr>
        <p:blipFill>
          <a:blip r:embed="rId4"/>
          <a:stretch/>
        </p:blipFill>
        <p:spPr>
          <a:xfrm>
            <a:off x="5181480" y="826920"/>
            <a:ext cx="3276720" cy="675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10"/>
          <p:cNvSpPr/>
          <p:nvPr/>
        </p:nvSpPr>
        <p:spPr>
          <a:xfrm>
            <a:off x="7010280" y="378000"/>
            <a:ext cx="6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1"/>
          <p:cNvSpPr/>
          <p:nvPr/>
        </p:nvSpPr>
        <p:spPr>
          <a:xfrm>
            <a:off x="5486400" y="430200"/>
            <a:ext cx="6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2"/>
          <p:cNvSpPr/>
          <p:nvPr/>
        </p:nvSpPr>
        <p:spPr>
          <a:xfrm>
            <a:off x="6400800" y="131436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3"/>
          <p:cNvSpPr/>
          <p:nvPr/>
        </p:nvSpPr>
        <p:spPr>
          <a:xfrm>
            <a:off x="7945560" y="1314360"/>
            <a:ext cx="36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4"/>
          <p:cNvSpPr/>
          <p:nvPr/>
        </p:nvSpPr>
        <p:spPr>
          <a:xfrm>
            <a:off x="5791320" y="29494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1905120" y="295596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М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5"/>
          <a:stretch/>
        </p:blipFill>
        <p:spPr>
          <a:xfrm>
            <a:off x="228600" y="2425680"/>
            <a:ext cx="1509840" cy="110952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8"/>
          <p:cNvSpPr/>
          <p:nvPr/>
        </p:nvSpPr>
        <p:spPr>
          <a:xfrm>
            <a:off x="3805200" y="3222720"/>
            <a:ext cx="1681200" cy="2531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□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□=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□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+□=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9"/>
          <p:cNvSpPr/>
          <p:nvPr/>
        </p:nvSpPr>
        <p:spPr>
          <a:xfrm>
            <a:off x="5272200" y="4876920"/>
            <a:ext cx="3657600" cy="7034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) 50-8=42(р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0"/>
          <p:cNvSpPr/>
          <p:nvPr/>
        </p:nvSpPr>
        <p:spPr>
          <a:xfrm>
            <a:off x="5272200" y="5543640"/>
            <a:ext cx="3657600" cy="13129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) 10+42=52(р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1"/>
          <p:cNvSpPr/>
          <p:nvPr/>
        </p:nvSpPr>
        <p:spPr>
          <a:xfrm>
            <a:off x="299880" y="4876920"/>
            <a:ext cx="3657600" cy="7034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) 10-8=2(р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2"/>
          <p:cNvSpPr/>
          <p:nvPr/>
        </p:nvSpPr>
        <p:spPr>
          <a:xfrm>
            <a:off x="299880" y="5543640"/>
            <a:ext cx="3657600" cy="7034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) 2+50=52(р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1"/>
          <p:cNvSpPr/>
          <p:nvPr/>
        </p:nvSpPr>
        <p:spPr>
          <a:xfrm>
            <a:off x="304920" y="264960"/>
            <a:ext cx="8534160" cy="9471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и порядок выполнения действий в выражениях  и найди их 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2">
            <a:lum contrast="18000"/>
          </a:blip>
          <a:srcRect l="7839" t="25724" r="60585" b="38839"/>
          <a:stretch/>
        </p:blipFill>
        <p:spPr>
          <a:xfrm>
            <a:off x="1969920" y="1905120"/>
            <a:ext cx="1274760" cy="1774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3">
            <a:lum contrast="18000"/>
          </a:blip>
          <a:srcRect l="62377" t="5697" r="6749" b="52561"/>
          <a:stretch/>
        </p:blipFill>
        <p:spPr>
          <a:xfrm>
            <a:off x="4041720" y="1600200"/>
            <a:ext cx="1060560" cy="1781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4">
            <a:lum contrast="18000"/>
          </a:blip>
          <a:srcRect l="50010" t="53169" r="21211" b="0"/>
          <a:stretch/>
        </p:blipFill>
        <p:spPr>
          <a:xfrm>
            <a:off x="5697360" y="1219320"/>
            <a:ext cx="989280" cy="1998720"/>
          </a:xfrm>
          <a:prstGeom prst="rect">
            <a:avLst/>
          </a:prstGeom>
          <a:ln w="0">
            <a:noFill/>
          </a:ln>
        </p:spPr>
      </p:pic>
      <p:sp>
        <p:nvSpPr>
          <p:cNvPr id="374" name="TextBox 3"/>
          <p:cNvSpPr/>
          <p:nvPr/>
        </p:nvSpPr>
        <p:spPr>
          <a:xfrm>
            <a:off x="4371840" y="38401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3"/>
          <p:cNvSpPr/>
          <p:nvPr/>
        </p:nvSpPr>
        <p:spPr>
          <a:xfrm>
            <a:off x="3429000" y="38401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5167440" y="4132440"/>
            <a:ext cx="128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2670120" y="408456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35-(7+8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1"/>
          <p:cNvSpPr/>
          <p:nvPr/>
        </p:nvSpPr>
        <p:spPr>
          <a:xfrm>
            <a:off x="304920" y="264960"/>
            <a:ext cx="8534160" cy="9471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и порядок выполнения действий в выражениях  и найди их 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2">
            <a:lum contrast="18000"/>
          </a:blip>
          <a:srcRect l="7839" t="25724" r="60585" b="38839"/>
          <a:stretch/>
        </p:blipFill>
        <p:spPr>
          <a:xfrm>
            <a:off x="1969920" y="1905120"/>
            <a:ext cx="1274760" cy="17748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>
            <a:lum contrast="18000"/>
          </a:blip>
          <a:srcRect l="62377" t="5697" r="6749" b="52561"/>
          <a:stretch/>
        </p:blipFill>
        <p:spPr>
          <a:xfrm>
            <a:off x="4041720" y="1600200"/>
            <a:ext cx="1060560" cy="1781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4">
            <a:lum contrast="18000"/>
          </a:blip>
          <a:srcRect l="50010" t="53169" r="21211" b="0"/>
          <a:stretch/>
        </p:blipFill>
        <p:spPr>
          <a:xfrm>
            <a:off x="5697360" y="1219320"/>
            <a:ext cx="989280" cy="1998720"/>
          </a:xfrm>
          <a:prstGeom prst="rect">
            <a:avLst/>
          </a:prstGeom>
          <a:ln w="0">
            <a:noFill/>
          </a:ln>
        </p:spPr>
      </p:pic>
      <p:sp>
        <p:nvSpPr>
          <p:cNvPr id="382" name="TextBox 3"/>
          <p:cNvSpPr/>
          <p:nvPr/>
        </p:nvSpPr>
        <p:spPr>
          <a:xfrm>
            <a:off x="3429000" y="381960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3"/>
          <p:cNvSpPr/>
          <p:nvPr/>
        </p:nvSpPr>
        <p:spPr>
          <a:xfrm>
            <a:off x="4371840" y="38401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5010120" y="4132440"/>
            <a:ext cx="128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=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2670120" y="408456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84-40-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2"/>
          <a:srcRect l="18149" t="0" r="0" b="0"/>
          <a:stretch/>
        </p:blipFill>
        <p:spPr>
          <a:xfrm>
            <a:off x="228600" y="3505320"/>
            <a:ext cx="5334120" cy="3124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3"/>
          <a:srcRect l="40365" t="0" r="0" b="0"/>
          <a:stretch/>
        </p:blipFill>
        <p:spPr>
          <a:xfrm>
            <a:off x="5105520" y="350532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2286000" y="228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лгорит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533520" y="76212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уравнение по действ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ери неизвест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4"/>
          <a:srcRect l="18149" t="0" r="0" b="0"/>
          <a:stretch/>
        </p:blipFill>
        <p:spPr>
          <a:xfrm>
            <a:off x="228600" y="2743200"/>
            <a:ext cx="5334120" cy="3124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5"/>
          <a:srcRect l="40365" t="0" r="0" b="0"/>
          <a:stretch/>
        </p:blipFill>
        <p:spPr>
          <a:xfrm>
            <a:off x="5105520" y="274320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9"/>
          <p:cNvSpPr/>
          <p:nvPr/>
        </p:nvSpPr>
        <p:spPr>
          <a:xfrm>
            <a:off x="2514600" y="388620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2060"/>
                </a:solidFill>
                <a:latin typeface="Monotype Corsiva"/>
              </a:rPr>
              <a:t>х</a:t>
            </a:r>
            <a:r>
              <a:rPr b="0" lang="ru-RU" sz="8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7200" spc="-1" strike="noStrike">
                <a:solidFill>
                  <a:srgbClr val="002060"/>
                </a:solidFill>
                <a:latin typeface="Monotype Corsiva"/>
              </a:rPr>
              <a:t>=</a:t>
            </a:r>
            <a:r>
              <a:rPr b="0" lang="ru-RU" sz="8000" spc="-1" strike="noStrike">
                <a:solidFill>
                  <a:srgbClr val="002060"/>
                </a:solidFill>
                <a:latin typeface="Monotype Corsiva"/>
              </a:rPr>
              <a:t> 1 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0"/>
          <p:cNvSpPr/>
          <p:nvPr/>
        </p:nvSpPr>
        <p:spPr>
          <a:xfrm>
            <a:off x="2476440" y="25146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2060"/>
                </a:solidFill>
                <a:latin typeface="Monotype Corsiva"/>
              </a:rPr>
              <a:t>x </a:t>
            </a:r>
            <a:r>
              <a:rPr b="0" i="1" lang="ru-RU" sz="8000" spc="-1" strike="noStrike">
                <a:solidFill>
                  <a:srgbClr val="002060"/>
                </a:solidFill>
                <a:latin typeface="Monotype Corsiva"/>
              </a:rPr>
              <a:t> -  9</a:t>
            </a:r>
            <a:r>
              <a:rPr b="0" i="1" lang="en-US" sz="8000" spc="-1" strike="noStrike">
                <a:solidFill>
                  <a:srgbClr val="002060"/>
                </a:solidFill>
                <a:latin typeface="Monotype Corsiva"/>
              </a:rPr>
              <a:t>= </a:t>
            </a:r>
            <a:r>
              <a:rPr b="0" i="1" lang="ru-RU" sz="8000" spc="-1" strike="noStrike">
                <a:solidFill>
                  <a:srgbClr val="002060"/>
                </a:solidFill>
                <a:latin typeface="Monotype Corsiva"/>
              </a:rPr>
              <a:t> 4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2516040" y="53532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8000" spc="-1" strike="noStrike">
                <a:solidFill>
                  <a:srgbClr val="002060"/>
                </a:solidFill>
                <a:latin typeface="Monotype Corsiva"/>
              </a:rPr>
              <a:t>1 3 -  9</a:t>
            </a:r>
            <a:r>
              <a:rPr b="0" i="1" lang="en-US" sz="8000" spc="-1" strike="noStrike">
                <a:solidFill>
                  <a:srgbClr val="002060"/>
                </a:solidFill>
                <a:latin typeface="Monotype Corsiva"/>
              </a:rPr>
              <a:t>= </a:t>
            </a:r>
            <a:r>
              <a:rPr b="0" i="1" lang="ru-RU" sz="8000" spc="-1" strike="noStrike">
                <a:solidFill>
                  <a:srgbClr val="002060"/>
                </a:solidFill>
                <a:latin typeface="Monotype Corsiva"/>
              </a:rPr>
              <a:t>4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2"/>
          <a:srcRect l="0" t="0" r="29999" b="0"/>
          <a:stretch/>
        </p:blipFill>
        <p:spPr>
          <a:xfrm>
            <a:off x="2925720" y="1949400"/>
            <a:ext cx="3527640" cy="3124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4352760" y="2438280"/>
            <a:ext cx="8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 flipH="1">
            <a:off x="3236400" y="3392640"/>
            <a:ext cx="287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 flipH="1">
            <a:off x="3094200" y="4113360"/>
            <a:ext cx="2017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TextBox 12" descr=""/>
          <p:cNvPicPr/>
          <p:nvPr/>
        </p:nvPicPr>
        <p:blipFill>
          <a:blip r:embed="rId3"/>
          <a:stretch/>
        </p:blipFill>
        <p:spPr>
          <a:xfrm>
            <a:off x="2962440" y="225360"/>
            <a:ext cx="3298680" cy="1006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3660840" y="3162240"/>
            <a:ext cx="8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3657600" y="3857760"/>
            <a:ext cx="8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365720" y="3857760"/>
            <a:ext cx="8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343400" y="3171960"/>
            <a:ext cx="8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3681360" y="2438280"/>
            <a:ext cx="8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Monotype Corsiva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363760" y="2079720"/>
            <a:ext cx="4608720" cy="919080"/>
          </a:xfrm>
          <a:prstGeom prst="rect">
            <a:avLst/>
          </a:prstGeom>
          <a:solidFill>
            <a:srgbClr val="ecd9c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67d5ccd4720c"/>
          <p:cNvPicPr/>
          <p:nvPr/>
        </p:nvPicPr>
        <p:blipFill>
          <a:blip r:embed="rId2"/>
          <a:stretch/>
        </p:blipFill>
        <p:spPr>
          <a:xfrm>
            <a:off x="0" y="5913360"/>
            <a:ext cx="2305080" cy="8114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4"/>
          <p:cNvSpPr/>
          <p:nvPr/>
        </p:nvSpPr>
        <p:spPr>
          <a:xfrm>
            <a:off x="1884240" y="890640"/>
            <a:ext cx="5856480" cy="118908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olna13"/>
          <p:cNvPicPr/>
          <p:nvPr/>
        </p:nvPicPr>
        <p:blipFill>
          <a:blip r:embed="rId4"/>
          <a:stretch/>
        </p:blipFill>
        <p:spPr>
          <a:xfrm>
            <a:off x="0" y="609480"/>
            <a:ext cx="2266920" cy="1160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облака 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010200" y="609480"/>
            <a:ext cx="3133800" cy="9781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2363760" y="2997360"/>
            <a:ext cx="4608720" cy="3860640"/>
          </a:xfrm>
          <a:prstGeom prst="rect">
            <a:avLst/>
          </a:prstGeom>
          <a:solidFill>
            <a:srgbClr val="ecd9c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4667400" y="2079720"/>
            <a:ext cx="0" cy="4778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2363760" y="4941720"/>
            <a:ext cx="46087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2363760" y="3970440"/>
            <a:ext cx="46087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2363760" y="5913360"/>
            <a:ext cx="46087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2"/>
          <p:cNvSpPr txBox="1"/>
          <p:nvPr/>
        </p:nvSpPr>
        <p:spPr>
          <a:xfrm>
            <a:off x="4189320" y="1108080"/>
            <a:ext cx="134316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82c00"/>
                </a:solidFill>
                <a:latin typeface="Impact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82c00"/>
              </a:solidFill>
              <a:latin typeface="Impact"/>
              <a:ea typeface="Impact"/>
            </a:endParaRPr>
          </a:p>
        </p:txBody>
      </p:sp>
      <p:sp>
        <p:nvSpPr>
          <p:cNvPr id="86" name="WordArt 13"/>
          <p:cNvSpPr txBox="1"/>
          <p:nvPr/>
        </p:nvSpPr>
        <p:spPr>
          <a:xfrm>
            <a:off x="5435640" y="5103720"/>
            <a:ext cx="5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87" name="WordArt 14"/>
          <p:cNvSpPr txBox="1"/>
          <p:nvPr/>
        </p:nvSpPr>
        <p:spPr>
          <a:xfrm>
            <a:off x="3132000" y="3159000"/>
            <a:ext cx="57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5245200" y="4132440"/>
            <a:ext cx="57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89" name="WordArt 16"/>
          <p:cNvSpPr txBox="1"/>
          <p:nvPr/>
        </p:nvSpPr>
        <p:spPr>
          <a:xfrm>
            <a:off x="5435640" y="2187720"/>
            <a:ext cx="5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90" name="WordArt 17"/>
          <p:cNvSpPr txBox="1"/>
          <p:nvPr/>
        </p:nvSpPr>
        <p:spPr>
          <a:xfrm>
            <a:off x="5435640" y="6021360"/>
            <a:ext cx="576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91" name="WordArt 18"/>
          <p:cNvSpPr txBox="1"/>
          <p:nvPr/>
        </p:nvSpPr>
        <p:spPr>
          <a:xfrm>
            <a:off x="3132000" y="5103720"/>
            <a:ext cx="5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92" name="WordArt 19"/>
          <p:cNvSpPr txBox="1"/>
          <p:nvPr/>
        </p:nvSpPr>
        <p:spPr>
          <a:xfrm>
            <a:off x="3035160" y="4132440"/>
            <a:ext cx="5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93" name="WordArt 20"/>
          <p:cNvSpPr txBox="1"/>
          <p:nvPr/>
        </p:nvSpPr>
        <p:spPr>
          <a:xfrm>
            <a:off x="3132000" y="6021360"/>
            <a:ext cx="576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844720" y="4076640"/>
            <a:ext cx="1055880" cy="755640"/>
          </a:xfrm>
          <a:prstGeom prst="rect">
            <a:avLst/>
          </a:prstGeom>
          <a:solidFill>
            <a:srgbClr val="ecd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5148360" y="5049720"/>
            <a:ext cx="1055520" cy="755640"/>
          </a:xfrm>
          <a:prstGeom prst="rect">
            <a:avLst/>
          </a:prstGeom>
          <a:solidFill>
            <a:srgbClr val="ecd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5148360" y="5967360"/>
            <a:ext cx="1055520" cy="755640"/>
          </a:xfrm>
          <a:prstGeom prst="rect">
            <a:avLst/>
          </a:prstGeom>
          <a:solidFill>
            <a:srgbClr val="ecd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4" descr="jajtsa56"/>
          <p:cNvPicPr/>
          <p:nvPr/>
        </p:nvPicPr>
        <p:blipFill>
          <a:blip r:embed="rId7"/>
          <a:stretch/>
        </p:blipFill>
        <p:spPr>
          <a:xfrm>
            <a:off x="1884240" y="1214280"/>
            <a:ext cx="2305080" cy="1028880"/>
          </a:xfrm>
          <a:prstGeom prst="rect">
            <a:avLst/>
          </a:prstGeom>
          <a:ln w="0">
            <a:noFill/>
          </a:ln>
        </p:spPr>
      </p:pic>
      <p:sp>
        <p:nvSpPr>
          <p:cNvPr id="98" name="WordArt 25"/>
          <p:cNvSpPr txBox="1"/>
          <p:nvPr/>
        </p:nvSpPr>
        <p:spPr>
          <a:xfrm>
            <a:off x="5435640" y="3159000"/>
            <a:ext cx="57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99" name="WordArt 26"/>
          <p:cNvSpPr txBox="1"/>
          <p:nvPr/>
        </p:nvSpPr>
        <p:spPr>
          <a:xfrm>
            <a:off x="3132000" y="2187720"/>
            <a:ext cx="5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148360" y="3105000"/>
            <a:ext cx="1055520" cy="755640"/>
          </a:xfrm>
          <a:prstGeom prst="rect">
            <a:avLst/>
          </a:prstGeom>
          <a:solidFill>
            <a:srgbClr val="ecd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5148360" y="2187720"/>
            <a:ext cx="1055520" cy="755640"/>
          </a:xfrm>
          <a:prstGeom prst="rect">
            <a:avLst/>
          </a:prstGeom>
          <a:solidFill>
            <a:srgbClr val="ecd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9" descr="b30cc5aab4542be966bd687e91b33a82"/>
          <p:cNvPicPr/>
          <p:nvPr/>
        </p:nvPicPr>
        <p:blipFill>
          <a:blip r:embed="rId8"/>
          <a:stretch/>
        </p:blipFill>
        <p:spPr>
          <a:xfrm>
            <a:off x="7067520" y="5823000"/>
            <a:ext cx="2303640" cy="103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lagush09"/>
          <p:cNvPicPr/>
          <p:nvPr/>
        </p:nvPicPr>
        <p:blipFill>
          <a:blip r:embed="rId9"/>
          <a:stretch/>
        </p:blipFill>
        <p:spPr>
          <a:xfrm>
            <a:off x="0" y="5938920"/>
            <a:ext cx="1690560" cy="919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lagush09"/>
          <p:cNvPicPr/>
          <p:nvPr/>
        </p:nvPicPr>
        <p:blipFill>
          <a:blip r:embed="rId10"/>
          <a:stretch/>
        </p:blipFill>
        <p:spPr>
          <a:xfrm>
            <a:off x="826920" y="5938920"/>
            <a:ext cx="1573560" cy="91908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31" descr=""/>
          <p:cNvPicPr/>
          <p:nvPr/>
        </p:nvPicPr>
        <p:blipFill>
          <a:blip r:embed="rId11"/>
          <a:stretch/>
        </p:blipFill>
        <p:spPr>
          <a:xfrm>
            <a:off x="1682640" y="-171360"/>
            <a:ext cx="5851800" cy="102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9259E-006 8.33333E-007 L -0.25185 0.00069 E">
                                      <p:cBhvr>
                                        <p:cTn id="3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85 0.00069 L -0.25185 -0.12517 E">
                                      <p:cBhvr>
                                        <p:cTn id="3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85 -0.12517 L -0.50393 -0.26701 E">
                                      <p:cBhvr>
                                        <p:cTn id="4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393 -0.26701 L -0.25185 -0.40868 E">
                                      <p:cBhvr>
                                        <p:cTn id="5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85 -0.40868 L -0.25185 -0.54254 E">
                                      <p:cBhvr>
                                        <p:cTn id="5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85 -0.54254 L -0.48287 -0.66076 E">
                                      <p:cBhvr>
                                        <p:cTn id="6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762120" y="137160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4 + 6        80-5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0-6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7 + 3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2 - лис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- зайчик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 - мишка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4 - машинк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- мя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Лиса.jpeg"/>
          <p:cNvPicPr/>
          <p:nvPr/>
        </p:nvPicPr>
        <p:blipFill>
          <a:blip r:embed="rId2"/>
          <a:stretch/>
        </p:blipFill>
        <p:spPr>
          <a:xfrm>
            <a:off x="609480" y="2514600"/>
            <a:ext cx="2941920" cy="367668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4" descr=""/>
          <p:cNvPicPr/>
          <p:nvPr/>
        </p:nvPicPr>
        <p:blipFill>
          <a:blip r:embed="rId3"/>
          <a:stretch/>
        </p:blipFill>
        <p:spPr>
          <a:xfrm>
            <a:off x="1609560" y="-171360"/>
            <a:ext cx="551052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3200400" y="3124080"/>
            <a:ext cx="52578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0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10 единиц и 3 деся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066680" y="3048120"/>
            <a:ext cx="148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304920" y="1447920"/>
            <a:ext cx="8839080" cy="9471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ьте число по образцу, в виде 10  единиц и оставшихся деся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917800" y="4038480"/>
            <a:ext cx="3014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30, 90, 70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066680" y="2666880"/>
            <a:ext cx="14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3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6" descr=""/>
          <p:cNvPicPr/>
          <p:nvPr/>
        </p:nvPicPr>
        <p:blipFill>
          <a:blip r:embed="rId2"/>
          <a:stretch/>
        </p:blipFill>
        <p:spPr>
          <a:xfrm>
            <a:off x="1378080" y="133200"/>
            <a:ext cx="642456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876240" y="2133720"/>
            <a:ext cx="826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3+7=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0</a:t>
            </a: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(□+□)=□+□=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457200" y="990720"/>
            <a:ext cx="8686800" cy="9471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те значения выражений по предложенной программе дейст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2982960" y="3962520"/>
            <a:ext cx="185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5+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9+1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838080" y="3149640"/>
            <a:ext cx="14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70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9"/>
          <p:cNvCxnSpPr/>
          <p:nvPr/>
        </p:nvCxnSpPr>
        <p:spPr>
          <a:xfrm flipH="1">
            <a:off x="1142280" y="2971800"/>
            <a:ext cx="153000" cy="178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" name="Прямая со стрелкой 12"/>
          <p:cNvCxnSpPr>
            <a:endCxn id="118" idx="0"/>
          </p:cNvCxnSpPr>
          <p:nvPr/>
        </p:nvCxnSpPr>
        <p:spPr>
          <a:xfrm>
            <a:off x="1425240" y="2971800"/>
            <a:ext cx="153000" cy="178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Прямоугольник 9" descr=""/>
          <p:cNvPicPr/>
          <p:nvPr/>
        </p:nvPicPr>
        <p:blipFill>
          <a:blip r:embed="rId2"/>
          <a:stretch/>
        </p:blipFill>
        <p:spPr>
          <a:xfrm>
            <a:off x="1773360" y="73080"/>
            <a:ext cx="4889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762120" y="266688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0-6=</a:t>
            </a:r>
            <a:r>
              <a:rPr b="0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</a:t>
            </a: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(□-□)=□+□=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228600" y="1295280"/>
            <a:ext cx="8686800" cy="9471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те значения выражений по предложенной программе дейст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982960" y="3962520"/>
            <a:ext cx="185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0-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-2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762120" y="3581280"/>
            <a:ext cx="14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50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Прямая со стрелкой 9"/>
          <p:cNvCxnSpPr/>
          <p:nvPr/>
        </p:nvCxnSpPr>
        <p:spPr>
          <a:xfrm flipH="1">
            <a:off x="990000" y="3429000"/>
            <a:ext cx="153000" cy="178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" name="Прямая со стрелкой 12"/>
          <p:cNvCxnSpPr>
            <a:endCxn id="127" idx="0"/>
          </p:cNvCxnSpPr>
          <p:nvPr/>
        </p:nvCxnSpPr>
        <p:spPr>
          <a:xfrm>
            <a:off x="1349280" y="3403440"/>
            <a:ext cx="153360" cy="178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9" descr=""/>
          <p:cNvPicPr/>
          <p:nvPr/>
        </p:nvPicPr>
        <p:blipFill>
          <a:blip r:embed="rId2"/>
          <a:stretch/>
        </p:blipFill>
        <p:spPr>
          <a:xfrm>
            <a:off x="1841400" y="285840"/>
            <a:ext cx="490716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52280" y="1295280"/>
          <a:ext cx="8839440" cy="449604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449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Box 2"/>
          <p:cNvSpPr/>
          <p:nvPr/>
        </p:nvSpPr>
        <p:spPr>
          <a:xfrm>
            <a:off x="2666880" y="304920"/>
            <a:ext cx="3353040" cy="7034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вн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237960" y="203976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2+8=30+(2+8)=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2743200" y="1701720"/>
            <a:ext cx="6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8"/>
          <p:cNvSpPr/>
          <p:nvPr/>
        </p:nvSpPr>
        <p:spPr>
          <a:xfrm>
            <a:off x="4572000" y="20350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0-8=30+(10-8)=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9"/>
          <p:cNvSpPr/>
          <p:nvPr/>
        </p:nvSpPr>
        <p:spPr>
          <a:xfrm>
            <a:off x="7210440" y="170172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rcRect l="0" t="0" r="29999" b="0"/>
          <a:stretch/>
        </p:blipFill>
        <p:spPr>
          <a:xfrm>
            <a:off x="1019160" y="3276720"/>
            <a:ext cx="2362320" cy="20923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2"/>
          <p:cNvSpPr/>
          <p:nvPr/>
        </p:nvSpPr>
        <p:spPr>
          <a:xfrm>
            <a:off x="1539720" y="3581280"/>
            <a:ext cx="120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Monotype Corsiva"/>
              </a:rPr>
              <a:t>3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3"/>
          <p:cNvSpPr/>
          <p:nvPr/>
        </p:nvSpPr>
        <p:spPr>
          <a:xfrm>
            <a:off x="1913040" y="4054320"/>
            <a:ext cx="60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Monotype Corsiva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4"/>
          <p:cNvSpPr/>
          <p:nvPr/>
        </p:nvSpPr>
        <p:spPr>
          <a:xfrm>
            <a:off x="1539720" y="4519440"/>
            <a:ext cx="97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Monotype Corsiva"/>
              </a:rPr>
              <a:t>4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3"/>
          <a:srcRect l="0" t="0" r="29999" b="0"/>
          <a:stretch/>
        </p:blipFill>
        <p:spPr>
          <a:xfrm>
            <a:off x="5167440" y="3124080"/>
            <a:ext cx="2361960" cy="20923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7"/>
          <p:cNvSpPr/>
          <p:nvPr/>
        </p:nvSpPr>
        <p:spPr>
          <a:xfrm>
            <a:off x="5689440" y="3429000"/>
            <a:ext cx="12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Monotype Corsiva"/>
              </a:rPr>
              <a:t>4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8"/>
          <p:cNvSpPr/>
          <p:nvPr/>
        </p:nvSpPr>
        <p:spPr>
          <a:xfrm>
            <a:off x="6062760" y="3902040"/>
            <a:ext cx="6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Monotype Corsiva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9"/>
          <p:cNvSpPr/>
          <p:nvPr/>
        </p:nvSpPr>
        <p:spPr>
          <a:xfrm>
            <a:off x="5689440" y="4367160"/>
            <a:ext cx="97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Monotype Corsiva"/>
              </a:rPr>
              <a:t>3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51"/>
          <p:cNvSpPr/>
          <p:nvPr/>
        </p:nvSpPr>
        <p:spPr>
          <a:xfrm>
            <a:off x="5248440" y="4572000"/>
            <a:ext cx="14572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53"/>
          <p:cNvSpPr/>
          <p:nvPr/>
        </p:nvSpPr>
        <p:spPr>
          <a:xfrm>
            <a:off x="1057320" y="4724280"/>
            <a:ext cx="14572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Группа 59"/>
          <p:cNvGrpSpPr/>
          <p:nvPr/>
        </p:nvGrpSpPr>
        <p:grpSpPr>
          <a:xfrm>
            <a:off x="1252440" y="4159080"/>
            <a:ext cx="241560" cy="247680"/>
            <a:chOff x="1252440" y="4159080"/>
            <a:chExt cx="241560" cy="247680"/>
          </a:xfrm>
        </p:grpSpPr>
        <p:sp>
          <p:nvSpPr>
            <p:cNvPr id="150" name="Прямая соединительная линия 54"/>
            <p:cNvSpPr/>
            <p:nvPr/>
          </p:nvSpPr>
          <p:spPr>
            <a:xfrm>
              <a:off x="1252440" y="4282920"/>
              <a:ext cx="24156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Прямая соединительная линия 56"/>
            <p:cNvSpPr/>
            <p:nvPr/>
          </p:nvSpPr>
          <p:spPr>
            <a:xfrm>
              <a:off x="1364400" y="4159080"/>
              <a:ext cx="0" cy="2476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Прямая соединительная линия 61"/>
          <p:cNvSpPr/>
          <p:nvPr/>
        </p:nvSpPr>
        <p:spPr>
          <a:xfrm>
            <a:off x="5334120" y="4114800"/>
            <a:ext cx="2412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4:24:14Z</dcterms:created>
  <dc:creator>Т</dc:creator>
  <dc:description/>
  <dc:language>en-US</dc:language>
  <cp:lastModifiedBy>Adel</cp:lastModifiedBy>
  <dcterms:modified xsi:type="dcterms:W3CDTF">2013-01-07T19:14:42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